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478-669C-49E8-9453-0CB5A740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ECA-0CFA-4D9F-9868-852AC32A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6DB-B366-484C-929D-DD631786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DF25-7210-4FD5-9FFA-D0C0ACF1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068A-D0CC-4361-B0EB-4F5C8747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9C66-57E9-4F14-9526-9BC1C458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19DB-5F85-40A1-A2EF-F3510C5D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7CDE-7C61-4E64-9E7B-6279F895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C7F6-8C6F-49E8-B980-9737DCA3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591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50A7-37E1-4A0F-AC89-CC8E824B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9E9B-0338-487D-92B3-BD0BBD19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234-950A-4B40-90F0-293874C2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E5EB-7D31-45EA-A684-7314FA73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A68D-BD79-4AE4-B213-06CFF81D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2FF8-DA64-4ABA-B4A5-430239A3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66A4-7BBC-4AEE-A082-3988907A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844D-4892-4E3D-9A7E-A1D5CFF6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A63-6B65-4AC1-9BFE-78319A5E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411-F4B6-4DBE-9D4C-D6C11AE7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9C6-C1B3-46EF-A4E9-DB189FDC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591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121-A7DE-41B3-A840-AFE8B9EB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E0F8-8C50-4262-9311-A1033EBA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502-3C2B-40AC-BDAA-081E2C7B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741-2A28-4671-9272-A0B9E8B5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6E13-6CFD-47A2-8CDA-2D4D065BF8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6477120" y="457200"/>
          <a:ext cx="237168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457200"/>
                    <a:ext cx="2371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B643-1977-4FBF-99CA-6AB46D2A0D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2209680" y="2362320"/>
          <a:ext cx="4496040" cy="12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362320"/>
                    <a:ext cx="4496040" cy="12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Brasil Rumo à Rede Gig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f. José Augusto Suruag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niversidade Salvador e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-Vice-Diretor do CTC do LAR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jeto Rede GIGALARC (24/5/9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ivos específicos do proje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udo das tendências, viabilidade,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álise do Cenário Nacional e Internacional - alternativas de utilização e de cooperaçã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cação dos problemas pend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ostas de soluções de problemas desde a Camada física até a Camada de Aplicaçã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tos de Serviç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ção de recursos huma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tividades do GT de P&amp;D da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rticulação de Projetos submetidos ao ProTeM (Workshop GIGALAR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posta de projetos piloto com redes de alta velocidade (AT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rconexão de redes experiment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senvolvimento e utilização de aplicações que demandem larga faixa de passagem e com restrições de t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jeto IREXAVA (GT P&amp;D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to de Integração de Redes  Experimentais de Al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locidade e Aplicações (IREXAV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osta do Grupo de Trabalho em Pesquisa  e Desenvolviment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esentada ao Comitê Gestor da Internet/BR em Janeiro de 199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tivos do IREXAVA (GTP&amp;D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oio à implantação de redes metropolitanas experimentais de alta velocidad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abilização da implementação de uma rede de alta velocidade de âmbito nacional; 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envolvimento e utilização de aplicações que demandem larga faixa de passagem e com restrições de temp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bjetivos do Edital ProTeM/RN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tubro de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mover a implantação de novas tecnologia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pacitar pessoal técnico de universidades e centros de pesquis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ver universidades, centros de pesquisa e empresas com a infra-estrutura necessári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tabelecer as condições necessárias para administrar e operar um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backbon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nacional de alta velocida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353360" y="6153120"/>
            <a:ext cx="1523880" cy="552600"/>
            <a:chOff x="7353360" y="6153120"/>
            <a:chExt cx="1523880" cy="552600"/>
          </a:xfrm>
        </p:grpSpPr>
        <p:pic>
          <p:nvPicPr>
            <p:cNvPr id="117" name="protem" descr=""/>
            <p:cNvPicPr/>
            <p:nvPr/>
          </p:nvPicPr>
          <p:blipFill>
            <a:blip r:embed="rId1"/>
            <a:stretch/>
          </p:blipFill>
          <p:spPr>
            <a:xfrm>
              <a:off x="7353360" y="6153120"/>
              <a:ext cx="77148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rnp" descr=""/>
            <p:cNvPicPr/>
            <p:nvPr/>
          </p:nvPicPr>
          <p:blipFill>
            <a:blip r:embed="rId2"/>
            <a:stretch/>
          </p:blipFill>
          <p:spPr>
            <a:xfrm>
              <a:off x="8305920" y="6153120"/>
              <a:ext cx="571320" cy="55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880" y="1776240"/>
            <a:ext cx="5029200" cy="4624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MAV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800" y="1885680"/>
            <a:ext cx="3378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des Metropolita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cnologia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ipicamente a 155 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ício 1998 (1a. fase) e 1999 (2a. fa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volu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mpliação a nível metropolit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umento no número de regiões metropolitanas/estadu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ticipação de um número maior de instituiçõ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rligação em alta velocidade das “ilhas” REMAV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afios das Redes Acadêmic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ar e manter uma rede de pon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ionar os esforços de desenvolvimento para explorar o potencial das redes de alta veloc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r o trabalho da Internet2 com o melhoramento dos serviços Internet para todos os membros da comunidade acadêm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rta de Florianópol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união do CTC do LARC em 16 e 17/10/98, em Florianópol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álise do cenário da Internet/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ocupaçõ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amento da RN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ilidade de atender adequadamente novos serviço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ta de perspectivas de evolução agravada pela possibilidade de cor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lta de articulação das IES (10/1998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s redes estaduais e a RNP foram em grande parte formadas e organizadas como esforços governamentais sem o envolvimento direto (compromisso institucional) das entidad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itas sediam os POPs, mas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sem uma identificação direta com os seus rumo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ultado: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quem está cobrando ao governo de que as taxas sejam ampliadas, etc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R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boratório Nacional de Redes de Computa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ituído em 1979, reúne universidades e centros de pesquisa que desenvolvem pesquisa na área de Redes e Sistemas Distribuí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 dos objetivos iniciais era criar uma rede acadêmica e desenvolver projetos coopera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gestões (10/1998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as Universida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o CNP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a RN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o Comitê Ges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as SC&amp;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as novas operad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a ANAT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a ABC e Sociedades Científ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nascimento da RN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stitucionalização da Associação RNP (10/99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ceria MEC/MCT (10/99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ckbone RNP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nsformação em Organização 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Backbone da RNP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bkb_rnp2_20021004" descr="Backbone RNP2"/>
          <p:cNvPicPr/>
          <p:nvPr/>
        </p:nvPicPr>
        <p:blipFill>
          <a:blip r:embed="rId1"/>
          <a:stretch/>
        </p:blipFill>
        <p:spPr>
          <a:xfrm>
            <a:off x="1447920" y="1135080"/>
            <a:ext cx="6324480" cy="557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jeto Giga: Rede Experiment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14400" y="1752480"/>
          <a:ext cx="601992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60199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jeto GIG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atisfaz o nosso sonho do Projeto GIGALARC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o estender para a Iniciativa Óptica Naciona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cerias para a utilização ao menos de alguns lamb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novação tecnológica das redes metropolitanas e institucionais (Gb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ticulação para o Projeto GIG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rticulação entre os diversos grup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finição sobre os temas, tecnologias, etc. para os editais do proje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ormação de GTs para discussão e de acompanhamento dos proje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ticipação de grupos fora do eixo Rio-São Paul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ticulação para o Projeto GIG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ussão de t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mentar a colaboração entre os grup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nião nesta quinta-feira, das 8:30 às 10 horas na sala Ponta Neg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jeto TERALARC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mos que ir pensando na versão de mais alta velocidade para avançar o nosso conhecimento em redes de alta velocida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des Fotônica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mbros do LAR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ão membros fundadores do LARC: a SESU/MEC, INPE/MCT, UFRGS, UFMG, UFPE, UFPB, UFRJ, USP, PUC-Rio e UNICAMP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eriormente passaram a integrar o LARC também as seguintes instituições: LNCC, IME, UFSC, CEFET/PR, UFC, UFF, UFSCar, CEFET-CE, UFES, UFBA, UNIFACS e UEC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ções do LAR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ção do Simpósio Brasileiro de Redes de Computadores (SBRC) em conjunto com a SBC desde 198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envolveu ativamente, durante todos esses anos, nas principais discussões, debates, iniciativas, projetos e tomadas de decisão na área de redes de computadores no Brasi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ções do LAR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particular, teve papel de destaq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 projeto e na implementação da RedeRio a partir de 1987, coordenando convênio com a FINEP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 processo de discussão da implantação da RNP da qual realizou anteprojeto (1988) e na viabilização da ligação internacional (1988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ções do LAR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pôs em 1995, o projeto GIGALARC para garantir o desenvolvimento da Internet no Bras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rticulação de Projetos submetidos ao ProTeM-III (Workshop GIGALARC - Canela, 199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ticipação no GT de P&amp;D em Redes da Internet/B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ções do LAR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ipou ativamente das discussões e do processo de articulação para viabilizar a Internet2 Brasileir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 17 de outubro de 1998, o Conselho Técnico Científico do LARC elaborou a Carta de Florianópolis na qual analisa a situação da Internet no Brasil e sugere soluções para a situação atual e futur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 seguida, mobilizou as universidades através da ANDIFES no sentido de solicitar ao MEC a continuidade do seu apoio à RNP atual e suas versões futura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ções do LAR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ticipação no Conselho Científico da parceria MEC/M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união em Florianópolis (9/0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postas para o Edital de Redes Avança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ticipação na Elaboração da Primeira Versão do Projeto GIG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ticipação em GTs da RN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591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jeto Rede GIGALARC (24/5/9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ste de uma rede de alta velocidade e que deverá beneficiar toda a comunidade acadêmica brasilei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ivo geral do projeto: Viabilizar um ambiente, em alta velocidade, para propiciar às instituições de ensino e pesquisa o avanço tecnológico na exploração de protocolos, serviços e aplicações na área de rede de alta velocidade, em especial AT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o. SBRC - Natal, 21/05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5T13:40:52Z</dcterms:created>
  <dc:creator>Jose Augusto Suruagy Monteiro</dc:creator>
  <dc:description/>
  <dc:language>en-US</dc:language>
  <cp:lastModifiedBy> Suruagy</cp:lastModifiedBy>
  <dcterms:modified xsi:type="dcterms:W3CDTF">2003-05-26T19:30:35Z</dcterms:modified>
  <cp:revision>47</cp:revision>
  <dc:subject/>
  <dc:title>Reunião de Planejamento</dc:title>
</cp:coreProperties>
</file>