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2.wmf" ContentType="image/x-wmf"/>
  <Override PartName="/ppt/media/image8.png" ContentType="image/png"/>
  <Override PartName="/ppt/media/image11.wmf" ContentType="image/x-wmf"/>
  <Override PartName="/ppt/media/image17.jpeg" ContentType="image/jpeg"/>
  <Override PartName="/ppt/media/image7.png" ContentType="image/png"/>
  <Override PartName="/ppt/media/image10.wmf" ContentType="image/x-wmf"/>
  <Override PartName="/ppt/media/image6.png" ContentType="image/png"/>
  <Override PartName="/ppt/media/image14.wmf" ContentType="image/x-wmf"/>
  <Override PartName="/ppt/media/image4.wmf" ContentType="image/x-wmf"/>
  <Override PartName="/ppt/media/image3.wmf" ContentType="image/x-wmf"/>
  <Override PartName="/ppt/media/image27.jpeg" ContentType="image/jpeg"/>
  <Override PartName="/ppt/media/image26.jpeg" ContentType="image/jpeg"/>
  <Override PartName="/ppt/media/image23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1.png" ContentType="image/png"/>
  <Override PartName="/ppt/media/image24.png" ContentType="image/png"/>
  <Override PartName="/ppt/media/image15.png" ContentType="image/png"/>
  <Override PartName="/ppt/media/image2.jpeg" ContentType="image/jpeg"/>
  <Override PartName="/ppt/media/image2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1600200"/>
            <a:ext cx="746784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3276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480" y="4192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1600200"/>
            <a:ext cx="746784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8944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419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89440" y="419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1600200"/>
            <a:ext cx="746784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327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773440" y="327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937760" y="327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480" y="419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773440" y="419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4937760" y="419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1600200"/>
            <a:ext cx="746784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0948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600200"/>
            <a:ext cx="746784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600200"/>
            <a:ext cx="746784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32767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889440" y="32767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1600200"/>
            <a:ext cx="746784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467840" cy="67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1600200"/>
            <a:ext cx="746784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889440" y="32767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9480" y="419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1600200"/>
            <a:ext cx="746784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48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1600200"/>
            <a:ext cx="746784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32767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8944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89440" y="419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1600200"/>
            <a:ext cx="746784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8944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4192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600200"/>
            <a:ext cx="746784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3276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09480" y="4192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600200"/>
            <a:ext cx="746784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88944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9480" y="419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89440" y="419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1600200"/>
            <a:ext cx="746784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327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773440" y="327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37760" y="327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09480" y="419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2773440" y="419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4937760" y="419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1600200"/>
            <a:ext cx="746784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1600200"/>
            <a:ext cx="746784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32767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889440" y="32767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1600200"/>
            <a:ext cx="746784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467840" cy="67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1600200"/>
            <a:ext cx="746784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889440" y="32767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480" y="419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1600200"/>
            <a:ext cx="746784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32767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8944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89440" y="419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1600200"/>
            <a:ext cx="746784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8944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4192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09120" y="17521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324480"/>
            <a:ext cx="6478560" cy="17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62120" y="6400800"/>
            <a:ext cx="7467480" cy="2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GT-QoS: IV Workshop RNP2 – Natal, 19 de Maio de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rnp_115g" descr=""/>
          <p:cNvPicPr/>
          <p:nvPr/>
        </p:nvPicPr>
        <p:blipFill>
          <a:blip r:embed="rId2"/>
          <a:stretch/>
        </p:blipFill>
        <p:spPr>
          <a:xfrm>
            <a:off x="7467480" y="228600"/>
            <a:ext cx="1460520" cy="69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609480" y="1219320"/>
            <a:ext cx="65534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3333cc"/>
              </a:solidFill>
              <a:latin typeface="Verdana"/>
            </a:endParaRPr>
          </a:p>
        </p:txBody>
      </p:sp>
      <p:pic>
        <p:nvPicPr>
          <p:cNvPr id="6" name="NOVAmarca" descr=""/>
          <p:cNvPicPr/>
          <p:nvPr/>
        </p:nvPicPr>
        <p:blipFill>
          <a:blip r:embed="rId3"/>
          <a:stretch/>
        </p:blipFill>
        <p:spPr>
          <a:xfrm>
            <a:off x="7696080" y="5819760"/>
            <a:ext cx="914400" cy="88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rnp_115g" descr=""/>
          <p:cNvPicPr/>
          <p:nvPr/>
        </p:nvPicPr>
        <p:blipFill>
          <a:blip r:embed="rId2"/>
          <a:stretch/>
        </p:blipFill>
        <p:spPr>
          <a:xfrm>
            <a:off x="7467480" y="228600"/>
            <a:ext cx="1460520" cy="6984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600200"/>
            <a:ext cx="746784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6280200"/>
            <a:ext cx="1752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© 2003 – RN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NOVAmarca" descr=""/>
          <p:cNvPicPr/>
          <p:nvPr/>
        </p:nvPicPr>
        <p:blipFill>
          <a:blip r:embed="rId3"/>
          <a:stretch/>
        </p:blipFill>
        <p:spPr>
          <a:xfrm>
            <a:off x="7696080" y="5819760"/>
            <a:ext cx="914400" cy="8859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nuperc.unifacs.br/gtqos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qos.internet2.edu/wg/apps/fellowship/" TargetMode="External"/><Relationship Id="rId2" Type="http://schemas.openxmlformats.org/officeDocument/2006/relationships/hyperlink" Target="http://qos.internet2.edu/wg/apps/fellowship/" TargetMode="External"/><Relationship Id="rId3" Type="http://schemas.openxmlformats.org/officeDocument/2006/relationships/hyperlink" Target="http://qos.internet2.edu/wg/apps/fellowship/" TargetMode="External"/><Relationship Id="rId4" Type="http://schemas.openxmlformats.org/officeDocument/2006/relationships/hyperlink" Target="http://qos.internet2.edu/wg/apps/fellowship/" TargetMode="External"/><Relationship Id="rId5" Type="http://schemas.openxmlformats.org/officeDocument/2006/relationships/hyperlink" Target="http://qos.internet2.edu/wg/apps/fellowship/" TargetMode="External"/><Relationship Id="rId6" Type="http://schemas.openxmlformats.org/officeDocument/2006/relationships/hyperlink" Target="http://qos.internet2.edu/wg/apps/fellowship/" TargetMode="External"/><Relationship Id="rId7" Type="http://schemas.openxmlformats.org/officeDocument/2006/relationships/hyperlink" Target="http://qos.internet2.edu/wg/apps/fellowship/" TargetMode="External"/><Relationship Id="rId8" Type="http://schemas.openxmlformats.org/officeDocument/2006/relationships/hyperlink" Target="http://qos.internet2.edu/wg/apps/fellowship/" TargetMode="External"/><Relationship Id="rId9" Type="http://schemas.openxmlformats.org/officeDocument/2006/relationships/hyperlink" Target="http://qos.internet2.edu/wg/apps/fellowship/" TargetMode="External"/><Relationship Id="rId10" Type="http://schemas.openxmlformats.org/officeDocument/2006/relationships/hyperlink" Target="http://qos.internet2.edu/wg/apps/fellowship/" TargetMode="External"/><Relationship Id="rId11" Type="http://schemas.openxmlformats.org/officeDocument/2006/relationships/hyperlink" Target="http://qos.internet2.edu/wg/apps/fellowship/" TargetMode="External"/><Relationship Id="rId12" Type="http://schemas.openxmlformats.org/officeDocument/2006/relationships/hyperlink" Target="http://qos.internet2.edu/wg/apps/fellowship/" TargetMode="External"/><Relationship Id="rId13" Type="http://schemas.openxmlformats.org/officeDocument/2006/relationships/hyperlink" Target="http://www.dante.net/sequin/" TargetMode="External"/><Relationship Id="rId14" Type="http://schemas.openxmlformats.org/officeDocument/2006/relationships/hyperlink" Target="http://www.dante.net/sequin/" TargetMode="External"/><Relationship Id="rId15" Type="http://schemas.openxmlformats.org/officeDocument/2006/relationships/hyperlink" Target="http://www.dante.net/sequin/" TargetMode="External"/><Relationship Id="rId16" Type="http://schemas.openxmlformats.org/officeDocument/2006/relationships/hyperlink" Target="http://www.dante.net/sequin/" TargetMode="External"/><Relationship Id="rId17" Type="http://schemas.openxmlformats.org/officeDocument/2006/relationships/hyperlink" Target="http://www.dante.net/sequin/" TargetMode="External"/><Relationship Id="rId18" Type="http://schemas.openxmlformats.org/officeDocument/2006/relationships/hyperlink" Target="http://www.dante.net/sequin/" TargetMode="External"/><Relationship Id="rId1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qbone.internet2.edu/premium/" TargetMode="External"/><Relationship Id="rId2" Type="http://schemas.openxmlformats.org/officeDocument/2006/relationships/hyperlink" Target="http://qbone.internet2.edu/premium/" TargetMode="External"/><Relationship Id="rId3" Type="http://schemas.openxmlformats.org/officeDocument/2006/relationships/hyperlink" Target="http://qbone.internet2.edu/premium/" TargetMode="External"/><Relationship Id="rId4" Type="http://schemas.openxmlformats.org/officeDocument/2006/relationships/hyperlink" Target="http://qbone.internet2.edu/premium/" TargetMode="External"/><Relationship Id="rId5" Type="http://schemas.openxmlformats.org/officeDocument/2006/relationships/hyperlink" Target="http://qbone.internet2.edu/premium/" TargetMode="External"/><Relationship Id="rId6" Type="http://schemas.openxmlformats.org/officeDocument/2006/relationships/hyperlink" Target="http://qbone.internet2.edu/premium/" TargetMode="External"/><Relationship Id="rId7" Type="http://schemas.openxmlformats.org/officeDocument/2006/relationships/hyperlink" Target="http://qbone.internet2.edu/premium/" TargetMode="External"/><Relationship Id="rId8" Type="http://schemas.openxmlformats.org/officeDocument/2006/relationships/hyperlink" Target="http://qbone.internet2.edu/premium/" TargetMode="External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corcovado.ceo.rnp.br/Testes_QoS/" TargetMode="External"/><Relationship Id="rId2" Type="http://schemas.openxmlformats.org/officeDocument/2006/relationships/hyperlink" Target="http://corcovado.ceo.rnp.br/Testes_QoS/" TargetMode="External"/><Relationship Id="rId3" Type="http://schemas.openxmlformats.org/officeDocument/2006/relationships/hyperlink" Target="http://corcovado.ceo.rnp.br/Testes_QoS/" TargetMode="External"/><Relationship Id="rId4" Type="http://schemas.openxmlformats.org/officeDocument/2006/relationships/hyperlink" Target="http://corcovado.ceo.rnp.br/Testes_QoS/" TargetMode="External"/><Relationship Id="rId5" Type="http://schemas.openxmlformats.org/officeDocument/2006/relationships/hyperlink" Target="http://corcovado.ceo.rnp.br/Testes_QoS/" TargetMode="External"/><Relationship Id="rId6" Type="http://schemas.openxmlformats.org/officeDocument/2006/relationships/hyperlink" Target="http://corcovado.ceo.rnp.br/Testes_QoS/" TargetMode="External"/><Relationship Id="rId7" Type="http://schemas.openxmlformats.org/officeDocument/2006/relationships/hyperlink" Target="http://corcovado.ceo.rnp.br/Testes_QoS/" TargetMode="External"/><Relationship Id="rId8" Type="http://schemas.openxmlformats.org/officeDocument/2006/relationships/hyperlink" Target="http://corcovado.ceo.rnp.br/Testes_QoS/" TargetMode="External"/><Relationship Id="rId9" Type="http://schemas.openxmlformats.org/officeDocument/2006/relationships/hyperlink" Target="http://corcovado.ceo.rnp.br/Testes_QoS/" TargetMode="External"/><Relationship Id="rId10" Type="http://schemas.openxmlformats.org/officeDocument/2006/relationships/hyperlink" Target="http://corcovado.ceo.rnp.br/Testes_QoS/" TargetMode="External"/><Relationship Id="rId1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caida.org/" TargetMode="External"/><Relationship Id="rId2" Type="http://schemas.openxmlformats.org/officeDocument/2006/relationships/hyperlink" Target="http://www.caida.org/" TargetMode="External"/><Relationship Id="rId3" Type="http://schemas.openxmlformats.org/officeDocument/2006/relationships/hyperlink" Target="http://www.caida.org/" TargetMode="External"/><Relationship Id="rId4" Type="http://schemas.openxmlformats.org/officeDocument/2006/relationships/hyperlink" Target="http://www.caida.org/" TargetMode="External"/><Relationship Id="rId5" Type="http://schemas.openxmlformats.org/officeDocument/2006/relationships/hyperlink" Target="http://www.caida.org/" TargetMode="External"/><Relationship Id="rId6" Type="http://schemas.openxmlformats.org/officeDocument/2006/relationships/hyperlink" Target="http://www.advanced.org/surveyor/" TargetMode="External"/><Relationship Id="rId7" Type="http://schemas.openxmlformats.org/officeDocument/2006/relationships/hyperlink" Target="http://www.advanced.org/surveyor/" TargetMode="External"/><Relationship Id="rId8" Type="http://schemas.openxmlformats.org/officeDocument/2006/relationships/hyperlink" Target="http://www.advanced.org/surveyor/" TargetMode="External"/><Relationship Id="rId9" Type="http://schemas.openxmlformats.org/officeDocument/2006/relationships/hyperlink" Target="http://www.advanced.org/surveyor/" TargetMode="External"/><Relationship Id="rId10" Type="http://schemas.openxmlformats.org/officeDocument/2006/relationships/hyperlink" Target="http://www.advanced.org/surveyor/" TargetMode="External"/><Relationship Id="rId11" Type="http://schemas.openxmlformats.org/officeDocument/2006/relationships/hyperlink" Target="http://www.advanced.org/surveyor/" TargetMode="External"/><Relationship Id="rId12" Type="http://schemas.openxmlformats.org/officeDocument/2006/relationships/hyperlink" Target="http://www.advanced.org/surveyor/" TargetMode="External"/><Relationship Id="rId13" Type="http://schemas.openxmlformats.org/officeDocument/2006/relationships/hyperlink" Target="http://www.advanced.org/surveyor/" TargetMode="External"/><Relationship Id="rId14" Type="http://schemas.openxmlformats.org/officeDocument/2006/relationships/hyperlink" Target="http://www-iepm.slac.stanford.edu/" TargetMode="External"/><Relationship Id="rId15" Type="http://schemas.openxmlformats.org/officeDocument/2006/relationships/hyperlink" Target="http://www-iepm.slac.stanford.edu/" TargetMode="External"/><Relationship Id="rId16" Type="http://schemas.openxmlformats.org/officeDocument/2006/relationships/hyperlink" Target="http://www-iepm.slac.stanford.edu/" TargetMode="External"/><Relationship Id="rId17" Type="http://schemas.openxmlformats.org/officeDocument/2006/relationships/hyperlink" Target="http://www-iepm.slac.stanford.edu/" TargetMode="External"/><Relationship Id="rId18" Type="http://schemas.openxmlformats.org/officeDocument/2006/relationships/hyperlink" Target="http://www-iepm.slac.stanford.edu/" TargetMode="External"/><Relationship Id="rId19" Type="http://schemas.openxmlformats.org/officeDocument/2006/relationships/hyperlink" Target="http://www-iepm.slac.stanford.edu/" TargetMode="External"/><Relationship Id="rId20" Type="http://schemas.openxmlformats.org/officeDocument/2006/relationships/hyperlink" Target="http://www-iepm.slac.stanford.edu/" TargetMode="External"/><Relationship Id="rId21" Type="http://schemas.openxmlformats.org/officeDocument/2006/relationships/hyperlink" Target="http://www-iepm.slac.stanford.edu/" TargetMode="External"/><Relationship Id="rId22" Type="http://schemas.openxmlformats.org/officeDocument/2006/relationships/hyperlink" Target="http://www-iepm.slac.stanford.edu/" TargetMode="External"/><Relationship Id="rId23" Type="http://schemas.openxmlformats.org/officeDocument/2006/relationships/hyperlink" Target="http://www-iepm.slac.stanford.edu/" TargetMode="External"/><Relationship Id="rId24" Type="http://schemas.openxmlformats.org/officeDocument/2006/relationships/hyperlink" Target="http://www.ripe.net/test-traffic/index.html" TargetMode="External"/><Relationship Id="rId25" Type="http://schemas.openxmlformats.org/officeDocument/2006/relationships/hyperlink" Target="http://www.ripe.net/test-traffic/index.html" TargetMode="External"/><Relationship Id="rId26" Type="http://schemas.openxmlformats.org/officeDocument/2006/relationships/hyperlink" Target="http://www.ripe.net/test-traffic/index.html" TargetMode="External"/><Relationship Id="rId27" Type="http://schemas.openxmlformats.org/officeDocument/2006/relationships/hyperlink" Target="http://www.ripe.net/test-traffic/index.html" TargetMode="External"/><Relationship Id="rId28" Type="http://schemas.openxmlformats.org/officeDocument/2006/relationships/hyperlink" Target="http://www.ripe.net/test-traffic/index.html" TargetMode="External"/><Relationship Id="rId29" Type="http://schemas.openxmlformats.org/officeDocument/2006/relationships/hyperlink" Target="http://www.ripe.net/test-traffic/index.html" TargetMode="External"/><Relationship Id="rId30" Type="http://schemas.openxmlformats.org/officeDocument/2006/relationships/hyperlink" Target="http://www.ripe.net/test-traffic/index.html" TargetMode="External"/><Relationship Id="rId31" Type="http://schemas.openxmlformats.org/officeDocument/2006/relationships/hyperlink" Target="http://www.ripe.net/test-traffic/index.html" TargetMode="External"/><Relationship Id="rId32" Type="http://schemas.openxmlformats.org/officeDocument/2006/relationships/hyperlink" Target="http://www.ripe.net/test-traffic/index.html" TargetMode="External"/><Relationship Id="rId33" Type="http://schemas.openxmlformats.org/officeDocument/2006/relationships/hyperlink" Target="http://moat.nlanr.net/" TargetMode="External"/><Relationship Id="rId34" Type="http://schemas.openxmlformats.org/officeDocument/2006/relationships/hyperlink" Target="http://moat.nlanr.net/" TargetMode="External"/><Relationship Id="rId35" Type="http://schemas.openxmlformats.org/officeDocument/2006/relationships/hyperlink" Target="http://moat.nlanr.net/" TargetMode="External"/><Relationship Id="rId36" Type="http://schemas.openxmlformats.org/officeDocument/2006/relationships/hyperlink" Target="http://moat.nlanr.net/" TargetMode="External"/><Relationship Id="rId37" Type="http://schemas.openxmlformats.org/officeDocument/2006/relationships/hyperlink" Target="http://moat.nlanr.net/" TargetMode="External"/><Relationship Id="rId38" Type="http://schemas.openxmlformats.org/officeDocument/2006/relationships/hyperlink" Target="http://moat.nlanr.net/" TargetMode="External"/><Relationship Id="rId39" Type="http://schemas.openxmlformats.org/officeDocument/2006/relationships/hyperlink" Target="http://e2epi.internet2.edu/" TargetMode="External"/><Relationship Id="rId40" Type="http://schemas.openxmlformats.org/officeDocument/2006/relationships/hyperlink" Target="http://e2epi.internet2.edu/" TargetMode="External"/><Relationship Id="rId41" Type="http://schemas.openxmlformats.org/officeDocument/2006/relationships/hyperlink" Target="http://e2epi.internet2.edu/" TargetMode="External"/><Relationship Id="rId4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barra.nc-rj.rnp.br/extranet/gt/survey/index.cfm" TargetMode="External"/><Relationship Id="rId2" Type="http://schemas.openxmlformats.org/officeDocument/2006/relationships/hyperlink" Target="http://barra.nc-rj.rnp.br/extranet/gt/survey/index.cfm" TargetMode="External"/><Relationship Id="rId3" Type="http://schemas.openxmlformats.org/officeDocument/2006/relationships/hyperlink" Target="http://barra.nc-rj.rnp.br/extranet/gt/survey/index.cfm" TargetMode="External"/><Relationship Id="rId4" Type="http://schemas.openxmlformats.org/officeDocument/2006/relationships/hyperlink" Target="http://barra.nc-rj.rnp.br/extranet/gt/survey/index.cfm" TargetMode="External"/><Relationship Id="rId5" Type="http://schemas.openxmlformats.org/officeDocument/2006/relationships/hyperlink" Target="http://barra.nc-rj.rnp.br/extranet/gt/survey/index.cfm" TargetMode="External"/><Relationship Id="rId6" Type="http://schemas.openxmlformats.org/officeDocument/2006/relationships/hyperlink" Target="http://barra.nc-rj.rnp.br/extranet/gt/survey/index.cfm" TargetMode="External"/><Relationship Id="rId7" Type="http://schemas.openxmlformats.org/officeDocument/2006/relationships/hyperlink" Target="http://barra.nc-rj.rnp.br/extranet/gt/survey/index.cfm" TargetMode="External"/><Relationship Id="rId8" Type="http://schemas.openxmlformats.org/officeDocument/2006/relationships/hyperlink" Target="http://barra.nc-rj.rnp.br/extranet/gt/survey/index.cfm" TargetMode="External"/><Relationship Id="rId9" Type="http://schemas.openxmlformats.org/officeDocument/2006/relationships/hyperlink" Target="http://barra.nc-rj.rnp.br/extranet/gt/survey/index.cfm" TargetMode="External"/><Relationship Id="rId10" Type="http://schemas.openxmlformats.org/officeDocument/2006/relationships/hyperlink" Target="http://barra.nc-rj.rnp.br/extranet/gt/survey/index.cfm" TargetMode="External"/><Relationship Id="rId11" Type="http://schemas.openxmlformats.org/officeDocument/2006/relationships/hyperlink" Target="http://barra.nc-rj.rnp.br/extranet/gt/survey/index.cfm" TargetMode="External"/><Relationship Id="rId12" Type="http://schemas.openxmlformats.org/officeDocument/2006/relationships/hyperlink" Target="http://barra.nc-rj.rnp.br/extranet/gt/survey/index.cfm" TargetMode="External"/><Relationship Id="rId13" Type="http://schemas.openxmlformats.org/officeDocument/2006/relationships/hyperlink" Target="http://barra.nc-rj.rnp.br/extranet/gt/survey/index.cfm" TargetMode="External"/><Relationship Id="rId14" Type="http://schemas.openxmlformats.org/officeDocument/2006/relationships/hyperlink" Target="http://barra.nc-rj.rnp.br/extranet/gt/survey/index.cfm" TargetMode="External"/><Relationship Id="rId15" Type="http://schemas.openxmlformats.org/officeDocument/2006/relationships/hyperlink" Target="http://barra.nc-rj.rnp.br/extranet/gt/survey/index.cfm" TargetMode="External"/><Relationship Id="rId16" Type="http://schemas.openxmlformats.org/officeDocument/2006/relationships/hyperlink" Target="http://barra.nc-rj.rnp.br/extranet/gt/survey/index.cfm" TargetMode="External"/><Relationship Id="rId17" Type="http://schemas.openxmlformats.org/officeDocument/2006/relationships/hyperlink" Target="http://barra.nc-rj.rnp.br/extranet/gt/survey/index.cfm" TargetMode="External"/><Relationship Id="rId1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wmf"/><Relationship Id="rId13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hyperlink" Target="http://www.nuperc.unifacs.br/gtqos" TargetMode="External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1066680"/>
            <a:ext cx="9144000" cy="579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600200"/>
            <a:ext cx="746784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GT Qualidade de Serviço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IV WRNP2</a:t>
            </a:r>
            <a:endParaRPr b="0" lang="en-US" sz="2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0948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José Augusto Suruagy Monteir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Leobino Sampa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Mércia E. B. Figuere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3399ff"/>
                </a:solidFill>
                <a:uFillTx/>
                <a:latin typeface="Verdana"/>
                <a:hlinkClick r:id="rId1"/>
              </a:rPr>
              <a:t>www.nuperc.unifacs.br/gtqo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Natal, 19 de Maio de 200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6280200"/>
            <a:ext cx="1752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© 2003 – RN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NOVAmarca" descr=""/>
          <p:cNvPicPr/>
          <p:nvPr/>
        </p:nvPicPr>
        <p:blipFill>
          <a:blip r:embed="rId2"/>
          <a:stretch/>
        </p:blipFill>
        <p:spPr>
          <a:xfrm>
            <a:off x="7696080" y="5819760"/>
            <a:ext cx="91440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1219320"/>
            <a:ext cx="65534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Verdana"/>
              </a:rPr>
              <a:t>Conceito Básico</a:t>
            </a:r>
            <a:endParaRPr b="1" lang="en-US" sz="2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comendação E.800: Efeito coletivo do desempenho do serviço e que determina o grau de satisfação do usuário deste serviç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ovidade das redes integradas e mais recentemente da Internet: oferecimento de serviços que atendam os diferentes requisitos de QoS das aplicaçõ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Quantitativamente, a QoS para uma dada aplicação pode ser expressa através de um conjunto de parâmetros mensuráveis tais como retardo máximo, variação máxima do retardo, percentual máximo de perda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457200"/>
            <a:ext cx="6400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alidade de Serviç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1219320"/>
            <a:ext cx="65534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Verdana"/>
              </a:rPr>
              <a:t>Necessidades das Aplicações por QoS</a:t>
            </a:r>
            <a:endParaRPr b="1" lang="en-US" sz="2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plicações 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elástica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e de 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tempo real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(sensíveis a atraso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ocumento sobre necessidades de QoS das Aplicações avançadas (dezembro 2002): </a:t>
            </a:r>
            <a:r>
              <a:rPr b="0" lang="pt-BR" sz="1800" spc="-1" strike="noStrike" u="sng">
                <a:solidFill>
                  <a:srgbClr val="3399ff"/>
                </a:solidFill>
                <a:uFillTx/>
                <a:latin typeface="Arial"/>
                <a:hlinkClick r:id="rId1"/>
              </a:rPr>
              <a:t>http</a:t>
            </a:r>
            <a:r>
              <a:rPr b="0" lang="pt-BR" sz="1800" spc="-1" strike="noStrike" u="sng">
                <a:solidFill>
                  <a:srgbClr val="3399ff"/>
                </a:solidFill>
                <a:uFillTx/>
                <a:latin typeface="Arial"/>
                <a:hlinkClick r:id="rId2"/>
              </a:rPr>
              <a:t>://</a:t>
            </a:r>
            <a:r>
              <a:rPr b="0" lang="pt-BR" sz="1800" spc="-1" strike="noStrike" u="sng">
                <a:solidFill>
                  <a:srgbClr val="3399ff"/>
                </a:solidFill>
                <a:uFillTx/>
                <a:latin typeface="Arial"/>
                <a:hlinkClick r:id="rId3"/>
              </a:rPr>
              <a:t>qos</a:t>
            </a:r>
            <a:r>
              <a:rPr b="0" lang="pt-BR" sz="1800" spc="-1" strike="noStrike" u="sng">
                <a:solidFill>
                  <a:srgbClr val="3399ff"/>
                </a:solidFill>
                <a:uFillTx/>
                <a:latin typeface="Arial"/>
                <a:hlinkClick r:id="rId4"/>
              </a:rPr>
              <a:t>.internet2.</a:t>
            </a:r>
            <a:r>
              <a:rPr b="0" lang="pt-BR" sz="1800" spc="-1" strike="noStrike" u="sng">
                <a:solidFill>
                  <a:srgbClr val="3399ff"/>
                </a:solidFill>
                <a:uFillTx/>
                <a:latin typeface="Arial"/>
                <a:hlinkClick r:id="rId5"/>
              </a:rPr>
              <a:t>edu</a:t>
            </a:r>
            <a:r>
              <a:rPr b="0" lang="pt-BR" sz="1800" spc="-1" strike="noStrike" u="sng">
                <a:solidFill>
                  <a:srgbClr val="3399ff"/>
                </a:solidFill>
                <a:uFillTx/>
                <a:latin typeface="Arial"/>
                <a:hlinkClick r:id="rId6"/>
              </a:rPr>
              <a:t>/</a:t>
            </a:r>
            <a:r>
              <a:rPr b="0" lang="pt-BR" sz="1800" spc="-1" strike="noStrike" u="sng">
                <a:solidFill>
                  <a:srgbClr val="3399ff"/>
                </a:solidFill>
                <a:uFillTx/>
                <a:latin typeface="Arial"/>
                <a:hlinkClick r:id="rId7"/>
              </a:rPr>
              <a:t>wg</a:t>
            </a:r>
            <a:r>
              <a:rPr b="0" lang="pt-BR" sz="1800" spc="-1" strike="noStrike" u="sng">
                <a:solidFill>
                  <a:srgbClr val="3399ff"/>
                </a:solidFill>
                <a:uFillTx/>
                <a:latin typeface="Arial"/>
                <a:hlinkClick r:id="rId8"/>
              </a:rPr>
              <a:t>/</a:t>
            </a:r>
            <a:r>
              <a:rPr b="0" lang="pt-BR" sz="1800" spc="-1" strike="noStrike" u="sng">
                <a:solidFill>
                  <a:srgbClr val="3399ff"/>
                </a:solidFill>
                <a:uFillTx/>
                <a:latin typeface="Arial"/>
                <a:hlinkClick r:id="rId9"/>
              </a:rPr>
              <a:t>apps</a:t>
            </a:r>
            <a:r>
              <a:rPr b="0" lang="pt-BR" sz="1800" spc="-1" strike="noStrike" u="sng">
                <a:solidFill>
                  <a:srgbClr val="3399ff"/>
                </a:solidFill>
                <a:uFillTx/>
                <a:latin typeface="Arial"/>
                <a:hlinkClick r:id="rId10"/>
              </a:rPr>
              <a:t>/</a:t>
            </a:r>
            <a:r>
              <a:rPr b="0" lang="pt-BR" sz="1800" spc="-1" strike="noStrike" u="sng">
                <a:solidFill>
                  <a:srgbClr val="3399ff"/>
                </a:solidFill>
                <a:uFillTx/>
                <a:latin typeface="Arial"/>
                <a:hlinkClick r:id="rId11"/>
              </a:rPr>
              <a:t>fellowship</a:t>
            </a:r>
            <a:r>
              <a:rPr b="0" lang="pt-BR" sz="1800" spc="-1" strike="noStrike" u="sng">
                <a:solidFill>
                  <a:srgbClr val="3399ff"/>
                </a:solidFill>
                <a:uFillTx/>
                <a:latin typeface="Arial"/>
                <a:hlinkClick r:id="rId12"/>
              </a:rPr>
              <a:t>/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esquisa projeto SEQUIN (</a:t>
            </a:r>
            <a:r>
              <a:rPr b="0" lang="pt-BR" sz="1800" spc="-1" strike="noStrike" u="sng">
                <a:solidFill>
                  <a:srgbClr val="3399ff"/>
                </a:solidFill>
                <a:uFillTx/>
                <a:latin typeface="Arial"/>
                <a:hlinkClick r:id="rId13"/>
              </a:rPr>
              <a:t>http</a:t>
            </a:r>
            <a:r>
              <a:rPr b="0" lang="pt-BR" sz="1800" spc="-1" strike="noStrike" u="sng">
                <a:solidFill>
                  <a:srgbClr val="3399ff"/>
                </a:solidFill>
                <a:uFillTx/>
                <a:latin typeface="Arial"/>
                <a:hlinkClick r:id="rId14"/>
              </a:rPr>
              <a:t>://www.</a:t>
            </a:r>
            <a:r>
              <a:rPr b="0" lang="pt-BR" sz="1800" spc="-1" strike="noStrike" u="sng">
                <a:solidFill>
                  <a:srgbClr val="3399ff"/>
                </a:solidFill>
                <a:uFillTx/>
                <a:latin typeface="Arial"/>
                <a:hlinkClick r:id="rId15"/>
              </a:rPr>
              <a:t>dante</a:t>
            </a:r>
            <a:r>
              <a:rPr b="0" lang="pt-BR" sz="1800" spc="-1" strike="noStrike" u="sng">
                <a:solidFill>
                  <a:srgbClr val="3399ff"/>
                </a:solidFill>
                <a:uFillTx/>
                <a:latin typeface="Arial"/>
                <a:hlinkClick r:id="rId16"/>
              </a:rPr>
              <a:t>.net/</a:t>
            </a:r>
            <a:r>
              <a:rPr b="0" lang="pt-BR" sz="1800" spc="-1" strike="noStrike" u="sng">
                <a:solidFill>
                  <a:srgbClr val="3399ff"/>
                </a:solidFill>
                <a:uFillTx/>
                <a:latin typeface="Arial"/>
                <a:hlinkClick r:id="rId17"/>
              </a:rPr>
              <a:t>sequin</a:t>
            </a:r>
            <a:r>
              <a:rPr b="0" lang="pt-BR" sz="1800" spc="-1" strike="noStrike" u="sng">
                <a:solidFill>
                  <a:srgbClr val="3399ff"/>
                </a:solidFill>
                <a:uFillTx/>
                <a:latin typeface="Arial"/>
                <a:hlinkClick r:id="rId18"/>
              </a:rPr>
              <a:t>/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457200"/>
            <a:ext cx="6400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alidade de Serviç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1219320"/>
            <a:ext cx="65534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Verdana"/>
              </a:rPr>
              <a:t>Necessidades das Aplicações – Pesquisa SEQUIN</a:t>
            </a:r>
            <a:endParaRPr b="1" lang="en-US" sz="2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762120" y="457200"/>
            <a:ext cx="6400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alidade de Serviç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-76320" y="1752480"/>
          <a:ext cx="8931240" cy="429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6320" y="1752480"/>
                    <a:ext cx="8931240" cy="42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1219320"/>
            <a:ext cx="65534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Verdana"/>
              </a:rPr>
              <a:t>Roteiro</a:t>
            </a:r>
            <a:endParaRPr b="1" lang="en-US" sz="2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bjetivos do GT-Q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posta de Trabal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iagnóstico e Altern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Qualidade de Serviç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Arquiteturas de Serviç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erviços Diferenci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nfra-estrutura de Mediçõ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jetos Pil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Questionário sobre Qualidade de Serviç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ilotos de Serviços Diferenci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nfra-estrutura de Mediçõ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comendações e Sugest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572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457200"/>
            <a:ext cx="6400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T-Q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1219320"/>
            <a:ext cx="65534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Verdana"/>
              </a:rPr>
              <a:t>Tipos Principais</a:t>
            </a:r>
            <a:endParaRPr b="1" lang="en-US" sz="2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lhor Esforço (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Best Effort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rviços Integrados (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IntServ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rviços Diferenciados (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DiffServ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457200"/>
            <a:ext cx="6400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rquiteturas de Serviç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1219320"/>
            <a:ext cx="65534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Verdana"/>
              </a:rPr>
              <a:t>Serviços Integrados</a:t>
            </a:r>
            <a:endParaRPr b="1" lang="en-US" sz="2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Arquitetura de serviços idealizada para disponibilizar funções de reserva  de banda fim-a-fim para aplicações de tempo re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Tipos de Serviç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0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3333cc"/>
                </a:solidFill>
                <a:latin typeface="Arial"/>
                <a:ea typeface="Arial"/>
              </a:rPr>
              <a:t>Serviço Garantid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: Este serviço foi concebido para aplicações de tempo real. Para isso o retardo é controlado e o tráfego condicionado por um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token bucket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0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3333cc"/>
                </a:solidFill>
                <a:latin typeface="Arial"/>
                <a:ea typeface="Arial"/>
              </a:rPr>
              <a:t>Serviço de carga controlad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: Este serviço foi criado para aplicações elásticas e está próximo do serviço melhor esforço quando em leve sobrecarga. É garantida a entrega de pacotes (baixa perda) e o retardo não irá exceder o máximo retardo suportado pela aplicaçã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62120" y="457200"/>
            <a:ext cx="6400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rquiteturas de Serviç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1219320"/>
            <a:ext cx="65534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Verdana"/>
              </a:rPr>
              <a:t>Serviços Integrados</a:t>
            </a:r>
            <a:endParaRPr b="1" lang="en-US" sz="2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RSVP (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Reservation Protocol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)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0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Protocolo de sinalização para reserva de recurs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Limitaçõ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01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Não escalá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01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Alta exigência nos roteador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62120" y="457200"/>
            <a:ext cx="6400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rquiteturas de Serviç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1219320"/>
            <a:ext cx="65534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Verdana"/>
              </a:rPr>
              <a:t>Roteiro</a:t>
            </a:r>
            <a:endParaRPr b="1" lang="en-US" sz="2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bjetivos do GT-Q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posta de Trabal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iagnóstico e Altern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Qualidade de Serviç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rquiteturas de Serviç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Serviços Diferenci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nfra-estrutura de Mediçõ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jetos Pil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Questionário sobre Qualidade de Serviç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ilotos de Serviços Diferenci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nfra-estrutura de Mediçõ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comendações e Sugest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62120" y="4572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457200"/>
            <a:ext cx="6400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T-Q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1219320"/>
            <a:ext cx="65534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Verdana"/>
              </a:rPr>
              <a:t>Serviços Diferenciados</a:t>
            </a:r>
            <a:endParaRPr b="1" lang="en-US" sz="2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500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Arquitetura de serviços baseada no controle de QoS para fluxos agregados que são identificados através do DSCP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(</a:t>
            </a:r>
            <a:r>
              <a:rPr b="0" i="1" lang="pt-BR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Differentiated Service Code Point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)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62120" y="457200"/>
            <a:ext cx="6400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rquiteturas de Serviç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143000" y="3048120"/>
          <a:ext cx="2378160" cy="108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048120"/>
                    <a:ext cx="2378160" cy="108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1219320"/>
            <a:ext cx="65534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Verdana"/>
              </a:rPr>
              <a:t>Comportamentos por saltos (PHBs)</a:t>
            </a:r>
            <a:endParaRPr b="1" lang="en-US" sz="2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ncaminhamento Assegurado (AF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 serviço AF é composto por várias sub-classes de serviço, que possuem diferentes níveis de precedência em relação ao descarte de pacotes. É indicado para as aplicações que não são sensíveis ao atraso, mas não suportam per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ncaminhamento Expresso (EF)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 encaminhamento expresso oferece um serviço de redes com baixa perda, pequeno atraso, baixo jitter e banda garantida. É indicado para aplicações de tempo re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62120" y="457200"/>
            <a:ext cx="6400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rviços Diferenci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1219320"/>
            <a:ext cx="65534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Verdana"/>
              </a:rPr>
              <a:t>Roteiro</a:t>
            </a:r>
            <a:endParaRPr b="1" lang="en-US" sz="2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bjetivos do GT-Q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posta de Trabal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iagnóstico e Altern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Qualidade de Serviç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rquiteturas de Serviç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erviços Diferenci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nfra-estrutura de Mediçõ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jetos Pil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Questionário sobre Qualidade de Serviç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ilotos de Serviços Diferenci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nfra-estrutura de Mediçõ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comendações e Sugest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4572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457200"/>
            <a:ext cx="6400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T-Q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1219320"/>
            <a:ext cx="65534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Verdana"/>
              </a:rPr>
              <a:t>Serviços Diferenciados</a:t>
            </a:r>
            <a:endParaRPr b="1" lang="en-US" sz="2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Maior escalabil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Número limitado de classes de serviç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Menor exigência nos rotead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457200"/>
            <a:ext cx="6400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rquiteturas de Serviç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1219320"/>
            <a:ext cx="65534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Verdana"/>
              </a:rPr>
              <a:t>Alternativas de Serviços</a:t>
            </a:r>
            <a:endParaRPr b="1" lang="en-US" sz="2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Nobres (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Elevated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Premium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 (EF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Olympic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(AF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Best Effort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(B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Plebeus (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Non-Elevated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Scavenger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 ou “cata-lixo” (QB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Alternative Best Effort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 (AB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Best-Effort Differentiated Servic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 (BED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457200"/>
            <a:ext cx="6400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rviços Diferenci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1219320"/>
            <a:ext cx="65534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Verdana"/>
              </a:rPr>
              <a:t>QBone Premium Service (QPS)</a:t>
            </a:r>
            <a:endParaRPr b="1" lang="en-US" sz="2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Definido pelo QoS-WG da Internet2 (</a:t>
            </a:r>
            <a:r>
              <a:rPr b="0" lang="pt-BR" sz="1800" spc="-1" strike="noStrike" u="sng">
                <a:solidFill>
                  <a:srgbClr val="3399ff"/>
                </a:solidFill>
                <a:uFillTx/>
                <a:latin typeface="Arial"/>
                <a:ea typeface="Arial"/>
                <a:hlinkClick r:id="rId1"/>
              </a:rPr>
              <a:t>http</a:t>
            </a:r>
            <a:r>
              <a:rPr b="0" lang="pt-BR" sz="1800" spc="-1" strike="noStrike" u="sng">
                <a:solidFill>
                  <a:srgbClr val="3399ff"/>
                </a:solidFill>
                <a:uFillTx/>
                <a:latin typeface="Arial"/>
                <a:ea typeface="Arial"/>
                <a:hlinkClick r:id="rId2"/>
              </a:rPr>
              <a:t>://</a:t>
            </a:r>
            <a:r>
              <a:rPr b="0" lang="pt-BR" sz="1800" spc="-1" strike="noStrike" u="sng">
                <a:solidFill>
                  <a:srgbClr val="3399ff"/>
                </a:solidFill>
                <a:uFillTx/>
                <a:latin typeface="Arial"/>
                <a:ea typeface="Arial"/>
                <a:hlinkClick r:id="rId3"/>
              </a:rPr>
              <a:t>qbone</a:t>
            </a:r>
            <a:r>
              <a:rPr b="0" lang="pt-BR" sz="1800" spc="-1" strike="noStrike" u="sng">
                <a:solidFill>
                  <a:srgbClr val="3399ff"/>
                </a:solidFill>
                <a:uFillTx/>
                <a:latin typeface="Arial"/>
                <a:ea typeface="Arial"/>
                <a:hlinkClick r:id="rId4"/>
              </a:rPr>
              <a:t>.internet2.</a:t>
            </a:r>
            <a:r>
              <a:rPr b="0" lang="pt-BR" sz="1800" spc="-1" strike="noStrike" u="sng">
                <a:solidFill>
                  <a:srgbClr val="3399ff"/>
                </a:solidFill>
                <a:uFillTx/>
                <a:latin typeface="Arial"/>
                <a:ea typeface="Arial"/>
                <a:hlinkClick r:id="rId5"/>
              </a:rPr>
              <a:t>edu</a:t>
            </a:r>
            <a:r>
              <a:rPr b="0" lang="pt-BR" sz="1800" spc="-1" strike="noStrike" u="sng">
                <a:solidFill>
                  <a:srgbClr val="3399ff"/>
                </a:solidFill>
                <a:uFillTx/>
                <a:latin typeface="Arial"/>
                <a:ea typeface="Arial"/>
                <a:hlinkClick r:id="rId6"/>
              </a:rPr>
              <a:t>/</a:t>
            </a:r>
            <a:r>
              <a:rPr b="0" lang="pt-BR" sz="1800" spc="-1" strike="noStrike" u="sng">
                <a:solidFill>
                  <a:srgbClr val="3399ff"/>
                </a:solidFill>
                <a:uFillTx/>
                <a:latin typeface="Arial"/>
                <a:ea typeface="Arial"/>
                <a:hlinkClick r:id="rId7"/>
              </a:rPr>
              <a:t>premium</a:t>
            </a:r>
            <a:r>
              <a:rPr b="0" lang="pt-BR" sz="1800" spc="-1" strike="noStrike" u="sng">
                <a:solidFill>
                  <a:srgbClr val="3399ff"/>
                </a:solidFill>
                <a:uFillTx/>
                <a:latin typeface="Arial"/>
                <a:ea typeface="Arial"/>
                <a:hlinkClick r:id="rId8"/>
              </a:rPr>
              <a:t>/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A sua implantação encontra-se suspensa indefinida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Motivos principa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0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falta de suporte dos roteadore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0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custo de atualização dos equipamentos em cada rede (cada domínio QPS deve efetuar policiamento em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cad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 porta de entrada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0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ausência de demanda por parte das aplicaçõe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0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preocupações com o custo e complexidade operaciona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457200"/>
            <a:ext cx="6400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rviços Diferenci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1219320"/>
            <a:ext cx="65534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Verdana"/>
              </a:rPr>
              <a:t>Projeto Piloto de QoS da RNP</a:t>
            </a:r>
            <a:endParaRPr b="1" lang="en-US" sz="2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rviç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01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erviço Premium (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Virtual Leased Lin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01"/>
              </a:spcBef>
              <a:buClr>
                <a:srgbClr val="80808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erviço Assegurad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01"/>
              </a:spcBef>
              <a:buClr>
                <a:srgbClr val="80808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erviço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Best Eff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62120" y="457200"/>
            <a:ext cx="6400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rviços Diferenci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1219320"/>
            <a:ext cx="65534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Verdana"/>
              </a:rPr>
              <a:t>Projeto Piloto de QoS da RNP</a:t>
            </a:r>
            <a:endParaRPr b="1" lang="en-US" sz="2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canismos testad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01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 mecanismo de fila LLQ (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Low Latency Queueing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01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ua implementação se vale de uma fila com prioridade para o serviço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Premium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filas usando a política CBWFQ (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Class-based Weighted Fair Queueing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) para as demais classes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01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É obrigatório alocar um mínimo de 25% da banda para a classe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Best Effort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01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 Cisco recomenda o uso de, no máximo, 5 classes de tráfeg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57200"/>
            <a:ext cx="6400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rviços Diferenci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1219320"/>
            <a:ext cx="65534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Verdana"/>
              </a:rPr>
              <a:t>Projeto Piloto de QoS da RNP</a:t>
            </a:r>
            <a:endParaRPr b="1" lang="en-US" sz="2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tilização de geradores de tráfe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s parâmetros de desempenho avaliados nos testes objetivos foram: perda, atraso e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jitter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 ferramentas escolhidas: MGEN/DREC, TANGRAM II e o RUDE/CRU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62120" y="457200"/>
            <a:ext cx="6400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rviços Diferenci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1219320"/>
            <a:ext cx="65534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Verdana"/>
              </a:rPr>
              <a:t>Projeto Piloto de QoS da RNP</a:t>
            </a:r>
            <a:endParaRPr b="1" lang="en-US" sz="2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Usando o serviço </a:t>
            </a:r>
            <a:r>
              <a:rPr b="0" i="1" lang="pt-BR" sz="1800" spc="-1" strike="noStrike">
                <a:solidFill>
                  <a:srgbClr val="000000"/>
                </a:solidFill>
                <a:latin typeface="Verdana"/>
              </a:rPr>
              <a:t>Premium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251"/>
              </a:spcBef>
              <a:buClr>
                <a:srgbClr val="80808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Geração de 4 Mbits/seg entre RS/SP com e sem Q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251"/>
              </a:spcBef>
              <a:buClr>
                <a:srgbClr val="80808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Geração de 2,2 Mbits/seg ent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251"/>
              </a:spcBef>
              <a:buClr>
                <a:srgbClr val="80808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800" spc="-1" strike="noStrike" u="sng">
                <a:solidFill>
                  <a:srgbClr val="3399ff"/>
                </a:solidFill>
                <a:uFillTx/>
                <a:latin typeface="Verdana"/>
                <a:hlinkClick r:id="rId1"/>
              </a:rPr>
              <a:t>http</a:t>
            </a:r>
            <a:r>
              <a:rPr b="0" lang="pt-BR" sz="1800" spc="-1" strike="noStrike" u="sng">
                <a:solidFill>
                  <a:srgbClr val="3399ff"/>
                </a:solidFill>
                <a:uFillTx/>
                <a:latin typeface="Verdana"/>
                <a:hlinkClick r:id="rId2"/>
              </a:rPr>
              <a:t>://corcovado.</a:t>
            </a:r>
            <a:r>
              <a:rPr b="0" lang="pt-BR" sz="1800" spc="-1" strike="noStrike" u="sng">
                <a:solidFill>
                  <a:srgbClr val="3399ff"/>
                </a:solidFill>
                <a:uFillTx/>
                <a:latin typeface="Verdana"/>
                <a:hlinkClick r:id="rId3"/>
              </a:rPr>
              <a:t>ceo</a:t>
            </a:r>
            <a:r>
              <a:rPr b="0" lang="pt-BR" sz="1800" spc="-1" strike="noStrike" u="sng">
                <a:solidFill>
                  <a:srgbClr val="3399ff"/>
                </a:solidFill>
                <a:uFillTx/>
                <a:latin typeface="Verdana"/>
                <a:hlinkClick r:id="rId4"/>
              </a:rPr>
              <a:t>.</a:t>
            </a:r>
            <a:r>
              <a:rPr b="0" lang="pt-BR" sz="1800" spc="-1" strike="noStrike" u="sng">
                <a:solidFill>
                  <a:srgbClr val="3399ff"/>
                </a:solidFill>
                <a:uFillTx/>
                <a:latin typeface="Verdana"/>
                <a:hlinkClick r:id="rId5"/>
              </a:rPr>
              <a:t>rnp</a:t>
            </a:r>
            <a:r>
              <a:rPr b="0" lang="pt-BR" sz="1800" spc="-1" strike="noStrike" u="sng">
                <a:solidFill>
                  <a:srgbClr val="3399ff"/>
                </a:solidFill>
                <a:uFillTx/>
                <a:latin typeface="Verdana"/>
                <a:hlinkClick r:id="rId6"/>
              </a:rPr>
              <a:t>.</a:t>
            </a:r>
            <a:r>
              <a:rPr b="0" lang="pt-BR" sz="1800" spc="-1" strike="noStrike" u="sng">
                <a:solidFill>
                  <a:srgbClr val="3399ff"/>
                </a:solidFill>
                <a:uFillTx/>
                <a:latin typeface="Verdana"/>
                <a:hlinkClick r:id="rId7"/>
              </a:rPr>
              <a:t>br</a:t>
            </a:r>
            <a:r>
              <a:rPr b="0" lang="pt-BR" sz="1800" spc="-1" strike="noStrike" u="sng">
                <a:solidFill>
                  <a:srgbClr val="3399ff"/>
                </a:solidFill>
                <a:uFillTx/>
                <a:latin typeface="Verdana"/>
                <a:hlinkClick r:id="rId8"/>
              </a:rPr>
              <a:t>/Testes_</a:t>
            </a:r>
            <a:r>
              <a:rPr b="0" lang="pt-BR" sz="1800" spc="-1" strike="noStrike" u="sng">
                <a:solidFill>
                  <a:srgbClr val="3399ff"/>
                </a:solidFill>
                <a:uFillTx/>
                <a:latin typeface="Verdana"/>
                <a:hlinkClick r:id="rId9"/>
              </a:rPr>
              <a:t>QoS</a:t>
            </a:r>
            <a:r>
              <a:rPr b="0" lang="pt-BR" sz="1800" spc="-1" strike="noStrike" u="sng">
                <a:solidFill>
                  <a:srgbClr val="3399ff"/>
                </a:solidFill>
                <a:uFillTx/>
                <a:latin typeface="Verdana"/>
                <a:hlinkClick r:id="rId10"/>
              </a:rPr>
              <a:t>/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457200"/>
            <a:ext cx="6400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rviços Diferenci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1219320"/>
            <a:ext cx="65534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Verdana"/>
              </a:rPr>
              <a:t>Projeto Piloto de QoS da RNP</a:t>
            </a:r>
            <a:endParaRPr b="1" lang="en-US" sz="2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80808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blemas com IO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01"/>
              </a:spcBef>
              <a:buClr>
                <a:srgbClr val="80808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lguns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reload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, fora deste padrão, também foram registrados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01"/>
              </a:spcBef>
              <a:buClr>
                <a:srgbClr val="80808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evido ao fato dos testes estarem atrapalhando o serviço de produção, estes foram suspens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80808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blemas com sincronizaçã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01"/>
              </a:spcBef>
              <a:buClr>
                <a:srgbClr val="80808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NTP não fornece precisão suficiente para esta medid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457200"/>
            <a:ext cx="6400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rviços Diferenci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1219320"/>
            <a:ext cx="65534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Verdana"/>
              </a:rPr>
              <a:t>Projeto Piloto de QoS da RNP</a:t>
            </a:r>
            <a:endParaRPr b="1" lang="en-US" sz="2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sultad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pesar da interrupção dos testes, foi possível verificar a priorização de serviço para os tráfegos gerados ao se habilitar as políticas de Qo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Redução acentuada da perda e redução de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jitter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2120" y="457200"/>
            <a:ext cx="6400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rviços Diferenci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1219320"/>
            <a:ext cx="65534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Verdana"/>
              </a:rPr>
              <a:t>Propostas de Projetos Piloto</a:t>
            </a:r>
            <a:endParaRPr b="1" lang="en-US" sz="2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evantamento da Demanda por Q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rojetos de redes avançad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Questionár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finição de uma arquitetura de QoS para a R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Quais serviços atendem melhor a demanda por QoS (Premium, Scavenger, etc.)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imensionar o serviç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apacidade dos links a ser reservada, 5%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escobrir uma solução para SLA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iscoWorks2000 Service Management Solution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tomada dos testes no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backbon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da RNP com Serviços Diferenci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ilotos com os Serviços escolhidos (laboratório e na rede de produçã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dições específicas para avaliar o benefício e o impacto da implementação destes serviç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62120" y="457200"/>
            <a:ext cx="6400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GT-Q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1219320"/>
            <a:ext cx="65534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Verdana"/>
              </a:rPr>
              <a:t>Roteiro</a:t>
            </a:r>
            <a:endParaRPr b="1" lang="en-US" sz="2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Objetivos do GT-Q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posta de Trabal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iagnóstico e Altern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Qualidade de Serviç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rquiteturas de Serviç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erviços Diferenci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nfra-estrutura de Mediçõ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jetos Pil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Questionário sobre Qualidade de Serviç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ilotos de Serviços Diferenci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nfra-estrutura de Mediçõ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comendações e Sugest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4572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457200"/>
            <a:ext cx="6400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T-Q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1219320"/>
            <a:ext cx="65534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Verdana"/>
              </a:rPr>
              <a:t>Roteiro</a:t>
            </a:r>
            <a:endParaRPr b="1" lang="en-US" sz="2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bjetivos do GT-Q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posta de Trabal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iagnóstico e Altern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Qualidade de Serviç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rquiteturas de Serviç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erviços Diferenci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Infra-estrutura de Mediçõ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jetos Pil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Questionário sobre Qualidade de Serviç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ilotos de Serviços Diferenci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nfra-estrutura de Mediçõ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comendações e Sugest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62120" y="4572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457200"/>
            <a:ext cx="6400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T-Q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1219320"/>
            <a:ext cx="65534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Verdana"/>
              </a:rPr>
              <a:t>Motivação</a:t>
            </a:r>
            <a:endParaRPr b="1" lang="en-US" sz="2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ecessidade de monitorar o tráfego para checar se os objetivos de QoS estão sendo atendi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alta de informações específicas sobre o tráfego e sua tendên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ecessidade de visualização das características do tráfe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ecessidade de visualização dos fluxos de tráfegos entre os diversos POPs da re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62120" y="457200"/>
            <a:ext cx="6400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ra-Estrutura de Mediçõ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1219320"/>
            <a:ext cx="65534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Verdana"/>
              </a:rPr>
              <a:t>Objetivos</a:t>
            </a:r>
            <a:endParaRPr b="1" lang="en-US" sz="2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valiar os recursos oferecidos pelas ferramentas existentes no mercado, levando em consideração o tipos de medição e as métricas de desempenh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esenvolver um ambiente de coleta, acompanhamento e apresentação de resultados sobre as características da re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bter um ambiente que permita uma análise mais precisa da rede para definir a prioridade dos serviç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Responder às seguintes questõ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Qual é a composição do tráfego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O que priorizar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Quais são as origens e destinos do tráfego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62120" y="457200"/>
            <a:ext cx="6400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ra-Estrutura de Mediçõ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1219320"/>
            <a:ext cx="65534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Verdana"/>
              </a:rPr>
              <a:t>Métricas de Interesse</a:t>
            </a:r>
            <a:endParaRPr b="1" lang="en-US" sz="2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Largura de b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Atra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Verdana"/>
              </a:rPr>
              <a:t>Jitter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(variação do atras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Perda de pac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Utiliz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Caracterização do tráfe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62120" y="457200"/>
            <a:ext cx="6400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ra-Estrutura de Mediçõ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1219320"/>
            <a:ext cx="65534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Verdana"/>
              </a:rPr>
              <a:t>Tipos de Medições</a:t>
            </a:r>
            <a:endParaRPr b="1" lang="en-US" sz="2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Ativas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 – São gerados pacotes de teste e monitorado o desempenho para os mesmos através da re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Problemas: falta de sincronização dos relógios e tráfego extra na re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Ideais para medições de </a:t>
            </a: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Jitter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, atraso, perda e latênc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Passivas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 – são coletadas informações sobre todos os pacotes que trafegam na rede sem fazer nenhuma interferênc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Requer maior investimento na infra-estrutura de equipament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Ideais para medições de caracterização de tráfego, utiliz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62120" y="457200"/>
            <a:ext cx="6400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ra-Estrutura de Mediçõ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1219320"/>
            <a:ext cx="65534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Verdana"/>
              </a:rPr>
              <a:t>Projetos de Medições</a:t>
            </a:r>
            <a:endParaRPr b="1" lang="en-US" sz="2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buClr>
                <a:srgbClr val="00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Caida (Cooperative Association for Internet Data Analysi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buClr>
                <a:srgbClr val="000000"/>
              </a:buClr>
              <a:buSzPct val="6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400" spc="-1" strike="noStrike" u="sng">
                <a:solidFill>
                  <a:srgbClr val="3399ff"/>
                </a:solidFill>
                <a:uFillTx/>
                <a:latin typeface="Verdana"/>
                <a:hlinkClick r:id="rId1"/>
              </a:rPr>
              <a:t>http</a:t>
            </a:r>
            <a:r>
              <a:rPr b="0" lang="pt-BR" sz="1400" spc="-1" strike="noStrike" u="sng">
                <a:solidFill>
                  <a:srgbClr val="3399ff"/>
                </a:solidFill>
                <a:uFillTx/>
                <a:latin typeface="Verdana"/>
                <a:hlinkClick r:id="rId2"/>
              </a:rPr>
              <a:t>://www.</a:t>
            </a:r>
            <a:r>
              <a:rPr b="0" lang="pt-BR" sz="1400" spc="-1" strike="noStrike" u="sng">
                <a:solidFill>
                  <a:srgbClr val="3399ff"/>
                </a:solidFill>
                <a:uFillTx/>
                <a:latin typeface="Verdana"/>
                <a:hlinkClick r:id="rId3"/>
              </a:rPr>
              <a:t>caida</a:t>
            </a:r>
            <a:r>
              <a:rPr b="0" lang="pt-BR" sz="1400" spc="-1" strike="noStrike" u="sng">
                <a:solidFill>
                  <a:srgbClr val="3399ff"/>
                </a:solidFill>
                <a:uFillTx/>
                <a:latin typeface="Verdana"/>
                <a:hlinkClick r:id="rId4"/>
              </a:rPr>
              <a:t>.</a:t>
            </a:r>
            <a:r>
              <a:rPr b="0" lang="pt-BR" sz="1400" spc="-1" strike="noStrike" u="sng">
                <a:solidFill>
                  <a:srgbClr val="3399ff"/>
                </a:solidFill>
                <a:uFillTx/>
                <a:latin typeface="Verdana"/>
                <a:hlinkClick r:id="rId5"/>
              </a:rPr>
              <a:t>org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buClr>
                <a:srgbClr val="00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Surveyor </a:t>
            </a:r>
            <a:r>
              <a:rPr b="0" lang="pt-BR" sz="1600" spc="-1" strike="noStrike" u="sng">
                <a:solidFill>
                  <a:srgbClr val="3399ff"/>
                </a:solidFill>
                <a:uFillTx/>
                <a:latin typeface="Verdana"/>
                <a:hlinkClick r:id="rId6"/>
              </a:rPr>
              <a:t>http</a:t>
            </a:r>
            <a:r>
              <a:rPr b="0" lang="pt-BR" sz="1600" spc="-1" strike="noStrike" u="sng">
                <a:solidFill>
                  <a:srgbClr val="3399ff"/>
                </a:solidFill>
                <a:uFillTx/>
                <a:latin typeface="Verdana"/>
                <a:hlinkClick r:id="rId7"/>
              </a:rPr>
              <a:t>://www.</a:t>
            </a:r>
            <a:r>
              <a:rPr b="0" lang="pt-BR" sz="1600" spc="-1" strike="noStrike" u="sng">
                <a:solidFill>
                  <a:srgbClr val="3399ff"/>
                </a:solidFill>
                <a:uFillTx/>
                <a:latin typeface="Verdana"/>
                <a:hlinkClick r:id="rId8"/>
              </a:rPr>
              <a:t>advanced</a:t>
            </a:r>
            <a:r>
              <a:rPr b="0" lang="pt-BR" sz="1600" spc="-1" strike="noStrike" u="sng">
                <a:solidFill>
                  <a:srgbClr val="3399ff"/>
                </a:solidFill>
                <a:uFillTx/>
                <a:latin typeface="Verdana"/>
                <a:hlinkClick r:id="rId9"/>
              </a:rPr>
              <a:t>.</a:t>
            </a:r>
            <a:r>
              <a:rPr b="0" lang="pt-BR" sz="1600" spc="-1" strike="noStrike" u="sng">
                <a:solidFill>
                  <a:srgbClr val="3399ff"/>
                </a:solidFill>
                <a:uFillTx/>
                <a:latin typeface="Verdana"/>
                <a:hlinkClick r:id="rId10"/>
              </a:rPr>
              <a:t>org</a:t>
            </a:r>
            <a:r>
              <a:rPr b="0" lang="pt-BR" sz="1600" spc="-1" strike="noStrike" u="sng">
                <a:solidFill>
                  <a:srgbClr val="3399ff"/>
                </a:solidFill>
                <a:uFillTx/>
                <a:latin typeface="Verdana"/>
                <a:hlinkClick r:id="rId11"/>
              </a:rPr>
              <a:t>/</a:t>
            </a:r>
            <a:r>
              <a:rPr b="0" lang="pt-BR" sz="1600" spc="-1" strike="noStrike" u="sng">
                <a:solidFill>
                  <a:srgbClr val="3399ff"/>
                </a:solidFill>
                <a:uFillTx/>
                <a:latin typeface="Verdana"/>
                <a:hlinkClick r:id="rId12"/>
              </a:rPr>
              <a:t>surveyor</a:t>
            </a:r>
            <a:r>
              <a:rPr b="0" lang="pt-BR" sz="1600" spc="-1" strike="noStrike" u="sng">
                <a:solidFill>
                  <a:srgbClr val="3399ff"/>
                </a:solidFill>
                <a:uFillTx/>
                <a:latin typeface="Verdana"/>
                <a:hlinkClick r:id="rId13"/>
              </a:rPr>
              <a:t>/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buClr>
                <a:srgbClr val="00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IEPM (Internet end-to-end performance monitor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buClr>
                <a:srgbClr val="3399ff"/>
              </a:buClr>
              <a:buSzPct val="6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 u="sng">
                <a:solidFill>
                  <a:srgbClr val="3399ff"/>
                </a:solidFill>
                <a:uFillTx/>
                <a:latin typeface="Verdana"/>
                <a:hlinkClick r:id="rId14"/>
              </a:rPr>
              <a:t>http</a:t>
            </a:r>
            <a:r>
              <a:rPr b="0" lang="pt-BR" sz="1400" spc="-1" strike="noStrike" u="sng">
                <a:solidFill>
                  <a:srgbClr val="3399ff"/>
                </a:solidFill>
                <a:uFillTx/>
                <a:latin typeface="Verdana"/>
                <a:hlinkClick r:id="rId15"/>
              </a:rPr>
              <a:t>://www-</a:t>
            </a:r>
            <a:r>
              <a:rPr b="0" lang="pt-BR" sz="1400" spc="-1" strike="noStrike" u="sng">
                <a:solidFill>
                  <a:srgbClr val="3399ff"/>
                </a:solidFill>
                <a:uFillTx/>
                <a:latin typeface="Verdana"/>
                <a:hlinkClick r:id="rId16"/>
              </a:rPr>
              <a:t>iepm</a:t>
            </a:r>
            <a:r>
              <a:rPr b="0" lang="pt-BR" sz="1400" spc="-1" strike="noStrike" u="sng">
                <a:solidFill>
                  <a:srgbClr val="3399ff"/>
                </a:solidFill>
                <a:uFillTx/>
                <a:latin typeface="Verdana"/>
                <a:hlinkClick r:id="rId17"/>
              </a:rPr>
              <a:t>.</a:t>
            </a:r>
            <a:r>
              <a:rPr b="0" lang="pt-BR" sz="1400" spc="-1" strike="noStrike" u="sng">
                <a:solidFill>
                  <a:srgbClr val="3399ff"/>
                </a:solidFill>
                <a:uFillTx/>
                <a:latin typeface="Verdana"/>
                <a:hlinkClick r:id="rId18"/>
              </a:rPr>
              <a:t>slac</a:t>
            </a:r>
            <a:r>
              <a:rPr b="0" lang="pt-BR" sz="1400" spc="-1" strike="noStrike" u="sng">
                <a:solidFill>
                  <a:srgbClr val="3399ff"/>
                </a:solidFill>
                <a:uFillTx/>
                <a:latin typeface="Verdana"/>
                <a:hlinkClick r:id="rId19"/>
              </a:rPr>
              <a:t>.</a:t>
            </a:r>
            <a:r>
              <a:rPr b="0" lang="pt-BR" sz="1400" spc="-1" strike="noStrike" u="sng">
                <a:solidFill>
                  <a:srgbClr val="3399ff"/>
                </a:solidFill>
                <a:uFillTx/>
                <a:latin typeface="Verdana"/>
                <a:hlinkClick r:id="rId20"/>
              </a:rPr>
              <a:t>stanford</a:t>
            </a:r>
            <a:r>
              <a:rPr b="0" lang="pt-BR" sz="1400" spc="-1" strike="noStrike" u="sng">
                <a:solidFill>
                  <a:srgbClr val="3399ff"/>
                </a:solidFill>
                <a:uFillTx/>
                <a:latin typeface="Verdana"/>
                <a:hlinkClick r:id="rId21"/>
              </a:rPr>
              <a:t>.</a:t>
            </a:r>
            <a:r>
              <a:rPr b="0" lang="pt-BR" sz="1400" spc="-1" strike="noStrike" u="sng">
                <a:solidFill>
                  <a:srgbClr val="3399ff"/>
                </a:solidFill>
                <a:uFillTx/>
                <a:latin typeface="Verdana"/>
                <a:hlinkClick r:id="rId22"/>
              </a:rPr>
              <a:t>edu</a:t>
            </a:r>
            <a:r>
              <a:rPr b="0" lang="pt-BR" sz="1400" spc="-1" strike="noStrike" u="sng">
                <a:solidFill>
                  <a:srgbClr val="3399ff"/>
                </a:solidFill>
                <a:uFillTx/>
                <a:latin typeface="Verdana"/>
                <a:hlinkClick r:id="rId23"/>
              </a:rPr>
              <a:t>/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buClr>
                <a:srgbClr val="00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RIPE (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  <a:ea typeface="Arial"/>
              </a:rPr>
              <a:t>Réseaux IP Europée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buClr>
                <a:srgbClr val="3399ff"/>
              </a:buClr>
              <a:buSzPct val="6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 u="sng">
                <a:solidFill>
                  <a:srgbClr val="3399ff"/>
                </a:solidFill>
                <a:uFillTx/>
                <a:latin typeface="Verdana"/>
                <a:hlinkClick r:id="rId24"/>
              </a:rPr>
              <a:t>http</a:t>
            </a:r>
            <a:r>
              <a:rPr b="0" lang="pt-BR" sz="1400" spc="-1" strike="noStrike" u="sng">
                <a:solidFill>
                  <a:srgbClr val="3399ff"/>
                </a:solidFill>
                <a:uFillTx/>
                <a:latin typeface="Verdana"/>
                <a:hlinkClick r:id="rId25"/>
              </a:rPr>
              <a:t>://www.ripe.net/</a:t>
            </a:r>
            <a:r>
              <a:rPr b="0" lang="pt-BR" sz="1400" spc="-1" strike="noStrike" u="sng">
                <a:solidFill>
                  <a:srgbClr val="3399ff"/>
                </a:solidFill>
                <a:uFillTx/>
                <a:latin typeface="Verdana"/>
                <a:hlinkClick r:id="rId26"/>
              </a:rPr>
              <a:t>test</a:t>
            </a:r>
            <a:r>
              <a:rPr b="0" lang="pt-BR" sz="1400" spc="-1" strike="noStrike" u="sng">
                <a:solidFill>
                  <a:srgbClr val="3399ff"/>
                </a:solidFill>
                <a:uFillTx/>
                <a:latin typeface="Verdana"/>
                <a:hlinkClick r:id="rId27"/>
              </a:rPr>
              <a:t>-</a:t>
            </a:r>
            <a:r>
              <a:rPr b="0" lang="pt-BR" sz="1400" spc="-1" strike="noStrike" u="sng">
                <a:solidFill>
                  <a:srgbClr val="3399ff"/>
                </a:solidFill>
                <a:uFillTx/>
                <a:latin typeface="Verdana"/>
                <a:hlinkClick r:id="rId28"/>
              </a:rPr>
              <a:t>traffic</a:t>
            </a:r>
            <a:r>
              <a:rPr b="0" lang="pt-BR" sz="1400" spc="-1" strike="noStrike" u="sng">
                <a:solidFill>
                  <a:srgbClr val="3399ff"/>
                </a:solidFill>
                <a:uFillTx/>
                <a:latin typeface="Verdana"/>
                <a:hlinkClick r:id="rId29"/>
              </a:rPr>
              <a:t>/</a:t>
            </a:r>
            <a:r>
              <a:rPr b="0" lang="pt-BR" sz="1400" spc="-1" strike="noStrike" u="sng">
                <a:solidFill>
                  <a:srgbClr val="3399ff"/>
                </a:solidFill>
                <a:uFillTx/>
                <a:latin typeface="Verdana"/>
                <a:hlinkClick r:id="rId30"/>
              </a:rPr>
              <a:t>index</a:t>
            </a:r>
            <a:r>
              <a:rPr b="0" lang="pt-BR" sz="1400" spc="-1" strike="noStrike" u="sng">
                <a:solidFill>
                  <a:srgbClr val="3399ff"/>
                </a:solidFill>
                <a:uFillTx/>
                <a:latin typeface="Verdana"/>
                <a:hlinkClick r:id="rId31"/>
              </a:rPr>
              <a:t>.</a:t>
            </a:r>
            <a:r>
              <a:rPr b="0" lang="pt-BR" sz="1400" spc="-1" strike="noStrike" u="sng">
                <a:solidFill>
                  <a:srgbClr val="3399ff"/>
                </a:solidFill>
                <a:uFillTx/>
                <a:latin typeface="Verdana"/>
                <a:hlinkClick r:id="rId32"/>
              </a:rPr>
              <a:t>html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buClr>
                <a:srgbClr val="00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NLANR (MOA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buClr>
                <a:srgbClr val="3399ff"/>
              </a:buClr>
              <a:buSzPct val="6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 u="sng">
                <a:solidFill>
                  <a:srgbClr val="3399ff"/>
                </a:solidFill>
                <a:uFillTx/>
                <a:latin typeface="Verdana"/>
                <a:hlinkClick r:id="rId33"/>
              </a:rPr>
              <a:t>http</a:t>
            </a:r>
            <a:r>
              <a:rPr b="0" lang="pt-BR" sz="1400" spc="-1" strike="noStrike" u="sng">
                <a:solidFill>
                  <a:srgbClr val="3399ff"/>
                </a:solidFill>
                <a:uFillTx/>
                <a:latin typeface="Verdana"/>
                <a:hlinkClick r:id="rId34"/>
              </a:rPr>
              <a:t>://</a:t>
            </a:r>
            <a:r>
              <a:rPr b="0" lang="pt-BR" sz="1400" spc="-1" strike="noStrike" u="sng">
                <a:solidFill>
                  <a:srgbClr val="3399ff"/>
                </a:solidFill>
                <a:uFillTx/>
                <a:latin typeface="Verdana"/>
                <a:hlinkClick r:id="rId35"/>
              </a:rPr>
              <a:t>moat</a:t>
            </a:r>
            <a:r>
              <a:rPr b="0" lang="pt-BR" sz="1400" spc="-1" strike="noStrike" u="sng">
                <a:solidFill>
                  <a:srgbClr val="3399ff"/>
                </a:solidFill>
                <a:uFillTx/>
                <a:latin typeface="Verdana"/>
                <a:hlinkClick r:id="rId36"/>
              </a:rPr>
              <a:t>.</a:t>
            </a:r>
            <a:r>
              <a:rPr b="0" lang="pt-BR" sz="1400" spc="-1" strike="noStrike" u="sng">
                <a:solidFill>
                  <a:srgbClr val="3399ff"/>
                </a:solidFill>
                <a:uFillTx/>
                <a:latin typeface="Verdana"/>
                <a:hlinkClick r:id="rId37"/>
              </a:rPr>
              <a:t>nlanr</a:t>
            </a:r>
            <a:r>
              <a:rPr b="0" lang="pt-BR" sz="1400" spc="-1" strike="noStrike" u="sng">
                <a:solidFill>
                  <a:srgbClr val="3399ff"/>
                </a:solidFill>
                <a:uFillTx/>
                <a:latin typeface="Verdana"/>
                <a:hlinkClick r:id="rId38"/>
              </a:rPr>
              <a:t>.net/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buClr>
                <a:srgbClr val="00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E2Epi (End-to-End Performance Initiative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buClr>
                <a:srgbClr val="3399ff"/>
              </a:buClr>
              <a:buSzPct val="6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 u="sng">
                <a:solidFill>
                  <a:srgbClr val="3399ff"/>
                </a:solidFill>
                <a:uFillTx/>
                <a:latin typeface="Verdana"/>
                <a:hlinkClick r:id="rId39"/>
              </a:rPr>
              <a:t>http</a:t>
            </a:r>
            <a:r>
              <a:rPr b="0" lang="pt-BR" sz="1400" spc="-1" strike="noStrike" u="sng">
                <a:solidFill>
                  <a:srgbClr val="3399ff"/>
                </a:solidFill>
                <a:uFillTx/>
                <a:latin typeface="Verdana"/>
                <a:hlinkClick r:id="rId40"/>
              </a:rPr>
              <a:t>://e2epi.internet2.</a:t>
            </a:r>
            <a:r>
              <a:rPr b="0" lang="pt-BR" sz="1400" spc="-1" strike="noStrike" u="sng">
                <a:solidFill>
                  <a:srgbClr val="3399ff"/>
                </a:solidFill>
                <a:uFillTx/>
                <a:latin typeface="Verdana"/>
                <a:hlinkClick r:id="rId41"/>
              </a:rPr>
              <a:t>edu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62120" y="457200"/>
            <a:ext cx="6400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ra-Estrutura de Mediçõ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1219320"/>
            <a:ext cx="65534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Verdana"/>
              </a:rPr>
              <a:t>Projetos Relacionados</a:t>
            </a:r>
            <a:endParaRPr b="1" lang="en-US" sz="2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IQoM (Redes Avançad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LAND/UFR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GT-VO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Experiência da RN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62120" y="457200"/>
            <a:ext cx="6400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ra-Estrutura de Mediçõ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1219320"/>
            <a:ext cx="65534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Verdana"/>
              </a:rPr>
              <a:t>Propostas de Projetos Piloto</a:t>
            </a:r>
            <a:endParaRPr b="1" lang="en-US" sz="2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Num primeiro momento, os esforços serão direcionados para a caracterização do tráfe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Determin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Quanto do tráfego está sendo destinado para cada serviç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A origem e destino de um tráfeg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Maior diagnóstico da re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Utilização do Netflow/NetraMet/Flow-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62120" y="457200"/>
            <a:ext cx="6400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ra-estrutura de Mediçõ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1219320"/>
            <a:ext cx="65534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Verdana"/>
              </a:rPr>
              <a:t>Roteiro</a:t>
            </a:r>
            <a:endParaRPr b="1" lang="en-US" sz="2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bjetivos do GT-Q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posta de Trabal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iagnóstico e Altern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Qualidade de Serviç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rquiteturas de Serviç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erviços Diferenci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nfra-estrutura de Mediçõ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Projetos Pil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Questionário sobre Qualidade de Serviç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Pilotos de Serviços Diferenci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Infra-estrutura de Mediçõ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comendações e Sugest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62120" y="4572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" y="457200"/>
            <a:ext cx="6400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T-Q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1219320"/>
            <a:ext cx="65534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Verdana"/>
              </a:rPr>
              <a:t>Questionário sobre Qualidade de Serviço</a:t>
            </a:r>
            <a:endParaRPr b="1" lang="en-US" sz="2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Objetiv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identificar a demanda real para QoS IP na RN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levantar os requisitos de qualidade de serviço para estas aplicaçõ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rodut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onstrução de uma "radiografia" do tráfego da re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base para o diagnóstico e escolha da solução mais apropriada de Q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úblico alv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Desenvolvedores e usuários em potencial de aplicações avançad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ivulgaçã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Veículos de divulgação da RN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GTs e grandes usuá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ontatos dos Pontos de Presenç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 u="sng">
                <a:solidFill>
                  <a:srgbClr val="3399ff"/>
                </a:solidFill>
                <a:uFillTx/>
                <a:latin typeface="Arial"/>
                <a:hlinkClick r:id="rId1"/>
              </a:rPr>
              <a:t>http</a:t>
            </a:r>
            <a:r>
              <a:rPr b="0" lang="pt-BR" sz="1600" spc="-1" strike="noStrike" u="sng">
                <a:solidFill>
                  <a:srgbClr val="3399ff"/>
                </a:solidFill>
                <a:uFillTx/>
                <a:latin typeface="Arial"/>
                <a:hlinkClick r:id="rId2"/>
              </a:rPr>
              <a:t>://barra.</a:t>
            </a:r>
            <a:r>
              <a:rPr b="0" lang="pt-BR" sz="1600" spc="-1" strike="noStrike" u="sng">
                <a:solidFill>
                  <a:srgbClr val="3399ff"/>
                </a:solidFill>
                <a:uFillTx/>
                <a:latin typeface="Arial"/>
                <a:hlinkClick r:id="rId3"/>
              </a:rPr>
              <a:t>nc</a:t>
            </a:r>
            <a:r>
              <a:rPr b="0" lang="pt-BR" sz="1600" spc="-1" strike="noStrike" u="sng">
                <a:solidFill>
                  <a:srgbClr val="3399ff"/>
                </a:solidFill>
                <a:uFillTx/>
                <a:latin typeface="Arial"/>
                <a:hlinkClick r:id="rId4"/>
              </a:rPr>
              <a:t>-rj.</a:t>
            </a:r>
            <a:r>
              <a:rPr b="0" lang="pt-BR" sz="1600" spc="-1" strike="noStrike" u="sng">
                <a:solidFill>
                  <a:srgbClr val="3399ff"/>
                </a:solidFill>
                <a:uFillTx/>
                <a:latin typeface="Arial"/>
                <a:hlinkClick r:id="rId5"/>
              </a:rPr>
              <a:t>rnp</a:t>
            </a:r>
            <a:r>
              <a:rPr b="0" lang="pt-BR" sz="1600" spc="-1" strike="noStrike" u="sng">
                <a:solidFill>
                  <a:srgbClr val="3399ff"/>
                </a:solidFill>
                <a:uFillTx/>
                <a:latin typeface="Arial"/>
                <a:hlinkClick r:id="rId6"/>
              </a:rPr>
              <a:t>.</a:t>
            </a:r>
            <a:r>
              <a:rPr b="0" lang="pt-BR" sz="1600" spc="-1" strike="noStrike" u="sng">
                <a:solidFill>
                  <a:srgbClr val="3399ff"/>
                </a:solidFill>
                <a:uFillTx/>
                <a:latin typeface="Arial"/>
                <a:hlinkClick r:id="rId7"/>
              </a:rPr>
              <a:t>br</a:t>
            </a:r>
            <a:r>
              <a:rPr b="0" lang="pt-BR" sz="1600" spc="-1" strike="noStrike" u="sng">
                <a:solidFill>
                  <a:srgbClr val="3399ff"/>
                </a:solidFill>
                <a:uFillTx/>
                <a:latin typeface="Arial"/>
                <a:hlinkClick r:id="rId8"/>
              </a:rPr>
              <a:t>/</a:t>
            </a:r>
            <a:r>
              <a:rPr b="0" lang="pt-BR" sz="1600" spc="-1" strike="noStrike" u="sng">
                <a:solidFill>
                  <a:srgbClr val="3399ff"/>
                </a:solidFill>
                <a:uFillTx/>
                <a:latin typeface="Arial"/>
                <a:hlinkClick r:id="rId9"/>
              </a:rPr>
              <a:t>extranet</a:t>
            </a:r>
            <a:r>
              <a:rPr b="0" lang="pt-BR" sz="1600" spc="-1" strike="noStrike" u="sng">
                <a:solidFill>
                  <a:srgbClr val="3399ff"/>
                </a:solidFill>
                <a:uFillTx/>
                <a:latin typeface="Arial"/>
                <a:hlinkClick r:id="rId10"/>
              </a:rPr>
              <a:t>/</a:t>
            </a:r>
            <a:r>
              <a:rPr b="0" lang="pt-BR" sz="1600" spc="-1" strike="noStrike" u="sng">
                <a:solidFill>
                  <a:srgbClr val="3399ff"/>
                </a:solidFill>
                <a:uFillTx/>
                <a:latin typeface="Arial"/>
                <a:hlinkClick r:id="rId11"/>
              </a:rPr>
              <a:t>gt</a:t>
            </a:r>
            <a:r>
              <a:rPr b="0" lang="pt-BR" sz="1600" spc="-1" strike="noStrike" u="sng">
                <a:solidFill>
                  <a:srgbClr val="3399ff"/>
                </a:solidFill>
                <a:uFillTx/>
                <a:latin typeface="Arial"/>
                <a:hlinkClick r:id="rId12"/>
              </a:rPr>
              <a:t>/</a:t>
            </a:r>
            <a:r>
              <a:rPr b="0" lang="pt-BR" sz="1600" spc="-1" strike="noStrike" u="sng">
                <a:solidFill>
                  <a:srgbClr val="3399ff"/>
                </a:solidFill>
                <a:uFillTx/>
                <a:latin typeface="Arial"/>
                <a:hlinkClick r:id="rId13"/>
              </a:rPr>
              <a:t>survey</a:t>
            </a:r>
            <a:r>
              <a:rPr b="0" lang="pt-BR" sz="1600" spc="-1" strike="noStrike" u="sng">
                <a:solidFill>
                  <a:srgbClr val="3399ff"/>
                </a:solidFill>
                <a:uFillTx/>
                <a:latin typeface="Arial"/>
                <a:hlinkClick r:id="rId14"/>
              </a:rPr>
              <a:t>/</a:t>
            </a:r>
            <a:r>
              <a:rPr b="0" lang="pt-BR" sz="1600" spc="-1" strike="noStrike" u="sng">
                <a:solidFill>
                  <a:srgbClr val="3399ff"/>
                </a:solidFill>
                <a:uFillTx/>
                <a:latin typeface="Arial"/>
                <a:hlinkClick r:id="rId15"/>
              </a:rPr>
              <a:t>index</a:t>
            </a:r>
            <a:r>
              <a:rPr b="0" lang="pt-BR" sz="1600" spc="-1" strike="noStrike" u="sng">
                <a:solidFill>
                  <a:srgbClr val="3399ff"/>
                </a:solidFill>
                <a:uFillTx/>
                <a:latin typeface="Arial"/>
                <a:hlinkClick r:id="rId16"/>
              </a:rPr>
              <a:t>.</a:t>
            </a:r>
            <a:r>
              <a:rPr b="0" lang="pt-BR" sz="1600" spc="-1" strike="noStrike" u="sng">
                <a:solidFill>
                  <a:srgbClr val="3399ff"/>
                </a:solidFill>
                <a:uFillTx/>
                <a:latin typeface="Arial"/>
                <a:hlinkClick r:id="rId17"/>
              </a:rPr>
              <a:t>cfm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85800" y="457200"/>
            <a:ext cx="6400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jetos Pilo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1219320"/>
            <a:ext cx="65534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Verdana"/>
              </a:rPr>
              <a:t>Objetivos</a:t>
            </a:r>
            <a:endParaRPr b="1" lang="en-US" sz="2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Definição/detalhamento de uma </a:t>
            </a:r>
            <a:r>
              <a:rPr b="1" lang="pt-BR" sz="1600" spc="-1" strike="noStrike">
                <a:solidFill>
                  <a:srgbClr val="3333cc"/>
                </a:solidFill>
                <a:latin typeface="Verdana"/>
              </a:rPr>
              <a:t>Arquitetura de Serviços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 com Diferenciação de QoS para a RNP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Implementação de uma </a:t>
            </a:r>
            <a:r>
              <a:rPr b="1" lang="pt-BR" sz="1600" spc="-1" strike="noStrike">
                <a:solidFill>
                  <a:srgbClr val="3333cc"/>
                </a:solidFill>
                <a:latin typeface="Verdana"/>
              </a:rPr>
              <a:t>Infra-estrutura de Medições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 com a finalidade de monitorar a QoS que está sendo oferecida para as diversas classes de serviç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457200"/>
            <a:ext cx="6400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T-Q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1219320"/>
            <a:ext cx="65534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Verdana"/>
              </a:rPr>
              <a:t>Roteiro</a:t>
            </a:r>
            <a:endParaRPr b="1" lang="en-US" sz="2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bjetivos do GT-Q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posta de Trabal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iagnóstico e Altern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Qualidade de Serviç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rquiteturas de Serviç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erviços Diferenci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nfra-estrutura de Mediçõ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jetos Pil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Questionário sobre Qualidade de Serviç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Pilotos de Serviços Diferenci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nfra-estrutura de Mediçõ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comendações e Sugest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62120" y="4572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457200"/>
            <a:ext cx="6400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T-Q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1219320"/>
            <a:ext cx="65534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Verdana"/>
              </a:rPr>
              <a:t>Definições</a:t>
            </a:r>
            <a:endParaRPr b="1" lang="en-US" sz="2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oteador de borda na entrada do tráfeg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lassificação por ACL (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Access Control List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) e DSC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arca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oliciam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scalonamento com CBWFQ/LL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oteador de núcle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lassificação por DSCP nas Interfaces que recebem tráfego já classificados no nó anteri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lassificação por ACL nas interfaces de entrada de tráfe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scalonamento CBWFQ/LL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85800" y="457200"/>
            <a:ext cx="6400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ilotos de Serviços Diferenci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1219320"/>
            <a:ext cx="65534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Verdana"/>
              </a:rPr>
              <a:t>Classes</a:t>
            </a:r>
            <a:endParaRPr b="1" lang="en-US" sz="2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lasse Prem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SCP 46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ráfego entre os geradores/receptore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Filtro: ACL com os IPs dos geradores/receptores (POP-DF, POP-BA ou UNIFAC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lasse Scave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SCP 8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ráfego entre o servidor HTTP e FTP  (NA-CP) e clientes (UNIFACS ou POP-BA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lasse best-eff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SCP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ráfego: tudo o que não for Premium ou Scaveng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5800" y="457200"/>
            <a:ext cx="6400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ilotos de Serviços Diferenci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1219320"/>
            <a:ext cx="65534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Verdana"/>
              </a:rPr>
              <a:t>Etapas</a:t>
            </a:r>
            <a:endParaRPr b="1" lang="en-US" sz="2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imeira Etap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Gerador de tráfego para verificação do funcionamento do serviço , configurações, limitações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gunda etap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m aplicação de vídeo (em colaboração com o GT-Víde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85800" y="457200"/>
            <a:ext cx="6400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ilotos de Serviços Diferenci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1219320"/>
            <a:ext cx="65534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Verdana"/>
              </a:rPr>
              <a:t>Cenário da 1a. Etapa:</a:t>
            </a:r>
            <a:endParaRPr b="1" lang="en-US" sz="2000" spc="-1" strike="noStrike">
              <a:solidFill>
                <a:srgbClr val="3333cc"/>
              </a:solidFill>
              <a:latin typeface="Verdana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532440" y="2057400"/>
            <a:ext cx="6793560" cy="3578400"/>
            <a:chOff x="532440" y="2057400"/>
            <a:chExt cx="6793560" cy="3578400"/>
          </a:xfrm>
        </p:grpSpPr>
        <p:sp>
          <p:nvSpPr>
            <p:cNvPr id="230" name=""/>
            <p:cNvSpPr/>
            <p:nvPr/>
          </p:nvSpPr>
          <p:spPr>
            <a:xfrm>
              <a:off x="2416320" y="3911760"/>
              <a:ext cx="82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86120" y="3911760"/>
              <a:ext cx="65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390680" y="2867040"/>
              <a:ext cx="787320" cy="9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4695840" y="3022560"/>
              <a:ext cx="473040" cy="77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390680" y="2249640"/>
              <a:ext cx="0" cy="61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326200" y="2093760"/>
              <a:ext cx="0" cy="77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865520" y="4079880"/>
              <a:ext cx="41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540680" y="407988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280680" y="4079880"/>
              <a:ext cx="38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805200" y="2676600"/>
              <a:ext cx="114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UNIFAC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648440" y="2746440"/>
              <a:ext cx="73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NA-C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52360" y="4206960"/>
              <a:ext cx="273240" cy="206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32440" y="4572000"/>
              <a:ext cx="1531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Gerador/recep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e tráfeg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853240" y="2454120"/>
              <a:ext cx="276120" cy="2066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794920" y="2682720"/>
              <a:ext cx="1531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Gerador/recep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e tráfeg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1390680" y="3951000"/>
              <a:ext cx="630360" cy="2905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5326200" y="2602080"/>
              <a:ext cx="527040" cy="264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06600" y="3849840"/>
              <a:ext cx="862200" cy="0"/>
            </a:xfrm>
            <a:prstGeom prst="line">
              <a:avLst/>
            </a:prstGeom>
            <a:ln w="3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816360" y="3849840"/>
              <a:ext cx="62712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4853160" y="3022560"/>
              <a:ext cx="473040" cy="7732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326200" y="5288040"/>
              <a:ext cx="54900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958360" y="503388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Times New Roman"/>
                </a:rPr>
                <a:t>Premiu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326200" y="5526000"/>
              <a:ext cx="54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238560" y="3726000"/>
              <a:ext cx="547560" cy="309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046840" y="2654280"/>
              <a:ext cx="493560" cy="465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43480" y="3726000"/>
              <a:ext cx="549360" cy="309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865160" y="3726000"/>
              <a:ext cx="551160" cy="309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152360" y="2654280"/>
              <a:ext cx="493920" cy="465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208160" y="2057400"/>
              <a:ext cx="274680" cy="206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156280" y="2057400"/>
              <a:ext cx="276120" cy="206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904360" y="5359320"/>
              <a:ext cx="81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caven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685800" y="457200"/>
            <a:ext cx="6400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ilotos de Serviços Diferenci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1219320"/>
            <a:ext cx="65534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Verdana"/>
              </a:rPr>
              <a:t>Configuração</a:t>
            </a:r>
            <a:endParaRPr b="1" lang="en-US" sz="2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locação de band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500Kbps para o serviço Premi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5% do link no backbone e 20% do link de Campin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incronização com N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rviço Premiu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Gerador de tráfego rude/crud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Tráfego CBR gerado 385kbps (EF e B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Tamanho dos pacotes 512 by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rviço Scaveng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FTP modificado para fazer marcação dos paco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85800" y="457200"/>
            <a:ext cx="6400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ilotos de Serviços Diferenci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1219320"/>
            <a:ext cx="65534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Verdana"/>
              </a:rPr>
              <a:t>Configuração CISCO</a:t>
            </a:r>
            <a:endParaRPr b="1" lang="en-US" sz="2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lassificaçã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access-list 175 permit ip host 200.19.119.111 host 200.128.80.16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access-list 185 deny   ip any any dscp cs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access-list 185 permit ip any 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class-map match-all E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match access-group 17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class-map match-all best-eff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match access-group 18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class-map match-all Prem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match ip dscp 4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class-map match-all Scaven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match ip dscp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" y="457200"/>
            <a:ext cx="6400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ilotos de Serviços Diferenci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1219320"/>
            <a:ext cx="65534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Verdana"/>
              </a:rPr>
              <a:t>Configuração CISCO</a:t>
            </a:r>
            <a:endParaRPr b="1" lang="en-US" sz="2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olític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policy-map SET46-SET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class E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police cir 500000 bc 3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conform-action set-dscp-transmit 4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exceed-action dr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class best-eff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et ip dscp 0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policy-map Scavenger-Prem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class Scaven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bandwidth percent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random-det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class Prem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priority 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457200"/>
            <a:ext cx="6400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ilotos de Serviços Diferenci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1219320"/>
            <a:ext cx="65534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Verdana"/>
              </a:rPr>
              <a:t>Configuração CISCO</a:t>
            </a:r>
            <a:endParaRPr b="1" lang="en-US" sz="2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plicação na interfa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ervice-policy input SET46-SET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ervice-policy out Scavenger-Premium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" y="457200"/>
            <a:ext cx="6400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ilotos de Serviços Diferenci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1219320"/>
            <a:ext cx="65534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Verdana"/>
              </a:rPr>
              <a:t>Dificuldades encontradas</a:t>
            </a:r>
            <a:endParaRPr b="1" lang="en-US" sz="2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locação de banda para os tes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figuração de políticas de QoS aplicável somente na placa VIP do roteador, demais interfaces sem configuraç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scartes de pacotes no policiamento quando o tráfego estava sendo gerado a 500kb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i detectado 2% de perdas entre o POP-BA e UNIFA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ão foi possível coletar as informações sobre os testes nos roteadores com o Net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serviço scavenger não teve avaliação compl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85800" y="457200"/>
            <a:ext cx="6400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ilotos de Serviços Diferenci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1219320"/>
            <a:ext cx="65534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Verdana"/>
              </a:rPr>
              <a:t>Roteiro</a:t>
            </a:r>
            <a:endParaRPr b="1" lang="en-US" sz="2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bjetivos do GT-Q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Proposta de Trabal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iagnóstico e Altern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Qualidade de Serviç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rquitetura de Serviç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erviços Diferenci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nfra-estrutura de Mediçõ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jetos Pil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Questionário sobre Qualidade de Serviç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ilotos de Serviços Diferenci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nfra-estrutura de Mediçõ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comendações e Sugest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62120" y="4572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457200"/>
            <a:ext cx="6400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T-Q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1219320"/>
            <a:ext cx="65534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Verdana"/>
              </a:rPr>
              <a:t>Resultados</a:t>
            </a:r>
            <a:endParaRPr b="1" lang="en-US" sz="2000" spc="-1" strike="noStrike">
              <a:solidFill>
                <a:srgbClr val="3333cc"/>
              </a:solidFill>
              <a:latin typeface="Verdana"/>
            </a:endParaRPr>
          </a:p>
        </p:txBody>
      </p:sp>
      <p:pic>
        <p:nvPicPr>
          <p:cNvPr id="278" name="atraso" descr=""/>
          <p:cNvPicPr/>
          <p:nvPr/>
        </p:nvPicPr>
        <p:blipFill>
          <a:blip r:embed="rId1"/>
          <a:stretch/>
        </p:blipFill>
        <p:spPr>
          <a:xfrm>
            <a:off x="1600200" y="1981080"/>
            <a:ext cx="6019920" cy="369576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685800" y="457200"/>
            <a:ext cx="6400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ilotos de Serviços Diferenci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1219320"/>
            <a:ext cx="65534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Verdana"/>
              </a:rPr>
              <a:t>Resultados</a:t>
            </a:r>
            <a:endParaRPr b="1" lang="en-US" sz="2000" spc="-1" strike="noStrike">
              <a:solidFill>
                <a:srgbClr val="3333cc"/>
              </a:solidFill>
              <a:latin typeface="Verdana"/>
            </a:endParaRPr>
          </a:p>
        </p:txBody>
      </p:sp>
      <p:pic>
        <p:nvPicPr>
          <p:cNvPr id="281" name="perda" descr=""/>
          <p:cNvPicPr/>
          <p:nvPr/>
        </p:nvPicPr>
        <p:blipFill>
          <a:blip r:embed="rId1"/>
          <a:stretch/>
        </p:blipFill>
        <p:spPr>
          <a:xfrm>
            <a:off x="1600200" y="1981080"/>
            <a:ext cx="6172200" cy="37720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685800" y="457200"/>
            <a:ext cx="6400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ilotos de Serviços Diferenci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1219320"/>
            <a:ext cx="65534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Verdana"/>
              </a:rPr>
              <a:t>Resultados</a:t>
            </a:r>
            <a:endParaRPr b="1" lang="en-US" sz="2000" spc="-1" strike="noStrike">
              <a:solidFill>
                <a:srgbClr val="3333cc"/>
              </a:solidFill>
              <a:latin typeface="Verdana"/>
            </a:endParaRPr>
          </a:p>
        </p:txBody>
      </p:sp>
      <p:pic>
        <p:nvPicPr>
          <p:cNvPr id="284" name="vazao" descr=""/>
          <p:cNvPicPr/>
          <p:nvPr/>
        </p:nvPicPr>
        <p:blipFill>
          <a:blip r:embed="rId1"/>
          <a:stretch/>
        </p:blipFill>
        <p:spPr>
          <a:xfrm>
            <a:off x="1600200" y="1981080"/>
            <a:ext cx="6095880" cy="3741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685800" y="457200"/>
            <a:ext cx="6400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ilotos de Serviços Diferenci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480" y="1219320"/>
            <a:ext cx="65534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Verdana"/>
              </a:rPr>
              <a:t>Resultados</a:t>
            </a:r>
            <a:endParaRPr b="1" lang="en-US" sz="2000" spc="-1" strike="noStrike">
              <a:solidFill>
                <a:srgbClr val="3333cc"/>
              </a:solidFill>
              <a:latin typeface="Verdana"/>
            </a:endParaRPr>
          </a:p>
        </p:txBody>
      </p:sp>
      <p:pic>
        <p:nvPicPr>
          <p:cNvPr id="287" name="distatraso" descr=""/>
          <p:cNvPicPr/>
          <p:nvPr/>
        </p:nvPicPr>
        <p:blipFill>
          <a:blip r:embed="rId1"/>
          <a:stretch/>
        </p:blipFill>
        <p:spPr>
          <a:xfrm>
            <a:off x="380880" y="2666880"/>
            <a:ext cx="8304480" cy="252432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685800" y="457200"/>
            <a:ext cx="6400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ilotos de Serviços Diferenci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distjiiter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8132760" cy="240984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1219320"/>
            <a:ext cx="65534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Verdana"/>
              </a:rPr>
              <a:t>Resultados</a:t>
            </a:r>
            <a:endParaRPr b="1" lang="en-US" sz="2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2362320" y="3429000"/>
            <a:ext cx="0" cy="60948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971800" y="3429000"/>
            <a:ext cx="0" cy="60948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400800" y="3429000"/>
            <a:ext cx="0" cy="76212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086600" y="3429000"/>
            <a:ext cx="0" cy="76212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85800" y="457200"/>
            <a:ext cx="6400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ilotos de Serviços Diferenci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"/>
          <p:cNvGrpSpPr/>
          <p:nvPr/>
        </p:nvGrpSpPr>
        <p:grpSpPr>
          <a:xfrm>
            <a:off x="1220760" y="1905120"/>
            <a:ext cx="6222240" cy="3961800"/>
            <a:chOff x="1220760" y="1905120"/>
            <a:chExt cx="6222240" cy="3961800"/>
          </a:xfrm>
        </p:grpSpPr>
        <p:sp>
          <p:nvSpPr>
            <p:cNvPr id="297" name=""/>
            <p:cNvSpPr/>
            <p:nvPr/>
          </p:nvSpPr>
          <p:spPr>
            <a:xfrm>
              <a:off x="1220760" y="3439800"/>
              <a:ext cx="51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US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322240" y="4910760"/>
              <a:ext cx="2051280" cy="956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783600" y="2604960"/>
              <a:ext cx="485280" cy="376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892760" y="3482280"/>
              <a:ext cx="485280" cy="374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783600" y="4233600"/>
              <a:ext cx="485280" cy="375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674800" y="3482280"/>
              <a:ext cx="484560" cy="374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773720" y="3482280"/>
              <a:ext cx="415440" cy="3747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817800" y="1905120"/>
              <a:ext cx="415440" cy="37548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794920" y="3482280"/>
              <a:ext cx="415440" cy="3747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853440" y="4922280"/>
              <a:ext cx="415440" cy="37548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279840" y="3439800"/>
              <a:ext cx="11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UC-RJ  RJ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366440" y="2015640"/>
              <a:ext cx="67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UFR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854160" y="5336640"/>
              <a:ext cx="644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UFS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745720" y="3439800"/>
              <a:ext cx="38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854160" y="420192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924080" y="3439800"/>
              <a:ext cx="3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J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19960" y="2562480"/>
              <a:ext cx="43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992400" y="2292120"/>
              <a:ext cx="0" cy="31248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2882880" y="2793240"/>
              <a:ext cx="900360" cy="68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189520" y="3669840"/>
              <a:ext cx="48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883240" y="3857400"/>
              <a:ext cx="900360" cy="56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4268880" y="3857400"/>
              <a:ext cx="901080" cy="56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 flipV="1">
              <a:off x="4268520" y="2793240"/>
              <a:ext cx="831960" cy="68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78400" y="3669840"/>
              <a:ext cx="41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4061520" y="4609440"/>
              <a:ext cx="0" cy="31248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922560" y="2292120"/>
              <a:ext cx="0" cy="31248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2744280" y="2667960"/>
              <a:ext cx="1038600" cy="81432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744640" y="3857400"/>
              <a:ext cx="1038600" cy="68904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595840" y="5320800"/>
              <a:ext cx="485280" cy="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142320" y="5159160"/>
              <a:ext cx="5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Q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586480" y="5047560"/>
              <a:ext cx="48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141960" y="4886640"/>
              <a:ext cx="90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onexõ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3159360" y="2981160"/>
              <a:ext cx="623880" cy="50076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2189520" y="3732120"/>
              <a:ext cx="485280" cy="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091320" y="3857400"/>
              <a:ext cx="692280" cy="43848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133800" y="3544560"/>
              <a:ext cx="1778040" cy="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378400" y="3732120"/>
              <a:ext cx="416160" cy="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129920" y="4609440"/>
              <a:ext cx="0" cy="31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4061520" y="2292120"/>
              <a:ext cx="0" cy="31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595840" y="5594040"/>
              <a:ext cx="485280" cy="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139080" y="5432400"/>
              <a:ext cx="1303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luxo do víde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159720" y="3669840"/>
              <a:ext cx="173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9" name=""/>
            <p:cNvGrpSpPr/>
            <p:nvPr/>
          </p:nvGrpSpPr>
          <p:grpSpPr>
            <a:xfrm>
              <a:off x="2586240" y="4524480"/>
              <a:ext cx="484560" cy="399960"/>
              <a:chOff x="2586240" y="4524480"/>
              <a:chExt cx="484560" cy="399960"/>
            </a:xfrm>
          </p:grpSpPr>
          <p:sp>
            <p:nvSpPr>
              <p:cNvPr id="340" name=""/>
              <p:cNvSpPr/>
              <p:nvPr/>
            </p:nvSpPr>
            <p:spPr>
              <a:xfrm>
                <a:off x="2586240" y="4549320"/>
                <a:ext cx="484560" cy="375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2588040" y="4524480"/>
                <a:ext cx="471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2" name=""/>
            <p:cNvSpPr/>
            <p:nvPr/>
          </p:nvSpPr>
          <p:spPr>
            <a:xfrm>
              <a:off x="1629360" y="4549680"/>
              <a:ext cx="415440" cy="3747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860200" y="3866400"/>
              <a:ext cx="0" cy="68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2039400" y="4686120"/>
              <a:ext cx="54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2039760" y="4822920"/>
              <a:ext cx="485280" cy="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723400" y="3866400"/>
              <a:ext cx="0" cy="68292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997000" y="4139640"/>
              <a:ext cx="0" cy="31248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357920" y="4935240"/>
              <a:ext cx="97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UNIFAC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3133440" y="3817800"/>
              <a:ext cx="1778040" cy="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0" name=""/>
          <p:cNvSpPr/>
          <p:nvPr/>
        </p:nvSpPr>
        <p:spPr>
          <a:xfrm>
            <a:off x="685800" y="457200"/>
            <a:ext cx="6400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ilotos de Serviços Diferenci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1219320"/>
            <a:ext cx="65534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Verdana"/>
              </a:rPr>
              <a:t>Cenário da 2a. Etapa</a:t>
            </a:r>
            <a:endParaRPr b="1" lang="en-US" sz="2000" spc="-1" strike="noStrike">
              <a:solidFill>
                <a:srgbClr val="3333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480" y="1219320"/>
            <a:ext cx="65534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Verdana"/>
              </a:rPr>
              <a:t>Segunda Etapa</a:t>
            </a:r>
            <a:endParaRPr b="1" lang="en-US" sz="2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plicação Torcida Vir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quisito da aplicação 1,0 M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anda Alocada 1,3 M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cote cliente do GTVíde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rox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PT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leta de Estatísticas no Prox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rviço Premium configurado entre POP-RN e POP-SP. Banda alocada entre estes pontos de 5Mb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rviço Premium configurado entre O refletor no POP-SP até o ultimo roteador do backbone em direção aos clie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457200"/>
            <a:ext cx="6400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ilotos de Serviços Diferenci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480" y="1219320"/>
            <a:ext cx="65534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Verdana"/>
              </a:rPr>
              <a:t>Dificuldades encontradas</a:t>
            </a:r>
            <a:endParaRPr b="1" lang="en-US" sz="2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ravamento do servidor de víde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ificuldades de conexão entre cliente e servidor devido a erros nos paco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pós atualização do IOS, o roteador do POP-RN não classifica, nem marca os paco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ão foi possível coletar estatísticas no prazo estabelecido no planejamento do pilo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85800" y="457200"/>
            <a:ext cx="6400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ilotos de Serviços Diferenci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480" y="1219320"/>
            <a:ext cx="65534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Verdana"/>
              </a:rPr>
              <a:t>Conclusões</a:t>
            </a:r>
            <a:endParaRPr b="1" lang="en-US" sz="2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s resultados da primeira etapa mostraram que há priorização de tráfego de uma classe em relação à out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as condições dos testes, as diferenças de tratamento foram tênues. Não sabemos como seria o comportamento para um tráfego UDP mais agressiv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É adequado fazer novos testes com a aplicações de tempo real para se observar se a implementação de DiffServ da Cisco atende às necessidades da aplicaç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É necessário fazer novos testes com o serviço Scavenger associados com as coletas de medições passivas, para se observar se o serviço funciona como o esper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85800" y="457200"/>
            <a:ext cx="6400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ilotos de Serviços Diferenci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480" y="1219320"/>
            <a:ext cx="65534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Verdana"/>
              </a:rPr>
              <a:t>Roteiro</a:t>
            </a:r>
            <a:endParaRPr b="1" lang="en-US" sz="2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bjetivos do GT-Q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posta de Trabal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iagnóstico e Altern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Qualidade de Serviç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rquiteturas de Serviç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erviços Diferenci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nfra-estrutura de Mediçõ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jetos Pil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Questionário sobre Qualidade de Serviç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ilotos de Serviços Diferenci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Infra-estrutura de Mediçõ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comendações e Sugest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2120" y="4572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" y="457200"/>
            <a:ext cx="6400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T-Q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1219320"/>
            <a:ext cx="65534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Verdana"/>
              </a:rPr>
              <a:t>Proposta de Trabalho</a:t>
            </a:r>
            <a:endParaRPr b="1" lang="en-US" sz="2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Formação do G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base: coordenadores de projetos relacion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Articulação com os Projetos de Redes Avançad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atividades/objetivos comu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necessidades de QoS: definição de uma arquitetura mínima de serviç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Colaboração com os GTs que envolvem aplicaçõ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457200"/>
            <a:ext cx="6400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T-Q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480" y="1219320"/>
            <a:ext cx="65534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Verdana"/>
              </a:rPr>
              <a:t>Cisco Netflow</a:t>
            </a:r>
            <a:endParaRPr b="1" lang="en-US" sz="2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ácil implement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aixo cu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odos os fluxos identificados são provenientes do tráfego que passa pelo rote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ersões 1,5,7,8 (recentemente lançada versão 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ada versão possui um formato de cabeçal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uporte a fluxos agregados a partir da versão 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uporte ao campo 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62120" y="457200"/>
            <a:ext cx="6400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ra-estrutura de Mediçõ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"/>
          <p:cNvGrpSpPr/>
          <p:nvPr/>
        </p:nvGrpSpPr>
        <p:grpSpPr>
          <a:xfrm>
            <a:off x="457200" y="1865160"/>
            <a:ext cx="6188040" cy="2438280"/>
            <a:chOff x="457200" y="1865160"/>
            <a:chExt cx="6188040" cy="2438280"/>
          </a:xfrm>
        </p:grpSpPr>
        <p:graphicFrame>
          <p:nvGraphicFramePr>
            <p:cNvPr id="369" name=""/>
            <p:cNvGraphicFramePr/>
            <p:nvPr/>
          </p:nvGraphicFramePr>
          <p:xfrm>
            <a:off x="457200" y="2500200"/>
            <a:ext cx="3581280" cy="1803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7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2500200"/>
                      <a:ext cx="3581280" cy="1803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1" name=""/>
            <p:cNvSpPr/>
            <p:nvPr/>
          </p:nvSpPr>
          <p:spPr>
            <a:xfrm flipV="1">
              <a:off x="3124080" y="2170080"/>
              <a:ext cx="15242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724280" y="1865160"/>
              <a:ext cx="1920960" cy="73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É interessante os coletores estarem na mesma rede dos cisc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413640" y="1871640"/>
            <a:ext cx="155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rquite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685800" y="3008160"/>
            <a:ext cx="1219320" cy="3497400"/>
            <a:chOff x="685800" y="3008160"/>
            <a:chExt cx="1219320" cy="3497400"/>
          </a:xfrm>
        </p:grpSpPr>
        <p:grpSp>
          <p:nvGrpSpPr>
            <p:cNvPr id="375" name=""/>
            <p:cNvGrpSpPr/>
            <p:nvPr/>
          </p:nvGrpSpPr>
          <p:grpSpPr>
            <a:xfrm>
              <a:off x="914400" y="3008160"/>
              <a:ext cx="787320" cy="455760"/>
              <a:chOff x="914400" y="3008160"/>
              <a:chExt cx="787320" cy="455760"/>
            </a:xfrm>
          </p:grpSpPr>
          <p:sp>
            <p:nvSpPr>
              <p:cNvPr id="376" name=""/>
              <p:cNvSpPr/>
              <p:nvPr/>
            </p:nvSpPr>
            <p:spPr>
              <a:xfrm>
                <a:off x="915840" y="3197160"/>
                <a:ext cx="785880" cy="266760"/>
              </a:xfrm>
              <a:prstGeom prst="ellipse">
                <a:avLst/>
              </a:prstGeom>
              <a:solidFill>
                <a:srgbClr val="333333"/>
              </a:solidFill>
              <a:ln w="46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914400" y="3143160"/>
                <a:ext cx="784080" cy="18900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914400" y="3143160"/>
                <a:ext cx="784080" cy="18900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915840" y="3008160"/>
                <a:ext cx="785880" cy="266760"/>
              </a:xfrm>
              <a:prstGeom prst="ellipse">
                <a:avLst/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0" name=""/>
              <p:cNvGrpSpPr/>
              <p:nvPr/>
            </p:nvGrpSpPr>
            <p:grpSpPr>
              <a:xfrm>
                <a:off x="1033200" y="3039840"/>
                <a:ext cx="546120" cy="203400"/>
                <a:chOff x="1033200" y="3039840"/>
                <a:chExt cx="546120" cy="203400"/>
              </a:xfrm>
            </p:grpSpPr>
            <p:grpSp>
              <p:nvGrpSpPr>
                <p:cNvPr id="381" name=""/>
                <p:cNvGrpSpPr/>
                <p:nvPr/>
              </p:nvGrpSpPr>
              <p:grpSpPr>
                <a:xfrm>
                  <a:off x="1033200" y="3039840"/>
                  <a:ext cx="541440" cy="198360"/>
                  <a:chOff x="1033200" y="3039840"/>
                  <a:chExt cx="541440" cy="198360"/>
                </a:xfrm>
              </p:grpSpPr>
              <p:sp>
                <p:nvSpPr>
                  <p:cNvPr id="382" name=""/>
                  <p:cNvSpPr/>
                  <p:nvPr/>
                </p:nvSpPr>
                <p:spPr>
                  <a:xfrm>
                    <a:off x="1315800" y="3044880"/>
                    <a:ext cx="25884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487" h="160">
                        <a:moveTo>
                          <a:pt x="0" y="124"/>
                        </a:moveTo>
                        <a:lnTo>
                          <a:pt x="107" y="160"/>
                        </a:lnTo>
                        <a:lnTo>
                          <a:pt x="369" y="53"/>
                        </a:lnTo>
                        <a:lnTo>
                          <a:pt x="487" y="88"/>
                        </a:lnTo>
                        <a:lnTo>
                          <a:pt x="424" y="0"/>
                        </a:lnTo>
                        <a:lnTo>
                          <a:pt x="116" y="0"/>
                        </a:lnTo>
                        <a:lnTo>
                          <a:pt x="243" y="26"/>
                        </a:lnTo>
                        <a:lnTo>
                          <a:pt x="0" y="12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1315800" y="3044880"/>
                    <a:ext cx="25884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487" h="160">
                        <a:moveTo>
                          <a:pt x="0" y="124"/>
                        </a:moveTo>
                        <a:lnTo>
                          <a:pt x="107" y="160"/>
                        </a:lnTo>
                        <a:lnTo>
                          <a:pt x="369" y="53"/>
                        </a:lnTo>
                        <a:lnTo>
                          <a:pt x="487" y="88"/>
                        </a:lnTo>
                        <a:lnTo>
                          <a:pt x="424" y="0"/>
                        </a:lnTo>
                        <a:lnTo>
                          <a:pt x="116" y="0"/>
                        </a:lnTo>
                        <a:lnTo>
                          <a:pt x="243" y="26"/>
                        </a:lnTo>
                        <a:lnTo>
                          <a:pt x="0" y="12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1033200" y="3143160"/>
                    <a:ext cx="25884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488" h="170">
                        <a:moveTo>
                          <a:pt x="488" y="36"/>
                        </a:moveTo>
                        <a:lnTo>
                          <a:pt x="380" y="0"/>
                        </a:lnTo>
                        <a:lnTo>
                          <a:pt x="127" y="108"/>
                        </a:lnTo>
                        <a:lnTo>
                          <a:pt x="0" y="72"/>
                        </a:lnTo>
                        <a:lnTo>
                          <a:pt x="63" y="170"/>
                        </a:lnTo>
                        <a:lnTo>
                          <a:pt x="380" y="170"/>
                        </a:lnTo>
                        <a:lnTo>
                          <a:pt x="244" y="135"/>
                        </a:lnTo>
                        <a:lnTo>
                          <a:pt x="488" y="3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1033200" y="3143160"/>
                    <a:ext cx="25884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488" h="170">
                        <a:moveTo>
                          <a:pt x="488" y="36"/>
                        </a:moveTo>
                        <a:lnTo>
                          <a:pt x="380" y="0"/>
                        </a:lnTo>
                        <a:lnTo>
                          <a:pt x="127" y="108"/>
                        </a:lnTo>
                        <a:lnTo>
                          <a:pt x="0" y="72"/>
                        </a:lnTo>
                        <a:lnTo>
                          <a:pt x="63" y="170"/>
                        </a:lnTo>
                        <a:lnTo>
                          <a:pt x="380" y="170"/>
                        </a:lnTo>
                        <a:lnTo>
                          <a:pt x="244" y="135"/>
                        </a:lnTo>
                        <a:lnTo>
                          <a:pt x="488" y="3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1047600" y="3039840"/>
                    <a:ext cx="25884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489" h="160">
                        <a:moveTo>
                          <a:pt x="0" y="35"/>
                        </a:moveTo>
                        <a:lnTo>
                          <a:pt x="109" y="0"/>
                        </a:lnTo>
                        <a:lnTo>
                          <a:pt x="371" y="97"/>
                        </a:lnTo>
                        <a:lnTo>
                          <a:pt x="489" y="71"/>
                        </a:lnTo>
                        <a:lnTo>
                          <a:pt x="425" y="160"/>
                        </a:lnTo>
                        <a:lnTo>
                          <a:pt x="118" y="160"/>
                        </a:lnTo>
                        <a:lnTo>
                          <a:pt x="244" y="133"/>
                        </a:lnTo>
                        <a:lnTo>
                          <a:pt x="0" y="3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1047600" y="3039840"/>
                    <a:ext cx="25884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489" h="160">
                        <a:moveTo>
                          <a:pt x="0" y="35"/>
                        </a:moveTo>
                        <a:lnTo>
                          <a:pt x="109" y="0"/>
                        </a:lnTo>
                        <a:lnTo>
                          <a:pt x="371" y="97"/>
                        </a:lnTo>
                        <a:lnTo>
                          <a:pt x="489" y="71"/>
                        </a:lnTo>
                        <a:lnTo>
                          <a:pt x="425" y="160"/>
                        </a:lnTo>
                        <a:lnTo>
                          <a:pt x="118" y="160"/>
                        </a:lnTo>
                        <a:lnTo>
                          <a:pt x="244" y="133"/>
                        </a:lnTo>
                        <a:lnTo>
                          <a:pt x="0" y="3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1306440" y="3152520"/>
                    <a:ext cx="25884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487" h="161">
                        <a:moveTo>
                          <a:pt x="487" y="126"/>
                        </a:moveTo>
                        <a:lnTo>
                          <a:pt x="378" y="161"/>
                        </a:lnTo>
                        <a:lnTo>
                          <a:pt x="125" y="54"/>
                        </a:lnTo>
                        <a:lnTo>
                          <a:pt x="0" y="90"/>
                        </a:lnTo>
                        <a:lnTo>
                          <a:pt x="62" y="0"/>
                        </a:lnTo>
                        <a:lnTo>
                          <a:pt x="378" y="0"/>
                        </a:lnTo>
                        <a:lnTo>
                          <a:pt x="243" y="27"/>
                        </a:lnTo>
                        <a:lnTo>
                          <a:pt x="487" y="12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1306440" y="3152520"/>
                    <a:ext cx="25884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487" h="161">
                        <a:moveTo>
                          <a:pt x="487" y="126"/>
                        </a:moveTo>
                        <a:lnTo>
                          <a:pt x="378" y="161"/>
                        </a:lnTo>
                        <a:lnTo>
                          <a:pt x="125" y="54"/>
                        </a:lnTo>
                        <a:lnTo>
                          <a:pt x="0" y="90"/>
                        </a:lnTo>
                        <a:lnTo>
                          <a:pt x="62" y="0"/>
                        </a:lnTo>
                        <a:lnTo>
                          <a:pt x="378" y="0"/>
                        </a:lnTo>
                        <a:lnTo>
                          <a:pt x="243" y="27"/>
                        </a:lnTo>
                        <a:lnTo>
                          <a:pt x="487" y="12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0" name=""/>
                <p:cNvGrpSpPr/>
                <p:nvPr/>
              </p:nvGrpSpPr>
              <p:grpSpPr>
                <a:xfrm>
                  <a:off x="1038240" y="3044880"/>
                  <a:ext cx="541080" cy="198360"/>
                  <a:chOff x="1038240" y="3044880"/>
                  <a:chExt cx="541080" cy="198360"/>
                </a:xfrm>
              </p:grpSpPr>
              <p:sp>
                <p:nvSpPr>
                  <p:cNvPr id="391" name=""/>
                  <p:cNvSpPr/>
                  <p:nvPr/>
                </p:nvSpPr>
                <p:spPr>
                  <a:xfrm>
                    <a:off x="1320840" y="3049560"/>
                    <a:ext cx="25848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487" h="160">
                        <a:moveTo>
                          <a:pt x="0" y="124"/>
                        </a:moveTo>
                        <a:lnTo>
                          <a:pt x="107" y="160"/>
                        </a:lnTo>
                        <a:lnTo>
                          <a:pt x="369" y="53"/>
                        </a:lnTo>
                        <a:lnTo>
                          <a:pt x="487" y="88"/>
                        </a:lnTo>
                        <a:lnTo>
                          <a:pt x="424" y="0"/>
                        </a:lnTo>
                        <a:lnTo>
                          <a:pt x="116" y="0"/>
                        </a:lnTo>
                        <a:lnTo>
                          <a:pt x="243" y="26"/>
                        </a:lnTo>
                        <a:lnTo>
                          <a:pt x="0" y="1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1320840" y="3049560"/>
                    <a:ext cx="25848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487" h="160">
                        <a:moveTo>
                          <a:pt x="0" y="124"/>
                        </a:moveTo>
                        <a:lnTo>
                          <a:pt x="107" y="160"/>
                        </a:lnTo>
                        <a:lnTo>
                          <a:pt x="369" y="53"/>
                        </a:lnTo>
                        <a:lnTo>
                          <a:pt x="487" y="88"/>
                        </a:lnTo>
                        <a:lnTo>
                          <a:pt x="424" y="0"/>
                        </a:lnTo>
                        <a:lnTo>
                          <a:pt x="116" y="0"/>
                        </a:lnTo>
                        <a:lnTo>
                          <a:pt x="243" y="26"/>
                        </a:lnTo>
                        <a:lnTo>
                          <a:pt x="0" y="1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1038240" y="3147840"/>
                    <a:ext cx="25848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488" h="170">
                        <a:moveTo>
                          <a:pt x="488" y="36"/>
                        </a:moveTo>
                        <a:lnTo>
                          <a:pt x="380" y="0"/>
                        </a:lnTo>
                        <a:lnTo>
                          <a:pt x="127" y="108"/>
                        </a:lnTo>
                        <a:lnTo>
                          <a:pt x="0" y="72"/>
                        </a:lnTo>
                        <a:lnTo>
                          <a:pt x="63" y="170"/>
                        </a:lnTo>
                        <a:lnTo>
                          <a:pt x="380" y="170"/>
                        </a:lnTo>
                        <a:lnTo>
                          <a:pt x="244" y="135"/>
                        </a:lnTo>
                        <a:lnTo>
                          <a:pt x="488" y="36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1038240" y="3147840"/>
                    <a:ext cx="25848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488" h="170">
                        <a:moveTo>
                          <a:pt x="488" y="36"/>
                        </a:moveTo>
                        <a:lnTo>
                          <a:pt x="380" y="0"/>
                        </a:lnTo>
                        <a:lnTo>
                          <a:pt x="127" y="108"/>
                        </a:lnTo>
                        <a:lnTo>
                          <a:pt x="0" y="72"/>
                        </a:lnTo>
                        <a:lnTo>
                          <a:pt x="63" y="170"/>
                        </a:lnTo>
                        <a:lnTo>
                          <a:pt x="380" y="170"/>
                        </a:lnTo>
                        <a:lnTo>
                          <a:pt x="244" y="135"/>
                        </a:lnTo>
                        <a:lnTo>
                          <a:pt x="488" y="36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1052280" y="3044880"/>
                    <a:ext cx="25884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489" h="160">
                        <a:moveTo>
                          <a:pt x="0" y="35"/>
                        </a:moveTo>
                        <a:lnTo>
                          <a:pt x="109" y="0"/>
                        </a:lnTo>
                        <a:lnTo>
                          <a:pt x="371" y="97"/>
                        </a:lnTo>
                        <a:lnTo>
                          <a:pt x="489" y="71"/>
                        </a:lnTo>
                        <a:lnTo>
                          <a:pt x="425" y="160"/>
                        </a:lnTo>
                        <a:lnTo>
                          <a:pt x="118" y="160"/>
                        </a:lnTo>
                        <a:lnTo>
                          <a:pt x="244" y="133"/>
                        </a:lnTo>
                        <a:lnTo>
                          <a:pt x="0" y="3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1052280" y="3044880"/>
                    <a:ext cx="25884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489" h="160">
                        <a:moveTo>
                          <a:pt x="0" y="35"/>
                        </a:moveTo>
                        <a:lnTo>
                          <a:pt x="109" y="0"/>
                        </a:lnTo>
                        <a:lnTo>
                          <a:pt x="371" y="97"/>
                        </a:lnTo>
                        <a:lnTo>
                          <a:pt x="489" y="71"/>
                        </a:lnTo>
                        <a:lnTo>
                          <a:pt x="425" y="160"/>
                        </a:lnTo>
                        <a:lnTo>
                          <a:pt x="118" y="160"/>
                        </a:lnTo>
                        <a:lnTo>
                          <a:pt x="244" y="133"/>
                        </a:lnTo>
                        <a:lnTo>
                          <a:pt x="0" y="3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1311120" y="3157560"/>
                    <a:ext cx="25884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487" h="161">
                        <a:moveTo>
                          <a:pt x="487" y="126"/>
                        </a:moveTo>
                        <a:lnTo>
                          <a:pt x="378" y="161"/>
                        </a:lnTo>
                        <a:lnTo>
                          <a:pt x="125" y="54"/>
                        </a:lnTo>
                        <a:lnTo>
                          <a:pt x="0" y="90"/>
                        </a:lnTo>
                        <a:lnTo>
                          <a:pt x="62" y="0"/>
                        </a:lnTo>
                        <a:lnTo>
                          <a:pt x="378" y="0"/>
                        </a:lnTo>
                        <a:lnTo>
                          <a:pt x="243" y="27"/>
                        </a:lnTo>
                        <a:lnTo>
                          <a:pt x="487" y="126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1311120" y="3157560"/>
                    <a:ext cx="25884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487" h="161">
                        <a:moveTo>
                          <a:pt x="487" y="126"/>
                        </a:moveTo>
                        <a:lnTo>
                          <a:pt x="378" y="161"/>
                        </a:lnTo>
                        <a:lnTo>
                          <a:pt x="125" y="54"/>
                        </a:lnTo>
                        <a:lnTo>
                          <a:pt x="0" y="90"/>
                        </a:lnTo>
                        <a:lnTo>
                          <a:pt x="62" y="0"/>
                        </a:lnTo>
                        <a:lnTo>
                          <a:pt x="378" y="0"/>
                        </a:lnTo>
                        <a:lnTo>
                          <a:pt x="243" y="27"/>
                        </a:lnTo>
                        <a:lnTo>
                          <a:pt x="487" y="126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99" name=""/>
              <p:cNvSpPr/>
              <p:nvPr/>
            </p:nvSpPr>
            <p:spPr>
              <a:xfrm>
                <a:off x="914400" y="3138480"/>
                <a:ext cx="1440" cy="188640"/>
              </a:xfrm>
              <a:prstGeom prst="line">
                <a:avLst/>
              </a:prstGeom>
              <a:ln w="46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698480" y="3138480"/>
                <a:ext cx="1440" cy="188640"/>
              </a:xfrm>
              <a:prstGeom prst="line">
                <a:avLst/>
              </a:prstGeom>
              <a:ln w="46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914400" y="3389040"/>
              <a:ext cx="787320" cy="455760"/>
              <a:chOff x="914400" y="3389040"/>
              <a:chExt cx="787320" cy="455760"/>
            </a:xfrm>
          </p:grpSpPr>
          <p:sp>
            <p:nvSpPr>
              <p:cNvPr id="402" name=""/>
              <p:cNvSpPr/>
              <p:nvPr/>
            </p:nvSpPr>
            <p:spPr>
              <a:xfrm>
                <a:off x="915840" y="3578040"/>
                <a:ext cx="785880" cy="266760"/>
              </a:xfrm>
              <a:prstGeom prst="ellipse">
                <a:avLst/>
              </a:prstGeom>
              <a:solidFill>
                <a:srgbClr val="333333"/>
              </a:solidFill>
              <a:ln w="46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914400" y="3524040"/>
                <a:ext cx="784080" cy="18900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914400" y="3524040"/>
                <a:ext cx="784080" cy="18900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915840" y="3389040"/>
                <a:ext cx="785880" cy="266760"/>
              </a:xfrm>
              <a:prstGeom prst="ellipse">
                <a:avLst/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6" name=""/>
              <p:cNvGrpSpPr/>
              <p:nvPr/>
            </p:nvGrpSpPr>
            <p:grpSpPr>
              <a:xfrm>
                <a:off x="1033200" y="3420720"/>
                <a:ext cx="546120" cy="203400"/>
                <a:chOff x="1033200" y="3420720"/>
                <a:chExt cx="546120" cy="203400"/>
              </a:xfrm>
            </p:grpSpPr>
            <p:grpSp>
              <p:nvGrpSpPr>
                <p:cNvPr id="407" name=""/>
                <p:cNvGrpSpPr/>
                <p:nvPr/>
              </p:nvGrpSpPr>
              <p:grpSpPr>
                <a:xfrm>
                  <a:off x="1033200" y="3420720"/>
                  <a:ext cx="541440" cy="198360"/>
                  <a:chOff x="1033200" y="3420720"/>
                  <a:chExt cx="541440" cy="198360"/>
                </a:xfrm>
              </p:grpSpPr>
              <p:sp>
                <p:nvSpPr>
                  <p:cNvPr id="408" name=""/>
                  <p:cNvSpPr/>
                  <p:nvPr/>
                </p:nvSpPr>
                <p:spPr>
                  <a:xfrm>
                    <a:off x="1315800" y="3425760"/>
                    <a:ext cx="25884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487" h="160">
                        <a:moveTo>
                          <a:pt x="0" y="124"/>
                        </a:moveTo>
                        <a:lnTo>
                          <a:pt x="107" y="160"/>
                        </a:lnTo>
                        <a:lnTo>
                          <a:pt x="369" y="53"/>
                        </a:lnTo>
                        <a:lnTo>
                          <a:pt x="487" y="88"/>
                        </a:lnTo>
                        <a:lnTo>
                          <a:pt x="424" y="0"/>
                        </a:lnTo>
                        <a:lnTo>
                          <a:pt x="116" y="0"/>
                        </a:lnTo>
                        <a:lnTo>
                          <a:pt x="243" y="26"/>
                        </a:lnTo>
                        <a:lnTo>
                          <a:pt x="0" y="12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1315800" y="3425760"/>
                    <a:ext cx="25884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487" h="160">
                        <a:moveTo>
                          <a:pt x="0" y="124"/>
                        </a:moveTo>
                        <a:lnTo>
                          <a:pt x="107" y="160"/>
                        </a:lnTo>
                        <a:lnTo>
                          <a:pt x="369" y="53"/>
                        </a:lnTo>
                        <a:lnTo>
                          <a:pt x="487" y="88"/>
                        </a:lnTo>
                        <a:lnTo>
                          <a:pt x="424" y="0"/>
                        </a:lnTo>
                        <a:lnTo>
                          <a:pt x="116" y="0"/>
                        </a:lnTo>
                        <a:lnTo>
                          <a:pt x="243" y="26"/>
                        </a:lnTo>
                        <a:lnTo>
                          <a:pt x="0" y="12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1033200" y="3524040"/>
                    <a:ext cx="25884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488" h="170">
                        <a:moveTo>
                          <a:pt x="488" y="36"/>
                        </a:moveTo>
                        <a:lnTo>
                          <a:pt x="380" y="0"/>
                        </a:lnTo>
                        <a:lnTo>
                          <a:pt x="127" y="108"/>
                        </a:lnTo>
                        <a:lnTo>
                          <a:pt x="0" y="72"/>
                        </a:lnTo>
                        <a:lnTo>
                          <a:pt x="63" y="170"/>
                        </a:lnTo>
                        <a:lnTo>
                          <a:pt x="380" y="170"/>
                        </a:lnTo>
                        <a:lnTo>
                          <a:pt x="244" y="135"/>
                        </a:lnTo>
                        <a:lnTo>
                          <a:pt x="488" y="3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1033200" y="3524040"/>
                    <a:ext cx="25884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488" h="170">
                        <a:moveTo>
                          <a:pt x="488" y="36"/>
                        </a:moveTo>
                        <a:lnTo>
                          <a:pt x="380" y="0"/>
                        </a:lnTo>
                        <a:lnTo>
                          <a:pt x="127" y="108"/>
                        </a:lnTo>
                        <a:lnTo>
                          <a:pt x="0" y="72"/>
                        </a:lnTo>
                        <a:lnTo>
                          <a:pt x="63" y="170"/>
                        </a:lnTo>
                        <a:lnTo>
                          <a:pt x="380" y="170"/>
                        </a:lnTo>
                        <a:lnTo>
                          <a:pt x="244" y="135"/>
                        </a:lnTo>
                        <a:lnTo>
                          <a:pt x="488" y="3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1047600" y="3420720"/>
                    <a:ext cx="25884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489" h="160">
                        <a:moveTo>
                          <a:pt x="0" y="35"/>
                        </a:moveTo>
                        <a:lnTo>
                          <a:pt x="109" y="0"/>
                        </a:lnTo>
                        <a:lnTo>
                          <a:pt x="371" y="97"/>
                        </a:lnTo>
                        <a:lnTo>
                          <a:pt x="489" y="71"/>
                        </a:lnTo>
                        <a:lnTo>
                          <a:pt x="425" y="160"/>
                        </a:lnTo>
                        <a:lnTo>
                          <a:pt x="118" y="160"/>
                        </a:lnTo>
                        <a:lnTo>
                          <a:pt x="244" y="133"/>
                        </a:lnTo>
                        <a:lnTo>
                          <a:pt x="0" y="3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1047600" y="3420720"/>
                    <a:ext cx="25884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489" h="160">
                        <a:moveTo>
                          <a:pt x="0" y="35"/>
                        </a:moveTo>
                        <a:lnTo>
                          <a:pt x="109" y="0"/>
                        </a:lnTo>
                        <a:lnTo>
                          <a:pt x="371" y="97"/>
                        </a:lnTo>
                        <a:lnTo>
                          <a:pt x="489" y="71"/>
                        </a:lnTo>
                        <a:lnTo>
                          <a:pt x="425" y="160"/>
                        </a:lnTo>
                        <a:lnTo>
                          <a:pt x="118" y="160"/>
                        </a:lnTo>
                        <a:lnTo>
                          <a:pt x="244" y="133"/>
                        </a:lnTo>
                        <a:lnTo>
                          <a:pt x="0" y="3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1306440" y="3533400"/>
                    <a:ext cx="25884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487" h="161">
                        <a:moveTo>
                          <a:pt x="487" y="126"/>
                        </a:moveTo>
                        <a:lnTo>
                          <a:pt x="378" y="161"/>
                        </a:lnTo>
                        <a:lnTo>
                          <a:pt x="125" y="54"/>
                        </a:lnTo>
                        <a:lnTo>
                          <a:pt x="0" y="90"/>
                        </a:lnTo>
                        <a:lnTo>
                          <a:pt x="62" y="0"/>
                        </a:lnTo>
                        <a:lnTo>
                          <a:pt x="378" y="0"/>
                        </a:lnTo>
                        <a:lnTo>
                          <a:pt x="243" y="27"/>
                        </a:lnTo>
                        <a:lnTo>
                          <a:pt x="487" y="12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1306440" y="3533400"/>
                    <a:ext cx="25884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487" h="161">
                        <a:moveTo>
                          <a:pt x="487" y="126"/>
                        </a:moveTo>
                        <a:lnTo>
                          <a:pt x="378" y="161"/>
                        </a:lnTo>
                        <a:lnTo>
                          <a:pt x="125" y="54"/>
                        </a:lnTo>
                        <a:lnTo>
                          <a:pt x="0" y="90"/>
                        </a:lnTo>
                        <a:lnTo>
                          <a:pt x="62" y="0"/>
                        </a:lnTo>
                        <a:lnTo>
                          <a:pt x="378" y="0"/>
                        </a:lnTo>
                        <a:lnTo>
                          <a:pt x="243" y="27"/>
                        </a:lnTo>
                        <a:lnTo>
                          <a:pt x="487" y="12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6" name=""/>
                <p:cNvGrpSpPr/>
                <p:nvPr/>
              </p:nvGrpSpPr>
              <p:grpSpPr>
                <a:xfrm>
                  <a:off x="1038240" y="3425760"/>
                  <a:ext cx="541080" cy="198360"/>
                  <a:chOff x="1038240" y="3425760"/>
                  <a:chExt cx="541080" cy="198360"/>
                </a:xfrm>
              </p:grpSpPr>
              <p:sp>
                <p:nvSpPr>
                  <p:cNvPr id="417" name=""/>
                  <p:cNvSpPr/>
                  <p:nvPr/>
                </p:nvSpPr>
                <p:spPr>
                  <a:xfrm>
                    <a:off x="1320840" y="3430440"/>
                    <a:ext cx="25848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487" h="160">
                        <a:moveTo>
                          <a:pt x="0" y="124"/>
                        </a:moveTo>
                        <a:lnTo>
                          <a:pt x="107" y="160"/>
                        </a:lnTo>
                        <a:lnTo>
                          <a:pt x="369" y="53"/>
                        </a:lnTo>
                        <a:lnTo>
                          <a:pt x="487" y="88"/>
                        </a:lnTo>
                        <a:lnTo>
                          <a:pt x="424" y="0"/>
                        </a:lnTo>
                        <a:lnTo>
                          <a:pt x="116" y="0"/>
                        </a:lnTo>
                        <a:lnTo>
                          <a:pt x="243" y="26"/>
                        </a:lnTo>
                        <a:lnTo>
                          <a:pt x="0" y="1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1320840" y="3430440"/>
                    <a:ext cx="25848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487" h="160">
                        <a:moveTo>
                          <a:pt x="0" y="124"/>
                        </a:moveTo>
                        <a:lnTo>
                          <a:pt x="107" y="160"/>
                        </a:lnTo>
                        <a:lnTo>
                          <a:pt x="369" y="53"/>
                        </a:lnTo>
                        <a:lnTo>
                          <a:pt x="487" y="88"/>
                        </a:lnTo>
                        <a:lnTo>
                          <a:pt x="424" y="0"/>
                        </a:lnTo>
                        <a:lnTo>
                          <a:pt x="116" y="0"/>
                        </a:lnTo>
                        <a:lnTo>
                          <a:pt x="243" y="26"/>
                        </a:lnTo>
                        <a:lnTo>
                          <a:pt x="0" y="1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1038240" y="3528720"/>
                    <a:ext cx="25848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488" h="170">
                        <a:moveTo>
                          <a:pt x="488" y="36"/>
                        </a:moveTo>
                        <a:lnTo>
                          <a:pt x="380" y="0"/>
                        </a:lnTo>
                        <a:lnTo>
                          <a:pt x="127" y="108"/>
                        </a:lnTo>
                        <a:lnTo>
                          <a:pt x="0" y="72"/>
                        </a:lnTo>
                        <a:lnTo>
                          <a:pt x="63" y="170"/>
                        </a:lnTo>
                        <a:lnTo>
                          <a:pt x="380" y="170"/>
                        </a:lnTo>
                        <a:lnTo>
                          <a:pt x="244" y="135"/>
                        </a:lnTo>
                        <a:lnTo>
                          <a:pt x="488" y="36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1038240" y="3528720"/>
                    <a:ext cx="25848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488" h="170">
                        <a:moveTo>
                          <a:pt x="488" y="36"/>
                        </a:moveTo>
                        <a:lnTo>
                          <a:pt x="380" y="0"/>
                        </a:lnTo>
                        <a:lnTo>
                          <a:pt x="127" y="108"/>
                        </a:lnTo>
                        <a:lnTo>
                          <a:pt x="0" y="72"/>
                        </a:lnTo>
                        <a:lnTo>
                          <a:pt x="63" y="170"/>
                        </a:lnTo>
                        <a:lnTo>
                          <a:pt x="380" y="170"/>
                        </a:lnTo>
                        <a:lnTo>
                          <a:pt x="244" y="135"/>
                        </a:lnTo>
                        <a:lnTo>
                          <a:pt x="488" y="36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1052280" y="3425760"/>
                    <a:ext cx="25884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489" h="160">
                        <a:moveTo>
                          <a:pt x="0" y="35"/>
                        </a:moveTo>
                        <a:lnTo>
                          <a:pt x="109" y="0"/>
                        </a:lnTo>
                        <a:lnTo>
                          <a:pt x="371" y="97"/>
                        </a:lnTo>
                        <a:lnTo>
                          <a:pt x="489" y="71"/>
                        </a:lnTo>
                        <a:lnTo>
                          <a:pt x="425" y="160"/>
                        </a:lnTo>
                        <a:lnTo>
                          <a:pt x="118" y="160"/>
                        </a:lnTo>
                        <a:lnTo>
                          <a:pt x="244" y="133"/>
                        </a:lnTo>
                        <a:lnTo>
                          <a:pt x="0" y="3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1052280" y="3425760"/>
                    <a:ext cx="25884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489" h="160">
                        <a:moveTo>
                          <a:pt x="0" y="35"/>
                        </a:moveTo>
                        <a:lnTo>
                          <a:pt x="109" y="0"/>
                        </a:lnTo>
                        <a:lnTo>
                          <a:pt x="371" y="97"/>
                        </a:lnTo>
                        <a:lnTo>
                          <a:pt x="489" y="71"/>
                        </a:lnTo>
                        <a:lnTo>
                          <a:pt x="425" y="160"/>
                        </a:lnTo>
                        <a:lnTo>
                          <a:pt x="118" y="160"/>
                        </a:lnTo>
                        <a:lnTo>
                          <a:pt x="244" y="133"/>
                        </a:lnTo>
                        <a:lnTo>
                          <a:pt x="0" y="3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1311120" y="3538440"/>
                    <a:ext cx="25884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487" h="161">
                        <a:moveTo>
                          <a:pt x="487" y="126"/>
                        </a:moveTo>
                        <a:lnTo>
                          <a:pt x="378" y="161"/>
                        </a:lnTo>
                        <a:lnTo>
                          <a:pt x="125" y="54"/>
                        </a:lnTo>
                        <a:lnTo>
                          <a:pt x="0" y="90"/>
                        </a:lnTo>
                        <a:lnTo>
                          <a:pt x="62" y="0"/>
                        </a:lnTo>
                        <a:lnTo>
                          <a:pt x="378" y="0"/>
                        </a:lnTo>
                        <a:lnTo>
                          <a:pt x="243" y="27"/>
                        </a:lnTo>
                        <a:lnTo>
                          <a:pt x="487" y="126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1311120" y="3538440"/>
                    <a:ext cx="25884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487" h="161">
                        <a:moveTo>
                          <a:pt x="487" y="126"/>
                        </a:moveTo>
                        <a:lnTo>
                          <a:pt x="378" y="161"/>
                        </a:lnTo>
                        <a:lnTo>
                          <a:pt x="125" y="54"/>
                        </a:lnTo>
                        <a:lnTo>
                          <a:pt x="0" y="90"/>
                        </a:lnTo>
                        <a:lnTo>
                          <a:pt x="62" y="0"/>
                        </a:lnTo>
                        <a:lnTo>
                          <a:pt x="378" y="0"/>
                        </a:lnTo>
                        <a:lnTo>
                          <a:pt x="243" y="27"/>
                        </a:lnTo>
                        <a:lnTo>
                          <a:pt x="487" y="126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25" name=""/>
              <p:cNvSpPr/>
              <p:nvPr/>
            </p:nvSpPr>
            <p:spPr>
              <a:xfrm>
                <a:off x="914400" y="3519360"/>
                <a:ext cx="1440" cy="188640"/>
              </a:xfrm>
              <a:prstGeom prst="line">
                <a:avLst/>
              </a:prstGeom>
              <a:ln w="46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698480" y="3519360"/>
                <a:ext cx="1440" cy="188640"/>
              </a:xfrm>
              <a:prstGeom prst="line">
                <a:avLst/>
              </a:prstGeom>
              <a:ln w="46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"/>
            <p:cNvGrpSpPr/>
            <p:nvPr/>
          </p:nvGrpSpPr>
          <p:grpSpPr>
            <a:xfrm>
              <a:off x="914400" y="4457520"/>
              <a:ext cx="787320" cy="455760"/>
              <a:chOff x="914400" y="4457520"/>
              <a:chExt cx="787320" cy="455760"/>
            </a:xfrm>
          </p:grpSpPr>
          <p:sp>
            <p:nvSpPr>
              <p:cNvPr id="428" name=""/>
              <p:cNvSpPr/>
              <p:nvPr/>
            </p:nvSpPr>
            <p:spPr>
              <a:xfrm>
                <a:off x="915840" y="4646520"/>
                <a:ext cx="785880" cy="266760"/>
              </a:xfrm>
              <a:prstGeom prst="ellipse">
                <a:avLst/>
              </a:prstGeom>
              <a:solidFill>
                <a:srgbClr val="333333"/>
              </a:solidFill>
              <a:ln w="46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914400" y="4592520"/>
                <a:ext cx="784080" cy="18900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914400" y="4592520"/>
                <a:ext cx="784080" cy="18900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915840" y="4457520"/>
                <a:ext cx="785880" cy="266760"/>
              </a:xfrm>
              <a:prstGeom prst="ellipse">
                <a:avLst/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2" name=""/>
              <p:cNvGrpSpPr/>
              <p:nvPr/>
            </p:nvGrpSpPr>
            <p:grpSpPr>
              <a:xfrm>
                <a:off x="1033200" y="4489200"/>
                <a:ext cx="546120" cy="203400"/>
                <a:chOff x="1033200" y="4489200"/>
                <a:chExt cx="546120" cy="203400"/>
              </a:xfrm>
            </p:grpSpPr>
            <p:grpSp>
              <p:nvGrpSpPr>
                <p:cNvPr id="433" name=""/>
                <p:cNvGrpSpPr/>
                <p:nvPr/>
              </p:nvGrpSpPr>
              <p:grpSpPr>
                <a:xfrm>
                  <a:off x="1033200" y="4489200"/>
                  <a:ext cx="541440" cy="198360"/>
                  <a:chOff x="1033200" y="4489200"/>
                  <a:chExt cx="541440" cy="198360"/>
                </a:xfrm>
              </p:grpSpPr>
              <p:sp>
                <p:nvSpPr>
                  <p:cNvPr id="434" name=""/>
                  <p:cNvSpPr/>
                  <p:nvPr/>
                </p:nvSpPr>
                <p:spPr>
                  <a:xfrm>
                    <a:off x="1315800" y="4494240"/>
                    <a:ext cx="25884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487" h="160">
                        <a:moveTo>
                          <a:pt x="0" y="124"/>
                        </a:moveTo>
                        <a:lnTo>
                          <a:pt x="107" y="160"/>
                        </a:lnTo>
                        <a:lnTo>
                          <a:pt x="369" y="53"/>
                        </a:lnTo>
                        <a:lnTo>
                          <a:pt x="487" y="88"/>
                        </a:lnTo>
                        <a:lnTo>
                          <a:pt x="424" y="0"/>
                        </a:lnTo>
                        <a:lnTo>
                          <a:pt x="116" y="0"/>
                        </a:lnTo>
                        <a:lnTo>
                          <a:pt x="243" y="26"/>
                        </a:lnTo>
                        <a:lnTo>
                          <a:pt x="0" y="12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1315800" y="4494240"/>
                    <a:ext cx="25884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487" h="160">
                        <a:moveTo>
                          <a:pt x="0" y="124"/>
                        </a:moveTo>
                        <a:lnTo>
                          <a:pt x="107" y="160"/>
                        </a:lnTo>
                        <a:lnTo>
                          <a:pt x="369" y="53"/>
                        </a:lnTo>
                        <a:lnTo>
                          <a:pt x="487" y="88"/>
                        </a:lnTo>
                        <a:lnTo>
                          <a:pt x="424" y="0"/>
                        </a:lnTo>
                        <a:lnTo>
                          <a:pt x="116" y="0"/>
                        </a:lnTo>
                        <a:lnTo>
                          <a:pt x="243" y="26"/>
                        </a:lnTo>
                        <a:lnTo>
                          <a:pt x="0" y="12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1033200" y="4592520"/>
                    <a:ext cx="25884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488" h="170">
                        <a:moveTo>
                          <a:pt x="488" y="36"/>
                        </a:moveTo>
                        <a:lnTo>
                          <a:pt x="380" y="0"/>
                        </a:lnTo>
                        <a:lnTo>
                          <a:pt x="127" y="108"/>
                        </a:lnTo>
                        <a:lnTo>
                          <a:pt x="0" y="72"/>
                        </a:lnTo>
                        <a:lnTo>
                          <a:pt x="63" y="170"/>
                        </a:lnTo>
                        <a:lnTo>
                          <a:pt x="380" y="170"/>
                        </a:lnTo>
                        <a:lnTo>
                          <a:pt x="244" y="135"/>
                        </a:lnTo>
                        <a:lnTo>
                          <a:pt x="488" y="3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1033200" y="4592520"/>
                    <a:ext cx="25884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488" h="170">
                        <a:moveTo>
                          <a:pt x="488" y="36"/>
                        </a:moveTo>
                        <a:lnTo>
                          <a:pt x="380" y="0"/>
                        </a:lnTo>
                        <a:lnTo>
                          <a:pt x="127" y="108"/>
                        </a:lnTo>
                        <a:lnTo>
                          <a:pt x="0" y="72"/>
                        </a:lnTo>
                        <a:lnTo>
                          <a:pt x="63" y="170"/>
                        </a:lnTo>
                        <a:lnTo>
                          <a:pt x="380" y="170"/>
                        </a:lnTo>
                        <a:lnTo>
                          <a:pt x="244" y="135"/>
                        </a:lnTo>
                        <a:lnTo>
                          <a:pt x="488" y="3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1047600" y="4489200"/>
                    <a:ext cx="25884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489" h="160">
                        <a:moveTo>
                          <a:pt x="0" y="35"/>
                        </a:moveTo>
                        <a:lnTo>
                          <a:pt x="109" y="0"/>
                        </a:lnTo>
                        <a:lnTo>
                          <a:pt x="371" y="97"/>
                        </a:lnTo>
                        <a:lnTo>
                          <a:pt x="489" y="71"/>
                        </a:lnTo>
                        <a:lnTo>
                          <a:pt x="425" y="160"/>
                        </a:lnTo>
                        <a:lnTo>
                          <a:pt x="118" y="160"/>
                        </a:lnTo>
                        <a:lnTo>
                          <a:pt x="244" y="133"/>
                        </a:lnTo>
                        <a:lnTo>
                          <a:pt x="0" y="3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>
                    <a:off x="1047600" y="4489200"/>
                    <a:ext cx="25884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489" h="160">
                        <a:moveTo>
                          <a:pt x="0" y="35"/>
                        </a:moveTo>
                        <a:lnTo>
                          <a:pt x="109" y="0"/>
                        </a:lnTo>
                        <a:lnTo>
                          <a:pt x="371" y="97"/>
                        </a:lnTo>
                        <a:lnTo>
                          <a:pt x="489" y="71"/>
                        </a:lnTo>
                        <a:lnTo>
                          <a:pt x="425" y="160"/>
                        </a:lnTo>
                        <a:lnTo>
                          <a:pt x="118" y="160"/>
                        </a:lnTo>
                        <a:lnTo>
                          <a:pt x="244" y="133"/>
                        </a:lnTo>
                        <a:lnTo>
                          <a:pt x="0" y="3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1306440" y="4601880"/>
                    <a:ext cx="25884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487" h="161">
                        <a:moveTo>
                          <a:pt x="487" y="126"/>
                        </a:moveTo>
                        <a:lnTo>
                          <a:pt x="378" y="161"/>
                        </a:lnTo>
                        <a:lnTo>
                          <a:pt x="125" y="54"/>
                        </a:lnTo>
                        <a:lnTo>
                          <a:pt x="0" y="90"/>
                        </a:lnTo>
                        <a:lnTo>
                          <a:pt x="62" y="0"/>
                        </a:lnTo>
                        <a:lnTo>
                          <a:pt x="378" y="0"/>
                        </a:lnTo>
                        <a:lnTo>
                          <a:pt x="243" y="27"/>
                        </a:lnTo>
                        <a:lnTo>
                          <a:pt x="487" y="12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1306440" y="4601880"/>
                    <a:ext cx="25884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487" h="161">
                        <a:moveTo>
                          <a:pt x="487" y="126"/>
                        </a:moveTo>
                        <a:lnTo>
                          <a:pt x="378" y="161"/>
                        </a:lnTo>
                        <a:lnTo>
                          <a:pt x="125" y="54"/>
                        </a:lnTo>
                        <a:lnTo>
                          <a:pt x="0" y="90"/>
                        </a:lnTo>
                        <a:lnTo>
                          <a:pt x="62" y="0"/>
                        </a:lnTo>
                        <a:lnTo>
                          <a:pt x="378" y="0"/>
                        </a:lnTo>
                        <a:lnTo>
                          <a:pt x="243" y="27"/>
                        </a:lnTo>
                        <a:lnTo>
                          <a:pt x="487" y="12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2" name=""/>
                <p:cNvGrpSpPr/>
                <p:nvPr/>
              </p:nvGrpSpPr>
              <p:grpSpPr>
                <a:xfrm>
                  <a:off x="1038240" y="4494240"/>
                  <a:ext cx="541080" cy="198360"/>
                  <a:chOff x="1038240" y="4494240"/>
                  <a:chExt cx="541080" cy="198360"/>
                </a:xfrm>
              </p:grpSpPr>
              <p:sp>
                <p:nvSpPr>
                  <p:cNvPr id="443" name=""/>
                  <p:cNvSpPr/>
                  <p:nvPr/>
                </p:nvSpPr>
                <p:spPr>
                  <a:xfrm>
                    <a:off x="1320840" y="4498920"/>
                    <a:ext cx="25848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487" h="160">
                        <a:moveTo>
                          <a:pt x="0" y="124"/>
                        </a:moveTo>
                        <a:lnTo>
                          <a:pt x="107" y="160"/>
                        </a:lnTo>
                        <a:lnTo>
                          <a:pt x="369" y="53"/>
                        </a:lnTo>
                        <a:lnTo>
                          <a:pt x="487" y="88"/>
                        </a:lnTo>
                        <a:lnTo>
                          <a:pt x="424" y="0"/>
                        </a:lnTo>
                        <a:lnTo>
                          <a:pt x="116" y="0"/>
                        </a:lnTo>
                        <a:lnTo>
                          <a:pt x="243" y="26"/>
                        </a:lnTo>
                        <a:lnTo>
                          <a:pt x="0" y="1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1320840" y="4498920"/>
                    <a:ext cx="25848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487" h="160">
                        <a:moveTo>
                          <a:pt x="0" y="124"/>
                        </a:moveTo>
                        <a:lnTo>
                          <a:pt x="107" y="160"/>
                        </a:lnTo>
                        <a:lnTo>
                          <a:pt x="369" y="53"/>
                        </a:lnTo>
                        <a:lnTo>
                          <a:pt x="487" y="88"/>
                        </a:lnTo>
                        <a:lnTo>
                          <a:pt x="424" y="0"/>
                        </a:lnTo>
                        <a:lnTo>
                          <a:pt x="116" y="0"/>
                        </a:lnTo>
                        <a:lnTo>
                          <a:pt x="243" y="26"/>
                        </a:lnTo>
                        <a:lnTo>
                          <a:pt x="0" y="1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1038240" y="4597200"/>
                    <a:ext cx="25848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488" h="170">
                        <a:moveTo>
                          <a:pt x="488" y="36"/>
                        </a:moveTo>
                        <a:lnTo>
                          <a:pt x="380" y="0"/>
                        </a:lnTo>
                        <a:lnTo>
                          <a:pt x="127" y="108"/>
                        </a:lnTo>
                        <a:lnTo>
                          <a:pt x="0" y="72"/>
                        </a:lnTo>
                        <a:lnTo>
                          <a:pt x="63" y="170"/>
                        </a:lnTo>
                        <a:lnTo>
                          <a:pt x="380" y="170"/>
                        </a:lnTo>
                        <a:lnTo>
                          <a:pt x="244" y="135"/>
                        </a:lnTo>
                        <a:lnTo>
                          <a:pt x="488" y="36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1038240" y="4597200"/>
                    <a:ext cx="25848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488" h="170">
                        <a:moveTo>
                          <a:pt x="488" y="36"/>
                        </a:moveTo>
                        <a:lnTo>
                          <a:pt x="380" y="0"/>
                        </a:lnTo>
                        <a:lnTo>
                          <a:pt x="127" y="108"/>
                        </a:lnTo>
                        <a:lnTo>
                          <a:pt x="0" y="72"/>
                        </a:lnTo>
                        <a:lnTo>
                          <a:pt x="63" y="170"/>
                        </a:lnTo>
                        <a:lnTo>
                          <a:pt x="380" y="170"/>
                        </a:lnTo>
                        <a:lnTo>
                          <a:pt x="244" y="135"/>
                        </a:lnTo>
                        <a:lnTo>
                          <a:pt x="488" y="36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1052280" y="4494240"/>
                    <a:ext cx="25884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489" h="160">
                        <a:moveTo>
                          <a:pt x="0" y="35"/>
                        </a:moveTo>
                        <a:lnTo>
                          <a:pt x="109" y="0"/>
                        </a:lnTo>
                        <a:lnTo>
                          <a:pt x="371" y="97"/>
                        </a:lnTo>
                        <a:lnTo>
                          <a:pt x="489" y="71"/>
                        </a:lnTo>
                        <a:lnTo>
                          <a:pt x="425" y="160"/>
                        </a:lnTo>
                        <a:lnTo>
                          <a:pt x="118" y="160"/>
                        </a:lnTo>
                        <a:lnTo>
                          <a:pt x="244" y="133"/>
                        </a:lnTo>
                        <a:lnTo>
                          <a:pt x="0" y="3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>
                    <a:off x="1052280" y="4494240"/>
                    <a:ext cx="25884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489" h="160">
                        <a:moveTo>
                          <a:pt x="0" y="35"/>
                        </a:moveTo>
                        <a:lnTo>
                          <a:pt x="109" y="0"/>
                        </a:lnTo>
                        <a:lnTo>
                          <a:pt x="371" y="97"/>
                        </a:lnTo>
                        <a:lnTo>
                          <a:pt x="489" y="71"/>
                        </a:lnTo>
                        <a:lnTo>
                          <a:pt x="425" y="160"/>
                        </a:lnTo>
                        <a:lnTo>
                          <a:pt x="118" y="160"/>
                        </a:lnTo>
                        <a:lnTo>
                          <a:pt x="244" y="133"/>
                        </a:lnTo>
                        <a:lnTo>
                          <a:pt x="0" y="3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>
                    <a:off x="1311120" y="4606920"/>
                    <a:ext cx="25884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487" h="161">
                        <a:moveTo>
                          <a:pt x="487" y="126"/>
                        </a:moveTo>
                        <a:lnTo>
                          <a:pt x="378" y="161"/>
                        </a:lnTo>
                        <a:lnTo>
                          <a:pt x="125" y="54"/>
                        </a:lnTo>
                        <a:lnTo>
                          <a:pt x="0" y="90"/>
                        </a:lnTo>
                        <a:lnTo>
                          <a:pt x="62" y="0"/>
                        </a:lnTo>
                        <a:lnTo>
                          <a:pt x="378" y="0"/>
                        </a:lnTo>
                        <a:lnTo>
                          <a:pt x="243" y="27"/>
                        </a:lnTo>
                        <a:lnTo>
                          <a:pt x="487" y="126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1311120" y="4606920"/>
                    <a:ext cx="25884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487" h="161">
                        <a:moveTo>
                          <a:pt x="487" y="126"/>
                        </a:moveTo>
                        <a:lnTo>
                          <a:pt x="378" y="161"/>
                        </a:lnTo>
                        <a:lnTo>
                          <a:pt x="125" y="54"/>
                        </a:lnTo>
                        <a:lnTo>
                          <a:pt x="0" y="90"/>
                        </a:lnTo>
                        <a:lnTo>
                          <a:pt x="62" y="0"/>
                        </a:lnTo>
                        <a:lnTo>
                          <a:pt x="378" y="0"/>
                        </a:lnTo>
                        <a:lnTo>
                          <a:pt x="243" y="27"/>
                        </a:lnTo>
                        <a:lnTo>
                          <a:pt x="487" y="126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51" name=""/>
              <p:cNvSpPr/>
              <p:nvPr/>
            </p:nvSpPr>
            <p:spPr>
              <a:xfrm>
                <a:off x="914400" y="4587840"/>
                <a:ext cx="1440" cy="188640"/>
              </a:xfrm>
              <a:prstGeom prst="line">
                <a:avLst/>
              </a:prstGeom>
              <a:ln w="46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698480" y="4587840"/>
                <a:ext cx="1440" cy="188640"/>
              </a:xfrm>
              <a:prstGeom prst="line">
                <a:avLst/>
              </a:prstGeom>
              <a:ln w="46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914400" y="4836960"/>
              <a:ext cx="787320" cy="455760"/>
              <a:chOff x="914400" y="4836960"/>
              <a:chExt cx="787320" cy="455760"/>
            </a:xfrm>
          </p:grpSpPr>
          <p:sp>
            <p:nvSpPr>
              <p:cNvPr id="454" name=""/>
              <p:cNvSpPr/>
              <p:nvPr/>
            </p:nvSpPr>
            <p:spPr>
              <a:xfrm>
                <a:off x="915840" y="5025960"/>
                <a:ext cx="785880" cy="266760"/>
              </a:xfrm>
              <a:prstGeom prst="ellipse">
                <a:avLst/>
              </a:prstGeom>
              <a:solidFill>
                <a:srgbClr val="333333"/>
              </a:solidFill>
              <a:ln w="46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914400" y="4971960"/>
                <a:ext cx="784080" cy="18900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914400" y="4971960"/>
                <a:ext cx="784080" cy="18900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915840" y="4836960"/>
                <a:ext cx="785880" cy="266760"/>
              </a:xfrm>
              <a:prstGeom prst="ellipse">
                <a:avLst/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8" name=""/>
              <p:cNvGrpSpPr/>
              <p:nvPr/>
            </p:nvGrpSpPr>
            <p:grpSpPr>
              <a:xfrm>
                <a:off x="1033200" y="4868640"/>
                <a:ext cx="546120" cy="203400"/>
                <a:chOff x="1033200" y="4868640"/>
                <a:chExt cx="546120" cy="203400"/>
              </a:xfrm>
            </p:grpSpPr>
            <p:grpSp>
              <p:nvGrpSpPr>
                <p:cNvPr id="459" name=""/>
                <p:cNvGrpSpPr/>
                <p:nvPr/>
              </p:nvGrpSpPr>
              <p:grpSpPr>
                <a:xfrm>
                  <a:off x="1033200" y="4868640"/>
                  <a:ext cx="541440" cy="198360"/>
                  <a:chOff x="1033200" y="4868640"/>
                  <a:chExt cx="541440" cy="198360"/>
                </a:xfrm>
              </p:grpSpPr>
              <p:sp>
                <p:nvSpPr>
                  <p:cNvPr id="460" name=""/>
                  <p:cNvSpPr/>
                  <p:nvPr/>
                </p:nvSpPr>
                <p:spPr>
                  <a:xfrm>
                    <a:off x="1315800" y="4873680"/>
                    <a:ext cx="25884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487" h="160">
                        <a:moveTo>
                          <a:pt x="0" y="124"/>
                        </a:moveTo>
                        <a:lnTo>
                          <a:pt x="107" y="160"/>
                        </a:lnTo>
                        <a:lnTo>
                          <a:pt x="369" y="53"/>
                        </a:lnTo>
                        <a:lnTo>
                          <a:pt x="487" y="88"/>
                        </a:lnTo>
                        <a:lnTo>
                          <a:pt x="424" y="0"/>
                        </a:lnTo>
                        <a:lnTo>
                          <a:pt x="116" y="0"/>
                        </a:lnTo>
                        <a:lnTo>
                          <a:pt x="243" y="26"/>
                        </a:lnTo>
                        <a:lnTo>
                          <a:pt x="0" y="12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>
                    <a:off x="1315800" y="4873680"/>
                    <a:ext cx="25884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487" h="160">
                        <a:moveTo>
                          <a:pt x="0" y="124"/>
                        </a:moveTo>
                        <a:lnTo>
                          <a:pt x="107" y="160"/>
                        </a:lnTo>
                        <a:lnTo>
                          <a:pt x="369" y="53"/>
                        </a:lnTo>
                        <a:lnTo>
                          <a:pt x="487" y="88"/>
                        </a:lnTo>
                        <a:lnTo>
                          <a:pt x="424" y="0"/>
                        </a:lnTo>
                        <a:lnTo>
                          <a:pt x="116" y="0"/>
                        </a:lnTo>
                        <a:lnTo>
                          <a:pt x="243" y="26"/>
                        </a:lnTo>
                        <a:lnTo>
                          <a:pt x="0" y="12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>
                    <a:off x="1033200" y="4971960"/>
                    <a:ext cx="25884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488" h="170">
                        <a:moveTo>
                          <a:pt x="488" y="36"/>
                        </a:moveTo>
                        <a:lnTo>
                          <a:pt x="380" y="0"/>
                        </a:lnTo>
                        <a:lnTo>
                          <a:pt x="127" y="108"/>
                        </a:lnTo>
                        <a:lnTo>
                          <a:pt x="0" y="72"/>
                        </a:lnTo>
                        <a:lnTo>
                          <a:pt x="63" y="170"/>
                        </a:lnTo>
                        <a:lnTo>
                          <a:pt x="380" y="170"/>
                        </a:lnTo>
                        <a:lnTo>
                          <a:pt x="244" y="135"/>
                        </a:lnTo>
                        <a:lnTo>
                          <a:pt x="488" y="3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1033200" y="4971960"/>
                    <a:ext cx="25884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488" h="170">
                        <a:moveTo>
                          <a:pt x="488" y="36"/>
                        </a:moveTo>
                        <a:lnTo>
                          <a:pt x="380" y="0"/>
                        </a:lnTo>
                        <a:lnTo>
                          <a:pt x="127" y="108"/>
                        </a:lnTo>
                        <a:lnTo>
                          <a:pt x="0" y="72"/>
                        </a:lnTo>
                        <a:lnTo>
                          <a:pt x="63" y="170"/>
                        </a:lnTo>
                        <a:lnTo>
                          <a:pt x="380" y="170"/>
                        </a:lnTo>
                        <a:lnTo>
                          <a:pt x="244" y="135"/>
                        </a:lnTo>
                        <a:lnTo>
                          <a:pt x="488" y="3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1047600" y="4868640"/>
                    <a:ext cx="25884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489" h="160">
                        <a:moveTo>
                          <a:pt x="0" y="35"/>
                        </a:moveTo>
                        <a:lnTo>
                          <a:pt x="109" y="0"/>
                        </a:lnTo>
                        <a:lnTo>
                          <a:pt x="371" y="97"/>
                        </a:lnTo>
                        <a:lnTo>
                          <a:pt x="489" y="71"/>
                        </a:lnTo>
                        <a:lnTo>
                          <a:pt x="425" y="160"/>
                        </a:lnTo>
                        <a:lnTo>
                          <a:pt x="118" y="160"/>
                        </a:lnTo>
                        <a:lnTo>
                          <a:pt x="244" y="133"/>
                        </a:lnTo>
                        <a:lnTo>
                          <a:pt x="0" y="3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1047600" y="4868640"/>
                    <a:ext cx="25884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489" h="160">
                        <a:moveTo>
                          <a:pt x="0" y="35"/>
                        </a:moveTo>
                        <a:lnTo>
                          <a:pt x="109" y="0"/>
                        </a:lnTo>
                        <a:lnTo>
                          <a:pt x="371" y="97"/>
                        </a:lnTo>
                        <a:lnTo>
                          <a:pt x="489" y="71"/>
                        </a:lnTo>
                        <a:lnTo>
                          <a:pt x="425" y="160"/>
                        </a:lnTo>
                        <a:lnTo>
                          <a:pt x="118" y="160"/>
                        </a:lnTo>
                        <a:lnTo>
                          <a:pt x="244" y="133"/>
                        </a:lnTo>
                        <a:lnTo>
                          <a:pt x="0" y="3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>
                    <a:off x="1306440" y="4981320"/>
                    <a:ext cx="25884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487" h="161">
                        <a:moveTo>
                          <a:pt x="487" y="126"/>
                        </a:moveTo>
                        <a:lnTo>
                          <a:pt x="378" y="161"/>
                        </a:lnTo>
                        <a:lnTo>
                          <a:pt x="125" y="54"/>
                        </a:lnTo>
                        <a:lnTo>
                          <a:pt x="0" y="90"/>
                        </a:lnTo>
                        <a:lnTo>
                          <a:pt x="62" y="0"/>
                        </a:lnTo>
                        <a:lnTo>
                          <a:pt x="378" y="0"/>
                        </a:lnTo>
                        <a:lnTo>
                          <a:pt x="243" y="27"/>
                        </a:lnTo>
                        <a:lnTo>
                          <a:pt x="487" y="12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1306440" y="4981320"/>
                    <a:ext cx="25884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487" h="161">
                        <a:moveTo>
                          <a:pt x="487" y="126"/>
                        </a:moveTo>
                        <a:lnTo>
                          <a:pt x="378" y="161"/>
                        </a:lnTo>
                        <a:lnTo>
                          <a:pt x="125" y="54"/>
                        </a:lnTo>
                        <a:lnTo>
                          <a:pt x="0" y="90"/>
                        </a:lnTo>
                        <a:lnTo>
                          <a:pt x="62" y="0"/>
                        </a:lnTo>
                        <a:lnTo>
                          <a:pt x="378" y="0"/>
                        </a:lnTo>
                        <a:lnTo>
                          <a:pt x="243" y="27"/>
                        </a:lnTo>
                        <a:lnTo>
                          <a:pt x="487" y="12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8" name=""/>
                <p:cNvGrpSpPr/>
                <p:nvPr/>
              </p:nvGrpSpPr>
              <p:grpSpPr>
                <a:xfrm>
                  <a:off x="1038240" y="4873680"/>
                  <a:ext cx="541080" cy="198360"/>
                  <a:chOff x="1038240" y="4873680"/>
                  <a:chExt cx="541080" cy="198360"/>
                </a:xfrm>
              </p:grpSpPr>
              <p:sp>
                <p:nvSpPr>
                  <p:cNvPr id="469" name=""/>
                  <p:cNvSpPr/>
                  <p:nvPr/>
                </p:nvSpPr>
                <p:spPr>
                  <a:xfrm>
                    <a:off x="1320840" y="4878360"/>
                    <a:ext cx="25848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487" h="160">
                        <a:moveTo>
                          <a:pt x="0" y="124"/>
                        </a:moveTo>
                        <a:lnTo>
                          <a:pt x="107" y="160"/>
                        </a:lnTo>
                        <a:lnTo>
                          <a:pt x="369" y="53"/>
                        </a:lnTo>
                        <a:lnTo>
                          <a:pt x="487" y="88"/>
                        </a:lnTo>
                        <a:lnTo>
                          <a:pt x="424" y="0"/>
                        </a:lnTo>
                        <a:lnTo>
                          <a:pt x="116" y="0"/>
                        </a:lnTo>
                        <a:lnTo>
                          <a:pt x="243" y="26"/>
                        </a:lnTo>
                        <a:lnTo>
                          <a:pt x="0" y="1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>
                    <a:off x="1320840" y="4878360"/>
                    <a:ext cx="25848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487" h="160">
                        <a:moveTo>
                          <a:pt x="0" y="124"/>
                        </a:moveTo>
                        <a:lnTo>
                          <a:pt x="107" y="160"/>
                        </a:lnTo>
                        <a:lnTo>
                          <a:pt x="369" y="53"/>
                        </a:lnTo>
                        <a:lnTo>
                          <a:pt x="487" y="88"/>
                        </a:lnTo>
                        <a:lnTo>
                          <a:pt x="424" y="0"/>
                        </a:lnTo>
                        <a:lnTo>
                          <a:pt x="116" y="0"/>
                        </a:lnTo>
                        <a:lnTo>
                          <a:pt x="243" y="26"/>
                        </a:lnTo>
                        <a:lnTo>
                          <a:pt x="0" y="1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>
                    <a:off x="1038240" y="4976640"/>
                    <a:ext cx="25848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488" h="170">
                        <a:moveTo>
                          <a:pt x="488" y="36"/>
                        </a:moveTo>
                        <a:lnTo>
                          <a:pt x="380" y="0"/>
                        </a:lnTo>
                        <a:lnTo>
                          <a:pt x="127" y="108"/>
                        </a:lnTo>
                        <a:lnTo>
                          <a:pt x="0" y="72"/>
                        </a:lnTo>
                        <a:lnTo>
                          <a:pt x="63" y="170"/>
                        </a:lnTo>
                        <a:lnTo>
                          <a:pt x="380" y="170"/>
                        </a:lnTo>
                        <a:lnTo>
                          <a:pt x="244" y="135"/>
                        </a:lnTo>
                        <a:lnTo>
                          <a:pt x="488" y="36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>
                    <a:off x="1038240" y="4976640"/>
                    <a:ext cx="25848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488" h="170">
                        <a:moveTo>
                          <a:pt x="488" y="36"/>
                        </a:moveTo>
                        <a:lnTo>
                          <a:pt x="380" y="0"/>
                        </a:lnTo>
                        <a:lnTo>
                          <a:pt x="127" y="108"/>
                        </a:lnTo>
                        <a:lnTo>
                          <a:pt x="0" y="72"/>
                        </a:lnTo>
                        <a:lnTo>
                          <a:pt x="63" y="170"/>
                        </a:lnTo>
                        <a:lnTo>
                          <a:pt x="380" y="170"/>
                        </a:lnTo>
                        <a:lnTo>
                          <a:pt x="244" y="135"/>
                        </a:lnTo>
                        <a:lnTo>
                          <a:pt x="488" y="36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>
                    <a:off x="1052280" y="4873680"/>
                    <a:ext cx="25884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489" h="160">
                        <a:moveTo>
                          <a:pt x="0" y="35"/>
                        </a:moveTo>
                        <a:lnTo>
                          <a:pt x="109" y="0"/>
                        </a:lnTo>
                        <a:lnTo>
                          <a:pt x="371" y="97"/>
                        </a:lnTo>
                        <a:lnTo>
                          <a:pt x="489" y="71"/>
                        </a:lnTo>
                        <a:lnTo>
                          <a:pt x="425" y="160"/>
                        </a:lnTo>
                        <a:lnTo>
                          <a:pt x="118" y="160"/>
                        </a:lnTo>
                        <a:lnTo>
                          <a:pt x="244" y="133"/>
                        </a:lnTo>
                        <a:lnTo>
                          <a:pt x="0" y="3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1052280" y="4873680"/>
                    <a:ext cx="25884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489" h="160">
                        <a:moveTo>
                          <a:pt x="0" y="35"/>
                        </a:moveTo>
                        <a:lnTo>
                          <a:pt x="109" y="0"/>
                        </a:lnTo>
                        <a:lnTo>
                          <a:pt x="371" y="97"/>
                        </a:lnTo>
                        <a:lnTo>
                          <a:pt x="489" y="71"/>
                        </a:lnTo>
                        <a:lnTo>
                          <a:pt x="425" y="160"/>
                        </a:lnTo>
                        <a:lnTo>
                          <a:pt x="118" y="160"/>
                        </a:lnTo>
                        <a:lnTo>
                          <a:pt x="244" y="133"/>
                        </a:lnTo>
                        <a:lnTo>
                          <a:pt x="0" y="3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1311120" y="4986360"/>
                    <a:ext cx="25884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487" h="161">
                        <a:moveTo>
                          <a:pt x="487" y="126"/>
                        </a:moveTo>
                        <a:lnTo>
                          <a:pt x="378" y="161"/>
                        </a:lnTo>
                        <a:lnTo>
                          <a:pt x="125" y="54"/>
                        </a:lnTo>
                        <a:lnTo>
                          <a:pt x="0" y="90"/>
                        </a:lnTo>
                        <a:lnTo>
                          <a:pt x="62" y="0"/>
                        </a:lnTo>
                        <a:lnTo>
                          <a:pt x="378" y="0"/>
                        </a:lnTo>
                        <a:lnTo>
                          <a:pt x="243" y="27"/>
                        </a:lnTo>
                        <a:lnTo>
                          <a:pt x="487" y="126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1311120" y="4986360"/>
                    <a:ext cx="25884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487" h="161">
                        <a:moveTo>
                          <a:pt x="487" y="126"/>
                        </a:moveTo>
                        <a:lnTo>
                          <a:pt x="378" y="161"/>
                        </a:lnTo>
                        <a:lnTo>
                          <a:pt x="125" y="54"/>
                        </a:lnTo>
                        <a:lnTo>
                          <a:pt x="0" y="90"/>
                        </a:lnTo>
                        <a:lnTo>
                          <a:pt x="62" y="0"/>
                        </a:lnTo>
                        <a:lnTo>
                          <a:pt x="378" y="0"/>
                        </a:lnTo>
                        <a:lnTo>
                          <a:pt x="243" y="27"/>
                        </a:lnTo>
                        <a:lnTo>
                          <a:pt x="487" y="126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77" name=""/>
              <p:cNvSpPr/>
              <p:nvPr/>
            </p:nvSpPr>
            <p:spPr>
              <a:xfrm>
                <a:off x="914400" y="4967280"/>
                <a:ext cx="1440" cy="188640"/>
              </a:xfrm>
              <a:prstGeom prst="line">
                <a:avLst/>
              </a:prstGeom>
              <a:ln w="46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698480" y="4967280"/>
                <a:ext cx="1440" cy="188640"/>
              </a:xfrm>
              <a:prstGeom prst="line">
                <a:avLst/>
              </a:prstGeom>
              <a:ln w="46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9" name=""/>
            <p:cNvSpPr/>
            <p:nvPr/>
          </p:nvSpPr>
          <p:spPr>
            <a:xfrm>
              <a:off x="685800" y="5864040"/>
              <a:ext cx="1219320" cy="641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iscos em cada POP com  Netflow ativo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0" name=""/>
          <p:cNvSpPr/>
          <p:nvPr/>
        </p:nvSpPr>
        <p:spPr>
          <a:xfrm>
            <a:off x="2209680" y="2322360"/>
            <a:ext cx="0" cy="41911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419720" y="2322360"/>
            <a:ext cx="0" cy="41911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781680" y="2246400"/>
            <a:ext cx="0" cy="4190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1905120" y="3048120"/>
            <a:ext cx="2209680" cy="3832560"/>
            <a:chOff x="1905120" y="3048120"/>
            <a:chExt cx="2209680" cy="3832560"/>
          </a:xfrm>
        </p:grpSpPr>
        <p:graphicFrame>
          <p:nvGraphicFramePr>
            <p:cNvPr id="484" name=""/>
            <p:cNvGraphicFramePr/>
            <p:nvPr/>
          </p:nvGraphicFramePr>
          <p:xfrm>
            <a:off x="3013200" y="3048120"/>
            <a:ext cx="644400" cy="798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8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13200" y="3048120"/>
                      <a:ext cx="644400" cy="798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86" name=""/>
            <p:cNvGraphicFramePr/>
            <p:nvPr/>
          </p:nvGraphicFramePr>
          <p:xfrm>
            <a:off x="3013200" y="4456440"/>
            <a:ext cx="644400" cy="798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8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013200" y="4456440"/>
                      <a:ext cx="644400" cy="798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488" name=""/>
            <p:cNvGrpSpPr/>
            <p:nvPr/>
          </p:nvGrpSpPr>
          <p:grpSpPr>
            <a:xfrm>
              <a:off x="1905120" y="3100680"/>
              <a:ext cx="990360" cy="276480"/>
              <a:chOff x="1905120" y="3100680"/>
              <a:chExt cx="990360" cy="276480"/>
            </a:xfrm>
          </p:grpSpPr>
          <p:sp>
            <p:nvSpPr>
              <p:cNvPr id="489" name=""/>
              <p:cNvSpPr/>
              <p:nvPr/>
            </p:nvSpPr>
            <p:spPr>
              <a:xfrm>
                <a:off x="1905120" y="3313440"/>
                <a:ext cx="9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2069280" y="3100680"/>
                <a:ext cx="596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Fluxo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1" name=""/>
            <p:cNvGrpSpPr/>
            <p:nvPr/>
          </p:nvGrpSpPr>
          <p:grpSpPr>
            <a:xfrm>
              <a:off x="1905120" y="4638960"/>
              <a:ext cx="990360" cy="276480"/>
              <a:chOff x="1905120" y="4638960"/>
              <a:chExt cx="990360" cy="276480"/>
            </a:xfrm>
          </p:grpSpPr>
          <p:sp>
            <p:nvSpPr>
              <p:cNvPr id="492" name=""/>
              <p:cNvSpPr/>
              <p:nvPr/>
            </p:nvSpPr>
            <p:spPr>
              <a:xfrm>
                <a:off x="1905120" y="4851720"/>
                <a:ext cx="9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2069280" y="4638960"/>
                <a:ext cx="596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Fluxo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4" name=""/>
            <p:cNvSpPr/>
            <p:nvPr/>
          </p:nvSpPr>
          <p:spPr>
            <a:xfrm>
              <a:off x="2438280" y="5874120"/>
              <a:ext cx="1676520" cy="1006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Maquinas coletoras locais recebem os fluxos em pacotes  UDP através do pacote flow-tools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3733920" y="3313080"/>
            <a:ext cx="2743200" cy="3375000"/>
            <a:chOff x="3733920" y="3313080"/>
            <a:chExt cx="2743200" cy="3375000"/>
          </a:xfrm>
        </p:grpSpPr>
        <p:sp>
          <p:nvSpPr>
            <p:cNvPr id="496" name=""/>
            <p:cNvSpPr/>
            <p:nvPr/>
          </p:nvSpPr>
          <p:spPr>
            <a:xfrm>
              <a:off x="3809880" y="3313080"/>
              <a:ext cx="10670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3733920" y="4608000"/>
              <a:ext cx="11430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8" name=""/>
            <p:cNvGrpSpPr/>
            <p:nvPr/>
          </p:nvGrpSpPr>
          <p:grpSpPr>
            <a:xfrm>
              <a:off x="4748040" y="3693960"/>
              <a:ext cx="1729080" cy="2994120"/>
              <a:chOff x="4748040" y="3693960"/>
              <a:chExt cx="1729080" cy="2994120"/>
            </a:xfrm>
          </p:grpSpPr>
          <p:graphicFrame>
            <p:nvGraphicFramePr>
              <p:cNvPr id="499" name=""/>
              <p:cNvGraphicFramePr/>
              <p:nvPr/>
            </p:nvGraphicFramePr>
            <p:xfrm>
              <a:off x="4748040" y="3693960"/>
              <a:ext cx="814680" cy="8380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500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4748040" y="3693960"/>
                        <a:ext cx="814680" cy="838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01" name=""/>
              <p:cNvSpPr/>
              <p:nvPr/>
            </p:nvSpPr>
            <p:spPr>
              <a:xfrm>
                <a:off x="5486400" y="3998880"/>
                <a:ext cx="457200" cy="304560"/>
              </a:xfrm>
              <a:prstGeom prst="can">
                <a:avLst>
                  <a:gd name="adj" fmla="val 25000"/>
                </a:avLst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019920" y="3998880"/>
                <a:ext cx="457200" cy="304560"/>
              </a:xfrm>
              <a:prstGeom prst="can">
                <a:avLst>
                  <a:gd name="adj" fmla="val 25000"/>
                </a:avLst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4800600" y="5864040"/>
                <a:ext cx="1676520" cy="824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Times New Roman"/>
                  </a:rPr>
                  <a:t>Servidor concentra todos os fluxos. Atualmente no Nuperc (Salvador)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4" name=""/>
          <p:cNvGrpSpPr/>
          <p:nvPr/>
        </p:nvGrpSpPr>
        <p:grpSpPr>
          <a:xfrm>
            <a:off x="6553080" y="3008160"/>
            <a:ext cx="2057400" cy="3855960"/>
            <a:chOff x="6553080" y="3008160"/>
            <a:chExt cx="2057400" cy="3855960"/>
          </a:xfrm>
        </p:grpSpPr>
        <p:graphicFrame>
          <p:nvGraphicFramePr>
            <p:cNvPr id="505" name=""/>
            <p:cNvGraphicFramePr/>
            <p:nvPr/>
          </p:nvGraphicFramePr>
          <p:xfrm>
            <a:off x="7162920" y="3008160"/>
            <a:ext cx="1066680" cy="798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0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162920" y="3008160"/>
                      <a:ext cx="1066680" cy="798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07" name=""/>
            <p:cNvGraphicFramePr/>
            <p:nvPr/>
          </p:nvGraphicFramePr>
          <p:xfrm>
            <a:off x="7162920" y="4532040"/>
            <a:ext cx="1143000" cy="7477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508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162920" y="4532040"/>
                      <a:ext cx="1143000" cy="74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09" name=""/>
            <p:cNvSpPr/>
            <p:nvPr/>
          </p:nvSpPr>
          <p:spPr>
            <a:xfrm flipV="1">
              <a:off x="6553080" y="3465360"/>
              <a:ext cx="7621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629400" y="430344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934320" y="5675040"/>
              <a:ext cx="1676160" cy="11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ados que podem ser apresentados de forma gráfica ou disponibilizados  por ftp para os grupos de interesse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09480" y="1219320"/>
            <a:ext cx="65534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Verdana"/>
              </a:rPr>
              <a:t>Cisco Netflow na RNP2</a:t>
            </a:r>
            <a:endParaRPr b="1" lang="en-US" sz="2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13" name=""/>
          <p:cNvSpPr/>
          <p:nvPr/>
        </p:nvSpPr>
        <p:spPr>
          <a:xfrm>
            <a:off x="762120" y="457200"/>
            <a:ext cx="6400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ra-estrutura de Mediçõ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1219320"/>
            <a:ext cx="65534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Verdana"/>
              </a:rPr>
              <a:t>Coletor Netflow</a:t>
            </a:r>
            <a:endParaRPr b="1" lang="en-US" sz="2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figuraçã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Pacote flow-tools-0.6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Máquinas Linux RH 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Porta UPD 98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Dados compactados e transferidos para um servidor principal diariamente por rsync e depois apagado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Para evitar perdas de dados estas máquinas precisam estar dedicadas para a coleta e na mesma rede do cisco que possui o Netflow ativado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A maioria dos POPs estão com as máquinas coletoras configuradas faltando a ativação do Netflow no roteador principal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62120" y="457200"/>
            <a:ext cx="6400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ra-estrutura de Mediçõ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09480" y="1219320"/>
            <a:ext cx="65534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Verdana"/>
              </a:rPr>
              <a:t>Mapa de ativação das máquinas coletoras</a:t>
            </a:r>
            <a:endParaRPr b="1" lang="en-US" sz="2000" spc="-1" strike="noStrike">
              <a:solidFill>
                <a:srgbClr val="3333cc"/>
              </a:solidFill>
              <a:latin typeface="Verdana"/>
            </a:endParaRPr>
          </a:p>
        </p:txBody>
      </p:sp>
      <p:pic>
        <p:nvPicPr>
          <p:cNvPr id="518" name="mapa_brasil" descr=""/>
          <p:cNvPicPr/>
          <p:nvPr/>
        </p:nvPicPr>
        <p:blipFill>
          <a:blip r:embed="rId1"/>
          <a:stretch/>
        </p:blipFill>
        <p:spPr>
          <a:xfrm>
            <a:off x="2666880" y="1905120"/>
            <a:ext cx="4038840" cy="3816360"/>
          </a:xfrm>
          <a:prstGeom prst="rect">
            <a:avLst/>
          </a:prstGeom>
          <a:ln w="0">
            <a:noFill/>
          </a:ln>
        </p:spPr>
      </p:pic>
      <p:sp>
        <p:nvSpPr>
          <p:cNvPr id="519" name=""/>
          <p:cNvSpPr/>
          <p:nvPr/>
        </p:nvSpPr>
        <p:spPr>
          <a:xfrm>
            <a:off x="762120" y="457200"/>
            <a:ext cx="6400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ra-estrutura de Mediçõ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09480" y="1219320"/>
            <a:ext cx="65534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Verdana"/>
              </a:rPr>
              <a:t>Disponibilização dos dados</a:t>
            </a:r>
            <a:endParaRPr b="1" lang="en-US" sz="2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rvidor de colet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Máquinas Linux RH 8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8 discos SCSI (sem RAID) e 4 processadores Pentium III 750Mhz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Atualmente sem políticas de backup dos dados coletado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Dados brutos disponibilizados por FTP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Será necessário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Implantação de políticas de backup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Transferência para POPRJ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Aumento da capacidade de processamento e armazenamento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62120" y="457200"/>
            <a:ext cx="6400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ra-estrutura de Mediçõ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09480" y="1219320"/>
            <a:ext cx="65534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Verdana"/>
              </a:rPr>
              <a:t>Disponibilização dos dados</a:t>
            </a:r>
            <a:endParaRPr b="1" lang="en-US" sz="2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9261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esso aos dados por f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ftp01" descr=""/>
          <p:cNvPicPr/>
          <p:nvPr/>
        </p:nvPicPr>
        <p:blipFill>
          <a:blip r:embed="rId1"/>
          <a:stretch/>
        </p:blipFill>
        <p:spPr>
          <a:xfrm>
            <a:off x="685800" y="2514600"/>
            <a:ext cx="5181480" cy="3422520"/>
          </a:xfrm>
          <a:prstGeom prst="rect">
            <a:avLst/>
          </a:prstGeom>
          <a:ln w="0">
            <a:noFill/>
          </a:ln>
        </p:spPr>
      </p:pic>
      <p:pic>
        <p:nvPicPr>
          <p:cNvPr id="526" name="ftp02" descr=""/>
          <p:cNvPicPr/>
          <p:nvPr/>
        </p:nvPicPr>
        <p:blipFill>
          <a:blip r:embed="rId2"/>
          <a:stretch/>
        </p:blipFill>
        <p:spPr>
          <a:xfrm>
            <a:off x="3505320" y="2819520"/>
            <a:ext cx="5029200" cy="332244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>
            <a:off x="762120" y="457200"/>
            <a:ext cx="6400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ra-estrutura de Mediçõ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715000" y="1371600"/>
            <a:ext cx="2514600" cy="838080"/>
          </a:xfrm>
          <a:prstGeom prst="wedgeRoundRectCallout">
            <a:avLst>
              <a:gd name="adj1" fmla="val -126893"/>
              <a:gd name="adj2" fmla="val 203217"/>
              <a:gd name="adj3" fmla="val 16667"/>
            </a:avLst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retórios no raiz do ft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867280" y="1523880"/>
            <a:ext cx="2514600" cy="838440"/>
          </a:xfrm>
          <a:prstGeom prst="wedgeRoundRectCallout">
            <a:avLst>
              <a:gd name="adj1" fmla="val -25064"/>
              <a:gd name="adj2" fmla="val 240907"/>
              <a:gd name="adj3" fmla="val 16667"/>
            </a:avLst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bdiretórios com os fluxos de cada P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09480" y="1219320"/>
            <a:ext cx="65534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Verdana"/>
              </a:rPr>
              <a:t>Disponibilização dos dados</a:t>
            </a:r>
            <a:endParaRPr b="1" lang="en-US" sz="2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9261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cesso aos dados por f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ftp03_poprj" descr=""/>
          <p:cNvPicPr/>
          <p:nvPr/>
        </p:nvPicPr>
        <p:blipFill>
          <a:blip r:embed="rId1"/>
          <a:stretch/>
        </p:blipFill>
        <p:spPr>
          <a:xfrm>
            <a:off x="304920" y="2592360"/>
            <a:ext cx="5181480" cy="3422520"/>
          </a:xfrm>
          <a:prstGeom prst="rect">
            <a:avLst/>
          </a:prstGeom>
          <a:ln w="0">
            <a:noFill/>
          </a:ln>
        </p:spPr>
      </p:pic>
      <p:pic>
        <p:nvPicPr>
          <p:cNvPr id="533" name="ftp03_poprj2" descr=""/>
          <p:cNvPicPr/>
          <p:nvPr/>
        </p:nvPicPr>
        <p:blipFill>
          <a:blip r:embed="rId2"/>
          <a:stretch/>
        </p:blipFill>
        <p:spPr>
          <a:xfrm>
            <a:off x="3124080" y="2895480"/>
            <a:ext cx="4953240" cy="327348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/>
          <p:nvPr/>
        </p:nvSpPr>
        <p:spPr>
          <a:xfrm>
            <a:off x="762120" y="457200"/>
            <a:ext cx="6400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ra-estrutura de Mediçõ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715000" y="1371600"/>
            <a:ext cx="2514600" cy="838080"/>
          </a:xfrm>
          <a:prstGeom prst="wedgeRoundRectCallout">
            <a:avLst>
              <a:gd name="adj1" fmla="val -126893"/>
              <a:gd name="adj2" fmla="val 203217"/>
              <a:gd name="adj3" fmla="val 16667"/>
            </a:avLst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ntro do diretório de cada POP os fluxos são separados por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867280" y="1523880"/>
            <a:ext cx="2514600" cy="838440"/>
          </a:xfrm>
          <a:prstGeom prst="wedgeRoundRectCallout">
            <a:avLst>
              <a:gd name="adj1" fmla="val -25064"/>
              <a:gd name="adj2" fmla="val 240907"/>
              <a:gd name="adj3" fmla="val 16667"/>
            </a:avLst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s arquivos com as informações dos flux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480" y="1219320"/>
            <a:ext cx="65534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Verdana"/>
              </a:rPr>
              <a:t>Apresentação dos dados</a:t>
            </a:r>
            <a:endParaRPr b="1" lang="en-US" sz="2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3924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abular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Disponível na página do G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Apenas alguns fluxos de interes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AS origem, AS destino, AS origem e destino, porta origem, porta destino, protocolo IP, IP origem, IP destino, IP origem e destino, IP next hop, 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cessamento realizado em background dos dados do dia anteri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Outros fluxos podem ser disponibilizados na págin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A apresentação dos dados pode ser feita por uma outra máquina com maior poder de processamen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62120" y="457200"/>
            <a:ext cx="6400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ra-estrutura de Mediçõ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0" name="result_popbaTabela" descr=""/>
          <p:cNvPicPr/>
          <p:nvPr/>
        </p:nvPicPr>
        <p:blipFill>
          <a:blip r:embed="rId1"/>
          <a:stretch/>
        </p:blipFill>
        <p:spPr>
          <a:xfrm>
            <a:off x="4267080" y="1752480"/>
            <a:ext cx="4648320" cy="39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09480" y="1219320"/>
            <a:ext cx="65534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Verdana"/>
              </a:rPr>
              <a:t>Apresentação dos dados</a:t>
            </a:r>
            <a:endParaRPr b="1" lang="en-US" sz="2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43080" y="1752120"/>
            <a:ext cx="3543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Gráfic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Utilização da ferramenta flow-sc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ara a geração destes gráficos é necessário um conhecimento das redes de cada PO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rocessamento realizado em backg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elhor visualização da composição do tráfego quando comparado com ferramentas com o MRT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762120" y="457200"/>
            <a:ext cx="6400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ra-estrutura de Mediçõ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result_popbaGrafico" descr=""/>
          <p:cNvPicPr/>
          <p:nvPr/>
        </p:nvPicPr>
        <p:blipFill>
          <a:blip r:embed="rId1"/>
          <a:stretch/>
        </p:blipFill>
        <p:spPr>
          <a:xfrm>
            <a:off x="4038480" y="1828800"/>
            <a:ext cx="487692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1219320"/>
            <a:ext cx="65534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Verdana"/>
              </a:rPr>
              <a:t>Visualização gráfica</a:t>
            </a:r>
            <a:endParaRPr b="1" lang="en-US" sz="2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m um bom ambiente de gerência e visualização, pode-se identificar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s anomalias na red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 uso indevido (Ex.: tentativas de varreduras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endências do tráfeg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erviços que consomem maior band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aracterísticas das subredes dos POP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762120" y="457200"/>
            <a:ext cx="6400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ra-estrutura de Mediçõ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1219320"/>
            <a:ext cx="65534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Verdana"/>
              </a:rPr>
              <a:t>Projetos Relacionados:</a:t>
            </a:r>
            <a:endParaRPr b="1" lang="en-US" sz="2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rojetos de Redes Avanç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QoM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(UNIFACS, UFPR, UFSC, UFRGS e CPqD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nfraVID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(UFPE, UFRN, UFBA, UNIFACS e Real Hospital Portuguê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MAPPED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(UFRJ, UFF, UFMG e CEDERJ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QoSWar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(UFPE, UFMG e Telemar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QUARESM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(UFRJ, UNICAMP, UFF, LIP6 e Netcenter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GTs de Aplicaçõ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oz sobre 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ídeo Digi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plicações educacio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57200"/>
            <a:ext cx="6400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posta de Trabal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92504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Verdana"/>
              </a:rPr>
              <a:t>Ambiente de visualização e gerência (Estágio atual)</a:t>
            </a:r>
            <a:endParaRPr b="1" lang="en-US" sz="2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2610000" y="1752120"/>
            <a:ext cx="37303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RTG -&gt; Flowsc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flowscanHome" descr=""/>
          <p:cNvPicPr/>
          <p:nvPr/>
        </p:nvPicPr>
        <p:blipFill>
          <a:blip r:embed="rId1"/>
          <a:stretch/>
        </p:blipFill>
        <p:spPr>
          <a:xfrm>
            <a:off x="4876920" y="2514600"/>
            <a:ext cx="3581280" cy="2990880"/>
          </a:xfrm>
          <a:prstGeom prst="rect">
            <a:avLst/>
          </a:prstGeom>
          <a:ln w="38160">
            <a:solidFill>
              <a:srgbClr val="5f5f5f"/>
            </a:solidFill>
            <a:miter/>
          </a:ln>
        </p:spPr>
      </p:pic>
      <p:grpSp>
        <p:nvGrpSpPr>
          <p:cNvPr id="551" name=""/>
          <p:cNvGrpSpPr/>
          <p:nvPr/>
        </p:nvGrpSpPr>
        <p:grpSpPr>
          <a:xfrm>
            <a:off x="380880" y="2514600"/>
            <a:ext cx="3733920" cy="2962080"/>
            <a:chOff x="380880" y="2514600"/>
            <a:chExt cx="3733920" cy="2962080"/>
          </a:xfrm>
        </p:grpSpPr>
        <p:pic>
          <p:nvPicPr>
            <p:cNvPr id="552" name="clv3_oar_net_2-day" descr=""/>
            <p:cNvPicPr/>
            <p:nvPr/>
          </p:nvPicPr>
          <p:blipFill>
            <a:blip r:embed="rId2"/>
            <a:stretch/>
          </p:blipFill>
          <p:spPr>
            <a:xfrm>
              <a:off x="380880" y="2514600"/>
              <a:ext cx="3733920" cy="128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3" name="sot3_oar_net_2-day" descr=""/>
            <p:cNvPicPr/>
            <p:nvPr/>
          </p:nvPicPr>
          <p:blipFill>
            <a:blip r:embed="rId3"/>
            <a:stretch/>
          </p:blipFill>
          <p:spPr>
            <a:xfrm>
              <a:off x="380880" y="4190760"/>
              <a:ext cx="3733920" cy="1285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4" name=""/>
          <p:cNvSpPr/>
          <p:nvPr/>
        </p:nvSpPr>
        <p:spPr>
          <a:xfrm>
            <a:off x="762120" y="457200"/>
            <a:ext cx="6400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ra-estrutura de Mediçõ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480" y="1219320"/>
            <a:ext cx="65534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Verdana"/>
              </a:rPr>
              <a:t>Outras técnicas de visualização</a:t>
            </a:r>
            <a:endParaRPr b="1" lang="en-US" sz="2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écnica de Mapas em árvores em conjunto com medições por flux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acote flow-tools para seleção e coleta dos flux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Visualização dos dados de forma hierárqu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Utilização de outros parâmetros (cor, tamanho, brilho, etc.) para visualização de outras características da rede numa única cena visu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1"/>
          <a:stretch/>
        </p:blipFill>
        <p:spPr>
          <a:xfrm>
            <a:off x="457200" y="3352680"/>
            <a:ext cx="3809880" cy="2640240"/>
          </a:xfrm>
          <a:prstGeom prst="rect">
            <a:avLst/>
          </a:prstGeom>
          <a:ln w="0">
            <a:noFill/>
          </a:ln>
        </p:spPr>
      </p:pic>
      <p:pic>
        <p:nvPicPr>
          <p:cNvPr id="558" name="POP ex2" descr=""/>
          <p:cNvPicPr/>
          <p:nvPr/>
        </p:nvPicPr>
        <p:blipFill>
          <a:blip r:embed="rId2"/>
          <a:stretch/>
        </p:blipFill>
        <p:spPr>
          <a:xfrm>
            <a:off x="5257800" y="3429000"/>
            <a:ext cx="2584440" cy="2833560"/>
          </a:xfrm>
          <a:prstGeom prst="rect">
            <a:avLst/>
          </a:prstGeom>
          <a:ln w="0">
            <a:noFill/>
          </a:ln>
        </p:spPr>
      </p:pic>
      <p:sp>
        <p:nvSpPr>
          <p:cNvPr id="559" name=""/>
          <p:cNvSpPr/>
          <p:nvPr/>
        </p:nvSpPr>
        <p:spPr>
          <a:xfrm>
            <a:off x="4419720" y="4343400"/>
            <a:ext cx="5331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62120" y="457200"/>
            <a:ext cx="6400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ra-estrutura de Mediçõ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480" y="1219320"/>
            <a:ext cx="65534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Verdana"/>
              </a:rPr>
              <a:t>Outras técnicas de visualização</a:t>
            </a:r>
            <a:endParaRPr b="1" lang="en-US" sz="2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ização de uma re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OP - Sub 5 - 11_11_02" descr=""/>
          <p:cNvPicPr/>
          <p:nvPr/>
        </p:nvPicPr>
        <p:blipFill>
          <a:blip r:embed="rId1"/>
          <a:stretch/>
        </p:blipFill>
        <p:spPr>
          <a:xfrm>
            <a:off x="2514600" y="2590920"/>
            <a:ext cx="3886200" cy="3292200"/>
          </a:xfrm>
          <a:prstGeom prst="rect">
            <a:avLst/>
          </a:prstGeom>
          <a:ln w="0">
            <a:noFill/>
          </a:ln>
        </p:spPr>
      </p:pic>
      <p:sp>
        <p:nvSpPr>
          <p:cNvPr id="564" name=""/>
          <p:cNvSpPr/>
          <p:nvPr/>
        </p:nvSpPr>
        <p:spPr>
          <a:xfrm>
            <a:off x="304920" y="2590920"/>
            <a:ext cx="2057400" cy="1447560"/>
          </a:xfrm>
          <a:prstGeom prst="wedgeRoundRectCallout">
            <a:avLst>
              <a:gd name="adj1" fmla="val 73226"/>
              <a:gd name="adj2" fmla="val 69407"/>
              <a:gd name="adj3" fmla="val 16667"/>
            </a:avLst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manho representa o volume do tráfe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477120" y="2666880"/>
            <a:ext cx="2209680" cy="1067040"/>
          </a:xfrm>
          <a:prstGeom prst="wedgeRoundRectCallout">
            <a:avLst>
              <a:gd name="adj1" fmla="val -67745"/>
              <a:gd name="adj2" fmla="val 201787"/>
              <a:gd name="adj3" fmla="val 16667"/>
            </a:avLst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cores representam o serviç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762120" y="457200"/>
            <a:ext cx="6400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ra-estrutura de Mediçõ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655344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Verdana"/>
              </a:rPr>
              <a:t>Resumo dos trabalhos de medições por fluxo (Netflow)</a:t>
            </a:r>
            <a:endParaRPr b="1" lang="en-US" sz="2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l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nstalação e configuração das máquinas coletoras (O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tivação do Netflow cisco (em andament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ransferência dos dados para o servidor principal (em andament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isponibiliz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ode-se conseguir dados brutos através de ftp (OK para os POPs ativ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present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ágina do G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abular (OK para fluxos mais conhecid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Gráfica (Flowscan, atualmente apenas para os dados do POP-Ba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nálise (trabalhos futur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rmazenamento em BD e o uso de técnicas de mineração de da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ção da matriz de tráfego e sua análi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762120" y="457200"/>
            <a:ext cx="6400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ra-estrutura de Mediçõ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09480" y="1219320"/>
            <a:ext cx="65534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Verdana"/>
              </a:rPr>
              <a:t>Trabalhos futuros</a:t>
            </a:r>
            <a:endParaRPr b="1" lang="en-US" sz="2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nálise dos dados coletados pelo Net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rmazenamento em B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Utilização de técnicas de mineração de d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ção de uma matriz de tráfe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alização de testes com o Netflow em conjunto com o piloto de serviços diferenci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iciar a implantação das medições passivas através da utilização de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splitter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ópt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mplantação do piloto de medições 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WAM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62120" y="457200"/>
            <a:ext cx="6400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ra-estrutura de Mediçõ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480" y="1219320"/>
            <a:ext cx="65534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Verdana"/>
              </a:rPr>
              <a:t>Roteiro</a:t>
            </a:r>
            <a:endParaRPr b="1" lang="en-US" sz="2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bjetivos do GT-Q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posta de Trabal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iagnóstico e Altern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Qualidade de Serviç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rquitetura de Serviç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erviços Diferenci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nfra-estrutura de Mediçõ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jetos Pil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Questionário sobre Qualidade de Serviç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ilotos de Serviços Diferenci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nfra-estrutura de Mediçõ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Recomendações e Sugest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762120" y="4572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85800" y="457200"/>
            <a:ext cx="6400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T-Q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09480" y="1219320"/>
            <a:ext cx="65534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Verdana"/>
              </a:rPr>
              <a:t>Recomendações</a:t>
            </a:r>
            <a:endParaRPr b="1" lang="en-US" sz="2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rviços Diferenciados em produ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m andamento: resultado dos experimen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valiação conjunta com os técnicos da RN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Recomendamos que seja dada continuidade aos experimentos, upgrade dos roteadores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efinição dos SLAs com as instituiçõ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fra-estrutura de Mediç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ntinuidade da implantação do Net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mplantação de uma rede de pontos de coleta de medições ativas baseadas no OWA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uporte/colaboração com a Iniciativa de desempenho fim-a-fim da Internet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762120" y="457200"/>
            <a:ext cx="6400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comendações e Sugestõ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09480" y="1219320"/>
            <a:ext cx="65534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Verdana"/>
              </a:rPr>
              <a:t>Sugestões</a:t>
            </a:r>
            <a:endParaRPr b="1" lang="en-US" sz="2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riação de Grupos Temáticos que articulem as atividades relacionadas =&gt; 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Grupos de Trabal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iscutiria pontos comuns, tais como arquiteturas de serviço, medições, aplicações, etc. à la WGs da Internet2, ou pelo menos como as “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niciativa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ossibilitaria a continuidade de ações mais abrangen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Uso intensivo de listas de discuss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grama Grupos de Trabalho =&gt; 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Projetos Pilot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ilotos específicos, na medida do possível implementando experimentos necessários definidos dentro do contexto dos grupos temátic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762120" y="457200"/>
            <a:ext cx="6400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comendações e Sugestõ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480" y="1600200"/>
            <a:ext cx="746784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Verdana"/>
              </a:rPr>
              <a:t>GT Qualidade de Serviço</a:t>
            </a:r>
            <a:endParaRPr b="0" lang="en-US" sz="28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60948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3399ff"/>
                </a:solidFill>
                <a:uFillTx/>
                <a:latin typeface="Verdana"/>
                <a:hlinkClick r:id="rId1"/>
              </a:rPr>
              <a:t>www.nuperc.unifacs.br/gtqo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1219320"/>
            <a:ext cx="67057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Verdana"/>
              </a:rPr>
              <a:t>Articulação com os demais projetos e a RNP:</a:t>
            </a:r>
            <a:endParaRPr b="1" lang="en-US" sz="2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eunião sobre necessidades de Q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MPA, 20 de junho de 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efiniçõ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Identificar a demanda por Q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Serviços a serem testados: Premium e Scavenger (cata-lix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eunião sobre Mediçõ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MPA, 16 de setembro de 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presentadas experiênci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Metropoa (medições passiv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GT-VoIP (medições fim-a-fi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efiniçõ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Coleta de dados do Netf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Experimentos com medições ativ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457200"/>
            <a:ext cx="6400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posta de Trabal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1219320"/>
            <a:ext cx="65534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Verdana"/>
              </a:rPr>
              <a:t>Roteiro</a:t>
            </a:r>
            <a:endParaRPr b="1" lang="en-US" sz="2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bjetivos do GT-Q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posta de Trabal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Diagnóstico e Altern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Qualidade de Serviç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Arquitetura de Serviç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Serviços Diferenci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Infra-estrutura de Mediçõ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jetos Pil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Questionário sobre Qualidade de Serviç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ilotos de Serviços Diferenci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nfra-estrutura de Mediçõ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comendações e Sugest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4572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57200"/>
            <a:ext cx="6400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T-Q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1:55:05Z</dcterms:created>
  <dc:creator>Equipe de design</dc:creator>
  <dc:description/>
  <dc:language>en-US</dc:language>
  <cp:lastModifiedBy>Suruagy</cp:lastModifiedBy>
  <cp:lastPrinted>2001-02-05T12:32:47Z</cp:lastPrinted>
  <dcterms:modified xsi:type="dcterms:W3CDTF">2003-05-19T14:57:35Z</dcterms:modified>
  <cp:revision>283</cp:revision>
  <dc:subject/>
  <dc:title>Template de palestra </dc:title>
</cp:coreProperties>
</file>