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5.wmf" ContentType="image/x-wmf"/>
  <Override PartName="/ppt/media/image44.png" ContentType="image/png"/>
  <Override PartName="/ppt/media/image41.jpeg" ContentType="image/jpeg"/>
  <Override PartName="/ppt/media/image54.png" ContentType="image/png"/>
  <Override PartName="/ppt/media/image42.jpeg" ContentType="image/jpeg"/>
  <Override PartName="/ppt/media/image49.png" ContentType="image/png"/>
  <Override PartName="/ppt/media/image45.png" ContentType="image/png"/>
  <Override PartName="/ppt/media/image46.wmf" ContentType="image/x-wmf"/>
  <Override PartName="/ppt/media/image50.png" ContentType="image/png"/>
  <Override PartName="/ppt/media/image13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9.jpeg" ContentType="image/jpeg"/>
  <Override PartName="/ppt/media/image38.png" ContentType="image/png"/>
  <Override PartName="/ppt/media/image8.wmf" ContentType="image/x-wmf"/>
  <Override PartName="/ppt/media/image40.png" ContentType="image/png"/>
  <Override PartName="/ppt/media/image36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30.png" ContentType="image/png"/>
  <Override PartName="/ppt/media/image9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48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7F8-2130-4F16-A9FE-A16E69F99F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6440" cy="3410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ware is a layer of software between the network and applicai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6440" cy="3410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ercial development of middleware has lagged.  These are some of the activities and work underway within the Internet2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96CB-9AE8-421F-A898-05DB45FED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D226-4991-4728-B26C-D2672748F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9140-6514-49BC-84C0-0241EF4B8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AE5B-326A-4415-AB1C-7A404E823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75E9-8193-436F-BC8E-996280CF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92352-EF49-429F-A5D5-8A645555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2EE2E-8397-4A15-82D6-FB083DA9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AB841-5B5D-4DBC-9E16-CF22CEF0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F60B8-8086-41E4-AAE3-ABFB1E14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45720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E1F3D-64F7-4664-96DB-FC96545D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68C3-3BB8-42C8-9FCD-E2DDCE65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DECC-BA62-4A0E-85C1-8983A8461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3AB71-D0BD-437B-8FEC-D24D49E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C2E66-DF56-440D-82F8-9EC09EA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F8170-3E04-4C12-A617-9F33DE7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E02B3-B752-49CF-B7B9-11F90951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FD1B9-0CAF-467F-A7BF-F0E21D37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A135-4EAD-4A42-8B29-A8395E8DD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7524-AB0F-4513-85E7-332B1BF05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5BBA-6FFF-4C58-88F8-CDF826AD3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45720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2D39-FB8F-4628-A83F-E854EE91F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B057-0311-41DC-B7BD-0FE856198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96B1-DC50-422D-A902-5BB020D62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CE12-77D6-40F2-B417-49D3DA960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AAE-0652-48A9-BFE3-611AB0A001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  <p:pic>
        <p:nvPicPr>
          <p:cNvPr id="5" name="NOVAmarca" descr=""/>
          <p:cNvPicPr/>
          <p:nvPr/>
        </p:nvPicPr>
        <p:blipFill>
          <a:blip r:embed="rId3"/>
          <a:stretch/>
        </p:blipFill>
        <p:spPr>
          <a:xfrm>
            <a:off x="8077320" y="38088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057B-3057-469E-9135-415DD10FF0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washington.edu/hdtv/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hyperlink" Target="http://www.internet2.edu/" TargetMode="External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ne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f. José Augusto Suruagy Monteir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estrado Profissional em Redes de Computado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www.nuperc.unifacs.br/suruag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NOVAmarca" descr=""/>
          <p:cNvPicPr/>
          <p:nvPr/>
        </p:nvPicPr>
        <p:blipFill>
          <a:blip r:embed="rId1"/>
          <a:stretch/>
        </p:blipFill>
        <p:spPr>
          <a:xfrm>
            <a:off x="228600" y="3854520"/>
            <a:ext cx="1371600" cy="1326960"/>
          </a:xfrm>
          <a:prstGeom prst="rect">
            <a:avLst/>
          </a:prstGeom>
          <a:ln w="0">
            <a:noFill/>
          </a:ln>
        </p:spPr>
      </p:pic>
      <p:pic>
        <p:nvPicPr>
          <p:cNvPr id="94" name="I2" descr=""/>
          <p:cNvPicPr/>
          <p:nvPr/>
        </p:nvPicPr>
        <p:blipFill>
          <a:blip r:embed="rId2"/>
          <a:stretch/>
        </p:blipFill>
        <p:spPr>
          <a:xfrm>
            <a:off x="7543800" y="47628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úmero de Internautas no Bras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914400" y="1752480"/>
          <a:ext cx="7238880" cy="466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238880" cy="46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565520" y="6477120"/>
            <a:ext cx="32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Fonte: http://www.ibope.com.br/eratings/index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utas Ativ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6" name="alcance_ativos_set01" descr=""/>
          <p:cNvPicPr/>
          <p:nvPr/>
        </p:nvPicPr>
        <p:blipFill>
          <a:blip r:embed="rId1"/>
          <a:stretch/>
        </p:blipFill>
        <p:spPr>
          <a:xfrm>
            <a:off x="1219320" y="18860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ínios Mais Visit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43080" y="1560600"/>
            <a:ext cx="8686800" cy="3476520"/>
            <a:chOff x="343080" y="1560600"/>
            <a:chExt cx="8686800" cy="3476520"/>
          </a:xfrm>
        </p:grpSpPr>
        <p:sp>
          <p:nvSpPr>
            <p:cNvPr id="629" name=""/>
            <p:cNvSpPr/>
            <p:nvPr/>
          </p:nvSpPr>
          <p:spPr>
            <a:xfrm>
              <a:off x="343080" y="1560600"/>
              <a:ext cx="8686800" cy="34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80" y="1560600"/>
              <a:ext cx="3265560" cy="16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top10_julho01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0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rreio eletrônico (197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l virtual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eln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197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ferência de arquivos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tp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197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sta de e-mails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 nomes de Domínios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198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ews – NNTP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19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RC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Internet Relay Cha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AIS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Wide Area Information Server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opher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WW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BONE (multicast de áudio e vídeo) (199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net Talk Radio (199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alAudio (199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net Phone (19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P3 (199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cessidade de Largura de Ban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rida dos Dados de Alta Veloc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762800" cy="27813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99640" y="273384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o Telefô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22560" y="579132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 a cab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87680" y="31240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éli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06800" y="480060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74760" y="189540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Qual a tecnologia de acesso mais adequ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01680" y="563868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o Elétr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240" y="35956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a Óp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Projeto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internet2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do em 10/1996 por 34 Universidades, conta hoje com mais de 17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volve també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64 empre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37 institutos de pesquisa (incluindo 9 laboratórios governamenta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s de 30 parceiros intern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ceiros de agências feder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a com cerca de 25 funcioná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9" name="I2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r novas aplicações que tenham um grande impacto no modo dos pesquisadores colaborarem e conduzirem seus experim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r aplicações da “proximidade virtual” (educação, saúde, ambiente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r ferramentas e plataforma de desenvolvimento para aplicações avanç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cilitar o desenvolvimento e operação de infra-estrutura que garanta QoS diferenciadas para as 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mover experiências com a próxima geração de tecnologias de comunic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ordenar a adoção de padrões para garantir QoS fim a fim e interoper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que é a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ção da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 de acesso de Banda L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nterne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nternet2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talizar parcerias entre governo e setor priv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rajar a transferência de tecnologia da Internet 2 para o resto da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udar o impacto desta nova infra-estrutura, serviços e aplicações na educação superior e na comunidade Internet em g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da Internet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is são as aplicações características da Internet2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 melhoram qualitativa e quantitativamente a forma como conduzimos pesquisa e nos envolvemos com ensino e aprend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 requerem redes avançadas para funcio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s de 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aboração de pesquisa e Instrução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interativ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baseadas em re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ulação e Modelagem baseada em sensores, em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tempo real</a:t>
            </a:r>
            <a:r>
              <a:rPr b="0" lang="pt-BR" sz="2800" spc="-1" strike="noStrike">
                <a:solidFill>
                  <a:srgbClr val="808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utação paralela (em múltiplos sites) e processamento de banco de dados em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larga escala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Teleimers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realidade virtual compartilh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Áreas de Ativ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e uso de aplicações avanç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iddlewa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Ensino Superior e Pesqu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avançada de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capacitações de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ferência de tecn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ceria e Divulg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utação Distribuí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aboratórios Virt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ibliotecas Digi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rendizado Distribuí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ídeo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leimer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binação de todas ac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tributos das 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10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laboração interati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cesso em tempo real a recursos remo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5410080" y="4373640"/>
            <a:ext cx="3102120" cy="233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9" name="screen" descr=""/>
          <p:cNvPicPr/>
          <p:nvPr/>
        </p:nvPicPr>
        <p:blipFill>
          <a:blip r:embed="rId2"/>
          <a:stretch/>
        </p:blipFill>
        <p:spPr>
          <a:xfrm>
            <a:off x="4670280" y="1936800"/>
            <a:ext cx="304812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6248520" y="3365640"/>
            <a:ext cx="2666880" cy="190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1" name="Subaru-Keck-NASA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4038480" cy="302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200400" cy="261936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tributos,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10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ção distribuída e mineração de dados de larga esca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dade virtual compartilh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quer combinação das aplicações ac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litton-pair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28908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ídeo Digi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667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conferência com qualidade até a de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ição ao vivo e acesso sob demanda a uma variedade de conteú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nema digital baseado em HDTV, produção de estúdio baseada em rede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9" name="AG2" descr=""/>
          <p:cNvPicPr/>
          <p:nvPr/>
        </p:nvPicPr>
        <p:blipFill>
          <a:blip r:embed="rId2"/>
          <a:stretch/>
        </p:blipFill>
        <p:spPr>
          <a:xfrm>
            <a:off x="6539040" y="4373640"/>
            <a:ext cx="17668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leimer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1" name="mainImage" descr="Tele-Immersion"/>
          <p:cNvPicPr/>
          <p:nvPr/>
        </p:nvPicPr>
        <p:blipFill>
          <a:blip r:embed="rId1"/>
          <a:stretch/>
        </p:blipFill>
        <p:spPr>
          <a:xfrm>
            <a:off x="152280" y="16765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209556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sketch" descr="Office of the future sketch"/>
          <p:cNvPicPr/>
          <p:nvPr/>
        </p:nvPicPr>
        <p:blipFill>
          <a:blip r:embed="rId2"/>
          <a:stretch/>
        </p:blipFill>
        <p:spPr>
          <a:xfrm>
            <a:off x="4419720" y="2971800"/>
            <a:ext cx="4572000" cy="3807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366840" y="5943600"/>
            <a:ext cx="38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http://www.internet2.edu/html/tele-immersion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que é a Internet: visão dos componen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50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lhões de dispositivos de computação conectados: 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hosts, sistemas fi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orkstations de pcs, serv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elefones com PDA’s, torradei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odando 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aplicações de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enlaces (canais) de comun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ibra, cobre, rádio, satél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roteadores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ncaminham pacotes (pedaços) de dados através da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94360" y="31528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14800" y="300996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3080" y="446076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32520" y="3144960"/>
            <a:ext cx="732960" cy="318960"/>
            <a:chOff x="5132520" y="3144960"/>
            <a:chExt cx="732960" cy="3189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5132520" y="31449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586120" y="32630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flipV="1">
              <a:off x="5538960" y="33865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32520" y="3740040"/>
            <a:ext cx="732960" cy="319320"/>
            <a:chOff x="5132520" y="3740040"/>
            <a:chExt cx="732960" cy="31932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5132520" y="374004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5586120" y="385812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538960" y="398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08720" y="3527280"/>
            <a:ext cx="69480" cy="214200"/>
            <a:chOff x="5508720" y="3527280"/>
            <a:chExt cx="69480" cy="214200"/>
          </a:xfrm>
        </p:grpSpPr>
        <p:sp>
          <p:nvSpPr>
            <p:cNvPr id="111" name=""/>
            <p:cNvSpPr/>
            <p:nvPr/>
          </p:nvSpPr>
          <p:spPr>
            <a:xfrm>
              <a:off x="5508720" y="3527280"/>
              <a:ext cx="6408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11240" y="360432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14120" y="368136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978520" y="4030560"/>
            <a:ext cx="209520" cy="394920"/>
            <a:chOff x="5978520" y="4030560"/>
            <a:chExt cx="209520" cy="394920"/>
          </a:xfrm>
        </p:grpSpPr>
        <p:sp>
          <p:nvSpPr>
            <p:cNvPr id="115" name=""/>
            <p:cNvSpPr/>
            <p:nvPr/>
          </p:nvSpPr>
          <p:spPr>
            <a:xfrm>
              <a:off x="5978520" y="433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84720" y="403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79600" y="411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78520" y="403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403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12080" y="433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96520" y="41590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9120" y="421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15040" y="4184280"/>
            <a:ext cx="233280" cy="81000"/>
            <a:chOff x="6215040" y="4184280"/>
            <a:chExt cx="233280" cy="81000"/>
          </a:xfrm>
        </p:grpSpPr>
        <p:sp>
          <p:nvSpPr>
            <p:cNvPr id="124" name=""/>
            <p:cNvSpPr/>
            <p:nvPr/>
          </p:nvSpPr>
          <p:spPr>
            <a:xfrm rot="16200000">
              <a:off x="6210360" y="419508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294240" y="41918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6378120" y="41886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114960" y="393876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8200" y="39355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3560" y="39337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15080" y="33987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827680" y="36842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54720" y="377028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83240" y="4017960"/>
            <a:ext cx="209520" cy="394920"/>
            <a:chOff x="6483240" y="4017960"/>
            <a:chExt cx="209520" cy="394920"/>
          </a:xfrm>
        </p:grpSpPr>
        <p:sp>
          <p:nvSpPr>
            <p:cNvPr id="134" name=""/>
            <p:cNvSpPr/>
            <p:nvPr/>
          </p:nvSpPr>
          <p:spPr>
            <a:xfrm>
              <a:off x="6483240" y="4321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9440" y="4020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84320" y="4106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3240" y="4017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2760" y="40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616800" y="4321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01240" y="4146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3840" y="4199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6640" y="4627440"/>
            <a:ext cx="479160" cy="925200"/>
            <a:chOff x="5516640" y="4627440"/>
            <a:chExt cx="479160" cy="925200"/>
          </a:xfrm>
        </p:grpSpPr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5516640" y="462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V="1">
              <a:off x="5923440" y="487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6"/>
            <a:stretch/>
          </p:blipFill>
          <p:spPr>
            <a:xfrm>
              <a:off x="5516640" y="522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V="1">
              <a:off x="5923440" y="547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641920" y="4968720"/>
              <a:ext cx="70560" cy="222480"/>
              <a:chOff x="5641920" y="4968720"/>
              <a:chExt cx="70560" cy="222480"/>
            </a:xfrm>
          </p:grpSpPr>
          <p:sp>
            <p:nvSpPr>
              <p:cNvPr id="148" name=""/>
              <p:cNvSpPr/>
              <p:nvPr/>
            </p:nvSpPr>
            <p:spPr>
              <a:xfrm>
                <a:off x="5641920" y="496872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44440" y="5048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47320" y="512892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990400" y="487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384960" y="563724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5770440" y="562608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6200000">
            <a:off x="6187320" y="5730120"/>
            <a:ext cx="63360" cy="64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272280" y="5727600"/>
            <a:ext cx="63360" cy="66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6349680" y="573228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638760" y="558324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14880" y="557172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16680" y="55785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96160" y="52034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97720" y="524988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92960" y="524664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570800" y="479916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6234120" y="48798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15120" y="465444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581880" y="6076800"/>
            <a:ext cx="406080" cy="426960"/>
            <a:chOff x="6581880" y="6076800"/>
            <a:chExt cx="406080" cy="426960"/>
          </a:xfrm>
        </p:grpSpPr>
        <p:pic>
          <p:nvPicPr>
            <p:cNvPr id="167" name="" descr=""/>
            <p:cNvPicPr/>
            <p:nvPr/>
          </p:nvPicPr>
          <p:blipFill>
            <a:blip r:embed="rId11"/>
            <a:stretch/>
          </p:blipFill>
          <p:spPr>
            <a:xfrm>
              <a:off x="6581880" y="607680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6641640" y="618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359480" y="6108840"/>
            <a:ext cx="406080" cy="426960"/>
            <a:chOff x="7359480" y="6108840"/>
            <a:chExt cx="406080" cy="426960"/>
          </a:xfrm>
        </p:grpSpPr>
        <p:pic>
          <p:nvPicPr>
            <p:cNvPr id="170" name="" descr=""/>
            <p:cNvPicPr/>
            <p:nvPr/>
          </p:nvPicPr>
          <p:blipFill>
            <a:blip r:embed="rId13"/>
            <a:stretch/>
          </p:blipFill>
          <p:spPr>
            <a:xfrm>
              <a:off x="7359480" y="610884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4"/>
            <a:stretch/>
          </p:blipFill>
          <p:spPr>
            <a:xfrm>
              <a:off x="7419240" y="622080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6945480" y="5824440"/>
            <a:ext cx="379080" cy="376200"/>
            <a:chOff x="6945480" y="5824440"/>
            <a:chExt cx="379080" cy="376200"/>
          </a:xfrm>
        </p:grpSpPr>
        <p:pic>
          <p:nvPicPr>
            <p:cNvPr id="173" name="" descr=""/>
            <p:cNvPicPr/>
            <p:nvPr/>
          </p:nvPicPr>
          <p:blipFill>
            <a:blip r:embed="rId15"/>
            <a:stretch/>
          </p:blipFill>
          <p:spPr>
            <a:xfrm>
              <a:off x="6945480" y="582444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055640" y="595656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7251840" y="57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72560" y="5151600"/>
            <a:ext cx="207720" cy="408960"/>
            <a:chOff x="7972560" y="5151600"/>
            <a:chExt cx="207720" cy="408960"/>
          </a:xfrm>
        </p:grpSpPr>
        <p:sp>
          <p:nvSpPr>
            <p:cNvPr id="177" name=""/>
            <p:cNvSpPr/>
            <p:nvPr/>
          </p:nvSpPr>
          <p:spPr>
            <a:xfrm>
              <a:off x="7972560" y="54662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7680" y="5154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73640" y="524340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72560" y="515160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80280" y="5158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105040" y="54662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90200" y="5284800"/>
              <a:ext cx="8712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02800" y="5339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959600" y="5595840"/>
            <a:ext cx="208080" cy="409680"/>
            <a:chOff x="7959600" y="5595840"/>
            <a:chExt cx="208080" cy="409680"/>
          </a:xfrm>
        </p:grpSpPr>
        <p:sp>
          <p:nvSpPr>
            <p:cNvPr id="186" name=""/>
            <p:cNvSpPr/>
            <p:nvPr/>
          </p:nvSpPr>
          <p:spPr>
            <a:xfrm>
              <a:off x="7959600" y="5910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4720" y="5598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0680" y="56876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9600" y="5595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67680" y="5602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092440" y="59108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77240" y="572904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9840" y="578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V="1">
            <a:off x="7891560" y="52196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88320" y="58294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53532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08880" y="34495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4336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062920" y="377028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2880" y="3546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8440" y="4194000"/>
            <a:ext cx="53496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778880" y="465948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551360" y="373860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561440" y="317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278920" y="335448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53000" y="2992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20520" y="600408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62480" y="41450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948280" y="1747800"/>
            <a:ext cx="501840" cy="232920"/>
            <a:chOff x="5948280" y="1747800"/>
            <a:chExt cx="501840" cy="232920"/>
          </a:xfrm>
        </p:grpSpPr>
        <p:sp>
          <p:nvSpPr>
            <p:cNvPr id="210" name=""/>
            <p:cNvSpPr/>
            <p:nvPr/>
          </p:nvSpPr>
          <p:spPr>
            <a:xfrm>
              <a:off x="5952240" y="185184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5224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012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2240" y="184068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8280" y="174780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067800" y="1780560"/>
              <a:ext cx="246240" cy="88200"/>
              <a:chOff x="6067800" y="1780560"/>
              <a:chExt cx="246240" cy="882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6067800" y="1780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36640" y="186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48800" y="1782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067800" y="1779840"/>
              <a:ext cx="246240" cy="88200"/>
              <a:chOff x="6067800" y="1779840"/>
              <a:chExt cx="246240" cy="88200"/>
            </a:xfrm>
          </p:grpSpPr>
          <p:sp>
            <p:nvSpPr>
              <p:cNvPr id="220" name=""/>
              <p:cNvSpPr/>
              <p:nvPr/>
            </p:nvSpPr>
            <p:spPr>
              <a:xfrm>
                <a:off x="6067800" y="1866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36640" y="1779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6148800" y="1779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5958000" y="2324160"/>
            <a:ext cx="209520" cy="409680"/>
            <a:chOff x="5958000" y="2324160"/>
            <a:chExt cx="209520" cy="409680"/>
          </a:xfrm>
        </p:grpSpPr>
        <p:sp>
          <p:nvSpPr>
            <p:cNvPr id="224" name=""/>
            <p:cNvSpPr/>
            <p:nvPr/>
          </p:nvSpPr>
          <p:spPr>
            <a:xfrm>
              <a:off x="5958000" y="2639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64200" y="2326680"/>
              <a:ext cx="9612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9080" y="2415960"/>
              <a:ext cx="13248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8000" y="2324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7520" y="2330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091560" y="263916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76000" y="2457360"/>
              <a:ext cx="8784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88600" y="251208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6"/>
          <a:stretch/>
        </p:blipFill>
        <p:spPr>
          <a:xfrm>
            <a:off x="7211880" y="180180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149960" y="2408400"/>
            <a:ext cx="406080" cy="426960"/>
            <a:chOff x="7149960" y="2408400"/>
            <a:chExt cx="406080" cy="426960"/>
          </a:xfrm>
        </p:grpSpPr>
        <p:pic>
          <p:nvPicPr>
            <p:cNvPr id="234" name="" descr=""/>
            <p:cNvPicPr/>
            <p:nvPr/>
          </p:nvPicPr>
          <p:blipFill>
            <a:blip r:embed="rId17"/>
            <a:stretch/>
          </p:blipFill>
          <p:spPr>
            <a:xfrm>
              <a:off x="7149960" y="2408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8"/>
            <a:stretch/>
          </p:blipFill>
          <p:spPr>
            <a:xfrm>
              <a:off x="7209720" y="2520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6089760" y="3546360"/>
            <a:ext cx="501480" cy="233280"/>
            <a:chOff x="6089760" y="3546360"/>
            <a:chExt cx="501480" cy="233280"/>
          </a:xfrm>
        </p:grpSpPr>
        <p:sp>
          <p:nvSpPr>
            <p:cNvPr id="237" name=""/>
            <p:cNvSpPr/>
            <p:nvPr/>
          </p:nvSpPr>
          <p:spPr>
            <a:xfrm>
              <a:off x="6093720" y="36504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372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124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3720" y="36396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89760" y="35463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209280" y="3579120"/>
              <a:ext cx="246240" cy="88560"/>
              <a:chOff x="6209280" y="35791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6209280" y="357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78120" y="3667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90280" y="3581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209280" y="3578040"/>
              <a:ext cx="246240" cy="88560"/>
              <a:chOff x="6209280" y="35780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6209280" y="366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78120" y="3578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290280" y="3578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7042320" y="3317760"/>
            <a:ext cx="501480" cy="233280"/>
            <a:chOff x="7042320" y="3317760"/>
            <a:chExt cx="501480" cy="233280"/>
          </a:xfrm>
        </p:grpSpPr>
        <p:sp>
          <p:nvSpPr>
            <p:cNvPr id="251" name=""/>
            <p:cNvSpPr/>
            <p:nvPr/>
          </p:nvSpPr>
          <p:spPr>
            <a:xfrm>
              <a:off x="7046280" y="34218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4628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46280" y="34110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2320" y="33177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161840" y="3350520"/>
              <a:ext cx="246240" cy="88560"/>
              <a:chOff x="7161840" y="3350520"/>
              <a:chExt cx="24624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7161840" y="335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30680" y="343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42840" y="3352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161840" y="3349440"/>
              <a:ext cx="246240" cy="88560"/>
              <a:chOff x="7161840" y="3349440"/>
              <a:chExt cx="24624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7161840" y="343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30680" y="334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42840" y="3349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059600" y="3975120"/>
            <a:ext cx="501840" cy="232920"/>
            <a:chOff x="7059600" y="3975120"/>
            <a:chExt cx="501840" cy="232920"/>
          </a:xfrm>
        </p:grpSpPr>
        <p:sp>
          <p:nvSpPr>
            <p:cNvPr id="265" name=""/>
            <p:cNvSpPr/>
            <p:nvPr/>
          </p:nvSpPr>
          <p:spPr>
            <a:xfrm>
              <a:off x="7063560" y="407916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356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144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63560" y="406800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59600" y="397512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7179120" y="4007880"/>
              <a:ext cx="246240" cy="88200"/>
              <a:chOff x="7179120" y="400788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7179120" y="400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47960" y="409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60120" y="4010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179120" y="4007160"/>
              <a:ext cx="246240" cy="88200"/>
              <a:chOff x="7179120" y="400716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7179120" y="40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47960" y="4007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260120" y="4007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8029440" y="3525840"/>
            <a:ext cx="500040" cy="232920"/>
            <a:chOff x="8029440" y="3525840"/>
            <a:chExt cx="500040" cy="232920"/>
          </a:xfrm>
        </p:grpSpPr>
        <p:sp>
          <p:nvSpPr>
            <p:cNvPr id="279" name=""/>
            <p:cNvSpPr/>
            <p:nvPr/>
          </p:nvSpPr>
          <p:spPr>
            <a:xfrm>
              <a:off x="8033400" y="3629880"/>
              <a:ext cx="4957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3340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948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33400" y="361872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29440" y="3525840"/>
              <a:ext cx="4953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8148600" y="3558600"/>
              <a:ext cx="245520" cy="88200"/>
              <a:chOff x="8148600" y="3558600"/>
              <a:chExt cx="245520" cy="8820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8148600" y="35586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17080" y="364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229240" y="35607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148600" y="3557880"/>
              <a:ext cx="245520" cy="88200"/>
              <a:chOff x="8148600" y="3557880"/>
              <a:chExt cx="245520" cy="88200"/>
            </a:xfrm>
          </p:grpSpPr>
          <p:sp>
            <p:nvSpPr>
              <p:cNvPr id="289" name=""/>
              <p:cNvSpPr/>
              <p:nvPr/>
            </p:nvSpPr>
            <p:spPr>
              <a:xfrm>
                <a:off x="8148600" y="3644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317080" y="3557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8229240" y="35578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835760" y="4422600"/>
            <a:ext cx="501840" cy="233280"/>
            <a:chOff x="7835760" y="4422600"/>
            <a:chExt cx="501840" cy="233280"/>
          </a:xfrm>
        </p:grpSpPr>
        <p:sp>
          <p:nvSpPr>
            <p:cNvPr id="293" name=""/>
            <p:cNvSpPr/>
            <p:nvPr/>
          </p:nvSpPr>
          <p:spPr>
            <a:xfrm>
              <a:off x="7839720" y="4526640"/>
              <a:ext cx="4975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3972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3760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39720" y="451584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5760" y="4422600"/>
              <a:ext cx="4971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955280" y="4455360"/>
              <a:ext cx="246240" cy="88560"/>
              <a:chOff x="7955280" y="4455360"/>
              <a:chExt cx="246240" cy="885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955280" y="445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124120" y="454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6280" y="4457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955280" y="4454280"/>
              <a:ext cx="246240" cy="88560"/>
              <a:chOff x="7955280" y="4454280"/>
              <a:chExt cx="246240" cy="88560"/>
            </a:xfrm>
          </p:grpSpPr>
          <p:sp>
            <p:nvSpPr>
              <p:cNvPr id="303" name=""/>
              <p:cNvSpPr/>
              <p:nvPr/>
            </p:nvSpPr>
            <p:spPr>
              <a:xfrm>
                <a:off x="7955280" y="45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24120" y="4454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8036280" y="4454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7502400" y="5006880"/>
            <a:ext cx="501840" cy="234720"/>
            <a:chOff x="7502400" y="5006880"/>
            <a:chExt cx="501840" cy="234720"/>
          </a:xfrm>
        </p:grpSpPr>
        <p:sp>
          <p:nvSpPr>
            <p:cNvPr id="307" name=""/>
            <p:cNvSpPr/>
            <p:nvPr/>
          </p:nvSpPr>
          <p:spPr>
            <a:xfrm>
              <a:off x="7506360" y="5111640"/>
              <a:ext cx="497520" cy="1299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0636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0424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06360" y="5100480"/>
              <a:ext cx="493200" cy="795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02400" y="5006880"/>
              <a:ext cx="497160" cy="1515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621920" y="5040000"/>
              <a:ext cx="246240" cy="88920"/>
              <a:chOff x="7621920" y="5040000"/>
              <a:chExt cx="246240" cy="8892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7621920" y="504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90760" y="512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02920" y="504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621920" y="5038920"/>
              <a:ext cx="246240" cy="88920"/>
              <a:chOff x="7621920" y="5038920"/>
              <a:chExt cx="246240" cy="889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21920" y="512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90760" y="503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7702920" y="503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6892920" y="5495760"/>
            <a:ext cx="500040" cy="233280"/>
            <a:chOff x="6892920" y="5495760"/>
            <a:chExt cx="500040" cy="233280"/>
          </a:xfrm>
        </p:grpSpPr>
        <p:sp>
          <p:nvSpPr>
            <p:cNvPr id="321" name=""/>
            <p:cNvSpPr/>
            <p:nvPr/>
          </p:nvSpPr>
          <p:spPr>
            <a:xfrm>
              <a:off x="6896880" y="5599800"/>
              <a:ext cx="4957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9688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296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6880" y="558900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92920" y="5495760"/>
              <a:ext cx="4953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7012080" y="5528520"/>
              <a:ext cx="245520" cy="88560"/>
              <a:chOff x="7012080" y="5528520"/>
              <a:chExt cx="245520" cy="8856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7012080" y="552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80560" y="5617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92720" y="55306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12080" y="5527440"/>
              <a:ext cx="245520" cy="88560"/>
              <a:chOff x="7012080" y="5527440"/>
              <a:chExt cx="245520" cy="88560"/>
            </a:xfrm>
          </p:grpSpPr>
          <p:sp>
            <p:nvSpPr>
              <p:cNvPr id="331" name=""/>
              <p:cNvSpPr/>
              <p:nvPr/>
            </p:nvSpPr>
            <p:spPr>
              <a:xfrm>
                <a:off x="7012080" y="561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80560" y="5527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092720" y="552744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6089760" y="5119560"/>
            <a:ext cx="501480" cy="233280"/>
            <a:chOff x="6089760" y="5119560"/>
            <a:chExt cx="501480" cy="233280"/>
          </a:xfrm>
        </p:grpSpPr>
        <p:sp>
          <p:nvSpPr>
            <p:cNvPr id="335" name=""/>
            <p:cNvSpPr/>
            <p:nvPr/>
          </p:nvSpPr>
          <p:spPr>
            <a:xfrm>
              <a:off x="6093720" y="52236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9372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9124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3720" y="52128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89760" y="51195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209280" y="5152320"/>
              <a:ext cx="246240" cy="88560"/>
              <a:chOff x="6209280" y="5152320"/>
              <a:chExt cx="246240" cy="88560"/>
            </a:xfrm>
          </p:grpSpPr>
          <p:sp>
            <p:nvSpPr>
              <p:cNvPr id="341" name=""/>
              <p:cNvSpPr/>
              <p:nvPr/>
            </p:nvSpPr>
            <p:spPr>
              <a:xfrm flipV="1">
                <a:off x="6209280" y="515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78120" y="5240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90280" y="5154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209280" y="5151240"/>
              <a:ext cx="246240" cy="88560"/>
              <a:chOff x="6209280" y="5151240"/>
              <a:chExt cx="246240" cy="88560"/>
            </a:xfrm>
          </p:grpSpPr>
          <p:sp>
            <p:nvSpPr>
              <p:cNvPr id="345" name=""/>
              <p:cNvSpPr/>
              <p:nvPr/>
            </p:nvSpPr>
            <p:spPr>
              <a:xfrm>
                <a:off x="6209280" y="523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78120" y="5151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290280" y="5151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5900760" y="19112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02080" y="203832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22160" y="2422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4960" y="2608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345360" y="53319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e imer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915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ritório do Futur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7" name="15from%20OFFICEdoor%20at%20many%20in%20277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343400" cy="3255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876920" y="65070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University of North Caro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Office of the Future" descr=""/>
          <p:cNvPicPr/>
          <p:nvPr/>
        </p:nvPicPr>
        <p:blipFill>
          <a:blip r:embed="rId2"/>
          <a:stretch/>
        </p:blipFill>
        <p:spPr>
          <a:xfrm>
            <a:off x="0" y="3662280"/>
            <a:ext cx="4876920" cy="31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unc-nano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19920" cy="428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anoManipulador Distribuído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3360600" y="6324480"/>
            <a:ext cx="29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University of North Carolina-Chapel 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ncada de Anatomia e Cirur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mite que os alunos aprendam anatomia e técnicas de prática cirúrgica usando estações de trabalho 3-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test bed de rede avalia a eficácia das aplicações da ban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" y="1946160"/>
            <a:ext cx="4495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ford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6168960"/>
            <a:ext cx="403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haiti.stanford.edu/~ngi/fina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hand" descr=""/>
          <p:cNvPicPr/>
          <p:nvPr/>
        </p:nvPicPr>
        <p:blipFill>
          <a:blip r:embed="rId1"/>
          <a:stretch/>
        </p:blipFill>
        <p:spPr>
          <a:xfrm>
            <a:off x="762120" y="2905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eleoperação Remota de Equipamentos em Tempo Re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257800" y="1946160"/>
            <a:ext cx="35812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Escavadeira computadoriz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Operação remota, usada em situações de ris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Garantia de Qualidade de Serviç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1946160"/>
            <a:ext cx="457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rth Carolina State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5943600"/>
            <a:ext cx="480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ARL.ce.ncsu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Televator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72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inamento e Audições Remo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952880" y="1946160"/>
            <a:ext cx="365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a orquestra a se tornar membro da Internet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sino a distância para treinar mús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udio e vídeo de alta qualidade em temp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1946160"/>
            <a:ext cx="449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World Sym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6168960"/>
            <a:ext cx="403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nws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2Chan,%20Ivan" descr=""/>
          <p:cNvPicPr/>
          <p:nvPr/>
        </p:nvPicPr>
        <p:blipFill>
          <a:blip r:embed="rId1"/>
          <a:stretch/>
        </p:blipFill>
        <p:spPr>
          <a:xfrm>
            <a:off x="228600" y="2738520"/>
            <a:ext cx="4038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s baseados em Gr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EESGrid (Engenharia de Terremot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ww.neesgrid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iPhyN (Fís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ww.griphyn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fra-estru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ww.gridforum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5562720" y="3967200"/>
            <a:ext cx="3152520" cy="2539800"/>
          </a:xfrm>
          <a:prstGeom prst="rect">
            <a:avLst/>
          </a:prstGeom>
          <a:ln w="0">
            <a:noFill/>
          </a:ln>
        </p:spPr>
      </p:pic>
      <p:pic>
        <p:nvPicPr>
          <p:cNvPr id="711" name="arm_t" descr=""/>
          <p:cNvPicPr/>
          <p:nvPr/>
        </p:nvPicPr>
        <p:blipFill>
          <a:blip r:embed="rId2"/>
          <a:stretch/>
        </p:blipFill>
        <p:spPr>
          <a:xfrm>
            <a:off x="4952880" y="1411200"/>
            <a:ext cx="335304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esso às Gr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3" name="access.boston.ls4" descr=""/>
          <p:cNvPicPr/>
          <p:nvPr/>
        </p:nvPicPr>
        <p:blipFill>
          <a:blip r:embed="rId1"/>
          <a:stretch/>
        </p:blipFill>
        <p:spPr>
          <a:xfrm>
            <a:off x="291960" y="1855800"/>
            <a:ext cx="8699760" cy="38592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288160" y="5834160"/>
            <a:ext cx="46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accessgrid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65070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Argonne National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nstração de HDT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7" name="logosub" descr="Internet HDT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1646280" cy="514440"/>
          </a:xfrm>
          <a:prstGeom prst="rect">
            <a:avLst/>
          </a:prstGeom>
          <a:ln w="0">
            <a:noFill/>
          </a:ln>
        </p:spPr>
      </p:pic>
      <p:pic>
        <p:nvPicPr>
          <p:cNvPr id="718" name="pic3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6858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Infra-estrutura de Armazenamento Distribuí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elo do DSI da I2: Serviços Repli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clientes acessam o servidor mais pró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os têm um bom desempe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ursos locais implementam um serviço glob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1" name="three" descr=""/>
          <p:cNvPicPr/>
          <p:nvPr/>
        </p:nvPicPr>
        <p:blipFill>
          <a:blip r:embed="rId1"/>
          <a:stretch/>
        </p:blipFill>
        <p:spPr>
          <a:xfrm>
            <a:off x="4627440" y="2523960"/>
            <a:ext cx="40086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57800" y="1885680"/>
            <a:ext cx="3378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he Internet2 Comm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mbiente Colaborativo Distribuído de Larga Escala para a Comunidade de Pesquisa e Edu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5" name="Commons_diagram" descr="Commons_diagram"/>
          <p:cNvPicPr/>
          <p:nvPr/>
        </p:nvPicPr>
        <p:blipFill>
          <a:blip r:embed="rId1"/>
          <a:stretch/>
        </p:blipFill>
        <p:spPr>
          <a:xfrm>
            <a:off x="304920" y="457200"/>
            <a:ext cx="46400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que é a Internet: visão dos componen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protocolos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ola o envio e recepção de mensag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., TCP, IP, HTTP, FTP,  P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Internet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“rede de red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vremente hierárqu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ternet pública versus intranet priva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drões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797520" y="31528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960" y="300996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86240" y="446076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035680" y="3144960"/>
            <a:ext cx="732960" cy="318960"/>
            <a:chOff x="5035680" y="3144960"/>
            <a:chExt cx="732960" cy="31896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035680" y="31449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489280" y="32630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flipV="1">
              <a:off x="5442120" y="33865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035680" y="3740040"/>
            <a:ext cx="732960" cy="319320"/>
            <a:chOff x="5035680" y="3740040"/>
            <a:chExt cx="732960" cy="319320"/>
          </a:xfrm>
        </p:grpSpPr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5035680" y="374004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489280" y="385812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flipV="1">
              <a:off x="5442120" y="398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411880" y="3527280"/>
            <a:ext cx="69480" cy="214200"/>
            <a:chOff x="5411880" y="3527280"/>
            <a:chExt cx="69480" cy="214200"/>
          </a:xfrm>
        </p:grpSpPr>
        <p:sp>
          <p:nvSpPr>
            <p:cNvPr id="367" name=""/>
            <p:cNvSpPr/>
            <p:nvPr/>
          </p:nvSpPr>
          <p:spPr>
            <a:xfrm>
              <a:off x="5411880" y="3527280"/>
              <a:ext cx="6408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4400" y="360432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17280" y="368136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881680" y="4030560"/>
            <a:ext cx="209520" cy="394920"/>
            <a:chOff x="5881680" y="4030560"/>
            <a:chExt cx="209520" cy="394920"/>
          </a:xfrm>
        </p:grpSpPr>
        <p:sp>
          <p:nvSpPr>
            <p:cNvPr id="371" name=""/>
            <p:cNvSpPr/>
            <p:nvPr/>
          </p:nvSpPr>
          <p:spPr>
            <a:xfrm>
              <a:off x="5881680" y="433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87880" y="403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2760" y="411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1680" y="403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1200" y="403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015240" y="433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99680" y="41590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12280" y="421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118200" y="4184280"/>
            <a:ext cx="233280" cy="81000"/>
            <a:chOff x="6118200" y="4184280"/>
            <a:chExt cx="233280" cy="81000"/>
          </a:xfrm>
        </p:grpSpPr>
        <p:sp>
          <p:nvSpPr>
            <p:cNvPr id="380" name=""/>
            <p:cNvSpPr/>
            <p:nvPr/>
          </p:nvSpPr>
          <p:spPr>
            <a:xfrm rot="16200000">
              <a:off x="6113520" y="419508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6197400" y="41918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6281280" y="41886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018120" y="393876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21360" y="39355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16720" y="39337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8240" y="33987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730840" y="36842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257880" y="377028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386400" y="4017960"/>
            <a:ext cx="209520" cy="394920"/>
            <a:chOff x="6386400" y="4017960"/>
            <a:chExt cx="209520" cy="394920"/>
          </a:xfrm>
        </p:grpSpPr>
        <p:sp>
          <p:nvSpPr>
            <p:cNvPr id="390" name=""/>
            <p:cNvSpPr/>
            <p:nvPr/>
          </p:nvSpPr>
          <p:spPr>
            <a:xfrm>
              <a:off x="6386400" y="4321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92600" y="4020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7480" y="4106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86400" y="4017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95920" y="40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519960" y="4321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04400" y="4146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17000" y="4199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419800" y="4627440"/>
            <a:ext cx="479160" cy="925200"/>
            <a:chOff x="5419800" y="4627440"/>
            <a:chExt cx="479160" cy="925200"/>
          </a:xfrm>
        </p:grpSpPr>
        <p:pic>
          <p:nvPicPr>
            <p:cNvPr id="399" name="" descr=""/>
            <p:cNvPicPr/>
            <p:nvPr/>
          </p:nvPicPr>
          <p:blipFill>
            <a:blip r:embed="rId5"/>
            <a:stretch/>
          </p:blipFill>
          <p:spPr>
            <a:xfrm>
              <a:off x="5419800" y="462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V="1">
              <a:off x="5826600" y="487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6"/>
            <a:stretch/>
          </p:blipFill>
          <p:spPr>
            <a:xfrm>
              <a:off x="5419800" y="522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flipV="1">
              <a:off x="5826600" y="547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45080" y="4968720"/>
              <a:ext cx="70560" cy="222480"/>
              <a:chOff x="5545080" y="4968720"/>
              <a:chExt cx="70560" cy="222480"/>
            </a:xfrm>
          </p:grpSpPr>
          <p:sp>
            <p:nvSpPr>
              <p:cNvPr id="404" name=""/>
              <p:cNvSpPr/>
              <p:nvPr/>
            </p:nvSpPr>
            <p:spPr>
              <a:xfrm>
                <a:off x="5545080" y="496872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47600" y="5048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0480" y="512892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5893560" y="487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8" name="" descr=""/>
          <p:cNvPicPr/>
          <p:nvPr/>
        </p:nvPicPr>
        <p:blipFill>
          <a:blip r:embed="rId7"/>
          <a:stretch/>
        </p:blipFill>
        <p:spPr>
          <a:xfrm>
            <a:off x="6288120" y="563724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8"/>
          <a:stretch/>
        </p:blipFill>
        <p:spPr>
          <a:xfrm>
            <a:off x="5673600" y="562608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16200000">
            <a:off x="6090480" y="5730120"/>
            <a:ext cx="63360" cy="64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6175440" y="5727600"/>
            <a:ext cx="63360" cy="66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6252840" y="573228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41920" y="558324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918040" y="557172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19840" y="55785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899320" y="52034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00880" y="524988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296120" y="524664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7473960" y="479916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0"/>
          <a:stretch/>
        </p:blipFill>
        <p:spPr>
          <a:xfrm>
            <a:off x="6137280" y="48798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18280" y="465444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485040" y="6076800"/>
            <a:ext cx="406080" cy="426960"/>
            <a:chOff x="6485040" y="6076800"/>
            <a:chExt cx="406080" cy="426960"/>
          </a:xfrm>
        </p:grpSpPr>
        <p:pic>
          <p:nvPicPr>
            <p:cNvPr id="423" name="" descr=""/>
            <p:cNvPicPr/>
            <p:nvPr/>
          </p:nvPicPr>
          <p:blipFill>
            <a:blip r:embed="rId11"/>
            <a:stretch/>
          </p:blipFill>
          <p:spPr>
            <a:xfrm>
              <a:off x="6485040" y="607680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2"/>
            <a:stretch/>
          </p:blipFill>
          <p:spPr>
            <a:xfrm>
              <a:off x="6544800" y="618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7262640" y="6108840"/>
            <a:ext cx="406080" cy="426960"/>
            <a:chOff x="7262640" y="6108840"/>
            <a:chExt cx="406080" cy="426960"/>
          </a:xfrm>
        </p:grpSpPr>
        <p:pic>
          <p:nvPicPr>
            <p:cNvPr id="426" name="" descr=""/>
            <p:cNvPicPr/>
            <p:nvPr/>
          </p:nvPicPr>
          <p:blipFill>
            <a:blip r:embed="rId13"/>
            <a:stretch/>
          </p:blipFill>
          <p:spPr>
            <a:xfrm>
              <a:off x="7262640" y="610884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4"/>
            <a:stretch/>
          </p:blipFill>
          <p:spPr>
            <a:xfrm>
              <a:off x="7322400" y="622080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6848640" y="5824440"/>
            <a:ext cx="379080" cy="376200"/>
            <a:chOff x="6848640" y="5824440"/>
            <a:chExt cx="379080" cy="376200"/>
          </a:xfrm>
        </p:grpSpPr>
        <p:pic>
          <p:nvPicPr>
            <p:cNvPr id="429" name="" descr=""/>
            <p:cNvPicPr/>
            <p:nvPr/>
          </p:nvPicPr>
          <p:blipFill>
            <a:blip r:embed="rId15"/>
            <a:stretch/>
          </p:blipFill>
          <p:spPr>
            <a:xfrm>
              <a:off x="6848640" y="582444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958800" y="595656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155000" y="57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875720" y="5151600"/>
            <a:ext cx="207720" cy="408960"/>
            <a:chOff x="7875720" y="5151600"/>
            <a:chExt cx="207720" cy="408960"/>
          </a:xfrm>
        </p:grpSpPr>
        <p:sp>
          <p:nvSpPr>
            <p:cNvPr id="433" name=""/>
            <p:cNvSpPr/>
            <p:nvPr/>
          </p:nvSpPr>
          <p:spPr>
            <a:xfrm>
              <a:off x="7875720" y="54662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0840" y="5154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6800" y="524340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75720" y="515160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3440" y="5158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008200" y="54662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93360" y="5284800"/>
              <a:ext cx="8712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05960" y="5339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862760" y="5595840"/>
            <a:ext cx="208080" cy="409680"/>
            <a:chOff x="7862760" y="5595840"/>
            <a:chExt cx="208080" cy="409680"/>
          </a:xfrm>
        </p:grpSpPr>
        <p:sp>
          <p:nvSpPr>
            <p:cNvPr id="442" name=""/>
            <p:cNvSpPr/>
            <p:nvPr/>
          </p:nvSpPr>
          <p:spPr>
            <a:xfrm>
              <a:off x="7862760" y="5910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67880" y="5598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63840" y="56876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62760" y="5595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70840" y="5602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995600" y="59108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80400" y="572904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93000" y="578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7794720" y="52196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91480" y="58294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88240" y="53532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512040" y="34495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46960" y="34336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966080" y="377028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96040" y="3546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21600" y="4194000"/>
            <a:ext cx="53496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682040" y="465948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7454520" y="373860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464600" y="317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182080" y="335448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6160" y="2992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23680" y="600408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65640" y="41450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851440" y="1747800"/>
            <a:ext cx="501840" cy="232920"/>
            <a:chOff x="5851440" y="1747800"/>
            <a:chExt cx="501840" cy="232920"/>
          </a:xfrm>
        </p:grpSpPr>
        <p:sp>
          <p:nvSpPr>
            <p:cNvPr id="466" name=""/>
            <p:cNvSpPr/>
            <p:nvPr/>
          </p:nvSpPr>
          <p:spPr>
            <a:xfrm>
              <a:off x="5855400" y="185184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540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5328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55400" y="184068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51440" y="174780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970960" y="1780560"/>
              <a:ext cx="246240" cy="88200"/>
              <a:chOff x="5970960" y="1780560"/>
              <a:chExt cx="246240" cy="8820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5970960" y="1780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39800" y="186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51960" y="1782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5970960" y="1779840"/>
              <a:ext cx="246240" cy="88200"/>
              <a:chOff x="5970960" y="1779840"/>
              <a:chExt cx="246240" cy="88200"/>
            </a:xfrm>
          </p:grpSpPr>
          <p:sp>
            <p:nvSpPr>
              <p:cNvPr id="476" name=""/>
              <p:cNvSpPr/>
              <p:nvPr/>
            </p:nvSpPr>
            <p:spPr>
              <a:xfrm>
                <a:off x="5970960" y="1866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39800" y="1779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6051960" y="1779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861160" y="2324160"/>
            <a:ext cx="209520" cy="409680"/>
            <a:chOff x="5861160" y="2324160"/>
            <a:chExt cx="209520" cy="409680"/>
          </a:xfrm>
        </p:grpSpPr>
        <p:sp>
          <p:nvSpPr>
            <p:cNvPr id="480" name=""/>
            <p:cNvSpPr/>
            <p:nvPr/>
          </p:nvSpPr>
          <p:spPr>
            <a:xfrm>
              <a:off x="5861160" y="2639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67360" y="2326680"/>
              <a:ext cx="9612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2240" y="2415960"/>
              <a:ext cx="13248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61160" y="2324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70680" y="2330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994720" y="263916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79160" y="2457360"/>
              <a:ext cx="8784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91760" y="251208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7115040" y="180180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7053120" y="2408400"/>
            <a:ext cx="406080" cy="426960"/>
            <a:chOff x="7053120" y="2408400"/>
            <a:chExt cx="406080" cy="426960"/>
          </a:xfrm>
        </p:grpSpPr>
        <p:pic>
          <p:nvPicPr>
            <p:cNvPr id="490" name="" descr=""/>
            <p:cNvPicPr/>
            <p:nvPr/>
          </p:nvPicPr>
          <p:blipFill>
            <a:blip r:embed="rId17"/>
            <a:stretch/>
          </p:blipFill>
          <p:spPr>
            <a:xfrm>
              <a:off x="7053120" y="2408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8"/>
            <a:stretch/>
          </p:blipFill>
          <p:spPr>
            <a:xfrm>
              <a:off x="7112880" y="2520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5992920" y="3546360"/>
            <a:ext cx="501480" cy="233280"/>
            <a:chOff x="5992920" y="3546360"/>
            <a:chExt cx="501480" cy="233280"/>
          </a:xfrm>
        </p:grpSpPr>
        <p:sp>
          <p:nvSpPr>
            <p:cNvPr id="493" name=""/>
            <p:cNvSpPr/>
            <p:nvPr/>
          </p:nvSpPr>
          <p:spPr>
            <a:xfrm>
              <a:off x="5996880" y="36504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688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9440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96880" y="36396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92920" y="35463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112440" y="3579120"/>
              <a:ext cx="246240" cy="88560"/>
              <a:chOff x="6112440" y="3579120"/>
              <a:chExt cx="246240" cy="88560"/>
            </a:xfrm>
          </p:grpSpPr>
          <p:sp>
            <p:nvSpPr>
              <p:cNvPr id="499" name=""/>
              <p:cNvSpPr/>
              <p:nvPr/>
            </p:nvSpPr>
            <p:spPr>
              <a:xfrm flipV="1">
                <a:off x="6112440" y="357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81280" y="3667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93440" y="3581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112440" y="3578040"/>
              <a:ext cx="246240" cy="88560"/>
              <a:chOff x="6112440" y="3578040"/>
              <a:chExt cx="246240" cy="885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2440" y="366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81280" y="3578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193440" y="3578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6945480" y="3317760"/>
            <a:ext cx="501480" cy="233280"/>
            <a:chOff x="6945480" y="3317760"/>
            <a:chExt cx="501480" cy="233280"/>
          </a:xfrm>
        </p:grpSpPr>
        <p:sp>
          <p:nvSpPr>
            <p:cNvPr id="507" name=""/>
            <p:cNvSpPr/>
            <p:nvPr/>
          </p:nvSpPr>
          <p:spPr>
            <a:xfrm>
              <a:off x="6949440" y="34218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4944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4696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49440" y="34110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5480" y="33177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065000" y="3350520"/>
              <a:ext cx="246240" cy="88560"/>
              <a:chOff x="7065000" y="3350520"/>
              <a:chExt cx="246240" cy="8856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7065000" y="335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33840" y="343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46000" y="3352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065000" y="3349440"/>
              <a:ext cx="246240" cy="88560"/>
              <a:chOff x="7065000" y="3349440"/>
              <a:chExt cx="246240" cy="88560"/>
            </a:xfrm>
          </p:grpSpPr>
          <p:sp>
            <p:nvSpPr>
              <p:cNvPr id="517" name=""/>
              <p:cNvSpPr/>
              <p:nvPr/>
            </p:nvSpPr>
            <p:spPr>
              <a:xfrm>
                <a:off x="7065000" y="343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33840" y="334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46000" y="3349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6962760" y="3975120"/>
            <a:ext cx="501840" cy="232920"/>
            <a:chOff x="6962760" y="3975120"/>
            <a:chExt cx="501840" cy="232920"/>
          </a:xfrm>
        </p:grpSpPr>
        <p:sp>
          <p:nvSpPr>
            <p:cNvPr id="521" name=""/>
            <p:cNvSpPr/>
            <p:nvPr/>
          </p:nvSpPr>
          <p:spPr>
            <a:xfrm>
              <a:off x="6966720" y="407916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6672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460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66720" y="406800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62760" y="397512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082280" y="4007880"/>
              <a:ext cx="246240" cy="88200"/>
              <a:chOff x="7082280" y="4007880"/>
              <a:chExt cx="246240" cy="8820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7082280" y="400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51120" y="409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63280" y="4010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7082280" y="4007160"/>
              <a:ext cx="246240" cy="88200"/>
              <a:chOff x="7082280" y="4007160"/>
              <a:chExt cx="246240" cy="88200"/>
            </a:xfrm>
          </p:grpSpPr>
          <p:sp>
            <p:nvSpPr>
              <p:cNvPr id="531" name=""/>
              <p:cNvSpPr/>
              <p:nvPr/>
            </p:nvSpPr>
            <p:spPr>
              <a:xfrm>
                <a:off x="7082280" y="40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51120" y="4007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7163280" y="4007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7932600" y="3525840"/>
            <a:ext cx="500040" cy="232920"/>
            <a:chOff x="7932600" y="3525840"/>
            <a:chExt cx="500040" cy="232920"/>
          </a:xfrm>
        </p:grpSpPr>
        <p:sp>
          <p:nvSpPr>
            <p:cNvPr id="535" name=""/>
            <p:cNvSpPr/>
            <p:nvPr/>
          </p:nvSpPr>
          <p:spPr>
            <a:xfrm>
              <a:off x="7936560" y="3629880"/>
              <a:ext cx="4957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3656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3264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36560" y="361872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32600" y="3525840"/>
              <a:ext cx="4953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8051760" y="3558600"/>
              <a:ext cx="245520" cy="88200"/>
              <a:chOff x="8051760" y="3558600"/>
              <a:chExt cx="245520" cy="8820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8051760" y="35586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220240" y="364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132400" y="35607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8051760" y="3557880"/>
              <a:ext cx="245520" cy="88200"/>
              <a:chOff x="8051760" y="3557880"/>
              <a:chExt cx="245520" cy="88200"/>
            </a:xfrm>
          </p:grpSpPr>
          <p:sp>
            <p:nvSpPr>
              <p:cNvPr id="545" name=""/>
              <p:cNvSpPr/>
              <p:nvPr/>
            </p:nvSpPr>
            <p:spPr>
              <a:xfrm>
                <a:off x="8051760" y="3644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220240" y="3557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132400" y="35578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7738920" y="4422600"/>
            <a:ext cx="501840" cy="233280"/>
            <a:chOff x="7738920" y="4422600"/>
            <a:chExt cx="501840" cy="233280"/>
          </a:xfrm>
        </p:grpSpPr>
        <p:sp>
          <p:nvSpPr>
            <p:cNvPr id="549" name=""/>
            <p:cNvSpPr/>
            <p:nvPr/>
          </p:nvSpPr>
          <p:spPr>
            <a:xfrm>
              <a:off x="7742880" y="4526640"/>
              <a:ext cx="4975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4288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4076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42880" y="451584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8920" y="4422600"/>
              <a:ext cx="4971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7858440" y="4455360"/>
              <a:ext cx="246240" cy="88560"/>
              <a:chOff x="7858440" y="4455360"/>
              <a:chExt cx="246240" cy="8856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7858440" y="445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027280" y="454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939440" y="4457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858440" y="4454280"/>
              <a:ext cx="246240" cy="88560"/>
              <a:chOff x="7858440" y="4454280"/>
              <a:chExt cx="246240" cy="88560"/>
            </a:xfrm>
          </p:grpSpPr>
          <p:sp>
            <p:nvSpPr>
              <p:cNvPr id="559" name=""/>
              <p:cNvSpPr/>
              <p:nvPr/>
            </p:nvSpPr>
            <p:spPr>
              <a:xfrm>
                <a:off x="7858440" y="45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027280" y="4454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7939440" y="4454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7405560" y="5006880"/>
            <a:ext cx="501840" cy="234720"/>
            <a:chOff x="7405560" y="5006880"/>
            <a:chExt cx="501840" cy="234720"/>
          </a:xfrm>
        </p:grpSpPr>
        <p:sp>
          <p:nvSpPr>
            <p:cNvPr id="563" name=""/>
            <p:cNvSpPr/>
            <p:nvPr/>
          </p:nvSpPr>
          <p:spPr>
            <a:xfrm>
              <a:off x="7409520" y="5111640"/>
              <a:ext cx="497520" cy="1299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0952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0740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09520" y="5100480"/>
              <a:ext cx="493200" cy="795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05560" y="5006880"/>
              <a:ext cx="497160" cy="1515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525080" y="5040000"/>
              <a:ext cx="246240" cy="88920"/>
              <a:chOff x="7525080" y="5040000"/>
              <a:chExt cx="246240" cy="88920"/>
            </a:xfrm>
          </p:grpSpPr>
          <p:sp>
            <p:nvSpPr>
              <p:cNvPr id="569" name=""/>
              <p:cNvSpPr/>
              <p:nvPr/>
            </p:nvSpPr>
            <p:spPr>
              <a:xfrm flipV="1">
                <a:off x="7525080" y="504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93920" y="512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06080" y="504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7525080" y="5038920"/>
              <a:ext cx="246240" cy="88920"/>
              <a:chOff x="7525080" y="5038920"/>
              <a:chExt cx="246240" cy="889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25080" y="512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693920" y="503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7606080" y="503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6796080" y="5495760"/>
            <a:ext cx="500040" cy="233280"/>
            <a:chOff x="6796080" y="5495760"/>
            <a:chExt cx="500040" cy="233280"/>
          </a:xfrm>
        </p:grpSpPr>
        <p:sp>
          <p:nvSpPr>
            <p:cNvPr id="577" name=""/>
            <p:cNvSpPr/>
            <p:nvPr/>
          </p:nvSpPr>
          <p:spPr>
            <a:xfrm>
              <a:off x="6800040" y="5599800"/>
              <a:ext cx="4957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004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9612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0040" y="558900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96080" y="5495760"/>
              <a:ext cx="4953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915240" y="5528520"/>
              <a:ext cx="245520" cy="88560"/>
              <a:chOff x="6915240" y="5528520"/>
              <a:chExt cx="245520" cy="88560"/>
            </a:xfrm>
          </p:grpSpPr>
          <p:sp>
            <p:nvSpPr>
              <p:cNvPr id="583" name=""/>
              <p:cNvSpPr/>
              <p:nvPr/>
            </p:nvSpPr>
            <p:spPr>
              <a:xfrm flipV="1">
                <a:off x="6915240" y="552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083720" y="5617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95880" y="55306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915240" y="5527440"/>
              <a:ext cx="245520" cy="88560"/>
              <a:chOff x="6915240" y="5527440"/>
              <a:chExt cx="245520" cy="88560"/>
            </a:xfrm>
          </p:grpSpPr>
          <p:sp>
            <p:nvSpPr>
              <p:cNvPr id="587" name=""/>
              <p:cNvSpPr/>
              <p:nvPr/>
            </p:nvSpPr>
            <p:spPr>
              <a:xfrm>
                <a:off x="6915240" y="561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083720" y="5527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6995880" y="552744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5992920" y="5119560"/>
            <a:ext cx="501480" cy="233280"/>
            <a:chOff x="5992920" y="5119560"/>
            <a:chExt cx="501480" cy="233280"/>
          </a:xfrm>
        </p:grpSpPr>
        <p:sp>
          <p:nvSpPr>
            <p:cNvPr id="591" name=""/>
            <p:cNvSpPr/>
            <p:nvPr/>
          </p:nvSpPr>
          <p:spPr>
            <a:xfrm>
              <a:off x="5996880" y="52236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9688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9440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96880" y="52128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92920" y="51195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6112440" y="5152320"/>
              <a:ext cx="246240" cy="88560"/>
              <a:chOff x="6112440" y="5152320"/>
              <a:chExt cx="246240" cy="8856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6112440" y="515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81280" y="5240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93440" y="5154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112440" y="5151240"/>
              <a:ext cx="246240" cy="88560"/>
              <a:chOff x="6112440" y="5151240"/>
              <a:chExt cx="246240" cy="88560"/>
            </a:xfrm>
          </p:grpSpPr>
          <p:sp>
            <p:nvSpPr>
              <p:cNvPr id="601" name=""/>
              <p:cNvSpPr/>
              <p:nvPr/>
            </p:nvSpPr>
            <p:spPr>
              <a:xfrm>
                <a:off x="6112440" y="523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81280" y="5151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193440" y="5151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" name=""/>
          <p:cNvSpPr/>
          <p:nvPr/>
        </p:nvSpPr>
        <p:spPr>
          <a:xfrm>
            <a:off x="5803920" y="19112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05240" y="203832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25320" y="2422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68120" y="2608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248520" y="53319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iddle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iddle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camada de software entre a rede e as 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ent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r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tó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pa do Middle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85800" y="2133720"/>
          <a:ext cx="7848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848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niciativa de Middleware da Internet2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omunidade Internet2 possui necessidades e capacitações ú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ddleware Architecture Committee for Education (M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arly Harvest and Early Adop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bs de Infra-estrutura de chaves públicas (PK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hibboleth (autenticação inter-camp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retórios (eduPers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redes de alto desempenho que participam do projeto Internet2 provêem o ambiente no qual novas aplicações e capacitações de rede podem ser implantadas e test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Rede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 da UCAID em parceria c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rte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west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2 Test and Evaluation Centers (ITE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th Carol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abilene-topology-oct-200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6024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31120" y="640080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IP over SONET (OC-48c = 2,5 G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Futuro da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romisso da Qwest estendido por mais 5 anos (01/10/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pgrade do backbone para transporte óptic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nda do backbone será quadruplicada em 2 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-48c SONET (2.5 Gbps) para 10-Gbps DWD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exibilidade para provimento 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’s para dar suporte a experimentos ponto-a-ponto e outros pro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pectos chave do nov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siliência de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vas capacitações para medi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Abilene_Core_Top_M2000" descr=""/>
          <p:cNvPicPr/>
          <p:nvPr/>
        </p:nvPicPr>
        <p:blipFill>
          <a:blip r:embed="rId1"/>
          <a:srcRect l="22045" t="21052" r="0" b="14710"/>
          <a:stretch/>
        </p:blipFill>
        <p:spPr>
          <a:xfrm>
            <a:off x="1600200" y="2395440"/>
            <a:ext cx="5950080" cy="374508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ilene International P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6" name=""/>
          <p:cNvSpPr/>
          <p:nvPr/>
        </p:nvSpPr>
        <p:spPr>
          <a:xfrm>
            <a:off x="5257800" y="36259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1676520"/>
            <a:ext cx="5638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CAGO/STAR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AN/TransPAC, Ca*net3, CERN, CERnet, GEMnet, IUCC, KOREN/KREONET2,  MIRnet, NORDUnet, RENATER, SURFnet, SingAREN, SINET, TAnet2 (ANSP, RN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029200" y="2819520"/>
            <a:ext cx="380880" cy="9144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410080" y="3106800"/>
            <a:ext cx="1232640" cy="899280"/>
            <a:chOff x="5410080" y="3106800"/>
            <a:chExt cx="1232640" cy="899280"/>
          </a:xfrm>
        </p:grpSpPr>
        <p:sp>
          <p:nvSpPr>
            <p:cNvPr id="750" name=""/>
            <p:cNvSpPr/>
            <p:nvPr/>
          </p:nvSpPr>
          <p:spPr>
            <a:xfrm flipV="1">
              <a:off x="5410080" y="3396960"/>
              <a:ext cx="53352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638680" y="3396600"/>
              <a:ext cx="30492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52520" y="3106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OC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467480" y="3089160"/>
            <a:ext cx="15242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NET,  CA*net3, HEANET, JAN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DUnet, SURF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-155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0" y="3701880"/>
            <a:ext cx="68580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9800" y="1644480"/>
            <a:ext cx="2049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/SN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RNET, CA*ne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NET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2254320"/>
            <a:ext cx="60984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8760" y="3290760"/>
            <a:ext cx="174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MNET, SingAREN, WIDE (SI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95280" y="3886200"/>
            <a:ext cx="457200" cy="120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0" y="4513320"/>
            <a:ext cx="1031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914400" y="4616280"/>
            <a:ext cx="1143000" cy="1526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34320" y="5454720"/>
            <a:ext cx="2057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NA, RNP2 (RET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77120" y="583560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638320" y="4844880"/>
            <a:ext cx="228600" cy="838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638680" y="5683320"/>
            <a:ext cx="838440" cy="152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51160" y="5486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84560" y="5773680"/>
            <a:ext cx="1355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 El P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05320" y="5378400"/>
            <a:ext cx="15228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9120" y="5468760"/>
            <a:ext cx="138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RE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676520" y="4844880"/>
            <a:ext cx="457200" cy="685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20" y="6568920"/>
            <a:ext cx="906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NES, CARNET, CESnet, DFN, GRNET, HEAnet, RESTENA, SWITCH, HUNGARNET, GARR-B, POL-34, RCCN, RedI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63800" y="9907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scimento da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map_new" descr=""/>
          <p:cNvPicPr/>
          <p:nvPr/>
        </p:nvPicPr>
        <p:blipFill>
          <a:blip r:embed="rId1"/>
          <a:srcRect l="14310" t="3332" r="6925" b="0"/>
          <a:stretch/>
        </p:blipFill>
        <p:spPr>
          <a:xfrm>
            <a:off x="4705200" y="1828800"/>
            <a:ext cx="4438800" cy="50292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PA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ttp://ampath.fiu.ed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51055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derado pela Florida International University e Global Cro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tencial para conectar 10 países a 45Mbps 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ering através de Miami (colocated com SFG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UNA (Chile) e RNP2 (Brasil) conectados atu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revemente também RETINA (Argenti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nolog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Packet Over Son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PLS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ulti Protocol Label Switc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igabit Ethernet (http://www.10gea.org) em fibra esc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oS: Serviços Integrados e Diferenc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genharia de Tráf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r, desenvolver e testar serviços e tecnologias avançadas de redes pa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 suporte ao uso intenso de aplicações avançadas de red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 suporte ao uso intenso da infra-estrutura da Internet2 por professores, estudantes e funcionários das instituições participantes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ir que a próxima geração da Internet comercial forneça o desempenho confiável que as aplicações avançadas requer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rga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upos de Trabal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cnologias c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blemas com tempo limitado e interdisciplin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 Centros de Avaliação de Tecnolog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ão suporte às necessidades da rede ABILENE dos GTs e dos Proje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pos de Trabalh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d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idade de Serviç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te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p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pa do Tempo da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4" name="abilene" descr=""/>
          <p:cNvPicPr/>
          <p:nvPr/>
        </p:nvPicPr>
        <p:blipFill>
          <a:blip r:embed="rId1"/>
          <a:stretch/>
        </p:blipFill>
        <p:spPr>
          <a:xfrm>
            <a:off x="0" y="124452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ciativa de Desempenho Fim a Fi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ir que os pesquisadores, professores, alunos e funcionários que utilizam redes de alta velocidade obtenham um desempenho otimizado da infra-estrutura atual de uma forma consist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49528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ividade Br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876920" y="49528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mpenho d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5486400"/>
            <a:ext cx="1066680" cy="0"/>
          </a:xfrm>
          <a:prstGeom prst="line">
            <a:avLst/>
          </a:prstGeom>
          <a:ln w="7632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ciativa de Desempenho Fim a Fi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juste do Host/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de med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mbiente de Melhoria do 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unicação entre Operações e Usuá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cabouço para Revisão e Avaliação do 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1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3962520" cy="27925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171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4038480" y="2604960"/>
          <a:ext cx="5105520" cy="35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2604960"/>
                    <a:ext cx="510552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7" name="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2 no Bras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MA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ckbone da RN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Ts da RN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hamada de Projetos CNPq (ProTeM/RN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hamada de Projetos CNPq (ProTeM/RN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ww.rn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scimento da Internet no Mu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"/>
          <p:cNvSpPr/>
          <p:nvPr/>
        </p:nvSpPr>
        <p:spPr>
          <a:xfrm>
            <a:off x="3110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10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Count_Host" descr="Internet Hosts Chart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1981080" y="1623960"/>
            <a:ext cx="5029200" cy="462456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MAV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2" name=""/>
          <p:cNvSpPr/>
          <p:nvPr/>
        </p:nvSpPr>
        <p:spPr>
          <a:xfrm>
            <a:off x="6214680" y="3689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4" name="welcome_11" descr=""/>
          <p:cNvPicPr/>
          <p:nvPr/>
        </p:nvPicPr>
        <p:blipFill>
          <a:blip r:embed="rId1"/>
          <a:stretch/>
        </p:blipFill>
        <p:spPr>
          <a:xfrm>
            <a:off x="3081240" y="2824200"/>
            <a:ext cx="2982960" cy="1211400"/>
          </a:xfrm>
          <a:prstGeom prst="rect">
            <a:avLst/>
          </a:prstGeom>
          <a:ln w="0">
            <a:noFill/>
          </a:ln>
        </p:spPr>
      </p:pic>
      <p:pic>
        <p:nvPicPr>
          <p:cNvPr id="805" name="welcome_06" descr=""/>
          <p:cNvPicPr/>
          <p:nvPr/>
        </p:nvPicPr>
        <p:blipFill>
          <a:blip r:embed="rId2"/>
          <a:stretch/>
        </p:blipFill>
        <p:spPr>
          <a:xfrm>
            <a:off x="3657600" y="2041560"/>
            <a:ext cx="1828800" cy="777960"/>
          </a:xfrm>
          <a:prstGeom prst="rect">
            <a:avLst/>
          </a:prstGeom>
          <a:ln w="0">
            <a:noFill/>
          </a:ln>
        </p:spPr>
      </p:pic>
      <p:pic>
        <p:nvPicPr>
          <p:cNvPr id="806" name="welcome_04" descr=""/>
          <p:cNvPicPr/>
          <p:nvPr/>
        </p:nvPicPr>
        <p:blipFill>
          <a:blip r:embed="rId3"/>
          <a:stretch/>
        </p:blipFill>
        <p:spPr>
          <a:xfrm>
            <a:off x="5486400" y="1295280"/>
            <a:ext cx="2011320" cy="1532160"/>
          </a:xfrm>
          <a:prstGeom prst="rect">
            <a:avLst/>
          </a:prstGeom>
          <a:ln w="0">
            <a:noFill/>
          </a:ln>
        </p:spPr>
      </p:pic>
      <p:pic>
        <p:nvPicPr>
          <p:cNvPr id="807" name="welcome_17" descr=""/>
          <p:cNvPicPr/>
          <p:nvPr/>
        </p:nvPicPr>
        <p:blipFill>
          <a:blip r:embed="rId4"/>
          <a:stretch/>
        </p:blipFill>
        <p:spPr>
          <a:xfrm>
            <a:off x="3375000" y="4038480"/>
            <a:ext cx="2492280" cy="1257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24160" y="5943600"/>
            <a:ext cx="79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arceiros: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FBA, Governo do Estado, CONDER, PMS, TELEMAR, UC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welcome_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038480"/>
            <a:ext cx="960480" cy="1257480"/>
          </a:xfrm>
          <a:prstGeom prst="rect">
            <a:avLst/>
          </a:prstGeom>
          <a:ln w="0">
            <a:noFill/>
          </a:ln>
        </p:spPr>
      </p:pic>
      <p:pic>
        <p:nvPicPr>
          <p:cNvPr id="810" name="welcome_12" descr=""/>
          <p:cNvPicPr/>
          <p:nvPr/>
        </p:nvPicPr>
        <p:blipFill>
          <a:blip r:embed="rId7"/>
          <a:stretch/>
        </p:blipFill>
        <p:spPr>
          <a:xfrm>
            <a:off x="6019920" y="2819520"/>
            <a:ext cx="1463400" cy="1211040"/>
          </a:xfrm>
          <a:prstGeom prst="rect">
            <a:avLst/>
          </a:prstGeom>
          <a:ln w="0">
            <a:noFill/>
          </a:ln>
        </p:spPr>
      </p:pic>
      <p:pic>
        <p:nvPicPr>
          <p:cNvPr id="811" name="welcome_18" descr=""/>
          <p:cNvPicPr/>
          <p:nvPr/>
        </p:nvPicPr>
        <p:blipFill>
          <a:blip r:embed="rId8"/>
          <a:stretch/>
        </p:blipFill>
        <p:spPr>
          <a:xfrm>
            <a:off x="5867280" y="4000680"/>
            <a:ext cx="16574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1295280" y="1047600"/>
            <a:ext cx="6553440" cy="57340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ckbone da RNP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Ts da RNP2 </a:t>
            </a: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(em fase de criação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Qualidade de Serviço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dlewa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Diretóri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Voz sobre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Aplicações em Educação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Vídeo Dig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hamada de Projetos CNPq (ProTeM/RNP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tos para Aplicações de Redes Avanç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mentar a produção de aplicações em redes de alta velocidade, metropolitanas e de longa distância;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r e ampliar o acesso a tais aplicações pelas empresas nacionais, e comunidade em g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alida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squ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tos de Demonst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para Aplicações de 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reas Foca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lidade de Serviço Fim a F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deo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balho Coope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para Aplicações de 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das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ibliotecas Digit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utação Ubíq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ucação a Distâ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arantia à Privacidade e Anonim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erenciamento de Direitos Autor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andes Sistemas Distribuídos Complex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boratórios Virtu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lemedic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balho Coope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para Aplicações de 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a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nçamento da Chamada: 18/10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bimento de propostas: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14/11/2001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, julgamento: 19-23/11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vulgação de resultados: 7/12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atação das propostas: 01/200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hamada de Projetos CNPq (SocInfo/ProTe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ias para o Desenvolvimento e Pesquisa em Conteúdos Digi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mentar a produção de Conteúdos Digitais de qualquer natureza (textos, música, software, etc), promovendo a indústria e identidade cultural do país;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r e ampliar a geração, distribuição e acesso a tais conteúdos em todo o paí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de Conteúdos Digit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has de Atuaçã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u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squ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tos de demonst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ç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ação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rescimento da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6" name="Count_WWW" descr="WWW Growth Chart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de Conteúdos Digit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reas Foca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gamentos eletrônicos e Micro-tarif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r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isualiz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eserv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rmazenagem e recuper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drões técnicos e metad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tribuição/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teúdos semân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de Conteúdos Digit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a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nçamento da Chamada: 18/10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bimento de propostas: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14/11/2001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, julgamento: 19-23/11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vulgação de resultados: 7/12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atação das propostas: 01/200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stribuição de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Host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no Mu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119240" y="2057400"/>
            <a:ext cx="69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/B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de sucesso na transferência de tecnologia para a socie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ição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Network Wizards, 1/2001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hosts: 876.596 (eram 662.910 em 07/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 Mundo (era o 1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07/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s Américas  (México = 559.165 - 15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 América do Sul (Argentina = 270.275 - 25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8:48:10Z</dcterms:created>
  <dc:creator>Suruagy</dc:creator>
  <dc:description/>
  <dc:language>en-US</dc:language>
  <cp:lastModifiedBy>Suruagy</cp:lastModifiedBy>
  <dcterms:modified xsi:type="dcterms:W3CDTF">2001-10-25T14:07:51Z</dcterms:modified>
  <cp:revision>52</cp:revision>
  <dc:subject/>
  <dc:title>Pós-graduação em Ciência da Computação</dc:title>
</cp:coreProperties>
</file>