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C817-C5FC-4274-B1EE-1D5A07616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AB35-331C-4ABB-B5AA-26F45D708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29A0-F248-4487-A4BE-B07ACB285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5390-C5F5-4D01-B5DB-B09981202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A579B-A7B4-4E87-A668-EB033A54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D9126-EED4-422A-834C-A3FF3D7E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52345-670F-4B66-8929-0EACC15F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FA065-4C52-4AFC-AEA3-7D7F6234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1601-384D-4DA6-AE17-0BB807D8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45720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C36FB-C755-4DE4-9C11-5A09D9A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6CEF8-58EB-4DFC-B892-CE92EBC8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FDA1E-D05F-4181-9C32-D929435E4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3C2B9-5C6A-46C9-8C59-FD31F103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C84FA-F4DA-41A4-AE6D-1DC460A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6BD37-AC00-451F-99F3-89AE76CA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74FDA-3EAE-4D2B-BA42-3267B504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2CCB2-E48E-442B-8256-B283A274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5A28-6325-4E2B-8BC1-85BCE53CF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69AF-CA51-4D23-A7E7-115DEF340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80AB-2308-4CAB-A101-777ACE17A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45720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7881-7D18-4AF5-86E4-D5178411D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3699-3D40-46A1-990A-F8A51562B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0B0C-1F9B-42B5-A024-577AD0CC4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3EA2-9C53-4A12-8B7F-410F44EFC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5AB6-B20D-4EB8-96E5-05B96CFDE4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  <p:pic>
        <p:nvPicPr>
          <p:cNvPr id="5" name="NOVAmarca" descr=""/>
          <p:cNvPicPr/>
          <p:nvPr/>
        </p:nvPicPr>
        <p:blipFill>
          <a:blip r:embed="rId3"/>
          <a:stretch/>
        </p:blipFill>
        <p:spPr>
          <a:xfrm>
            <a:off x="8077320" y="38088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78AB-F583-4636-8320-5FA980AAA2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4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4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www.internet2.edu/" TargetMode="External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ne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of. José Augusto Suruagy Monteir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Mestrado Profissional em Redes de Computador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www.nuperc.unifacs.br/re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NOVAmarca" descr=""/>
          <p:cNvPicPr/>
          <p:nvPr/>
        </p:nvPicPr>
        <p:blipFill>
          <a:blip r:embed="rId1"/>
          <a:stretch/>
        </p:blipFill>
        <p:spPr>
          <a:xfrm>
            <a:off x="228600" y="3854520"/>
            <a:ext cx="1371600" cy="1326960"/>
          </a:xfrm>
          <a:prstGeom prst="rect">
            <a:avLst/>
          </a:prstGeom>
          <a:ln w="0">
            <a:noFill/>
          </a:ln>
        </p:spPr>
      </p:pic>
      <p:pic>
        <p:nvPicPr>
          <p:cNvPr id="87" name="I2" descr=""/>
          <p:cNvPicPr/>
          <p:nvPr/>
        </p:nvPicPr>
        <p:blipFill>
          <a:blip r:embed="rId2"/>
          <a:stretch/>
        </p:blipFill>
        <p:spPr>
          <a:xfrm>
            <a:off x="7543800" y="47628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utação Distribuí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aboratórios Virtu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ibliotecas Digi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rendizado Distribuí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ídeo 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leimer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binação de todas ac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ancada de Anatomia e Cirurg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rmite que os alunos aprendam anatomia e técnicas de prática cirúrgica usando estações de trabalho 3-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test bed de rede avalia a eficácia das aplicações da banc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1946160"/>
            <a:ext cx="4495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ford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of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" y="6168960"/>
            <a:ext cx="4038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haiti.stanford.edu/~ngi/fina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hand" descr=""/>
          <p:cNvPicPr/>
          <p:nvPr/>
        </p:nvPicPr>
        <p:blipFill>
          <a:blip r:embed="rId1"/>
          <a:stretch/>
        </p:blipFill>
        <p:spPr>
          <a:xfrm>
            <a:off x="762120" y="29052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eleoperação Remota de Equipamentos em Tempo Re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257800" y="1946160"/>
            <a:ext cx="358128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Escavadeira computadoriz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Operação remota, usada em situações de risc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Garantia de Qualidade de Serviç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" y="1946160"/>
            <a:ext cx="457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rth Carolina State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" y="5943600"/>
            <a:ext cx="480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ARL.ce.ncsu.ed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Televator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572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inamento e Audições Remo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52880" y="1946160"/>
            <a:ext cx="365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ira orquestra a se tornar membro da Internet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sino a distância para treinar mús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Áudio e vídeo de alta qualidade em tempo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228600" y="1946160"/>
            <a:ext cx="449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World Symph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8600" y="6168960"/>
            <a:ext cx="4038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://www.nws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2Chan,%20Ivan" descr=""/>
          <p:cNvPicPr/>
          <p:nvPr/>
        </p:nvPicPr>
        <p:blipFill>
          <a:blip r:embed="rId1"/>
          <a:stretch/>
        </p:blipFill>
        <p:spPr>
          <a:xfrm>
            <a:off x="228600" y="2738520"/>
            <a:ext cx="4038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s de Aplic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aboração de pesquisa e Instrução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interativa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baseadas em re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ulação e Modelagem baseada em sensores, em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tempo real</a:t>
            </a:r>
            <a:r>
              <a:rPr b="0" lang="pt-BR" sz="2800" spc="-1" strike="noStrike">
                <a:solidFill>
                  <a:srgbClr val="808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utação paralela (em múltiplos sites) e processamento de banco de dados em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larga escala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Teleimers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- realidade virtual compartilh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257800" y="1885680"/>
            <a:ext cx="3378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he Internet2 Comm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mbiente Colaborativo Distribuído de Larga Escala para a Comunidade de Pesquisa e Edu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5" name="Commons_diagram" descr="Commons_diagram"/>
          <p:cNvPicPr/>
          <p:nvPr/>
        </p:nvPicPr>
        <p:blipFill>
          <a:blip r:embed="rId1"/>
          <a:stretch/>
        </p:blipFill>
        <p:spPr>
          <a:xfrm>
            <a:off x="304920" y="457200"/>
            <a:ext cx="464004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redes de alto desempenho que participam do projeto Internet2 provêem o ambiente no qual novas aplicações e capacitações de rede podem ser implantadas e test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Rede Abile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jeto da UCAID em parceria c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c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rtel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west 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2 Test and Evaluation Centers (ITE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th Carol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h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abilene-topology-oct-2001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6024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31120" y="640080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IP over SONET (OC-48c = 2,5 G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 Futuro da ABILE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romisso da Qwest estendido por mais 5 anos (01/10/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pgrade do backbone para transporte óptic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anda do backbone será quadruplicada em 2 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-48c SONET (2.5 Gbps) para 10-Gbps DWD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exibilidade para provimento 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’s para dar suporte a experimentos ponto-a-ponto e outros proj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pectos chave do nov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siliência de 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vas capacitações para medi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 que é a Internet: visão dos componen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508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ilhões de dispositivos de computação conectados: </a:t>
            </a: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hosts, sistemas fi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orkstations de pcs, serv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elefones com PDA’s, torradei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odando </a:t>
            </a: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aplicações de 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enlaces (canais) de comun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ibra, cobre, rádio, satél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roteadores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ncaminham pacotes (pedaços) de dados através da 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894360" y="31528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14800" y="300996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83080" y="446076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32520" y="3144960"/>
            <a:ext cx="732960" cy="318960"/>
            <a:chOff x="5132520" y="3144960"/>
            <a:chExt cx="732960" cy="3189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132520" y="31449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586120" y="32630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flipV="1">
              <a:off x="5538960" y="33865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132520" y="3740040"/>
            <a:ext cx="732960" cy="319320"/>
            <a:chOff x="5132520" y="3740040"/>
            <a:chExt cx="732960" cy="31932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5132520" y="374004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5586120" y="385812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5538960" y="398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508720" y="3527280"/>
            <a:ext cx="69480" cy="214200"/>
            <a:chOff x="5508720" y="3527280"/>
            <a:chExt cx="69480" cy="214200"/>
          </a:xfrm>
        </p:grpSpPr>
        <p:sp>
          <p:nvSpPr>
            <p:cNvPr id="102" name=""/>
            <p:cNvSpPr/>
            <p:nvPr/>
          </p:nvSpPr>
          <p:spPr>
            <a:xfrm>
              <a:off x="5508720" y="3527280"/>
              <a:ext cx="6408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11240" y="360432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14120" y="368136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978520" y="4030560"/>
            <a:ext cx="209520" cy="394920"/>
            <a:chOff x="5978520" y="4030560"/>
            <a:chExt cx="209520" cy="394920"/>
          </a:xfrm>
        </p:grpSpPr>
        <p:sp>
          <p:nvSpPr>
            <p:cNvPr id="106" name=""/>
            <p:cNvSpPr/>
            <p:nvPr/>
          </p:nvSpPr>
          <p:spPr>
            <a:xfrm>
              <a:off x="5978520" y="433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84720" y="403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79600" y="411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8520" y="403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88040" y="403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112080" y="433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96520" y="41590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09120" y="421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215040" y="4184280"/>
            <a:ext cx="233280" cy="81000"/>
            <a:chOff x="6215040" y="4184280"/>
            <a:chExt cx="233280" cy="81000"/>
          </a:xfrm>
        </p:grpSpPr>
        <p:sp>
          <p:nvSpPr>
            <p:cNvPr id="115" name=""/>
            <p:cNvSpPr/>
            <p:nvPr/>
          </p:nvSpPr>
          <p:spPr>
            <a:xfrm rot="16200000">
              <a:off x="6210360" y="419508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6294240" y="419184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6378120" y="418860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114960" y="393876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8200" y="393552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13560" y="393372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5080" y="3398760"/>
            <a:ext cx="288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827680" y="368424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54720" y="377028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483240" y="4017960"/>
            <a:ext cx="209520" cy="394920"/>
            <a:chOff x="6483240" y="4017960"/>
            <a:chExt cx="209520" cy="394920"/>
          </a:xfrm>
        </p:grpSpPr>
        <p:sp>
          <p:nvSpPr>
            <p:cNvPr id="125" name=""/>
            <p:cNvSpPr/>
            <p:nvPr/>
          </p:nvSpPr>
          <p:spPr>
            <a:xfrm>
              <a:off x="6483240" y="4321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89440" y="4020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4320" y="4106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3240" y="4017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92760" y="40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616800" y="4321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01240" y="41464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13840" y="4199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516640" y="4627440"/>
            <a:ext cx="479160" cy="925200"/>
            <a:chOff x="5516640" y="4627440"/>
            <a:chExt cx="479160" cy="925200"/>
          </a:xfrm>
        </p:grpSpPr>
        <p:pic>
          <p:nvPicPr>
            <p:cNvPr id="134" name="" descr=""/>
            <p:cNvPicPr/>
            <p:nvPr/>
          </p:nvPicPr>
          <p:blipFill>
            <a:blip r:embed="rId5"/>
            <a:stretch/>
          </p:blipFill>
          <p:spPr>
            <a:xfrm>
              <a:off x="5516640" y="462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flipV="1">
              <a:off x="5923440" y="487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5516640" y="522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flipV="1">
              <a:off x="5923440" y="547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5641920" y="4968720"/>
              <a:ext cx="70560" cy="222480"/>
              <a:chOff x="5641920" y="4968720"/>
              <a:chExt cx="70560" cy="222480"/>
            </a:xfrm>
          </p:grpSpPr>
          <p:sp>
            <p:nvSpPr>
              <p:cNvPr id="139" name=""/>
              <p:cNvSpPr/>
              <p:nvPr/>
            </p:nvSpPr>
            <p:spPr>
              <a:xfrm>
                <a:off x="5641920" y="4968720"/>
                <a:ext cx="65160" cy="626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44440" y="504864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47320" y="512892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990400" y="487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384960" y="563724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5770440" y="562608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16200000">
            <a:off x="6187320" y="5730120"/>
            <a:ext cx="63360" cy="64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6272280" y="5727600"/>
            <a:ext cx="63360" cy="669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349680" y="5732280"/>
            <a:ext cx="6192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638760" y="558324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014880" y="557172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016680" y="55785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996160" y="52034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97720" y="524988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92960" y="524664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7570800" y="479916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6234120" y="48798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15120" y="465444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581880" y="6076800"/>
            <a:ext cx="406080" cy="426960"/>
            <a:chOff x="6581880" y="6076800"/>
            <a:chExt cx="406080" cy="426960"/>
          </a:xfrm>
        </p:grpSpPr>
        <p:pic>
          <p:nvPicPr>
            <p:cNvPr id="158" name="" descr=""/>
            <p:cNvPicPr/>
            <p:nvPr/>
          </p:nvPicPr>
          <p:blipFill>
            <a:blip r:embed="rId11"/>
            <a:stretch/>
          </p:blipFill>
          <p:spPr>
            <a:xfrm>
              <a:off x="6581880" y="607680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2"/>
            <a:stretch/>
          </p:blipFill>
          <p:spPr>
            <a:xfrm>
              <a:off x="6641640" y="618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7359480" y="6108840"/>
            <a:ext cx="406080" cy="426960"/>
            <a:chOff x="7359480" y="6108840"/>
            <a:chExt cx="406080" cy="426960"/>
          </a:xfrm>
        </p:grpSpPr>
        <p:pic>
          <p:nvPicPr>
            <p:cNvPr id="161" name="" descr=""/>
            <p:cNvPicPr/>
            <p:nvPr/>
          </p:nvPicPr>
          <p:blipFill>
            <a:blip r:embed="rId13"/>
            <a:stretch/>
          </p:blipFill>
          <p:spPr>
            <a:xfrm>
              <a:off x="7359480" y="610884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4"/>
            <a:stretch/>
          </p:blipFill>
          <p:spPr>
            <a:xfrm>
              <a:off x="7419240" y="622080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6945480" y="5824440"/>
            <a:ext cx="379080" cy="376200"/>
            <a:chOff x="6945480" y="5824440"/>
            <a:chExt cx="379080" cy="376200"/>
          </a:xfrm>
        </p:grpSpPr>
        <p:pic>
          <p:nvPicPr>
            <p:cNvPr id="164" name="" descr=""/>
            <p:cNvPicPr/>
            <p:nvPr/>
          </p:nvPicPr>
          <p:blipFill>
            <a:blip r:embed="rId15"/>
            <a:stretch/>
          </p:blipFill>
          <p:spPr>
            <a:xfrm>
              <a:off x="6945480" y="582444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055640" y="595656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51840" y="572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972560" y="5151600"/>
            <a:ext cx="207720" cy="408960"/>
            <a:chOff x="7972560" y="5151600"/>
            <a:chExt cx="207720" cy="408960"/>
          </a:xfrm>
        </p:grpSpPr>
        <p:sp>
          <p:nvSpPr>
            <p:cNvPr id="168" name=""/>
            <p:cNvSpPr/>
            <p:nvPr/>
          </p:nvSpPr>
          <p:spPr>
            <a:xfrm>
              <a:off x="7972560" y="54662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77680" y="515412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73640" y="524340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72560" y="515160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80280" y="51580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105040" y="546624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90200" y="5284800"/>
              <a:ext cx="87120" cy="181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2800" y="533952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959600" y="5595840"/>
            <a:ext cx="208080" cy="409680"/>
            <a:chOff x="7959600" y="5595840"/>
            <a:chExt cx="208080" cy="409680"/>
          </a:xfrm>
        </p:grpSpPr>
        <p:sp>
          <p:nvSpPr>
            <p:cNvPr id="177" name=""/>
            <p:cNvSpPr/>
            <p:nvPr/>
          </p:nvSpPr>
          <p:spPr>
            <a:xfrm>
              <a:off x="7959600" y="5910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64720" y="55983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60680" y="56876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59600" y="5595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67680" y="5602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092440" y="59108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77240" y="5729040"/>
              <a:ext cx="8748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89840" y="578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V="1">
            <a:off x="7891560" y="521964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88320" y="582948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85080" y="53532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08880" y="344952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343368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062920" y="377028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92880" y="3546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18440" y="4194000"/>
            <a:ext cx="53496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778880" y="465948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551360" y="373860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561440" y="317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278920" y="335448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53000" y="2992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20520" y="600408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2480" y="414504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948280" y="1747800"/>
            <a:ext cx="501840" cy="232920"/>
            <a:chOff x="5948280" y="1747800"/>
            <a:chExt cx="501840" cy="232920"/>
          </a:xfrm>
        </p:grpSpPr>
        <p:sp>
          <p:nvSpPr>
            <p:cNvPr id="201" name=""/>
            <p:cNvSpPr/>
            <p:nvPr/>
          </p:nvSpPr>
          <p:spPr>
            <a:xfrm>
              <a:off x="5952240" y="185184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5224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012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52240" y="184068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280" y="174780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067800" y="1780560"/>
              <a:ext cx="246240" cy="88200"/>
              <a:chOff x="6067800" y="1780560"/>
              <a:chExt cx="246240" cy="88200"/>
            </a:xfrm>
          </p:grpSpPr>
          <p:sp>
            <p:nvSpPr>
              <p:cNvPr id="207" name=""/>
              <p:cNvSpPr/>
              <p:nvPr/>
            </p:nvSpPr>
            <p:spPr>
              <a:xfrm flipV="1">
                <a:off x="6067800" y="1780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36640" y="1868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48800" y="1782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067800" y="1779840"/>
              <a:ext cx="246240" cy="88200"/>
              <a:chOff x="6067800" y="1779840"/>
              <a:chExt cx="246240" cy="88200"/>
            </a:xfrm>
          </p:grpSpPr>
          <p:sp>
            <p:nvSpPr>
              <p:cNvPr id="211" name=""/>
              <p:cNvSpPr/>
              <p:nvPr/>
            </p:nvSpPr>
            <p:spPr>
              <a:xfrm>
                <a:off x="6067800" y="1866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36640" y="1779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6148800" y="1779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5958000" y="2324160"/>
            <a:ext cx="209520" cy="409680"/>
            <a:chOff x="5958000" y="2324160"/>
            <a:chExt cx="209520" cy="409680"/>
          </a:xfrm>
        </p:grpSpPr>
        <p:sp>
          <p:nvSpPr>
            <p:cNvPr id="215" name=""/>
            <p:cNvSpPr/>
            <p:nvPr/>
          </p:nvSpPr>
          <p:spPr>
            <a:xfrm>
              <a:off x="5958000" y="2639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64200" y="2326680"/>
              <a:ext cx="9612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59080" y="2415960"/>
              <a:ext cx="13248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58000" y="2324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67520" y="2330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091560" y="263916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76000" y="2457360"/>
              <a:ext cx="8784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88600" y="251208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6"/>
          <a:stretch/>
        </p:blipFill>
        <p:spPr>
          <a:xfrm>
            <a:off x="7211880" y="180180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7149960" y="2408400"/>
            <a:ext cx="406080" cy="426960"/>
            <a:chOff x="7149960" y="2408400"/>
            <a:chExt cx="406080" cy="426960"/>
          </a:xfrm>
        </p:grpSpPr>
        <p:pic>
          <p:nvPicPr>
            <p:cNvPr id="225" name="" descr=""/>
            <p:cNvPicPr/>
            <p:nvPr/>
          </p:nvPicPr>
          <p:blipFill>
            <a:blip r:embed="rId17"/>
            <a:stretch/>
          </p:blipFill>
          <p:spPr>
            <a:xfrm>
              <a:off x="7149960" y="24084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8"/>
            <a:stretch/>
          </p:blipFill>
          <p:spPr>
            <a:xfrm>
              <a:off x="7209720" y="25203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6089760" y="3546360"/>
            <a:ext cx="501480" cy="233280"/>
            <a:chOff x="6089760" y="3546360"/>
            <a:chExt cx="501480" cy="233280"/>
          </a:xfrm>
        </p:grpSpPr>
        <p:sp>
          <p:nvSpPr>
            <p:cNvPr id="228" name=""/>
            <p:cNvSpPr/>
            <p:nvPr/>
          </p:nvSpPr>
          <p:spPr>
            <a:xfrm>
              <a:off x="6093720" y="36504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372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9124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3720" y="36396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89760" y="35463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209280" y="3579120"/>
              <a:ext cx="246240" cy="88560"/>
              <a:chOff x="6209280" y="3579120"/>
              <a:chExt cx="246240" cy="8856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6209280" y="357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78120" y="3667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90280" y="3581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209280" y="3578040"/>
              <a:ext cx="246240" cy="88560"/>
              <a:chOff x="6209280" y="3578040"/>
              <a:chExt cx="246240" cy="88560"/>
            </a:xfrm>
          </p:grpSpPr>
          <p:sp>
            <p:nvSpPr>
              <p:cNvPr id="238" name=""/>
              <p:cNvSpPr/>
              <p:nvPr/>
            </p:nvSpPr>
            <p:spPr>
              <a:xfrm>
                <a:off x="6209280" y="366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8120" y="3578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6290280" y="35780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7042320" y="3317760"/>
            <a:ext cx="501480" cy="233280"/>
            <a:chOff x="7042320" y="3317760"/>
            <a:chExt cx="501480" cy="233280"/>
          </a:xfrm>
        </p:grpSpPr>
        <p:sp>
          <p:nvSpPr>
            <p:cNvPr id="242" name=""/>
            <p:cNvSpPr/>
            <p:nvPr/>
          </p:nvSpPr>
          <p:spPr>
            <a:xfrm>
              <a:off x="7046280" y="34218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4628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46280" y="34110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42320" y="33177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7161840" y="3350520"/>
              <a:ext cx="246240" cy="88560"/>
              <a:chOff x="7161840" y="3350520"/>
              <a:chExt cx="246240" cy="8856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7161840" y="335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330680" y="3439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42840" y="3352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161840" y="3349440"/>
              <a:ext cx="246240" cy="88560"/>
              <a:chOff x="7161840" y="3349440"/>
              <a:chExt cx="246240" cy="88560"/>
            </a:xfrm>
          </p:grpSpPr>
          <p:sp>
            <p:nvSpPr>
              <p:cNvPr id="252" name=""/>
              <p:cNvSpPr/>
              <p:nvPr/>
            </p:nvSpPr>
            <p:spPr>
              <a:xfrm>
                <a:off x="7161840" y="343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330680" y="3349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7242840" y="3349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7059600" y="3975120"/>
            <a:ext cx="501840" cy="232920"/>
            <a:chOff x="7059600" y="3975120"/>
            <a:chExt cx="501840" cy="232920"/>
          </a:xfrm>
        </p:grpSpPr>
        <p:sp>
          <p:nvSpPr>
            <p:cNvPr id="256" name=""/>
            <p:cNvSpPr/>
            <p:nvPr/>
          </p:nvSpPr>
          <p:spPr>
            <a:xfrm>
              <a:off x="7063560" y="407916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6356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6144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63560" y="406800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59600" y="397512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7179120" y="4007880"/>
              <a:ext cx="246240" cy="88200"/>
              <a:chOff x="7179120" y="4007880"/>
              <a:chExt cx="246240" cy="88200"/>
            </a:xfrm>
          </p:grpSpPr>
          <p:sp>
            <p:nvSpPr>
              <p:cNvPr id="262" name=""/>
              <p:cNvSpPr/>
              <p:nvPr/>
            </p:nvSpPr>
            <p:spPr>
              <a:xfrm flipV="1">
                <a:off x="7179120" y="400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47960" y="409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60120" y="4010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179120" y="4007160"/>
              <a:ext cx="246240" cy="88200"/>
              <a:chOff x="7179120" y="4007160"/>
              <a:chExt cx="246240" cy="88200"/>
            </a:xfrm>
          </p:grpSpPr>
          <p:sp>
            <p:nvSpPr>
              <p:cNvPr id="266" name=""/>
              <p:cNvSpPr/>
              <p:nvPr/>
            </p:nvSpPr>
            <p:spPr>
              <a:xfrm>
                <a:off x="7179120" y="409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47960" y="4007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7260120" y="40071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029440" y="3525840"/>
            <a:ext cx="500040" cy="232920"/>
            <a:chOff x="8029440" y="3525840"/>
            <a:chExt cx="500040" cy="232920"/>
          </a:xfrm>
        </p:grpSpPr>
        <p:sp>
          <p:nvSpPr>
            <p:cNvPr id="270" name=""/>
            <p:cNvSpPr/>
            <p:nvPr/>
          </p:nvSpPr>
          <p:spPr>
            <a:xfrm>
              <a:off x="8033400" y="3629880"/>
              <a:ext cx="4957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3340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2948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33400" y="361872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29440" y="3525840"/>
              <a:ext cx="4953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8148600" y="3558600"/>
              <a:ext cx="245520" cy="88200"/>
              <a:chOff x="8148600" y="3558600"/>
              <a:chExt cx="245520" cy="88200"/>
            </a:xfrm>
          </p:grpSpPr>
          <p:sp>
            <p:nvSpPr>
              <p:cNvPr id="276" name=""/>
              <p:cNvSpPr/>
              <p:nvPr/>
            </p:nvSpPr>
            <p:spPr>
              <a:xfrm flipV="1">
                <a:off x="8148600" y="35586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317080" y="364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229240" y="35607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8148600" y="3557880"/>
              <a:ext cx="245520" cy="88200"/>
              <a:chOff x="8148600" y="3557880"/>
              <a:chExt cx="245520" cy="88200"/>
            </a:xfrm>
          </p:grpSpPr>
          <p:sp>
            <p:nvSpPr>
              <p:cNvPr id="280" name=""/>
              <p:cNvSpPr/>
              <p:nvPr/>
            </p:nvSpPr>
            <p:spPr>
              <a:xfrm>
                <a:off x="8148600" y="36442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17080" y="3557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8229240" y="35578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835760" y="4422600"/>
            <a:ext cx="501840" cy="233280"/>
            <a:chOff x="7835760" y="4422600"/>
            <a:chExt cx="501840" cy="233280"/>
          </a:xfrm>
        </p:grpSpPr>
        <p:sp>
          <p:nvSpPr>
            <p:cNvPr id="284" name=""/>
            <p:cNvSpPr/>
            <p:nvPr/>
          </p:nvSpPr>
          <p:spPr>
            <a:xfrm>
              <a:off x="7839720" y="4526640"/>
              <a:ext cx="4975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3972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3760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9720" y="451584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35760" y="4422600"/>
              <a:ext cx="4971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7955280" y="4455360"/>
              <a:ext cx="246240" cy="88560"/>
              <a:chOff x="7955280" y="4455360"/>
              <a:chExt cx="246240" cy="8856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7955280" y="445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124120" y="4543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36280" y="44575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955280" y="4454280"/>
              <a:ext cx="246240" cy="88560"/>
              <a:chOff x="7955280" y="4454280"/>
              <a:chExt cx="246240" cy="88560"/>
            </a:xfrm>
          </p:grpSpPr>
          <p:sp>
            <p:nvSpPr>
              <p:cNvPr id="294" name=""/>
              <p:cNvSpPr/>
              <p:nvPr/>
            </p:nvSpPr>
            <p:spPr>
              <a:xfrm>
                <a:off x="7955280" y="45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124120" y="4454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8036280" y="4454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7502400" y="5006880"/>
            <a:ext cx="501840" cy="234720"/>
            <a:chOff x="7502400" y="5006880"/>
            <a:chExt cx="501840" cy="234720"/>
          </a:xfrm>
        </p:grpSpPr>
        <p:sp>
          <p:nvSpPr>
            <p:cNvPr id="298" name=""/>
            <p:cNvSpPr/>
            <p:nvPr/>
          </p:nvSpPr>
          <p:spPr>
            <a:xfrm>
              <a:off x="7506360" y="5111640"/>
              <a:ext cx="497520" cy="1299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0636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424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06360" y="5100480"/>
              <a:ext cx="493200" cy="795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02400" y="5006880"/>
              <a:ext cx="497160" cy="1515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621920" y="5040000"/>
              <a:ext cx="246240" cy="88920"/>
              <a:chOff x="7621920" y="5040000"/>
              <a:chExt cx="246240" cy="8892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7621920" y="504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790760" y="512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02920" y="504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21920" y="5038920"/>
              <a:ext cx="246240" cy="88920"/>
              <a:chOff x="7621920" y="5038920"/>
              <a:chExt cx="246240" cy="88920"/>
            </a:xfrm>
          </p:grpSpPr>
          <p:sp>
            <p:nvSpPr>
              <p:cNvPr id="308" name=""/>
              <p:cNvSpPr/>
              <p:nvPr/>
            </p:nvSpPr>
            <p:spPr>
              <a:xfrm>
                <a:off x="7621920" y="512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790760" y="503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702920" y="503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6892920" y="5495760"/>
            <a:ext cx="500040" cy="233280"/>
            <a:chOff x="6892920" y="5495760"/>
            <a:chExt cx="500040" cy="233280"/>
          </a:xfrm>
        </p:grpSpPr>
        <p:sp>
          <p:nvSpPr>
            <p:cNvPr id="312" name=""/>
            <p:cNvSpPr/>
            <p:nvPr/>
          </p:nvSpPr>
          <p:spPr>
            <a:xfrm>
              <a:off x="6896880" y="5599800"/>
              <a:ext cx="4957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9688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9296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96880" y="558900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92920" y="5495760"/>
              <a:ext cx="4953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012080" y="5528520"/>
              <a:ext cx="245520" cy="88560"/>
              <a:chOff x="7012080" y="5528520"/>
              <a:chExt cx="245520" cy="8856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7012080" y="552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80560" y="5617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92720" y="55306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012080" y="5527440"/>
              <a:ext cx="245520" cy="88560"/>
              <a:chOff x="7012080" y="5527440"/>
              <a:chExt cx="245520" cy="88560"/>
            </a:xfrm>
          </p:grpSpPr>
          <p:sp>
            <p:nvSpPr>
              <p:cNvPr id="322" name=""/>
              <p:cNvSpPr/>
              <p:nvPr/>
            </p:nvSpPr>
            <p:spPr>
              <a:xfrm>
                <a:off x="7012080" y="561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80560" y="5527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092720" y="552744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089760" y="5119560"/>
            <a:ext cx="501480" cy="233280"/>
            <a:chOff x="6089760" y="5119560"/>
            <a:chExt cx="501480" cy="233280"/>
          </a:xfrm>
        </p:grpSpPr>
        <p:sp>
          <p:nvSpPr>
            <p:cNvPr id="326" name=""/>
            <p:cNvSpPr/>
            <p:nvPr/>
          </p:nvSpPr>
          <p:spPr>
            <a:xfrm>
              <a:off x="6093720" y="52236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372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9124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3720" y="52128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89760" y="51195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209280" y="5152320"/>
              <a:ext cx="246240" cy="88560"/>
              <a:chOff x="6209280" y="5152320"/>
              <a:chExt cx="246240" cy="88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6209280" y="515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78120" y="5240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90280" y="5154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209280" y="5151240"/>
              <a:ext cx="246240" cy="88560"/>
              <a:chOff x="6209280" y="5151240"/>
              <a:chExt cx="246240" cy="88560"/>
            </a:xfrm>
          </p:grpSpPr>
          <p:sp>
            <p:nvSpPr>
              <p:cNvPr id="336" name=""/>
              <p:cNvSpPr/>
              <p:nvPr/>
            </p:nvSpPr>
            <p:spPr>
              <a:xfrm>
                <a:off x="6209280" y="523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78120" y="5151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6290280" y="5151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>
            <a:off x="5900760" y="191124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02080" y="203832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22160" y="24224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4960" y="2608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345360" y="5331960"/>
            <a:ext cx="144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Abilene_Core_Top_M2000" descr=""/>
          <p:cNvPicPr/>
          <p:nvPr/>
        </p:nvPicPr>
        <p:blipFill>
          <a:blip r:embed="rId1"/>
          <a:srcRect l="22045" t="21052" r="0" b="14710"/>
          <a:stretch/>
        </p:blipFill>
        <p:spPr>
          <a:xfrm>
            <a:off x="1600200" y="2395440"/>
            <a:ext cx="5950080" cy="374508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ilene International Pe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6" name=""/>
          <p:cNvSpPr/>
          <p:nvPr/>
        </p:nvSpPr>
        <p:spPr>
          <a:xfrm>
            <a:off x="5257800" y="362592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1676520"/>
            <a:ext cx="5638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CAGO/STAR T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AN/TransPAC, Ca*net3, CERN, CERnet, GEMnet, IUCC, KOREN/KREONET2,  MIRnet, NORDUnet, RENATER, SURFnet, SingAREN, SINET, TAnet2 (ANSP, RN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5029200" y="2819520"/>
            <a:ext cx="380880" cy="9144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410080" y="3106800"/>
            <a:ext cx="1232640" cy="899280"/>
            <a:chOff x="5410080" y="3106800"/>
            <a:chExt cx="1232640" cy="899280"/>
          </a:xfrm>
        </p:grpSpPr>
        <p:sp>
          <p:nvSpPr>
            <p:cNvPr id="650" name=""/>
            <p:cNvSpPr/>
            <p:nvPr/>
          </p:nvSpPr>
          <p:spPr>
            <a:xfrm flipV="1">
              <a:off x="5410080" y="3396960"/>
              <a:ext cx="533520" cy="304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5638680" y="3396600"/>
              <a:ext cx="30492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52520" y="3106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OC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7467480" y="3089160"/>
            <a:ext cx="15242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Y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LNET,  CA*net3, HEANET, JAN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DUnet, SURFn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-155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58000" y="3701880"/>
            <a:ext cx="685800" cy="228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9800" y="1644480"/>
            <a:ext cx="20491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/SN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RNET, CA*ne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NET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3880" y="2254320"/>
            <a:ext cx="60984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8760" y="3290760"/>
            <a:ext cx="174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MNET, SingAREN, WIDE (SINE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95280" y="3886200"/>
            <a:ext cx="457200" cy="120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800" y="4513320"/>
            <a:ext cx="1031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E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914400" y="4616280"/>
            <a:ext cx="1143000" cy="1526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934320" y="5454720"/>
            <a:ext cx="2057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NA, RNP2 (RETI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77120" y="5835600"/>
            <a:ext cx="3808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638320" y="4844880"/>
            <a:ext cx="228600" cy="838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38680" y="5683320"/>
            <a:ext cx="838440" cy="152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51160" y="54864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84560" y="5773680"/>
            <a:ext cx="1355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 El P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05320" y="5378400"/>
            <a:ext cx="15228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9120" y="5468760"/>
            <a:ext cx="138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RE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676520" y="4844880"/>
            <a:ext cx="457200" cy="685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320" y="6568920"/>
            <a:ext cx="906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NES, CARNET, CESnet, DFN, GRNET, HEAnet, RESTENA, SWITCH, HUNGARNET, GARR-B, POL-34, RCCN, RedI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63800" y="99072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map_new" descr=""/>
          <p:cNvPicPr/>
          <p:nvPr/>
        </p:nvPicPr>
        <p:blipFill>
          <a:blip r:embed="rId1"/>
          <a:srcRect l="14310" t="3332" r="6925" b="0"/>
          <a:stretch/>
        </p:blipFill>
        <p:spPr>
          <a:xfrm>
            <a:off x="4705200" y="1828800"/>
            <a:ext cx="4438800" cy="502920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PA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ttp://ampath.fiu.ed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51055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derado pela Florida International University e Global Cro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tencial para conectar 10 países a 45Mbps c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ering através de Miami (colocated com SFG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UNA (Chile) e RNP2 (Brasil) conectados atu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revemente também RETINA (Argentin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nolog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Packet Over Son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PLS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ulti Protocol Label Switc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igabit Ethernet (http://www.10gea.org) em fibra esc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oS: Serviços Integrados e Diferenc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genharia de Tráf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genharia de Re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r, desenvolver e testar serviços e tecnologias avançadas de redes pa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 suporte ao uso intenso de aplicações avançadas de rede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 suporte ao uso intenso da infra-estrutura da Internet2 por professores, estudantes e funcionários das instituições participantes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ir que a próxima geração da Internet comercial forneça o desempenho confiável que as aplicações avançadas requer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genharia de Redes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rga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upos de Trabal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cnologias c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blemas com tempo limitado e interdisciplin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 Centros de Avaliação de Tecnolog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ão suporte às necessidades da rede ABILENE dos GTs e dos Proje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genharia de Redes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pos de Trabalh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di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lidade de Serviç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ote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polo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iciativa de Desempenho Fim a Fi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ss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ir que os pesquisadores, professores, alunos e funcionários que utilizam redes de alta velocidade obtenham um desempenho otimizado da infra-estrutura atual de uma forma consist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990720" y="49528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ctividade Br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876920" y="49528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mpenho das 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5486400"/>
            <a:ext cx="1066680" cy="0"/>
          </a:xfrm>
          <a:prstGeom prst="line">
            <a:avLst/>
          </a:prstGeom>
          <a:ln w="7632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iciativa de Desempenho Fim a Fi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Áre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juste do Host/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 de medi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mbiente de Melhoria do 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unicação entre Operações e Usuá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cabouço para Revisão e Avaliação do 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2 no Bras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MAV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U RNP2/UC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N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óximos Pas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ww.rnp.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1981080" y="1623960"/>
            <a:ext cx="5029200" cy="46245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MAV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"/>
          <p:cNvSpPr/>
          <p:nvPr/>
        </p:nvSpPr>
        <p:spPr>
          <a:xfrm>
            <a:off x="6214680" y="3689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 que é a Internet: visão dos componen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protocolos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rola o envio e recepção de mensag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., TCP, IP, HTTP, FTP,  P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Internet: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“rede de red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vremente hierárqu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ternet pública versus intranet privad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drões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6797520" y="31528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7960" y="300996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86240" y="446076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035680" y="3144960"/>
            <a:ext cx="732960" cy="318960"/>
            <a:chOff x="5035680" y="3144960"/>
            <a:chExt cx="732960" cy="318960"/>
          </a:xfrm>
        </p:grpSpPr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5035680" y="31449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>
              <a:off x="5489280" y="32630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 flipV="1">
              <a:off x="5442120" y="33865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035680" y="3740040"/>
            <a:ext cx="732960" cy="319320"/>
            <a:chOff x="5035680" y="3740040"/>
            <a:chExt cx="732960" cy="319320"/>
          </a:xfrm>
        </p:grpSpPr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5035680" y="374004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4"/>
            <a:stretch/>
          </p:blipFill>
          <p:spPr>
            <a:xfrm>
              <a:off x="5489280" y="385812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V="1">
              <a:off x="5442120" y="398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411880" y="3527280"/>
            <a:ext cx="69480" cy="214200"/>
            <a:chOff x="5411880" y="3527280"/>
            <a:chExt cx="69480" cy="214200"/>
          </a:xfrm>
        </p:grpSpPr>
        <p:sp>
          <p:nvSpPr>
            <p:cNvPr id="358" name=""/>
            <p:cNvSpPr/>
            <p:nvPr/>
          </p:nvSpPr>
          <p:spPr>
            <a:xfrm>
              <a:off x="5411880" y="3527280"/>
              <a:ext cx="6408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4400" y="360432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7280" y="368136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881680" y="4030560"/>
            <a:ext cx="209520" cy="394920"/>
            <a:chOff x="5881680" y="4030560"/>
            <a:chExt cx="209520" cy="394920"/>
          </a:xfrm>
        </p:grpSpPr>
        <p:sp>
          <p:nvSpPr>
            <p:cNvPr id="362" name=""/>
            <p:cNvSpPr/>
            <p:nvPr/>
          </p:nvSpPr>
          <p:spPr>
            <a:xfrm>
              <a:off x="5881680" y="433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87880" y="403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82760" y="411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81680" y="403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91200" y="403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015240" y="433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99680" y="41590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12280" y="421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118200" y="4184280"/>
            <a:ext cx="233280" cy="81000"/>
            <a:chOff x="6118200" y="4184280"/>
            <a:chExt cx="233280" cy="81000"/>
          </a:xfrm>
        </p:grpSpPr>
        <p:sp>
          <p:nvSpPr>
            <p:cNvPr id="371" name=""/>
            <p:cNvSpPr/>
            <p:nvPr/>
          </p:nvSpPr>
          <p:spPr>
            <a:xfrm rot="16200000">
              <a:off x="6113520" y="419508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6197400" y="419184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6281280" y="418860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018120" y="393876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21360" y="393552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16720" y="393372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8240" y="3398760"/>
            <a:ext cx="288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730840" y="368424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257880" y="377028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386400" y="4017960"/>
            <a:ext cx="209520" cy="394920"/>
            <a:chOff x="6386400" y="4017960"/>
            <a:chExt cx="209520" cy="394920"/>
          </a:xfrm>
        </p:grpSpPr>
        <p:sp>
          <p:nvSpPr>
            <p:cNvPr id="381" name=""/>
            <p:cNvSpPr/>
            <p:nvPr/>
          </p:nvSpPr>
          <p:spPr>
            <a:xfrm>
              <a:off x="6386400" y="4321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92600" y="4020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87480" y="4106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86400" y="4017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95920" y="40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519960" y="4321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04400" y="41464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7000" y="4199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419800" y="4627440"/>
            <a:ext cx="479160" cy="925200"/>
            <a:chOff x="5419800" y="4627440"/>
            <a:chExt cx="479160" cy="925200"/>
          </a:xfrm>
        </p:grpSpPr>
        <p:pic>
          <p:nvPicPr>
            <p:cNvPr id="390" name="" descr=""/>
            <p:cNvPicPr/>
            <p:nvPr/>
          </p:nvPicPr>
          <p:blipFill>
            <a:blip r:embed="rId5"/>
            <a:stretch/>
          </p:blipFill>
          <p:spPr>
            <a:xfrm>
              <a:off x="5419800" y="462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 flipV="1">
              <a:off x="5826600" y="487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6"/>
            <a:stretch/>
          </p:blipFill>
          <p:spPr>
            <a:xfrm>
              <a:off x="5419800" y="522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 flipV="1">
              <a:off x="5826600" y="547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5545080" y="4968720"/>
              <a:ext cx="70560" cy="222480"/>
              <a:chOff x="5545080" y="4968720"/>
              <a:chExt cx="70560" cy="222480"/>
            </a:xfrm>
          </p:grpSpPr>
          <p:sp>
            <p:nvSpPr>
              <p:cNvPr id="395" name=""/>
              <p:cNvSpPr/>
              <p:nvPr/>
            </p:nvSpPr>
            <p:spPr>
              <a:xfrm>
                <a:off x="5545080" y="4968720"/>
                <a:ext cx="65160" cy="626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47600" y="504864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50480" y="512892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893560" y="487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7"/>
          <a:stretch/>
        </p:blipFill>
        <p:spPr>
          <a:xfrm>
            <a:off x="6288120" y="563724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8"/>
          <a:stretch/>
        </p:blipFill>
        <p:spPr>
          <a:xfrm>
            <a:off x="5673600" y="562608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rot="16200000">
            <a:off x="6090480" y="5730120"/>
            <a:ext cx="63360" cy="64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6175440" y="5727600"/>
            <a:ext cx="63360" cy="669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6252840" y="5732280"/>
            <a:ext cx="6192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541920" y="558324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918040" y="557172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919840" y="55785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899320" y="52034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00880" y="524988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7296120" y="524664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9"/>
          <a:stretch/>
        </p:blipFill>
        <p:spPr>
          <a:xfrm>
            <a:off x="7473960" y="479916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0"/>
          <a:stretch/>
        </p:blipFill>
        <p:spPr>
          <a:xfrm>
            <a:off x="6137280" y="48798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6218280" y="465444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485040" y="6076800"/>
            <a:ext cx="406080" cy="426960"/>
            <a:chOff x="6485040" y="6076800"/>
            <a:chExt cx="406080" cy="426960"/>
          </a:xfrm>
        </p:grpSpPr>
        <p:pic>
          <p:nvPicPr>
            <p:cNvPr id="414" name="" descr=""/>
            <p:cNvPicPr/>
            <p:nvPr/>
          </p:nvPicPr>
          <p:blipFill>
            <a:blip r:embed="rId11"/>
            <a:stretch/>
          </p:blipFill>
          <p:spPr>
            <a:xfrm>
              <a:off x="6485040" y="607680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12"/>
            <a:stretch/>
          </p:blipFill>
          <p:spPr>
            <a:xfrm>
              <a:off x="6544800" y="618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7262640" y="6108840"/>
            <a:ext cx="406080" cy="426960"/>
            <a:chOff x="7262640" y="6108840"/>
            <a:chExt cx="406080" cy="426960"/>
          </a:xfrm>
        </p:grpSpPr>
        <p:pic>
          <p:nvPicPr>
            <p:cNvPr id="417" name="" descr=""/>
            <p:cNvPicPr/>
            <p:nvPr/>
          </p:nvPicPr>
          <p:blipFill>
            <a:blip r:embed="rId13"/>
            <a:stretch/>
          </p:blipFill>
          <p:spPr>
            <a:xfrm>
              <a:off x="7262640" y="610884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4"/>
            <a:stretch/>
          </p:blipFill>
          <p:spPr>
            <a:xfrm>
              <a:off x="7322400" y="622080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"/>
          <p:cNvGrpSpPr/>
          <p:nvPr/>
        </p:nvGrpSpPr>
        <p:grpSpPr>
          <a:xfrm>
            <a:off x="6848640" y="5824440"/>
            <a:ext cx="379080" cy="376200"/>
            <a:chOff x="6848640" y="5824440"/>
            <a:chExt cx="379080" cy="376200"/>
          </a:xfrm>
        </p:grpSpPr>
        <p:pic>
          <p:nvPicPr>
            <p:cNvPr id="420" name="" descr=""/>
            <p:cNvPicPr/>
            <p:nvPr/>
          </p:nvPicPr>
          <p:blipFill>
            <a:blip r:embed="rId15"/>
            <a:stretch/>
          </p:blipFill>
          <p:spPr>
            <a:xfrm>
              <a:off x="6848640" y="582444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6958800" y="595656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155000" y="572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875720" y="5151600"/>
            <a:ext cx="207720" cy="408960"/>
            <a:chOff x="7875720" y="5151600"/>
            <a:chExt cx="207720" cy="408960"/>
          </a:xfrm>
        </p:grpSpPr>
        <p:sp>
          <p:nvSpPr>
            <p:cNvPr id="424" name=""/>
            <p:cNvSpPr/>
            <p:nvPr/>
          </p:nvSpPr>
          <p:spPr>
            <a:xfrm>
              <a:off x="7875720" y="54662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80840" y="515412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76800" y="524340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75720" y="515160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83440" y="51580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08200" y="546624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93360" y="5284800"/>
              <a:ext cx="87120" cy="181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05960" y="533952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862760" y="5595840"/>
            <a:ext cx="208080" cy="409680"/>
            <a:chOff x="7862760" y="5595840"/>
            <a:chExt cx="208080" cy="409680"/>
          </a:xfrm>
        </p:grpSpPr>
        <p:sp>
          <p:nvSpPr>
            <p:cNvPr id="433" name=""/>
            <p:cNvSpPr/>
            <p:nvPr/>
          </p:nvSpPr>
          <p:spPr>
            <a:xfrm>
              <a:off x="7862760" y="5910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67880" y="55983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63840" y="56876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2760" y="5595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70840" y="5602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995600" y="59108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80400" y="5729040"/>
              <a:ext cx="8748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93000" y="578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V="1">
            <a:off x="7794720" y="521964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91480" y="582948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88240" y="53532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512040" y="344952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46960" y="343368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966080" y="377028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96040" y="3546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21600" y="4194000"/>
            <a:ext cx="53496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682040" y="465948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454520" y="373860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7464600" y="317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8182080" y="335448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56160" y="2992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23680" y="600408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65640" y="414504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851440" y="1747800"/>
            <a:ext cx="501840" cy="232920"/>
            <a:chOff x="5851440" y="1747800"/>
            <a:chExt cx="501840" cy="232920"/>
          </a:xfrm>
        </p:grpSpPr>
        <p:sp>
          <p:nvSpPr>
            <p:cNvPr id="457" name=""/>
            <p:cNvSpPr/>
            <p:nvPr/>
          </p:nvSpPr>
          <p:spPr>
            <a:xfrm>
              <a:off x="5855400" y="185184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5540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5328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55400" y="184068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51440" y="174780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5970960" y="1780560"/>
              <a:ext cx="246240" cy="88200"/>
              <a:chOff x="5970960" y="1780560"/>
              <a:chExt cx="246240" cy="88200"/>
            </a:xfrm>
          </p:grpSpPr>
          <p:sp>
            <p:nvSpPr>
              <p:cNvPr id="463" name=""/>
              <p:cNvSpPr/>
              <p:nvPr/>
            </p:nvSpPr>
            <p:spPr>
              <a:xfrm flipV="1">
                <a:off x="5970960" y="1780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39800" y="1868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51960" y="1782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5970960" y="1779840"/>
              <a:ext cx="246240" cy="88200"/>
              <a:chOff x="5970960" y="1779840"/>
              <a:chExt cx="246240" cy="88200"/>
            </a:xfrm>
          </p:grpSpPr>
          <p:sp>
            <p:nvSpPr>
              <p:cNvPr id="467" name=""/>
              <p:cNvSpPr/>
              <p:nvPr/>
            </p:nvSpPr>
            <p:spPr>
              <a:xfrm>
                <a:off x="5970960" y="1866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39800" y="1779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6051960" y="1779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861160" y="2324160"/>
            <a:ext cx="209520" cy="409680"/>
            <a:chOff x="5861160" y="2324160"/>
            <a:chExt cx="209520" cy="409680"/>
          </a:xfrm>
        </p:grpSpPr>
        <p:sp>
          <p:nvSpPr>
            <p:cNvPr id="471" name=""/>
            <p:cNvSpPr/>
            <p:nvPr/>
          </p:nvSpPr>
          <p:spPr>
            <a:xfrm>
              <a:off x="5861160" y="2639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67360" y="2326680"/>
              <a:ext cx="9612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62240" y="2415960"/>
              <a:ext cx="13248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1160" y="2324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70680" y="2330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994720" y="263916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79160" y="2457360"/>
              <a:ext cx="8784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91760" y="251208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9" name="" descr=""/>
          <p:cNvPicPr/>
          <p:nvPr/>
        </p:nvPicPr>
        <p:blipFill>
          <a:blip r:embed="rId16"/>
          <a:stretch/>
        </p:blipFill>
        <p:spPr>
          <a:xfrm>
            <a:off x="7115040" y="180180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7053120" y="2408400"/>
            <a:ext cx="406080" cy="426960"/>
            <a:chOff x="7053120" y="2408400"/>
            <a:chExt cx="406080" cy="426960"/>
          </a:xfrm>
        </p:grpSpPr>
        <p:pic>
          <p:nvPicPr>
            <p:cNvPr id="481" name="" descr=""/>
            <p:cNvPicPr/>
            <p:nvPr/>
          </p:nvPicPr>
          <p:blipFill>
            <a:blip r:embed="rId17"/>
            <a:stretch/>
          </p:blipFill>
          <p:spPr>
            <a:xfrm>
              <a:off x="7053120" y="24084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18"/>
            <a:stretch/>
          </p:blipFill>
          <p:spPr>
            <a:xfrm>
              <a:off x="7112880" y="25203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"/>
          <p:cNvGrpSpPr/>
          <p:nvPr/>
        </p:nvGrpSpPr>
        <p:grpSpPr>
          <a:xfrm>
            <a:off x="5992920" y="3546360"/>
            <a:ext cx="501480" cy="233280"/>
            <a:chOff x="5992920" y="3546360"/>
            <a:chExt cx="501480" cy="233280"/>
          </a:xfrm>
        </p:grpSpPr>
        <p:sp>
          <p:nvSpPr>
            <p:cNvPr id="484" name=""/>
            <p:cNvSpPr/>
            <p:nvPr/>
          </p:nvSpPr>
          <p:spPr>
            <a:xfrm>
              <a:off x="5996880" y="36504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9688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9440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96880" y="36396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92920" y="35463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6112440" y="3579120"/>
              <a:ext cx="246240" cy="88560"/>
              <a:chOff x="6112440" y="3579120"/>
              <a:chExt cx="246240" cy="88560"/>
            </a:xfrm>
          </p:grpSpPr>
          <p:sp>
            <p:nvSpPr>
              <p:cNvPr id="490" name=""/>
              <p:cNvSpPr/>
              <p:nvPr/>
            </p:nvSpPr>
            <p:spPr>
              <a:xfrm flipV="1">
                <a:off x="6112440" y="357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81280" y="3667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93440" y="3581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112440" y="3578040"/>
              <a:ext cx="246240" cy="88560"/>
              <a:chOff x="6112440" y="3578040"/>
              <a:chExt cx="246240" cy="88560"/>
            </a:xfrm>
          </p:grpSpPr>
          <p:sp>
            <p:nvSpPr>
              <p:cNvPr id="494" name=""/>
              <p:cNvSpPr/>
              <p:nvPr/>
            </p:nvSpPr>
            <p:spPr>
              <a:xfrm>
                <a:off x="6112440" y="366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81280" y="3578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193440" y="35780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6945480" y="3317760"/>
            <a:ext cx="501480" cy="233280"/>
            <a:chOff x="6945480" y="3317760"/>
            <a:chExt cx="501480" cy="233280"/>
          </a:xfrm>
        </p:grpSpPr>
        <p:sp>
          <p:nvSpPr>
            <p:cNvPr id="498" name=""/>
            <p:cNvSpPr/>
            <p:nvPr/>
          </p:nvSpPr>
          <p:spPr>
            <a:xfrm>
              <a:off x="6949440" y="34218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4944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4696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49440" y="34110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45480" y="33177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7065000" y="3350520"/>
              <a:ext cx="246240" cy="88560"/>
              <a:chOff x="7065000" y="3350520"/>
              <a:chExt cx="246240" cy="88560"/>
            </a:xfrm>
          </p:grpSpPr>
          <p:sp>
            <p:nvSpPr>
              <p:cNvPr id="504" name=""/>
              <p:cNvSpPr/>
              <p:nvPr/>
            </p:nvSpPr>
            <p:spPr>
              <a:xfrm flipV="1">
                <a:off x="7065000" y="335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33840" y="3439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146000" y="3352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7065000" y="3349440"/>
              <a:ext cx="246240" cy="88560"/>
              <a:chOff x="7065000" y="3349440"/>
              <a:chExt cx="246240" cy="88560"/>
            </a:xfrm>
          </p:grpSpPr>
          <p:sp>
            <p:nvSpPr>
              <p:cNvPr id="508" name=""/>
              <p:cNvSpPr/>
              <p:nvPr/>
            </p:nvSpPr>
            <p:spPr>
              <a:xfrm>
                <a:off x="7065000" y="343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33840" y="3349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7146000" y="3349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6962760" y="3975120"/>
            <a:ext cx="501840" cy="232920"/>
            <a:chOff x="6962760" y="3975120"/>
            <a:chExt cx="501840" cy="232920"/>
          </a:xfrm>
        </p:grpSpPr>
        <p:sp>
          <p:nvSpPr>
            <p:cNvPr id="512" name=""/>
            <p:cNvSpPr/>
            <p:nvPr/>
          </p:nvSpPr>
          <p:spPr>
            <a:xfrm>
              <a:off x="6966720" y="407916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6672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6460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66720" y="406800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62760" y="397512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7082280" y="4007880"/>
              <a:ext cx="246240" cy="88200"/>
              <a:chOff x="7082280" y="4007880"/>
              <a:chExt cx="246240" cy="88200"/>
            </a:xfrm>
          </p:grpSpPr>
          <p:sp>
            <p:nvSpPr>
              <p:cNvPr id="518" name=""/>
              <p:cNvSpPr/>
              <p:nvPr/>
            </p:nvSpPr>
            <p:spPr>
              <a:xfrm flipV="1">
                <a:off x="7082280" y="400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51120" y="409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63280" y="4010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7082280" y="4007160"/>
              <a:ext cx="246240" cy="88200"/>
              <a:chOff x="7082280" y="4007160"/>
              <a:chExt cx="246240" cy="88200"/>
            </a:xfrm>
          </p:grpSpPr>
          <p:sp>
            <p:nvSpPr>
              <p:cNvPr id="522" name=""/>
              <p:cNvSpPr/>
              <p:nvPr/>
            </p:nvSpPr>
            <p:spPr>
              <a:xfrm>
                <a:off x="7082280" y="409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51120" y="4007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163280" y="40071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7932600" y="3525840"/>
            <a:ext cx="500040" cy="232920"/>
            <a:chOff x="7932600" y="3525840"/>
            <a:chExt cx="500040" cy="232920"/>
          </a:xfrm>
        </p:grpSpPr>
        <p:sp>
          <p:nvSpPr>
            <p:cNvPr id="526" name=""/>
            <p:cNvSpPr/>
            <p:nvPr/>
          </p:nvSpPr>
          <p:spPr>
            <a:xfrm>
              <a:off x="7936560" y="3629880"/>
              <a:ext cx="4957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3656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3264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36560" y="361872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32600" y="3525840"/>
              <a:ext cx="4953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8051760" y="3558600"/>
              <a:ext cx="245520" cy="88200"/>
              <a:chOff x="8051760" y="3558600"/>
              <a:chExt cx="245520" cy="8820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8051760" y="35586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20240" y="364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132400" y="35607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8051760" y="3557880"/>
              <a:ext cx="245520" cy="88200"/>
              <a:chOff x="8051760" y="3557880"/>
              <a:chExt cx="245520" cy="88200"/>
            </a:xfrm>
          </p:grpSpPr>
          <p:sp>
            <p:nvSpPr>
              <p:cNvPr id="536" name=""/>
              <p:cNvSpPr/>
              <p:nvPr/>
            </p:nvSpPr>
            <p:spPr>
              <a:xfrm>
                <a:off x="8051760" y="36442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220240" y="3557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8132400" y="35578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9" name=""/>
          <p:cNvGrpSpPr/>
          <p:nvPr/>
        </p:nvGrpSpPr>
        <p:grpSpPr>
          <a:xfrm>
            <a:off x="7738920" y="4422600"/>
            <a:ext cx="501840" cy="233280"/>
            <a:chOff x="7738920" y="4422600"/>
            <a:chExt cx="501840" cy="233280"/>
          </a:xfrm>
        </p:grpSpPr>
        <p:sp>
          <p:nvSpPr>
            <p:cNvPr id="540" name=""/>
            <p:cNvSpPr/>
            <p:nvPr/>
          </p:nvSpPr>
          <p:spPr>
            <a:xfrm>
              <a:off x="7742880" y="4526640"/>
              <a:ext cx="4975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4288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4076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42880" y="451584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38920" y="4422600"/>
              <a:ext cx="4971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7858440" y="4455360"/>
              <a:ext cx="246240" cy="88560"/>
              <a:chOff x="7858440" y="4455360"/>
              <a:chExt cx="246240" cy="88560"/>
            </a:xfrm>
          </p:grpSpPr>
          <p:sp>
            <p:nvSpPr>
              <p:cNvPr id="546" name=""/>
              <p:cNvSpPr/>
              <p:nvPr/>
            </p:nvSpPr>
            <p:spPr>
              <a:xfrm flipV="1">
                <a:off x="7858440" y="445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027280" y="4543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39440" y="44575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7858440" y="4454280"/>
              <a:ext cx="246240" cy="88560"/>
              <a:chOff x="7858440" y="4454280"/>
              <a:chExt cx="246240" cy="88560"/>
            </a:xfrm>
          </p:grpSpPr>
          <p:sp>
            <p:nvSpPr>
              <p:cNvPr id="550" name=""/>
              <p:cNvSpPr/>
              <p:nvPr/>
            </p:nvSpPr>
            <p:spPr>
              <a:xfrm>
                <a:off x="7858440" y="45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027280" y="4454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7939440" y="4454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7405560" y="5006880"/>
            <a:ext cx="501840" cy="234720"/>
            <a:chOff x="7405560" y="5006880"/>
            <a:chExt cx="501840" cy="234720"/>
          </a:xfrm>
        </p:grpSpPr>
        <p:sp>
          <p:nvSpPr>
            <p:cNvPr id="554" name=""/>
            <p:cNvSpPr/>
            <p:nvPr/>
          </p:nvSpPr>
          <p:spPr>
            <a:xfrm>
              <a:off x="7409520" y="5111640"/>
              <a:ext cx="497520" cy="1299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0952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740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09520" y="5100480"/>
              <a:ext cx="493200" cy="795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05560" y="5006880"/>
              <a:ext cx="497160" cy="1515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7525080" y="5040000"/>
              <a:ext cx="246240" cy="88920"/>
              <a:chOff x="7525080" y="5040000"/>
              <a:chExt cx="246240" cy="88920"/>
            </a:xfrm>
          </p:grpSpPr>
          <p:sp>
            <p:nvSpPr>
              <p:cNvPr id="560" name=""/>
              <p:cNvSpPr/>
              <p:nvPr/>
            </p:nvSpPr>
            <p:spPr>
              <a:xfrm flipV="1">
                <a:off x="7525080" y="504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693920" y="512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606080" y="504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7525080" y="5038920"/>
              <a:ext cx="246240" cy="88920"/>
              <a:chOff x="7525080" y="5038920"/>
              <a:chExt cx="246240" cy="88920"/>
            </a:xfrm>
          </p:grpSpPr>
          <p:sp>
            <p:nvSpPr>
              <p:cNvPr id="564" name=""/>
              <p:cNvSpPr/>
              <p:nvPr/>
            </p:nvSpPr>
            <p:spPr>
              <a:xfrm>
                <a:off x="7525080" y="512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93920" y="503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7606080" y="503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6796080" y="5495760"/>
            <a:ext cx="500040" cy="233280"/>
            <a:chOff x="6796080" y="5495760"/>
            <a:chExt cx="500040" cy="233280"/>
          </a:xfrm>
        </p:grpSpPr>
        <p:sp>
          <p:nvSpPr>
            <p:cNvPr id="568" name=""/>
            <p:cNvSpPr/>
            <p:nvPr/>
          </p:nvSpPr>
          <p:spPr>
            <a:xfrm>
              <a:off x="6800040" y="5599800"/>
              <a:ext cx="4957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0004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9612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00040" y="558900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96080" y="5495760"/>
              <a:ext cx="4953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6915240" y="5528520"/>
              <a:ext cx="245520" cy="88560"/>
              <a:chOff x="6915240" y="5528520"/>
              <a:chExt cx="245520" cy="88560"/>
            </a:xfrm>
          </p:grpSpPr>
          <p:sp>
            <p:nvSpPr>
              <p:cNvPr id="574" name=""/>
              <p:cNvSpPr/>
              <p:nvPr/>
            </p:nvSpPr>
            <p:spPr>
              <a:xfrm flipV="1">
                <a:off x="6915240" y="552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083720" y="5617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95880" y="55306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915240" y="5527440"/>
              <a:ext cx="245520" cy="88560"/>
              <a:chOff x="6915240" y="5527440"/>
              <a:chExt cx="245520" cy="88560"/>
            </a:xfrm>
          </p:grpSpPr>
          <p:sp>
            <p:nvSpPr>
              <p:cNvPr id="578" name=""/>
              <p:cNvSpPr/>
              <p:nvPr/>
            </p:nvSpPr>
            <p:spPr>
              <a:xfrm>
                <a:off x="6915240" y="561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083720" y="5527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6995880" y="552744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5992920" y="5119560"/>
            <a:ext cx="501480" cy="233280"/>
            <a:chOff x="5992920" y="5119560"/>
            <a:chExt cx="501480" cy="233280"/>
          </a:xfrm>
        </p:grpSpPr>
        <p:sp>
          <p:nvSpPr>
            <p:cNvPr id="582" name=""/>
            <p:cNvSpPr/>
            <p:nvPr/>
          </p:nvSpPr>
          <p:spPr>
            <a:xfrm>
              <a:off x="5996880" y="52236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688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9440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96880" y="52128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92920" y="51195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6112440" y="5152320"/>
              <a:ext cx="246240" cy="88560"/>
              <a:chOff x="6112440" y="5152320"/>
              <a:chExt cx="246240" cy="8856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6112440" y="515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81280" y="5240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193440" y="5154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6112440" y="5151240"/>
              <a:ext cx="246240" cy="88560"/>
              <a:chOff x="6112440" y="5151240"/>
              <a:chExt cx="246240" cy="88560"/>
            </a:xfrm>
          </p:grpSpPr>
          <p:sp>
            <p:nvSpPr>
              <p:cNvPr id="592" name=""/>
              <p:cNvSpPr/>
              <p:nvPr/>
            </p:nvSpPr>
            <p:spPr>
              <a:xfrm>
                <a:off x="6112440" y="523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281280" y="5151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193440" y="5151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5" name=""/>
          <p:cNvSpPr/>
          <p:nvPr/>
        </p:nvSpPr>
        <p:spPr>
          <a:xfrm>
            <a:off x="5803920" y="191124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05240" y="203832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25320" y="24224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68120" y="2608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248520" y="5331960"/>
            <a:ext cx="144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6" name="welcome_11" descr=""/>
          <p:cNvPicPr/>
          <p:nvPr/>
        </p:nvPicPr>
        <p:blipFill>
          <a:blip r:embed="rId1"/>
          <a:stretch/>
        </p:blipFill>
        <p:spPr>
          <a:xfrm>
            <a:off x="3081240" y="2824200"/>
            <a:ext cx="2982960" cy="1211400"/>
          </a:xfrm>
          <a:prstGeom prst="rect">
            <a:avLst/>
          </a:prstGeom>
          <a:ln w="0">
            <a:noFill/>
          </a:ln>
        </p:spPr>
      </p:pic>
      <p:pic>
        <p:nvPicPr>
          <p:cNvPr id="697" name="welcome_06" descr=""/>
          <p:cNvPicPr/>
          <p:nvPr/>
        </p:nvPicPr>
        <p:blipFill>
          <a:blip r:embed="rId2"/>
          <a:stretch/>
        </p:blipFill>
        <p:spPr>
          <a:xfrm>
            <a:off x="3657600" y="2041560"/>
            <a:ext cx="1828800" cy="777960"/>
          </a:xfrm>
          <a:prstGeom prst="rect">
            <a:avLst/>
          </a:prstGeom>
          <a:ln w="0">
            <a:noFill/>
          </a:ln>
        </p:spPr>
      </p:pic>
      <p:pic>
        <p:nvPicPr>
          <p:cNvPr id="698" name="welcome_04" descr=""/>
          <p:cNvPicPr/>
          <p:nvPr/>
        </p:nvPicPr>
        <p:blipFill>
          <a:blip r:embed="rId3"/>
          <a:stretch/>
        </p:blipFill>
        <p:spPr>
          <a:xfrm>
            <a:off x="5486400" y="1295280"/>
            <a:ext cx="2011320" cy="1532160"/>
          </a:xfrm>
          <a:prstGeom prst="rect">
            <a:avLst/>
          </a:prstGeom>
          <a:ln w="0">
            <a:noFill/>
          </a:ln>
        </p:spPr>
      </p:pic>
      <p:pic>
        <p:nvPicPr>
          <p:cNvPr id="699" name="welcome_17" descr=""/>
          <p:cNvPicPr/>
          <p:nvPr/>
        </p:nvPicPr>
        <p:blipFill>
          <a:blip r:embed="rId4"/>
          <a:stretch/>
        </p:blipFill>
        <p:spPr>
          <a:xfrm>
            <a:off x="3375000" y="4038480"/>
            <a:ext cx="2492280" cy="1257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24160" y="5943600"/>
            <a:ext cx="79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arceiros: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FBA, Governo do Estado, CONDER, PMS, TELEMAR, UC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welcome_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4038480"/>
            <a:ext cx="960480" cy="1257480"/>
          </a:xfrm>
          <a:prstGeom prst="rect">
            <a:avLst/>
          </a:prstGeom>
          <a:ln w="0">
            <a:noFill/>
          </a:ln>
        </p:spPr>
      </p:pic>
      <p:pic>
        <p:nvPicPr>
          <p:cNvPr id="702" name="welcome_12" descr=""/>
          <p:cNvPicPr/>
          <p:nvPr/>
        </p:nvPicPr>
        <p:blipFill>
          <a:blip r:embed="rId7"/>
          <a:stretch/>
        </p:blipFill>
        <p:spPr>
          <a:xfrm>
            <a:off x="6019920" y="2819520"/>
            <a:ext cx="1463400" cy="1211040"/>
          </a:xfrm>
          <a:prstGeom prst="rect">
            <a:avLst/>
          </a:prstGeom>
          <a:ln w="0">
            <a:noFill/>
          </a:ln>
        </p:spPr>
      </p:pic>
      <p:pic>
        <p:nvPicPr>
          <p:cNvPr id="703" name="welcome_18" descr=""/>
          <p:cNvPicPr/>
          <p:nvPr/>
        </p:nvPicPr>
        <p:blipFill>
          <a:blip r:embed="rId8"/>
          <a:stretch/>
        </p:blipFill>
        <p:spPr>
          <a:xfrm>
            <a:off x="5867280" y="4000680"/>
            <a:ext cx="16574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bkb_rnp2_20010409" descr="Backbone RNP2"/>
          <p:cNvPicPr/>
          <p:nvPr/>
        </p:nvPicPr>
        <p:blipFill>
          <a:blip r:embed="rId1"/>
          <a:stretch/>
        </p:blipFill>
        <p:spPr>
          <a:xfrm>
            <a:off x="914400" y="34920"/>
            <a:ext cx="7696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óximos Pass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ticulações de GTs para a RN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jeto Giga - FUNT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o Edital para Aplicações Avanç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fra-estrutura será contra-part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 Projeto Internet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www.internet2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ado em 10/1996 por 34 Universidades, conta hoje com mais de 17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volve també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64 empre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37 institutos de pesquisa (incluindo 9 laboratórios governamenta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is de 30 parceiros interna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ceiros de agências feder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a com cerca de 25 funcioná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2" name="I2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a Internet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r novas aplicações que tenham um grande impacto no modo dos pesquisadores colaborarem e conduzirem seus experime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r aplicações da “proximidade virtual” (educação, saúde, ambiente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er ferramentas e plataforma de desenvolvimento para aplicações avanç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a Internet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cilitar o desenvolvimento e operação de infra-estrutura que garanta QoS diferenciadas para as 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mover experiências com a próxima geração de tecnologias de comunic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ordenar a adoção de padrões para garantir QoS fim a fim e interoper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a Internet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talizar parcerias entre governo e setor priv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orajar a transferência de tecnologia da Internet 2 para o resto da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udar o impacto desta nova infra-estrutura, serviços e aplicações na educação superior e na comunidade Internet em g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Áreas de Ativ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nvolvimento e uso de aplicações avanç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 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iddlewar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para Ensino Superior e Pesqu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 avançada de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capacitações de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ferência de tecnolo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ceria e Divulg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 da Internet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is são as aplicações características da Internet2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 melhoram qualitativa e quantitativamente a forma como conduzimos pesquisa e nos envolvemos com ensino e aprendi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 requerem redes avançadas para funcion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8:48:10Z</dcterms:created>
  <dc:creator>Suruagy</dc:creator>
  <dc:description/>
  <dc:language>en-US</dc:language>
  <cp:lastModifiedBy>Suruagy</cp:lastModifiedBy>
  <dcterms:modified xsi:type="dcterms:W3CDTF">2001-10-11T22:00:40Z</dcterms:modified>
  <cp:revision>40</cp:revision>
  <dc:subject/>
  <dc:title>Pós-graduação em Ciência da Computação</dc:title>
</cp:coreProperties>
</file>