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43E-AF89-4539-A038-CEFAFA55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B10-E07D-44B5-8EC1-9564F95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B65-D101-480A-BC33-7CDF6144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6C9-DAD4-4D1B-8DB1-8D69586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057-5E33-40B6-9958-49DE0D4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AD3-8CFA-4965-8B40-DF6F998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474-1D48-48A6-B5C5-42BBE1BF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0B7-F4A0-4297-9031-EBAEAE34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58C-D2F6-44AF-8D8D-1B99DD6E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CB8-9E4E-4A0B-8FD6-3D8F9C6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B25-881C-4D81-B1FD-AD9DCF0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33D-A5F4-461A-BB48-5A5AB1F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E171-092B-47BF-B0A8-AC8C8DAD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ulação Estocá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zana D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ve Cavalc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 fundamental para a compreensão do comportamento atual d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rir o tamanho da Internet (redes, usuá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padrões e volume de tráf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como os pacotes são rot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a vazão e perda de pacotes em determinado ro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o atraso entre dois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ção – Internet Traffic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peri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ção de testes reais em um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cais de experimen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produção como uma universidade ou a própri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específica para test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estb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mitações de medição e experimen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exploram redes e situações a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sempre é possível ter acesso a um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erimentação é uma técnica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ibilita explorar um modelo (da Internet) sobre o qual se tem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s matemáticos simplificados geram resultados rapid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 barata: lápis, papel e cérebr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s pressupostos e abstrações são fe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perder o comportamento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sistemas de fi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que simul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permite construir modelos mais complexos e representativos do mun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or flex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modificar vários parâmetros do sistema e estudar os efe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usada para estudar sistemas bastantes complexos, onde análise matemática é muito comp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trapolações inde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quenas variações modelo podem produzir resultados contraditó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esconde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ug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s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abilidade e Estat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ável alea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 indepen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ição de probabilidade e dens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dia ou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ância e desvio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mostragem e estimação de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valo de confi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ável Alea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peamento de um evento (resultado de um experimento aleatório) em um nú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estado do servidor: 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tivo,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 = número de pacotes IP por intervalo de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Z = atraso estabelecimento conexão 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erimento: lançar um 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= valor f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=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lor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lor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l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l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m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áveis discretas e contí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ventos indepen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eventos são independentes se a ocorrência de um não afeta a probabilidade de ocorrência do o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istência ou não de relação de dependência pode modificar conclusões de uma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s 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pacotes que chegam em um ro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pacotes desca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s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chamadas que chegam a um central telef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ção das ch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de proba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rmina o comportamento de uma variável aleatóri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re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tribuindo probabilidades a todos os possíveis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variável X (estado do servi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[X=1] =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[X=0] =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junto {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é a distribuição de probabilidade da variável aleatória discret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ção acumulada e den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aso de variáveis contínuas, define-se um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ção de distribuição acumula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x) que determinada a probabilidade da variável assumir um valor menor ou igual a um determinado val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, 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x) é a função de densidade de probabilidade ou soment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ns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828800" y="3733920"/>
                <a:ext cx="48769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enda do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tivação 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s básicos (Probabilidade e Estatí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ulação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estatística em sim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prát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ndo 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mulador de red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simulação co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s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de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: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mé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chegadas em um determina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chamadas telefônicas em um temp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conexões TCP em um temp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número de conexões TELNET por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terminado servidor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X = 2) = 0,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14600" y="1828800"/>
                <a:ext cx="365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de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oisson" descr=""/>
          <p:cNvPicPr/>
          <p:nvPr/>
        </p:nvPicPr>
        <p:blipFill>
          <a:blip r:embed="rId1"/>
          <a:srcRect l="9160" t="9099" r="7956" b="6689"/>
          <a:stretch/>
        </p:blipFill>
        <p:spPr>
          <a:xfrm>
            <a:off x="1600200" y="1460520"/>
            <a:ext cx="525780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21480" y="1444320"/>
            <a:ext cx="196056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769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ração: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http://www.r-project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Uni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s: a e b (limite inferir e sup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l limitada sem informação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ção de movimentação de um usuário em um rede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ância entre fonte e destino em um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de um pacote conter um 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057400" y="2209680"/>
                <a:ext cx="349236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Uni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uniforme" descr=""/>
          <p:cNvPicPr/>
          <p:nvPr/>
        </p:nvPicPr>
        <p:blipFill>
          <a:blip r:embed="rId1"/>
          <a:srcRect l="9160" t="12708" r="5556" b="6689"/>
          <a:stretch/>
        </p:blipFill>
        <p:spPr>
          <a:xfrm>
            <a:off x="1447920" y="1752480"/>
            <a:ext cx="541008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1800" y="1590480"/>
            <a:ext cx="153972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Expon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: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mé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s entre eventos suces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entre chamadas telefô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entre requisições a um servidor 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entre falhas de um equi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43000" y="2362320"/>
                <a:ext cx="38098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λ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Expon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exponencial" descr=""/>
          <p:cNvPicPr/>
          <p:nvPr/>
        </p:nvPicPr>
        <p:blipFill>
          <a:blip r:embed="rId1"/>
          <a:srcRect l="9035" t="12708" r="7264" b="6689"/>
          <a:stretch/>
        </p:blipFill>
        <p:spPr>
          <a:xfrm>
            <a:off x="1905120" y="1460520"/>
            <a:ext cx="5486400" cy="5315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05000" y="266688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Normal (Gaussi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média e desvio padr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eatoriedade causada por várias fontes independentes agindo e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s em med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58800" y="2514600"/>
                <a:ext cx="415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 Normal (Gaussi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normal" descr=""/>
          <p:cNvPicPr/>
          <p:nvPr/>
        </p:nvPicPr>
        <p:blipFill>
          <a:blip r:embed="rId1"/>
          <a:srcRect l="9160" t="12708" r="9160" b="7894"/>
          <a:stretch/>
        </p:blipFill>
        <p:spPr>
          <a:xfrm>
            <a:off x="838080" y="1752480"/>
            <a:ext cx="5639040" cy="483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6520" y="2514600"/>
            <a:ext cx="266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Padr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dia ou valor esp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édia denota o valor esperado de uma variável alea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dia distrib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dia amostral (estim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33720" y="2882880"/>
                <a:ext cx="4964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71800" y="4724280"/>
                <a:ext cx="20574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ância e desvio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édia não dá informação sobre disper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conjuntos {5,10,15} e {0,10,20}, com média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ância e desvio padrão medem a dispersão dos dados em relação à mé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ância amostral (estim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io padrão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0200" y="4267080"/>
                <a:ext cx="3124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imentos desej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e processos estoc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erimentos, variáveis aleatórias, distribuições de probabilidade, densidades de prob., momentos,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a amostral, variância, desvio padrão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linguagem de programação de alt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mos utilizar esses conceitos durante o curso e recomendamos uma revisã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gestão bibliográf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tística Básica, Moretin e Buss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mostragem e est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parâmetros reais geralmente são desconhec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Qual a vazão de saída de um rotead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parâmetros são aproximados por amostragem, gerando estatísticas, como média e desvio padrão (amostr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mostras de tamanh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 uma variável X, são gerada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médias (estimativ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óximo passo: determinar uma única estim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valo de confi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Não é possível encontrar uma estimativa perfeita para a média a partir de um número finito de amostras de tamanho fini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melhor opção é obter limites probabilístic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) = 1 - </a:t>
            </a:r>
            <a:r>
              <a:rPr b="0" lang="pt-BR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 o nível de significância (menor é mel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valo de confiança é um intervalo que com alta probabilidade contém o parâmetro estim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uenciado pelo número de amostras e pelo nível de confiança e pelo desvio padrão das amo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o de confiança ao nível 90%, 95%, 99%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valo de confi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29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valo de confi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43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rros comuns em simu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ível de detalhes não aprop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de programação inadeq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s incorretos (bugs ou incorreçõ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existência ou má definiçã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mento incorret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ões in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rros comuns em simulação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dores de números aleató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ha inadequada de se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ha de métricas incorr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ga de trabalho não represen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s inadequadas e ir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 de simu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e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de replicações para estimar parâme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baseada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da simulação 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ac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regis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ntagem: cred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vantagem: limitação e influência da rede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Simular rede com tráfego real (captur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iscreta baseada em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estados disc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ndo: eventos são armazenados em uma lista encadeada por ordem de ocorrência e um escalonador executa um atrás do ou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ns de simu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m de linguagens de propósito geral até ambientes completos de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va de aprendiz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mpenho (tempo de simul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/amb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/C++ (ou outra linguagem de propósito g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PSS, SIM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ejamento da simu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clara e precisa d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a de métricas adequ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a corret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s: aspectos que influenciam a si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res: parâmetros variados na si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is: valores dos f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 experi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binações de fatores e n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idade de re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, interpretação e apresentação dos resultados da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ise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lidação e verificação do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dade de um modelo: proximidade com resultados 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idação: considerações são aceitáve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: o modelo implementa corretamente as considera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ulação: o estudo de todas as coi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blema dos tijolos que ca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erimentação (medi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cê pode subir numa torre, começar a jogar tijolos e ver o que acont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mate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o problema utilizando equações matemáticas ( v=gt e s=(1/2)gt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do algum conhecimento do comportamento dos tijolos, você pode escrever um programa de computador para mostrar o que acont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ise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dições iniciais e f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o estado estacionário (geral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transiente deve ser remov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dentificação do ponto exato é impossí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s de tratar estado trans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imulações long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iciar simulação já no estado estacioná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Truncamento do estado transi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valo de confi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Número de replic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ação de número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 para gerar valores de variáveis aleatórias, segundo alguma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r números aleatóri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forme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tribuídos entre 0 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r transformação em cada número para produzir ocorrências da distribuição des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ção através de função recur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Monotype Corsiva"/>
              </a:rPr>
              <a:t> = f(x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Monotype Corsiva"/>
              </a:rPr>
              <a:t>n-1</a:t>
            </a:r>
            <a:r>
              <a:rPr b="0" lang="pt-BR" sz="2600" spc="-1" strike="noStrike">
                <a:solidFill>
                  <a:srgbClr val="000000"/>
                </a:solidFill>
                <a:latin typeface="Monotype Corsiva"/>
              </a:rPr>
              <a:t>, x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Monotype Corsiva"/>
              </a:rPr>
              <a:t>n-2</a:t>
            </a:r>
            <a:r>
              <a:rPr b="0" lang="pt-BR" sz="2600" spc="-1" strike="noStrike">
                <a:solidFill>
                  <a:srgbClr val="000000"/>
                </a:solidFill>
                <a:latin typeface="Monotype Corsiva"/>
              </a:rPr>
              <a:t>, 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eqüência de números é produzida a partir de um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hamad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ação de número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uma função </a:t>
            </a:r>
            <a:r>
              <a:rPr b="0" lang="pt-BR" sz="24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 uma semente </a:t>
            </a:r>
            <a:r>
              <a:rPr b="0" lang="pt-BR" sz="2400" spc="-1" strike="noStrike">
                <a:solidFill>
                  <a:srgbClr val="000000"/>
                </a:solidFill>
                <a:latin typeface="Monotype Corsiva"/>
              </a:rPr>
              <a:t>x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empre a mesma seqüência é g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seudo-aleató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smas condições podem ser reproduzida para experiment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totalmente aleatórios não são desej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e bons ge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iciência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íodo l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 sucessivos independentes e unif. distri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os tipos de g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s de aleator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blema dos tijolos em queda liv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a um programa para simular a queda dos tijolos assumindo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elocidade inicial é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ediatamente após ser liberado ele continuam em repo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0,1 segundo sua velocidade atinge 0,97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0,1 segundo, a velocidade do tijolo é aumenta de 0,97 m/s independente de sua velocidade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e os resutados com o modelo matemático que você conhece da física cla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ce um grafíco que mostre a posição do tijolo em função do tempo as dua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19200"/>
            <a:ext cx="800100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ante: real  inc = 0,97; (incremento na veloc a cada 0,1 segun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áveis: real veloc, d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loc=dist=0; t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(t=0 até t=100) fa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creva (t*0,1; veloc; d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t = dist + veloc*0.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loc = veloc + in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r experimentos pode ser inviável em muitas situ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sempre existem modelos matemáticos simples para problemas 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desenvolver uma simulação precisamos conhecer as condições iniciais do sistema e como ele passa de um estado para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 simul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o processo de construção de um modelo para uma sistema real e utilização desse modelo para descrever, explicar, avaliar ou prever o comportamento do sistema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técnicas de avaliação de sist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ção (Experiment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(modelagem analí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: abstração do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áveis de entrada: definem 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áveis de saída: definem as medidas de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ressões lógicas/matemáticas que definem a relação entre as vari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ção de várias instâncias das variáveis de entrada e saída e a partir delas estimar as medidas de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das de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riedades do sistema relevantes para o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4:38:28Z</dcterms:created>
  <dc:creator>Dave Alberto T Cavalcanti</dc:creator>
  <dc:description/>
  <dc:language>en-US</dc:language>
  <cp:lastModifiedBy>suzana</cp:lastModifiedBy>
  <dcterms:modified xsi:type="dcterms:W3CDTF">2003-08-04T14:00:18Z</dcterms:modified>
  <cp:revision>11</cp:revision>
  <dc:subject/>
  <dc:title>Simulação Estocástica</dc:title>
</cp:coreProperties>
</file>