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33C-0B99-45FC-B63A-C69912EB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87D-FF87-4AA1-9816-71C08D63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5E8-BFEA-483B-BD11-A149C787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A34-0D66-467D-8D2B-F2809DB2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3C5-1215-464B-9923-46DB3DD1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DE2-640C-4ED9-8AE3-B15F13E3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D24-AAF9-439D-91CA-A65CB550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C4F-4A0D-46A7-868F-DD069E36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959-8DD1-4378-848C-A874FE3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064-F71D-4975-A276-356BDE4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C6D-D3FF-495D-AB70-125AAFC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44B-E434-495C-B36A-0F484EB2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656-22D9-4A5C-BDE3-B1FE1FBC4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3849840" y="464292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073480" y="464292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721480" y="464292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297480" y="464292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939240" y="5185080"/>
            <a:ext cx="37800" cy="213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97000" y="52149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13000" y="4500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203480" y="3257640"/>
            <a:ext cx="0" cy="1079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32000" y="464292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92200" y="464940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479840" y="463824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2080" y="2629080"/>
            <a:ext cx="0" cy="1079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14880" y="3706920"/>
            <a:ext cx="36504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680640" y="1733040"/>
            <a:ext cx="398520" cy="1339200"/>
            <a:chOff x="3680640" y="1733040"/>
            <a:chExt cx="398520" cy="1339200"/>
          </a:xfrm>
        </p:grpSpPr>
        <p:sp>
          <p:nvSpPr>
            <p:cNvPr id="55" name=""/>
            <p:cNvSpPr/>
            <p:nvPr/>
          </p:nvSpPr>
          <p:spPr>
            <a:xfrm flipV="1">
              <a:off x="3873600" y="193356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8300000">
              <a:off x="3736080" y="178992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55160" y="1723320"/>
            <a:ext cx="398520" cy="1339200"/>
            <a:chOff x="2855160" y="1723320"/>
            <a:chExt cx="398520" cy="1339200"/>
          </a:xfrm>
        </p:grpSpPr>
        <p:sp>
          <p:nvSpPr>
            <p:cNvPr id="58" name=""/>
            <p:cNvSpPr/>
            <p:nvPr/>
          </p:nvSpPr>
          <p:spPr>
            <a:xfrm flipV="1">
              <a:off x="3048120" y="192384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300000">
              <a:off x="2910600" y="178020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 flipV="1">
            <a:off x="3886200" y="631440"/>
            <a:ext cx="0" cy="1079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99000" y="1709640"/>
            <a:ext cx="36504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63960" y="638280"/>
            <a:ext cx="0" cy="1079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76400" y="1716120"/>
            <a:ext cx="36540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75000" y="250920"/>
            <a:ext cx="2126880" cy="1128240"/>
            <a:chOff x="2475000" y="250920"/>
            <a:chExt cx="2126880" cy="1128240"/>
          </a:xfrm>
        </p:grpSpPr>
        <p:sp>
          <p:nvSpPr>
            <p:cNvPr id="65" name=""/>
            <p:cNvSpPr/>
            <p:nvPr/>
          </p:nvSpPr>
          <p:spPr>
            <a:xfrm>
              <a:off x="2475000" y="250920"/>
              <a:ext cx="2126880" cy="11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195800" y="741240"/>
              <a:ext cx="303120" cy="260640"/>
              <a:chOff x="4195800" y="741240"/>
              <a:chExt cx="303120" cy="260640"/>
            </a:xfrm>
          </p:grpSpPr>
          <p:sp>
            <p:nvSpPr>
              <p:cNvPr id="67" name=""/>
              <p:cNvSpPr/>
              <p:nvPr/>
            </p:nvSpPr>
            <p:spPr>
              <a:xfrm>
                <a:off x="4245840" y="741240"/>
                <a:ext cx="253080" cy="26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95800" y="785160"/>
                <a:ext cx="100080" cy="4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95800" y="872280"/>
                <a:ext cx="10008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2133000" y="1401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a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54680" y="14032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Fa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75000" y="2290680"/>
            <a:ext cx="2126880" cy="1128600"/>
            <a:chOff x="2475000" y="2290680"/>
            <a:chExt cx="2126880" cy="1128600"/>
          </a:xfrm>
        </p:grpSpPr>
        <p:sp>
          <p:nvSpPr>
            <p:cNvPr id="73" name=""/>
            <p:cNvSpPr/>
            <p:nvPr/>
          </p:nvSpPr>
          <p:spPr>
            <a:xfrm>
              <a:off x="2475000" y="2290680"/>
              <a:ext cx="212688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195800" y="2781360"/>
              <a:ext cx="303120" cy="260640"/>
              <a:chOff x="4195800" y="2781360"/>
              <a:chExt cx="303120" cy="260640"/>
            </a:xfrm>
          </p:grpSpPr>
          <p:sp>
            <p:nvSpPr>
              <p:cNvPr id="75" name=""/>
              <p:cNvSpPr/>
              <p:nvPr/>
            </p:nvSpPr>
            <p:spPr>
              <a:xfrm>
                <a:off x="4245840" y="2781360"/>
                <a:ext cx="253080" cy="26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95800" y="2825280"/>
                <a:ext cx="100080" cy="4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95800" y="2912400"/>
                <a:ext cx="10008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1099800" y="197964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WatcherFa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23000" y="196056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Fa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299760" y="3722040"/>
            <a:ext cx="398520" cy="1339200"/>
            <a:chOff x="3299760" y="3722040"/>
            <a:chExt cx="398520" cy="1339200"/>
          </a:xfrm>
        </p:grpSpPr>
        <p:sp>
          <p:nvSpPr>
            <p:cNvPr id="81" name=""/>
            <p:cNvSpPr/>
            <p:nvPr/>
          </p:nvSpPr>
          <p:spPr>
            <a:xfrm flipV="1">
              <a:off x="3492720" y="392256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8300000">
              <a:off x="3355200" y="377892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133720" y="4284720"/>
            <a:ext cx="4464000" cy="11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78160" y="4775040"/>
            <a:ext cx="303480" cy="260640"/>
            <a:chOff x="4178160" y="4775040"/>
            <a:chExt cx="303480" cy="260640"/>
          </a:xfrm>
        </p:grpSpPr>
        <p:sp>
          <p:nvSpPr>
            <p:cNvPr id="85" name=""/>
            <p:cNvSpPr/>
            <p:nvPr/>
          </p:nvSpPr>
          <p:spPr>
            <a:xfrm>
              <a:off x="4228200" y="4775040"/>
              <a:ext cx="253440" cy="2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8160" y="4818960"/>
              <a:ext cx="100440" cy="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8160" y="4906080"/>
              <a:ext cx="10044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619440" y="341964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WatcherFa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4800" y="5721480"/>
            <a:ext cx="365040" cy="7272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5000" y="5727600"/>
            <a:ext cx="36504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92640" y="5716440"/>
            <a:ext cx="36504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5720" y="5738040"/>
            <a:ext cx="398880" cy="1339920"/>
            <a:chOff x="2205720" y="5738040"/>
            <a:chExt cx="398880" cy="1339920"/>
          </a:xfrm>
        </p:grpSpPr>
        <p:sp>
          <p:nvSpPr>
            <p:cNvPr id="93" name=""/>
            <p:cNvSpPr/>
            <p:nvPr/>
          </p:nvSpPr>
          <p:spPr>
            <a:xfrm flipV="1">
              <a:off x="2399400" y="5938920"/>
              <a:ext cx="6480" cy="11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300000">
              <a:off x="2261520" y="5794560"/>
              <a:ext cx="287280" cy="28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925000" y="5738040"/>
            <a:ext cx="398520" cy="1339200"/>
            <a:chOff x="2925000" y="5738040"/>
            <a:chExt cx="398520" cy="1339200"/>
          </a:xfrm>
        </p:grpSpPr>
        <p:sp>
          <p:nvSpPr>
            <p:cNvPr id="96" name=""/>
            <p:cNvSpPr/>
            <p:nvPr/>
          </p:nvSpPr>
          <p:spPr>
            <a:xfrm flipV="1">
              <a:off x="3117960" y="593856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300000">
              <a:off x="2980440" y="579492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76080" y="5738040"/>
            <a:ext cx="398520" cy="1339200"/>
            <a:chOff x="4276080" y="5738040"/>
            <a:chExt cx="398520" cy="1339200"/>
          </a:xfrm>
        </p:grpSpPr>
        <p:sp>
          <p:nvSpPr>
            <p:cNvPr id="99" name=""/>
            <p:cNvSpPr/>
            <p:nvPr/>
          </p:nvSpPr>
          <p:spPr>
            <a:xfrm flipV="1">
              <a:off x="4469040" y="593856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300000">
              <a:off x="4331520" y="579492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2280" y="7093080"/>
            <a:ext cx="5976720" cy="11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37360" y="7524720"/>
            <a:ext cx="303120" cy="260280"/>
            <a:chOff x="6237360" y="7524720"/>
            <a:chExt cx="303120" cy="260280"/>
          </a:xfrm>
        </p:grpSpPr>
        <p:sp>
          <p:nvSpPr>
            <p:cNvPr id="103" name=""/>
            <p:cNvSpPr/>
            <p:nvPr/>
          </p:nvSpPr>
          <p:spPr>
            <a:xfrm>
              <a:off x="6287400" y="7524720"/>
              <a:ext cx="2530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7568280"/>
              <a:ext cx="100080" cy="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37360" y="7655760"/>
              <a:ext cx="10008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19440" y="3959280"/>
            <a:ext cx="21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WatcherFacade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4640" y="478800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Persistence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8160" y="608472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60" y="2970360"/>
            <a:ext cx="2126880" cy="1128240"/>
            <a:chOff x="77760" y="2970360"/>
            <a:chExt cx="2126880" cy="1128240"/>
          </a:xfrm>
        </p:grpSpPr>
        <p:sp>
          <p:nvSpPr>
            <p:cNvPr id="110" name=""/>
            <p:cNvSpPr/>
            <p:nvPr/>
          </p:nvSpPr>
          <p:spPr>
            <a:xfrm>
              <a:off x="77760" y="2970360"/>
              <a:ext cx="2126880" cy="11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CURR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798560" y="3460680"/>
              <a:ext cx="303120" cy="260640"/>
              <a:chOff x="1798560" y="3460680"/>
              <a:chExt cx="303120" cy="260640"/>
            </a:xfrm>
          </p:grpSpPr>
          <p:sp>
            <p:nvSpPr>
              <p:cNvPr id="112" name=""/>
              <p:cNvSpPr/>
              <p:nvPr/>
            </p:nvSpPr>
            <p:spPr>
              <a:xfrm>
                <a:off x="1848600" y="3460680"/>
                <a:ext cx="253080" cy="26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98560" y="3504600"/>
                <a:ext cx="100080" cy="4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98560" y="3591720"/>
                <a:ext cx="10008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 rot="18300000">
            <a:off x="1059480" y="4339800"/>
            <a:ext cx="28728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5400000">
            <a:off x="1194480" y="4449600"/>
            <a:ext cx="36504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5400000">
            <a:off x="978480" y="5144760"/>
            <a:ext cx="365040" cy="7308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300000">
            <a:off x="834120" y="5039280"/>
            <a:ext cx="28764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5920" y="65880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62280" y="5721480"/>
            <a:ext cx="365040" cy="7272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45720" y="5743080"/>
            <a:ext cx="398520" cy="1339200"/>
            <a:chOff x="3645720" y="5743080"/>
            <a:chExt cx="398520" cy="1339200"/>
          </a:xfrm>
        </p:grpSpPr>
        <p:sp>
          <p:nvSpPr>
            <p:cNvPr id="122" name=""/>
            <p:cNvSpPr/>
            <p:nvPr/>
          </p:nvSpPr>
          <p:spPr>
            <a:xfrm flipV="1">
              <a:off x="3838680" y="594360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8300000">
              <a:off x="3701160" y="579996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886280" y="5721480"/>
            <a:ext cx="365040" cy="7272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69720" y="5743080"/>
            <a:ext cx="398520" cy="1339200"/>
            <a:chOff x="4869720" y="5743080"/>
            <a:chExt cx="398520" cy="1339200"/>
          </a:xfrm>
        </p:grpSpPr>
        <p:sp>
          <p:nvSpPr>
            <p:cNvPr id="126" name=""/>
            <p:cNvSpPr/>
            <p:nvPr/>
          </p:nvSpPr>
          <p:spPr>
            <a:xfrm flipV="1">
              <a:off x="5062680" y="594360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300000">
              <a:off x="4925160" y="579996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533920" y="5721480"/>
            <a:ext cx="365400" cy="7272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517360" y="5743080"/>
            <a:ext cx="398880" cy="1339920"/>
            <a:chOff x="5517360" y="5743080"/>
            <a:chExt cx="398880" cy="1339920"/>
          </a:xfrm>
        </p:grpSpPr>
        <p:sp>
          <p:nvSpPr>
            <p:cNvPr id="130" name=""/>
            <p:cNvSpPr/>
            <p:nvPr/>
          </p:nvSpPr>
          <p:spPr>
            <a:xfrm flipV="1">
              <a:off x="5711040" y="5943960"/>
              <a:ext cx="6480" cy="11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300000">
              <a:off x="5573160" y="5799600"/>
              <a:ext cx="287280" cy="28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110280" y="5721480"/>
            <a:ext cx="365040" cy="7272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51" y="45"/>
                  <a:pt x="18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93720" y="5743080"/>
            <a:ext cx="398520" cy="1339200"/>
            <a:chOff x="6093720" y="5743080"/>
            <a:chExt cx="398520" cy="1339200"/>
          </a:xfrm>
        </p:grpSpPr>
        <p:sp>
          <p:nvSpPr>
            <p:cNvPr id="134" name=""/>
            <p:cNvSpPr/>
            <p:nvPr/>
          </p:nvSpPr>
          <p:spPr>
            <a:xfrm flipV="1">
              <a:off x="6286680" y="5943600"/>
              <a:ext cx="6840" cy="11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8300000">
              <a:off x="6149160" y="5799960"/>
              <a:ext cx="287280" cy="2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356640" y="6084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32640" y="65880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0280" y="6084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56640" y="65880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25160" y="6084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6320" y="40672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urrency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4:48:51Z</dcterms:created>
  <dc:creator>santanna</dc:creator>
  <dc:description/>
  <dc:language>en-US</dc:language>
  <cp:lastModifiedBy>santanna</cp:lastModifiedBy>
  <dcterms:modified xsi:type="dcterms:W3CDTF">2006-09-18T17:03:49Z</dcterms:modified>
  <cp:revision>9</cp:revision>
  <dc:subject/>
  <dc:title>Slide 1</dc:title>
</cp:coreProperties>
</file>