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6FA-4A76-4126-96FB-05B3D2B0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BE4-DEF5-4B4D-B925-58DC6A12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02B-E50A-45FD-918D-6DF57628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9A4-AFC7-4165-8EF5-804DD9B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F3F0-0F08-4526-BEEA-A325005C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52A-7DFB-47CB-8047-3F2EA15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330-F5E2-487C-AAD4-A9D8899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9BF-425C-44AF-A3B0-99CE9E9F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278-C91F-4641-9702-0ECB600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F1D2-BC47-4423-B8E6-99F6F62C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AAF-9ACA-46E0-BB8F-EBA76A0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EE8-D544-4121-8F00-180909B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771-D209-4C88-989B-93B7D56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76BE-8040-46F2-9FB8-7F42C2F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109-0DE8-468F-9153-8583FB8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736-155B-4B9E-A5F8-99CE6DD5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EC23-3BF8-4D26-A09D-5B30A01A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7BE-1F18-461B-8A65-046B826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812-7CB0-4B8C-9725-BB03DA28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811-5450-4B4B-8375-55017AC0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C49-12DB-428E-AB86-B399F2B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CBD-E64C-4619-8F92-4D872BA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B70-4603-4CC6-A655-9FA15F3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94A-F2E1-45A6-9D76-49B25DA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B2F-AAF5-4374-A579-EAB01EB943CA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3685-D978-4801-928C-1A3AEA386FE0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m Interpretador para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ask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ática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mplos de programas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1 = PROG (LITI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2 = PROG (SOMA (LITI 4) (LITI 5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idades Semân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Val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data Valor = V1 Int | V2 Bool | V3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 Valor = Int | Bool |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:: Valor -&gt;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1 i) = show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2 b) = show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3 s) = show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ção de Interpre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prete :: Programa -&gt;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prete (PROG e) = show (eval 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- Funcao de Avaliacao de Express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:: Expressao -&gt;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I i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B b) =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S s) =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NOT e) = not (eval 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SOMA e1 e2) = (eval e1) + (eval e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algébricos recurs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dados recur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ata Expr = Lit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| Add Expr 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| Sub Expr 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unções definidas recursiv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:: Expr -&gt; Int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Lit n)     = n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Add e1 e2) = (eval e1) + (eval e2)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Sub e1 e2) = (eval e1) - (eval e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Tipos algébricos polimór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dados polimórf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Pairs t = Pair t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6 8 :: Pairs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True True :: Pairs B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[] [1,3] :: Pair [In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List t =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Cons t (List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rvores biná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Tree t = N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Node t (Tree t) (Tree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ndo instâncias de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List t =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Cons t (List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riving (Eq,Ord,Sh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Tree t = N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Node t (Tree t) (Tree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riving (Eq,Ord,Sh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í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a as seguintes fun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howExpr :: Expr -&gt;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oList :: List t -&gt; [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omList :: [t] -&gt; List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pth :: Tree t -&gt;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lapse :: Tree t -&gt; [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apTree :: (t -&gt; u) -&gt; Tree t -&gt; Tree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guagem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clui apenas valores constantes (literais) e operações sobre 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lores e operações sobre inteiros, booleanos e string são admi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programa é uma exp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grupa valores em tipos e uma verificação de tipos pode ser implement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axe Abstrata da Linguagem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 ::=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ressao ::= Va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ExpUnar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ExpBinari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 ::= ValorConcre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Concreto ::= ValorIntei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ValorBoole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ValorStr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Unaria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Binaria ::=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==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++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as de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a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a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axe Abstrata de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ata Programa = PROG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ata Expressao = LITI 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ITB B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ITS St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-- ExpUna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MINUS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NOT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ENGTH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-- ExpBina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SOMA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SUBTRACAO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AND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OR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IGUAL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CONCATENA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7:58:46Z</dcterms:created>
  <dc:creator>Hermano Perrelli de Moura</dc:creator>
  <dc:description/>
  <dc:language>en-US</dc:language>
  <cp:lastModifiedBy>Hermano Perrelli de Moura</cp:lastModifiedBy>
  <dcterms:modified xsi:type="dcterms:W3CDTF">2004-08-17T11:07:29Z</dcterms:modified>
  <cp:revision>5</cp:revision>
  <dc:subject/>
  <dc:title>Um Interpretador para Exp1</dc:title>
</cp:coreProperties>
</file>