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2F5-D06D-4D5F-B215-6D1D1F29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36E-1701-4782-A290-E1542DE0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BF41-05C3-4480-86FC-0E22C281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601-580B-4C4C-83DE-3635DD06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AB2A-0A7E-45DB-90AD-950C2361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1C4C-9C78-44D8-874A-D0FFDF81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D86-79BF-4DC6-B0EE-C0DC9689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F15-FBC9-4221-95D6-5DE6EC4D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456-0531-414B-B0C8-17106F65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E41-4547-4908-876F-FF6BD3BC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288-A663-49BE-8AB6-2CE80250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B42-0D0E-4B6C-A0BB-0D4FC2C9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97F6-D4D1-4C32-9D33-3EAD22490FF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taxe Abstrata de Imp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n-UF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igmas de Linguagens Computa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taxe Abstrata de Imp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628640"/>
            <a:ext cx="82296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rograma ::= Com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mando ::= Atribuica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ComandoDeclarac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W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IfThen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Comando "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" Com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Ski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ChamadaProcedi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Skip ::= “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skip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Atribuicao ::= Id "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:=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" Express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xpressao ::= Valor | ExpUnaria | ExpBinaria |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Valor ::= ValorConcr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ValorConcreto ::= ValorInteiro | ValorBooleano | ValorSt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xpUnaria ::= "-" Expressao | "not" Expressao | "length" Express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xpBinaria ::= Expressao "+" Expressa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 Expressao "-" Express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 Expressao "and" Express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 Expressao "or" Express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 Expressao "==" Express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 Expressao "++" Express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taxe Abstrata de Imp2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981080"/>
            <a:ext cx="87631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omandoDeclaracao ::= "{" Declaracao ";" Comando "}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eclaracao ::= DeclaracaoVariav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|   DeclaracaoProcedi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|   Declaraca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Declaraca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eclaracaoVariavel ::=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va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Id "=" Expressa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eclaracaoProcedimento ::=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proc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Id "(" [ ListaDeclaracaoParametro ] ")" "{" Comando "}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?ListaDeclaracaoParametro ::= Tipo Id | Tipo Id "," ListaDeclaracaoParamet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ipo ::= "string" | "int" | "boolean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hile ::=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h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Com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fThenElse ::=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f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he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Comand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ls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Com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O ::= "write" "(" Expressao ")" | "read" "(" Id ")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hamadaProcedimento ::=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Id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ListaExpressa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20:36:03Z</dcterms:created>
  <dc:creator>hermano</dc:creator>
  <dc:description/>
  <dc:language>en-US</dc:language>
  <cp:lastModifiedBy>jeane</cp:lastModifiedBy>
  <dcterms:modified xsi:type="dcterms:W3CDTF">2005-07-27T18:05:55Z</dcterms:modified>
  <cp:revision>11</cp:revision>
  <dc:subject/>
  <dc:title>Sintaxe Abstrata de Imp2</dc:title>
</cp:coreProperties>
</file>