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31.gif" ContentType="image/gif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9EF-4712-4E73-AC12-4896C4A8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756-24D2-4800-902B-56F35552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AD7-3666-4AC0-9584-45B7E20A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B1A-8F3D-4E8D-9F7D-1DC58F41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F22-31E8-480B-BAAC-9D6E4E1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49E-160F-4B92-88A6-8A54373E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961-249E-4729-86C3-26C7B319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4C0-2CAB-47B3-8A45-E8E39DDF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9E4-7117-49EC-8BB5-B287F76E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63A-2593-48E4-8B44-2CDF5DB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878-D48A-4060-A0AC-D1E34A1D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F32-4AD4-4259-B598-00E76D7B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e0b5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53352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17520" y="44280"/>
            <a:ext cx="749160" cy="432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0080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2 de Dezemb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4420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D8A-B349-4C94-8730-B2F35A1E188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818480" y="68400"/>
            <a:ext cx="1050840" cy="4316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851280" y="6348240"/>
            <a:ext cx="14400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FD99-5F18-4EA1-AF0C-044FBA4E59EE}" type="slidenum"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lipse.org/downloads/index.php" TargetMode="External"/><Relationship Id="rId3" Type="http://schemas.openxmlformats.org/officeDocument/2006/relationships/hyperlink" Target="http://www.eclipse.org/downloads/index.php" TargetMode="External"/><Relationship Id="rId4" Type="http://schemas.openxmlformats.org/officeDocument/2006/relationships/hyperlink" Target="http://www.eclipse.org/downloads/index.php" TargetMode="External"/><Relationship Id="rId5" Type="http://schemas.openxmlformats.org/officeDocument/2006/relationships/hyperlink" Target="http://forum.nokia.com/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tenna.sourceforge.net/" TargetMode="External"/><Relationship Id="rId3" Type="http://schemas.openxmlformats.org/officeDocument/2006/relationships/hyperlink" Target="http://eclipseme.org/index.html" TargetMode="External"/><Relationship Id="rId4" Type="http://schemas.openxmlformats.org/officeDocument/2006/relationships/hyperlink" Target="http://ant.apache.org/manual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rum.nokia.com/" TargetMode="External"/><Relationship Id="rId3" Type="http://schemas.openxmlformats.org/officeDocument/2006/relationships/hyperlink" Target="http://www.motocoder.com/" TargetMode="External"/><Relationship Id="rId4" Type="http://schemas.openxmlformats.org/officeDocument/2006/relationships/hyperlink" Target="http://wireless.java.sun.com/" TargetMode="External"/><Relationship Id="rId5" Type="http://schemas.openxmlformats.org/officeDocument/2006/relationships/hyperlink" Target="http://www.microjava.com/" TargetMode="External"/><Relationship Id="rId6" Type="http://schemas.openxmlformats.org/officeDocument/2006/relationships/hyperlink" Target="http://www.midlet-review.com/" TargetMode="External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2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1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Introdução à 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niverso J2ME Hoj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Community Process (JC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Specification Request (JSR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java.sun.com/javame/technology/jcp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132000" y="2976480"/>
            <a:ext cx="6012000" cy="3881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1943280"/>
            <a:ext cx="3133800" cy="491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05320" y="6453360"/>
            <a:ext cx="935280" cy="366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00400" y="5635800"/>
            <a:ext cx="687600" cy="529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figur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especificação que define o ambiente de software para uma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família d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spositivos, geralmen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tipos e quantidade de memória disponí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s de processadores e velo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 de conexão de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lui um conjunto básico de classes J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 Device Configuration (C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igh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, Limited Device Configuration (CL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w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DC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- Connected Limited, Device 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positivos limitados com poucos 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dor de, no mínimo 8 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partir de 160 K de memória heap reservada pra 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cesso a rede com pouca largura de ba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rget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wo Way P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onal Organiz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tc.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cop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nguagem Java e características da V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fra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ão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o ciclo de vida da aplicação (instalação, execução, dele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ação entre usuário e aplicação (comandos, etc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0 possui algumas 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Weak 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Fi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existe o método finalize() no CL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suporte a J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 API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efl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emon-threa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thread group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suporte a 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a conversão de byt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nico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vice-ver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tratamento de Er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enas duas classe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VirtualMachineErr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OutOfMemory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1 adiciona alguns recursos ao CLDC 1.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Weak Re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uporte a nomes de Thre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mínima de 162 para 192 k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Herdados do J2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l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specíficos do CLD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 profile ou “perfil” é uma coleção de API´s  em Java que complementa uma configuração a fim de prover habilidades para uma família de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principal objetivo é garantir a interoperabilidade entre uma família de dispos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(Mobile Information Device Profile): Principal e presente na maioria absoluta dos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3.0 (em bre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ID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bile Information Device Profile (MID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istência (usando um modelo simples orientado a regis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(estende o Generic Connection framework do CLD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clo de vida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quisitos de Hardware (MIDP 1.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: 128 + 32 KB sobre CLD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la mínima: 96 x 54 – 2 col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trada: teclado, touch screen,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nectividade: HTTP 1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MIDP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Packag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id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idlet.MIDlet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rms.RecordSt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8876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bre quem vos fala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3068640"/>
            <a:ext cx="8964720" cy="30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ts val="18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Meantime Mobile Creations - Grupo do C.E.S.A.R focado no desenvolvimento de jogos e aplicativos, baseados em dispositivos móveis, para usuários fin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Um d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pioneiros mundiai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(desde 2001) na tecnologia J2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Várias tecnologias wireless: J2ME, BREW, WAP, SMS e M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lmente, distribui jogos par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EUA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, alguns países d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América Latina, Europa e Ás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arceria com diversos fabricantes, publishers e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roduzim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mais de 40 jogo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para celulares (alguns para a Motorol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 como publisher no Brasil, com parceria com todas as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44364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187280" y="119700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adicionais do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lnSpc>
                <a:spcPct val="90000"/>
              </a:lnSpc>
              <a:spcBef>
                <a:spcPts val="1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.VolumeControl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io.PushRegis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16000" y="3789360"/>
            <a:ext cx="6049440" cy="1728720"/>
            <a:chOff x="1116000" y="3789360"/>
            <a:chExt cx="6049440" cy="1728720"/>
          </a:xfrm>
        </p:grpSpPr>
        <p:sp>
          <p:nvSpPr>
            <p:cNvPr id="182" name=""/>
            <p:cNvSpPr/>
            <p:nvPr/>
          </p:nvSpPr>
          <p:spPr>
            <a:xfrm>
              <a:off x="1116000" y="4078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2720" y="4078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90680" y="4294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2600" y="5086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7560" y="5086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1880" y="4294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3960" y="5086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85" idx="0"/>
              <a:endCxn id="184" idx="2"/>
            </p:cNvCxnSpPr>
            <p:nvPr/>
          </p:nvCxnSpPr>
          <p:spPr>
            <a:xfrm flipH="1" flipV="1" rot="5400000">
              <a:off x="1944000" y="4453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6" idx="0"/>
              <a:endCxn id="184" idx="2"/>
            </p:cNvCxnSpPr>
            <p:nvPr/>
          </p:nvCxnSpPr>
          <p:spPr>
            <a:xfrm flipV="1" rot="16200000">
              <a:off x="2582640" y="4570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84" idx="3"/>
              <a:endCxn id="187" idx="1"/>
            </p:cNvCxnSpPr>
            <p:nvPr/>
          </p:nvCxnSpPr>
          <p:spPr>
            <a:xfrm>
              <a:off x="2883960" y="4436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2" name=""/>
            <p:cNvSpPr/>
            <p:nvPr/>
          </p:nvSpPr>
          <p:spPr>
            <a:xfrm>
              <a:off x="2852280" y="4221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30760" y="3789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54480" y="5086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88" idx="3"/>
              <a:endCxn id="194" idx="1"/>
            </p:cNvCxnSpPr>
            <p:nvPr/>
          </p:nvCxnSpPr>
          <p:spPr>
            <a:xfrm>
              <a:off x="5122440" y="5228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5665320" y="3789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00040" y="4294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"/>
            <p:cNvCxnSpPr>
              <a:stCxn id="194" idx="0"/>
              <a:endCxn id="197" idx="2"/>
            </p:cNvCxnSpPr>
            <p:nvPr/>
          </p:nvCxnSpPr>
          <p:spPr>
            <a:xfrm flipH="1" flipV="1" rot="5400000">
              <a:off x="6148440" y="4830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a aplicação MIDP: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a classe Java que estende da classe MIDlet e implementa os seguintes méto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rt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use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troy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 modelo de ciclo de vida similar aos Appl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enciado pelo “Java Application Manager” (JA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que deve vir acompanhando a implementação do MIDP e que controla a instalação, execução e remo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ê o ambiente de execu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 todos os erros ocorridos durante a instalação e execução dos aplicativos sem “derrubar” o disposi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iclo de vida dos MIDl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56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MIDlet Suites e Descritores (J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MIDlet Suite é um conjunto de arquivos empacotados em um arquivo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JA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suite deve possuir pelo menos um MIDl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R contém: Arquivos .class , arquivos de imagem (.png),  manifest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Lets numa mesma suite podem compartilhar classes e recursos contidos n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JAD (Java Application Descript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queno arquivo texto que descreve uma Su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pela JAM para fazer verificações antes de baixar a Su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sado para guardar propriedad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2556000" y="5300640"/>
            <a:ext cx="3816360" cy="10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1: AloMundo, , org.cesar.j2me.Alo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Name: Alô Mu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ndor: C.E.S.A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rsion: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Size: 7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URL: HelloExample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ssos para o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112240" cy="3781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56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64000" y="1916280"/>
            <a:ext cx="26532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4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4437000"/>
            <a:ext cx="26532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44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mbiente de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ditor texto + Sun Wireless Toolkit (WTK)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java.sun.com/products/sjwtoolkit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tBeans Mobility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netbeans.org/products/mobility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 + EclipseME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www.eclipse.org/downloads/index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.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ph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eclipseme.org/docs/installation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DK´s dos fabricantes (Nokia, Motorola, SonyEricsson, Siemens,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motorola.com/docstools/sdks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forum.nokia.com</a:t>
            </a: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sonyericsson.com/site/global/home/p_home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orland JBuilder ($400 individu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borland.com/us/products/jbuilder/index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ambient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ar o famigerado “Alô mundo!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Dis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High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adição e tratamento de Coman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: Esteja com a API ao alcanc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504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rcado de jogos wire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rodução a J2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Wireless Game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riando nosso J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ugestão de Melhor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rementar o “Alô Mund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Graphics e suas fun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ow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tec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renderização de Im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ora que vocês já estão craque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amos ao nosso Jogo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tapas na concepção de um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jet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e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ulando um Jogo (tes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loy do Jogo (testes rea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2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2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Prática de jogos em 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se de game design / concep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o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a categoria (Arcade, Puzzle, Ação, Esportes,RPG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enchmark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atari, mega drive, nintendo 8 bit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Multiplay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nglep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e um bom jogo wire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ápido e fácil de começar e de navegar (evitar uso de muit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ftkey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pressionamento de tecl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afiador mas não impos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ogos curtos ou 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ave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m muitas combinações de teclas e reg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qui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ntre 4 e 7 pesso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disciplinar: artitas gráficos, músicos, game designers, engenheiros de software, engenheiro de testes, etc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r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m torno de R$ 12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gências do mercado (desafios ext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iclo de desenvolvimento curto: 3 a 5 me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e e localiz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imização e qual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tribui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ais de conteú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ravos das oper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úmero de dispositivos é barreira de ent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as te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he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úmero de c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tência da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usto alto no uso da rede (4 centavos por kbyte –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$ 4,00 pra baixar um jogo de 100 k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Jogo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8642160" cy="27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mos tudo que foi falado e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hot´em up game simplificadíiiiiiiiiissimo!! </a:t>
            </a:r>
            <a:r>
              <a:rPr b="0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pt-BR" sz="2200" spc="-1" strike="noStrike">
                <a:solidFill>
                  <a:srgbClr val="ff9900"/>
                </a:solidFill>
                <a:latin typeface="Verdana"/>
              </a:rPr>
              <a:t>Star Hero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é um jogo singleplayer, no estilo shoot’em up . O jogo consiste em uma espaçonave controlada pelo jogador que trafega pelas galáxias, atirando em inimigos. Essas ações resultam em pontos para o jogador. O objetivo do jogo é acumular o máximo de pontos possívei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575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Já Temos as Características...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jetando as classes. Precisamos 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MIDlet (óbvio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trata os comandos alto-nível e possui o looping básico do jogo (lê entrada, atualiza estado e pinta a te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representa um elemento do jogo (Spri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n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os inimi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s ba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tela principal com a lógica principal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com todas as constantes (facilitar o aces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jeto de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41680" y="3139920"/>
            <a:ext cx="1366560" cy="1055880"/>
            <a:chOff x="2641680" y="3139920"/>
            <a:chExt cx="1366560" cy="1055880"/>
          </a:xfrm>
        </p:grpSpPr>
        <p:grpSp>
          <p:nvGrpSpPr>
            <p:cNvPr id="247" name=""/>
            <p:cNvGrpSpPr/>
            <p:nvPr/>
          </p:nvGrpSpPr>
          <p:grpSpPr>
            <a:xfrm>
              <a:off x="2641680" y="3139920"/>
              <a:ext cx="1366560" cy="1055880"/>
              <a:chOff x="2641680" y="3139920"/>
              <a:chExt cx="1366560" cy="1055880"/>
            </a:xfrm>
          </p:grpSpPr>
          <p:sp>
            <p:nvSpPr>
              <p:cNvPr id="248" name=""/>
              <p:cNvSpPr/>
              <p:nvPr/>
            </p:nvSpPr>
            <p:spPr>
              <a:xfrm>
                <a:off x="2641680" y="313992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start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pause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destroy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41680" y="340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807640" y="313992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Mid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704960" y="5213520"/>
            <a:ext cx="1366560" cy="1055520"/>
            <a:chOff x="1704960" y="5213520"/>
            <a:chExt cx="1366560" cy="1055520"/>
          </a:xfrm>
        </p:grpSpPr>
        <p:grpSp>
          <p:nvGrpSpPr>
            <p:cNvPr id="252" name=""/>
            <p:cNvGrpSpPr/>
            <p:nvPr/>
          </p:nvGrpSpPr>
          <p:grpSpPr>
            <a:xfrm>
              <a:off x="1704960" y="5213520"/>
              <a:ext cx="1366560" cy="1055520"/>
              <a:chOff x="1704960" y="5213520"/>
              <a:chExt cx="1366560" cy="1055520"/>
            </a:xfrm>
          </p:grpSpPr>
          <p:sp>
            <p:nvSpPr>
              <p:cNvPr id="253" name=""/>
              <p:cNvSpPr/>
              <p:nvPr/>
            </p:nvSpPr>
            <p:spPr>
              <a:xfrm>
                <a:off x="1704960" y="52135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54766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777320" y="5213520"/>
              <a:ext cx="12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711760" y="1125360"/>
            <a:ext cx="1366560" cy="1055880"/>
            <a:chOff x="5711760" y="1125360"/>
            <a:chExt cx="1366560" cy="1055880"/>
          </a:xfrm>
        </p:grpSpPr>
        <p:grpSp>
          <p:nvGrpSpPr>
            <p:cNvPr id="257" name=""/>
            <p:cNvGrpSpPr/>
            <p:nvPr/>
          </p:nvGrpSpPr>
          <p:grpSpPr>
            <a:xfrm>
              <a:off x="5711760" y="1125360"/>
              <a:ext cx="1366560" cy="1055880"/>
              <a:chOff x="5711760" y="1125360"/>
              <a:chExt cx="1366560" cy="1055880"/>
            </a:xfrm>
          </p:grpSpPr>
          <p:sp>
            <p:nvSpPr>
              <p:cNvPr id="258" name=""/>
              <p:cNvSpPr/>
              <p:nvPr/>
            </p:nvSpPr>
            <p:spPr>
              <a:xfrm>
                <a:off x="5711760" y="112536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11760" y="1388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090840" y="1125360"/>
              <a:ext cx="60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856120" y="3284640"/>
            <a:ext cx="1366560" cy="1055520"/>
            <a:chOff x="5856120" y="3284640"/>
            <a:chExt cx="1366560" cy="1055520"/>
          </a:xfrm>
        </p:grpSpPr>
        <p:grpSp>
          <p:nvGrpSpPr>
            <p:cNvPr id="262" name=""/>
            <p:cNvGrpSpPr/>
            <p:nvPr/>
          </p:nvGrpSpPr>
          <p:grpSpPr>
            <a:xfrm>
              <a:off x="5856120" y="3284640"/>
              <a:ext cx="1366560" cy="1055520"/>
              <a:chOff x="5856120" y="3284640"/>
              <a:chExt cx="1366560" cy="1055520"/>
            </a:xfrm>
          </p:grpSpPr>
          <p:sp>
            <p:nvSpPr>
              <p:cNvPr id="263" name=""/>
              <p:cNvSpPr/>
              <p:nvPr/>
            </p:nvSpPr>
            <p:spPr>
              <a:xfrm>
                <a:off x="5856120" y="3284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56120" y="3547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296040" y="328464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296120" y="3933720"/>
            <a:ext cx="1366560" cy="1055520"/>
            <a:chOff x="7296120" y="3933720"/>
            <a:chExt cx="1366560" cy="1055520"/>
          </a:xfrm>
        </p:grpSpPr>
        <p:grpSp>
          <p:nvGrpSpPr>
            <p:cNvPr id="267" name=""/>
            <p:cNvGrpSpPr/>
            <p:nvPr/>
          </p:nvGrpSpPr>
          <p:grpSpPr>
            <a:xfrm>
              <a:off x="7296120" y="3933720"/>
              <a:ext cx="1366560" cy="1055520"/>
              <a:chOff x="7296120" y="3933720"/>
              <a:chExt cx="1366560" cy="1055520"/>
            </a:xfrm>
          </p:grpSpPr>
          <p:sp>
            <p:nvSpPr>
              <p:cNvPr id="268" name=""/>
              <p:cNvSpPr/>
              <p:nvPr/>
            </p:nvSpPr>
            <p:spPr>
              <a:xfrm>
                <a:off x="7296120" y="39337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96120" y="4196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738200" y="39337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16480" y="2852640"/>
            <a:ext cx="1366560" cy="1055520"/>
            <a:chOff x="4416480" y="2852640"/>
            <a:chExt cx="1366560" cy="1055520"/>
          </a:xfrm>
        </p:grpSpPr>
        <p:grpSp>
          <p:nvGrpSpPr>
            <p:cNvPr id="272" name=""/>
            <p:cNvGrpSpPr/>
            <p:nvPr/>
          </p:nvGrpSpPr>
          <p:grpSpPr>
            <a:xfrm>
              <a:off x="4416480" y="2852640"/>
              <a:ext cx="1366560" cy="1055520"/>
              <a:chOff x="4416480" y="2852640"/>
              <a:chExt cx="1366560" cy="1055520"/>
            </a:xfrm>
          </p:grpSpPr>
          <p:sp>
            <p:nvSpPr>
              <p:cNvPr id="273" name=""/>
              <p:cNvSpPr/>
              <p:nvPr/>
            </p:nvSpPr>
            <p:spPr>
              <a:xfrm>
                <a:off x="4416480" y="2852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16480" y="3115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796640" y="285264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e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471480" y="5227560"/>
            <a:ext cx="1411920" cy="1055520"/>
            <a:chOff x="3471480" y="5227560"/>
            <a:chExt cx="1411920" cy="1055520"/>
          </a:xfrm>
        </p:grpSpPr>
        <p:grpSp>
          <p:nvGrpSpPr>
            <p:cNvPr id="277" name=""/>
            <p:cNvGrpSpPr/>
            <p:nvPr/>
          </p:nvGrpSpPr>
          <p:grpSpPr>
            <a:xfrm>
              <a:off x="3471480" y="5227560"/>
              <a:ext cx="1366560" cy="1055520"/>
              <a:chOff x="3471480" y="5227560"/>
              <a:chExt cx="1366560" cy="1055520"/>
            </a:xfrm>
          </p:grpSpPr>
          <p:sp>
            <p:nvSpPr>
              <p:cNvPr id="278" name=""/>
              <p:cNvSpPr/>
              <p:nvPr/>
            </p:nvSpPr>
            <p:spPr>
              <a:xfrm>
                <a:off x="3471480" y="522756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71480" y="549072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480480" y="52275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GameSc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308720" y="5300640"/>
            <a:ext cx="1366560" cy="1055880"/>
            <a:chOff x="7308720" y="5300640"/>
            <a:chExt cx="1366560" cy="1055880"/>
          </a:xfrm>
        </p:grpSpPr>
        <p:grpSp>
          <p:nvGrpSpPr>
            <p:cNvPr id="282" name=""/>
            <p:cNvGrpSpPr/>
            <p:nvPr/>
          </p:nvGrpSpPr>
          <p:grpSpPr>
            <a:xfrm>
              <a:off x="7308720" y="5300640"/>
              <a:ext cx="1366560" cy="1055880"/>
              <a:chOff x="7308720" y="5300640"/>
              <a:chExt cx="1366560" cy="1055880"/>
            </a:xfrm>
          </p:grpSpPr>
          <p:sp>
            <p:nvSpPr>
              <p:cNvPr id="283" name=""/>
              <p:cNvSpPr/>
              <p:nvPr/>
            </p:nvSpPr>
            <p:spPr>
              <a:xfrm>
                <a:off x="7308720" y="530064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08720" y="556416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542000" y="5300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nst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5208480" y="220464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361200" y="220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648120" y="220500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280960" y="42195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89320" y="421956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73320" y="573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27640" y="393336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72000" y="4076640"/>
            <a:ext cx="12841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859280" y="4797360"/>
            <a:ext cx="2403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78040" y="5492880"/>
            <a:ext cx="1323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u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Pau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GameOve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mandActio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1080" y="5516640"/>
            <a:ext cx="147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dGameObj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int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yPres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3560" y="1336680"/>
            <a:ext cx="1095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X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Y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s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8280" y="2997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57920" y="342900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97920" y="4005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627280" y="1916280"/>
            <a:ext cx="1209600" cy="720720"/>
            <a:chOff x="2627280" y="1916280"/>
            <a:chExt cx="1209600" cy="720720"/>
          </a:xfrm>
        </p:grpSpPr>
        <p:sp>
          <p:nvSpPr>
            <p:cNvPr id="302" name=""/>
            <p:cNvSpPr/>
            <p:nvPr/>
          </p:nvSpPr>
          <p:spPr>
            <a:xfrm>
              <a:off x="2627280" y="1916280"/>
              <a:ext cx="1209600" cy="72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27280" y="209592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880000" y="1878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218040" y="2779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719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901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38120" y="23493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63560" y="292428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3500280"/>
            <a:ext cx="360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4581360"/>
            <a:ext cx="360360" cy="432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5160" y="32130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Liste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0440" y="427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610920" y="501336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4120" y="5300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5880" y="4292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331640" y="4005000"/>
            <a:ext cx="86508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9400" y="4005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25760" y="4869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onst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30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andos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 aparelho (largura e altur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usadas pel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ara carregar as imagens (loadImages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2162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clo de desenvolvimento deve ser rápido (&lt;5 mes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torno do investimento l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Cadeia de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90560" y="2157480"/>
            <a:ext cx="1676520" cy="1218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4240" y="2843280"/>
            <a:ext cx="182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9160" y="2241720"/>
            <a:ext cx="12985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46240" y="2766960"/>
            <a:ext cx="1295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95360" y="2157480"/>
            <a:ext cx="1528920" cy="1218960"/>
          </a:xfrm>
          <a:custGeom>
            <a:avLst/>
            <a:gdLst>
              <a:gd name="textAreaLeft" fmla="*/ 0 w 1528920"/>
              <a:gd name="textAreaRight" fmla="*/ 1529280 w 1528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2800" y="215748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11520" y="2629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0840" y="2157480"/>
            <a:ext cx="1295280" cy="121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4" y="0"/>
                </a:lnTo>
                <a:lnTo>
                  <a:pt x="21600" y="10800"/>
                </a:lnTo>
                <a:lnTo>
                  <a:pt x="18874" y="21600"/>
                </a:lnTo>
                <a:lnTo>
                  <a:pt x="0" y="21600"/>
                </a:lnTo>
                <a:lnTo>
                  <a:pt x="2726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3840" y="2157480"/>
            <a:ext cx="1371600" cy="12189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0" y="0"/>
                </a:lnTo>
                <a:lnTo>
                  <a:pt x="21600" y="10800"/>
                </a:lnTo>
                <a:lnTo>
                  <a:pt x="19750" y="21600"/>
                </a:lnTo>
                <a:lnTo>
                  <a:pt x="0" y="21600"/>
                </a:lnTo>
                <a:lnTo>
                  <a:pt x="185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7880" y="26146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8440" y="2157480"/>
            <a:ext cx="1218960" cy="1218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9720" y="2629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-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60840" y="2157480"/>
            <a:ext cx="2514600" cy="1218960"/>
            <a:chOff x="3660840" y="2157480"/>
            <a:chExt cx="2514600" cy="1218960"/>
          </a:xfrm>
        </p:grpSpPr>
        <p:sp>
          <p:nvSpPr>
            <p:cNvPr id="113" name=""/>
            <p:cNvSpPr/>
            <p:nvPr/>
          </p:nvSpPr>
          <p:spPr>
            <a:xfrm>
              <a:off x="3660840" y="2157480"/>
              <a:ext cx="1295280" cy="12189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74" y="0"/>
                  </a:lnTo>
                  <a:lnTo>
                    <a:pt x="21600" y="10800"/>
                  </a:lnTo>
                  <a:lnTo>
                    <a:pt x="18874" y="21600"/>
                  </a:lnTo>
                  <a:lnTo>
                    <a:pt x="0" y="21600"/>
                  </a:lnTo>
                  <a:lnTo>
                    <a:pt x="272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3840" y="2157480"/>
              <a:ext cx="1371600" cy="121896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50" y="0"/>
                  </a:lnTo>
                  <a:lnTo>
                    <a:pt x="21600" y="10800"/>
                  </a:lnTo>
                  <a:lnTo>
                    <a:pt x="19750" y="21600"/>
                  </a:lnTo>
                  <a:lnTo>
                    <a:pt x="0" y="21600"/>
                  </a:lnTo>
                  <a:lnTo>
                    <a:pt x="185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7880" y="26146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s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17640" y="276696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1700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Fluxo de produção &gt;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42756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&lt;&lt;&lt; Fluxo de receita (R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a tela principal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o controlador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s objetos acima no startApp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 looping do jogo no control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stra a tela do jog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Contro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hread que contêm o looping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todos os comandos “alto nível”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o estado de pause/resume do jogo (lembrar que não tem relação com o pauseApp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ição x e y n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ltura e larg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presentação gráf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ecção de coli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elocidades horizontal e vertic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abstratos update() e draw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 de ba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dicação se a nave está explodin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imação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para mover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ra disparar bala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F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a imagem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nimação (uma imagem apena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mento ao sair d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tualiza a posição, dada a velocidad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Ene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um comportamento ingênuo (randômic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anim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GameScre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e possui todos os objetos do jogo (Nave, Inimigos e Balas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entraliza a atualização dos estados d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balas com inimig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inimigos com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todos 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e pinta informações do jogo (pontuação, level e vid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pressionamento das teclas (esquerda,direita e fire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6366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UILD &amp; RUN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Deplo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ver the Air” (OT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bo ser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fra vermel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5079960" y="2068560"/>
            <a:ext cx="1298520" cy="151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5345280" y="2205000"/>
            <a:ext cx="698400" cy="1152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556000" y="32130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301932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5180040" y="5505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726768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7701120" y="3489480"/>
            <a:ext cx="607680" cy="674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7556400" y="2048040"/>
            <a:ext cx="608040" cy="6746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H="1" flipV="1">
            <a:off x="3713040" y="2282760"/>
            <a:ext cx="720720" cy="225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00200" y="3049560"/>
            <a:ext cx="1106280" cy="393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57964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05400" y="3805200"/>
            <a:ext cx="86544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89880" y="3105000"/>
            <a:ext cx="768240" cy="338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905280" y="3836880"/>
            <a:ext cx="960480" cy="140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97640" y="1065240"/>
            <a:ext cx="1243080" cy="635040"/>
          </a:xfrm>
          <a:prstGeom prst="wedgeRoundRectCallout">
            <a:avLst>
              <a:gd name="adj1" fmla="val -77967"/>
              <a:gd name="adj2" fmla="val 88750"/>
              <a:gd name="adj3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IDLe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9960" y="19987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57880" y="3726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stal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9880" y="62467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2436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10560" y="3654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Atual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5000" y="27176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mo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98640" y="58150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onfi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11280" y="56610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hec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648960" y="3008520"/>
            <a:ext cx="507960" cy="474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6265800" y="4107960"/>
            <a:ext cx="507960" cy="438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916000" y="2637000"/>
            <a:ext cx="191880" cy="5634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6680" y="3902040"/>
            <a:ext cx="288720" cy="1125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00680" y="5724360"/>
            <a:ext cx="115380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089760" y="5724360"/>
            <a:ext cx="115236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740720" y="4220640"/>
            <a:ext cx="288720" cy="9558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8058240" y="3129120"/>
            <a:ext cx="47520" cy="67464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0"/>
          <a:stretch/>
        </p:blipFill>
        <p:spPr>
          <a:xfrm>
            <a:off x="3984480" y="4160880"/>
            <a:ext cx="457200" cy="506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1"/>
          <a:stretch/>
        </p:blipFill>
        <p:spPr>
          <a:xfrm>
            <a:off x="6649920" y="3008160"/>
            <a:ext cx="457200" cy="506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072320" y="4653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18600" y="2657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plash scree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men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lhorar tela de game 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bela com recordes (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Background com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ol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hefe de f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itens (campo de força, diferentes tiros, et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ipos diferentes de inimig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.A dos inimig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pload de pontu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Visão g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incipais Players: EA Mobile (Jamdat), Gameloft (Ubi Software), Glu Mobile, Hands On e I-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presas com atuação mund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turamentos crescentes e superiores a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60 milh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 dólares por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delo de negócios padrão: revenue share em cima das vendas das operadoras para os usuários fina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rcando em processo de consolid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e, se necessá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bfuscadores para diminuir tamanh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guard, Retroguard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utela no uso de herança e excesso de clas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vite usar classes anônimas ou aninh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cessos a variáveis estáticas e métodos estáticos é mais ráp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s no lugar de Vec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oops de trás pra frente (comparação com 0,null e false é mais rápid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use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uidado no uso d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açã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bine várias imagens em uma s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úmero de cores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o do Clip pra pin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ocupa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 (64k ~ 10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(200k ~ 60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mento (5 fps ~ 10 f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771640" y="2205000"/>
          <a:ext cx="84456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205000"/>
                    <a:ext cx="8445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995640" y="2276640"/>
          <a:ext cx="273204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276640"/>
                    <a:ext cx="273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5004720" y="270828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34560" y="321300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(Portar para MIDP 2.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zer nosso Sprite herdar do Sprite de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1341360"/>
            <a:ext cx="7920000" cy="35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 Jogos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>
              <a:spcBef>
                <a:spcPts val="176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ide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7724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58920" y="2781360"/>
            <a:ext cx="6049440" cy="1728720"/>
            <a:chOff x="1258920" y="2781360"/>
            <a:chExt cx="6049440" cy="1728720"/>
          </a:xfrm>
        </p:grpSpPr>
        <p:sp>
          <p:nvSpPr>
            <p:cNvPr id="394" name=""/>
            <p:cNvSpPr/>
            <p:nvPr/>
          </p:nvSpPr>
          <p:spPr>
            <a:xfrm>
              <a:off x="1258920" y="3070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5640" y="3070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3600" y="3286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5520" y="4078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0480" y="4078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24800" y="3286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06880" y="4078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1" name=""/>
            <p:cNvCxnSpPr>
              <a:stCxn id="397" idx="0"/>
              <a:endCxn id="396" idx="2"/>
            </p:cNvCxnSpPr>
            <p:nvPr/>
          </p:nvCxnSpPr>
          <p:spPr>
            <a:xfrm flipH="1" flipV="1" rot="5400000">
              <a:off x="2086920" y="3445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2" name=""/>
            <p:cNvCxnSpPr>
              <a:stCxn id="398" idx="0"/>
              <a:endCxn id="396" idx="2"/>
            </p:cNvCxnSpPr>
            <p:nvPr/>
          </p:nvCxnSpPr>
          <p:spPr>
            <a:xfrm flipV="1" rot="16200000">
              <a:off x="2725560" y="3562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3" name=""/>
            <p:cNvCxnSpPr>
              <a:stCxn id="396" idx="3"/>
              <a:endCxn id="399" idx="1"/>
            </p:cNvCxnSpPr>
            <p:nvPr/>
          </p:nvCxnSpPr>
          <p:spPr>
            <a:xfrm>
              <a:off x="3026880" y="3428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4" name=""/>
            <p:cNvSpPr/>
            <p:nvPr/>
          </p:nvSpPr>
          <p:spPr>
            <a:xfrm>
              <a:off x="2995200" y="3213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3680" y="2781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7400" y="4078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0" idx="3"/>
              <a:endCxn id="406" idx="1"/>
            </p:cNvCxnSpPr>
            <p:nvPr/>
          </p:nvCxnSpPr>
          <p:spPr>
            <a:xfrm>
              <a:off x="5265360" y="4220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8" name=""/>
            <p:cNvSpPr/>
            <p:nvPr/>
          </p:nvSpPr>
          <p:spPr>
            <a:xfrm>
              <a:off x="5808240" y="2781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42960" y="3286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406" idx="0"/>
              <a:endCxn id="409" idx="2"/>
            </p:cNvCxnSpPr>
            <p:nvPr/>
          </p:nvCxnSpPr>
          <p:spPr>
            <a:xfrm flipH="1" flipV="1" rot="5400000">
              <a:off x="6291360" y="3822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1" name=""/>
          <p:cNvSpPr/>
          <p:nvPr/>
        </p:nvSpPr>
        <p:spPr>
          <a:xfrm>
            <a:off x="2916360" y="4076640"/>
            <a:ext cx="647640" cy="289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16320" y="3284640"/>
            <a:ext cx="618840" cy="28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780000" y="5589720"/>
            <a:ext cx="914400" cy="342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3743640" cy="2266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61960" y="1473120"/>
            <a:ext cx="4905360" cy="291456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3635280" y="1341360"/>
            <a:ext cx="4997520" cy="4638600"/>
            <a:chOff x="3635280" y="1341360"/>
            <a:chExt cx="4997520" cy="4638600"/>
          </a:xfrm>
        </p:grpSpPr>
        <p:pic>
          <p:nvPicPr>
            <p:cNvPr id="419" name="" descr=""/>
            <p:cNvPicPr/>
            <p:nvPr/>
          </p:nvPicPr>
          <p:blipFill>
            <a:blip r:embed="rId5"/>
            <a:stretch/>
          </p:blipFill>
          <p:spPr>
            <a:xfrm>
              <a:off x="5651640" y="1341360"/>
              <a:ext cx="298116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6"/>
            <a:stretch/>
          </p:blipFill>
          <p:spPr>
            <a:xfrm>
              <a:off x="3635280" y="3068640"/>
              <a:ext cx="115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"/>
          <p:cNvSpPr/>
          <p:nvPr/>
        </p:nvSpPr>
        <p:spPr>
          <a:xfrm>
            <a:off x="5580000" y="1341360"/>
            <a:ext cx="3095640" cy="57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74800" y="4365720"/>
            <a:ext cx="36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prite s = new Sprite(image, frameWidth, frameHeigh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35280" y="508464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move(10,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71600" y="957240"/>
            <a:ext cx="339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setFrameSequence(new int[]{0, 1, 2, … , 1, 1, 1, 1}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41760" y="5084640"/>
            <a:ext cx="129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Herdar Sprite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ssos ger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undir imagens separ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ar frame sequence no lugar de vetores de imag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classe Sprite para herdar do Sprite do MIDP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classes dos objetos para adaptações da nova interface de Sp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Herdar Sprite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alhando.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Fundir imagens separa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método Contants.loadImages() (</a:t>
            </a:r>
            <a:r>
              <a:rPr b="0" lang="pt-BR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ransformar vetores de imagens em frame sequences na classe Constants (</a:t>
            </a:r>
            <a:r>
              <a:rPr b="0" lang="pt-BR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lterar classe Spr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clarar heranç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emover declaração de campos já herda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gar posicionamento a métodos do Sprite MIDP 2.0 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interface do construtor para receber fram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mplementar draw() usando Sprite.paint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ar frame sequence para controlar as animações nas classes Ship, Enemy e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verter chamadas a setImage(…) em setFrameSequence(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icializar frame sequences nos contrutores e nas mudanças de estado das class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emover métodos draw(). Atualizar frames no update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inicialização das classes usando novo constru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classe ShipGameScreen para passar frame sequence no lugar do vetor de image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 no uso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SzPct val="6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zer nosso Sprite herdar do Sprite de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m pouco mais sobre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ortância do por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a parte do desenvolvimento (~ 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sar no porte desde o projeto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mplos de vari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manho de t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I de 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ão MI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gs do celu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i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ionalidades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ga-se a gerar +1000 versões de um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oas práticas para o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ter código ún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é-processamento //#ifdef &lt;symbo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antenna.sourceforge.ne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http://eclipseme.org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squisas acadê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stemas de bu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ável por gerar as várias versõ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é-processa código antes de compi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 resources: seleciona arquivos (imagens, sons, etc) por ver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acota tudo gerando executáveis (jar e j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ant.apache.org/manual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MS/M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na troca de mensagens (forca, quiz, penalty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AP/xHTML/i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em páginas estáticas (velha, pedra papel tesou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rew (Binary Runtime Environment for Window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biente de execução para chipset Qualco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++ e API definida pela Qualcomm (animações, som, recursos de rede, etc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incipal mercado: E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 otimizado para dispositivos com limita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dotado por todos os maiores players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I’s especificadas pela comunidade JC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Padrão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s fin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ites interessa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www.forum.noki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www.motocoder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wireless.java.sun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www.microjav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6"/>
              </a:rPr>
              <a:t>http://www.midlet-review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stas de discus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kvm-inte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-brasi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1476360" y="3860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úvidas, questionamentos ou afliçõ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tarcisio.camara@meantime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381120" cy="547668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611280" y="1341360"/>
            <a:ext cx="3132720" cy="750960"/>
            <a:chOff x="611280" y="1341360"/>
            <a:chExt cx="3132720" cy="750960"/>
          </a:xfrm>
        </p:grpSpPr>
        <p:pic>
          <p:nvPicPr>
            <p:cNvPr id="444" name="" descr="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2581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78760" y="1846080"/>
              <a:ext cx="19652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76, 2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5466240" y="620640"/>
            <a:ext cx="2109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etTransform(Sprite.TRANS_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11280" y="2276640"/>
            <a:ext cx="3410280" cy="1895400"/>
            <a:chOff x="611280" y="2276640"/>
            <a:chExt cx="3410280" cy="1895400"/>
          </a:xfrm>
        </p:grpSpPr>
        <p:pic>
          <p:nvPicPr>
            <p:cNvPr id="448" name="" descr=""/>
            <p:cNvPicPr/>
            <p:nvPr/>
          </p:nvPicPr>
          <p:blipFill>
            <a:blip r:embed="rId4"/>
            <a:stretch/>
          </p:blipFill>
          <p:spPr>
            <a:xfrm>
              <a:off x="611280" y="2276640"/>
              <a:ext cx="28954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127960" y="2781360"/>
              <a:ext cx="1893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25,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66120" cy="460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lefones Java (&gt;650 dispositiv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4365720"/>
            <a:ext cx="6264360" cy="358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4560" y="138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382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developers.sun.com/techtopics/mobility/device/pub/device/list.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349360"/>
            <a:ext cx="136836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82160" y="4653000"/>
            <a:ext cx="755640" cy="1728720"/>
          </a:xfrm>
          <a:prstGeom prst="downArrow">
            <a:avLst>
              <a:gd name="adj1" fmla="val 66806"/>
              <a:gd name="adj2" fmla="val 3092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963920" y="5234040"/>
            <a:ext cx="14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 disposi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 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ção a plataform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36600" y="2414520"/>
            <a:ext cx="1440000" cy="385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95760" y="4056120"/>
            <a:ext cx="1440000" cy="221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916360" y="3141720"/>
            <a:ext cx="1439640" cy="3130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276960" y="4683240"/>
            <a:ext cx="1440000" cy="1589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97080" y="2060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280" y="27608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3320" y="391320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MAR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75280" y="1312920"/>
            <a:ext cx="1130400" cy="1298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753080" y="1305000"/>
            <a:ext cx="1155600" cy="128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4240" y="1320840"/>
            <a:ext cx="1152360" cy="128124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5200" y="1316160"/>
            <a:ext cx="1152720" cy="128088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6240" y="2604960"/>
            <a:ext cx="14400" cy="2433600"/>
          </a:xfrm>
          <a:prstGeom prst="line">
            <a:avLst/>
          </a:prstGeom>
          <a:ln cap="rnd" w="76320">
            <a:solidFill>
              <a:srgbClr val="ffcc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3645000"/>
            <a:ext cx="167940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549600" y="1376280"/>
            <a:ext cx="112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quitetur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470480"/>
            <a:ext cx="475308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3666960"/>
            <a:ext cx="475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863800"/>
            <a:ext cx="2376720" cy="792360"/>
          </a:xfrm>
          <a:prstGeom prst="rect">
            <a:avLst/>
          </a:prstGeom>
          <a:solidFill>
            <a:srgbClr val="ffc0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060640"/>
            <a:ext cx="475308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5400" y="2868480"/>
            <a:ext cx="2376360" cy="38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3268800"/>
            <a:ext cx="2376360" cy="38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5T10:21:18Z</dcterms:created>
  <dc:creator>Windows_NT</dc:creator>
  <dc:description/>
  <dc:language>en-US</dc:language>
  <cp:lastModifiedBy>Tarcisio Pinto Camara</cp:lastModifiedBy>
  <cp:lastPrinted>1998-09-17T18:01:36Z</cp:lastPrinted>
  <dcterms:modified xsi:type="dcterms:W3CDTF">2006-12-14T08:42:21Z</dcterms:modified>
  <cp:revision>513</cp:revision>
  <dc:subject/>
  <dc:title>Slide sem título </dc:title>
</cp:coreProperties>
</file>