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2A1-8D01-4176-95A4-1A24B928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F8D-4521-4440-9883-09792CB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0B9-CFAB-4E0D-8ADC-F9B7AEF4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EA6-ED5B-40B3-AF42-DD46CAAD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B25-10A7-4FE6-837A-82068157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A2B-2BC5-4471-94AE-1B01C039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8ED-0C6E-4565-8933-D6062791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00E-0B45-4DE3-A943-684B022E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9280" y="274320"/>
            <a:ext cx="633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56E-83D4-47DD-A933-D5FB0C70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905-8C3A-4E57-B9AE-E30D409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D2D-68F4-47F1-AA1D-F820A068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B15-142D-445C-A7AE-1BF9C91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2F05-0AAE-44B5-A57F-C07DB02EA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69960" cy="1795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10360" y="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oftware Testing based on Finite State Mach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4CF-5573-4868-9810-448B961140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ck in history [Chow 78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94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liminary theor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every such FSM has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haracterizing s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= {w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 …, w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hich allows to distinguish th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≠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s'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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w</a:t>
            </a:r>
            <a:r>
              <a:rPr b="1" lang="en-GB" sz="2400" spc="-1" strike="noStrike" baseline="-25000">
                <a:solidFill>
                  <a:srgbClr val="9966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 W such that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*(s,w</a:t>
            </a:r>
            <a:r>
              <a:rPr b="1" lang="en-GB" sz="2400" spc="-1" strike="noStrike" baseline="-25000">
                <a:solidFill>
                  <a:srgbClr val="9966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≠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*(s',w</a:t>
            </a:r>
            <a:r>
              <a:rPr b="1" lang="en-GB" sz="2400" spc="-1" strike="noStrike" baseline="-25000">
                <a:solidFill>
                  <a:srgbClr val="9966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est sequen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GB" sz="2800" spc="-1" strike="noStrike">
                <a:solidFill>
                  <a:srgbClr val="996600"/>
                </a:solidFill>
                <a:latin typeface="Times New Roman"/>
              </a:rPr>
              <a:t>p.z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 where p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P, z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: for every transi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 –x:y-&gt; 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re are two sequences in P, 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p and p.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uch that p leads from the initial state t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 = W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or W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f there are k more sta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e., coverage of transitions, with observation of the origin and destination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SM has an initial state, and the SUT provides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eliable re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6FD-2FC4-47B8-B21F-E1770959B4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” for th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5480" y="1773360"/>
            <a:ext cx="7842960" cy="2460960"/>
            <a:chOff x="825480" y="1773360"/>
            <a:chExt cx="7842960" cy="2460960"/>
          </a:xfrm>
        </p:grpSpPr>
        <p:sp>
          <p:nvSpPr>
            <p:cNvPr id="143" name=""/>
            <p:cNvSpPr/>
            <p:nvPr/>
          </p:nvSpPr>
          <p:spPr>
            <a:xfrm>
              <a:off x="1320840" y="2627280"/>
              <a:ext cx="9907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57000" y="2627280"/>
              <a:ext cx="9907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93520" y="2627280"/>
              <a:ext cx="9907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30040" y="2627280"/>
              <a:ext cx="9907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endCxn id="143" idx="2"/>
            </p:cNvCxnSpPr>
            <p:nvPr/>
          </p:nvCxnSpPr>
          <p:spPr>
            <a:xfrm>
              <a:off x="825480" y="3084120"/>
              <a:ext cx="48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3" idx="5"/>
              <a:endCxn id="144" idx="3"/>
            </p:cNvCxnSpPr>
            <p:nvPr/>
          </p:nvCxnSpPr>
          <p:spPr>
            <a:xfrm>
              <a:off x="2166480" y="3417480"/>
              <a:ext cx="1335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 flipH="1">
              <a:off x="2228760" y="2855880"/>
              <a:ext cx="11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93000" y="3236760"/>
              <a:ext cx="107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74440" y="3389400"/>
              <a:ext cx="12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356160" y="2855880"/>
              <a:ext cx="10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3" idx="3"/>
              <a:endCxn id="143" idx="4"/>
            </p:cNvCxnSpPr>
            <p:nvPr/>
          </p:nvCxnSpPr>
          <p:spPr>
            <a:xfrm flipH="1" rot="16200000">
              <a:off x="1572480" y="3308760"/>
              <a:ext cx="133560" cy="351360"/>
            </a:xfrm>
            <a:prstGeom prst="curvedConnector5">
              <a:avLst>
                <a:gd name="adj1" fmla="val 264864"/>
                <a:gd name="adj2" fmla="val 49948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5"/>
              <a:endCxn id="144" idx="4"/>
            </p:cNvCxnSpPr>
            <p:nvPr/>
          </p:nvCxnSpPr>
          <p:spPr>
            <a:xfrm rot="5400000">
              <a:off x="3960720" y="3309120"/>
              <a:ext cx="133560" cy="351360"/>
            </a:xfrm>
            <a:prstGeom prst="curvedConnector5">
              <a:avLst>
                <a:gd name="adj1" fmla="val 264864"/>
                <a:gd name="adj2" fmla="val 49948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/>
            <p:nvPr/>
          </p:nvCxnSpPr>
          <p:spPr>
            <a:xfrm flipH="1" flipV="1" rot="5400000">
              <a:off x="5640120" y="2518560"/>
              <a:ext cx="133560" cy="351360"/>
            </a:xfrm>
            <a:prstGeom prst="curvedConnector5">
              <a:avLst>
                <a:gd name="adj1" fmla="val 264864"/>
                <a:gd name="adj2" fmla="val 49948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5" idx="3"/>
              <a:endCxn id="145" idx="4"/>
            </p:cNvCxnSpPr>
            <p:nvPr/>
          </p:nvCxnSpPr>
          <p:spPr>
            <a:xfrm flipH="1" rot="16200000">
              <a:off x="5645520" y="3308760"/>
              <a:ext cx="133560" cy="351360"/>
            </a:xfrm>
            <a:prstGeom prst="curvedConnector5">
              <a:avLst>
                <a:gd name="adj1" fmla="val 264864"/>
                <a:gd name="adj2" fmla="val 49948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6" idx="4"/>
              <a:endCxn id="146" idx="6"/>
            </p:cNvCxnSpPr>
            <p:nvPr/>
          </p:nvCxnSpPr>
          <p:spPr>
            <a:xfrm flipH="1" flipV="1" rot="5400000">
              <a:off x="7944480" y="3064680"/>
              <a:ext cx="467280" cy="506160"/>
            </a:xfrm>
            <a:prstGeom prst="curvedConnector5">
              <a:avLst>
                <a:gd name="adj1" fmla="val -46877"/>
                <a:gd name="adj2" fmla="val 73451"/>
                <a:gd name="adj3" fmla="val -468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6" idx="0"/>
              <a:endCxn id="143" idx="0"/>
            </p:cNvCxnSpPr>
            <p:nvPr/>
          </p:nvCxnSpPr>
          <p:spPr>
            <a:xfrm rot="5400000">
              <a:off x="4869360" y="-435960"/>
              <a:ext cx="2160" cy="6109920"/>
            </a:xfrm>
            <a:prstGeom prst="curvedConnector5">
              <a:avLst>
                <a:gd name="adj1" fmla="val -41200000"/>
                <a:gd name="adj2" fmla="val 49997"/>
                <a:gd name="adj3" fmla="val -41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1155240" y="369396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,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920" y="338940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63240" y="375912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75080" y="323676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31760" y="377028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39320" y="338940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7720" y="177336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2960" y="383544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60840" y="2459160"/>
              <a:ext cx="57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7120" y="23986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94120" y="2459160"/>
              <a:ext cx="7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*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82560" y="4317840"/>
            <a:ext cx="522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racterizing set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 ={*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e: it is a destructive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943600" y="4287960"/>
          <a:ext cx="1980720" cy="1976400"/>
        </p:xfrm>
        <a:graphic>
          <a:graphicData uri="http://schemas.openxmlformats.org/drawingml/2006/table">
            <a:tbl>
              <a:tblPr/>
              <a:tblGrid>
                <a:gridCol w="990360"/>
                <a:gridCol w="99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F88-6836-47F5-A49A-95C38649B2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struction of some P (covering tre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41520" y="4005360"/>
            <a:ext cx="395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t is the initi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ons of a node are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s reachable by 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state is already in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36560" y="1844640"/>
            <a:ext cx="5249880" cy="1828800"/>
            <a:chOff x="736560" y="1844640"/>
            <a:chExt cx="5249880" cy="1828800"/>
          </a:xfrm>
        </p:grpSpPr>
        <p:grpSp>
          <p:nvGrpSpPr>
            <p:cNvPr id="175" name=""/>
            <p:cNvGrpSpPr/>
            <p:nvPr/>
          </p:nvGrpSpPr>
          <p:grpSpPr>
            <a:xfrm>
              <a:off x="736560" y="1844640"/>
              <a:ext cx="3962160" cy="1097280"/>
              <a:chOff x="736560" y="1844640"/>
              <a:chExt cx="3962160" cy="1097280"/>
            </a:xfrm>
          </p:grpSpPr>
          <p:sp>
            <p:nvSpPr>
              <p:cNvPr id="176" name=""/>
              <p:cNvSpPr/>
              <p:nvPr/>
            </p:nvSpPr>
            <p:spPr>
              <a:xfrm>
                <a:off x="3312000" y="1844640"/>
                <a:ext cx="297000" cy="27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6560" y="2667600"/>
                <a:ext cx="297000" cy="27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6560" y="2667600"/>
                <a:ext cx="297000" cy="27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123280" y="2667600"/>
                <a:ext cx="297000" cy="27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04360" y="2667600"/>
                <a:ext cx="297000" cy="27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1033560" y="2027520"/>
                <a:ext cx="2278080" cy="73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419920" y="2118960"/>
                <a:ext cx="99036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09000" y="2027520"/>
                <a:ext cx="594000" cy="64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26920" y="2118960"/>
                <a:ext cx="39600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14640" y="2393280"/>
                <a:ext cx="39600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05360" y="2118960"/>
                <a:ext cx="693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717640" y="3399120"/>
              <a:ext cx="29700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02360" y="3399120"/>
              <a:ext cx="29700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89440" y="3399120"/>
              <a:ext cx="29700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14640" y="2850480"/>
              <a:ext cx="108936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02360" y="2941920"/>
              <a:ext cx="99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01360" y="2850480"/>
              <a:ext cx="138672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6640" y="3124800"/>
              <a:ext cx="2970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7360" y="3216240"/>
              <a:ext cx="3960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95080" y="2850480"/>
              <a:ext cx="6933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000" y="3673440"/>
            <a:ext cx="4060800" cy="1644480"/>
            <a:chOff x="324000" y="3673440"/>
            <a:chExt cx="4060800" cy="1644480"/>
          </a:xfrm>
        </p:grpSpPr>
        <p:sp>
          <p:nvSpPr>
            <p:cNvPr id="197" name=""/>
            <p:cNvSpPr/>
            <p:nvPr/>
          </p:nvSpPr>
          <p:spPr>
            <a:xfrm>
              <a:off x="1017000" y="4313160"/>
              <a:ext cx="39600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02080" y="4313160"/>
              <a:ext cx="297000" cy="27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87800" y="4313160"/>
              <a:ext cx="297000" cy="27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314000" y="3673440"/>
              <a:ext cx="138636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799720" y="3764520"/>
              <a:ext cx="9900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98080" y="3673440"/>
              <a:ext cx="108936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16360" y="3855960"/>
              <a:ext cx="594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04720" y="4038840"/>
              <a:ext cx="39600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92440" y="3764520"/>
              <a:ext cx="49500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324000" y="4587120"/>
              <a:ext cx="1683720" cy="730800"/>
              <a:chOff x="324000" y="4587120"/>
              <a:chExt cx="1683720" cy="730800"/>
            </a:xfrm>
          </p:grpSpPr>
          <p:sp>
            <p:nvSpPr>
              <p:cNvPr id="207" name=""/>
              <p:cNvSpPr/>
              <p:nvPr/>
            </p:nvSpPr>
            <p:spPr>
              <a:xfrm>
                <a:off x="324000" y="5043960"/>
                <a:ext cx="297000" cy="273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17360" y="5043960"/>
                <a:ext cx="297000" cy="273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10720" y="5043960"/>
                <a:ext cx="297000" cy="273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521640" y="4587120"/>
                <a:ext cx="49500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15360" y="45871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14360" y="4587120"/>
                <a:ext cx="49500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6BE-626D-4396-879B-0F673BBD08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sts and expecte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932360" y="1844640"/>
          <a:ext cx="2016000" cy="4248000"/>
        </p:xfrm>
        <a:graphic>
          <a:graphicData uri="http://schemas.openxmlformats.org/drawingml/2006/table">
            <a:tbl>
              <a:tblPr/>
              <a:tblGrid>
                <a:gridCol w="1009440"/>
                <a:gridCol w="10065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/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7091280" y="1844640"/>
          <a:ext cx="2000160" cy="4176360"/>
        </p:xfrm>
        <a:graphic>
          <a:graphicData uri="http://schemas.openxmlformats.org/drawingml/2006/table">
            <a:tbl>
              <a:tblPr/>
              <a:tblGrid>
                <a:gridCol w="999720"/>
                <a:gridCol w="100044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*/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*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**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*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**/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187280" y="1341360"/>
          <a:ext cx="1828800" cy="19764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0" y="3429000"/>
            <a:ext cx="4618080" cy="3068640"/>
            <a:chOff x="0" y="3429000"/>
            <a:chExt cx="4618080" cy="3068640"/>
          </a:xfrm>
        </p:grpSpPr>
        <p:sp>
          <p:nvSpPr>
            <p:cNvPr id="218" name=""/>
            <p:cNvSpPr/>
            <p:nvPr/>
          </p:nvSpPr>
          <p:spPr>
            <a:xfrm>
              <a:off x="2436840" y="3429000"/>
              <a:ext cx="241200" cy="2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6600" y="4156200"/>
              <a:ext cx="242640" cy="24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6600" y="4156200"/>
              <a:ext cx="242640" cy="24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66640" y="4156200"/>
              <a:ext cx="243000" cy="24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82680" y="4156200"/>
              <a:ext cx="241560" cy="24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79240" y="3591000"/>
              <a:ext cx="1857600" cy="64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709280" y="3672000"/>
              <a:ext cx="808200" cy="56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8040" y="3591000"/>
              <a:ext cx="485640" cy="56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4440" y="3672000"/>
              <a:ext cx="322200" cy="16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93840" y="3914640"/>
              <a:ext cx="324000" cy="3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02040" y="3672000"/>
              <a:ext cx="5648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52640" y="4802040"/>
              <a:ext cx="241200" cy="2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4680" y="4802040"/>
              <a:ext cx="243000" cy="2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75080" y="4802040"/>
              <a:ext cx="243000" cy="243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193480" y="4317840"/>
              <a:ext cx="888840" cy="48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44680" y="4398840"/>
              <a:ext cx="81000" cy="40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25680" y="4317840"/>
              <a:ext cx="1130400" cy="56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33640" y="4560840"/>
              <a:ext cx="241200" cy="1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0040" y="4641840"/>
              <a:ext cx="32364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90880" y="4317840"/>
              <a:ext cx="565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5200" y="5610240"/>
              <a:ext cx="323640" cy="322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57240" y="5610240"/>
              <a:ext cx="243000" cy="241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68640" y="5610240"/>
              <a:ext cx="242640" cy="241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07840" y="5045040"/>
              <a:ext cx="1130400" cy="64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018880" y="5126040"/>
              <a:ext cx="81000" cy="48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1240" y="5045040"/>
              <a:ext cx="887400" cy="64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6200" y="5207040"/>
              <a:ext cx="484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16040" y="5367240"/>
              <a:ext cx="3222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5440" y="5126040"/>
              <a:ext cx="403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5851440"/>
              <a:ext cx="1373040" cy="646200"/>
              <a:chOff x="0" y="5851440"/>
              <a:chExt cx="1373040" cy="64620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6255360"/>
                <a:ext cx="242280" cy="24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5200" y="6255360"/>
                <a:ext cx="242280" cy="24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30760" y="6255360"/>
                <a:ext cx="242280" cy="24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60920" y="5851440"/>
                <a:ext cx="403560" cy="40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6840" y="5851440"/>
                <a:ext cx="0" cy="40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7480" y="5851440"/>
                <a:ext cx="403560" cy="40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2805120" y="5973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56920" y="213048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A63-7903-4DBC-8886-73BB180F41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haustivity of P.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 A, B, two FSM with the same I and O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V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*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state of A,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state of B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V-equivalent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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w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 V,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*(s</a:t>
            </a:r>
            <a:r>
              <a:rPr b="1" lang="en-GB" sz="2400" spc="-1" strike="noStrike" baseline="-25000">
                <a:solidFill>
                  <a:srgbClr val="9966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,w) = </a:t>
            </a:r>
            <a:r>
              <a:rPr b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*(s</a:t>
            </a:r>
            <a:r>
              <a:rPr b="1" lang="en-GB" sz="2400" spc="-1" strike="noStrike" baseline="-25000">
                <a:solidFill>
                  <a:srgbClr val="9966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and B are V-equivalent &lt;=&gt; their initial states are V-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how’s theor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and B are equivalent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996600"/>
                </a:solidFill>
                <a:latin typeface="Times New Roman"/>
              </a:rPr>
              <a:t>A and B are P.Z-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A48-411F-4D56-BCB6-03F0279877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89160" y="4383000"/>
            <a:ext cx="1368720" cy="339840"/>
          </a:xfrm>
          <a:prstGeom prst="parallelogram">
            <a:avLst>
              <a:gd name="adj" fmla="val 1006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2205000"/>
            <a:ext cx="4608360" cy="1908360"/>
          </a:xfrm>
          <a:prstGeom prst="wedgeRoundRectCallout">
            <a:avLst>
              <a:gd name="adj1" fmla="val -41972"/>
              <a:gd name="adj2" fmla="val 7395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 lik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was the first “extrapolation” theorem applicable to softwar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336840" y="4562640"/>
            <a:ext cx="976320" cy="738000"/>
            <a:chOff x="3336840" y="4562640"/>
            <a:chExt cx="976320" cy="738000"/>
          </a:xfrm>
        </p:grpSpPr>
        <p:sp>
          <p:nvSpPr>
            <p:cNvPr id="262" name=""/>
            <p:cNvSpPr/>
            <p:nvPr/>
          </p:nvSpPr>
          <p:spPr>
            <a:xfrm>
              <a:off x="3336840" y="4562640"/>
              <a:ext cx="683280" cy="63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31960" y="4742640"/>
              <a:ext cx="9756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27440" y="4742640"/>
              <a:ext cx="9756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433680" y="4832640"/>
              <a:ext cx="422280" cy="270000"/>
            </a:xfrm>
            <a:custGeom>
              <a:avLst/>
              <a:gdLst/>
              <a:ahLst/>
              <a:rect l="l" t="t" r="r" b="b"/>
              <a:pathLst>
                <a:path w="623" h="432">
                  <a:moveTo>
                    <a:pt x="0" y="288"/>
                  </a:moveTo>
                  <a:cubicBezTo>
                    <a:pt x="96" y="360"/>
                    <a:pt x="192" y="432"/>
                    <a:pt x="288" y="432"/>
                  </a:cubicBezTo>
                  <a:cubicBezTo>
                    <a:pt x="384" y="432"/>
                    <a:pt x="528" y="359"/>
                    <a:pt x="576" y="288"/>
                  </a:cubicBezTo>
                  <a:cubicBezTo>
                    <a:pt x="623" y="216"/>
                    <a:pt x="599" y="108"/>
                    <a:pt x="5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41640" y="4923000"/>
              <a:ext cx="371520" cy="377640"/>
            </a:xfrm>
            <a:custGeom>
              <a:avLst/>
              <a:gdLst/>
              <a:ahLst/>
              <a:rect l="l" t="t" r="r" b="b"/>
              <a:pathLst>
                <a:path w="548" h="604">
                  <a:moveTo>
                    <a:pt x="0" y="604"/>
                  </a:moveTo>
                  <a:cubicBezTo>
                    <a:pt x="41" y="479"/>
                    <a:pt x="132" y="391"/>
                    <a:pt x="200" y="284"/>
                  </a:cubicBezTo>
                  <a:cubicBezTo>
                    <a:pt x="221" y="249"/>
                    <a:pt x="246" y="144"/>
                    <a:pt x="300" y="144"/>
                  </a:cubicBezTo>
                  <a:lnTo>
                    <a:pt x="260" y="432"/>
                  </a:lnTo>
                  <a:lnTo>
                    <a:pt x="548" y="0"/>
                  </a:lnTo>
                  <a:lnTo>
                    <a:pt x="404" y="432"/>
                  </a:lnTo>
                  <a:lnTo>
                    <a:pt x="548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C84-D81F-4A70-B0E8-11258F4853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pplication to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634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6600"/>
                </a:solidFill>
                <a:latin typeface="Times New Roman"/>
              </a:rPr>
              <a:t>A is a description/specification/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80"/>
                </a:solidFill>
                <a:latin typeface="Times New Roman"/>
              </a:rPr>
              <a:t>B is a system under test (SUT) that behaves like some F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e knows that I and O are the same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e knows that B has the same number of states than A, or a known number of addition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re is a reliable reset of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t is all that is known abou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rom A one builds P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e tests B against the sequences of P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f all the output results are the same as for A, B is equivalent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F7E-FF4F-468A-8AEE-6E3480B65F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estability Hypotheses and all tha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ypothes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UT behaves like some FSM with the same*  number of states as th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UT provides a reliable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r these testability hypotheses, the success of a test set P.Z ensures equivalence of the SUT and the  specification F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re the satisfaction relation i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.Z is exhaustive/these hypotheses and this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9999"/>
                </a:solidFill>
                <a:latin typeface="Times New Roman"/>
              </a:rPr>
              <a:t>the SUT behaves like some FSM with a known nb of states and it provides a reliable res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9999"/>
                </a:solidFill>
                <a:latin typeface="Times New Roman"/>
              </a:rPr>
              <a:t>=&gt; (SUT passes P.Z &lt;=&gt; SUT equiv 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073-21A4-437A-9F8C-5F933C9105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efore or after Ch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cking sequen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vers every transition and its separating set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istinguishes the description FSM from any other FSM with the same number of state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need of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te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ut may be exponential/nb of stat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… in length, in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haus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ition (+ separating set)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ing sequence, or reliable 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determinism =&gt; adaptive test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inguishing sets, UIO, or variants (plenty of them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644-D9DE-4BDB-9A71-68A7139BE3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ack in history: FSM-based t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580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iginally invented in the sixties for testing circuits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us there is a finite number of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rst applied to software by Chow in 78 (ref [20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g corpus of knowledge, with a lot of variants on the kind of considered F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F29-EAD9-4F21-A4D2-E6DC1456E1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n F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: finite set of states, I: input alphabet, O: output alphab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: finite set of transi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 –x:y-&gt; s' 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, s'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, x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, 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,x)=y, 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(s,w)=w',    w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*, w'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00"/>
                </a:solidFill>
                <a:latin typeface="Times New Roman"/>
              </a:rPr>
              <a:t>Equivalent states</a:t>
            </a:r>
            <a:r>
              <a:rPr b="1" lang="en-GB" sz="2800" spc="-1" strike="noStrike">
                <a:solidFill>
                  <a:srgbClr val="996600"/>
                </a:solidFill>
                <a:latin typeface="Times New Roman"/>
              </a:rPr>
              <a:t> : </a:t>
            </a:r>
            <a:r>
              <a:rPr b="1" lang="en-GB" sz="2800" spc="-1" strike="noStrike">
                <a:solidFill>
                  <a:srgbClr val="996600"/>
                </a:solidFill>
                <a:latin typeface="Symbol"/>
                <a:ea typeface="Symbol"/>
              </a:rPr>
              <a:t></a:t>
            </a:r>
            <a:r>
              <a:rPr b="1" lang="en-GB" sz="2800" spc="-1" strike="noStrike">
                <a:solidFill>
                  <a:srgbClr val="996600"/>
                </a:solidFill>
                <a:latin typeface="Times New Roman"/>
              </a:rPr>
              <a:t>w, </a:t>
            </a:r>
            <a:r>
              <a:rPr b="1" lang="en-GB" sz="2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GB" sz="2800" spc="-1" strike="noStrike">
                <a:solidFill>
                  <a:srgbClr val="996600"/>
                </a:solidFill>
                <a:latin typeface="Times New Roman"/>
              </a:rPr>
              <a:t>*(s,w) = </a:t>
            </a:r>
            <a:r>
              <a:rPr b="1" lang="en-GB" sz="2800" spc="-1" strike="noStrike">
                <a:solidFill>
                  <a:srgbClr val="996600"/>
                </a:solidFill>
                <a:latin typeface="Symbol"/>
                <a:ea typeface="Symbol"/>
              </a:rPr>
              <a:t></a:t>
            </a:r>
            <a:r>
              <a:rPr b="1" lang="en-GB" sz="2800" spc="-1" strike="noStrike">
                <a:solidFill>
                  <a:srgbClr val="996600"/>
                </a:solidFill>
                <a:latin typeface="Times New Roman"/>
              </a:rPr>
              <a:t>*(s',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e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he considered FSM are: deterministic, complet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s –x:y-&gt; s'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minimal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no equivalent states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and all states are reachabl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32B-9D05-4107-A0DC-FEE9D010EC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am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5280" y="1557360"/>
            <a:ext cx="7239240" cy="2460960"/>
            <a:chOff x="755280" y="1557360"/>
            <a:chExt cx="7239240" cy="2460960"/>
          </a:xfrm>
        </p:grpSpPr>
        <p:sp>
          <p:nvSpPr>
            <p:cNvPr id="51" name=""/>
            <p:cNvSpPr/>
            <p:nvPr/>
          </p:nvSpPr>
          <p:spPr>
            <a:xfrm>
              <a:off x="1212840" y="24112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2400" y="24112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960" y="24112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1520" y="24112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endCxn id="51" idx="2"/>
            </p:cNvCxnSpPr>
            <p:nvPr/>
          </p:nvCxnSpPr>
          <p:spPr>
            <a:xfrm>
              <a:off x="755280" y="2868120"/>
              <a:ext cx="44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51" idx="5"/>
              <a:endCxn id="52" idx="3"/>
            </p:cNvCxnSpPr>
            <p:nvPr/>
          </p:nvCxnSpPr>
          <p:spPr>
            <a:xfrm>
              <a:off x="1993680" y="3201480"/>
              <a:ext cx="1232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 flipH="1">
              <a:off x="2050560" y="263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56040" y="30207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84840" y="317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860800" y="2639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1" idx="3"/>
              <a:endCxn id="51" idx="4"/>
            </p:cNvCxnSpPr>
            <p:nvPr/>
          </p:nvCxnSpPr>
          <p:spPr>
            <a:xfrm flipH="1" rot="16200000">
              <a:off x="1441440" y="3106080"/>
              <a:ext cx="133560" cy="324720"/>
            </a:xfrm>
            <a:prstGeom prst="curvedConnector5">
              <a:avLst>
                <a:gd name="adj1" fmla="val 264864"/>
                <a:gd name="adj2" fmla="val 49944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2" idx="5"/>
              <a:endCxn id="52" idx="4"/>
            </p:cNvCxnSpPr>
            <p:nvPr/>
          </p:nvCxnSpPr>
          <p:spPr>
            <a:xfrm rot="5400000">
              <a:off x="3644280" y="3106440"/>
              <a:ext cx="133560" cy="324360"/>
            </a:xfrm>
            <a:prstGeom prst="curvedConnector5">
              <a:avLst>
                <a:gd name="adj1" fmla="val 264864"/>
                <a:gd name="adj2" fmla="val 50000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/>
            <p:nvPr/>
          </p:nvCxnSpPr>
          <p:spPr>
            <a:xfrm flipH="1" flipV="1" rot="5400000">
              <a:off x="5194080" y="2315880"/>
              <a:ext cx="133560" cy="324360"/>
            </a:xfrm>
            <a:prstGeom prst="curvedConnector5">
              <a:avLst>
                <a:gd name="adj1" fmla="val 264864"/>
                <a:gd name="adj2" fmla="val 50000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3" idx="3"/>
              <a:endCxn id="53" idx="4"/>
            </p:cNvCxnSpPr>
            <p:nvPr/>
          </p:nvCxnSpPr>
          <p:spPr>
            <a:xfrm flipH="1" rot="16200000">
              <a:off x="5200560" y="3106080"/>
              <a:ext cx="133560" cy="324720"/>
            </a:xfrm>
            <a:prstGeom prst="curvedConnector5">
              <a:avLst>
                <a:gd name="adj1" fmla="val 264864"/>
                <a:gd name="adj2" fmla="val 49944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54" idx="4"/>
              <a:endCxn id="54" idx="6"/>
            </p:cNvCxnSpPr>
            <p:nvPr/>
          </p:nvCxnSpPr>
          <p:spPr>
            <a:xfrm flipH="1" flipV="1" rot="5400000">
              <a:off x="7308360" y="2868120"/>
              <a:ext cx="467280" cy="467280"/>
            </a:xfrm>
            <a:prstGeom prst="curvedConnector5">
              <a:avLst>
                <a:gd name="adj1" fmla="val -46877"/>
                <a:gd name="adj2" fmla="val 73400"/>
                <a:gd name="adj3" fmla="val -468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54" idx="0"/>
              <a:endCxn id="51" idx="0"/>
            </p:cNvCxnSpPr>
            <p:nvPr/>
          </p:nvCxnSpPr>
          <p:spPr>
            <a:xfrm rot="5400000">
              <a:off x="4487760" y="-416880"/>
              <a:ext cx="2160" cy="5639400"/>
            </a:xfrm>
            <a:prstGeom prst="curvedConnector5">
              <a:avLst>
                <a:gd name="adj1" fmla="val -41200000"/>
                <a:gd name="adj2" fmla="val 50000"/>
                <a:gd name="adj3" fmla="val -41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1060200" y="347796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,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27600" y="317340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51840" y="354312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2360" y="302076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99400" y="355428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37480" y="317340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66440" y="155736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2760" y="361944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41960" y="2243160"/>
              <a:ext cx="57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43640" y="21826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80040" y="2243160"/>
              <a:ext cx="7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*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56600" y="4334040"/>
            <a:ext cx="8689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any character but * and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not a commen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all that / *  is ** a comment</a:t>
            </a: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no more a com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FSM removes from the input text all that is not a com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8B1-C4A5-4BEA-8033-105B834085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SM is a “regular transduc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defines a function from I* into O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re is no mem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given an input, the output depends only on the current state and not on the way it has been reach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CF2-DAE1-4461-AEB6-6DE16651E1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vising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und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known, bu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ability Hypothes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SUT behaves like some (unknown) FSM with the same* number of states as th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ever the trace leading to some state s, the execution of transi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 –x:y-&gt; s’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as the same effect (output, change of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2193840"/>
            <a:ext cx="1524240" cy="1447920"/>
          </a:xfrm>
          <a:prstGeom prst="verticalScrol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422440"/>
            <a:ext cx="1219320" cy="990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41400" y="18892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391520" y="3489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351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3900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34894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8880" y="3367080"/>
            <a:ext cx="3049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367080"/>
            <a:ext cx="3045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8200" y="4022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098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727360"/>
            <a:ext cx="1600200" cy="380880"/>
          </a:xfrm>
          <a:prstGeom prst="leftRightArrow">
            <a:avLst>
              <a:gd name="adj1" fmla="val 50000"/>
              <a:gd name="adj2" fmla="val 83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ivale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92840" y="595008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*or more but this number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358-035E-4AF0-8582-8F25AE0F7B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ack in history: control and ob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 strategy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ransition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–x:y-&gt; 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how to put the SUT into a state equivalent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ution 1: if there is an </a:t>
            </a:r>
            <a:r>
              <a:rPr b="0" lang="en-GB" sz="2000" spc="-1" strike="noStrike">
                <a:solidFill>
                  <a:srgbClr val="996600"/>
                </a:solidFill>
                <a:latin typeface="Times New Roman"/>
              </a:rPr>
              <a:t>initial st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 perform a “</a:t>
            </a:r>
            <a:r>
              <a:rPr b="1" lang="en-GB" sz="2000" spc="-1" strike="noStrike">
                <a:solidFill>
                  <a:srgbClr val="800080"/>
                </a:solidFill>
                <a:latin typeface="Times New Roman"/>
              </a:rPr>
              <a:t>reliable reset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then some adequate input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ution 2: </a:t>
            </a:r>
            <a:r>
              <a:rPr b="0" lang="en-GB" sz="20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996600"/>
                </a:solidFill>
                <a:latin typeface="Times New Roman"/>
              </a:rPr>
              <a:t>homing sequence</a:t>
            </a:r>
            <a:r>
              <a:rPr b="0" lang="en-GB" sz="2000" spc="-1" strike="noStrike">
                <a:solidFill>
                  <a:srgbClr val="996600"/>
                </a:solidFill>
                <a:latin typeface="Times New Roman"/>
              </a:rPr>
              <a:t>”,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then some adequate input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observation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ow to check that after receivi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issui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 SUT is in a state equivalent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00"/>
                </a:solidFill>
                <a:latin typeface="Times New Roman"/>
              </a:rPr>
              <a:t> “</a:t>
            </a:r>
            <a:r>
              <a:rPr b="1" lang="en-GB" sz="2000" spc="-1" strike="noStrike">
                <a:solidFill>
                  <a:srgbClr val="996600"/>
                </a:solidFill>
                <a:latin typeface="Times New Roman"/>
              </a:rPr>
              <a:t>separating family </a:t>
            </a:r>
            <a:r>
              <a:rPr b="0" lang="en-GB" sz="2000" spc="-1" strike="noStrike">
                <a:solidFill>
                  <a:srgbClr val="9966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: colle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{Z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=1,..,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sets of input sequences whose  output sequences make it possible to distinguish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any other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C9D-8D83-4CC9-A317-EE489918CF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ne of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the tests for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 -x/y-&gt; s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158920"/>
            <a:ext cx="1218960" cy="774720"/>
          </a:xfrm>
          <a:custGeom>
            <a:avLst/>
            <a:gdLst/>
            <a:ahLst/>
            <a:rect l="l" t="t" r="r" b="b"/>
            <a:pathLst>
              <a:path w="768" h="488">
                <a:moveTo>
                  <a:pt x="0" y="80"/>
                </a:moveTo>
                <a:cubicBezTo>
                  <a:pt x="88" y="40"/>
                  <a:pt x="176" y="0"/>
                  <a:pt x="240" y="32"/>
                </a:cubicBezTo>
                <a:cubicBezTo>
                  <a:pt x="304" y="64"/>
                  <a:pt x="336" y="200"/>
                  <a:pt x="384" y="272"/>
                </a:cubicBezTo>
                <a:cubicBezTo>
                  <a:pt x="432" y="344"/>
                  <a:pt x="464" y="440"/>
                  <a:pt x="528" y="464"/>
                </a:cubicBezTo>
                <a:cubicBezTo>
                  <a:pt x="592" y="488"/>
                  <a:pt x="728" y="424"/>
                  <a:pt x="768" y="416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5320" y="2954160"/>
            <a:ext cx="22914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om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* =&gt; </a:t>
            </a:r>
            <a:r>
              <a:rPr b="0" lang="en-GB" sz="2000" spc="-1" strike="noStrike">
                <a:solidFill>
                  <a:srgbClr val="800080"/>
                </a:solidFill>
                <a:latin typeface="Times New Roman"/>
              </a:rPr>
              <a:t>ans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the SU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uld be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304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/</a:t>
            </a:r>
            <a:r>
              <a:rPr b="0" i="1" lang="en-GB" sz="2400" spc="-1" strike="noStrike">
                <a:solidFill>
                  <a:srgbClr val="800080"/>
                </a:solidFill>
                <a:latin typeface="Times New Roman"/>
              </a:rPr>
              <a:t>an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25909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33676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256"/>
                </a:moveTo>
                <a:cubicBezTo>
                  <a:pt x="196" y="128"/>
                  <a:pt x="392" y="0"/>
                  <a:pt x="528" y="64"/>
                </a:cubicBezTo>
                <a:cubicBezTo>
                  <a:pt x="664" y="128"/>
                  <a:pt x="688" y="560"/>
                  <a:pt x="816" y="640"/>
                </a:cubicBezTo>
                <a:cubicBezTo>
                  <a:pt x="944" y="720"/>
                  <a:pt x="1120" y="632"/>
                  <a:pt x="1296" y="54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1800" y="2209680"/>
            <a:ext cx="149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(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9718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1320" y="4267080"/>
            <a:ext cx="2274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*: in the 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cription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 l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rom s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to 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176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imes New Roman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7760" y="2666880"/>
            <a:ext cx="5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/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486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240" y="541008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imes New Roman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730600"/>
            <a:ext cx="1371600" cy="39348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60" y="164"/>
                  <a:pt x="120" y="80"/>
                  <a:pt x="192" y="56"/>
                </a:cubicBezTo>
                <a:cubicBezTo>
                  <a:pt x="264" y="32"/>
                  <a:pt x="360" y="112"/>
                  <a:pt x="432" y="104"/>
                </a:cubicBezTo>
                <a:cubicBezTo>
                  <a:pt x="504" y="96"/>
                  <a:pt x="552" y="16"/>
                  <a:pt x="624" y="8"/>
                </a:cubicBezTo>
                <a:cubicBezTo>
                  <a:pt x="696" y="0"/>
                  <a:pt x="824" y="48"/>
                  <a:pt x="864" y="56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160" y="220968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(s’,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44840" y="3387600"/>
            <a:ext cx="21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z belongs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parating se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5486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6760" y="5410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4365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43A-7683-43DA-8FA7-A624A17DEC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000000"/>
                </a:solidFill>
                <a:latin typeface="Times New Roman"/>
              </a:rPr>
              <a:t>One of</a:t>
            </a:r>
            <a:r>
              <a:rPr b="0" lang="en-GB" sz="3700" spc="-1" strike="noStrike">
                <a:solidFill>
                  <a:srgbClr val="000000"/>
                </a:solidFill>
                <a:latin typeface="Times New Roman"/>
              </a:rPr>
              <a:t> the tests of the preamble of s -x/y-&gt; s’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158920"/>
            <a:ext cx="1218960" cy="774720"/>
          </a:xfrm>
          <a:custGeom>
            <a:avLst/>
            <a:gdLst/>
            <a:ahLst/>
            <a:rect l="l" t="t" r="r" b="b"/>
            <a:pathLst>
              <a:path w="768" h="488">
                <a:moveTo>
                  <a:pt x="0" y="80"/>
                </a:moveTo>
                <a:cubicBezTo>
                  <a:pt x="88" y="40"/>
                  <a:pt x="176" y="0"/>
                  <a:pt x="240" y="32"/>
                </a:cubicBezTo>
                <a:cubicBezTo>
                  <a:pt x="304" y="64"/>
                  <a:pt x="336" y="200"/>
                  <a:pt x="384" y="272"/>
                </a:cubicBezTo>
                <a:cubicBezTo>
                  <a:pt x="432" y="344"/>
                  <a:pt x="464" y="440"/>
                  <a:pt x="528" y="464"/>
                </a:cubicBezTo>
                <a:cubicBezTo>
                  <a:pt x="592" y="488"/>
                  <a:pt x="728" y="424"/>
                  <a:pt x="768" y="416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880" y="2954160"/>
            <a:ext cx="22914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om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* =&gt; </a:t>
            </a:r>
            <a:r>
              <a:rPr b="0" lang="en-GB" sz="2000" spc="-1" strike="noStrike">
                <a:solidFill>
                  <a:srgbClr val="800080"/>
                </a:solidFill>
                <a:latin typeface="Times New Roman"/>
              </a:rPr>
              <a:t>ans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the SU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uld be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304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/</a:t>
            </a:r>
            <a:r>
              <a:rPr b="0" i="1" lang="en-GB" sz="2400" spc="-1" strike="noStrike">
                <a:solidFill>
                  <a:srgbClr val="800080"/>
                </a:solidFill>
                <a:latin typeface="Times New Roman"/>
              </a:rPr>
              <a:t>an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2590920"/>
            <a:ext cx="417600" cy="406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336760"/>
            <a:ext cx="2057400" cy="1143000"/>
          </a:xfrm>
          <a:custGeom>
            <a:avLst/>
            <a:gdLst/>
            <a:ahLst/>
            <a:rect l="l" t="t" r="r" b="b"/>
            <a:pathLst>
              <a:path w="1296" h="720">
                <a:moveTo>
                  <a:pt x="0" y="256"/>
                </a:moveTo>
                <a:cubicBezTo>
                  <a:pt x="196" y="128"/>
                  <a:pt x="392" y="0"/>
                  <a:pt x="528" y="64"/>
                </a:cubicBezTo>
                <a:cubicBezTo>
                  <a:pt x="664" y="128"/>
                  <a:pt x="688" y="560"/>
                  <a:pt x="816" y="640"/>
                </a:cubicBezTo>
                <a:cubicBezTo>
                  <a:pt x="944" y="720"/>
                  <a:pt x="1120" y="632"/>
                  <a:pt x="1296" y="54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1080" y="2209680"/>
            <a:ext cx="149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(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79680" y="4403880"/>
            <a:ext cx="22748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*: in the 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cription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w l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rom s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 to 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176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imes New Roman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743200"/>
            <a:ext cx="1371600" cy="39384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8"/>
                </a:moveTo>
                <a:cubicBezTo>
                  <a:pt x="60" y="164"/>
                  <a:pt x="120" y="80"/>
                  <a:pt x="192" y="56"/>
                </a:cubicBezTo>
                <a:cubicBezTo>
                  <a:pt x="264" y="32"/>
                  <a:pt x="360" y="112"/>
                  <a:pt x="432" y="104"/>
                </a:cubicBezTo>
                <a:cubicBezTo>
                  <a:pt x="504" y="96"/>
                  <a:pt x="552" y="16"/>
                  <a:pt x="624" y="8"/>
                </a:cubicBezTo>
                <a:cubicBezTo>
                  <a:pt x="696" y="0"/>
                  <a:pt x="824" y="48"/>
                  <a:pt x="864" y="56"/>
                </a:cubicBezTo>
              </a:path>
            </a:pathLst>
          </a:custGeom>
          <a:noFill/>
          <a:ln w="2844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6240" y="2209680"/>
            <a:ext cx="13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*(s,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5600" y="3078000"/>
            <a:ext cx="20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z belongs to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eparating se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f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5486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77160" y="5410080"/>
            <a:ext cx="309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imes New Roman"/>
              </a:rPr>
              <a:t>observ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Times New Roman"/>
              </a:rPr>
              <a:t>the state is the righ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133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27280" y="4437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457-3CAF-402E-9C09-D7DE07FAA5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7:22:17Z</dcterms:created>
  <dc:creator>Marie-Claude Gaudel</dc:creator>
  <dc:description/>
  <dc:language>en-US</dc:language>
  <cp:lastModifiedBy> </cp:lastModifiedBy>
  <cp:lastPrinted>2004-10-17T17:41:06Z</cp:lastPrinted>
  <dcterms:modified xsi:type="dcterms:W3CDTF">2007-12-06T17:32:59Z</dcterms:modified>
  <cp:revision>165</cp:revision>
  <dc:subject/>
  <dc:title>Chapitre 6</dc:title>
</cp:coreProperties>
</file>