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DDA2-540D-4E54-B504-09290F056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571B-5FEF-4A6F-9C25-CDCA389C6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5160-83F4-4AC9-94FF-13E3D010F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A50D-25F3-4DE0-904B-BE4896B50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C72A-C8CA-49F1-96E9-7A5F9ADF2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25B6-C26E-4E22-BEBB-454461C24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6ABE-59C6-4704-AD6B-F9E99D7D7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32EF-37A0-44E5-9C4F-9BA6EEB26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19280" y="274320"/>
            <a:ext cx="6337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EA6E-CD48-4BC4-98FC-1E3CAC6DC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5BCA-E224-4C8D-A7FC-511CF1C8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76F1-40BB-46EE-BAEE-C5BD3D1E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3FFC-C700-4F1D-867B-34055A70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4BB35-1B6B-4C8F-AA4D-AF150D202AA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69960" cy="17953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010360" y="0"/>
            <a:ext cx="1133640" cy="114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lri.fr/Rapports-internes/2006/RR1434.pdf" TargetMode="External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oftware Testing based on Labelled Transition Systems with I/O and then data typ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SE, Recif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A666-2817-4A17-BB52-D3234BCE7FC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pecificities of IO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904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ctions are divided into 2 sets: A set of input actions and a set of output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nput actions synchronise with output actions and vice ver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« Input enabled » : Inputs cannot be refused =&gt;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There is no more notion of dead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« Quiescent » state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he system remains idle until some input ar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227040" y="3429000"/>
            <a:ext cx="4850280" cy="1810800"/>
            <a:chOff x="3227040" y="3429000"/>
            <a:chExt cx="4850280" cy="1810800"/>
          </a:xfrm>
        </p:grpSpPr>
        <p:grpSp>
          <p:nvGrpSpPr>
            <p:cNvPr id="125" name=""/>
            <p:cNvGrpSpPr/>
            <p:nvPr/>
          </p:nvGrpSpPr>
          <p:grpSpPr>
            <a:xfrm>
              <a:off x="3227040" y="4129920"/>
              <a:ext cx="1318680" cy="1109880"/>
              <a:chOff x="3227040" y="4129920"/>
              <a:chExt cx="1318680" cy="1109880"/>
            </a:xfrm>
          </p:grpSpPr>
          <p:sp>
            <p:nvSpPr>
              <p:cNvPr id="126" name=""/>
              <p:cNvSpPr/>
              <p:nvPr/>
            </p:nvSpPr>
            <p:spPr>
              <a:xfrm>
                <a:off x="3588840" y="4164120"/>
                <a:ext cx="956880" cy="1075680"/>
              </a:xfrm>
              <a:custGeom>
                <a:avLst/>
                <a:gdLst/>
                <a:ahLst/>
                <a:rect l="l" t="t" r="r" b="b"/>
                <a:pathLst>
                  <a:path w="438" h="492">
                    <a:moveTo>
                      <a:pt x="114" y="42"/>
                    </a:moveTo>
                    <a:cubicBezTo>
                      <a:pt x="159" y="36"/>
                      <a:pt x="178" y="32"/>
                      <a:pt x="210" y="0"/>
                    </a:cubicBezTo>
                    <a:cubicBezTo>
                      <a:pt x="224" y="2"/>
                      <a:pt x="238" y="2"/>
                      <a:pt x="252" y="6"/>
                    </a:cubicBezTo>
                    <a:cubicBezTo>
                      <a:pt x="262" y="9"/>
                      <a:pt x="283" y="29"/>
                      <a:pt x="288" y="36"/>
                    </a:cubicBezTo>
                    <a:cubicBezTo>
                      <a:pt x="318" y="75"/>
                      <a:pt x="346" y="135"/>
                      <a:pt x="366" y="180"/>
                    </a:cubicBezTo>
                    <a:cubicBezTo>
                      <a:pt x="374" y="197"/>
                      <a:pt x="373" y="218"/>
                      <a:pt x="384" y="234"/>
                    </a:cubicBezTo>
                    <a:cubicBezTo>
                      <a:pt x="400" y="257"/>
                      <a:pt x="415" y="281"/>
                      <a:pt x="426" y="306"/>
                    </a:cubicBezTo>
                    <a:cubicBezTo>
                      <a:pt x="431" y="318"/>
                      <a:pt x="438" y="342"/>
                      <a:pt x="438" y="342"/>
                    </a:cubicBezTo>
                    <a:cubicBezTo>
                      <a:pt x="436" y="352"/>
                      <a:pt x="437" y="363"/>
                      <a:pt x="432" y="372"/>
                    </a:cubicBezTo>
                    <a:cubicBezTo>
                      <a:pt x="421" y="391"/>
                      <a:pt x="360" y="401"/>
                      <a:pt x="336" y="408"/>
                    </a:cubicBezTo>
                    <a:cubicBezTo>
                      <a:pt x="246" y="435"/>
                      <a:pt x="159" y="477"/>
                      <a:pt x="66" y="492"/>
                    </a:cubicBezTo>
                    <a:cubicBezTo>
                      <a:pt x="58" y="490"/>
                      <a:pt x="49" y="491"/>
                      <a:pt x="42" y="486"/>
                    </a:cubicBezTo>
                    <a:cubicBezTo>
                      <a:pt x="16" y="469"/>
                      <a:pt x="14" y="413"/>
                      <a:pt x="0" y="384"/>
                    </a:cubicBezTo>
                  </a:path>
                </a:pathLst>
              </a:custGeom>
              <a:solidFill>
                <a:srgbClr val="bbe0e3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227040" y="4129920"/>
                <a:ext cx="985680" cy="985680"/>
                <a:chOff x="3227040" y="4129920"/>
                <a:chExt cx="985680" cy="985680"/>
              </a:xfrm>
            </p:grpSpPr>
            <p:sp>
              <p:nvSpPr>
                <p:cNvPr id="128" name=""/>
                <p:cNvSpPr/>
                <p:nvPr/>
              </p:nvSpPr>
              <p:spPr>
                <a:xfrm rot="1598400">
                  <a:off x="3352680" y="4255200"/>
                  <a:ext cx="734040" cy="734400"/>
                </a:xfrm>
                <a:prstGeom prst="ellipse">
                  <a:avLst/>
                </a:prstGeom>
                <a:solidFill>
                  <a:srgbClr val="cccc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rot="17798400">
                  <a:off x="3573720" y="4353120"/>
                  <a:ext cx="104400" cy="209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rot="17798400">
                  <a:off x="3855240" y="4494240"/>
                  <a:ext cx="104400" cy="209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508560" y="4693320"/>
                  <a:ext cx="280800" cy="140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2" name=""/>
            <p:cNvSpPr/>
            <p:nvPr/>
          </p:nvSpPr>
          <p:spPr>
            <a:xfrm>
              <a:off x="3878280" y="3429000"/>
              <a:ext cx="4199040" cy="839880"/>
            </a:xfrm>
            <a:prstGeom prst="wedgeEllipseCallout">
              <a:avLst>
                <a:gd name="adj1" fmla="val -46875"/>
                <a:gd name="adj2" fmla="val 5494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4419720" y="3505320"/>
            <a:ext cx="325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ntil I receive some input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 do not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960480" y="3933720"/>
            <a:ext cx="1523520" cy="1160640"/>
            <a:chOff x="960480" y="3933720"/>
            <a:chExt cx="1523520" cy="1160640"/>
          </a:xfrm>
        </p:grpSpPr>
        <p:sp>
          <p:nvSpPr>
            <p:cNvPr id="135" name=""/>
            <p:cNvSpPr/>
            <p:nvPr/>
          </p:nvSpPr>
          <p:spPr>
            <a:xfrm>
              <a:off x="960480" y="4406760"/>
              <a:ext cx="304560" cy="304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1188720" y="3949560"/>
              <a:ext cx="9903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65040" y="46353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65040" y="4253760"/>
              <a:ext cx="12189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188720" y="4711320"/>
              <a:ext cx="11426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56760" y="3933720"/>
              <a:ext cx="406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08720" y="400968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99800" y="4314600"/>
              <a:ext cx="406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85040" y="469548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SE, Recif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168E-481A-4040-8A96-75C8D1478F0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deling quiesc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“special virtual action”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corresponds to the fact that no output action is fire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tion of suspension traces (S-Traces): Usual traces + traces with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(i.e. including periods of inactivit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27480" y="3759120"/>
            <a:ext cx="990720" cy="76320"/>
          </a:xfrm>
          <a:prstGeom prst="rightArrow">
            <a:avLst>
              <a:gd name="adj1" fmla="val 50000"/>
              <a:gd name="adj2" fmla="val 3245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641840" y="34434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45040" y="3759120"/>
            <a:ext cx="8244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218200" y="3240000"/>
            <a:ext cx="990360" cy="1116000"/>
            <a:chOff x="5218200" y="3240000"/>
            <a:chExt cx="990360" cy="1116000"/>
          </a:xfrm>
        </p:grpSpPr>
        <p:sp>
          <p:nvSpPr>
            <p:cNvPr id="150" name=""/>
            <p:cNvSpPr/>
            <p:nvPr/>
          </p:nvSpPr>
          <p:spPr>
            <a:xfrm rot="20078400">
              <a:off x="5217840" y="3530160"/>
              <a:ext cx="990360" cy="76320"/>
            </a:xfrm>
            <a:prstGeom prst="rightArrow">
              <a:avLst>
                <a:gd name="adj1" fmla="val 50000"/>
                <a:gd name="adj2" fmla="val 32441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554600">
              <a:off x="5218200" y="3987720"/>
              <a:ext cx="990360" cy="76320"/>
            </a:xfrm>
            <a:prstGeom prst="rightArrow">
              <a:avLst>
                <a:gd name="adj1" fmla="val 50000"/>
                <a:gd name="adj2" fmla="val 32441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67320" y="324000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b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466960" y="398772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c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218200" y="3759120"/>
              <a:ext cx="8244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126120" y="3301920"/>
              <a:ext cx="8244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126120" y="4216320"/>
              <a:ext cx="8244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02080" y="270828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Quiescent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5218200" y="2997360"/>
            <a:ext cx="43344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3567240" y="3835440"/>
            <a:ext cx="577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10560" y="414036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ot quiescent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970520" y="3835440"/>
            <a:ext cx="495360" cy="457200"/>
          </a:xfrm>
          <a:custGeom>
            <a:avLst/>
            <a:gdLst>
              <a:gd name="textAreaLeft" fmla="*/ 0 w 495360"/>
              <a:gd name="textAreaRight" fmla="*/ 495720 w 4953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12150" y="20610"/>
                </a:moveTo>
                <a:arcTo wR="-9902" hR="-9902" stAng="4929868" swAng="-19965179"/>
                <a:lnTo>
                  <a:pt x="14389" y="614"/>
                </a:lnTo>
                <a:arcTo wR="10800" hR="10800" stAng="-4235311" swAng="19965179"/>
                <a:lnTo>
                  <a:pt x="8960" y="-2574"/>
                </a:lnTo>
                <a:lnTo>
                  <a:pt x="12508" y="116"/>
                </a:lnTo>
                <a:lnTo>
                  <a:pt x="9818" y="3665"/>
                </a:lnTo>
                <a:close/>
              </a:path>
            </a:pathLst>
          </a:custGeom>
          <a:solidFill>
            <a:srgbClr val="bbe0e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06360" y="4114800"/>
            <a:ext cx="30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20078400">
            <a:off x="4066920" y="3541320"/>
            <a:ext cx="990360" cy="76320"/>
          </a:xfrm>
          <a:prstGeom prst="rightArrow">
            <a:avLst>
              <a:gd name="adj1" fmla="val 50000"/>
              <a:gd name="adj2" fmla="val 3244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2695200">
            <a:off x="3995640" y="4149360"/>
            <a:ext cx="990720" cy="76320"/>
          </a:xfrm>
          <a:prstGeom prst="rightArrow">
            <a:avLst>
              <a:gd name="adj1" fmla="val 50000"/>
              <a:gd name="adj2" fmla="val 3245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16400" y="325116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16040" y="386064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67280" y="3770280"/>
            <a:ext cx="8244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75200" y="3313080"/>
            <a:ext cx="8244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788000" y="4508640"/>
            <a:ext cx="8244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SE, Recif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00EC-4833-45A7-8E40-EABC394F925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at must be test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6348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« ioco » conformance relation by Tretmans [55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Straces(SP), out( I after </a:t>
            </a:r>
            <a:r>
              <a:rPr b="1" i="1" lang="en-GB" sz="24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0" i="1" lang="en-GB" sz="24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out( SP after </a:t>
            </a:r>
            <a:r>
              <a:rPr b="1" i="1" lang="en-GB" sz="24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P: specification 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, I: Implementation 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O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After any S-trace of the specification, the set of output actions of the implementation must be included in the set of output actions of the specification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us, the implementation can be more deterministic than the specif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to ensure testability, the determinism of the implementation must be « balanced » 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complete testing assumption”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test quiescence,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considered as an output action. Its “mirror” input action is … a time-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SE, Recif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9E68-28DF-4F20-BA45-7B90E716943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n exhaustive test set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[LG 02]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634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sed on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oc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the input enabled hypothesis, we defined the reduced test s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exhaust’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ioc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verdict of a test execution is: If the implementation blocks before the end of the test then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ucces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els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r, if the implementation blocks before the end of </a:t>
            </a:r>
            <a:r>
              <a:rPr b="1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nconclusiv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if it blocks at the end of </a:t>
            </a:r>
            <a:r>
              <a:rPr b="1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ten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ucces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els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24000" y="2514240"/>
            <a:ext cx="8828640" cy="2133720"/>
            <a:chOff x="324000" y="2514240"/>
            <a:chExt cx="8828640" cy="2133720"/>
          </a:xfrm>
        </p:grpSpPr>
        <p:sp>
          <p:nvSpPr>
            <p:cNvPr id="175" name=""/>
            <p:cNvSpPr/>
            <p:nvPr/>
          </p:nvSpPr>
          <p:spPr>
            <a:xfrm>
              <a:off x="7091280" y="2666880"/>
              <a:ext cx="2061360" cy="8989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Where the a</a:t>
              </a:r>
              <a:r>
                <a:rPr b="0" lang="en-GB" sz="1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are th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forbidden ac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after</a:t>
              </a: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223360" y="4076640"/>
              <a:ext cx="157536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Strace(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324000" y="2514600"/>
              <a:ext cx="6354720" cy="2057400"/>
              <a:chOff x="324000" y="2514600"/>
              <a:chExt cx="6354720" cy="2057400"/>
            </a:xfrm>
          </p:grpSpPr>
          <p:sp>
            <p:nvSpPr>
              <p:cNvPr id="178" name=""/>
              <p:cNvSpPr/>
              <p:nvPr/>
            </p:nvSpPr>
            <p:spPr>
              <a:xfrm>
                <a:off x="5441400" y="3505320"/>
                <a:ext cx="82080" cy="759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9" name=""/>
              <p:cNvGrpSpPr/>
              <p:nvPr/>
            </p:nvGrpSpPr>
            <p:grpSpPr>
              <a:xfrm>
                <a:off x="324000" y="2514600"/>
                <a:ext cx="6354720" cy="2057400"/>
                <a:chOff x="324000" y="2514600"/>
                <a:chExt cx="6354720" cy="205740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324000" y="3505320"/>
                  <a:ext cx="82440" cy="7596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1" name=""/>
                <p:cNvGrpSpPr/>
                <p:nvPr/>
              </p:nvGrpSpPr>
              <p:grpSpPr>
                <a:xfrm>
                  <a:off x="406440" y="2514600"/>
                  <a:ext cx="6272280" cy="2057400"/>
                  <a:chOff x="406440" y="2514600"/>
                  <a:chExt cx="6272280" cy="2057400"/>
                </a:xfrm>
              </p:grpSpPr>
              <p:grpSp>
                <p:nvGrpSpPr>
                  <p:cNvPr id="182" name=""/>
                  <p:cNvGrpSpPr/>
                  <p:nvPr/>
                </p:nvGrpSpPr>
                <p:grpSpPr>
                  <a:xfrm>
                    <a:off x="406440" y="3276720"/>
                    <a:ext cx="5033520" cy="459720"/>
                    <a:chOff x="406440" y="3276720"/>
                    <a:chExt cx="5033520" cy="459720"/>
                  </a:xfrm>
                </p:grpSpPr>
                <p:sp>
                  <p:nvSpPr>
                    <p:cNvPr id="183" name=""/>
                    <p:cNvSpPr/>
                    <p:nvPr/>
                  </p:nvSpPr>
                  <p:spPr>
                    <a:xfrm>
                      <a:off x="406440" y="3505320"/>
                      <a:ext cx="1072800" cy="76320"/>
                    </a:xfrm>
                    <a:prstGeom prst="rightArrow">
                      <a:avLst>
                        <a:gd name="adj1" fmla="val 50000"/>
                        <a:gd name="adj2" fmla="val 351415"/>
                      </a:avLst>
                    </a:prstGeom>
                    <a:solidFill>
                      <a:srgbClr val="bbe0e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640" bIns="-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84" name=""/>
                    <p:cNvGrpSpPr/>
                    <p:nvPr/>
                  </p:nvGrpSpPr>
                  <p:grpSpPr>
                    <a:xfrm>
                      <a:off x="1479240" y="3505320"/>
                      <a:ext cx="1154880" cy="76320"/>
                      <a:chOff x="1479240" y="3505320"/>
                      <a:chExt cx="1154880" cy="76320"/>
                    </a:xfrm>
                  </p:grpSpPr>
                  <p:sp>
                    <p:nvSpPr>
                      <p:cNvPr id="185" name=""/>
                      <p:cNvSpPr/>
                      <p:nvPr/>
                    </p:nvSpPr>
                    <p:spPr>
                      <a:xfrm>
                        <a:off x="1561320" y="3505320"/>
                        <a:ext cx="1072800" cy="76320"/>
                      </a:xfrm>
                      <a:prstGeom prst="rightArrow">
                        <a:avLst>
                          <a:gd name="adj1" fmla="val 50000"/>
                          <a:gd name="adj2" fmla="val 351415"/>
                        </a:avLst>
                      </a:prstGeom>
                      <a:solidFill>
                        <a:srgbClr val="bbe0e3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8640" bIns="-864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6" name=""/>
                      <p:cNvSpPr/>
                      <p:nvPr/>
                    </p:nvSpPr>
                    <p:spPr>
                      <a:xfrm>
                        <a:off x="1479240" y="3505320"/>
                        <a:ext cx="82080" cy="76320"/>
                      </a:xfrm>
                      <a:prstGeom prst="ellipse">
                        <a:avLst/>
                      </a:prstGeom>
                      <a:solidFill>
                        <a:srgbClr val="bbe0e3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0" bIns="7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7" name=""/>
                    <p:cNvGrpSpPr/>
                    <p:nvPr/>
                  </p:nvGrpSpPr>
                  <p:grpSpPr>
                    <a:xfrm>
                      <a:off x="3129840" y="3505320"/>
                      <a:ext cx="2310120" cy="76320"/>
                      <a:chOff x="3129840" y="3505320"/>
                      <a:chExt cx="2310120" cy="76320"/>
                    </a:xfrm>
                  </p:grpSpPr>
                  <p:grpSp>
                    <p:nvGrpSpPr>
                      <p:cNvPr id="188" name=""/>
                      <p:cNvGrpSpPr/>
                      <p:nvPr/>
                    </p:nvGrpSpPr>
                    <p:grpSpPr>
                      <a:xfrm>
                        <a:off x="3129840" y="3505320"/>
                        <a:ext cx="1154520" cy="76320"/>
                        <a:chOff x="3129840" y="3505320"/>
                        <a:chExt cx="1154520" cy="76320"/>
                      </a:xfrm>
                    </p:grpSpPr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>
                          <a:off x="3211920" y="3505320"/>
                          <a:ext cx="1072440" cy="76320"/>
                        </a:xfrm>
                        <a:prstGeom prst="rightArrow">
                          <a:avLst>
                            <a:gd name="adj1" fmla="val 50000"/>
                            <a:gd name="adj2" fmla="val 351297"/>
                          </a:avLst>
                        </a:prstGeom>
                        <a:solidFill>
                          <a:srgbClr val="bbe0e3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8640" bIns="-864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>
                          <a:off x="3129840" y="3505320"/>
                          <a:ext cx="82080" cy="76320"/>
                        </a:xfrm>
                        <a:prstGeom prst="ellipse">
                          <a:avLst/>
                        </a:prstGeom>
                        <a:solidFill>
                          <a:srgbClr val="bbe0e3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7200" bIns="7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1" name=""/>
                      <p:cNvGrpSpPr/>
                      <p:nvPr/>
                    </p:nvGrpSpPr>
                    <p:grpSpPr>
                      <a:xfrm>
                        <a:off x="4284720" y="3505320"/>
                        <a:ext cx="1155240" cy="76320"/>
                        <a:chOff x="4284720" y="3505320"/>
                        <a:chExt cx="1155240" cy="76320"/>
                      </a:xfrm>
                    </p:grpSpPr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>
                          <a:off x="4366800" y="3505320"/>
                          <a:ext cx="1073160" cy="76320"/>
                        </a:xfrm>
                        <a:prstGeom prst="rightArrow">
                          <a:avLst>
                            <a:gd name="adj1" fmla="val 50000"/>
                            <a:gd name="adj2" fmla="val 351533"/>
                          </a:avLst>
                        </a:prstGeom>
                        <a:solidFill>
                          <a:srgbClr val="bbe0e3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8640" bIns="-864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>
                          <a:off x="4284720" y="3505320"/>
                          <a:ext cx="82080" cy="76320"/>
                        </a:xfrm>
                        <a:prstGeom prst="ellipse">
                          <a:avLst/>
                        </a:prstGeom>
                        <a:solidFill>
                          <a:srgbClr val="bbe0e3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7200" bIns="7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2684160" y="3276720"/>
                      <a:ext cx="40932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5" name=""/>
                  <p:cNvSpPr/>
                  <p:nvPr/>
                </p:nvSpPr>
                <p:spPr>
                  <a:xfrm>
                    <a:off x="5523120" y="3505320"/>
                    <a:ext cx="1072800" cy="76320"/>
                  </a:xfrm>
                  <a:prstGeom prst="rightArrow">
                    <a:avLst>
                      <a:gd name="adj1" fmla="val 50000"/>
                      <a:gd name="adj2" fmla="val 351415"/>
                    </a:avLst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rot="3990600">
                    <a:off x="5234040" y="4035600"/>
                    <a:ext cx="990360" cy="82080"/>
                  </a:xfrm>
                  <a:prstGeom prst="rightArrow">
                    <a:avLst>
                      <a:gd name="adj1" fmla="val 50000"/>
                      <a:gd name="adj2" fmla="val 301645"/>
                    </a:avLst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 rot="1891200">
                    <a:off x="5441040" y="3810240"/>
                    <a:ext cx="1072440" cy="75960"/>
                  </a:xfrm>
                  <a:prstGeom prst="rightArrow">
                    <a:avLst>
                      <a:gd name="adj1" fmla="val 50000"/>
                      <a:gd name="adj2" fmla="val 352962"/>
                    </a:avLst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 rot="17651400">
                    <a:off x="5233680" y="2968920"/>
                    <a:ext cx="990720" cy="82080"/>
                  </a:xfrm>
                  <a:prstGeom prst="rightArrow">
                    <a:avLst>
                      <a:gd name="adj1" fmla="val 50000"/>
                      <a:gd name="adj2" fmla="val 301754"/>
                    </a:avLst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rot="19726200">
                    <a:off x="5441040" y="3200040"/>
                    <a:ext cx="1072440" cy="76320"/>
                  </a:xfrm>
                  <a:prstGeom prst="rightArrow">
                    <a:avLst>
                      <a:gd name="adj1" fmla="val 50000"/>
                      <a:gd name="adj2" fmla="val 351297"/>
                    </a:avLst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6431400" y="2895840"/>
                    <a:ext cx="82080" cy="7596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6596280" y="3505320"/>
                    <a:ext cx="82440" cy="7632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6431400" y="4114800"/>
                    <a:ext cx="82080" cy="7632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5936040" y="2514600"/>
                    <a:ext cx="82080" cy="7632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5936040" y="4496040"/>
                    <a:ext cx="82080" cy="7596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05" name=""/>
            <p:cNvGrpSpPr/>
            <p:nvPr/>
          </p:nvGrpSpPr>
          <p:grpSpPr>
            <a:xfrm>
              <a:off x="405720" y="3581640"/>
              <a:ext cx="4953240" cy="608760"/>
              <a:chOff x="405720" y="3581640"/>
              <a:chExt cx="4953240" cy="608760"/>
            </a:xfrm>
          </p:grpSpPr>
          <p:sp>
            <p:nvSpPr>
              <p:cNvPr id="206" name=""/>
              <p:cNvSpPr/>
              <p:nvPr/>
            </p:nvSpPr>
            <p:spPr>
              <a:xfrm>
                <a:off x="571320" y="3886200"/>
                <a:ext cx="2228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635200" y="3886200"/>
                <a:ext cx="32904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078360" y="3886200"/>
                <a:ext cx="2115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10809000">
                <a:off x="406080" y="3581640"/>
                <a:ext cx="32976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5409000">
                <a:off x="5041800" y="3569040"/>
                <a:ext cx="303840" cy="32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16200000">
                <a:off x="2977560" y="3873240"/>
                <a:ext cx="303840" cy="32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6680520" y="2514240"/>
              <a:ext cx="327960" cy="2133720"/>
              <a:chOff x="6680520" y="2514240"/>
              <a:chExt cx="327960" cy="2133720"/>
            </a:xfrm>
          </p:grpSpPr>
          <p:sp>
            <p:nvSpPr>
              <p:cNvPr id="213" name=""/>
              <p:cNvSpPr/>
              <p:nvPr/>
            </p:nvSpPr>
            <p:spPr>
              <a:xfrm flipV="1">
                <a:off x="6844680" y="3616920"/>
                <a:ext cx="0" cy="96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16200000">
                <a:off x="6855840" y="3534480"/>
                <a:ext cx="141120" cy="163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V="1">
                <a:off x="6844680" y="2585520"/>
                <a:ext cx="0" cy="9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409000">
                <a:off x="6692040" y="4494960"/>
                <a:ext cx="141120" cy="163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9000">
                <a:off x="6680520" y="2514240"/>
                <a:ext cx="163440" cy="14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10800000">
                <a:off x="6845040" y="3404160"/>
                <a:ext cx="163440" cy="14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9" name=""/>
            <p:cNvSpPr/>
            <p:nvPr/>
          </p:nvSpPr>
          <p:spPr>
            <a:xfrm>
              <a:off x="5447520" y="2514600"/>
              <a:ext cx="362160" cy="405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GB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942880" y="2666880"/>
              <a:ext cx="362160" cy="405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GB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025320" y="3200400"/>
              <a:ext cx="362160" cy="405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GB" sz="1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190560" y="3657600"/>
              <a:ext cx="362160" cy="405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GB" sz="1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31040" y="4114800"/>
              <a:ext cx="368280" cy="405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GB" sz="1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855760" y="3886200"/>
              <a:ext cx="409320" cy="459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SE, Recif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DCA0-9F3A-46DA-9BC1-F880134B9FF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Intu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fter every correct behaviour, the tester tries to provoke a forbidden output, (or a forbidden quiesc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=&gt; there is a failure only if such an output/quiescence takes 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irectly inspired from the definition d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ioc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no mandatory output/quiescence, just forbidden one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 needs to test inputs… They are enabled by hypoth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7164360" y="2492280"/>
          <a:ext cx="890640" cy="5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4360" y="2492280"/>
                    <a:ext cx="89064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SE, Recif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181A-8BB5-4540-AD6E-E8C95F1BC6D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estability hypothe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634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SUT behaves like an IOTS with same alphabets I and O  as the specification 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ame </a:t>
            </a:r>
            <a:r>
              <a:rPr b="0" lang="en-GB" sz="2400" spc="-1" strike="noStrike">
                <a:solidFill>
                  <a:srgbClr val="009999"/>
                </a:solidFill>
                <a:latin typeface="Times New Roman"/>
              </a:rPr>
              <a:t>atomic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Quiescence is </a:t>
            </a:r>
            <a:r>
              <a:rPr b="0" lang="en-GB" sz="2800" spc="-1" strike="noStrike">
                <a:solidFill>
                  <a:srgbClr val="009999"/>
                </a:solidFill>
                <a:latin typeface="Times New Roman"/>
              </a:rPr>
              <a:t>detectabl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by « time-out 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re is an upper bound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lang="en-GB" sz="2800" spc="-1" strike="noStrike">
                <a:solidFill>
                  <a:srgbClr val="009999"/>
                </a:solidFill>
                <a:latin typeface="Times New Roman"/>
              </a:rPr>
              <a:t>number of experiment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needed to decide whether a test based on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success (complete testing assump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re is a reliable </a:t>
            </a:r>
            <a:r>
              <a:rPr b="0" lang="en-GB" sz="2800" spc="-1" strike="noStrike">
                <a:solidFill>
                  <a:srgbClr val="009999"/>
                </a:solidFill>
                <a:latin typeface="Times New Roman"/>
              </a:rPr>
              <a:t>rese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procedure for the S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of in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LG 02]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at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Testability Hypotheses </a:t>
            </a:r>
            <a:r>
              <a:rPr b="0" i="1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 ( I passes exhaustive’</a:t>
            </a:r>
            <a:r>
              <a:rPr b="0" i="1" lang="fr-FR" sz="2800" spc="-1" strike="noStrike" baseline="-25000">
                <a:solidFill>
                  <a:srgbClr val="000000"/>
                </a:solidFill>
                <a:latin typeface="Times New Roman"/>
              </a:rPr>
              <a:t>ioco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(S) </a:t>
            </a:r>
            <a:r>
              <a:rPr b="0" i="1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 I ioco 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SE, Recif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EB15-5EA7-4155-912B-DB37549CE6F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2685960" y="3770280"/>
            <a:ext cx="762120" cy="761760"/>
            <a:chOff x="2685960" y="3770280"/>
            <a:chExt cx="762120" cy="761760"/>
          </a:xfrm>
        </p:grpSpPr>
        <p:sp>
          <p:nvSpPr>
            <p:cNvPr id="233" name=""/>
            <p:cNvSpPr/>
            <p:nvPr/>
          </p:nvSpPr>
          <p:spPr>
            <a:xfrm>
              <a:off x="2685960" y="3770280"/>
              <a:ext cx="762120" cy="761760"/>
            </a:xfrm>
            <a:prstGeom prst="ellipse">
              <a:avLst/>
            </a:prstGeom>
            <a:solidFill>
              <a:srgbClr val="f8d1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838600" y="3998880"/>
              <a:ext cx="228600" cy="228600"/>
            </a:xfrm>
            <a:prstGeom prst="ellipse">
              <a:avLst/>
            </a:prstGeom>
            <a:solidFill>
              <a:srgbClr val="f8d1aa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219480" y="3846240"/>
              <a:ext cx="228600" cy="228600"/>
            </a:xfrm>
            <a:prstGeom prst="ellipse">
              <a:avLst/>
            </a:prstGeom>
            <a:solidFill>
              <a:srgbClr val="f8d1aa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3066840" y="3998880"/>
              <a:ext cx="15228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 flipV="1">
              <a:off x="2685960" y="4074840"/>
              <a:ext cx="15264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 rot="5400000">
              <a:off x="3066840" y="4168800"/>
              <a:ext cx="266760" cy="76320"/>
            </a:xfrm>
            <a:custGeom>
              <a:avLst/>
              <a:gdLst/>
              <a:ahLst/>
              <a:rect l="l" t="t" r="r" b="b"/>
              <a:pathLst>
                <a:path w="168" h="48">
                  <a:moveTo>
                    <a:pt x="0" y="0"/>
                  </a:moveTo>
                  <a:cubicBezTo>
                    <a:pt x="60" y="24"/>
                    <a:pt x="120" y="48"/>
                    <a:pt x="144" y="48"/>
                  </a:cubicBezTo>
                  <a:cubicBezTo>
                    <a:pt x="168" y="48"/>
                    <a:pt x="144" y="16"/>
                    <a:pt x="144" y="0"/>
                  </a:cubicBezTo>
                </a:path>
              </a:pathLst>
            </a:custGeom>
            <a:solidFill>
              <a:srgbClr val="f8d1aa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067200" y="4303440"/>
              <a:ext cx="304560" cy="177840"/>
            </a:xfrm>
            <a:custGeom>
              <a:avLst/>
              <a:gdLst/>
              <a:ahLst/>
              <a:rect l="l" t="t" r="r" b="b"/>
              <a:pathLst>
                <a:path w="192" h="112">
                  <a:moveTo>
                    <a:pt x="0" y="96"/>
                  </a:moveTo>
                  <a:cubicBezTo>
                    <a:pt x="8" y="104"/>
                    <a:pt x="16" y="112"/>
                    <a:pt x="48" y="96"/>
                  </a:cubicBezTo>
                  <a:cubicBezTo>
                    <a:pt x="80" y="80"/>
                    <a:pt x="136" y="40"/>
                    <a:pt x="192" y="0"/>
                  </a:cubicBezTo>
                </a:path>
              </a:pathLst>
            </a:custGeom>
            <a:solidFill>
              <a:srgbClr val="f8d1aa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5757840" y="3389400"/>
            <a:ext cx="1042920" cy="990000"/>
            <a:chOff x="5757840" y="3389400"/>
            <a:chExt cx="1042920" cy="990000"/>
          </a:xfrm>
        </p:grpSpPr>
        <p:sp>
          <p:nvSpPr>
            <p:cNvPr id="241" name=""/>
            <p:cNvSpPr/>
            <p:nvPr/>
          </p:nvSpPr>
          <p:spPr>
            <a:xfrm>
              <a:off x="5757840" y="3465360"/>
              <a:ext cx="990360" cy="914040"/>
            </a:xfrm>
            <a:prstGeom prst="ellipse">
              <a:avLst/>
            </a:prstGeom>
            <a:solidFill>
              <a:srgbClr val="f8d1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833800" y="3922560"/>
              <a:ext cx="705960" cy="380520"/>
            </a:xfrm>
            <a:custGeom>
              <a:avLst/>
              <a:gdLst/>
              <a:ahLst/>
              <a:rect l="l" t="t" r="r" b="b"/>
              <a:pathLst>
                <a:path w="445" h="240">
                  <a:moveTo>
                    <a:pt x="0" y="0"/>
                  </a:moveTo>
                  <a:cubicBezTo>
                    <a:pt x="4" y="56"/>
                    <a:pt x="10" y="106"/>
                    <a:pt x="48" y="144"/>
                  </a:cubicBezTo>
                  <a:cubicBezTo>
                    <a:pt x="86" y="182"/>
                    <a:pt x="173" y="218"/>
                    <a:pt x="225" y="229"/>
                  </a:cubicBezTo>
                  <a:cubicBezTo>
                    <a:pt x="277" y="240"/>
                    <a:pt x="322" y="227"/>
                    <a:pt x="359" y="209"/>
                  </a:cubicBezTo>
                  <a:cubicBezTo>
                    <a:pt x="396" y="191"/>
                    <a:pt x="427" y="141"/>
                    <a:pt x="445" y="123"/>
                  </a:cubicBezTo>
                </a:path>
              </a:pathLst>
            </a:custGeom>
            <a:noFill/>
            <a:ln w="158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57840" y="3389400"/>
              <a:ext cx="1042920" cy="601200"/>
            </a:xfrm>
            <a:custGeom>
              <a:avLst/>
              <a:gdLst/>
              <a:ahLst/>
              <a:rect l="l" t="t" r="r" b="b"/>
              <a:pathLst>
                <a:path w="657" h="379">
                  <a:moveTo>
                    <a:pt x="0" y="99"/>
                  </a:moveTo>
                  <a:cubicBezTo>
                    <a:pt x="12" y="135"/>
                    <a:pt x="24" y="141"/>
                    <a:pt x="60" y="152"/>
                  </a:cubicBezTo>
                  <a:cubicBezTo>
                    <a:pt x="124" y="132"/>
                    <a:pt x="71" y="80"/>
                    <a:pt x="134" y="59"/>
                  </a:cubicBezTo>
                  <a:cubicBezTo>
                    <a:pt x="147" y="103"/>
                    <a:pt x="142" y="96"/>
                    <a:pt x="194" y="119"/>
                  </a:cubicBezTo>
                  <a:cubicBezTo>
                    <a:pt x="221" y="109"/>
                    <a:pt x="217" y="95"/>
                    <a:pt x="234" y="72"/>
                  </a:cubicBezTo>
                  <a:cubicBezTo>
                    <a:pt x="225" y="0"/>
                    <a:pt x="232" y="2"/>
                    <a:pt x="167" y="12"/>
                  </a:cubicBezTo>
                  <a:cubicBezTo>
                    <a:pt x="126" y="55"/>
                    <a:pt x="186" y="111"/>
                    <a:pt x="227" y="126"/>
                  </a:cubicBezTo>
                  <a:cubicBezTo>
                    <a:pt x="262" y="113"/>
                    <a:pt x="255" y="80"/>
                    <a:pt x="260" y="46"/>
                  </a:cubicBezTo>
                  <a:cubicBezTo>
                    <a:pt x="271" y="48"/>
                    <a:pt x="283" y="47"/>
                    <a:pt x="294" y="52"/>
                  </a:cubicBezTo>
                  <a:cubicBezTo>
                    <a:pt x="299" y="54"/>
                    <a:pt x="300" y="64"/>
                    <a:pt x="307" y="66"/>
                  </a:cubicBezTo>
                  <a:cubicBezTo>
                    <a:pt x="316" y="68"/>
                    <a:pt x="341" y="49"/>
                    <a:pt x="347" y="46"/>
                  </a:cubicBezTo>
                  <a:cubicBezTo>
                    <a:pt x="364" y="80"/>
                    <a:pt x="371" y="114"/>
                    <a:pt x="380" y="152"/>
                  </a:cubicBezTo>
                  <a:cubicBezTo>
                    <a:pt x="414" y="117"/>
                    <a:pt x="459" y="101"/>
                    <a:pt x="487" y="59"/>
                  </a:cubicBezTo>
                  <a:cubicBezTo>
                    <a:pt x="453" y="33"/>
                    <a:pt x="428" y="26"/>
                    <a:pt x="387" y="19"/>
                  </a:cubicBezTo>
                  <a:cubicBezTo>
                    <a:pt x="342" y="22"/>
                    <a:pt x="276" y="4"/>
                    <a:pt x="260" y="52"/>
                  </a:cubicBezTo>
                  <a:cubicBezTo>
                    <a:pt x="280" y="72"/>
                    <a:pt x="304" y="87"/>
                    <a:pt x="327" y="106"/>
                  </a:cubicBezTo>
                  <a:cubicBezTo>
                    <a:pt x="351" y="101"/>
                    <a:pt x="376" y="101"/>
                    <a:pt x="400" y="92"/>
                  </a:cubicBezTo>
                  <a:cubicBezTo>
                    <a:pt x="407" y="89"/>
                    <a:pt x="407" y="76"/>
                    <a:pt x="414" y="72"/>
                  </a:cubicBezTo>
                  <a:cubicBezTo>
                    <a:pt x="419" y="67"/>
                    <a:pt x="427" y="68"/>
                    <a:pt x="434" y="66"/>
                  </a:cubicBezTo>
                  <a:cubicBezTo>
                    <a:pt x="442" y="70"/>
                    <a:pt x="451" y="75"/>
                    <a:pt x="460" y="79"/>
                  </a:cubicBezTo>
                  <a:cubicBezTo>
                    <a:pt x="466" y="81"/>
                    <a:pt x="475" y="80"/>
                    <a:pt x="480" y="86"/>
                  </a:cubicBezTo>
                  <a:cubicBezTo>
                    <a:pt x="488" y="97"/>
                    <a:pt x="494" y="126"/>
                    <a:pt x="494" y="126"/>
                  </a:cubicBezTo>
                  <a:cubicBezTo>
                    <a:pt x="461" y="147"/>
                    <a:pt x="458" y="163"/>
                    <a:pt x="447" y="119"/>
                  </a:cubicBezTo>
                  <a:cubicBezTo>
                    <a:pt x="506" y="80"/>
                    <a:pt x="589" y="130"/>
                    <a:pt x="634" y="172"/>
                  </a:cubicBezTo>
                  <a:cubicBezTo>
                    <a:pt x="614" y="227"/>
                    <a:pt x="599" y="204"/>
                    <a:pt x="527" y="199"/>
                  </a:cubicBezTo>
                  <a:cubicBezTo>
                    <a:pt x="491" y="175"/>
                    <a:pt x="485" y="202"/>
                    <a:pt x="500" y="232"/>
                  </a:cubicBezTo>
                  <a:cubicBezTo>
                    <a:pt x="512" y="257"/>
                    <a:pt x="556" y="260"/>
                    <a:pt x="580" y="266"/>
                  </a:cubicBezTo>
                  <a:cubicBezTo>
                    <a:pt x="629" y="255"/>
                    <a:pt x="625" y="250"/>
                    <a:pt x="587" y="226"/>
                  </a:cubicBezTo>
                  <a:cubicBezTo>
                    <a:pt x="573" y="302"/>
                    <a:pt x="622" y="354"/>
                    <a:pt x="527" y="372"/>
                  </a:cubicBezTo>
                  <a:cubicBezTo>
                    <a:pt x="516" y="370"/>
                    <a:pt x="501" y="374"/>
                    <a:pt x="494" y="366"/>
                  </a:cubicBezTo>
                  <a:cubicBezTo>
                    <a:pt x="474" y="341"/>
                    <a:pt x="512" y="334"/>
                    <a:pt x="520" y="332"/>
                  </a:cubicBezTo>
                  <a:cubicBezTo>
                    <a:pt x="585" y="340"/>
                    <a:pt x="576" y="346"/>
                    <a:pt x="627" y="379"/>
                  </a:cubicBezTo>
                  <a:cubicBezTo>
                    <a:pt x="638" y="361"/>
                    <a:pt x="657" y="339"/>
                    <a:pt x="640" y="319"/>
                  </a:cubicBezTo>
                  <a:cubicBezTo>
                    <a:pt x="633" y="310"/>
                    <a:pt x="623" y="303"/>
                    <a:pt x="614" y="299"/>
                  </a:cubicBezTo>
                  <a:cubicBezTo>
                    <a:pt x="603" y="294"/>
                    <a:pt x="580" y="292"/>
                    <a:pt x="580" y="29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2065200">
              <a:off x="5985720" y="3769920"/>
              <a:ext cx="152280" cy="759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2065200">
              <a:off x="6290640" y="3845880"/>
              <a:ext cx="151920" cy="759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833800" y="3922560"/>
              <a:ext cx="685440" cy="317160"/>
            </a:xfrm>
            <a:custGeom>
              <a:avLst/>
              <a:gdLst/>
              <a:ahLst/>
              <a:rect l="l" t="t" r="r" b="b"/>
              <a:pathLst>
                <a:path w="432" h="200">
                  <a:moveTo>
                    <a:pt x="0" y="0"/>
                  </a:moveTo>
                  <a:cubicBezTo>
                    <a:pt x="28" y="56"/>
                    <a:pt x="56" y="112"/>
                    <a:pt x="96" y="144"/>
                  </a:cubicBezTo>
                  <a:cubicBezTo>
                    <a:pt x="136" y="176"/>
                    <a:pt x="200" y="184"/>
                    <a:pt x="240" y="192"/>
                  </a:cubicBezTo>
                  <a:cubicBezTo>
                    <a:pt x="280" y="200"/>
                    <a:pt x="304" y="200"/>
                    <a:pt x="336" y="192"/>
                  </a:cubicBezTo>
                  <a:cubicBezTo>
                    <a:pt x="368" y="184"/>
                    <a:pt x="400" y="164"/>
                    <a:pt x="432" y="144"/>
                  </a:cubicBezTo>
                </a:path>
              </a:pathLst>
            </a:custGeom>
            <a:noFill/>
            <a:ln w="158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1692360" y="1484280"/>
            <a:ext cx="5184720" cy="1828800"/>
          </a:xfrm>
          <a:prstGeom prst="wedgeEllipseCallout">
            <a:avLst>
              <a:gd name="adj1" fmla="val 26361"/>
              <a:gd name="adj2" fmla="val 8255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 agree: it was a bit more tricky th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 expected. But everything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lved now, thanks to IOTS and io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371760" y="4913280"/>
            <a:ext cx="2362320" cy="838080"/>
          </a:xfrm>
          <a:prstGeom prst="wedgeEllipseCallout">
            <a:avLst>
              <a:gd name="adj1" fmla="val -57726"/>
              <a:gd name="adj2" fmla="val -9299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re you s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572160" y="4227480"/>
            <a:ext cx="2438640" cy="1143000"/>
          </a:xfrm>
          <a:prstGeom prst="cloudCallout">
            <a:avLst>
              <a:gd name="adj1" fmla="val -39194"/>
              <a:gd name="adj2" fmla="val -103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What a fu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19280" y="5157720"/>
            <a:ext cx="1752480" cy="1067040"/>
          </a:xfrm>
          <a:prstGeom prst="cloudCallout">
            <a:avLst>
              <a:gd name="adj1" fmla="val 12138"/>
              <a:gd name="adj2" fmla="val -1272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What a f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411280" y="3571920"/>
            <a:ext cx="1008360" cy="360360"/>
          </a:xfrm>
          <a:prstGeom prst="parallelogram">
            <a:avLst>
              <a:gd name="adj" fmla="val 6995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SE, Recif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61A0-D9B7-45EB-B4DB-B5AA00833B4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Some comments on IOTS and 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</a:rPr>
              <a:t>ioc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2946240" y="1413000"/>
            <a:ext cx="6161400" cy="4356000"/>
            <a:chOff x="2946240" y="1413000"/>
            <a:chExt cx="6161400" cy="4356000"/>
          </a:xfrm>
        </p:grpSpPr>
        <p:sp>
          <p:nvSpPr>
            <p:cNvPr id="254" name=""/>
            <p:cNvSpPr/>
            <p:nvPr/>
          </p:nvSpPr>
          <p:spPr>
            <a:xfrm>
              <a:off x="3606840" y="2505240"/>
              <a:ext cx="4572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kia"/>
                </a:rPr>
                <a:t>S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902120" y="1819440"/>
              <a:ext cx="4572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kia"/>
                </a:rPr>
                <a:t>S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578640" y="2352960"/>
              <a:ext cx="4572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kia"/>
                </a:rPr>
                <a:t>S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968800" y="4029120"/>
              <a:ext cx="4572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kia"/>
                </a:rPr>
                <a:t>S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216320" y="4105440"/>
              <a:ext cx="4572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kia"/>
                </a:rPr>
                <a:t>S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3987720" y="2124360"/>
              <a:ext cx="9144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359320" y="2124360"/>
              <a:ext cx="12193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6350040" y="2810160"/>
              <a:ext cx="4572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4673520" y="433404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 flipV="1">
              <a:off x="3759120" y="2962080"/>
              <a:ext cx="4572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369680" y="23529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kia"/>
                </a:rPr>
                <a:t>!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589000" y="2276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kia"/>
                </a:rPr>
                <a:t>!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98480" y="30067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kia"/>
                </a:rPr>
                <a:t>!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50880" y="40291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kia"/>
                </a:rPr>
                <a:t>!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988800" y="33433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kia"/>
                </a:rPr>
                <a:t>!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797600" y="501984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350040" y="4410360"/>
              <a:ext cx="1447560" cy="76176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283000" y="1413000"/>
              <a:ext cx="3200400" cy="3606840"/>
            </a:xfrm>
            <a:custGeom>
              <a:avLst/>
              <a:gdLst/>
              <a:ahLst/>
              <a:rect l="l" t="t" r="r" b="b"/>
              <a:pathLst>
                <a:path w="2016" h="2272">
                  <a:moveTo>
                    <a:pt x="0" y="304"/>
                  </a:moveTo>
                  <a:cubicBezTo>
                    <a:pt x="160" y="152"/>
                    <a:pt x="320" y="0"/>
                    <a:pt x="624" y="64"/>
                  </a:cubicBezTo>
                  <a:cubicBezTo>
                    <a:pt x="928" y="128"/>
                    <a:pt x="1632" y="320"/>
                    <a:pt x="1824" y="688"/>
                  </a:cubicBezTo>
                  <a:cubicBezTo>
                    <a:pt x="2016" y="1056"/>
                    <a:pt x="1896" y="1664"/>
                    <a:pt x="1776" y="2272"/>
                  </a:cubicBezTo>
                </a:path>
              </a:pathLst>
            </a:custGeom>
            <a:noFill/>
            <a:ln w="93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035840" y="2657520"/>
              <a:ext cx="914400" cy="236232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97200" y="4486320"/>
              <a:ext cx="3200400" cy="8384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46240" y="2810160"/>
              <a:ext cx="4851360" cy="2755800"/>
            </a:xfrm>
            <a:custGeom>
              <a:avLst/>
              <a:gdLst/>
              <a:ahLst/>
              <a:rect l="l" t="t" r="r" b="b"/>
              <a:pathLst>
                <a:path w="3056" h="1736">
                  <a:moveTo>
                    <a:pt x="416" y="0"/>
                  </a:moveTo>
                  <a:cubicBezTo>
                    <a:pt x="208" y="368"/>
                    <a:pt x="0" y="736"/>
                    <a:pt x="128" y="1008"/>
                  </a:cubicBezTo>
                  <a:cubicBezTo>
                    <a:pt x="256" y="1280"/>
                    <a:pt x="696" y="1528"/>
                    <a:pt x="1184" y="1632"/>
                  </a:cubicBezTo>
                  <a:cubicBezTo>
                    <a:pt x="1672" y="1736"/>
                    <a:pt x="2364" y="1684"/>
                    <a:pt x="3056" y="1632"/>
                  </a:cubicBezTo>
                </a:path>
              </a:pathLst>
            </a:custGeom>
            <a:noFill/>
            <a:ln w="93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721640" y="166716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Skia"/>
                </a:rPr>
                <a:t>?sto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264440" y="326736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Skia"/>
                </a:rPr>
                <a:t>?sto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350040" y="501984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Skia"/>
                </a:rPr>
                <a:t>?sto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87920" y="540072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Skia"/>
                </a:rPr>
                <a:t>?sto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578640" y="433404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Skia"/>
                </a:rPr>
                <a:t>?sto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254800" y="5324760"/>
              <a:ext cx="5335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789760" y="540072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kia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09080" y="2082960"/>
            <a:ext cx="3280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about a scr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aver that “may” s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en you want to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your computer?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-22320" y="5769000"/>
            <a:ext cx="77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www.lri.fr/Rapports-internes/2006/RR1434.pdf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(in french..., sor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SE, Recif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8D3A-7E0B-4652-B954-38B07E1A434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Some more comments on IOTS and 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</a:rPr>
              <a:t>ioc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6836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rong non-determinism: Inputs can be prevented by the SUT  (as in the previous slide); Ouputs can be prevented by the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real life, some inputs are forbidden in some states… This needs to be modelled, because it must be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20078400">
            <a:off x="3400200" y="5233680"/>
            <a:ext cx="990360" cy="76320"/>
          </a:xfrm>
          <a:prstGeom prst="rightArrow">
            <a:avLst>
              <a:gd name="adj1" fmla="val 50000"/>
              <a:gd name="adj2" fmla="val 3244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1554600">
            <a:off x="3400560" y="5691240"/>
            <a:ext cx="990360" cy="76320"/>
          </a:xfrm>
          <a:prstGeom prst="rightArrow">
            <a:avLst>
              <a:gd name="adj1" fmla="val 50000"/>
              <a:gd name="adj2" fmla="val 3244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649680" y="494352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49320" y="569124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400560" y="5462640"/>
            <a:ext cx="8244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308480" y="5919840"/>
            <a:ext cx="8244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52880" y="5538960"/>
            <a:ext cx="495360" cy="457200"/>
          </a:xfrm>
          <a:custGeom>
            <a:avLst/>
            <a:gdLst>
              <a:gd name="textAreaLeft" fmla="*/ 0 w 495360"/>
              <a:gd name="textAreaRight" fmla="*/ 495720 w 4953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12150" y="20610"/>
                </a:moveTo>
                <a:arcTo wR="-9902" hR="-9902" stAng="4929868" swAng="-19965179"/>
                <a:lnTo>
                  <a:pt x="14389" y="614"/>
                </a:lnTo>
                <a:arcTo wR="10800" hR="10800" stAng="-4235311" swAng="19965179"/>
                <a:lnTo>
                  <a:pt x="8960" y="-2574"/>
                </a:lnTo>
                <a:lnTo>
                  <a:pt x="12508" y="116"/>
                </a:lnTo>
                <a:lnTo>
                  <a:pt x="9818" y="3665"/>
                </a:lnTo>
                <a:close/>
              </a:path>
            </a:pathLst>
          </a:custGeom>
          <a:solidFill>
            <a:srgbClr val="bbe0e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988720" y="5818320"/>
            <a:ext cx="30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4049640" y="4941720"/>
            <a:ext cx="360360" cy="288720"/>
            <a:chOff x="4049640" y="4941720"/>
            <a:chExt cx="360360" cy="288720"/>
          </a:xfrm>
        </p:grpSpPr>
        <p:sp>
          <p:nvSpPr>
            <p:cNvPr id="295" name=""/>
            <p:cNvSpPr/>
            <p:nvPr/>
          </p:nvSpPr>
          <p:spPr>
            <a:xfrm>
              <a:off x="4049640" y="4941720"/>
              <a:ext cx="360360" cy="288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4120560" y="4941720"/>
              <a:ext cx="289080" cy="288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5464800" y="5229360"/>
            <a:ext cx="274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I-O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english report availa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6694560" y="2852640"/>
            <a:ext cx="1117440" cy="1115640"/>
            <a:chOff x="6694560" y="2852640"/>
            <a:chExt cx="1117440" cy="1115640"/>
          </a:xfrm>
        </p:grpSpPr>
        <p:grpSp>
          <p:nvGrpSpPr>
            <p:cNvPr id="299" name=""/>
            <p:cNvGrpSpPr/>
            <p:nvPr/>
          </p:nvGrpSpPr>
          <p:grpSpPr>
            <a:xfrm>
              <a:off x="6694560" y="2852640"/>
              <a:ext cx="990360" cy="1115640"/>
              <a:chOff x="6694560" y="2852640"/>
              <a:chExt cx="990360" cy="1115640"/>
            </a:xfrm>
          </p:grpSpPr>
          <p:sp>
            <p:nvSpPr>
              <p:cNvPr id="300" name=""/>
              <p:cNvSpPr/>
              <p:nvPr/>
            </p:nvSpPr>
            <p:spPr>
              <a:xfrm rot="20078400">
                <a:off x="6694560" y="3142440"/>
                <a:ext cx="990360" cy="75960"/>
              </a:xfrm>
              <a:prstGeom prst="rightArrow">
                <a:avLst>
                  <a:gd name="adj1" fmla="val 50000"/>
                  <a:gd name="adj2" fmla="val 325948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554600">
                <a:off x="6694200" y="3600000"/>
                <a:ext cx="990360" cy="75960"/>
              </a:xfrm>
              <a:prstGeom prst="rightArrow">
                <a:avLst>
                  <a:gd name="adj1" fmla="val 50000"/>
                  <a:gd name="adj2" fmla="val 325948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943680" y="2852640"/>
                <a:ext cx="39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b?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943320" y="3600000"/>
                <a:ext cx="384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c?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694560" y="3371400"/>
                <a:ext cx="8244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602480" y="2914200"/>
                <a:ext cx="8244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02480" y="3828600"/>
                <a:ext cx="8244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7" name=""/>
            <p:cNvSpPr/>
            <p:nvPr/>
          </p:nvSpPr>
          <p:spPr>
            <a:xfrm>
              <a:off x="6821640" y="3357360"/>
              <a:ext cx="990360" cy="76320"/>
            </a:xfrm>
            <a:prstGeom prst="rightArrow">
              <a:avLst>
                <a:gd name="adj1" fmla="val 50000"/>
                <a:gd name="adj2" fmla="val 32441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398720" y="307476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a!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SE, Recif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3F42-FA2A-420E-8D7E-9DB2E0C9587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Some last(?) comments on IOTS and  </a:t>
            </a:r>
            <a:r>
              <a:rPr b="0" i="1" lang="en-GB" sz="4000" spc="-1" strike="noStrike">
                <a:solidFill>
                  <a:srgbClr val="000000"/>
                </a:solidFill>
                <a:latin typeface="Times New Roman"/>
              </a:rPr>
              <a:t>ioc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If testers are « input-enabled », they can be controlled by the SUT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urrent solution (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</a:rPr>
              <a:t>ioco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, Tretmans &amp;C°) : the testers are not « input-enabled » (</a:t>
            </a:r>
            <a:r>
              <a:rPr b="0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TG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057400" y="3862440"/>
            <a:ext cx="6781680" cy="2590920"/>
            <a:chOff x="2057400" y="3862440"/>
            <a:chExt cx="6781680" cy="2590920"/>
          </a:xfrm>
        </p:grpSpPr>
        <p:grpSp>
          <p:nvGrpSpPr>
            <p:cNvPr id="312" name=""/>
            <p:cNvGrpSpPr/>
            <p:nvPr/>
          </p:nvGrpSpPr>
          <p:grpSpPr>
            <a:xfrm>
              <a:off x="2057400" y="5005440"/>
              <a:ext cx="762120" cy="761760"/>
              <a:chOff x="2057400" y="5005440"/>
              <a:chExt cx="762120" cy="761760"/>
            </a:xfrm>
          </p:grpSpPr>
          <p:sp>
            <p:nvSpPr>
              <p:cNvPr id="313" name=""/>
              <p:cNvSpPr/>
              <p:nvPr/>
            </p:nvSpPr>
            <p:spPr>
              <a:xfrm>
                <a:off x="2057400" y="5005440"/>
                <a:ext cx="762120" cy="761760"/>
              </a:xfrm>
              <a:prstGeom prst="ellipse">
                <a:avLst/>
              </a:prstGeom>
              <a:solidFill>
                <a:srgbClr val="f8d1a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210040" y="5234040"/>
                <a:ext cx="228600" cy="228600"/>
              </a:xfrm>
              <a:prstGeom prst="ellipse">
                <a:avLst/>
              </a:prstGeom>
              <a:solidFill>
                <a:srgbClr val="f8d1aa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590920" y="5081400"/>
                <a:ext cx="228600" cy="228600"/>
              </a:xfrm>
              <a:prstGeom prst="ellipse">
                <a:avLst/>
              </a:prstGeom>
              <a:solidFill>
                <a:srgbClr val="f8d1aa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2438280" y="5234040"/>
                <a:ext cx="152280" cy="75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 flipV="1">
                <a:off x="2057400" y="5310000"/>
                <a:ext cx="152640" cy="76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V="1" rot="5400000">
                <a:off x="2438280" y="5403960"/>
                <a:ext cx="266760" cy="76320"/>
              </a:xfrm>
              <a:custGeom>
                <a:avLst/>
                <a:gdLst/>
                <a:ahLst/>
                <a:rect l="l" t="t" r="r" b="b"/>
                <a:pathLst>
                  <a:path w="168" h="48">
                    <a:moveTo>
                      <a:pt x="0" y="0"/>
                    </a:moveTo>
                    <a:cubicBezTo>
                      <a:pt x="60" y="24"/>
                      <a:pt x="120" y="48"/>
                      <a:pt x="144" y="48"/>
                    </a:cubicBezTo>
                    <a:cubicBezTo>
                      <a:pt x="168" y="48"/>
                      <a:pt x="144" y="16"/>
                      <a:pt x="144" y="0"/>
                    </a:cubicBezTo>
                  </a:path>
                </a:pathLst>
              </a:custGeom>
              <a:solidFill>
                <a:srgbClr val="f8d1a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438640" y="5538600"/>
                <a:ext cx="304560" cy="177840"/>
              </a:xfrm>
              <a:custGeom>
                <a:avLst/>
                <a:gdLst/>
                <a:ahLst/>
                <a:rect l="l" t="t" r="r" b="b"/>
                <a:pathLst>
                  <a:path w="192" h="112">
                    <a:moveTo>
                      <a:pt x="0" y="96"/>
                    </a:moveTo>
                    <a:cubicBezTo>
                      <a:pt x="8" y="104"/>
                      <a:pt x="16" y="112"/>
                      <a:pt x="48" y="96"/>
                    </a:cubicBezTo>
                    <a:cubicBezTo>
                      <a:pt x="80" y="80"/>
                      <a:pt x="136" y="40"/>
                      <a:pt x="192" y="0"/>
                    </a:cubicBezTo>
                  </a:path>
                </a:pathLst>
              </a:custGeom>
              <a:solidFill>
                <a:srgbClr val="f8d1a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0" name=""/>
            <p:cNvSpPr/>
            <p:nvPr/>
          </p:nvSpPr>
          <p:spPr>
            <a:xfrm>
              <a:off x="2895480" y="3862440"/>
              <a:ext cx="2667240" cy="1295280"/>
            </a:xfrm>
            <a:prstGeom prst="wedgeRoundRectCallout">
              <a:avLst>
                <a:gd name="adj1" fmla="val -36430"/>
                <a:gd name="adj2" fmla="val 69976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Then there ar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systems that a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not input-enabled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048120" y="5843520"/>
              <a:ext cx="2286000" cy="609840"/>
            </a:xfrm>
            <a:prstGeom prst="wedgeRoundRectCallout">
              <a:avLst>
                <a:gd name="adj1" fmla="val -57638"/>
                <a:gd name="adj2" fmla="val -90365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How do you t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them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891040" y="5310360"/>
              <a:ext cx="990720" cy="914400"/>
            </a:xfrm>
            <a:prstGeom prst="ellipse">
              <a:avLst/>
            </a:prstGeom>
            <a:solidFill>
              <a:srgbClr val="f8d1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 flipV="1">
              <a:off x="5943600" y="5691240"/>
              <a:ext cx="706320" cy="380880"/>
            </a:xfrm>
            <a:custGeom>
              <a:avLst/>
              <a:gdLst/>
              <a:ahLst/>
              <a:rect l="l" t="t" r="r" b="b"/>
              <a:pathLst>
                <a:path w="445" h="240">
                  <a:moveTo>
                    <a:pt x="0" y="0"/>
                  </a:moveTo>
                  <a:cubicBezTo>
                    <a:pt x="4" y="56"/>
                    <a:pt x="10" y="106"/>
                    <a:pt x="48" y="144"/>
                  </a:cubicBezTo>
                  <a:cubicBezTo>
                    <a:pt x="86" y="182"/>
                    <a:pt x="173" y="218"/>
                    <a:pt x="225" y="229"/>
                  </a:cubicBezTo>
                  <a:cubicBezTo>
                    <a:pt x="277" y="240"/>
                    <a:pt x="322" y="227"/>
                    <a:pt x="359" y="209"/>
                  </a:cubicBezTo>
                  <a:cubicBezTo>
                    <a:pt x="396" y="191"/>
                    <a:pt x="427" y="141"/>
                    <a:pt x="445" y="123"/>
                  </a:cubicBezTo>
                </a:path>
              </a:pathLst>
            </a:custGeom>
            <a:noFill/>
            <a:ln w="158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891040" y="5157720"/>
              <a:ext cx="1043280" cy="601920"/>
            </a:xfrm>
            <a:custGeom>
              <a:avLst/>
              <a:gdLst/>
              <a:ahLst/>
              <a:rect l="l" t="t" r="r" b="b"/>
              <a:pathLst>
                <a:path w="657" h="379">
                  <a:moveTo>
                    <a:pt x="0" y="99"/>
                  </a:moveTo>
                  <a:cubicBezTo>
                    <a:pt x="12" y="135"/>
                    <a:pt x="24" y="141"/>
                    <a:pt x="60" y="152"/>
                  </a:cubicBezTo>
                  <a:cubicBezTo>
                    <a:pt x="124" y="132"/>
                    <a:pt x="71" y="80"/>
                    <a:pt x="134" y="59"/>
                  </a:cubicBezTo>
                  <a:cubicBezTo>
                    <a:pt x="147" y="103"/>
                    <a:pt x="142" y="96"/>
                    <a:pt x="194" y="119"/>
                  </a:cubicBezTo>
                  <a:cubicBezTo>
                    <a:pt x="221" y="109"/>
                    <a:pt x="217" y="95"/>
                    <a:pt x="234" y="72"/>
                  </a:cubicBezTo>
                  <a:cubicBezTo>
                    <a:pt x="225" y="0"/>
                    <a:pt x="232" y="2"/>
                    <a:pt x="167" y="12"/>
                  </a:cubicBezTo>
                  <a:cubicBezTo>
                    <a:pt x="126" y="55"/>
                    <a:pt x="186" y="111"/>
                    <a:pt x="227" y="126"/>
                  </a:cubicBezTo>
                  <a:cubicBezTo>
                    <a:pt x="262" y="113"/>
                    <a:pt x="255" y="80"/>
                    <a:pt x="260" y="46"/>
                  </a:cubicBezTo>
                  <a:cubicBezTo>
                    <a:pt x="271" y="48"/>
                    <a:pt x="283" y="47"/>
                    <a:pt x="294" y="52"/>
                  </a:cubicBezTo>
                  <a:cubicBezTo>
                    <a:pt x="299" y="54"/>
                    <a:pt x="300" y="64"/>
                    <a:pt x="307" y="66"/>
                  </a:cubicBezTo>
                  <a:cubicBezTo>
                    <a:pt x="316" y="68"/>
                    <a:pt x="341" y="49"/>
                    <a:pt x="347" y="46"/>
                  </a:cubicBezTo>
                  <a:cubicBezTo>
                    <a:pt x="364" y="80"/>
                    <a:pt x="371" y="114"/>
                    <a:pt x="380" y="152"/>
                  </a:cubicBezTo>
                  <a:cubicBezTo>
                    <a:pt x="414" y="117"/>
                    <a:pt x="459" y="101"/>
                    <a:pt x="487" y="59"/>
                  </a:cubicBezTo>
                  <a:cubicBezTo>
                    <a:pt x="453" y="33"/>
                    <a:pt x="428" y="26"/>
                    <a:pt x="387" y="19"/>
                  </a:cubicBezTo>
                  <a:cubicBezTo>
                    <a:pt x="342" y="22"/>
                    <a:pt x="276" y="4"/>
                    <a:pt x="260" y="52"/>
                  </a:cubicBezTo>
                  <a:cubicBezTo>
                    <a:pt x="280" y="72"/>
                    <a:pt x="304" y="87"/>
                    <a:pt x="327" y="106"/>
                  </a:cubicBezTo>
                  <a:cubicBezTo>
                    <a:pt x="351" y="101"/>
                    <a:pt x="376" y="101"/>
                    <a:pt x="400" y="92"/>
                  </a:cubicBezTo>
                  <a:cubicBezTo>
                    <a:pt x="407" y="89"/>
                    <a:pt x="407" y="76"/>
                    <a:pt x="414" y="72"/>
                  </a:cubicBezTo>
                  <a:cubicBezTo>
                    <a:pt x="419" y="67"/>
                    <a:pt x="427" y="68"/>
                    <a:pt x="434" y="66"/>
                  </a:cubicBezTo>
                  <a:cubicBezTo>
                    <a:pt x="442" y="70"/>
                    <a:pt x="451" y="75"/>
                    <a:pt x="460" y="79"/>
                  </a:cubicBezTo>
                  <a:cubicBezTo>
                    <a:pt x="466" y="81"/>
                    <a:pt x="475" y="80"/>
                    <a:pt x="480" y="86"/>
                  </a:cubicBezTo>
                  <a:cubicBezTo>
                    <a:pt x="488" y="97"/>
                    <a:pt x="494" y="126"/>
                    <a:pt x="494" y="126"/>
                  </a:cubicBezTo>
                  <a:cubicBezTo>
                    <a:pt x="461" y="147"/>
                    <a:pt x="458" y="163"/>
                    <a:pt x="447" y="119"/>
                  </a:cubicBezTo>
                  <a:cubicBezTo>
                    <a:pt x="506" y="80"/>
                    <a:pt x="589" y="130"/>
                    <a:pt x="634" y="172"/>
                  </a:cubicBezTo>
                  <a:cubicBezTo>
                    <a:pt x="614" y="227"/>
                    <a:pt x="599" y="204"/>
                    <a:pt x="527" y="199"/>
                  </a:cubicBezTo>
                  <a:cubicBezTo>
                    <a:pt x="491" y="175"/>
                    <a:pt x="485" y="202"/>
                    <a:pt x="500" y="232"/>
                  </a:cubicBezTo>
                  <a:cubicBezTo>
                    <a:pt x="512" y="257"/>
                    <a:pt x="556" y="260"/>
                    <a:pt x="580" y="266"/>
                  </a:cubicBezTo>
                  <a:cubicBezTo>
                    <a:pt x="629" y="255"/>
                    <a:pt x="625" y="250"/>
                    <a:pt x="587" y="226"/>
                  </a:cubicBezTo>
                  <a:cubicBezTo>
                    <a:pt x="573" y="302"/>
                    <a:pt x="622" y="354"/>
                    <a:pt x="527" y="372"/>
                  </a:cubicBezTo>
                  <a:cubicBezTo>
                    <a:pt x="516" y="370"/>
                    <a:pt x="501" y="374"/>
                    <a:pt x="494" y="366"/>
                  </a:cubicBezTo>
                  <a:cubicBezTo>
                    <a:pt x="474" y="341"/>
                    <a:pt x="512" y="334"/>
                    <a:pt x="520" y="332"/>
                  </a:cubicBezTo>
                  <a:cubicBezTo>
                    <a:pt x="585" y="340"/>
                    <a:pt x="576" y="346"/>
                    <a:pt x="627" y="379"/>
                  </a:cubicBezTo>
                  <a:cubicBezTo>
                    <a:pt x="638" y="361"/>
                    <a:pt x="657" y="339"/>
                    <a:pt x="640" y="319"/>
                  </a:cubicBezTo>
                  <a:cubicBezTo>
                    <a:pt x="633" y="310"/>
                    <a:pt x="623" y="303"/>
                    <a:pt x="614" y="299"/>
                  </a:cubicBezTo>
                  <a:cubicBezTo>
                    <a:pt x="603" y="294"/>
                    <a:pt x="580" y="292"/>
                    <a:pt x="580" y="29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2065200">
              <a:off x="6119640" y="5462640"/>
              <a:ext cx="152640" cy="76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2065200">
              <a:off x="6424200" y="5538960"/>
              <a:ext cx="152280" cy="759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966640" y="5767560"/>
              <a:ext cx="685800" cy="317520"/>
            </a:xfrm>
            <a:custGeom>
              <a:avLst/>
              <a:gdLst/>
              <a:ahLst/>
              <a:rect l="l" t="t" r="r" b="b"/>
              <a:pathLst>
                <a:path w="432" h="200">
                  <a:moveTo>
                    <a:pt x="0" y="0"/>
                  </a:moveTo>
                  <a:cubicBezTo>
                    <a:pt x="28" y="56"/>
                    <a:pt x="56" y="112"/>
                    <a:pt x="96" y="144"/>
                  </a:cubicBezTo>
                  <a:cubicBezTo>
                    <a:pt x="136" y="176"/>
                    <a:pt x="200" y="184"/>
                    <a:pt x="240" y="192"/>
                  </a:cubicBezTo>
                  <a:cubicBezTo>
                    <a:pt x="280" y="200"/>
                    <a:pt x="304" y="200"/>
                    <a:pt x="336" y="192"/>
                  </a:cubicBezTo>
                  <a:cubicBezTo>
                    <a:pt x="368" y="184"/>
                    <a:pt x="400" y="164"/>
                    <a:pt x="432" y="144"/>
                  </a:cubicBezTo>
                </a:path>
              </a:pathLst>
            </a:custGeom>
            <a:noFill/>
            <a:ln w="158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400800" y="3938760"/>
              <a:ext cx="2438280" cy="1143000"/>
            </a:xfrm>
            <a:prstGeom prst="cloudCallout">
              <a:avLst>
                <a:gd name="adj1" fmla="val -24546"/>
                <a:gd name="adj2" fmla="val 7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This guy is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pain in the ne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1690560" y="4714920"/>
            <a:ext cx="1152720" cy="503280"/>
          </a:xfrm>
          <a:prstGeom prst="parallelogram">
            <a:avLst>
              <a:gd name="adj" fmla="val 5726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SE, Recif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D557-5806-4C8E-A481-8EAAB277AB8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What is a LTS?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Without I/O as a beginning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TS = Labelled Transition Systems: semantic basis for most process algebras (CCS, Lotos,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mphasis on parallel compositions of processes (i.e. L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leaving + “rendez-vous” model of concurrency and synchron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TS :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(S, L, T </a:t>
            </a:r>
            <a:r>
              <a:rPr b="0" i="1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i="1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(L</a:t>
            </a:r>
            <a:r>
              <a:rPr b="0" i="1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{i})</a:t>
            </a:r>
            <a:r>
              <a:rPr b="0" i="1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S, s</a:t>
            </a:r>
            <a:r>
              <a:rPr b="0" i="1" lang="fr-FR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finite set of states, with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, initi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finite set of labels (action n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finite set of labelled transitions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: &lt;s, a , s’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is a special, internal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34240" y="4876920"/>
            <a:ext cx="1928880" cy="174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SE, Recif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C2F0-C71D-46CD-86E2-6F8A2FCC698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roduction of data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90400" y="172872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Values and variables in the I/O actions (numbers, messages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Guards (conditional ac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arameterised states (by data structur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Implementations are infinite IOTS with infinite number of actions and infinite number of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This leads to a test set exhaustive’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Times New Roman"/>
              </a:rPr>
              <a:t>ioco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even more infinite! </a:t>
            </a:r>
            <a:r>
              <a:rPr b="0" lang="fr-F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Design of adequate selection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SE, Recif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69B4-1D22-42D3-903B-806CF82B777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Buffer with prior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50920" y="3860640"/>
            <a:ext cx="72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9cc00"/>
                </a:solidFill>
                <a:latin typeface="Times New Roman"/>
              </a:rPr>
              <a:t>M: Message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, couples of text and prio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9cc00"/>
                </a:solidFill>
                <a:latin typeface="Times New Roman"/>
              </a:rPr>
              <a:t>Q: Queue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of Messages, with init, add, remove and get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096360" y="4827600"/>
            <a:ext cx="6099840" cy="1618560"/>
          </a:xfrm>
          <a:prstGeom prst="rect">
            <a:avLst/>
          </a:pr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BufferReady[outGate, inGate](Q:Queue):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[]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outGate!get(Q);Buffer(remove(Q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[]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nGate?M:Message;BufferReady(add(M,Q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endpr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900000" y="1700280"/>
            <a:ext cx="7920000" cy="2209680"/>
            <a:chOff x="900000" y="1700280"/>
            <a:chExt cx="7920000" cy="2209680"/>
          </a:xfrm>
        </p:grpSpPr>
        <p:sp>
          <p:nvSpPr>
            <p:cNvPr id="336" name=""/>
            <p:cNvSpPr/>
            <p:nvPr/>
          </p:nvSpPr>
          <p:spPr>
            <a:xfrm>
              <a:off x="900000" y="1700280"/>
              <a:ext cx="21463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?M/Q.add(M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367160" y="3452760"/>
              <a:ext cx="309564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!Q.get()/Q.remove(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276360" y="1700280"/>
              <a:ext cx="4127760" cy="53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?ready [¬Q.isEmpty()]/_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633400" y="3376440"/>
              <a:ext cx="148608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_/Q.init(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055600" y="2538360"/>
              <a:ext cx="1650960" cy="533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Buffer(Q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894280" y="2500200"/>
              <a:ext cx="2517840" cy="571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BufferReady(Q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2550960" y="3071520"/>
              <a:ext cx="619200" cy="57132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624120" y="2195640"/>
              <a:ext cx="2352600" cy="342720"/>
            </a:xfrm>
            <a:custGeom>
              <a:avLst/>
              <a:gdLst/>
              <a:ahLst/>
              <a:rect l="l" t="t" r="r" b="b"/>
              <a:pathLst>
                <a:path w="3420" h="540">
                  <a:moveTo>
                    <a:pt x="0" y="540"/>
                  </a:moveTo>
                  <a:lnTo>
                    <a:pt x="360" y="0"/>
                  </a:lnTo>
                  <a:lnTo>
                    <a:pt x="3060" y="0"/>
                  </a:lnTo>
                  <a:lnTo>
                    <a:pt x="3420" y="540"/>
                  </a:lnTo>
                </a:path>
              </a:pathLst>
            </a:custGeom>
            <a:noFill/>
            <a:ln w="1908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624120" y="3071880"/>
              <a:ext cx="2476440" cy="342720"/>
            </a:xfrm>
            <a:custGeom>
              <a:avLst/>
              <a:gdLst/>
              <a:ahLst/>
              <a:rect l="l" t="t" r="r" b="b"/>
              <a:pathLst>
                <a:path w="3600" h="540">
                  <a:moveTo>
                    <a:pt x="3600" y="0"/>
                  </a:moveTo>
                  <a:lnTo>
                    <a:pt x="3240" y="540"/>
                  </a:lnTo>
                  <a:lnTo>
                    <a:pt x="360" y="54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560240" y="2233440"/>
              <a:ext cx="681120" cy="590760"/>
            </a:xfrm>
            <a:custGeom>
              <a:avLst/>
              <a:gdLst/>
              <a:ahLst/>
              <a:rect l="l" t="t" r="r" b="b"/>
              <a:pathLst>
                <a:path w="990" h="930">
                  <a:moveTo>
                    <a:pt x="630" y="930"/>
                  </a:moveTo>
                  <a:cubicBezTo>
                    <a:pt x="405" y="900"/>
                    <a:pt x="180" y="870"/>
                    <a:pt x="90" y="750"/>
                  </a:cubicBezTo>
                  <a:cubicBezTo>
                    <a:pt x="0" y="630"/>
                    <a:pt x="0" y="330"/>
                    <a:pt x="90" y="210"/>
                  </a:cubicBezTo>
                  <a:cubicBezTo>
                    <a:pt x="180" y="90"/>
                    <a:pt x="480" y="0"/>
                    <a:pt x="630" y="30"/>
                  </a:cubicBezTo>
                  <a:cubicBezTo>
                    <a:pt x="780" y="60"/>
                    <a:pt x="885" y="225"/>
                    <a:pt x="990" y="390"/>
                  </a:cubicBezTo>
                </a:path>
              </a:pathLst>
            </a:custGeom>
            <a:noFill/>
            <a:ln w="1908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8138880" y="2262240"/>
              <a:ext cx="681120" cy="590400"/>
            </a:xfrm>
            <a:custGeom>
              <a:avLst/>
              <a:gdLst/>
              <a:ahLst/>
              <a:rect l="l" t="t" r="r" b="b"/>
              <a:pathLst>
                <a:path w="990" h="930">
                  <a:moveTo>
                    <a:pt x="630" y="930"/>
                  </a:moveTo>
                  <a:cubicBezTo>
                    <a:pt x="405" y="900"/>
                    <a:pt x="180" y="870"/>
                    <a:pt x="90" y="750"/>
                  </a:cubicBezTo>
                  <a:cubicBezTo>
                    <a:pt x="0" y="630"/>
                    <a:pt x="0" y="330"/>
                    <a:pt x="90" y="210"/>
                  </a:cubicBezTo>
                  <a:cubicBezTo>
                    <a:pt x="180" y="90"/>
                    <a:pt x="480" y="0"/>
                    <a:pt x="630" y="30"/>
                  </a:cubicBezTo>
                  <a:cubicBezTo>
                    <a:pt x="780" y="60"/>
                    <a:pt x="885" y="225"/>
                    <a:pt x="990" y="390"/>
                  </a:cubicBezTo>
                </a:path>
              </a:pathLst>
            </a:custGeom>
            <a:noFill/>
            <a:ln w="1908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7164360" y="1747800"/>
            <a:ext cx="21463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?M/Q.add(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SE, Recif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93CF-91FA-4B3F-B1F5-65FE67C87F3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verage criteria based on the symbolic de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hoice of a subset of feasible Straces that reachs every symbolic transitions (the good old W criter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iformity on the activation domain of the trans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y be too weak: data type properties must be taken into accou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SE, Recif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BEFF-FABF-44F4-8D31-B708FEF421F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 selectable t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093080" y="2965320"/>
            <a:ext cx="1778040" cy="587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orbidden 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fter the Str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524560" y="3340080"/>
            <a:ext cx="1073160" cy="76320"/>
          </a:xfrm>
          <a:prstGeom prst="rightArrow">
            <a:avLst>
              <a:gd name="adj1" fmla="val 50000"/>
              <a:gd name="adj2" fmla="val 3515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rot="3990600">
            <a:off x="5235480" y="3870000"/>
            <a:ext cx="990360" cy="82800"/>
          </a:xfrm>
          <a:prstGeom prst="rightArrow">
            <a:avLst>
              <a:gd name="adj1" fmla="val 50000"/>
              <a:gd name="adj2" fmla="val 2990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rot="1891200">
            <a:off x="5441760" y="3645000"/>
            <a:ext cx="1073160" cy="75960"/>
          </a:xfrm>
          <a:prstGeom prst="rightArrow">
            <a:avLst>
              <a:gd name="adj1" fmla="val 50000"/>
              <a:gd name="adj2" fmla="val 3531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rot="17651400">
            <a:off x="5235120" y="2802960"/>
            <a:ext cx="990720" cy="82800"/>
          </a:xfrm>
          <a:prstGeom prst="rightArrow">
            <a:avLst>
              <a:gd name="adj1" fmla="val 50000"/>
              <a:gd name="adj2" fmla="val 2991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rot="19726200">
            <a:off x="5441760" y="3034800"/>
            <a:ext cx="1073160" cy="76320"/>
          </a:xfrm>
          <a:prstGeom prst="rightArrow">
            <a:avLst>
              <a:gd name="adj1" fmla="val 50000"/>
              <a:gd name="adj2" fmla="val 3515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432480" y="2730600"/>
            <a:ext cx="8280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597720" y="3340080"/>
            <a:ext cx="8244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432480" y="3949560"/>
            <a:ext cx="8280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937120" y="2349360"/>
            <a:ext cx="8280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937120" y="4330800"/>
            <a:ext cx="8280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680160" y="2349000"/>
            <a:ext cx="329400" cy="2133720"/>
            <a:chOff x="6680160" y="2349000"/>
            <a:chExt cx="329400" cy="2133720"/>
          </a:xfrm>
        </p:grpSpPr>
        <p:sp>
          <p:nvSpPr>
            <p:cNvPr id="363" name=""/>
            <p:cNvSpPr/>
            <p:nvPr/>
          </p:nvSpPr>
          <p:spPr>
            <a:xfrm flipV="1">
              <a:off x="6845040" y="3451680"/>
              <a:ext cx="0" cy="96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16200000">
              <a:off x="6856560" y="3368880"/>
              <a:ext cx="14112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6845040" y="2420280"/>
              <a:ext cx="0" cy="9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rot="5409000">
              <a:off x="6691680" y="4329360"/>
              <a:ext cx="14112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rot="9000">
              <a:off x="6680160" y="2349000"/>
              <a:ext cx="164160" cy="14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rot="10800000">
              <a:off x="6845040" y="3238920"/>
              <a:ext cx="164160" cy="14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5448240" y="2349360"/>
            <a:ext cx="362160" cy="40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943240" y="2502000"/>
            <a:ext cx="362160" cy="40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026040" y="3035160"/>
            <a:ext cx="362160" cy="40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190920" y="3492360"/>
            <a:ext cx="362160" cy="40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531760" y="3949560"/>
            <a:ext cx="368280" cy="40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56480" y="3720960"/>
            <a:ext cx="4093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324000" y="3111480"/>
            <a:ext cx="5200560" cy="1717920"/>
            <a:chOff x="324000" y="3111480"/>
            <a:chExt cx="5200560" cy="1717920"/>
          </a:xfrm>
        </p:grpSpPr>
        <p:sp>
          <p:nvSpPr>
            <p:cNvPr id="376" name=""/>
            <p:cNvSpPr/>
            <p:nvPr/>
          </p:nvSpPr>
          <p:spPr>
            <a:xfrm>
              <a:off x="5442120" y="3340080"/>
              <a:ext cx="82440" cy="759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24000" y="3340080"/>
              <a:ext cx="82440" cy="759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06440" y="3340080"/>
              <a:ext cx="1073160" cy="75960"/>
            </a:xfrm>
            <a:prstGeom prst="rightArrow">
              <a:avLst>
                <a:gd name="adj1" fmla="val 50000"/>
                <a:gd name="adj2" fmla="val 35319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9" name=""/>
            <p:cNvGrpSpPr/>
            <p:nvPr/>
          </p:nvGrpSpPr>
          <p:grpSpPr>
            <a:xfrm>
              <a:off x="1479600" y="3340080"/>
              <a:ext cx="1155240" cy="75960"/>
              <a:chOff x="1479600" y="3340080"/>
              <a:chExt cx="1155240" cy="75960"/>
            </a:xfrm>
          </p:grpSpPr>
          <p:sp>
            <p:nvSpPr>
              <p:cNvPr id="380" name=""/>
              <p:cNvSpPr/>
              <p:nvPr/>
            </p:nvSpPr>
            <p:spPr>
              <a:xfrm>
                <a:off x="1561680" y="3340080"/>
                <a:ext cx="1073160" cy="75960"/>
              </a:xfrm>
              <a:prstGeom prst="rightArrow">
                <a:avLst>
                  <a:gd name="adj1" fmla="val 50000"/>
                  <a:gd name="adj2" fmla="val 353199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479600" y="3340080"/>
                <a:ext cx="82080" cy="759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3130560" y="3340080"/>
              <a:ext cx="1155240" cy="75960"/>
              <a:chOff x="3130560" y="3340080"/>
              <a:chExt cx="1155240" cy="75960"/>
            </a:xfrm>
          </p:grpSpPr>
          <p:sp>
            <p:nvSpPr>
              <p:cNvPr id="383" name=""/>
              <p:cNvSpPr/>
              <p:nvPr/>
            </p:nvSpPr>
            <p:spPr>
              <a:xfrm>
                <a:off x="3212640" y="3340080"/>
                <a:ext cx="1073160" cy="75960"/>
              </a:xfrm>
              <a:prstGeom prst="rightArrow">
                <a:avLst>
                  <a:gd name="adj1" fmla="val 50000"/>
                  <a:gd name="adj2" fmla="val 353199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130560" y="3340080"/>
                <a:ext cx="82080" cy="759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4286160" y="3340080"/>
              <a:ext cx="1155600" cy="75960"/>
              <a:chOff x="4286160" y="3340080"/>
              <a:chExt cx="1155600" cy="75960"/>
            </a:xfrm>
          </p:grpSpPr>
          <p:sp>
            <p:nvSpPr>
              <p:cNvPr id="386" name=""/>
              <p:cNvSpPr/>
              <p:nvPr/>
            </p:nvSpPr>
            <p:spPr>
              <a:xfrm>
                <a:off x="4368240" y="3340080"/>
                <a:ext cx="1073520" cy="75960"/>
              </a:xfrm>
              <a:prstGeom prst="rightArrow">
                <a:avLst>
                  <a:gd name="adj1" fmla="val 50000"/>
                  <a:gd name="adj2" fmla="val 353318"/>
                </a:avLst>
              </a:prstGeom>
              <a:solidFill>
                <a:srgbClr val="ff0000"/>
              </a:solidFill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286160" y="3340080"/>
                <a:ext cx="82080" cy="75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8" name=""/>
            <p:cNvSpPr/>
            <p:nvPr/>
          </p:nvSpPr>
          <p:spPr>
            <a:xfrm>
              <a:off x="2684520" y="311148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9" name=""/>
            <p:cNvGrpSpPr/>
            <p:nvPr/>
          </p:nvGrpSpPr>
          <p:grpSpPr>
            <a:xfrm>
              <a:off x="406440" y="3416040"/>
              <a:ext cx="3949560" cy="609120"/>
              <a:chOff x="406440" y="3416040"/>
              <a:chExt cx="3949560" cy="609120"/>
            </a:xfrm>
          </p:grpSpPr>
          <p:sp>
            <p:nvSpPr>
              <p:cNvPr id="390" name=""/>
              <p:cNvSpPr/>
              <p:nvPr/>
            </p:nvSpPr>
            <p:spPr>
              <a:xfrm>
                <a:off x="538200" y="3720960"/>
                <a:ext cx="177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184480" y="3720960"/>
                <a:ext cx="26208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537640" y="3720960"/>
                <a:ext cx="1686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10809000">
                <a:off x="406800" y="3416400"/>
                <a:ext cx="2628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5409000">
                <a:off x="4072320" y="3436920"/>
                <a:ext cx="303840" cy="262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16200000">
                <a:off x="2426040" y="3741480"/>
                <a:ext cx="303840" cy="262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6" name=""/>
            <p:cNvSpPr/>
            <p:nvPr/>
          </p:nvSpPr>
          <p:spPr>
            <a:xfrm>
              <a:off x="748080" y="4125600"/>
              <a:ext cx="3506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Mirror of an instantiated Strace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leading to an adequate st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4282560" y="3911760"/>
            <a:ext cx="155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Instantia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tran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to be cov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81760" y="5394240"/>
            <a:ext cx="816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B… struggle with a constraint solver to get an adequate fea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r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SE, Recif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EA42-3AC5-4E30-95A1-37126586B46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example ag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at does it mean to cov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66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96600"/>
                </a:solidFill>
                <a:latin typeface="Times New Roman"/>
              </a:rPr>
              <a:t>&lt;BufferReady(Q), !Q.get()/Q.remove(), Buffer(Q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ted </a:t>
            </a:r>
            <a:r>
              <a:rPr b="1" i="1" lang="en-GB" sz="2400" spc="-1" strike="noStrike">
                <a:solidFill>
                  <a:srgbClr val="996600"/>
                </a:solidFill>
                <a:latin typeface="Times New Roman"/>
              </a:rPr>
              <a:t>&lt;BufferReady(Q), !Q.get(), Buffer(remove(Q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oice of any value for Q (such that the corresponding transition is fireable) =&gt; “weak coverag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684360" y="4005360"/>
            <a:ext cx="7920000" cy="2209680"/>
            <a:chOff x="684360" y="4005360"/>
            <a:chExt cx="7920000" cy="2209680"/>
          </a:xfrm>
        </p:grpSpPr>
        <p:sp>
          <p:nvSpPr>
            <p:cNvPr id="402" name=""/>
            <p:cNvSpPr/>
            <p:nvPr/>
          </p:nvSpPr>
          <p:spPr>
            <a:xfrm>
              <a:off x="684360" y="4005360"/>
              <a:ext cx="21463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?M/Q.add(M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151520" y="5757840"/>
              <a:ext cx="309564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!Q.get()/Q.remove(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060720" y="4005360"/>
              <a:ext cx="4127760" cy="53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?ready [¬Q.isEmpty()]/_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417760" y="5681520"/>
              <a:ext cx="148608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_/Q.init(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839960" y="4843440"/>
              <a:ext cx="1650960" cy="533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Buffer(Q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678640" y="4805280"/>
              <a:ext cx="2517840" cy="571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BufferReady(Q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2335320" y="5376600"/>
              <a:ext cx="619200" cy="57132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408480" y="4500720"/>
              <a:ext cx="2352600" cy="342720"/>
            </a:xfrm>
            <a:custGeom>
              <a:avLst/>
              <a:gdLst/>
              <a:ahLst/>
              <a:rect l="l" t="t" r="r" b="b"/>
              <a:pathLst>
                <a:path w="3420" h="540">
                  <a:moveTo>
                    <a:pt x="0" y="540"/>
                  </a:moveTo>
                  <a:lnTo>
                    <a:pt x="360" y="0"/>
                  </a:lnTo>
                  <a:lnTo>
                    <a:pt x="3060" y="0"/>
                  </a:lnTo>
                  <a:lnTo>
                    <a:pt x="3420" y="540"/>
                  </a:lnTo>
                </a:path>
              </a:pathLst>
            </a:custGeom>
            <a:noFill/>
            <a:ln w="1908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408480" y="5376960"/>
              <a:ext cx="2476440" cy="342720"/>
            </a:xfrm>
            <a:custGeom>
              <a:avLst/>
              <a:gdLst/>
              <a:ahLst/>
              <a:rect l="l" t="t" r="r" b="b"/>
              <a:pathLst>
                <a:path w="3600" h="540">
                  <a:moveTo>
                    <a:pt x="3600" y="0"/>
                  </a:moveTo>
                  <a:lnTo>
                    <a:pt x="3240" y="540"/>
                  </a:lnTo>
                  <a:lnTo>
                    <a:pt x="360" y="54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44600" y="4538520"/>
              <a:ext cx="681120" cy="590760"/>
            </a:xfrm>
            <a:custGeom>
              <a:avLst/>
              <a:gdLst/>
              <a:ahLst/>
              <a:rect l="l" t="t" r="r" b="b"/>
              <a:pathLst>
                <a:path w="990" h="930">
                  <a:moveTo>
                    <a:pt x="630" y="930"/>
                  </a:moveTo>
                  <a:cubicBezTo>
                    <a:pt x="405" y="900"/>
                    <a:pt x="180" y="870"/>
                    <a:pt x="90" y="750"/>
                  </a:cubicBezTo>
                  <a:cubicBezTo>
                    <a:pt x="0" y="630"/>
                    <a:pt x="0" y="330"/>
                    <a:pt x="90" y="210"/>
                  </a:cubicBezTo>
                  <a:cubicBezTo>
                    <a:pt x="180" y="90"/>
                    <a:pt x="480" y="0"/>
                    <a:pt x="630" y="30"/>
                  </a:cubicBezTo>
                  <a:cubicBezTo>
                    <a:pt x="780" y="60"/>
                    <a:pt x="885" y="225"/>
                    <a:pt x="990" y="390"/>
                  </a:cubicBezTo>
                </a:path>
              </a:pathLst>
            </a:custGeom>
            <a:noFill/>
            <a:ln w="1908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7923240" y="4567320"/>
              <a:ext cx="681120" cy="590400"/>
            </a:xfrm>
            <a:custGeom>
              <a:avLst/>
              <a:gdLst/>
              <a:ahLst/>
              <a:rect l="l" t="t" r="r" b="b"/>
              <a:pathLst>
                <a:path w="990" h="930">
                  <a:moveTo>
                    <a:pt x="630" y="930"/>
                  </a:moveTo>
                  <a:cubicBezTo>
                    <a:pt x="405" y="900"/>
                    <a:pt x="180" y="870"/>
                    <a:pt x="90" y="750"/>
                  </a:cubicBezTo>
                  <a:cubicBezTo>
                    <a:pt x="0" y="630"/>
                    <a:pt x="0" y="330"/>
                    <a:pt x="90" y="210"/>
                  </a:cubicBezTo>
                  <a:cubicBezTo>
                    <a:pt x="180" y="90"/>
                    <a:pt x="480" y="0"/>
                    <a:pt x="630" y="30"/>
                  </a:cubicBezTo>
                  <a:cubicBezTo>
                    <a:pt x="780" y="60"/>
                    <a:pt x="885" y="225"/>
                    <a:pt x="990" y="390"/>
                  </a:cubicBezTo>
                </a:path>
              </a:pathLst>
            </a:custGeom>
            <a:noFill/>
            <a:ln w="1908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SE, Recif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BDB2-ADA2-4709-A940-0DB3C557B6B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operties of “get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976320" y="1484280"/>
            <a:ext cx="8420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generate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Queue </a:t>
            </a:r>
            <a:r>
              <a:rPr b="0" lang="en-GB" sz="2400" spc="-1" strike="noStrike">
                <a:solidFill>
                  <a:srgbClr val="996600"/>
                </a:solidFill>
                <a:latin typeface="Times New Roman"/>
              </a:rPr>
              <a:t>::= </a:t>
            </a:r>
            <a:r>
              <a:rPr b="0" lang="en-GB" sz="2400" spc="-1" strike="noStrike">
                <a:solidFill>
                  <a:srgbClr val="996600"/>
                </a:solidFill>
                <a:latin typeface="Times New Roman"/>
                <a:ea typeface="Arial"/>
              </a:rPr>
              <a:t>init │ add</a:t>
            </a:r>
            <a:r>
              <a:rPr b="0" i="1" lang="en-GB" sz="2400" spc="-1" strike="noStrike">
                <a:solidFill>
                  <a:srgbClr val="996600"/>
                </a:solidFill>
                <a:latin typeface="Times New Roman"/>
                <a:ea typeface="Arial"/>
              </a:rPr>
              <a:t>(Message ; Que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Empty: Queue -&gt;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Queue-&gt;Messag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mov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Queue-&gt;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:Message; Q: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●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init)) = (0.&lt;&gt;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●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add(M, init)) = M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●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Empty(Q) = false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priority(get(Q)) ge priority(M) 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add(M,Q)) = get(Q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●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Empty(Q) = false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priority(get(Q)) lt priority(M) 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add(M,Q)) = M ;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SE, Recif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3456-8CC2-4FA6-90EF-0F6CA550C48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u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85800" y="1828800"/>
            <a:ext cx="7772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his specification defines the operations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ge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remov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according to the following 4 ca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892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[  -  ]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: The queue is emp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892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[      ]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: The queue contains only 1 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8920">
              <a:spcBef>
                <a:spcPts val="601"/>
              </a:spcBef>
              <a:tabLst>
                <a:tab algn="l" pos="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[                    ]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: There are at least 2 messages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8920">
              <a:spcBef>
                <a:spcPts val="601"/>
              </a:spcBef>
              <a:tabLst>
                <a:tab algn="l" pos="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he last added one has not the highest pri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892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[             ]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: There are at least 2 messages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8920">
              <a:spcBef>
                <a:spcPts val="601"/>
              </a:spcBef>
              <a:tabLst>
                <a:tab algn="l" pos="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he last added one has the highest pri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hese 4 cases will serve as basis for unfolding the symbolic trans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1676160" y="3422520"/>
            <a:ext cx="319320" cy="368280"/>
            <a:chOff x="1676160" y="3422520"/>
            <a:chExt cx="319320" cy="368280"/>
          </a:xfrm>
        </p:grpSpPr>
        <p:sp>
          <p:nvSpPr>
            <p:cNvPr id="418" name=""/>
            <p:cNvSpPr/>
            <p:nvPr/>
          </p:nvSpPr>
          <p:spPr>
            <a:xfrm>
              <a:off x="1676520" y="3498480"/>
              <a:ext cx="30456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1905120" y="3498480"/>
              <a:ext cx="7596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 flipV="1">
              <a:off x="1676160" y="3498480"/>
              <a:ext cx="7596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77600" y="342252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2209320" y="3860640"/>
            <a:ext cx="319680" cy="368280"/>
            <a:chOff x="2209320" y="3860640"/>
            <a:chExt cx="319680" cy="368280"/>
          </a:xfrm>
        </p:grpSpPr>
        <p:grpSp>
          <p:nvGrpSpPr>
            <p:cNvPr id="423" name=""/>
            <p:cNvGrpSpPr/>
            <p:nvPr/>
          </p:nvGrpSpPr>
          <p:grpSpPr>
            <a:xfrm>
              <a:off x="2209320" y="3936600"/>
              <a:ext cx="304920" cy="228600"/>
              <a:chOff x="2209320" y="3936600"/>
              <a:chExt cx="304920" cy="228600"/>
            </a:xfrm>
          </p:grpSpPr>
          <p:sp>
            <p:nvSpPr>
              <p:cNvPr id="424" name=""/>
              <p:cNvSpPr/>
              <p:nvPr/>
            </p:nvSpPr>
            <p:spPr>
              <a:xfrm>
                <a:off x="2209680" y="3936600"/>
                <a:ext cx="304560" cy="2286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V="1">
                <a:off x="2438280" y="3936600"/>
                <a:ext cx="7596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 flipV="1">
                <a:off x="2209320" y="3936600"/>
                <a:ext cx="7596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7" name=""/>
            <p:cNvSpPr/>
            <p:nvPr/>
          </p:nvSpPr>
          <p:spPr>
            <a:xfrm>
              <a:off x="2211120" y="3860640"/>
              <a:ext cx="31788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1142640" y="3860640"/>
            <a:ext cx="319680" cy="368280"/>
            <a:chOff x="1142640" y="3860640"/>
            <a:chExt cx="319680" cy="368280"/>
          </a:xfrm>
        </p:grpSpPr>
        <p:grpSp>
          <p:nvGrpSpPr>
            <p:cNvPr id="429" name=""/>
            <p:cNvGrpSpPr/>
            <p:nvPr/>
          </p:nvGrpSpPr>
          <p:grpSpPr>
            <a:xfrm>
              <a:off x="1142640" y="3936960"/>
              <a:ext cx="304920" cy="228600"/>
              <a:chOff x="1142640" y="3936960"/>
              <a:chExt cx="304920" cy="228600"/>
            </a:xfrm>
          </p:grpSpPr>
          <p:sp>
            <p:nvSpPr>
              <p:cNvPr id="430" name=""/>
              <p:cNvSpPr/>
              <p:nvPr/>
            </p:nvSpPr>
            <p:spPr>
              <a:xfrm>
                <a:off x="1143000" y="3936960"/>
                <a:ext cx="30456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V="1">
                <a:off x="1371600" y="3936960"/>
                <a:ext cx="7596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H="1" flipV="1">
                <a:off x="1142640" y="3936960"/>
                <a:ext cx="7596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3" name=""/>
            <p:cNvSpPr/>
            <p:nvPr/>
          </p:nvSpPr>
          <p:spPr>
            <a:xfrm>
              <a:off x="1144440" y="3860640"/>
              <a:ext cx="317880" cy="3682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1676160" y="3860640"/>
            <a:ext cx="319320" cy="368280"/>
            <a:chOff x="1676160" y="3860640"/>
            <a:chExt cx="319320" cy="368280"/>
          </a:xfrm>
        </p:grpSpPr>
        <p:sp>
          <p:nvSpPr>
            <p:cNvPr id="435" name=""/>
            <p:cNvSpPr/>
            <p:nvPr/>
          </p:nvSpPr>
          <p:spPr>
            <a:xfrm>
              <a:off x="1676520" y="3936600"/>
              <a:ext cx="30456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1905120" y="3936600"/>
              <a:ext cx="7596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 flipV="1">
              <a:off x="1676160" y="3936600"/>
              <a:ext cx="7596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677600" y="3860640"/>
              <a:ext cx="317880" cy="3682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1371240" y="4791240"/>
            <a:ext cx="319680" cy="368280"/>
            <a:chOff x="1371240" y="4791240"/>
            <a:chExt cx="319680" cy="368280"/>
          </a:xfrm>
        </p:grpSpPr>
        <p:grpSp>
          <p:nvGrpSpPr>
            <p:cNvPr id="440" name=""/>
            <p:cNvGrpSpPr/>
            <p:nvPr/>
          </p:nvGrpSpPr>
          <p:grpSpPr>
            <a:xfrm>
              <a:off x="1371240" y="4867200"/>
              <a:ext cx="304920" cy="228600"/>
              <a:chOff x="1371240" y="4867200"/>
              <a:chExt cx="304920" cy="228600"/>
            </a:xfrm>
          </p:grpSpPr>
          <p:sp>
            <p:nvSpPr>
              <p:cNvPr id="441" name=""/>
              <p:cNvSpPr/>
              <p:nvPr/>
            </p:nvSpPr>
            <p:spPr>
              <a:xfrm>
                <a:off x="1371600" y="4867200"/>
                <a:ext cx="304560" cy="2286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V="1">
                <a:off x="1600200" y="4867200"/>
                <a:ext cx="7596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H="1" flipV="1">
                <a:off x="1371240" y="4867200"/>
                <a:ext cx="7596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4" name=""/>
            <p:cNvSpPr/>
            <p:nvPr/>
          </p:nvSpPr>
          <p:spPr>
            <a:xfrm>
              <a:off x="1373040" y="4791240"/>
              <a:ext cx="31788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1904760" y="4791240"/>
            <a:ext cx="319320" cy="368280"/>
            <a:chOff x="1904760" y="4791240"/>
            <a:chExt cx="319320" cy="368280"/>
          </a:xfrm>
        </p:grpSpPr>
        <p:grpSp>
          <p:nvGrpSpPr>
            <p:cNvPr id="446" name=""/>
            <p:cNvGrpSpPr/>
            <p:nvPr/>
          </p:nvGrpSpPr>
          <p:grpSpPr>
            <a:xfrm>
              <a:off x="1904760" y="4866840"/>
              <a:ext cx="304920" cy="228600"/>
              <a:chOff x="1904760" y="4866840"/>
              <a:chExt cx="304920" cy="228600"/>
            </a:xfrm>
          </p:grpSpPr>
          <p:sp>
            <p:nvSpPr>
              <p:cNvPr id="447" name=""/>
              <p:cNvSpPr/>
              <p:nvPr/>
            </p:nvSpPr>
            <p:spPr>
              <a:xfrm>
                <a:off x="1905120" y="4867200"/>
                <a:ext cx="304560" cy="228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V="1">
                <a:off x="2133720" y="4866840"/>
                <a:ext cx="7596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H="1" flipV="1">
                <a:off x="1904760" y="4866840"/>
                <a:ext cx="7596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0" name=""/>
            <p:cNvSpPr/>
            <p:nvPr/>
          </p:nvSpPr>
          <p:spPr>
            <a:xfrm>
              <a:off x="1906200" y="4791240"/>
              <a:ext cx="317880" cy="3682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SE, Recif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D078-00C7-4B61-A809-19418D396FE9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Unfolding symbolic transi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96472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folding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ge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… =&gt; 3 feasible instan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&lt;BufferReady(init),  </a:t>
            </a:r>
            <a:r>
              <a:rPr b="0" i="1" lang="en-GB" sz="2400" spc="-1" strike="noStrike">
                <a:solidFill>
                  <a:srgbClr val="009999"/>
                </a:solidFill>
                <a:latin typeface="Times New Roman"/>
              </a:rPr>
              <a:t>(0, &lt;&gt;)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Buffer(init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&lt;BufferReady(</a:t>
            </a:r>
            <a:r>
              <a:rPr b="0" i="1" lang="en-GB" sz="2400" spc="-1" strike="noStrike">
                <a:solidFill>
                  <a:srgbClr val="009999"/>
                </a:solidFill>
                <a:latin typeface="Times New Roman"/>
              </a:rPr>
              <a:t>add(M, init)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),  !</a:t>
            </a:r>
            <a:r>
              <a:rPr b="0" i="1" lang="en-GB" sz="2400" spc="-1" strike="noStrike">
                <a:solidFill>
                  <a:srgbClr val="009999"/>
                </a:solidFill>
                <a:latin typeface="Times New Roman"/>
              </a:rPr>
              <a:t>M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Buffer(init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&lt;BufferReady(</a:t>
            </a:r>
            <a:r>
              <a:rPr b="0" i="1" lang="en-GB" sz="2400" spc="-1" strike="noStrike">
                <a:solidFill>
                  <a:srgbClr val="009999"/>
                </a:solidFill>
                <a:latin typeface="Times New Roman"/>
              </a:rPr>
              <a:t>add(M, Q)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),  !</a:t>
            </a:r>
            <a:r>
              <a:rPr b="0" i="1" lang="en-GB" sz="2400" spc="-1" strike="noStrike">
                <a:solidFill>
                  <a:srgbClr val="009999"/>
                </a:solidFill>
                <a:latin typeface="Times New Roman"/>
              </a:rPr>
              <a:t>get(Q)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Buffer(remove(</a:t>
            </a:r>
            <a:r>
              <a:rPr b="0" i="1" lang="en-GB" sz="2400" spc="-1" strike="noStrike">
                <a:solidFill>
                  <a:srgbClr val="009999"/>
                </a:solidFill>
                <a:latin typeface="Times New Roman"/>
              </a:rPr>
              <a:t>add(M, Q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)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isEmpty(Q) = false </a:t>
            </a:r>
            <a:r>
              <a:rPr b="0" i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priority(get(Q)) ≥ priority(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&lt;Buffer(</a:t>
            </a:r>
            <a:r>
              <a:rPr b="0" i="1" lang="en-GB" sz="2400" spc="-1" strike="noStrike">
                <a:solidFill>
                  <a:srgbClr val="009999"/>
                </a:solidFill>
                <a:latin typeface="Times New Roman"/>
              </a:rPr>
              <a:t>add(M,Q)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), !M, Buffer(</a:t>
            </a:r>
            <a:r>
              <a:rPr b="0" i="1" lang="en-GB" sz="2400" spc="-1" strike="noStrike">
                <a:solidFill>
                  <a:srgbClr val="009999"/>
                </a:solidFill>
                <a:latin typeface="Times New Roman"/>
              </a:rPr>
              <a:t>Q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isEmpty(Q) = false </a:t>
            </a:r>
            <a:r>
              <a:rPr b="0" i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priority(get(Q)) &lt; priority(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folding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≥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the 3rd sub-case =&gt; 2 sub-sub-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!get(Q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priority(get(Q)) = priority(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!get(Q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priority(get(Q)) &gt; priority(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Stronger coverage: the sub-cases hidden in the event, guard, and actions are cov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1258920" y="2131560"/>
            <a:ext cx="4105080" cy="36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124000" y="2133720"/>
            <a:ext cx="2737080" cy="358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SE, Recif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5310-833F-48A3-AE52-429F4F7BBE3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neric framework/formal specification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6600"/>
                </a:solidFill>
                <a:latin typeface="Times New Roman"/>
              </a:rPr>
              <a:t>Semantics ma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6600"/>
                </a:solidFill>
                <a:latin typeface="Times New Roman"/>
              </a:rPr>
              <a:t>Satisfaction/conformance relation is bas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oth are used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fin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fin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est experimen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verdi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fin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exhaustivenes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the class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establ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of system or verification tools (model checker) are used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ptimise tests and test 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plemen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lection strate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SE, Recif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444A-1AF2-4A6C-9314-548D4814B98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42920" y="2286000"/>
            <a:ext cx="381240" cy="3808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kia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24160" y="2438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62240" y="2133720"/>
            <a:ext cx="1795320" cy="6048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Skia"/>
              </a:rPr>
              <a:t>P1 </a:t>
            </a:r>
            <a:r>
              <a:rPr b="1" lang="fr-FR" sz="1800" spc="-1" strike="noStrike">
                <a:solidFill>
                  <a:srgbClr val="000000"/>
                </a:solidFill>
                <a:latin typeface="Skia"/>
              </a:rPr>
              <a:t>after</a:t>
            </a:r>
            <a:r>
              <a:rPr b="0" lang="fr-FR" sz="1800" spc="-1" strike="noStrike">
                <a:solidFill>
                  <a:srgbClr val="000000"/>
                </a:solidFill>
                <a:latin typeface="Skia"/>
              </a:rPr>
              <a:t>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77880" y="21337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ki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1424160" y="2590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53840" y="26002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ki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49800" y="2212920"/>
            <a:ext cx="380880" cy="3808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kia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30680" y="2365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369120" y="2103480"/>
            <a:ext cx="1874880" cy="6048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Skia"/>
              </a:rPr>
              <a:t>P2 </a:t>
            </a:r>
            <a:r>
              <a:rPr b="1" lang="fr-FR" sz="1800" spc="-1" strike="noStrike">
                <a:solidFill>
                  <a:srgbClr val="000000"/>
                </a:solidFill>
                <a:latin typeface="Skia"/>
              </a:rPr>
              <a:t>after</a:t>
            </a:r>
            <a:r>
              <a:rPr b="0" lang="fr-FR" sz="1800" spc="-1" strike="noStrike">
                <a:solidFill>
                  <a:srgbClr val="000000"/>
                </a:solidFill>
                <a:latin typeface="Skia"/>
              </a:rPr>
              <a:t>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684760" y="20606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ki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5530680" y="251784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60720" y="24559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ki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92360" y="4251240"/>
            <a:ext cx="2151000" cy="6904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kia"/>
              </a:rPr>
              <a:t>P1</a:t>
            </a:r>
            <a:r>
              <a:rPr b="1" lang="en-US" sz="1800" spc="-1" strike="noStrike">
                <a:solidFill>
                  <a:srgbClr val="000000"/>
                </a:solidFill>
                <a:latin typeface="Skia"/>
              </a:rPr>
              <a:t>|[a]|</a:t>
            </a:r>
            <a:r>
              <a:rPr b="0" lang="en-US" sz="1800" spc="-1" strike="noStrike">
                <a:solidFill>
                  <a:srgbClr val="000000"/>
                </a:solidFill>
                <a:latin typeface="Skia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43360" y="468324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73400" y="43783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ki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757760" y="4178160"/>
            <a:ext cx="3701880" cy="9064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Skia"/>
              </a:rPr>
              <a:t>P1 </a:t>
            </a:r>
            <a:r>
              <a:rPr b="1" lang="fr-FR" sz="1600" spc="-1" strike="noStrike">
                <a:solidFill>
                  <a:srgbClr val="000000"/>
                </a:solidFill>
                <a:latin typeface="Skia"/>
              </a:rPr>
              <a:t>after</a:t>
            </a:r>
            <a:r>
              <a:rPr b="0" lang="fr-FR" sz="1600" spc="-1" strike="noStrike">
                <a:solidFill>
                  <a:srgbClr val="000000"/>
                </a:solidFill>
                <a:latin typeface="Skia"/>
              </a:rPr>
              <a:t> a </a:t>
            </a:r>
            <a:r>
              <a:rPr b="1" lang="fr-FR" sz="1600" spc="-1" strike="noStrike">
                <a:solidFill>
                  <a:srgbClr val="000000"/>
                </a:solidFill>
                <a:latin typeface="Skia"/>
              </a:rPr>
              <a:t>|[a]|</a:t>
            </a:r>
            <a:r>
              <a:rPr b="0" lang="fr-FR" sz="1600" spc="-1" strike="noStrike">
                <a:solidFill>
                  <a:srgbClr val="000000"/>
                </a:solidFill>
                <a:latin typeface="Skia"/>
              </a:rPr>
              <a:t>P2 </a:t>
            </a:r>
            <a:r>
              <a:rPr b="1" lang="fr-FR" sz="1600" spc="-1" strike="noStrike">
                <a:solidFill>
                  <a:srgbClr val="000000"/>
                </a:solidFill>
                <a:latin typeface="Skia"/>
              </a:rPr>
              <a:t>after</a:t>
            </a:r>
            <a:r>
              <a:rPr b="0" lang="fr-FR" sz="1600" spc="-1" strike="noStrike">
                <a:solidFill>
                  <a:srgbClr val="000000"/>
                </a:solidFill>
                <a:latin typeface="Skia"/>
              </a:rPr>
              <a:t>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48280" y="491184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29160" y="5216400"/>
            <a:ext cx="228600" cy="228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376520" y="4835520"/>
            <a:ext cx="5331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3766680" y="483516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4757760" y="491184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3462120" y="491184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30600" y="47592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ki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87800" y="4987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ki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62080" y="46069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ki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692160" y="4987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ki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99920" y="3305160"/>
            <a:ext cx="79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allel composition of P1 and P2 with synchronisation on “a”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08200" y="5659560"/>
            <a:ext cx="736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mark: “P1 │[a, b, c]│ P2”  would deadlock after “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SE, Recif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66F3-F151-4998-BA86-FDBBC5F4956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semantics of ! and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ate!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greement to have “value” on gate “Gat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ate? Variable: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greement to have any value of type “Type” on gate “Gat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SE, Recif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47E8-8EA8-459A-AFD5-9659186B698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testing problem, n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There is a specification SP that is a 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There is some SUT that,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</a:rPr>
              <a:t>possibly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, is an implementation of S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How to test the SUT to check that it satisfies (is conform to) SP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How to decide whether the SUT passes the tests (beware to indeterminism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What is the meaning of « is conform to » in this contex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SE, Recif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8162-BBA0-4CA8-8E98-3BC46CE1C6A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neral Prin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SUT are tested by some « tester » processes that are buit from the specific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ne runs the SUT and every tester in parall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I ||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 one observes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erformed tra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adlocks (via time-out mechanis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this context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 &lt;=&gt; tester specif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 experiment &lt;=&gt; concurrent execution of the SUT and the te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SE, Recif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8A0F-FC72-4DE0-AB3F-2A23F38C03D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LTS are not completely realistic but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Detection of dead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xample of a conformance relation: </a:t>
            </a:r>
            <a:r>
              <a:rPr b="0" lang="fr-FR" sz="2800" spc="-1" strike="noStrike">
                <a:solidFill>
                  <a:srgbClr val="009999"/>
                </a:solidFill>
                <a:latin typeface="Times New Roman"/>
              </a:rPr>
              <a:t>the SUT must not deadlock when the specification may not dead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n implementation of</a:t>
            </a:r>
            <a:r>
              <a:rPr b="0" lang="fr-FR" sz="2400" spc="-1" strike="noStrike">
                <a:solidFill>
                  <a:srgbClr val="4376cc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9999"/>
                </a:solidFill>
                <a:latin typeface="Times New Roman"/>
              </a:rPr>
              <a:t>P1 | [a]| P2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ust not refuse to perform « a » in its initial state, and after « a » it must refuse neither « b », nor « c », et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relation is an instance of a “testing preorder” (Hennessy and De Nicola) between LTS.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ealistic conformance relations are not equivalenc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SE, Recif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3241-DF4C-46D5-94DF-E54C97DA2D3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Introduction of inputs </a:t>
            </a:r>
            <a:r>
              <a:rPr b="0" lang="en-GB" sz="4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outpu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2469960" y="3843360"/>
            <a:ext cx="762120" cy="761760"/>
            <a:chOff x="2469960" y="3843360"/>
            <a:chExt cx="762120" cy="761760"/>
          </a:xfrm>
        </p:grpSpPr>
        <p:sp>
          <p:nvSpPr>
            <p:cNvPr id="87" name=""/>
            <p:cNvSpPr/>
            <p:nvPr/>
          </p:nvSpPr>
          <p:spPr>
            <a:xfrm>
              <a:off x="2470320" y="3843360"/>
              <a:ext cx="761760" cy="761760"/>
            </a:xfrm>
            <a:prstGeom prst="ellipse">
              <a:avLst/>
            </a:prstGeom>
            <a:solidFill>
              <a:srgbClr val="f8d1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622600" y="4071960"/>
              <a:ext cx="228240" cy="228600"/>
            </a:xfrm>
            <a:prstGeom prst="ellipse">
              <a:avLst/>
            </a:prstGeom>
            <a:solidFill>
              <a:srgbClr val="f8d1aa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003480" y="3919320"/>
              <a:ext cx="228240" cy="228600"/>
            </a:xfrm>
            <a:prstGeom prst="ellipse">
              <a:avLst/>
            </a:prstGeom>
            <a:solidFill>
              <a:srgbClr val="f8d1aa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2851200" y="4071960"/>
              <a:ext cx="1519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2469960" y="4147920"/>
              <a:ext cx="15228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 rot="5400000">
              <a:off x="2850840" y="4242240"/>
              <a:ext cx="266760" cy="75960"/>
            </a:xfrm>
            <a:custGeom>
              <a:avLst/>
              <a:gdLst/>
              <a:ahLst/>
              <a:rect l="l" t="t" r="r" b="b"/>
              <a:pathLst>
                <a:path w="168" h="48">
                  <a:moveTo>
                    <a:pt x="0" y="0"/>
                  </a:moveTo>
                  <a:cubicBezTo>
                    <a:pt x="60" y="24"/>
                    <a:pt x="120" y="48"/>
                    <a:pt x="144" y="48"/>
                  </a:cubicBezTo>
                  <a:cubicBezTo>
                    <a:pt x="168" y="48"/>
                    <a:pt x="144" y="16"/>
                    <a:pt x="144" y="0"/>
                  </a:cubicBezTo>
                </a:path>
              </a:pathLst>
            </a:custGeom>
            <a:solidFill>
              <a:srgbClr val="f8d1aa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851200" y="4376520"/>
              <a:ext cx="304200" cy="177840"/>
            </a:xfrm>
            <a:custGeom>
              <a:avLst/>
              <a:gdLst/>
              <a:ahLst/>
              <a:rect l="l" t="t" r="r" b="b"/>
              <a:pathLst>
                <a:path w="192" h="112">
                  <a:moveTo>
                    <a:pt x="0" y="96"/>
                  </a:moveTo>
                  <a:cubicBezTo>
                    <a:pt x="8" y="104"/>
                    <a:pt x="16" y="112"/>
                    <a:pt x="48" y="96"/>
                  </a:cubicBezTo>
                  <a:cubicBezTo>
                    <a:pt x="80" y="80"/>
                    <a:pt x="136" y="40"/>
                    <a:pt x="192" y="0"/>
                  </a:cubicBezTo>
                </a:path>
              </a:pathLst>
            </a:custGeom>
            <a:solidFill>
              <a:srgbClr val="f8d1aa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541840" y="3462480"/>
            <a:ext cx="1043280" cy="990000"/>
            <a:chOff x="5541840" y="3462480"/>
            <a:chExt cx="1043280" cy="990000"/>
          </a:xfrm>
        </p:grpSpPr>
        <p:sp>
          <p:nvSpPr>
            <p:cNvPr id="95" name=""/>
            <p:cNvSpPr/>
            <p:nvPr/>
          </p:nvSpPr>
          <p:spPr>
            <a:xfrm>
              <a:off x="5541840" y="3538440"/>
              <a:ext cx="990720" cy="914040"/>
            </a:xfrm>
            <a:prstGeom prst="ellipse">
              <a:avLst/>
            </a:prstGeom>
            <a:solidFill>
              <a:srgbClr val="f8d1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618160" y="3995640"/>
              <a:ext cx="706320" cy="380520"/>
            </a:xfrm>
            <a:custGeom>
              <a:avLst/>
              <a:gdLst/>
              <a:ahLst/>
              <a:rect l="l" t="t" r="r" b="b"/>
              <a:pathLst>
                <a:path w="445" h="240">
                  <a:moveTo>
                    <a:pt x="0" y="0"/>
                  </a:moveTo>
                  <a:cubicBezTo>
                    <a:pt x="4" y="56"/>
                    <a:pt x="10" y="106"/>
                    <a:pt x="48" y="144"/>
                  </a:cubicBezTo>
                  <a:cubicBezTo>
                    <a:pt x="86" y="182"/>
                    <a:pt x="173" y="218"/>
                    <a:pt x="225" y="229"/>
                  </a:cubicBezTo>
                  <a:cubicBezTo>
                    <a:pt x="277" y="240"/>
                    <a:pt x="322" y="227"/>
                    <a:pt x="359" y="209"/>
                  </a:cubicBezTo>
                  <a:cubicBezTo>
                    <a:pt x="396" y="191"/>
                    <a:pt x="427" y="141"/>
                    <a:pt x="445" y="123"/>
                  </a:cubicBezTo>
                </a:path>
              </a:pathLst>
            </a:custGeom>
            <a:noFill/>
            <a:ln w="158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541840" y="3462480"/>
              <a:ext cx="1043280" cy="601200"/>
            </a:xfrm>
            <a:custGeom>
              <a:avLst/>
              <a:gdLst/>
              <a:ahLst/>
              <a:rect l="l" t="t" r="r" b="b"/>
              <a:pathLst>
                <a:path w="657" h="379">
                  <a:moveTo>
                    <a:pt x="0" y="99"/>
                  </a:moveTo>
                  <a:cubicBezTo>
                    <a:pt x="12" y="135"/>
                    <a:pt x="24" y="141"/>
                    <a:pt x="60" y="152"/>
                  </a:cubicBezTo>
                  <a:cubicBezTo>
                    <a:pt x="124" y="132"/>
                    <a:pt x="71" y="80"/>
                    <a:pt x="134" y="59"/>
                  </a:cubicBezTo>
                  <a:cubicBezTo>
                    <a:pt x="147" y="103"/>
                    <a:pt x="142" y="96"/>
                    <a:pt x="194" y="119"/>
                  </a:cubicBezTo>
                  <a:cubicBezTo>
                    <a:pt x="221" y="109"/>
                    <a:pt x="217" y="95"/>
                    <a:pt x="234" y="72"/>
                  </a:cubicBezTo>
                  <a:cubicBezTo>
                    <a:pt x="225" y="0"/>
                    <a:pt x="232" y="2"/>
                    <a:pt x="167" y="12"/>
                  </a:cubicBezTo>
                  <a:cubicBezTo>
                    <a:pt x="126" y="55"/>
                    <a:pt x="186" y="111"/>
                    <a:pt x="227" y="126"/>
                  </a:cubicBezTo>
                  <a:cubicBezTo>
                    <a:pt x="262" y="113"/>
                    <a:pt x="255" y="80"/>
                    <a:pt x="260" y="46"/>
                  </a:cubicBezTo>
                  <a:cubicBezTo>
                    <a:pt x="271" y="48"/>
                    <a:pt x="283" y="47"/>
                    <a:pt x="294" y="52"/>
                  </a:cubicBezTo>
                  <a:cubicBezTo>
                    <a:pt x="299" y="54"/>
                    <a:pt x="300" y="64"/>
                    <a:pt x="307" y="66"/>
                  </a:cubicBezTo>
                  <a:cubicBezTo>
                    <a:pt x="316" y="68"/>
                    <a:pt x="341" y="49"/>
                    <a:pt x="347" y="46"/>
                  </a:cubicBezTo>
                  <a:cubicBezTo>
                    <a:pt x="364" y="80"/>
                    <a:pt x="371" y="114"/>
                    <a:pt x="380" y="152"/>
                  </a:cubicBezTo>
                  <a:cubicBezTo>
                    <a:pt x="414" y="117"/>
                    <a:pt x="459" y="101"/>
                    <a:pt x="487" y="59"/>
                  </a:cubicBezTo>
                  <a:cubicBezTo>
                    <a:pt x="453" y="33"/>
                    <a:pt x="428" y="26"/>
                    <a:pt x="387" y="19"/>
                  </a:cubicBezTo>
                  <a:cubicBezTo>
                    <a:pt x="342" y="22"/>
                    <a:pt x="276" y="4"/>
                    <a:pt x="260" y="52"/>
                  </a:cubicBezTo>
                  <a:cubicBezTo>
                    <a:pt x="280" y="72"/>
                    <a:pt x="304" y="87"/>
                    <a:pt x="327" y="106"/>
                  </a:cubicBezTo>
                  <a:cubicBezTo>
                    <a:pt x="351" y="101"/>
                    <a:pt x="376" y="101"/>
                    <a:pt x="400" y="92"/>
                  </a:cubicBezTo>
                  <a:cubicBezTo>
                    <a:pt x="407" y="89"/>
                    <a:pt x="407" y="76"/>
                    <a:pt x="414" y="72"/>
                  </a:cubicBezTo>
                  <a:cubicBezTo>
                    <a:pt x="419" y="67"/>
                    <a:pt x="427" y="68"/>
                    <a:pt x="434" y="66"/>
                  </a:cubicBezTo>
                  <a:cubicBezTo>
                    <a:pt x="442" y="70"/>
                    <a:pt x="451" y="75"/>
                    <a:pt x="460" y="79"/>
                  </a:cubicBezTo>
                  <a:cubicBezTo>
                    <a:pt x="466" y="81"/>
                    <a:pt x="475" y="80"/>
                    <a:pt x="480" y="86"/>
                  </a:cubicBezTo>
                  <a:cubicBezTo>
                    <a:pt x="488" y="97"/>
                    <a:pt x="494" y="126"/>
                    <a:pt x="494" y="126"/>
                  </a:cubicBezTo>
                  <a:cubicBezTo>
                    <a:pt x="461" y="147"/>
                    <a:pt x="458" y="163"/>
                    <a:pt x="447" y="119"/>
                  </a:cubicBezTo>
                  <a:cubicBezTo>
                    <a:pt x="506" y="80"/>
                    <a:pt x="589" y="130"/>
                    <a:pt x="634" y="172"/>
                  </a:cubicBezTo>
                  <a:cubicBezTo>
                    <a:pt x="614" y="227"/>
                    <a:pt x="599" y="204"/>
                    <a:pt x="527" y="199"/>
                  </a:cubicBezTo>
                  <a:cubicBezTo>
                    <a:pt x="491" y="175"/>
                    <a:pt x="485" y="202"/>
                    <a:pt x="500" y="232"/>
                  </a:cubicBezTo>
                  <a:cubicBezTo>
                    <a:pt x="512" y="257"/>
                    <a:pt x="556" y="260"/>
                    <a:pt x="580" y="266"/>
                  </a:cubicBezTo>
                  <a:cubicBezTo>
                    <a:pt x="629" y="255"/>
                    <a:pt x="625" y="250"/>
                    <a:pt x="587" y="226"/>
                  </a:cubicBezTo>
                  <a:cubicBezTo>
                    <a:pt x="573" y="302"/>
                    <a:pt x="622" y="354"/>
                    <a:pt x="527" y="372"/>
                  </a:cubicBezTo>
                  <a:cubicBezTo>
                    <a:pt x="516" y="370"/>
                    <a:pt x="501" y="374"/>
                    <a:pt x="494" y="366"/>
                  </a:cubicBezTo>
                  <a:cubicBezTo>
                    <a:pt x="474" y="341"/>
                    <a:pt x="512" y="334"/>
                    <a:pt x="520" y="332"/>
                  </a:cubicBezTo>
                  <a:cubicBezTo>
                    <a:pt x="585" y="340"/>
                    <a:pt x="576" y="346"/>
                    <a:pt x="627" y="379"/>
                  </a:cubicBezTo>
                  <a:cubicBezTo>
                    <a:pt x="638" y="361"/>
                    <a:pt x="657" y="339"/>
                    <a:pt x="640" y="319"/>
                  </a:cubicBezTo>
                  <a:cubicBezTo>
                    <a:pt x="633" y="310"/>
                    <a:pt x="623" y="303"/>
                    <a:pt x="614" y="299"/>
                  </a:cubicBezTo>
                  <a:cubicBezTo>
                    <a:pt x="603" y="294"/>
                    <a:pt x="580" y="292"/>
                    <a:pt x="580" y="29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rot="2065200">
              <a:off x="5770080" y="3843000"/>
              <a:ext cx="152640" cy="759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2065200">
              <a:off x="6075000" y="3919320"/>
              <a:ext cx="152280" cy="759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618160" y="3995640"/>
              <a:ext cx="685800" cy="317160"/>
            </a:xfrm>
            <a:custGeom>
              <a:avLst/>
              <a:gdLst/>
              <a:ahLst/>
              <a:rect l="l" t="t" r="r" b="b"/>
              <a:pathLst>
                <a:path w="432" h="200">
                  <a:moveTo>
                    <a:pt x="0" y="0"/>
                  </a:moveTo>
                  <a:cubicBezTo>
                    <a:pt x="28" y="56"/>
                    <a:pt x="56" y="112"/>
                    <a:pt x="96" y="144"/>
                  </a:cubicBezTo>
                  <a:cubicBezTo>
                    <a:pt x="136" y="176"/>
                    <a:pt x="200" y="184"/>
                    <a:pt x="240" y="192"/>
                  </a:cubicBezTo>
                  <a:cubicBezTo>
                    <a:pt x="280" y="200"/>
                    <a:pt x="304" y="200"/>
                    <a:pt x="336" y="192"/>
                  </a:cubicBezTo>
                  <a:cubicBezTo>
                    <a:pt x="368" y="184"/>
                    <a:pt x="400" y="164"/>
                    <a:pt x="432" y="144"/>
                  </a:cubicBezTo>
                </a:path>
              </a:pathLst>
            </a:custGeom>
            <a:noFill/>
            <a:ln w="158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1784520" y="1557360"/>
            <a:ext cx="4876560" cy="1828800"/>
          </a:xfrm>
          <a:prstGeom prst="wedgeEllipseCallout">
            <a:avLst>
              <a:gd name="adj1" fmla="val 24870"/>
              <a:gd name="adj2" fmla="val 8255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is very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e distinguishes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!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output of  “a”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rom 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?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input of “a”,  and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ynchronises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!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et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?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56120" y="4986360"/>
            <a:ext cx="2361960" cy="838080"/>
          </a:xfrm>
          <a:prstGeom prst="wedgeEllipseCallout">
            <a:avLst>
              <a:gd name="adj1" fmla="val -57726"/>
              <a:gd name="adj2" fmla="val -9299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re you s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356520" y="4300560"/>
            <a:ext cx="2438280" cy="1143000"/>
          </a:xfrm>
          <a:prstGeom prst="cloudCallout">
            <a:avLst>
              <a:gd name="adj1" fmla="val -39194"/>
              <a:gd name="adj2" fmla="val -103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What a fu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03280" y="5367240"/>
            <a:ext cx="1752840" cy="1067040"/>
          </a:xfrm>
          <a:prstGeom prst="cloudCallout">
            <a:avLst>
              <a:gd name="adj1" fmla="val 12138"/>
              <a:gd name="adj2" fmla="val -1272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What a f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95640" y="3645000"/>
            <a:ext cx="1008000" cy="360360"/>
          </a:xfrm>
          <a:prstGeom prst="parallelogram">
            <a:avLst>
              <a:gd name="adj" fmla="val 699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SE, Recif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1C32-4F0F-44E1-84AC-4C5053C3E67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ome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76360" y="178128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kia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57240" y="193356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700280"/>
            <a:ext cx="1947960" cy="56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Skia"/>
              </a:rPr>
              <a:t>P1 after !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10960" y="1628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kia"/>
              </a:rPr>
              <a:t>!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857240" y="208584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086920" y="20239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kia"/>
              </a:rPr>
              <a:t>?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04960" y="2162160"/>
            <a:ext cx="1295280" cy="304920"/>
          </a:xfrm>
          <a:custGeom>
            <a:avLst/>
            <a:gdLst/>
            <a:ahLst/>
            <a:rect l="l" t="t" r="r" b="b"/>
            <a:pathLst>
              <a:path w="816" h="192">
                <a:moveTo>
                  <a:pt x="816" y="0"/>
                </a:moveTo>
                <a:lnTo>
                  <a:pt x="672" y="192"/>
                </a:lnTo>
                <a:lnTo>
                  <a:pt x="144" y="192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39560" y="23907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kia"/>
              </a:rPr>
              <a:t>?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92720" y="178128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kia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73600" y="193356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12040" y="1700280"/>
            <a:ext cx="1731960" cy="56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Skia"/>
              </a:rPr>
              <a:t>P2 after ?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827320" y="1628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kia"/>
              </a:rPr>
              <a:t>?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673600" y="208584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03280" y="20239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kia"/>
              </a:rPr>
              <a:t>!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71640" y="2849400"/>
            <a:ext cx="6538680" cy="3141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Times New Roman"/>
              </a:rPr>
              <a:t>P1 || P2 behaviour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Times New Roman"/>
              </a:rPr>
              <a:t>• </a:t>
            </a:r>
            <a:r>
              <a:rPr b="0" lang="en-GB" sz="2400" spc="-1" strike="noStrike">
                <a:solidFill>
                  <a:srgbClr val="009999"/>
                </a:solidFill>
                <a:latin typeface="Times New Roman"/>
              </a:rPr>
              <a:t>emission of “a” by P1, reception by 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Times New Roman"/>
              </a:rPr>
              <a:t>• </a:t>
            </a:r>
            <a:r>
              <a:rPr b="0" lang="en-GB" sz="2400" spc="-1" strike="noStrike">
                <a:solidFill>
                  <a:srgbClr val="009999"/>
                </a:solidFill>
                <a:latin typeface="Times New Roman"/>
              </a:rPr>
              <a:t>emission of “c” by P2, reception by 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Times New Roman"/>
              </a:rPr>
              <a:t>• </a:t>
            </a:r>
            <a:r>
              <a:rPr b="0" lang="en-GB" sz="2400" spc="-1" strike="noStrike">
                <a:solidFill>
                  <a:srgbClr val="009999"/>
                </a:solidFill>
                <a:latin typeface="Times New Roman"/>
              </a:rPr>
              <a:t>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rst the decision is up to P1, then it is up to 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difference is a matter of contro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Who is the boss? </a:t>
            </a:r>
            <a:r>
              <a:rPr b="1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SE, Recif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9C61-3402-4777-8CD3-F94FEC7894A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7T17:22:17Z</dcterms:created>
  <dc:creator>Marie-Claude Gaudel</dc:creator>
  <dc:description/>
  <dc:language>en-US</dc:language>
  <cp:lastModifiedBy> </cp:lastModifiedBy>
  <cp:lastPrinted>2004-10-17T17:41:06Z</cp:lastPrinted>
  <dcterms:modified xsi:type="dcterms:W3CDTF">2007-12-07T17:47:08Z</dcterms:modified>
  <cp:revision>246</cp:revision>
  <dc:subject/>
  <dc:title>Chapitre 6</dc:title>
</cp:coreProperties>
</file>