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DDE-DC24-420C-9114-17A54900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CD7-D08F-4920-B6D8-76145347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A51-5B2A-428F-9777-5BD8F35D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C45-DCFC-4F21-9271-E22FE9C5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3FC-8D3F-4570-986C-6897322B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DD0-FDE4-4472-BA80-305DB381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C11-37DD-4CF0-B3C8-C2694E4F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F4A-944B-432B-ACDB-7FD1DACA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274320"/>
            <a:ext cx="619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836-C160-437D-AC04-061D1F9D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731-B365-439E-870A-81F07DB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580-15C8-46FD-A228-EBC45D6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4FB-EC00-43B8-8079-FD7540A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C3B7-A8EA-4CB4-B77B-778C17227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10360" y="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69960" cy="17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esting based on Formal Spec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ie-Claude Gau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RI, Univ Paris-Sud &amp; CN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778-7090-4B05-9DEA-9F63D95E06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philosophical inter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00400" y="1752480"/>
          <a:ext cx="262728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26272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081520" y="2895480"/>
            <a:ext cx="5058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08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“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 map is not the territo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080" y="5229360"/>
            <a:ext cx="8472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program text, or a specification text, or a model, is not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20C-3548-4373-B54F-F8ECD0B420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Black-Box Testing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ructure of the SUT (System Under Test) is not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How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cessity of making explicit the class of “testable implementations” =&gt; notion of som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estability Hypothesis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S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B87-6ADE-4005-8406-D06714611A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abi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SUT can b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y diabolic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re is no sensible way of testing i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tunately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ome basic assumptions are feasi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xample: correct implementation of booleans, determinism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others can b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rified in another wa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static checks on the program, preliminary test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9720" y="1268280"/>
            <a:ext cx="2063880" cy="1295640"/>
          </a:xfrm>
          <a:prstGeom prst="irregularSeal1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cc"/>
                </a:solidFill>
                <a:latin typeface="Times New Roman"/>
              </a:rPr>
              <a:t>S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8AD-C4C6-4129-A269-E5AD9B0C8F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BBT + F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6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ce of an adequate and formal definition of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atisfaction Rel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an implementation w.r.t. a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ful definition of the class of considered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FF6-AE59-48B7-9E25-1A52BE2416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anted: a satisfaction re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3480" y="1628640"/>
            <a:ext cx="2063520" cy="1295640"/>
          </a:xfrm>
          <a:prstGeom prst="irregularSeal1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cc"/>
                </a:solidFill>
                <a:latin typeface="Times New Roman"/>
              </a:rPr>
              <a:t>S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41400" y="1857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068640"/>
            <a:ext cx="80074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iven some “testable” SUT, what does it mean that it satisfies S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correctness reference? Is there an “exhaustive” (or “complete”)  set of tes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 is some sort of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del or formul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 SUT is some sort of </a:t>
            </a:r>
            <a:r>
              <a:rPr b="0" lang="en-GB" sz="2800" spc="-1" strike="noStrike">
                <a:solidFill>
                  <a:srgbClr val="cc00cc"/>
                </a:solidFill>
                <a:latin typeface="Times New Roman"/>
              </a:rPr>
              <a:t>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; how to defin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SUT sat SP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SUT conf SP”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such an heterogeneous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63880" y="1704960"/>
            <a:ext cx="1815840" cy="1143000"/>
          </a:xfrm>
          <a:prstGeom prst="verticalScroll">
            <a:avLst>
              <a:gd name="adj" fmla="val 12500"/>
            </a:avLst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Times New Roman"/>
              </a:rPr>
              <a:t>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C56-EF95-4379-AE4E-3F879C87D0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ent of the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se of Finite Stat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ase of Input-Output Transi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B: other cases in the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0E6-9437-4952-B41A-97354AB119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ftware Testing can be formal 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« We know less about the theory of testing, which we do often, than about the theory of program proving, which we do seldom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oodenough J. B., Gerhart S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EE Transactions on Software Engineering, 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45120" y="2622600"/>
            <a:ext cx="380988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2D3-6851-47B1-89E9-7FB3160A26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tline of the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l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tting them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ite Stat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pplication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belled Transition Systems with inputs and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053-B16B-4364-966F-AC44C20697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al Specific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eces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gebraic Spec (CASL), Z, VDM, B, CSP, Loto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otated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ite State Machines, Petri Nets, « Automata-derived » diagrams (LTS, Kripke structures), Statechart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is a form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gebras, Predicate transformers, Sets, Traces and Failu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l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roofs) 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rification meth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del-checking)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3A5-46F9-4D5A-A37F-E26DB3FDDC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1: CA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0400" y="1599840"/>
            <a:ext cx="80139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TAIN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::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[] │ _::_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Nat ; Contai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in : Nat × Container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ove: Nat × Container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x, y:Nat; c: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in(x, []) =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(x, y) = tru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in(x, y::c) 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(x, y) = fals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in(x, y::c) = isin(x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ove(x, []) =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(x, y) = tru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move(x, y::c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q(x, y) = false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move(x, y::c) = y::remove(x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1F8-CDE9-45EA-819D-1D67191321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2: F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55280" y="1557360"/>
            <a:ext cx="7239240" cy="2460960"/>
            <a:chOff x="755280" y="1557360"/>
            <a:chExt cx="7239240" cy="2460960"/>
          </a:xfrm>
        </p:grpSpPr>
        <p:sp>
          <p:nvSpPr>
            <p:cNvPr id="56" name=""/>
            <p:cNvSpPr/>
            <p:nvPr/>
          </p:nvSpPr>
          <p:spPr>
            <a:xfrm>
              <a:off x="121284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9240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7196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1520" y="24112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endCxn id="56" idx="2"/>
            </p:cNvCxnSpPr>
            <p:nvPr/>
          </p:nvCxnSpPr>
          <p:spPr>
            <a:xfrm>
              <a:off x="755280" y="2868120"/>
              <a:ext cx="448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6" idx="5"/>
              <a:endCxn id="57" idx="3"/>
            </p:cNvCxnSpPr>
            <p:nvPr/>
          </p:nvCxnSpPr>
          <p:spPr>
            <a:xfrm>
              <a:off x="1993680" y="3201480"/>
              <a:ext cx="1232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 flipH="1">
              <a:off x="2050560" y="26398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6040" y="30207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4840" y="317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860800" y="26398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56" idx="3"/>
              <a:endCxn id="56" idx="4"/>
            </p:cNvCxnSpPr>
            <p:nvPr/>
          </p:nvCxnSpPr>
          <p:spPr>
            <a:xfrm flipH="1" rot="16200000">
              <a:off x="1441440" y="3106080"/>
              <a:ext cx="133560" cy="324720"/>
            </a:xfrm>
            <a:prstGeom prst="curvedConnector5">
              <a:avLst>
                <a:gd name="adj1" fmla="val 264864"/>
                <a:gd name="adj2" fmla="val 49944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57" idx="5"/>
              <a:endCxn id="57" idx="4"/>
            </p:cNvCxnSpPr>
            <p:nvPr/>
          </p:nvCxnSpPr>
          <p:spPr>
            <a:xfrm rot="5400000">
              <a:off x="3644280" y="3106440"/>
              <a:ext cx="133560" cy="324360"/>
            </a:xfrm>
            <a:prstGeom prst="curvedConnector5">
              <a:avLst>
                <a:gd name="adj1" fmla="val 264864"/>
                <a:gd name="adj2" fmla="val 50000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/>
            <p:nvPr/>
          </p:nvCxnSpPr>
          <p:spPr>
            <a:xfrm flipH="1" flipV="1" rot="5400000">
              <a:off x="5194080" y="2315880"/>
              <a:ext cx="133560" cy="324360"/>
            </a:xfrm>
            <a:prstGeom prst="curvedConnector5">
              <a:avLst>
                <a:gd name="adj1" fmla="val 264864"/>
                <a:gd name="adj2" fmla="val 50000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8" idx="3"/>
              <a:endCxn id="58" idx="4"/>
            </p:cNvCxnSpPr>
            <p:nvPr/>
          </p:nvCxnSpPr>
          <p:spPr>
            <a:xfrm flipH="1" rot="16200000">
              <a:off x="5200560" y="3106080"/>
              <a:ext cx="133560" cy="324720"/>
            </a:xfrm>
            <a:prstGeom prst="curvedConnector5">
              <a:avLst>
                <a:gd name="adj1" fmla="val 264864"/>
                <a:gd name="adj2" fmla="val 49944"/>
                <a:gd name="adj3" fmla="val 2648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9" idx="4"/>
              <a:endCxn id="59" idx="6"/>
            </p:cNvCxnSpPr>
            <p:nvPr/>
          </p:nvCxnSpPr>
          <p:spPr>
            <a:xfrm flipH="1" flipV="1" rot="5400000">
              <a:off x="7308360" y="2868120"/>
              <a:ext cx="467280" cy="467280"/>
            </a:xfrm>
            <a:prstGeom prst="curvedConnector5">
              <a:avLst>
                <a:gd name="adj1" fmla="val -46877"/>
                <a:gd name="adj2" fmla="val 73400"/>
                <a:gd name="adj3" fmla="val -468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9" idx="0"/>
              <a:endCxn id="56" idx="0"/>
            </p:cNvCxnSpPr>
            <p:nvPr/>
          </p:nvCxnSpPr>
          <p:spPr>
            <a:xfrm rot="5400000">
              <a:off x="4487760" y="-416880"/>
              <a:ext cx="2160" cy="5639400"/>
            </a:xfrm>
            <a:prstGeom prst="curvedConnector5">
              <a:avLst>
                <a:gd name="adj1" fmla="val -41200000"/>
                <a:gd name="adj2" fmla="val 50000"/>
                <a:gd name="adj3" fmla="val -412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" name=""/>
            <p:cNvSpPr/>
            <p:nvPr/>
          </p:nvSpPr>
          <p:spPr>
            <a:xfrm>
              <a:off x="1060200" y="347796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,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7600" y="317340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1840" y="354312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2360" y="302076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9400" y="3554280"/>
              <a:ext cx="57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37480" y="317340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66440" y="1557360"/>
              <a:ext cx="51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32760" y="3619440"/>
              <a:ext cx="57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*: 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41960" y="2243160"/>
              <a:ext cx="57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_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640" y="2182680"/>
              <a:ext cx="4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/: 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80040" y="2243160"/>
              <a:ext cx="77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: * </a:t>
              </a:r>
              <a:r>
                <a:rPr b="0" lang="en-GB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99800" y="4221000"/>
            <a:ext cx="667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= any character but * and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not a comment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all that /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is ** a comment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no more a com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FSM removes from the input text all that is not a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63D8-4813-4DE5-83EC-EEA5A44DB9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3: I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00" y="2060640"/>
            <a:ext cx="6195240" cy="1775520"/>
            <a:chOff x="1908000" y="2060640"/>
            <a:chExt cx="6195240" cy="1775520"/>
          </a:xfrm>
        </p:grpSpPr>
        <p:sp>
          <p:nvSpPr>
            <p:cNvPr id="86" name=""/>
            <p:cNvSpPr/>
            <p:nvPr/>
          </p:nvSpPr>
          <p:spPr>
            <a:xfrm>
              <a:off x="2822400" y="2746440"/>
              <a:ext cx="533160" cy="53316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22800" y="2746440"/>
              <a:ext cx="533160" cy="53316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9600" y="2556000"/>
              <a:ext cx="2819160" cy="266400"/>
            </a:xfrm>
            <a:custGeom>
              <a:avLst/>
              <a:gdLst/>
              <a:ahLst/>
              <a:rect l="l" t="t" r="r" b="b"/>
              <a:pathLst>
                <a:path w="1776" h="168">
                  <a:moveTo>
                    <a:pt x="0" y="168"/>
                  </a:moveTo>
                  <a:cubicBezTo>
                    <a:pt x="32" y="108"/>
                    <a:pt x="64" y="48"/>
                    <a:pt x="288" y="24"/>
                  </a:cubicBezTo>
                  <a:cubicBezTo>
                    <a:pt x="512" y="0"/>
                    <a:pt x="1096" y="8"/>
                    <a:pt x="1344" y="24"/>
                  </a:cubicBezTo>
                  <a:cubicBezTo>
                    <a:pt x="1592" y="40"/>
                    <a:pt x="1684" y="80"/>
                    <a:pt x="1776" y="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5560" y="3203640"/>
              <a:ext cx="2743200" cy="241200"/>
            </a:xfrm>
            <a:custGeom>
              <a:avLst/>
              <a:gdLst/>
              <a:ahLst/>
              <a:rect l="l" t="t" r="r" b="b"/>
              <a:pathLst>
                <a:path w="1728" h="152">
                  <a:moveTo>
                    <a:pt x="1728" y="48"/>
                  </a:moveTo>
                  <a:cubicBezTo>
                    <a:pt x="1660" y="92"/>
                    <a:pt x="1592" y="136"/>
                    <a:pt x="1344" y="144"/>
                  </a:cubicBezTo>
                  <a:cubicBezTo>
                    <a:pt x="1096" y="152"/>
                    <a:pt x="464" y="120"/>
                    <a:pt x="240" y="96"/>
                  </a:cubicBezTo>
                  <a:cubicBezTo>
                    <a:pt x="16" y="72"/>
                    <a:pt x="8" y="3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17480" y="3051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3680" y="2517840"/>
              <a:ext cx="800280" cy="672840"/>
            </a:xfrm>
            <a:custGeom>
              <a:avLst/>
              <a:gdLst/>
              <a:ahLst/>
              <a:rect l="l" t="t" r="r" b="b"/>
              <a:pathLst>
                <a:path w="504" h="424">
                  <a:moveTo>
                    <a:pt x="0" y="144"/>
                  </a:moveTo>
                  <a:cubicBezTo>
                    <a:pt x="80" y="72"/>
                    <a:pt x="160" y="0"/>
                    <a:pt x="240" y="0"/>
                  </a:cubicBezTo>
                  <a:cubicBezTo>
                    <a:pt x="320" y="0"/>
                    <a:pt x="456" y="80"/>
                    <a:pt x="480" y="144"/>
                  </a:cubicBezTo>
                  <a:cubicBezTo>
                    <a:pt x="504" y="208"/>
                    <a:pt x="448" y="344"/>
                    <a:pt x="384" y="384"/>
                  </a:cubicBezTo>
                  <a:cubicBezTo>
                    <a:pt x="320" y="424"/>
                    <a:pt x="208" y="404"/>
                    <a:pt x="96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54200" y="20606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g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71920" y="2197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00"/>
                  </a:solidFill>
                  <a:latin typeface="Times New Roman"/>
                </a:rPr>
                <a:t>g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31960" y="337644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3300"/>
                  </a:solidFill>
                  <a:latin typeface="Times New Roman"/>
                </a:rPr>
                <a:t>don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00" y="228924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uiesc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02520" y="3187800"/>
              <a:ext cx="18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ot quiesc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its initial state, this IOTS is idle until it receives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any state, it accepts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« input-enabledness »); after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t may emit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ne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14E-D430-4003-A782-4411853082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es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ystem is a dynamic entity, embedded in the physic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serv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ia some limited interface/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alway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te different from a piece of text (formula, program) or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2284560"/>
            <a:ext cx="2595600" cy="2390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6324480" y="1498680"/>
            <a:ext cx="1231920" cy="787320"/>
          </a:xfrm>
          <a:custGeom>
            <a:avLst/>
            <a:gdLst/>
            <a:ahLst/>
            <a:rect l="l" t="t" r="r" b="b"/>
            <a:pathLst>
              <a:path w="776" h="496">
                <a:moveTo>
                  <a:pt x="8" y="496"/>
                </a:moveTo>
                <a:cubicBezTo>
                  <a:pt x="4" y="420"/>
                  <a:pt x="0" y="344"/>
                  <a:pt x="56" y="304"/>
                </a:cubicBezTo>
                <a:cubicBezTo>
                  <a:pt x="112" y="264"/>
                  <a:pt x="272" y="288"/>
                  <a:pt x="344" y="256"/>
                </a:cubicBezTo>
                <a:cubicBezTo>
                  <a:pt x="416" y="224"/>
                  <a:pt x="456" y="152"/>
                  <a:pt x="488" y="112"/>
                </a:cubicBezTo>
                <a:cubicBezTo>
                  <a:pt x="520" y="72"/>
                  <a:pt x="488" y="32"/>
                  <a:pt x="536" y="16"/>
                </a:cubicBezTo>
                <a:cubicBezTo>
                  <a:pt x="584" y="0"/>
                  <a:pt x="680" y="8"/>
                  <a:pt x="776" y="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820800" cy="197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541008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88120" y="53895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0600" y="477036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648320"/>
            <a:ext cx="3049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648320"/>
            <a:ext cx="30492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0"/>
            <a:ext cx="169236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238880" y="457200"/>
            <a:ext cx="174168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1F1-E727-4CA7-8F9A-6DAE6EF388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basic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ne proves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ne check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ne test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 system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orma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program (considered as a formula when proving progr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SSE, Recif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0C4-453F-47AB-A6AA-9AB3676D59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9:30:48Z</dcterms:created>
  <dc:creator> </dc:creator>
  <dc:description/>
  <dc:language>en-US</dc:language>
  <cp:lastModifiedBy> </cp:lastModifiedBy>
  <dcterms:modified xsi:type="dcterms:W3CDTF">2007-12-04T11:39:47Z</dcterms:modified>
  <cp:revision>23</cp:revision>
  <dc:subject/>
  <dc:title>Slide 1</dc:title>
</cp:coreProperties>
</file>