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57BA8-7272-46E2-8B25-F05A8E507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8B37-AB61-4D2C-AC4F-9EBDD9CE0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300B8-31FE-45BC-8360-940B3E940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21F4F-B500-426E-AAD6-128815F83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DC62-5812-42B5-B5AB-D4A7E33B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FD82-4899-42D0-9B9F-83999460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C756-0CA8-4BA4-B816-D6F22CA4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BE0B5-059D-4925-8132-812EA211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D0D8-885B-42BE-9DFB-CF1C5CA77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ED5B-C958-4BC6-A861-59D252FD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AB6F-A185-4E6A-897A-5DBBAC78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2204-5914-47F5-84ED-6D91576B2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1F06-E7DE-4622-B84D-5FEC299C9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ool Issu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A. Hennel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Directo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RA Lt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Faults lead to failures. The fault may only lead to a failure under specific 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all faults will ensure no fail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faults is another non trivial t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are in general application depend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ect is a violation of some additional rule or constraint placed upon the softw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are often identifiable as defects or are closely associated with de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can be classified into two categories, technical faults and application fa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faults are due to considerations such 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defec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ined behavi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pecified behavi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dependant behavio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neous featur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effec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fa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or characteristics such word length, bus widths, storage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isation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ance by Software Engine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faults are those which can only be found from a knowledge of the application or by observing anomalous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n a drive-by-wire car, turning the steering wheel anti clockwise and turning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the common approach is to remove all defects from the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ense this makes the software better than it really needs to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tectable defects in the main (but not exclusively) eliminate the technical fa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and Validation Tool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this activity must have at least some knowledge of the syntax and semantics of the re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the actual semantics of the application are defined by the actual platform, i.e. The processors and other devices which are driven by the bin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they are unknown but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 &amp; V Too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ool in the tool chain is usually a word processing tool , such as MS W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such a tool is extremely good at producing documents which have few defects. They check spelling and even have a knowledge of gram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tools may have specialist lexicons and the capability to detect ambigu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 &amp; V Tool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ly proof techniques will also not work because approximate numerical techniques must b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programs are checked by a variety of different techniques such as partial proving, computing sub-problems with known answers, etc. A mixture of proof and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nciple enemies of software developers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ance (of actual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acency and overconf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and unmanaged complex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incidental correctness (getting the right results for the wrong rea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re an essential aid in any Engineering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is no exception and hence it is not a surprise to find they are a key to su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perform tasks that are too boring or too complex for hum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very project requires the same level of dili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very part of a project requires the same level of dilig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partitioning the system becomes an iss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components to different standards is a complex management 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Tool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est checking tool utilising a knowledge of the syntax of the representation (the programming language) is a programming rules chec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a tool can detect huge numbers of de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also produce metr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Tool metric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of number of lines of code. If the code is unformatted these metrics are largely use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the number of executable lines of c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 the number of lines of code per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phisticated Tool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urse two types of sophisticated tool will be distinguis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Analysis tools. A completely workable (but possibly imprecise) definition is that these tools do not involve the execution of the code with test data. This definition essentially then includes all formal methods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Analysis tools which measure properties of the executing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c Analysis tool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ollowing discussion the structure will be to show how increasingly sophisticated analysis techniques can be built into tools and indicate how this trend will evolve in future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Analysis tools will be discussed first because all Dynamic Analysis tools depend on a preliminary static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 modelling</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control rules can be applied such 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s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rocedural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global vari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pplying rules of this type what is happening is a trade-off between different types of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 modelling</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ggest step forward in sophistication is to construct a control flow model. Control flow is changed by conditional statements and control flow jum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sic Block is a sequence of statements such that if one statement is executed then all the statements in the Block are execu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 modell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Blocks are linked together by the control flow statements, procedure call and uncondition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is usually in the form of a directed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lated form is a call graph showing the calling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 modell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control flow graph is available we can look at activities such 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ing path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infinite because loops will have no termination criterion due to the fact the graph has (as yet) no variable inform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path length, in various uni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of co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Basic Block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 modell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control flow graph is available we can look at activities such 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ing paths, usually infin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path leng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ng paths (shortest, longest, initialisation, termination, backwards, forwards, etc) between any two poi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the start node and each termination node are of most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tools perform such tasks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desig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ing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it is common practice to ma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ggerated claims for tools and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 modelling</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rics can be applied to these graph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cCabes Cyclomatic complex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G) = e – n +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metric yields a measure of the size of an planar directed grap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graph depth and width can be measu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ain complexity trade-off decisions can be m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modelling</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control flow model is annotated with the actions upon the variables then it is possible to perform Data Flow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is to discover defects in the way variabl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of usage are invok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modelling</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ts simplest form consider the actions performed on a given vari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t is declared but has no value, denoted by the symbol 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it is given a value (defined),  denoted by the symbol 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it is used (referenced), denoted by 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it goes out of scope, denoted U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consider one variable then the sequence of actions performed on that variable as a control flow path is traversed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D R R R D R R 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a sequence of operations  call a path expression is generated for every variable in the program for every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 expressions for each variable are checked for anomalous behaviou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R  indicates that a variable has been given no value but has been used in a compu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 indicates that a variable has been given a value and then is immediately given another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U indicates that a variable is given a value which is never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events are termed anomalies because we cannot be sure that they are not delibe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usually ben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R anomalies are most likely to be fa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 D anomalies are usually benign but might be due to edi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 U anomalies are usually due to badly constructed code. For 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while loop instead of repeat until loop.</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U anomalies can always be removed with a gain in efficiency, and a gain in code cla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always kick against removal of these anomalies until they have had experience after which they wonder what the fuss is all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Analysis is fast and efficient and more importantly is valid for all p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s are handled by traversing the zero trip path and the going around each loop just tw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erformed firstly over each block for all the variables. Any in-block anomalies can be reported then the first and last operations for each variable in the block are remembered and the others discar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if two Blocks connect we look at the last operation in the first Block and the first operation in the second Block. These two operators are either anomalous or they are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Block has no operations in it for a given variable it uses those of the Blocks to which it connects, i.e. the operations are projected up and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procedure boundaries the operations on the actual parameters are mapped to the formal parameters and vice ver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ctivity enables the whole of the procedure interface to be accurately documen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s and global variables can be classified as to whether they are input, output or both input and out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ethods are widely considered to be an over sold, overly expensive and ineffective techniqu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ntrast testing is totally accepted and regarded as applicable to and effective for all software produ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neither of these claims is tru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urse sets out to show that there are a large number of techniques which contribute to any successful project and that formality is always the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anomalies can now be ide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and output variables which have clear pat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n output variable gets a value on some paths through a procedure but doesn’t get a value on at least one other path, then the output variable is said to have a clear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dure which has clear paths on its output variables is a potential cause of integration errors because it is possible that future processing assumes that the variable always has a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tal Data Flow Analysis can identify up about twenty different problems at procedure interfaces, .e.g. global variable aliasing 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Analysi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Analysis is normally accomplished bottom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applied system w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n all paths tech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tal between 50 and 100 types of defects can be ident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echnique the data flow graph is also annotated with the Input/Output op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proceeds by starting from one output statement and following all the paths back to the start node. It list the dependencies on other variables which are encountered as the paths are traver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eliminates all intermediate variables and ends with a list of just input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s are handled by traversing them until the dependencies don’t change. Usually this twice and is always finite except for some cases of recur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aths to be traversed can however become prohibitive if the software is carelessly written, i.e. it has many infeasible pa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onship of the output variables on the input variables can be classified in at least eight different w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F: strongly defined. The output variable always has a value, i.e., on all paths to the output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DF: weakly defined. The output variable has a value on only some of the paths. This in general indicates a de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DP: strongly dependant. The output variable always depends on the listed input variable(s), i.e., on all paths to the output point. The output variable may be either weakly or strongly defi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DP: weakly dependant. The output variable depends on the listed input variable(s) on a subset of the paths so the output sometimes depends on the input(s). This might indicate a problem so the reasons why need to be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DF: strongly conditionally defined. The output variable is always conditionally dependent on the listed input variable(s) on all paths to the output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CDF: weakly conditionally defined. The output variable that does not always have a value is sometimes conditionally dependant on the listed input variable(s), i.e., on some paths to the output point. Again this may suggest a cause for conc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DP: strongly conditionally dependant. The output variable always depends on the listed input variables(s) but only through different path cho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CDP: weakly conditionally dependant. The output variable sometimes depends on the listed input variables(s) but only because it influences (they influence) the path choice. This may also indicate a cause for conc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 Analysi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can benefit from external information. For example from the requirements analysis, specification or from the design it should be possible state what the dependencies should be and these predictions can be compared with the actual dependen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can therefore detect application dependant fa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n software test tool is based on a firm mathematical foun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many such tools have formal methods built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are however unaware of this fact and hence there is no fear-fa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nd is for ever closer links with more powerful mathematical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is designed to measure the quality and efficacy of the Tes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ification of the Test Data is performed in terms of structural units of the code under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Data is generated in many different ways depending on the ultimate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projects it is enough to generate Test Data just to achieve some structural met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projects the Test Data must be generated directly from requirements and hence any deficiencies in this data reflect directly on the analysis of the requirements. This is the avionic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executing the program with the Test Data is by itself not enough, it is also required that the resultant program outputs be checked for correc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chanism which performs this checking can be human or automa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Data and expected test outcomes therefore form a related p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test fails there are a number of possibiliti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is incorrect</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Data and expected output do not correspond</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acle is faul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quired coverage metrics are not achieved then the possibilities are:</a:t>
            </a:r>
            <a:endParaRPr b="0" lang="en-US" sz="32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unnecessary code in the program</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tested code is infeasible</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Data is inadequate and needs improvemen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t is the Test Data which needs improvement but infeasibility is a serious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Dynamic Analysis tool, the intrusive probe and non-intrusive probe 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usive probe system puts software probes (counts or procedure calls) into the code being analysed (high level language or assembler). These probes record information about the execution pro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cord is called an execution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ssential to be able to demonstrate that the presence of the probes does not change the functionality of the instrumented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rmally demonstrated by showing that compiler validation suites are not effected by the instrumentation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iler validation suite is designed to show that a compiler performs correct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intrusive system obtains the same or similar information directly from the processor, for instance via a JTAG port. The Dynamic Analysis tool then relates this low level information back to the original representation (high level language or assembl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it is not always possible to unambiguously perform this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which make this relationship difficult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optimi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pelining in the proces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thr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ecution history may be a simple record of which basic blocks have been hit (executed), or it may be a complete trace of exactly which statements have been executed and in what sequence together with the variables of specific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is is not the same as debugging but is similar technology applied systematically and subject to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th b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specification is all that is needed to establish the correctness of a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a program with test data and checking the outputs for correctness is all that is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in common us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er1 = </a:t>
            </a:r>
            <a:r>
              <a:rPr b="0" lang="en-US" sz="2000" spc="-1" strike="noStrike" u="sng">
                <a:solidFill>
                  <a:srgbClr val="000000"/>
                </a:solidFill>
                <a:uFillTx/>
                <a:latin typeface="Arial"/>
              </a:rPr>
              <a:t>Number of statements executed by the test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number of executable state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2 = </a:t>
            </a:r>
            <a:r>
              <a:rPr b="0" lang="en-US" sz="2000" spc="-1" strike="noStrike" u="sng">
                <a:solidFill>
                  <a:srgbClr val="000000"/>
                </a:solidFill>
                <a:uFillTx/>
                <a:latin typeface="Arial"/>
              </a:rPr>
              <a:t>Number of control flow branches executed by the test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number of control flow branch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3 = </a:t>
            </a:r>
            <a:r>
              <a:rPr b="0" lang="en-US" sz="2000" spc="-1" strike="noStrike" u="sng">
                <a:solidFill>
                  <a:srgbClr val="000000"/>
                </a:solidFill>
                <a:uFillTx/>
                <a:latin typeface="Arial"/>
              </a:rPr>
              <a:t>Number of LCSAJs executed by the test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number of LCSAJ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level metrics can be gener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metrics satisfy a pure hierarchy, i.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a:t>
            </a:r>
            <a:r>
              <a:rPr b="0" lang="en-US" sz="3200" spc="-1" strike="noStrike" baseline="-25000">
                <a:solidFill>
                  <a:srgbClr val="000000"/>
                </a:solidFill>
                <a:latin typeface="Arial"/>
              </a:rPr>
              <a:t>3</a:t>
            </a:r>
            <a:r>
              <a:rPr b="0" lang="en-US" sz="3200" spc="-1" strike="noStrike">
                <a:solidFill>
                  <a:srgbClr val="000000"/>
                </a:solidFill>
                <a:latin typeface="Arial"/>
              </a:rPr>
              <a:t> = 1  =&gt;  Ter</a:t>
            </a:r>
            <a:r>
              <a:rPr b="0" lang="en-US" sz="3200" spc="-1" strike="noStrike" baseline="-25000">
                <a:solidFill>
                  <a:srgbClr val="000000"/>
                </a:solidFill>
                <a:latin typeface="Arial"/>
              </a:rPr>
              <a:t>2</a:t>
            </a:r>
            <a:r>
              <a:rPr b="0" lang="en-US" sz="3200" spc="-1" strike="noStrike">
                <a:solidFill>
                  <a:srgbClr val="000000"/>
                </a:solidFill>
                <a:latin typeface="Arial"/>
              </a:rPr>
              <a:t> = 1  =&gt;  Ter</a:t>
            </a:r>
            <a:r>
              <a:rPr b="0" lang="en-US" sz="3200" spc="-1" strike="noStrike" baseline="-25000">
                <a:solidFill>
                  <a:srgbClr val="000000"/>
                </a:solidFill>
                <a:latin typeface="Arial"/>
              </a:rPr>
              <a:t>1</a:t>
            </a:r>
            <a:r>
              <a:rPr b="0" lang="en-US" sz="3200" spc="-1" strike="noStrike">
                <a:solidFill>
                  <a:srgbClr val="000000"/>
                </a:solidFill>
                <a:latin typeface="Arial"/>
              </a:rPr>
              <a:t> = 1</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wo metrics were in use in the 1940s and the third dates from the 1970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a:t>
            </a:r>
            <a:r>
              <a:rPr b="0" lang="en-US" sz="3200" spc="-1" strike="noStrike" baseline="-25000">
                <a:solidFill>
                  <a:srgbClr val="000000"/>
                </a:solidFill>
                <a:latin typeface="Arial"/>
              </a:rPr>
              <a:t>2</a:t>
            </a:r>
            <a:r>
              <a:rPr b="0" lang="en-US" sz="3200" spc="-1" strike="noStrike">
                <a:solidFill>
                  <a:srgbClr val="000000"/>
                </a:solidFill>
                <a:latin typeface="Arial"/>
              </a:rPr>
              <a:t> became an industrial norm during the late 1960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of many millions of lines of code were tested to this level in the 196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dustrial norm is to test all the branches i.e. Ter</a:t>
            </a:r>
            <a:r>
              <a:rPr b="0" lang="en-US" sz="2800" spc="-1" strike="noStrike" baseline="-25000">
                <a:solidFill>
                  <a:srgbClr val="000000"/>
                </a:solidFill>
                <a:latin typeface="Arial"/>
              </a:rPr>
              <a:t>2</a:t>
            </a:r>
            <a:r>
              <a:rPr b="0" lang="en-US" sz="2800" spc="-1" strike="noStrike">
                <a:solidFill>
                  <a:srgbClr val="000000"/>
                </a:solidFill>
                <a:latin typeface="Arial"/>
              </a:rPr>
              <a:t> = 1. This was the level selected for the Do178-b avionics stand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vel was however supplemented by the MCDC additional requirement which applies to conditional expressions containing the logical ‘and’ and ‘or’ oper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quires each sub-condition to be executed independently (of the other sub-conditions) both true and fa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mandated in Do178b since 1992, supplemented by MCDC (multiple condition decision coverage). Probably thousands of projects have been tested to this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levels Ter</a:t>
            </a:r>
            <a:r>
              <a:rPr b="0" lang="en-US" sz="3200" spc="-1" strike="noStrike" baseline="-25000">
                <a:solidFill>
                  <a:srgbClr val="000000"/>
                </a:solidFill>
                <a:latin typeface="Arial"/>
              </a:rPr>
              <a:t>3</a:t>
            </a:r>
            <a:r>
              <a:rPr b="0" lang="en-US" sz="3200" spc="-1" strike="noStrike">
                <a:solidFill>
                  <a:srgbClr val="000000"/>
                </a:solidFill>
                <a:latin typeface="Arial"/>
              </a:rPr>
              <a:t> = 1 have been mandated for many other projects, aerospace, telephony, banking,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nguages of the C family the languages require short circuit evaluation to be performed for the logical ‘and’ and ‘or’ operato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for these languages MCDC is subsumed into branch testing. The requirement to hold the other sub-conditions constant becomes just part of the equivalent test set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Analysi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 Dynamic Analysis point of view MCDC adds essentially nothing for these langu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rom the literature one would be excused for believing that this a draconian additional requir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organisations (such as code generator vendors) claim that it will dramatically increase their costs to test to this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common forms of Dynamic Analysis techniques is unit tes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echnique procedures or collections of procedures are tested in isolation from the complete system in order to establish that they satisfy specific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equirements include but are wider than those of the specific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ments are wider than those of the project so that, for example, boundary condition testing can be performed.</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is performed in the actual (target) environment using the actual semantics rather than alternative (on a host or simulator) or modelled as in formal meth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face to each procedure is tested for input values which may be excluded by higher level procedures.  Therefore, generality is being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ly, otherwise infeasible, protective code components can be tested.  Some instances of coincidental correctness can be removed, i.e. in the bigger system a procedure may be called when it should not or is not called when it should, and this may hide de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we are dealing with a smaller component, it is easier to observe incorrect behaviour and hence detect faults, i.e. the oracle is simpler and more sensi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loration of housekeeping code can be accomplished more easily.  In extreme cases, the unit is purely performing housekeeping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sensitivity is increased, this is the sensitivity of the oracle to coincidental correctness and the insensitivity of the system outputs to internal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numerical calculation to compute the binding energy of three nucleons. The problem is fully specified by a system of partial differential equations and boundary 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a program to solve this problem is infeasible because we cannot compare the output with a value from requirements, it is unkn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sue of how to handle procedures called by the unit under test is highly compl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use the actual procedures or alternatively replace them by a Stu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b usually has a significantly simplified functionality, often just a table relating inputs to outp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ven procedure cannot usually be tested until the appropriate preconditions on the data items have been satisfied, for example the initialisations of the global variables and actual parameters have to be performed fir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ften requires a sequence of other procedures to be called in order to perform this ta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most unit tests will require such a sequence to be execu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often another sequence must be performed afterwards in order to perform certain checks on the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ing</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major contributor to the demonstration that the code implements no unnecessary requir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of the global interface to the unit is accurately known and any defects in that interface can be det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full interface being tested this is one technique which can detect logic faults.  Thus missing paths can be detec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the biggest contributory factor is the fact that the interface to the units has to be accurately known and hence this forces a very careful design proc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Conformance Analysi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design (or earlier) it is possible and sometimes required, that assertions can be made about particular characteristics of the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onditions for a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conditions for a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invari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Conformance Analysi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ssertions are typical of those that are required for formal meth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they are embedded in the code as annotations (special forms of comments) then they can be translated automatically into code and they become part of the executing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o handle this (even some compilers) have been available since the 1960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Conformance Analysi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ecial tool will provide the accompanying housekeeping code which generates the messages, collects statistics and produces re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vantage of this approach over the corresponding Static Analysis method is that it will always work regardless of dialectic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works with the actual semantics of the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incidental correctness</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ajor programs with computer software is coincidental correctness, i.e. getting the right results for the wrong rea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Analysis is one way in which it can be established that the computations went through the correct co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ly this means that the requirements can be traced through the test data to the actual code and the hence provide complete visi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requirement of Do178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the tool produce many false positive repor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occur when the tool reports faults which are not actually present. This happens due to a number of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is unable to be sure that the fault does not exist but warns in case it is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false positives is not necessarily a reflection of a poor tool (i.e. a bug) but rather reflects the complexity of the task and the inadequate information available due to poor language desig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is array checking in C where arrays can decay to pointers and then after some pointer arithmetic again reappear as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the tool produce false negative repor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nverse where the tool fails to report a defect when one is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the problem is not only bugs in the tool but is more likely to be due to the difficulty of designing algorithms which work for all the language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f establishing criteria which will establish that the delivered system is the ‘right’ system is not a trivial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be necessary to demonstrate what it cannot 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is not “what is the system supposed to do” but rather “how can we identify that it is doing it correc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incidental correctness is a huge proble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the tool identify too many faul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a major problem. If the code is not carefully written (as in legacy code) then the number of messages can be overwhel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of the order of ten messages per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 the tool take too lo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the issue of time is not significant unless of course it is exces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er the tool the more often it can be u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the time taken depends largely on how complex are the checks being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es the tool work across the complete 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important issue because some faults can only be detected when the whole system is analy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major problems when working with systems composed of multiple file (translation un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esirable to analyse each file separately so that changes to one file don’t require the whole system to be reanaly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 system wide</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ocedural recursion. Even in a single file this causes problems because neither procedure can be analysed fully until the other one has been analy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out is that the termination paths have to be identified and used in a first pass and then the whole must be reanalysed. If the procedures are in different files then all the files must be analysed at least tw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 system wide</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orm of problem occurs when procedural dependencies are across file boundaries. Let file A contain procedures P and Q. Let file B contain procedures R and 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ocedure P call procedure R then file B should be analysed before file A. But if procedure S calls procedure B then the converse is true and a conflict occu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of this problem requires some complex analysis algorith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lacement of procedures can increase the time taken for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dialect dependencies does the tool posses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pilers implement their own version of the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n order to analyse the resultant code the analysis tool must have the appropriate gramm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one tool has an adaptive grammar which can handle a wide class of similar gramm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problem occurs with the seman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whole test tools are less sensitive to the semantic vari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of a dramatic variation occurs in the updating of a global variables which are also passed as parameters. Some compilers update when the parameter changes, others update only on exit from th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limitations does the tool poss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ools possess limita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involve amount of code which can be analys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th of blocks which can be handl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acket nested depth permit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table s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will the tool be incorporated into the development proc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rganisations give no prior thought as to how verification tools can be incorporated into the development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quire that the tools fit into their development scheme without difficu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issue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erospace company bought a verification tool in order to show evidence for Do178b certif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rote the software, loaded it into a test rig and ran tests over several month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ied that the code was right they then performed the Analysis. The code fail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de had to be modified and the test rig tests had to be re-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i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in software verification is to ensure that there are no failures during execution of th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ilure is a departure from the actual correct functionality ( i.e. the actual requirements not the state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ilure is caused by a system fa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esting and proof</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widespread belief that Formal methods with the associated concept of proof are totally orthogonal to test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is is not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specific conditions a test activity will constitute a full formal pro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esting and proof</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path implements a polynomial of degree n then n+1 distinct sets of test data which get the right results establishes the correctness of the p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is is performed for all paths then the whole program is rigorously proved corr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Analysis can establish if this is tr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have shown that most program paths compute very simple polynomi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esting and proof</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down side to this is that almost nobody tests every p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not every path needs to be executed because every path is composed from smaller units which are common to all paths. For example a Basic Block is also a basis path. An LCSAJ is also a basis path which is larger than a Basic Blo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cessary algebra for this has never been under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esting and proof</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down side is that whilst the paths as implemented have been shown to be correct there is no evidence that the full range has been successfully impleme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spect can only be established by analysing the ranges covered by the test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plains why it has become normal practice to use systematic test data generators or unit test tools which explore the entire range of the inpu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Verification</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tools are software systems like an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be verified just the same as an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they can be subjected to both Static and Dynamic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cludes compilers, verification tools, proof engin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verification</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able that in Do178b it is recognised that compiler vendors are not going to demonstrate the quality of their products so the user must provide at least a minimal demonstration of correct func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reliance in Do178b however is on proving the efficacy of the bin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 verification</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o178c it has been proposed that auto-code tools should be verified to the level of the software which they pro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huge resistance to this con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tools are not required to be verified to the same level as the code they are analysing. This is because they are not in the direct line of the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test tools are highly sophisticated and incorporate many advanced algorith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statements such 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technique is cheaper than tes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is what is being defined as ‘testing’ and how are costs being calcu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technique finds more faults than tes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the question is how is this claim established? What is being compa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cannot show the absence of err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nifestly can show the complete absence of wide classes or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cannot prove the software is corr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proof that the software is correct, the difficulty is with completen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atter how the software is verified it can still fail in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s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understood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issues, such as sensor drift, which change the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4:11:18Z</dcterms:created>
  <dc:creator>Mike Hennell</dc:creator>
  <dc:description/>
  <dc:language>en-US</dc:language>
  <cp:lastModifiedBy>Mike Hennell</cp:lastModifiedBy>
  <dcterms:modified xsi:type="dcterms:W3CDTF">2007-12-04T16:59:47Z</dcterms:modified>
  <cp:revision>26</cp:revision>
  <dc:subject/>
  <dc:title>Software Tool Issues</dc:title>
</cp:coreProperties>
</file>