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11E-3AE4-4626-8CC8-7EF3F364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E30F-DC69-44F1-A431-09994A7E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78B-E433-469E-85A7-4AAFAC09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9492-9054-495F-BA11-2B8E91A0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01DA-95B1-4072-B8A7-F6620CD3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6891-4377-4D0E-968A-9A43B7F0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1244-8D99-43DE-A4F4-3B0A2C67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0E0D-8BBD-410F-AD41-CF1060F7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C31C-8025-4319-BA33-168E5802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0E84-AAA3-4A96-9800-7208EDBB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3D61-E353-41B7-AB26-ABF5F9DA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7A6F-A4F3-4593-9B15-E1D97760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6153-F312-4A76-8A39-3F0136A4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7EC2-8E65-4E95-9D35-8094112E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C5D1-D53B-4276-844F-B1C6E8BB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A6EB-2A0B-48E5-B91B-51E4C92E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696A-D6E1-4DE0-BCE1-DCF9BA1F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E6E8-846B-4885-A516-988C146B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BDD7-5CD7-46E4-A655-8E34A9D0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E6E-09D6-4F34-8E04-F427B3A6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858B-8D0A-4F5D-A454-00423E71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760C-BF80-4B29-874D-38FB52C2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117-0EF7-4CCE-86BF-EE47F658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862F-D52C-4552-8864-EF480530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A9B2-FB4F-4EF2-A55B-325DAC2D213E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5FF8-C93E-4B65-AACC-8E46F3EFBC92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545472"/>
                </a:solidFill>
                <a:latin typeface="Tahoma"/>
              </a:rPr>
              <a:t>ECI – UFM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95280" y="16761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45472"/>
                </a:solidFill>
                <a:latin typeface="arial"/>
              </a:rPr>
              <a:t>3 Process Improvement Approaches and Models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545472"/>
                </a:solidFill>
                <a:latin typeface="arial"/>
                <a:ea typeface="arial"/>
              </a:rPr>
              <a:t>3.1 An Experience on Implementing the CMMI in a Small Organization Using the Team Software Process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Sistemas de Informaçã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Prof. Marcelo Bax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Aluno: Cláudio Cost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3028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Introdu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45472"/>
                </a:solidFill>
                <a:latin typeface="Tahoma"/>
              </a:rPr>
              <a:t>CMMI (2002) modelo referenci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45472"/>
                </a:solidFill>
                <a:latin typeface="Tahoma"/>
              </a:rPr>
              <a:t>Auxilio nas atividades de SPI – SCAMPI – Standard CMMI Appraisal Method for Process Improvem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71200" y="-477720"/>
            <a:ext cx="81630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The company environment and Strategy for implementing the SP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QuarkSoft</a:t>
            </a:r>
            <a:r>
              <a:rPr b="0" lang="pt-BR" sz="2800" spc="-1" strike="noStrike" baseline="30000">
                <a:solidFill>
                  <a:srgbClr val="545472"/>
                </a:solidFill>
                <a:latin typeface="Tahoma"/>
                <a:ea typeface="Times New Roman"/>
              </a:rPr>
              <a:t>®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Pequena empresa de desenvolvimento de softwar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Aproximadamente 50 engenheiros de softwar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10 profissionais administrativo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2 profissionais SEPG e Q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Todos projetos seguem o Personal Software Process (PSP) e metodologia TSP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Todos os engenheiros são treinados em PSP e TSP caso ele sejam empregado/solicitado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71200" y="-477720"/>
            <a:ext cx="81630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The company environment and Strategy for implementing the SP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O tamanho dos projetos desenvolvidos estão acima de 76.158 linhas de código (LOC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Duração de duas semanas a 8.300 hora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Equipe composta de 3 a 14 pessoa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Algumas linguagens de programação utilizadas: Progress, .Net, C++, Java e J2E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71200" y="-477720"/>
            <a:ext cx="81630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The company environment and Strategy for implementing the SP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riada com o objetivo e compromisso em desenvolver software de qualida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iciativa SPI e uso de modelo SW-CMM e TSP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odelo IDEAL escolhido para auxiliar a implementação de SPI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71200" y="-477720"/>
            <a:ext cx="81630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The company environment and Strategy for implementing the SP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ra iniciar o esforço de SPI três questões foram feitas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orque devemos melhorar?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co na qualidade desde a criação da empres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Melhoria no processo de software visando manter forte posição competitiva baseado na habilidade de seguir processos maduros e produzir produtos de qualidade – poucos defeitos, no prazo e no orçamento, alta produtividade, ciclo de vida reduzido, e estimação precis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71200" y="-477720"/>
            <a:ext cx="81630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The company environment and Strategy for implementing the SP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O que devemos fazer para alcançar capacidade de software superior?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ahoma"/>
              </a:rPr>
              <a:t>Modelos disponívei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ahoma"/>
              </a:rPr>
              <a:t>Padrões internacionais como ISSO 9001(SPICE 15504) e SW-CMM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ahoma"/>
              </a:rPr>
              <a:t>Comparação de praticas atuais X recomendação fornecidas pelos modelo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ahoma"/>
              </a:rPr>
              <a:t>QuarkSoftw decidiu utilizar SW-CMM como modelo de referência e CBA IPI para fazer avaliação interna e assim determinar o que é necessário melhora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71200" y="-477720"/>
            <a:ext cx="81630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The company environment and Strategy for implementing the SP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mo fazer as melhorias?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ara executar a iniciativa SPI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PSP no nível individua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TSP no nível de equip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PG no nível organizacional para auxiliar estabelecer definição, controle e tarefas de melhorias necessárias para iniciar o programa de melhoria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71200" y="-477720"/>
            <a:ext cx="81630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The company environment and Strategy for implementing the SP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No iníci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TSP foi largamente utilizado na empresa por todas as equipes no desenvolvimento e manutenção de softwar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Uso de TSP pela equipe de gestão da empresa como metodologia de apoio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Release de TSP e SW-CMM gap analisys com promessa de implementação rápida de alto nível de maturidade em um curto período de tempo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71200" y="-477720"/>
            <a:ext cx="81630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The company environment and Strategy for implementing the SP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MMI liberada em 2002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va referência no modelo de process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SW-CMM e CMMI Implementation Using TS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Descrever as implementações SW-CMM e CMM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Seguiu o modelo IDEAL como o modelo de ciclo de vida SPI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TSP como processo bas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Descrever a implementação através das cinco fases do modelo IDEA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Foco maior na implementação SW-CMM (primeros ciclos de melhorias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Implementação de CMMI (últimos ciclos de melhorias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3028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Resum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Uso de Team Software Process (TSP) como base para Implementar uma SPI initiative numa pequena empresa de desenvolvimento de softwa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Modelo IDEAL foi escolhido como modelo de ciclo de vid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Melhoria organizaciona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Planejamento e implementação de ações de melhori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2002: CMMI foi escolhido como novo modelo de process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SW-CMM e CMMI Implementation Using TS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Initiating – Inicia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Fase inicia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A iniciativa de SPI veio dos executivos da empres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Empresa criada com o objetivo e compromisso em desenvolver software de qualidade com enfase em melhoria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Manter uma forte posição competitiv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Os executivos estavam cientes do volume de trabalho, esforço e investimento necessário para implementar o programa SPI e estavam disposto a apoiar a iniciativa SPI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SW-CMM e CMMI Implementation Using TS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Diagnostic – Diagnóstic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Aplicação de versão reduzida do CBA IPI visando avaliar as melhorias feitas nos ciclos de SPI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SCAMPI classe B e ARC C foi executado com liberação do CMMI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Na fase de diagnóstico e em cada clico de melhorias, a idéia era caracterizar o estágio real dos processos implementados e determinar o gap real do TSP implementado na organização e o SW-CMM desde que algum desvio processo do TSP exist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SW-CMM e CMMI Implementation Using TS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Como o diagnóstico, uma das recomendações foi o uso de KPAs do SW-CMM nível 2, nível 3, nível 4 e então nível 5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Outra recomendação foi seguir processos existentes ditados pelo PSP e TSP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Descoberta que algumas práticas do processo TSP não estavam sendo seguido fielment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Recomendação: Certificar que TSP seja seguido por todos os engenheiro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SW-CMM e CMMI Implementation Using TS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Establishing – Estabeleciment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O resultado da fase estabelecimento é um planejamento de implementação detalhado que inclui vários itens como ações específicas, schedule, milestone, deliverables, pontos de decisão, recursos, responsabilidades, métricas, tracking mechanisms, e estratégias de migração e risco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Um TSP foi executado para definir o planejamento detalhado para a fase estabelecimento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SW-CMM e CMMI Implementation Using TS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Acting – Agi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Na fase de estabelecimento, o TSP foi utilizado como ferramenta de suporte para adquirir planejamento detalhado para implementar o SPI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Durante a fase de ação foi apenas um assunto de execução do plano seguindo a estratégia do TSP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Os recursos utilizados pela empresa para implementar os planos foi a equipe SEPG e todos os engenheiros de softwar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Os passos recomendados pela fase de ação IDEAL (create solution, pilot!test, solution, implement solution) foi seguido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SW-CMM e CMMI Implementation Using TS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Learning – Aprendizage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Medidas e indicadores foram sendo coletados de modo incremental como experiência de aprendizado de como coisas estavam trabalhando e de como coisas poderiam ser feitas mais eficiente e efetivament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Nos encontros semanais e nos recomeços, as necessidades identificadas durante a fase inicial foram revistas para ver se elas tinha sido encaminhada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Lessons Learned and Conclus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xperiências recentes usando TSP como fundamento para implementar SW-CMM e CMMI em pequenas empresas mostrou que TSP torna fácil a implementação de SW-CMM e CMM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SP tenha boa cobertura de SW-CMM e CMMI no nível de projet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ssegurar que TSP e PSP sejam seguidos fielmente por todas as equipes e engenheiros de software da empres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Lessons Learned and Conclus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erramenta de diagnóstico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BA IPI e SCAMPI B provaram ser convenientes e útei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W-CMM-to-TSP e TSP-to-CMMI consideradas ferramentas de grande valor para definir estratégias e para fazer planejamentos detalhado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Lessons Learned and Conclus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mplementar uma iniciativa baseada nos produtos SEI foi um boa decisã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 família de produtos inclui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odelos - SW-CMM e CMMI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odelos de ciclo de vida – IDEA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étodos de avaliação– CBA-IPI e SCAMPI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ocessos específicos – TSP e PSP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stes produtos provem um conjunto consistente e complementar de ferramentas que facilitam a implementação de um SPI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Lessons Learned and Conclus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m particular, TSP cobre bem os modelos SW-CMM e CMMI no nível de projeto, que representa um enorme atalho para implementação de modelo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3028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Introdu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Software Process Improvement (SPI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tornou-se um tópico importante na parte teórica de Engenharia de Softwar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Empresa de software busca ser competitiva no mercado globalizado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Principais objetivos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Produzir software de qualidad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Dentro do prazo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Dentro do orçamento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Com as funcionalidades desejada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3028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Introdu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45472"/>
                </a:solidFill>
                <a:latin typeface="Tahoma"/>
              </a:rPr>
              <a:t>Qualidade em SPI basea-se na premissa que processos maduros e capazes podem gerar produtos de qualida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45472"/>
                </a:solidFill>
                <a:latin typeface="Tahoma"/>
              </a:rPr>
              <a:t>Teoria de qualidade de software basea-se principalmente nos trabalhos desenvolvidos nas ultimas décadas por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Shewhart, Deming, Crosby, Juran e Humphre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028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Introdu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45472"/>
                </a:solidFill>
                <a:latin typeface="Tahoma"/>
              </a:rPr>
              <a:t>Nos últimos anos diferentes esforços, iniciativas, metodologias, modelos e padrão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Six-Sigma Software, Metodologias ageis, EIA/IS 731, ISSO/IEC 15504(SPICE), SW-CMM e CMMI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3028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Introdu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SW-CM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Proposto pela SEI na Universidade de Carnegie Mell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Resolver problema "Crise de Software"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Modelo de referencia para melhoria de processo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Considerado "guia" para o SPI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Tem maior influência na comunidade de software ao redor do mundo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CMM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Proposto pela SEI na Universidade de Carnegie Mell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Novo modelo de referencia proposto para substituir o SW-CMM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Modelo padrão de referencia para melhoria de processos ao redor do mundo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028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Introdu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Team Software Process (TSP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Desenvolvido pela SEI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Projetada para facilitar uma performance superior da equipe de desenvolvimento de softwar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É uma metodologia que auxilia as organizações implantar processos e melhores prática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Incluído nos modelos SW-CMM e CMMI – no nível de equipe e projeto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3028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Introdu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MM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mplementado com sucesso em muitas das grandes empresas de desenvolvimento e manutenção de softwar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uitas pequenas empresas de software estão esforçando para implementar estes modelos de referênci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Razão é a falta de orientação para implementar uma iniciativa de SPI em pequenos ambientes, assim como o custo e tempo que isto tom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 TSP está sendo utilizado como metodologia para SPI em pequenas configurações com muitas casos de sucesso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3028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Introdu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Veremos uma experiência de como TSP foi utilizado como base para implementar uma iniciativa de SPI numa pequena empresa de desenvolvimento de softwa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SW-CMM escolhido modelo de referência para melhorias de processo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Modelo IDEA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Modelo de ciclo de vid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Iniciativas de melhorias organizaciona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ahoma"/>
              </a:rPr>
              <a:t>Planejar e implementar ações de melhori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45472"/>
                </a:solidFill>
                <a:latin typeface="Tahoma"/>
              </a:rPr>
              <a:t>Auxilio de SPI – CBA IPI – Capability Maturity Model Based Assessment for Internal Process Improvemen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3:03:09Z</dcterms:created>
  <dc:creator>bhx0514</dc:creator>
  <dc:description/>
  <dc:language>en-US</dc:language>
  <cp:lastModifiedBy>bhx0514</cp:lastModifiedBy>
  <dcterms:modified xsi:type="dcterms:W3CDTF">2006-05-03T18:42:05Z</dcterms:modified>
  <cp:revision>103</cp:revision>
  <dc:subject/>
  <dc:title>ECI - UFMG</dc:title>
</cp:coreProperties>
</file>