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7769-1DB9-410E-A5C7-37EE6D316CE1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As prioridades definidas nesta fase dizem respeito ao esforço da mudanç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As realidades organizacionais impossibilitam fazer tudo, uma vez qu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Os recursos necessários para melhoria são limitado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Existem dependências entre atividades recomendad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Fatores externos podem intervi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dades organizacionais estratégicas devem ser honrad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Mudança quase sempre requer que escolhas sejam feita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Novas recomendações devem surgir baseadas nestas escolha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As prioridades definidas nesta fase dizem respeito ao esforço da mudanç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As realidades organizacionais impossibilitam fazer tudo, uma vez qu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Os recursos necessários para melhoria são limitado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Existem dependências entre atividades recomendad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Fatores externos podem intervi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dades organizacionais estratégicas devem ser honrad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Mudança quase sempre requer que escolhas sejam feita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Novas recomendações devem surgir baseadas nestas escolha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As prioridades definidas nesta fase dizem respeito ao esforço da mudanç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As realidades organizacionais impossibilitam fazer tudo, uma vez qu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Os recursos necessários para melhoria são limitado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Existem dependências entre atividades recomendad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Fatores externos podem intervi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dades organizacionais estratégicas devem ser honrad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Mudança quase sempre requer que escolhas sejam feita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Novas recomendações devem surgir baseadas nestas escolha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As prioridades definidas nesta fase dizem respeito ao esforço da mudanç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As realidades organizacionais impossibilitam fazer tudo, uma vez qu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Os recursos necessários para melhoria são limitado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Existem dependências entre atividades recomendad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Fatores externos podem intervi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dades organizacionais estratégicas devem ser honrad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Mudança quase sempre requer que escolhas sejam feita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Novas recomendações devem surgir baseadas nestas escolha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As prioridades definidas nesta fase dizem respeito ao esforço da mudanç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As realidades organizacionais impossibilitam fazer tudo, uma vez qu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Os recursos necessários para melhoria são limitado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Existem dependências entre atividades recomendad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Fatores externos podem intervi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dades organizacionais estratégicas devem ser honrad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Mudança quase sempre requer que escolhas sejam feita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Novas recomendações devem surgir baseadas nestas escolha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As prioridades definidas nesta fase dizem respeito ao esforço da mudanç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As realidades organizacionais impossibilitam fazer tudo, uma vez qu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Os recursos necessários para melhoria são limitado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Existem dependências entre atividades recomendad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Fatores externos podem intervi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dades organizacionais estratégicas devem ser honrad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Mudança quase sempre requer que escolhas sejam feita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Novas recomendações devem surgir baseadas nestas escolha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As prioridades definidas nesta fase dizem respeito ao esforço da mudanç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As realidades organizacionais impossibilitam fazer tudo, uma vez qu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Os recursos necessários para melhoria são limitado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Existem dependências entre atividades recomendad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Fatores externos podem intervi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dades organizacionais estratégicas devem ser honrad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Mudança quase sempre requer que escolhas sejam feita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Novas recomendações devem surgir baseadas nestas escolha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As prioridades definidas nesta fase dizem respeito ao esforço da mudanç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As realidades organizacionais impossibilitam fazer tudo, uma vez qu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Os recursos necessários para melhoria são limitado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Existem dependências entre atividades recomendad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Fatores externos podem intervi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dades organizacionais estratégicas devem ser honrad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Mudança quase sempre requer que escolhas sejam feita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Novas recomendações devem surgir baseadas nestas escolha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As prioridades definidas nesta fase dizem respeito ao esforço da mudanç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As realidades organizacionais impossibilitam fazer tudo, uma vez qu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Os recursos necessários para melhoria são limitado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Existem dependências entre atividades recomendad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Fatores externos podem intervi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dades organizacionais estratégicas devem ser honrad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Mudança quase sempre requer que escolhas sejam feita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Novas recomendações devem surgir baseadas nestas escolha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541D-E865-46F9-BEEE-98563A72E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4EEA-011B-4CF7-AD94-392605CF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D5E0-7EDF-4DD5-90DC-7A84865ED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BDFC-0301-44AF-88CF-1134B0E53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E1CE-8B8B-42E6-8314-7FABD2D5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DD3D-9305-4BF7-B1F9-037D7356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211A-5407-4F9B-B8C5-72D9D96F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5559-1190-429A-802C-8825F8DD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65F0-C457-45C7-9D5E-4D04AFF0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3AE0-B6B9-4C78-B175-9D6256B2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E691-D5D8-4D7B-B5E8-B06D2AD3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A652-00C4-47C2-888E-3FE539A2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2D0F-53EC-4B26-9E81-43A5A9F7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4F46-B3AB-47F9-B86C-2F96CFF2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F571-84B8-4DE2-801B-BEDD2FD7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7E83-8625-431D-BEA5-F553C98F2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AA8F-5C8A-4A6C-8C92-BFAEBA5E7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3DEB6-F657-4FE9-8831-16821D0F3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43471-ED20-47D1-9FB6-7866FD20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521B2-77EC-4CA5-8E43-382C9A62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F07B4-A27E-4AD2-A473-7AC8292C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2794B-FDE8-46EE-A453-C82B9895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5232-12ED-4514-92FC-C325833E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BA4F8-CDF6-4E74-8EE1-9B7E987A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106F5-CACF-4000-95DE-6851BB02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6A396-791E-4FE3-A821-CBDA309A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0394C-8098-4C11-BFC0-198D0E11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9BD60-B368-4D45-90E0-DDF605C1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BFE4F-C08A-4C1E-A6D5-875F4F1C1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4C1FB-D9B2-4F6D-B9E2-7BFE9A7F9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A7E9-D360-4916-942F-0FBFC39C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20EB-5191-4064-ACCF-22491943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E1F4-63B4-4CCC-A6FA-6F643ECF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801F-C6D3-4004-8921-F3A36C19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6354-9C78-4177-B7A5-7C49D61E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19CF-2047-4724-BBF5-5DA14556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m 6" descr="Imagem1.jpg"/>
          <p:cNvPicPr/>
          <p:nvPr/>
        </p:nvPicPr>
        <p:blipFill>
          <a:blip r:embed="rId2"/>
          <a:stretch/>
        </p:blipFill>
        <p:spPr>
          <a:xfrm>
            <a:off x="0" y="-12600"/>
            <a:ext cx="9144000" cy="6883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79A3-258F-407C-9378-3ED643D355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m 6" descr="Imagem1.jpg"/>
          <p:cNvPicPr/>
          <p:nvPr/>
        </p:nvPicPr>
        <p:blipFill>
          <a:blip r:embed="rId2"/>
          <a:stretch/>
        </p:blipFill>
        <p:spPr>
          <a:xfrm>
            <a:off x="0" y="-12600"/>
            <a:ext cx="9144000" cy="6883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77F6-997F-4D25-A2E4-72A1C2A647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power_point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284E-C459-4195-83CF-6EF5F42A69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cin.ufpe.br/~rls/ideal/" TargetMode="External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i.cmu.edu/cmm" TargetMode="External"/><Relationship Id="rId2" Type="http://schemas.openxmlformats.org/officeDocument/2006/relationships/hyperlink" Target="http://www.sei.cmu.edu/cmm" TargetMode="External"/><Relationship Id="rId3" Type="http://schemas.openxmlformats.org/officeDocument/2006/relationships/hyperlink" Target="http://www.sei.cmu.edu/cmm" TargetMode="External"/><Relationship Id="rId4" Type="http://schemas.openxmlformats.org/officeDocument/2006/relationships/hyperlink" Target="http://www.sei.cmu.edu/cmm" TargetMode="External"/><Relationship Id="rId5" Type="http://schemas.openxmlformats.org/officeDocument/2006/relationships/hyperlink" Target="http://www.sei.cmu.edu/cmm" TargetMode="External"/><Relationship Id="rId6" Type="http://schemas.openxmlformats.org/officeDocument/2006/relationships/hyperlink" Target="http://www.sei.cmu.edu/cmm" TargetMode="External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71280"/>
            <a:ext cx="6186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infra-estrutura ide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990720"/>
            <a:ext cx="84009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m muitos casos existirá três componente da infra-estrutura SPI (Software Process Improvement) da organizaçã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Grupo de processo de engenharia de software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(SEP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juda a sustentar o programa SPI em um ambiente de mudanç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onstroi e reforça patrocín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limenta e sustenta as atividades de melhoria individu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Garante coordenação dessas atividades ao longo de toda a organizaçã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Grupo de gerenciamento diretor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(MS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Demonstrar patrocínio para o programa SP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locar recursos para as atividades de melho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Monitorar o progresso do programa SP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necer guia e correção das atividades de melhoria quando necessári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rupo de trabalho técnic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TWG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Tem uma vida finita no process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Desenvolver processo de melhoria para uma área específica da organizaçã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71280"/>
            <a:ext cx="6186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infra-estrutura ide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176688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766880" y="1690560"/>
          <a:ext cx="5610240" cy="347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6880" y="1690560"/>
                    <a:ext cx="561024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61862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infra-estrutura ide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1781280" y="27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676520" y="1066680"/>
          <a:ext cx="510516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510516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71280"/>
            <a:ext cx="6186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4264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Calibri"/>
              </a:rPr>
              <a:t>O que é o modelo IDE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Calibri"/>
              </a:rPr>
              <a:t>A infra-estrutura ide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f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s processos de cada f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Estudo de Ca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Conclusõ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71280"/>
            <a:ext cx="6186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 f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/>
          <p:nvPr/>
        </p:nvSpPr>
        <p:spPr>
          <a:xfrm>
            <a:off x="176688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670572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71280"/>
            <a:ext cx="6186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 f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/>
          <p:nvPr/>
        </p:nvSpPr>
        <p:spPr>
          <a:xfrm>
            <a:off x="176688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Espaço Reservado para Conteúdo 2"/>
          <p:cNvSpPr/>
          <p:nvPr/>
        </p:nvSpPr>
        <p:spPr>
          <a:xfrm>
            <a:off x="457200" y="1143000"/>
            <a:ext cx="822960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 fas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ician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stimulo para a mudança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stabelecimento do contexto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strução do patrocínio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stabelecimento da infra-estrutura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066680" y="3581280"/>
            <a:ext cx="604836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71280"/>
            <a:ext cx="6186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 fases - Inician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176688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Espaço Reservado para Conteúdo 2"/>
          <p:cNvSpPr/>
          <p:nvPr/>
        </p:nvSpPr>
        <p:spPr>
          <a:xfrm>
            <a:off x="457200" y="1143000"/>
            <a:ext cx="822960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Estimulo para a mudanç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go que propiciou o uso do modelo IDEA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natureza do estímulo pode variar extensamen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ação a eventos / circunstâncias antecipada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creto de mudança como parte de uma estratégia de mudança contínua pró-ativ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 estímulo pode alcançar influências na condução e no sucesso do esforço da última mudanç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186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 fases - Inician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176688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Espaço Reservado para Conteúdo 2"/>
          <p:cNvSpPr/>
          <p:nvPr/>
        </p:nvSpPr>
        <p:spPr>
          <a:xfrm>
            <a:off x="457200" y="1143000"/>
            <a:ext cx="822960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Estabelecimento do Context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gnifica estar muito certo sobre onde esta mudança se ajusta dentro da estratégia de negócio da organizaçã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ta atividade requer que haja considerações a respeit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a missão central da Organizaçã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os objetivos de negóci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 uma visão coerente para o futur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 uma estratégia para realização da visã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 modelos de referênci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 contexto e as implicações tornam-se freqüentemente mais claros à medida que o esforço prossegu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71280"/>
            <a:ext cx="6186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 fases - Inician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76688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Espaço Reservado para Conteúdo 2"/>
          <p:cNvSpPr/>
          <p:nvPr/>
        </p:nvSpPr>
        <p:spPr>
          <a:xfrm>
            <a:off x="457200" y="1143000"/>
            <a:ext cx="822960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Construção do Patrocíni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atrocinador é o nível mais importante para o esforço de melhori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atrocinadores são mais efetivos se el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ão atenção pessoal ao esforço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ão deixam de lado a mudança em períodos difícei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vêem recursos escassos ao esforço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udam seus próprios comportamentos para ser consistentes com a melhoria que está sendo implementad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É importante construir esforços de gerenciamento crítico logo no início do process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186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 fases - Inician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176688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Espaço Reservado para Conteúdo 2"/>
          <p:cNvSpPr/>
          <p:nvPr/>
        </p:nvSpPr>
        <p:spPr>
          <a:xfrm>
            <a:off x="457200" y="990720"/>
            <a:ext cx="822960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Estabelecimento da Infra-estrutur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Implementar mudança requer freqüentemente o estabelecimento de estruturas organizacionai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A infra-estrutura deve inclui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Um grupo com visão gerencial (pessoas com uma visão mais superio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Um grupo que agencie a mudança (equipe de pessoas monitorada pelo grupo anterio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Um ou mais grupos de trabalho técnico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Estabelecer estes grupos envolve desenvolver um acordo explícito que descreva as responsabilidades de cada u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Para pequenos esforços, a infra-estrutura pode ser de empregados de meio período, para esforços maiores e mais complexos, tais como melhoria de processo de software, pode envolver de 2-3% das pessoas da organizaçã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458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 Modelo IDEAL de Melhoria de Processo de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2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Haglay Alice &lt;hans@cin.ufpe.br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61862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 fases - Inician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176688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1781280" y="27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5760" y="1117440"/>
            <a:ext cx="24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efas - Inician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/>
          <p:nvPr/>
        </p:nvSpPr>
        <p:spPr>
          <a:xfrm>
            <a:off x="434340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343400" y="2300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3762360" y="1143000"/>
            <a:ext cx="1143000" cy="27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1.1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Getting Start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/>
          <p:nvPr/>
        </p:nvSpPr>
        <p:spPr>
          <a:xfrm>
            <a:off x="43434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34340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3809880" y="18288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1.3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uir uma proposta de melhoria do processo de software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3795840" y="259092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1.5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Obter aprovação para a proposta SPI e recursos necessários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/>
          <p:nvPr/>
        </p:nvSpPr>
        <p:spPr>
          <a:xfrm>
            <a:off x="2743200" y="350532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1.6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Estabelecendo estrutura para o processo de melhoria de software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3776760" y="45720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1.8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r metas gerais SPI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5410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1.9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r o guia de princípios para o programa SPI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5257800" y="5410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1.10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Lançamento do Programa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/>
          <p:nvPr/>
        </p:nvSpPr>
        <p:spPr>
          <a:xfrm>
            <a:off x="487692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18288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1.2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r necessidades de negócio e direção para o melhoramento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/>
          <p:nvPr/>
        </p:nvSpPr>
        <p:spPr>
          <a:xfrm>
            <a:off x="5334120" y="18288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1.4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Educar e construir apoio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2895480" y="16002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/>
          <p:nvPr/>
        </p:nvSpPr>
        <p:spPr>
          <a:xfrm>
            <a:off x="289548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59436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24526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5943600" y="2286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/>
          <p:nvPr/>
        </p:nvSpPr>
        <p:spPr>
          <a:xfrm>
            <a:off x="2895480" y="2300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350028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1.7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Avaliar o clima para SPI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32767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/>
          <p:nvPr/>
        </p:nvSpPr>
        <p:spPr>
          <a:xfrm>
            <a:off x="327672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/>
          <p:nvPr/>
        </p:nvSpPr>
        <p:spPr>
          <a:xfrm>
            <a:off x="556272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4191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71280"/>
            <a:ext cx="6186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 fas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/>
          <p:nvPr/>
        </p:nvSpPr>
        <p:spPr>
          <a:xfrm>
            <a:off x="176688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Espaço Reservado para Conteúdo 2"/>
          <p:cNvSpPr/>
          <p:nvPr/>
        </p:nvSpPr>
        <p:spPr>
          <a:xfrm>
            <a:off x="457200" y="1143000"/>
            <a:ext cx="822960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fase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Diagnosticand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senvolver o mais completo entendimento do trabalho de melhori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aracterização do estado atual e do desejad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senvolver recomendaçõe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486400" y="3124080"/>
            <a:ext cx="2224080" cy="2808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3505320" y="4191120"/>
            <a:ext cx="158436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71280"/>
            <a:ext cx="6707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 fases - Diagnostican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/>
          <p:nvPr/>
        </p:nvSpPr>
        <p:spPr>
          <a:xfrm>
            <a:off x="176688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ço Reservado para Conteúdo 2"/>
          <p:cNvSpPr/>
          <p:nvPr/>
        </p:nvSpPr>
        <p:spPr>
          <a:xfrm>
            <a:off x="457200" y="1143000"/>
            <a:ext cx="822960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Caracterização do estado atual e desejad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 Estado Desejado é aquele que a Organização estará depois que a mudança estiver sido implementad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 Estado Atual é aquele que a Organização está agora com respeito ao Estado Desejad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finir estes estados é muito mais fácil se exist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m modelo de referência (ex: CMM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strumentos padronizados e metodologias associadas ao modelo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bjetivos de negócio alinhados com o esforço da mudanç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186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 fases - Diagnostican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/>
          <p:nvPr/>
        </p:nvSpPr>
        <p:spPr>
          <a:xfrm>
            <a:off x="176688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Espaço Reservado para Conteúdo 2"/>
          <p:cNvSpPr/>
          <p:nvPr/>
        </p:nvSpPr>
        <p:spPr>
          <a:xfrm>
            <a:off x="457200" y="1143000"/>
            <a:ext cx="822960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Desenvolver recomendaçõ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Sugere o caminho de como proceder nas atividades subseqüent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Analisa o “gap” entre o Estado Atual e o Estado Desejad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Determina aspectos do Estado Atual para serem retido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Determina o trabalho para alcançar o Estado Desejad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Alinha as recomendações com os objetivos do negóci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Identifica projetos potenciais que poderiam servir como piloto ou test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 fases - Diagnostican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/>
          <p:nvPr/>
        </p:nvSpPr>
        <p:spPr>
          <a:xfrm>
            <a:off x="17524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/>
          <p:nvPr/>
        </p:nvSpPr>
        <p:spPr>
          <a:xfrm>
            <a:off x="455040" y="1117440"/>
            <a:ext cx="322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efas - Diagnostican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0" y="19558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27176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0" y="34797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/>
          <p:nvPr/>
        </p:nvSpPr>
        <p:spPr>
          <a:xfrm>
            <a:off x="4038480" y="1574640"/>
            <a:ext cx="1143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2.1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ar que baselines são necessária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0" y="42418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0" y="50799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2336760"/>
            <a:ext cx="1143000" cy="37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2.2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Plano para as baselines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/>
          <p:nvPr/>
        </p:nvSpPr>
        <p:spPr>
          <a:xfrm>
            <a:off x="4038480" y="3098880"/>
            <a:ext cx="1143000" cy="37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2.3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nduzir Baseline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/>
          <p:nvPr/>
        </p:nvSpPr>
        <p:spPr>
          <a:xfrm>
            <a:off x="4038480" y="3860640"/>
            <a:ext cx="1143000" cy="37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2.4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Apresentar Conclusõe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/>
          <p:nvPr/>
        </p:nvSpPr>
        <p:spPr>
          <a:xfrm>
            <a:off x="4038480" y="462276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2.5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senvolver relatório de recomendações e conclusões finais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/>
          <p:nvPr/>
        </p:nvSpPr>
        <p:spPr>
          <a:xfrm>
            <a:off x="4038480" y="546084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2.6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municar as conclusões e recomendações para a organização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71280"/>
            <a:ext cx="6186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 f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/>
          <p:nvPr/>
        </p:nvSpPr>
        <p:spPr>
          <a:xfrm>
            <a:off x="176688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Espaço Reservado para Conteúdo 2"/>
          <p:cNvSpPr/>
          <p:nvPr/>
        </p:nvSpPr>
        <p:spPr>
          <a:xfrm>
            <a:off x="457200" y="1143000"/>
            <a:ext cx="822960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fase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Estabelecend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senvolver um detalhado plano estratégico de trabalh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stabelecimento de prioridade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senvolver estratégia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lanejamento de açõ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800600" y="3124080"/>
            <a:ext cx="381636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71280"/>
            <a:ext cx="7139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 fases - Estabelecen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/>
          <p:nvPr/>
        </p:nvSpPr>
        <p:spPr>
          <a:xfrm>
            <a:off x="176688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Espaço Reservado para Conteúdo 2"/>
          <p:cNvSpPr/>
          <p:nvPr/>
        </p:nvSpPr>
        <p:spPr>
          <a:xfrm>
            <a:off x="457200" y="1143000"/>
            <a:ext cx="822960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Estabelecimento das prioridad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s prioridades definidas nesta fase dizem respeito ao esforço da mudanç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s realidades organizacionais impossibilitam fazer tudo, uma vez qu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s recursos necessários para melhoria são limitado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istem dependências entre atividades recomendad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atores externos podem intervi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ioridades organizacionais estratégicas devem ser honrad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udança quase sempre requer que escolhas sejam feita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ovas recomendações devem surgir baseadas nestas escolha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8598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 fases - Estabelecen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/>
          <p:nvPr/>
        </p:nvSpPr>
        <p:spPr>
          <a:xfrm>
            <a:off x="176688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Espaço Reservado para Conteúdo 2"/>
          <p:cNvSpPr/>
          <p:nvPr/>
        </p:nvSpPr>
        <p:spPr>
          <a:xfrm>
            <a:off x="457200" y="1143000"/>
            <a:ext cx="822960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Desenvolver estratégi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mbinação do entendimento do esforço de trabalho (obtido na fase diagnosticando) com as prioridades para desenvolver uma estratégia para acompanhar o trabalho e identificar os recursos disponívei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atores técnicos devem incluir as especificidades de instalação da nova tecnologia e novas habilidades e conhecimentos requeridos para usar a tecnologia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atores não-técnicos, inclui a cultura da organização, como fonte de resistência, nível de patrocínio, e forças do mercado, também devem ser considerado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66434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 fases - Estabelecen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/>
          <p:nvPr/>
        </p:nvSpPr>
        <p:spPr>
          <a:xfrm>
            <a:off x="176688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Espaço Reservado para Conteúdo 2"/>
          <p:cNvSpPr/>
          <p:nvPr/>
        </p:nvSpPr>
        <p:spPr>
          <a:xfrm>
            <a:off x="457200" y="1143000"/>
            <a:ext cx="822960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Planejamento das açõ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Com estratégia definida, um plano de detalhamento da implementação pode ser desenvolvid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Este plano inclui: Cronograma,Tarefas, Marcos,Pontos de decisão, recursos, responsabilidades, métricas, mecanismos de monitoramentos, riscos e estratégias de mitigação, e outros elementos requeridos pela organizaçã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1722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 fases - Estabelecen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/>
          <p:nvPr/>
        </p:nvSpPr>
        <p:spPr>
          <a:xfrm>
            <a:off x="167652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/>
          <p:nvPr/>
        </p:nvSpPr>
        <p:spPr>
          <a:xfrm>
            <a:off x="1781280" y="27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/>
          <p:nvPr/>
        </p:nvSpPr>
        <p:spPr>
          <a:xfrm>
            <a:off x="455040" y="1117440"/>
            <a:ext cx="31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efas - Estabelecen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/>
          <p:nvPr/>
        </p:nvSpPr>
        <p:spPr>
          <a:xfrm>
            <a:off x="274320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"/>
          <p:cNvSpPr/>
          <p:nvPr/>
        </p:nvSpPr>
        <p:spPr>
          <a:xfrm>
            <a:off x="2090880" y="23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/>
          <p:nvPr/>
        </p:nvSpPr>
        <p:spPr>
          <a:xfrm>
            <a:off x="1143000" y="1676520"/>
            <a:ext cx="1066680" cy="59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elecione e treine em um processo de planejamento estratégic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/>
          <p:nvPr/>
        </p:nvSpPr>
        <p:spPr>
          <a:xfrm>
            <a:off x="2514600" y="1676520"/>
            <a:ext cx="1066680" cy="60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Reveja a visão da organizaçã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/>
          <p:nvPr/>
        </p:nvSpPr>
        <p:spPr>
          <a:xfrm>
            <a:off x="2209680" y="1981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/>
          <p:nvPr/>
        </p:nvSpPr>
        <p:spPr>
          <a:xfrm>
            <a:off x="2514600" y="2362320"/>
            <a:ext cx="1066680" cy="60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3.3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Reveja o plano de negócios da organização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/>
          <p:nvPr/>
        </p:nvSpPr>
        <p:spPr>
          <a:xfrm>
            <a:off x="2514600" y="3048120"/>
            <a:ext cx="1066680" cy="60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3.4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ar abordagem de negócio chav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/>
          <p:nvPr/>
        </p:nvSpPr>
        <p:spPr>
          <a:xfrm>
            <a:off x="2514600" y="3733920"/>
            <a:ext cx="1066680" cy="60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3.5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Reveja os esforços de melhoramentos passados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/>
          <p:nvPr/>
        </p:nvSpPr>
        <p:spPr>
          <a:xfrm>
            <a:off x="2514600" y="4419720"/>
            <a:ext cx="1066680" cy="60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screver as motivações para melhori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/>
          <p:nvPr/>
        </p:nvSpPr>
        <p:spPr>
          <a:xfrm>
            <a:off x="2514600" y="5181480"/>
            <a:ext cx="1066680" cy="606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3.7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que atual e futuro (planejamento) esforços de melhoria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/>
          <p:nvPr/>
        </p:nvSpPr>
        <p:spPr>
          <a:xfrm>
            <a:off x="2324160" y="198108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/>
          <p:nvPr/>
        </p:nvSpPr>
        <p:spPr>
          <a:xfrm>
            <a:off x="231156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"/>
          <p:cNvSpPr/>
          <p:nvPr/>
        </p:nvSpPr>
        <p:spPr>
          <a:xfrm>
            <a:off x="231156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"/>
          <p:cNvSpPr/>
          <p:nvPr/>
        </p:nvSpPr>
        <p:spPr>
          <a:xfrm>
            <a:off x="2324160" y="4089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/>
          <p:nvPr/>
        </p:nvSpPr>
        <p:spPr>
          <a:xfrm>
            <a:off x="2324160" y="4699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"/>
          <p:cNvSpPr/>
          <p:nvPr/>
        </p:nvSpPr>
        <p:spPr>
          <a:xfrm>
            <a:off x="232416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/>
          <p:nvPr/>
        </p:nvSpPr>
        <p:spPr>
          <a:xfrm>
            <a:off x="3886200" y="1676520"/>
            <a:ext cx="1066680" cy="60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3.8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Finalizar papéis e responsabilidades das várias entidades de infra-estrutura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"/>
          <p:cNvSpPr/>
          <p:nvPr/>
        </p:nvSpPr>
        <p:spPr>
          <a:xfrm>
            <a:off x="3581280" y="1981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/>
          <p:nvPr/>
        </p:nvSpPr>
        <p:spPr>
          <a:xfrm>
            <a:off x="5257800" y="1676520"/>
            <a:ext cx="1066680" cy="60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3.9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Priorizar atividades e desenvolver agenda de melhorias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/>
          <p:nvPr/>
        </p:nvSpPr>
        <p:spPr>
          <a:xfrm>
            <a:off x="4952880" y="1981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/>
          <p:nvPr/>
        </p:nvSpPr>
        <p:spPr>
          <a:xfrm>
            <a:off x="3581280" y="269244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/>
          <p:nvPr/>
        </p:nvSpPr>
        <p:spPr>
          <a:xfrm>
            <a:off x="3581280" y="3352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4038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"/>
          <p:cNvSpPr/>
          <p:nvPr/>
        </p:nvSpPr>
        <p:spPr>
          <a:xfrm>
            <a:off x="3581280" y="4724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/>
          <p:nvPr/>
        </p:nvSpPr>
        <p:spPr>
          <a:xfrm>
            <a:off x="3581280" y="5410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"/>
          <p:cNvSpPr/>
          <p:nvPr/>
        </p:nvSpPr>
        <p:spPr>
          <a:xfrm>
            <a:off x="3733920" y="198108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"/>
          <p:cNvSpPr/>
          <p:nvPr/>
        </p:nvSpPr>
        <p:spPr>
          <a:xfrm>
            <a:off x="4343400" y="28195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" spc="-1" strike="noStrike">
                <a:solidFill>
                  <a:srgbClr val="000000"/>
                </a:solidFill>
                <a:latin typeface="Arial"/>
                <a:ea typeface="Arial"/>
              </a:rPr>
              <a:t>3.10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nciliar a Existentes / Planejados esforços de melhoria como os resultados e  recomendações da Baseline</a:t>
            </a:r>
            <a:r>
              <a:rPr b="0" lang="pt-BR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/>
          <p:nvPr/>
        </p:nvSpPr>
        <p:spPr>
          <a:xfrm>
            <a:off x="5715000" y="28195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3.11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Transformar as metas de melhoria do processo de software geral (SPI) em metas específicas mensuráveis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"/>
          <p:cNvSpPr/>
          <p:nvPr/>
        </p:nvSpPr>
        <p:spPr>
          <a:xfrm>
            <a:off x="7086600" y="28195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3.12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riar/Atualizar o plano estratégico SPI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"/>
          <p:cNvSpPr/>
          <p:nvPr/>
        </p:nvSpPr>
        <p:spPr>
          <a:xfrm>
            <a:off x="4343400" y="4038480"/>
            <a:ext cx="1066680" cy="606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3.13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uir consenso, rever, e aprovar o plano estratégico SPI e comprometer recursos para a ação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/>
          <p:nvPr/>
        </p:nvSpPr>
        <p:spPr>
          <a:xfrm>
            <a:off x="5715000" y="4038480"/>
            <a:ext cx="1066680" cy="606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3.14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Formar o grupo de trabalho técnico (TWG)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"/>
          <p:cNvSpPr/>
          <p:nvPr/>
        </p:nvSpPr>
        <p:spPr>
          <a:xfrm>
            <a:off x="6324480" y="1981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4038120" y="25146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/>
          <p:nvPr/>
        </p:nvSpPr>
        <p:spPr>
          <a:xfrm>
            <a:off x="4038480" y="2514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"/>
          <p:cNvSpPr/>
          <p:nvPr/>
        </p:nvSpPr>
        <p:spPr>
          <a:xfrm>
            <a:off x="40384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/>
          <p:nvPr/>
        </p:nvSpPr>
        <p:spPr>
          <a:xfrm>
            <a:off x="54100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"/>
          <p:cNvSpPr/>
          <p:nvPr/>
        </p:nvSpPr>
        <p:spPr>
          <a:xfrm>
            <a:off x="8153280" y="3124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"/>
          <p:cNvSpPr/>
          <p:nvPr/>
        </p:nvSpPr>
        <p:spPr>
          <a:xfrm>
            <a:off x="8458200" y="3124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4038120" y="380988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"/>
          <p:cNvSpPr/>
          <p:nvPr/>
        </p:nvSpPr>
        <p:spPr>
          <a:xfrm>
            <a:off x="403848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"/>
          <p:cNvSpPr/>
          <p:nvPr/>
        </p:nvSpPr>
        <p:spPr>
          <a:xfrm>
            <a:off x="4038480" y="4343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"/>
          <p:cNvSpPr/>
          <p:nvPr/>
        </p:nvSpPr>
        <p:spPr>
          <a:xfrm>
            <a:off x="5410080" y="4343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5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5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80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95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5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0"/>
                            </p:stCondLst>
                            <p:childTnLst>
                              <p:par>
                                <p:cTn id="3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500"/>
                            </p:stCondLst>
                            <p:childTnLst>
                              <p:par>
                                <p:cTn id="3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80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9500"/>
                            </p:stCondLst>
                            <p:childTnLst>
                              <p:par>
                                <p:cTn id="3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500"/>
                            </p:stCondLst>
                            <p:childTnLst>
                              <p:par>
                                <p:cTn id="40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0"/>
                            </p:stCondLst>
                            <p:childTnLst>
                              <p:par>
                                <p:cTn id="4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6500"/>
                            </p:stCondLst>
                            <p:childTnLst>
                              <p:par>
                                <p:cTn id="4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8000"/>
                            </p:stCondLst>
                            <p:childTnLst>
                              <p:par>
                                <p:cTn id="4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9500"/>
                            </p:stCondLst>
                            <p:childTnLst>
                              <p:par>
                                <p:cTn id="4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71280"/>
            <a:ext cx="6186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tivaçã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ço Reservado para Conteúdo 2"/>
          <p:cNvSpPr/>
          <p:nvPr/>
        </p:nvSpPr>
        <p:spPr>
          <a:xfrm>
            <a:off x="457200" y="1143000"/>
            <a:ext cx="822960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s organizações estão reconhecendo cada vez mais a necessidade de implementação de um guia especifico quando elas adotam novas ferramentas de engenharia de software, processos e métodos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uitos esforços de melhoria, incluindo melhoria do processo de software, necessitam de contínuo gerenciamento de riscos, ou a introdução de um novo ambiente de desenvolvimento, são tão complexos, e seus efeitos tão de longo alcance, que eles requerem uma abordagem especializada e sistemática para gerenciar o ciclo de vida de adoção da tecnologi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71280"/>
            <a:ext cx="6186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 f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"/>
          <p:cNvSpPr/>
          <p:nvPr/>
        </p:nvSpPr>
        <p:spPr>
          <a:xfrm>
            <a:off x="176688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Espaço Reservado para Conteúdo 2"/>
          <p:cNvSpPr/>
          <p:nvPr/>
        </p:nvSpPr>
        <p:spPr>
          <a:xfrm>
            <a:off x="457200" y="1143000"/>
            <a:ext cx="822960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A fase </a:t>
            </a: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Agind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Implementar o trabalho que tem sido conceitualizado e planejado nas três fases anteriores. Esta fase tipicamente consome mais recursos e tempo que todas as outras fases combinada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riar solução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Execução e teste da solução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Refinamento da solução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Implementação da soluçã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6781680" y="3200400"/>
            <a:ext cx="13906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71280"/>
            <a:ext cx="6186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 fases - Agin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/>
          <p:nvPr/>
        </p:nvSpPr>
        <p:spPr>
          <a:xfrm>
            <a:off x="176688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Espaço Reservado para Conteúdo 2"/>
          <p:cNvSpPr/>
          <p:nvPr/>
        </p:nvSpPr>
        <p:spPr>
          <a:xfrm>
            <a:off x="457200" y="1143000"/>
            <a:ext cx="822960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Criar soluçã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A fase agindo começa trazendo todos os elementos chaves disponíveis para criar a melhor solução que endereça a necessidade organizacional identificada anteriormente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Esses elementos chaves devem incluir as ferramentas existentes, processos, conhecimentos, e habilidades, tanto quanto novos conhecimentos, informação, e ajuda externa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A solução é frequentemente criada pelo grupo de trabalho técnic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A Solução não precisa ser perfeita, mas deveri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Identificar a performance dos objetivo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Finalizar o grupo que testará usando um projeto piloto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Construir um material da solução e treinar o grupo de teste do projeto piloto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Desenvolver um draft de um plano de teste do projeto piloto e implementação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186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 fases - Agin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"/>
          <p:cNvSpPr/>
          <p:nvPr/>
        </p:nvSpPr>
        <p:spPr>
          <a:xfrm>
            <a:off x="176688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spaço Reservado para Conteúdo 2"/>
          <p:cNvSpPr/>
          <p:nvPr/>
        </p:nvSpPr>
        <p:spPr>
          <a:xfrm>
            <a:off x="457200" y="1143000"/>
            <a:ext cx="822960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Execução e testes da soluçã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Uma vez que a solução tem sido criada, ela deve ser testada. A solução raramente trabalha exatamente como planejad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É frequentemente acompanhada a um teste piloto, mas outros caminhos podem ser usado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Treinar o grupo de teste do projeto pilot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Checar a performance do teste do projeto pilot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Colher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186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 fases - Agin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"/>
          <p:cNvSpPr/>
          <p:nvPr/>
        </p:nvSpPr>
        <p:spPr>
          <a:xfrm>
            <a:off x="176688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Espaço Reservado para Conteúdo 2"/>
          <p:cNvSpPr/>
          <p:nvPr/>
        </p:nvSpPr>
        <p:spPr>
          <a:xfrm>
            <a:off x="457200" y="1143000"/>
            <a:ext cx="822960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Refinamento da soluçã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ma vez que a solução tem sido testada, ele deveria se modificada para refletir o conhecimento, experiência e lições que foram obtidas do teste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uitas iterações do processo de refinamento do teste podem ser necessárias para alcançar a solução satisfatória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ma solução deve ser executada antes de ser implementada, mas esperar por uma solução “perfeita” pode desnecessariamente atrasar a implementaçã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71280"/>
            <a:ext cx="6186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 fases - Agin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"/>
          <p:cNvSpPr/>
          <p:nvPr/>
        </p:nvSpPr>
        <p:spPr>
          <a:xfrm>
            <a:off x="176688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Espaço Reservado para Conteúdo 2"/>
          <p:cNvSpPr/>
          <p:nvPr/>
        </p:nvSpPr>
        <p:spPr>
          <a:xfrm>
            <a:off x="457200" y="1143000"/>
            <a:ext cx="822960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Implementação da soluçã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Uma vez que a solução é viável, ela pode ser implementada na organizaçã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Várias abordagens podem ser usadas para a implementação, incluindo top-down (començando no mais alto nível da organização) e just-in-time (implementando projeto a projeto num tempo apropriado em seu ciclo de vida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Para mudanças maiores, a implementação pode requerer substancial tempo e recurso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40384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 fases - Agin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/>
          <p:nvPr/>
        </p:nvSpPr>
        <p:spPr>
          <a:xfrm>
            <a:off x="17524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"/>
          <p:cNvSpPr/>
          <p:nvPr/>
        </p:nvSpPr>
        <p:spPr>
          <a:xfrm>
            <a:off x="17524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"/>
          <p:cNvSpPr/>
          <p:nvPr/>
        </p:nvSpPr>
        <p:spPr>
          <a:xfrm>
            <a:off x="1781280" y="27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"/>
          <p:cNvSpPr/>
          <p:nvPr/>
        </p:nvSpPr>
        <p:spPr>
          <a:xfrm>
            <a:off x="456480" y="1117440"/>
            <a:ext cx="218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efas - Agin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"/>
          <p:cNvSpPr/>
          <p:nvPr/>
        </p:nvSpPr>
        <p:spPr>
          <a:xfrm>
            <a:off x="2781360" y="43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"/>
          <p:cNvSpPr/>
          <p:nvPr/>
        </p:nvSpPr>
        <p:spPr>
          <a:xfrm>
            <a:off x="2090880" y="23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"/>
          <p:cNvSpPr/>
          <p:nvPr/>
        </p:nvSpPr>
        <p:spPr>
          <a:xfrm>
            <a:off x="175248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"/>
          <p:cNvSpPr/>
          <p:nvPr/>
        </p:nvSpPr>
        <p:spPr>
          <a:xfrm>
            <a:off x="1447920" y="1905120"/>
            <a:ext cx="990360" cy="5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4.1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mpletar plano tático para grupo de trabalho técnico (TWG)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/>
          <p:nvPr/>
        </p:nvSpPr>
        <p:spPr>
          <a:xfrm>
            <a:off x="2666880" y="1905120"/>
            <a:ext cx="990720" cy="5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4.2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senvolver soluções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/>
          <p:nvPr/>
        </p:nvSpPr>
        <p:spPr>
          <a:xfrm>
            <a:off x="2438280" y="220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"/>
          <p:cNvSpPr/>
          <p:nvPr/>
        </p:nvSpPr>
        <p:spPr>
          <a:xfrm>
            <a:off x="4114800" y="1371600"/>
            <a:ext cx="990720" cy="5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4.2.1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Refinar o processo (abordagem processo-centrado)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"/>
          <p:cNvSpPr/>
          <p:nvPr/>
        </p:nvSpPr>
        <p:spPr>
          <a:xfrm>
            <a:off x="4114800" y="2514600"/>
            <a:ext cx="990720" cy="5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4.2.2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Analisar e fixar o problema (abordagem problema centrado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/>
          <p:nvPr/>
        </p:nvSpPr>
        <p:spPr>
          <a:xfrm>
            <a:off x="3657600" y="220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"/>
          <p:cNvSpPr/>
          <p:nvPr/>
        </p:nvSpPr>
        <p:spPr>
          <a:xfrm>
            <a:off x="3886200" y="1676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"/>
          <p:cNvSpPr/>
          <p:nvPr/>
        </p:nvSpPr>
        <p:spPr>
          <a:xfrm>
            <a:off x="38862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"/>
          <p:cNvSpPr/>
          <p:nvPr/>
        </p:nvSpPr>
        <p:spPr>
          <a:xfrm>
            <a:off x="388620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"/>
          <p:cNvSpPr/>
          <p:nvPr/>
        </p:nvSpPr>
        <p:spPr>
          <a:xfrm>
            <a:off x="5105520" y="1676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"/>
          <p:cNvSpPr/>
          <p:nvPr/>
        </p:nvSpPr>
        <p:spPr>
          <a:xfrm>
            <a:off x="5105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"/>
          <p:cNvSpPr/>
          <p:nvPr/>
        </p:nvSpPr>
        <p:spPr>
          <a:xfrm>
            <a:off x="5334120" y="16635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/>
          <p:nvPr/>
        </p:nvSpPr>
        <p:spPr>
          <a:xfrm>
            <a:off x="5334120" y="220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"/>
          <p:cNvSpPr/>
          <p:nvPr/>
        </p:nvSpPr>
        <p:spPr>
          <a:xfrm>
            <a:off x="5562720" y="1905120"/>
            <a:ext cx="990360" cy="5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4.3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Pilote potenciais soluções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"/>
          <p:cNvSpPr/>
          <p:nvPr/>
        </p:nvSpPr>
        <p:spPr>
          <a:xfrm>
            <a:off x="655308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"/>
          <p:cNvSpPr/>
          <p:nvPr/>
        </p:nvSpPr>
        <p:spPr>
          <a:xfrm>
            <a:off x="6858000" y="2209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1371600" y="33526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"/>
          <p:cNvSpPr/>
          <p:nvPr/>
        </p:nvSpPr>
        <p:spPr>
          <a:xfrm>
            <a:off x="1371600" y="33526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"/>
          <p:cNvSpPr/>
          <p:nvPr/>
        </p:nvSpPr>
        <p:spPr>
          <a:xfrm>
            <a:off x="1371600" y="4038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"/>
          <p:cNvSpPr/>
          <p:nvPr/>
        </p:nvSpPr>
        <p:spPr>
          <a:xfrm>
            <a:off x="1676520" y="3733920"/>
            <a:ext cx="990360" cy="5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4.4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elecione fornecedores de soluções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"/>
          <p:cNvSpPr/>
          <p:nvPr/>
        </p:nvSpPr>
        <p:spPr>
          <a:xfrm>
            <a:off x="1676520" y="4419720"/>
            <a:ext cx="99036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4.5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ar necessidades de suporte a longo prazo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"/>
          <p:cNvSpPr/>
          <p:nvPr/>
        </p:nvSpPr>
        <p:spPr>
          <a:xfrm>
            <a:off x="1676520" y="5334120"/>
            <a:ext cx="990360" cy="5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4.6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senvolva modelo do plano e estratégia de implantação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"/>
          <p:cNvSpPr/>
          <p:nvPr/>
        </p:nvSpPr>
        <p:spPr>
          <a:xfrm>
            <a:off x="1371600" y="5410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"/>
          <p:cNvSpPr/>
          <p:nvPr/>
        </p:nvSpPr>
        <p:spPr>
          <a:xfrm>
            <a:off x="2666880" y="4724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"/>
          <p:cNvSpPr/>
          <p:nvPr/>
        </p:nvSpPr>
        <p:spPr>
          <a:xfrm>
            <a:off x="266688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"/>
          <p:cNvSpPr/>
          <p:nvPr/>
        </p:nvSpPr>
        <p:spPr>
          <a:xfrm>
            <a:off x="266688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"/>
          <p:cNvSpPr/>
          <p:nvPr/>
        </p:nvSpPr>
        <p:spPr>
          <a:xfrm>
            <a:off x="2895480" y="4038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"/>
          <p:cNvSpPr/>
          <p:nvPr/>
        </p:nvSpPr>
        <p:spPr>
          <a:xfrm>
            <a:off x="3200400" y="4419720"/>
            <a:ext cx="9907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4.7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Empacote as melhorias e entregue para o grupo de processo de engenharia de software (SEPG)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"/>
          <p:cNvSpPr/>
          <p:nvPr/>
        </p:nvSpPr>
        <p:spPr>
          <a:xfrm>
            <a:off x="4191120" y="4724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4419720"/>
            <a:ext cx="990720" cy="5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4.8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ispense o TWG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"/>
          <p:cNvSpPr/>
          <p:nvPr/>
        </p:nvSpPr>
        <p:spPr>
          <a:xfrm>
            <a:off x="54864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"/>
          <p:cNvSpPr/>
          <p:nvPr/>
        </p:nvSpPr>
        <p:spPr>
          <a:xfrm>
            <a:off x="5791320" y="4419720"/>
            <a:ext cx="990360" cy="5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4.9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Implantar solução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"/>
          <p:cNvSpPr/>
          <p:nvPr/>
        </p:nvSpPr>
        <p:spPr>
          <a:xfrm>
            <a:off x="678168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"/>
          <p:cNvSpPr/>
          <p:nvPr/>
        </p:nvSpPr>
        <p:spPr>
          <a:xfrm>
            <a:off x="7086600" y="4419720"/>
            <a:ext cx="990720" cy="5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4.10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Transição para suporte à longo prazo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500"/>
                            </p:stCondLst>
                            <p:childTnLst>
                              <p:par>
                                <p:cTn id="50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0"/>
                            </p:stCondLst>
                            <p:childTnLst>
                              <p:par>
                                <p:cTn id="51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500"/>
                            </p:stCondLst>
                            <p:childTnLst>
                              <p:par>
                                <p:cTn id="53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0"/>
                            </p:stCondLst>
                            <p:childTnLst>
                              <p:par>
                                <p:cTn id="5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6500"/>
                            </p:stCondLst>
                            <p:childTnLst>
                              <p:par>
                                <p:cTn id="5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500"/>
                            </p:stCondLst>
                            <p:childTnLst>
                              <p:par>
                                <p:cTn id="58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4000"/>
                            </p:stCondLst>
                            <p:childTnLst>
                              <p:par>
                                <p:cTn id="59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71280"/>
            <a:ext cx="6186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 f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/>
          <p:nvPr/>
        </p:nvSpPr>
        <p:spPr>
          <a:xfrm>
            <a:off x="176688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Espaço Reservado para Conteúdo 2"/>
          <p:cNvSpPr/>
          <p:nvPr/>
        </p:nvSpPr>
        <p:spPr>
          <a:xfrm>
            <a:off x="457200" y="1143000"/>
            <a:ext cx="822960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A fase </a:t>
            </a: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Aprendend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A experiência IDEAL é revisada para determinar o que foi realizado, se o esforço alcançou o objetivo, e como a organização pode implementar mudanças mais efetivamente e/ou eficientimente no futuro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Analisar e validar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Propor ações futura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5257800" y="3505320"/>
            <a:ext cx="33847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71280"/>
            <a:ext cx="6186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 fases - Aprenden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"/>
          <p:cNvSpPr/>
          <p:nvPr/>
        </p:nvSpPr>
        <p:spPr>
          <a:xfrm>
            <a:off x="176688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Espaço Reservado para Conteúdo 2"/>
          <p:cNvSpPr/>
          <p:nvPr/>
        </p:nvSpPr>
        <p:spPr>
          <a:xfrm>
            <a:off x="457200" y="1143000"/>
            <a:ext cx="822960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Analisar e valida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Esta atividade responde muitas pergunta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De que forma o esforço alcançou seu objetivo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O que foi feito bem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O que poderia ser feito mais eficientemente ou efetivamente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Lições são coletadas, analisadas, sumarizadas, e documentada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As necessidades de negócio identificada durante a fase Iniciando são reexamindas para ver se eles foram alcançada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71280"/>
            <a:ext cx="6186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 fases - Aprenden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"/>
          <p:cNvSpPr/>
          <p:nvPr/>
        </p:nvSpPr>
        <p:spPr>
          <a:xfrm>
            <a:off x="176688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Espaço Reservado para Conteúdo 2"/>
          <p:cNvSpPr/>
          <p:nvPr/>
        </p:nvSpPr>
        <p:spPr>
          <a:xfrm>
            <a:off x="457200" y="1143000"/>
            <a:ext cx="822960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Propor ações futura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urante esta atividade, recomendações baseadas em análise e validação são desenvolvidas e documentada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postas para melhorar futuras mudanças de implementações são fornecidas para apropriar níveis de gerenciamento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5943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 fases - Aprenden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"/>
          <p:cNvSpPr/>
          <p:nvPr/>
        </p:nvSpPr>
        <p:spPr>
          <a:xfrm>
            <a:off x="176688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"/>
          <p:cNvSpPr/>
          <p:nvPr/>
        </p:nvSpPr>
        <p:spPr>
          <a:xfrm>
            <a:off x="182880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"/>
          <p:cNvSpPr/>
          <p:nvPr/>
        </p:nvSpPr>
        <p:spPr>
          <a:xfrm>
            <a:off x="1781280" y="27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"/>
          <p:cNvSpPr/>
          <p:nvPr/>
        </p:nvSpPr>
        <p:spPr>
          <a:xfrm>
            <a:off x="455760" y="1117440"/>
            <a:ext cx="28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efas - Aprenden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"/>
          <p:cNvSpPr/>
          <p:nvPr/>
        </p:nvSpPr>
        <p:spPr>
          <a:xfrm>
            <a:off x="2781360" y="43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"/>
          <p:cNvSpPr/>
          <p:nvPr/>
        </p:nvSpPr>
        <p:spPr>
          <a:xfrm>
            <a:off x="2090880" y="23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"/>
          <p:cNvSpPr/>
          <p:nvPr/>
        </p:nvSpPr>
        <p:spPr>
          <a:xfrm>
            <a:off x="175248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"/>
          <p:cNvSpPr/>
          <p:nvPr/>
        </p:nvSpPr>
        <p:spPr>
          <a:xfrm>
            <a:off x="434340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"/>
          <p:cNvSpPr/>
          <p:nvPr/>
        </p:nvSpPr>
        <p:spPr>
          <a:xfrm>
            <a:off x="434340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"/>
          <p:cNvSpPr/>
          <p:nvPr/>
        </p:nvSpPr>
        <p:spPr>
          <a:xfrm>
            <a:off x="434340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"/>
          <p:cNvSpPr/>
          <p:nvPr/>
        </p:nvSpPr>
        <p:spPr>
          <a:xfrm>
            <a:off x="3809880" y="1219320"/>
            <a:ext cx="1143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5.1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Recolher lições aprendidas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"/>
          <p:cNvSpPr/>
          <p:nvPr/>
        </p:nvSpPr>
        <p:spPr>
          <a:xfrm>
            <a:off x="434340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"/>
          <p:cNvSpPr/>
          <p:nvPr/>
        </p:nvSpPr>
        <p:spPr>
          <a:xfrm>
            <a:off x="434340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"/>
          <p:cNvSpPr/>
          <p:nvPr/>
        </p:nvSpPr>
        <p:spPr>
          <a:xfrm>
            <a:off x="3809880" y="1981080"/>
            <a:ext cx="1143000" cy="37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5.2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Analise as lições aprendidas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/>
          <p:nvPr/>
        </p:nvSpPr>
        <p:spPr>
          <a:xfrm>
            <a:off x="3809880" y="2743200"/>
            <a:ext cx="1143000" cy="37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5.3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Revisar a abordagem organizacional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"/>
          <p:cNvSpPr/>
          <p:nvPr/>
        </p:nvSpPr>
        <p:spPr>
          <a:xfrm>
            <a:off x="3809880" y="3505320"/>
            <a:ext cx="1143000" cy="37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5.4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Revisar patrocínio e comprometimento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"/>
          <p:cNvSpPr/>
          <p:nvPr/>
        </p:nvSpPr>
        <p:spPr>
          <a:xfrm>
            <a:off x="3809880" y="426708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5.5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Estabelecer metas de alto nível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"/>
          <p:cNvSpPr/>
          <p:nvPr/>
        </p:nvSpPr>
        <p:spPr>
          <a:xfrm>
            <a:off x="3809880" y="5105520"/>
            <a:ext cx="11430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5.6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senvolver novas/revisadas proposta de melhoria de processo de software (SPI)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"/>
          <p:cNvSpPr/>
          <p:nvPr/>
        </p:nvSpPr>
        <p:spPr>
          <a:xfrm>
            <a:off x="5334120" y="5105520"/>
            <a:ext cx="11430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5.7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uar com o SPI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"/>
          <p:cNvSpPr/>
          <p:nvPr/>
        </p:nvSpPr>
        <p:spPr>
          <a:xfrm>
            <a:off x="4952880" y="5410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71280"/>
            <a:ext cx="6186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tivaçã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spaço Reservado para Conteúdo 2"/>
          <p:cNvSpPr/>
          <p:nvPr/>
        </p:nvSpPr>
        <p:spPr>
          <a:xfrm>
            <a:off x="457200" y="1143000"/>
            <a:ext cx="822960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282600" y="1709640"/>
            <a:ext cx="2881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sponsáveis pel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doção de Tecnologia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479520" y="3581280"/>
            <a:ext cx="288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esenvolvedores d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ecnologi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1523880"/>
            <a:ext cx="51134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Dificuldade de selecionar as possibilidades de Melhori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Não usa melhores práticas de transição para introduzir a Melhoria selecionad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2925720"/>
            <a:ext cx="51134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Não entendem as dificuldades de adoção que serão encontradas pelos responsávei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Não provêem nenhuma informação ou serviços necessários para suportar o processo de adoção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Não possuem tecnologias das práticas difundidas tão rapidamente quanto deveria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3365640" y="1515960"/>
            <a:ext cx="142560" cy="1152720"/>
          </a:xfrm>
          <a:custGeom>
            <a:avLst/>
            <a:gdLst>
              <a:gd name="textAreaLeft" fmla="*/ 91080 w 142560"/>
              <a:gd name="textAreaRight" fmla="*/ 142920 w 14256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3352680" y="2854440"/>
            <a:ext cx="142920" cy="223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71280"/>
            <a:ext cx="6186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 f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"/>
          <p:cNvSpPr/>
          <p:nvPr/>
        </p:nvSpPr>
        <p:spPr>
          <a:xfrm>
            <a:off x="176688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"/>
          <p:cNvSpPr/>
          <p:nvPr/>
        </p:nvSpPr>
        <p:spPr>
          <a:xfrm>
            <a:off x="17668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670572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71280"/>
            <a:ext cx="6186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14264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Calibri"/>
              </a:rPr>
              <a:t>O que é o modelo IDE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Calibri"/>
              </a:rPr>
              <a:t>A infra-estrutura ide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Calibri"/>
              </a:rPr>
              <a:t>As f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Calibri"/>
              </a:rPr>
              <a:t>Os processos de cada f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udo de Ca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Conclusõ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71280"/>
            <a:ext cx="6186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14264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Calibri"/>
              </a:rPr>
              <a:t>O que é o modelo IDE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Calibri"/>
              </a:rPr>
              <a:t>A infra-estrutura ide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Calibri"/>
              </a:rPr>
              <a:t>As f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Calibri"/>
              </a:rPr>
              <a:t>Os processos de cada f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Calibri"/>
              </a:rPr>
              <a:t>Estudo de Ca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õ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71280"/>
            <a:ext cx="6186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õ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Espaço Reservado para Conteúdo 2"/>
          <p:cNvSpPr/>
          <p:nvPr/>
        </p:nvSpPr>
        <p:spPr>
          <a:xfrm>
            <a:off x="457200" y="1143000"/>
            <a:ext cx="822960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lhoria de processo de software exige forte patrocínio e comprometiment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s melhorias são a longo praz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udança de cultura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municação é fundamental para garantir o comprometiment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ntenha as pessoas motivadas ao program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uardar as lições aprendidas, se possível num banco de dados de melhoria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71280"/>
            <a:ext cx="6186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ênci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7200" y="114264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Calibri"/>
              </a:rPr>
              <a:t>MCFEELEY, Bob, </a:t>
            </a:r>
            <a:r>
              <a:rPr b="1" lang="pt-PT" sz="1700" spc="-1" strike="noStrike">
                <a:solidFill>
                  <a:srgbClr val="000000"/>
                </a:solidFill>
                <a:latin typeface="Calibri"/>
              </a:rPr>
              <a:t>IDEAL</a:t>
            </a:r>
            <a:r>
              <a:rPr b="1" lang="pt-BR" sz="1700" spc="-1" strike="noStrike" baseline="30000">
                <a:solidFill>
                  <a:srgbClr val="000000"/>
                </a:solidFill>
                <a:latin typeface="Calibri"/>
              </a:rPr>
              <a:t>SM</a:t>
            </a:r>
            <a:r>
              <a:rPr b="1" lang="pt-PT" sz="1700" spc="-1" strike="noStrike">
                <a:solidFill>
                  <a:srgbClr val="000000"/>
                </a:solidFill>
                <a:latin typeface="Calibri"/>
              </a:rPr>
              <a:t>: A User’s Guide for Software Process Improvement</a:t>
            </a:r>
            <a:r>
              <a:rPr b="0" lang="pt-PT" sz="1700" spc="-1" strike="noStrike">
                <a:solidFill>
                  <a:srgbClr val="000000"/>
                </a:solidFill>
                <a:latin typeface="Calibri"/>
              </a:rPr>
              <a:t>. Software Engineering Institute Handbook. Carnegie Mellon University. CMU/SEI-96-HB-001, 1996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</a:rPr>
              <a:t>KIMBROUGH, Tom &amp; LEVINE, Linda: </a:t>
            </a:r>
            <a:r>
              <a:rPr b="1" lang="pt-BR" sz="1700" spc="-1" strike="noStrike">
                <a:solidFill>
                  <a:srgbClr val="000000"/>
                </a:solidFill>
                <a:latin typeface="Calibri"/>
              </a:rPr>
              <a:t>The IDEAL</a:t>
            </a:r>
            <a:r>
              <a:rPr b="1" lang="pt-BR" sz="1700" spc="-1" strike="noStrike" baseline="30000">
                <a:solidFill>
                  <a:srgbClr val="000000"/>
                </a:solidFill>
                <a:latin typeface="Calibri"/>
              </a:rPr>
              <a:t>SM</a:t>
            </a:r>
            <a:r>
              <a:rPr b="1" lang="pt-BR" sz="1700" spc="-1" strike="noStrike">
                <a:solidFill>
                  <a:srgbClr val="000000"/>
                </a:solidFill>
                <a:latin typeface="Calibri"/>
              </a:rPr>
              <a:t> Transition Framework – Speeding Managed Change</a:t>
            </a:r>
            <a:r>
              <a:rPr b="0" lang="pt-BR" sz="1700" spc="-1" strike="noStrike">
                <a:solidFill>
                  <a:srgbClr val="000000"/>
                </a:solidFill>
                <a:latin typeface="Calibri"/>
              </a:rPr>
              <a:t>. Software Engineering Institute – Carnegie Mellon University, Pittsburg, PA, 199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cin.ufpe.br/~rls/ideal/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Gremba, Jennifer &amp; Myers, Chuck: he IDEAL(SM) Model: A Practical Guide for Improvement. </a:t>
            </a:r>
            <a:r>
              <a:rPr b="0" lang="pt-BR" sz="1700" spc="-1" strike="noStrike">
                <a:solidFill>
                  <a:srgbClr val="000000"/>
                </a:solidFill>
                <a:latin typeface="Calibri"/>
              </a:rPr>
              <a:t>Software Engineering Institute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71280"/>
            <a:ext cx="6186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14264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 que é o modelo IDE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A infra-estrutura ide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As f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Os processos de cada f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Estudo de Ca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Conclusõ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1280"/>
            <a:ext cx="6186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 que é o modelo IDE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14264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Modelo IDEAL é um modelo de melhoramento organizacional que serve como um guia para iniciar, planejar e implementar ações de melho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palavra IDEAL é um acrônimo em inglês para Iniciar(initiating), Diagnosticar(diagnosing), Estabelecer(establishing), Agir(acting) e Aprender(learning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Modelo IDEAL forma uma infra-estrutura para guiar organizações no planejamento e na implementação de um efetivo programa de melhoramento de processos de software.</a:t>
            </a:r>
            <a:r>
              <a:rPr b="0" lang="pt-BR" sz="2400" spc="-1" strike="noStrike">
                <a:solidFill>
                  <a:srgbClr val="05335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71280"/>
            <a:ext cx="6186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 que é o modelo IDE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14264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Modelo IDEAL foi originalmente concebido como um modelo de ciclo de vida para o melhoramento do processo de software baseado no </a:t>
            </a:r>
            <a:r>
              <a:rPr b="0" lang="pt-BR" sz="20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Capability</a:t>
            </a:r>
            <a:r>
              <a:rPr b="0" lang="pt-BR" sz="20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 </a:t>
            </a:r>
            <a:r>
              <a:rPr b="0" lang="pt-BR" sz="2000" spc="-1" strike="noStrike" u="sng">
                <a:solidFill>
                  <a:srgbClr val="0000ff"/>
                </a:solidFill>
                <a:uFillTx/>
                <a:latin typeface="Verdana"/>
                <a:hlinkClick r:id="rId3"/>
              </a:rPr>
              <a:t>Maturity</a:t>
            </a:r>
            <a:r>
              <a:rPr b="0" lang="pt-BR" sz="2000" spc="-1" strike="noStrike" u="sng">
                <a:solidFill>
                  <a:srgbClr val="0000ff"/>
                </a:solidFill>
                <a:uFillTx/>
                <a:latin typeface="Verdana"/>
                <a:hlinkClick r:id="rId4"/>
              </a:rPr>
              <a:t> </a:t>
            </a:r>
            <a:r>
              <a:rPr b="0" lang="pt-BR" sz="2000" spc="-1" strike="noStrike" u="sng">
                <a:solidFill>
                  <a:srgbClr val="0000ff"/>
                </a:solidFill>
                <a:uFillTx/>
                <a:latin typeface="Verdana"/>
                <a:hlinkClick r:id="rId5"/>
              </a:rPr>
              <a:t>Model</a:t>
            </a:r>
            <a:r>
              <a:rPr b="0" lang="pt-BR" sz="2000" spc="-1" strike="noStrike" u="sng">
                <a:solidFill>
                  <a:srgbClr val="0000ff"/>
                </a:solidFill>
                <a:uFillTx/>
                <a:latin typeface="Verdana"/>
                <a:hlinkClick r:id="rId6"/>
              </a:rPr>
              <a:t> (CMM)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para software, e por essa razão o modelo usou termos de melhoramento de processo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oi baseado nas experiências que a da Software Engineering Institute (SEI) tem obtido enquanto trabalhava com seus cliente do governo e indústria.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conhecendo que o modelo tinha um grande potencial fora da área de processos, o SEI tem revisado o Modelo IDEAL para uma aplicação mais ampl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71280"/>
            <a:ext cx="6186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 que é o modelo IDE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4264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 guia é também baseado em trabalhos de vários projetos da SEI. Projetos da SEI cujos trabalhos contribuíram diretamente ou indiretamente no material desse guia incluem os seguint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·        Capability Maturity 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·        Software Process Assess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·        Software Capability Evalu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·        Organization Cap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·       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·        Software Process Measur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·        and Software Process Defin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 tutorial desenvolvido pelo SEI foi apresentado em 1993 no Simpósio de Engenharia de Softw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oadmap foi publicado em 19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71280"/>
            <a:ext cx="6186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9903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Calibri"/>
              </a:rPr>
              <a:t>O que é o modelo IDE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infra-estrutura ide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As f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Os processos de cada f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Estudo de Ca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Conclusõ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03:03:33Z</dcterms:created>
  <dc:creator>Rodrigo</dc:creator>
  <dc:description/>
  <dc:language>en-US</dc:language>
  <cp:lastModifiedBy>haglay</cp:lastModifiedBy>
  <dcterms:modified xsi:type="dcterms:W3CDTF">2008-09-15T16:54:35Z</dcterms:modified>
  <cp:revision>165</cp:revision>
  <dc:subject/>
  <dc:title>Tabelas Mutantes no Oracle</dc:title>
</cp:coreProperties>
</file>