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603-E268-4BC8-BD9D-F6D3B3BE7D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4081-8F47-4DCA-880E-5F513FC4013C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D08-7399-4687-8497-D576F58F1A45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mos o Cobit e a que se propoe. Em seguida detalhamos como foi criado e suas versoes. Detalhamos a estrutura do CobiT e seus 6 elementos, e finalizando, expomos uma breve analise critica do Co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8226-EBB6-4C93-82D2-F6B85EEF785F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q é orientada a processo, e não a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C8E-8EFF-4C0B-8A4F-CA21CEFA45BA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q é orientada a processo, e não a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D1C0-01A0-4030-B96F-B429AC927699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464-B83F-4759-A75C-9DEC5CE51FF4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8F58-05A7-4681-8343-A3C71683348D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D10-CDE1-484E-AE81-A49518D9BFC2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9358-B049-46F9-86B9-08BC4E2E76FC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7349-8E50-4166-8AAB-05CC644E6703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verdade os Objetivos Detalhados de Controle fazem parte do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B81E-C4A7-4144-85DB-08DF33C86CCF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068A-5FE0-41EC-8B30-ECB05FCF8241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es de falar do CobiT é necessár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troduzir o conceito de Governanç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plicar a importância estratégica da TI para empresas atual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 a adaptacao da Governanca à 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seguida explico as diversas metodologias aplicadas para gerenciar a TI, e onde o Cobit se ap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922-1CA1-43FD-8DF3-ECCA745A25C4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F74-13DA-4052-A08D-60B4BB61E38D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D32A-5E64-4C1F-B8D2-26364EE4EB45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025-D8B3-4646-9E25-36DCDF6B16AC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62AC-8EC7-4A97-A6F3-79FBB15D2DF0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A734-01AE-4374-BF06-55C27BD3FED2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B638-B527-4287-B472-2F2C89636EDC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94EC-036C-441F-A5B6-D26515F257AB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A3EE-2CC5-421B-8D2F-D9CFC47E63F3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040-76B1-4D54-9194-30C656C6E8FD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D70-8898-4FCE-8C44-413643884970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O QUE É GOVERNAN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overnanca nada mais é que gerenciamento confiável, efetivo e eficiente, que vai facilitar as tomadas de decisão no setor, e maximizar meus ganh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s o mercado muda, e a empresa deve evoluir para não ficar atr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5D0-0588-42FB-9976-8E69AC244EAF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A770-069E-4457-A195-11B0133F3A86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E72-FA57-4370-A336-BC1804C7CC24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0B3-ABC4-4B7A-98B9-87FEAD24DF86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D5CD-C262-464A-B58A-2CD467794319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CEBF-9C62-4644-B74A-4D325C4945D8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A23-4445-4FCA-AB5F-834AB7714A94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CB3-5743-42D3-8D61-431A5AD45537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A523-2D6C-4310-BAF4-0C10A1EE933C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AF79-9AEA-4054-9915-72C7F6D7657E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9969-06E7-4C65-B25B-6FEF8DEA87FF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A TI NA EMPRESA EH ESTRATEGICA)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ca cada vez mais claro que o efetivo gerenciamento de informações e das tecnologias que as manipulam são críticos para o sucesso da empresa. Se a TI não esta presente de forma efetiva, eficiente e confiavel, a empresa não se posiciona no mercado nem alcanca vantagens competi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ADC-3E18-4AAE-90DD-D86ED2A68689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6CB-2F93-487C-916D-76AFFB5D752B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8CD5-137B-4518-A067-3ED4171DC0A2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E44-57CB-466D-AC21-62A87FE9408B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F08-3B5F-4A3C-A631-ED643BF30BF7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62A-B1C3-4E60-8236-19692F629054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92AF-2FA1-4EB6-8FE7-7CF492EE8D6B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EB1-705F-4DF2-9580-7F49AEA09940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341-24AA-4486-93CD-063E3A71C797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3C7-B5F5-4186-B5BA-6EEEAED9FB6F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E787-8578-413A-A418-5FF8910F39C7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A TI NA EMPRESA EH ESTRATEGICA)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prova da importancia de TI estao nas pesquisas. 47% eh um numero expressivo, considerando que 26% acham que isso cabe a alta administracao, 24% a um comite, e 3% de forma descentr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312-EBE9-4719-9C50-1340B0C98363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A TI NA EMPRESA EH ESTRATEGICA)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mo permitir que exista um gerenciamento consistente na TI, para garantir que esta esteja alinhada aos objetivos da empresa, maximizando beneficios em nome da empres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59C-988C-456B-B1F0-A42731B67060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ste contexto, surge a governança de TI e o gerenciamento de riscos como assuntos fundamentais para as empresas e gestores, visto que os maiores riscos a que estão expostas as organizações hoje estão relacionados à tecnologia da informaçã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746-3281-4CB7-A56B-B1B1C39B852B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ao surge a GTI para garantir  que a TI esteja alinhada aos objetivos de negocio da empresa, garantindo o suporte a estes objetivos, maximiz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04A-DB7F-4231-B6F6-1912C4260272}" type="slidenum">
              <a:rPr b="0" lang="pt-BR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880" y="42134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32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880" y="42134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4480" y="42134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4720" y="42134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BBB47-2137-4338-B104-F61EEAB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0D6C4-F042-4782-9B8D-A8ECCE51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74F7-37D6-46FF-8930-9579B6F7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9A582-9B14-4777-9C83-415F66B2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4E999-AC83-4DEE-B53D-E6083005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3A71-8A7B-409C-AD4E-DC4230AC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DC542-0265-4F38-B2C8-526B900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FC230-7E1F-4EED-9639-E4DCE32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6841-4C5F-4F50-8BA7-DB661CE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2134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C5247-5D0F-4501-9F78-FA5A397A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6ADBC-97C3-46E0-ACBC-ADA6473F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2134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2134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213440"/>
            <a:ext cx="2257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282F-2974-4E23-AD84-9E2D36F0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320" y="421344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701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33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33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96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000" spc="-1" strike="noStrike">
                <a:solidFill>
                  <a:srgbClr val="b2b2b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E24-D0B9-47F1-8777-50955CE8C91E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124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000" spc="-1" strike="noStrike">
                <a:solidFill>
                  <a:srgbClr val="b2b2b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33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33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19A8-BD20-45B9-A5E1-A270C457BB3F}" type="datetime">
              <a:rPr b="0" lang="pt-BR" sz="1000" spc="-1" strike="noStrike">
                <a:solidFill>
                  <a:srgbClr val="336666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6666"/>
                </a:solidFill>
                <a:latin typeface="Times New Roman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8721-6708-487E-8F5F-CBC544315E3E}" type="slidenum">
              <a:rPr b="0" lang="pt-B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isaca.org/" TargetMode="External"/><Relationship Id="rId2" Type="http://schemas.openxmlformats.org/officeDocument/2006/relationships/hyperlink" Target="http://www.itgi.org/" TargetMode="External"/><Relationship Id="rId3" Type="http://schemas.openxmlformats.org/officeDocument/2006/relationships/hyperlink" Target="http://www.b5c.com.br/cobit/" TargetMode="External"/><Relationship Id="rId4" Type="http://schemas.openxmlformats.org/officeDocument/2006/relationships/hyperlink" Target="http://www.ezcobit.com/" TargetMode="External"/><Relationship Id="rId5" Type="http://schemas.openxmlformats.org/officeDocument/2006/relationships/hyperlink" Target="http://www.efagundes.com/Artigos/Arquivos_pdf/CoBiT.pdf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Verdana"/>
              </a:rPr>
              <a:t>CobiT</a:t>
            </a:r>
            <a:br>
              <a:rPr sz="5400"/>
            </a:b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Uma Visão Ger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ópicos Avançados de Engenharia De Software - Proces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rcos Pinheiro Duart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rcosduarte@gmail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336-755D-4626-9A49-93FA6C6E6FBF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499"/>
              </a:spcBef>
              <a:buClr>
                <a:srgbClr val="33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overnança de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499"/>
              </a:spcBef>
              <a:buClr>
                <a:srgbClr val="33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i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rigens e vers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amília Co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nalise crít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A60-8C05-42C9-9B51-FED8CDD2F136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ado pela ISACF (Information Systems Audit and Control Foundation) em 96. Está na 4ª 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bre tanto modelos de controle de negócios (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SO, CoCo, Cadbury and K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, quanto os específicos para TI, como os de qualidade e padrões específicos da indústria (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SO 9000 TickIT scheme, ISO 7498, ITSEC Common Criteria, etc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são 3 tem 318 objetos de controle, enquanto a versão 4 tem “apenas” 2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65D8-CB53-4035-BB74-55CDDF40E1C3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Brasil, são as empresas IT Partners, Big Five Consulting e World Pass que oferecem o curso e o te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ca de 1000 (mil) pessoas já passaram pelo teste no Bras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295280" y="3789360"/>
            <a:ext cx="7167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71F8-B51C-452B-8C9E-36C345A5F31B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tenção é ser um guia de políticas claras e melhores práticas para Governança de TI n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CobiT pode ser usado independentemente da plataforma tecnológica adotada pela organização e se aplica também a qualquer segmento de indúst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laciona riscos do negócio, necessidades de controle e questões técn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resenta atividades através de uma estrutura lógica e gerenciá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5E9-512B-4B1C-9857-DF518E2831D4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Processo de TI corresponde a um Objetivo de Controle de auto-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CobiT agrupa os Processos de TI em 4 domínios abran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lanejamento e Organizaçã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quisição e Implementaçã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ga e Supor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nitoramento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o todo, são 34 Objetivos de Controle de auto-nível, dispostos nos 4 domín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705-D5A7-45EE-B5D0-424C82617914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 Objectives f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formation and Related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"/>
          <p:cNvGrpSpPr/>
          <p:nvPr/>
        </p:nvGrpSpPr>
        <p:grpSpPr>
          <a:xfrm>
            <a:off x="1905120" y="1636560"/>
            <a:ext cx="2438280" cy="621000"/>
            <a:chOff x="1905120" y="1636560"/>
            <a:chExt cx="2438280" cy="621000"/>
          </a:xfrm>
        </p:grpSpPr>
        <p:sp>
          <p:nvSpPr>
            <p:cNvPr id="175" name="Rectangle 6"/>
            <p:cNvSpPr/>
            <p:nvPr/>
          </p:nvSpPr>
          <p:spPr>
            <a:xfrm>
              <a:off x="1905120" y="1952640"/>
              <a:ext cx="243828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135520" y="1636560"/>
              <a:ext cx="193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Processos da TI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7" name="Group 8"/>
          <p:cNvGrpSpPr/>
          <p:nvPr/>
        </p:nvGrpSpPr>
        <p:grpSpPr>
          <a:xfrm>
            <a:off x="1909800" y="2314440"/>
            <a:ext cx="4795920" cy="644760"/>
            <a:chOff x="1909800" y="2314440"/>
            <a:chExt cx="4795920" cy="644760"/>
          </a:xfrm>
        </p:grpSpPr>
        <p:sp>
          <p:nvSpPr>
            <p:cNvPr id="178" name="Rectangle 9"/>
            <p:cNvSpPr/>
            <p:nvPr/>
          </p:nvSpPr>
          <p:spPr>
            <a:xfrm>
              <a:off x="1909800" y="2314440"/>
              <a:ext cx="4795920" cy="35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287800" y="2590920"/>
              <a:ext cx="34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Informações e Recursos da TI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80" name="Picture 11" descr="cobit1"/>
          <p:cNvPicPr/>
          <p:nvPr/>
        </p:nvPicPr>
        <p:blipFill>
          <a:blip r:embed="rId2"/>
          <a:stretch/>
        </p:blipFill>
        <p:spPr>
          <a:xfrm>
            <a:off x="2286000" y="3124080"/>
            <a:ext cx="4495680" cy="306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cobit2"/>
          <p:cNvPicPr/>
          <p:nvPr/>
        </p:nvPicPr>
        <p:blipFill>
          <a:blip r:embed="rId3"/>
          <a:stretch/>
        </p:blipFill>
        <p:spPr>
          <a:xfrm>
            <a:off x="2286000" y="3124080"/>
            <a:ext cx="44956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47F1-7428-4EA4-AB15-4BD95317A5E1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o cub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3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5486400" cy="4098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151000" y="1676520"/>
            <a:ext cx="234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Diretores podem estar interessados na qualidad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da informação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858000" y="289548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Gerentes de TI estão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analisando os recursos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em uso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0" y="48132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Usuários e especialistas querem acompanhar um processo em particular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295280" y="5715000"/>
            <a:ext cx="6553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362320" y="571500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Verdana"/>
              </a:rPr>
              <a:t>A Auditoria e a Gerência estão interessadas em todo o processo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FC64-AD1E-43BD-9936-FA48F66910A6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úblico-al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judá-los a equilibrar riscos e controlar investimentos num ambiente de TI usualmente imprevisív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u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ter certeza sobre a segurança e controle de serviços de TI fornecidos internamente ou por terceir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di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bstanciar suas opiniões e/ou dar conselho à administração sobre controles intern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1667-8897-4461-810F-2CD72D61EA69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he Wor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ário Ex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trizes de Audito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ramentas de Implement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062-2079-421D-8EF6-620DCDF659E9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 Família Cob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3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2087640" y="3048120"/>
            <a:ext cx="2895480" cy="53316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Tahoma"/>
              </a:rPr>
              <a:t>Framework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6666"/>
                </a:solidFill>
                <a:latin typeface="Tahoma"/>
              </a:rPr>
              <a:t>with high-level control objectiv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2773440" y="4114800"/>
            <a:ext cx="1828800" cy="5335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Tahoma"/>
              </a:rPr>
              <a:t>Detailed Control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Tahoma"/>
              </a:rPr>
              <a:t>Objetiv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Rectangle 34"/>
          <p:cNvSpPr/>
          <p:nvPr/>
        </p:nvSpPr>
        <p:spPr>
          <a:xfrm>
            <a:off x="5211720" y="4114800"/>
            <a:ext cx="1828800" cy="5335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Tahoma"/>
              </a:rPr>
              <a:t>Audit Guidelin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2087640" y="2133720"/>
            <a:ext cx="2895480" cy="53316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66"/>
                </a:solidFill>
                <a:latin typeface="Tahoma"/>
              </a:rPr>
              <a:t>Executive Summary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3534120" y="2286000"/>
            <a:ext cx="5490720" cy="2119320"/>
            <a:chOff x="3534120" y="2286000"/>
            <a:chExt cx="5490720" cy="2119320"/>
          </a:xfrm>
        </p:grpSpPr>
        <p:sp>
          <p:nvSpPr>
            <p:cNvPr id="212" name="Rectangle 35"/>
            <p:cNvSpPr/>
            <p:nvPr/>
          </p:nvSpPr>
          <p:spPr>
            <a:xfrm>
              <a:off x="6049800" y="2286000"/>
              <a:ext cx="1828800" cy="5335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Tool Set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3" name="Text Box 41"/>
            <p:cNvSpPr/>
            <p:nvPr/>
          </p:nvSpPr>
          <p:spPr>
            <a:xfrm>
              <a:off x="6474240" y="2819520"/>
              <a:ext cx="2550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Executive Overview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Case Studies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FAQs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Power Point Presentations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Implementation Guide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	</a:t>
              </a: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Manag. Aw. Diag.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	</a:t>
              </a:r>
              <a:r>
                <a:rPr b="0" lang="pt-BR" sz="1400" spc="-1" strike="noStrike">
                  <a:solidFill>
                    <a:srgbClr val="336666"/>
                  </a:solidFill>
                  <a:latin typeface="Tahoma"/>
                </a:rPr>
                <a:t>IT Control Diag.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214" name="AutoShape 42"/>
            <p:cNvCxnSpPr>
              <a:stCxn id="210" idx="2"/>
              <a:endCxn id="212" idx="1"/>
            </p:cNvCxnSpPr>
            <p:nvPr/>
          </p:nvCxnSpPr>
          <p:spPr>
            <a:xfrm flipH="1" flipV="1" rot="5400000">
              <a:off x="4734360" y="1351800"/>
              <a:ext cx="114840" cy="2515320"/>
            </a:xfrm>
            <a:prstGeom prst="bentConnector4">
              <a:avLst>
                <a:gd name="adj1" fmla="val -200000"/>
                <a:gd name="adj2" fmla="val 78786"/>
              </a:avLst>
            </a:prstGeom>
            <a:ln w="9360">
              <a:solidFill>
                <a:srgbClr val="336666"/>
              </a:solidFill>
              <a:miter/>
            </a:ln>
          </p:spPr>
        </p:cxnSp>
      </p:grpSp>
      <p:cxnSp>
        <p:nvCxnSpPr>
          <p:cNvPr id="215" name="AutoShape 43"/>
          <p:cNvCxnSpPr>
            <a:stCxn id="210" idx="2"/>
            <a:endCxn id="207" idx="0"/>
          </p:cNvCxnSpPr>
          <p:nvPr/>
        </p:nvCxnSpPr>
        <p:spPr>
          <a:xfrm flipH="1">
            <a:off x="3534480" y="2666520"/>
            <a:ext cx="1080" cy="381960"/>
          </a:xfrm>
          <a:prstGeom prst="straightConnector1">
            <a:avLst/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216" name="AutoShape 45"/>
          <p:cNvCxnSpPr>
            <a:stCxn id="207" idx="2"/>
            <a:endCxn id="208" idx="0"/>
          </p:cNvCxnSpPr>
          <p:nvPr/>
        </p:nvCxnSpPr>
        <p:spPr>
          <a:xfrm flipH="1" rot="16200000">
            <a:off x="3344760" y="3771360"/>
            <a:ext cx="534240" cy="153360"/>
          </a:xfrm>
          <a:prstGeom prst="bentConnector3">
            <a:avLst>
              <a:gd name="adj1" fmla="val 49966"/>
            </a:avLst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217" name="AutoShape 46"/>
          <p:cNvCxnSpPr>
            <a:stCxn id="207" idx="2"/>
            <a:endCxn id="209" idx="0"/>
          </p:cNvCxnSpPr>
          <p:nvPr/>
        </p:nvCxnSpPr>
        <p:spPr>
          <a:xfrm flipH="1" rot="16200000">
            <a:off x="4563000" y="2552400"/>
            <a:ext cx="534240" cy="2591640"/>
          </a:xfrm>
          <a:prstGeom prst="bentConnector3">
            <a:avLst>
              <a:gd name="adj1" fmla="val 49966"/>
            </a:avLst>
          </a:prstGeom>
          <a:ln w="9360">
            <a:solidFill>
              <a:srgbClr val="336666"/>
            </a:solidFill>
            <a:miter/>
          </a:ln>
        </p:spPr>
      </p:cxnSp>
      <p:grpSp>
        <p:nvGrpSpPr>
          <p:cNvPr id="218" name="Group 52"/>
          <p:cNvGrpSpPr/>
          <p:nvPr/>
        </p:nvGrpSpPr>
        <p:grpSpPr>
          <a:xfrm>
            <a:off x="334800" y="3581280"/>
            <a:ext cx="3200400" cy="1067040"/>
            <a:chOff x="334800" y="3581280"/>
            <a:chExt cx="3200400" cy="1067040"/>
          </a:xfrm>
        </p:grpSpPr>
        <p:sp>
          <p:nvSpPr>
            <p:cNvPr id="219" name="Rectangle 32"/>
            <p:cNvSpPr/>
            <p:nvPr/>
          </p:nvSpPr>
          <p:spPr>
            <a:xfrm>
              <a:off x="334800" y="4114800"/>
              <a:ext cx="1828800" cy="5335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Management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Guideline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220" name="AutoShape 47"/>
            <p:cNvCxnSpPr>
              <a:stCxn id="207" idx="2"/>
              <a:endCxn id="219" idx="0"/>
            </p:cNvCxnSpPr>
            <p:nvPr/>
          </p:nvCxnSpPr>
          <p:spPr>
            <a:xfrm rot="5400000">
              <a:off x="2124720" y="2705040"/>
              <a:ext cx="534240" cy="228672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336666"/>
              </a:solidFill>
              <a:miter/>
            </a:ln>
          </p:spPr>
        </p:cxnSp>
      </p:grpSp>
      <p:grpSp>
        <p:nvGrpSpPr>
          <p:cNvPr id="221" name="Group 51"/>
          <p:cNvGrpSpPr/>
          <p:nvPr/>
        </p:nvGrpSpPr>
        <p:grpSpPr>
          <a:xfrm>
            <a:off x="334800" y="4647960"/>
            <a:ext cx="8077320" cy="1143360"/>
            <a:chOff x="334800" y="4647960"/>
            <a:chExt cx="8077320" cy="1143360"/>
          </a:xfrm>
        </p:grpSpPr>
        <p:sp>
          <p:nvSpPr>
            <p:cNvPr id="222" name="Rectangle 36"/>
            <p:cNvSpPr/>
            <p:nvPr/>
          </p:nvSpPr>
          <p:spPr>
            <a:xfrm>
              <a:off x="334800" y="5257800"/>
              <a:ext cx="1828800" cy="5335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Maturity Model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3" name="Rectangle 37"/>
            <p:cNvSpPr/>
            <p:nvPr/>
          </p:nvSpPr>
          <p:spPr>
            <a:xfrm>
              <a:off x="2392200" y="5257800"/>
              <a:ext cx="1828800" cy="5335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Critical Succes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Factor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4" name="Rectangle 38"/>
            <p:cNvSpPr/>
            <p:nvPr/>
          </p:nvSpPr>
          <p:spPr>
            <a:xfrm>
              <a:off x="4449600" y="5257800"/>
              <a:ext cx="1828800" cy="5335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Key Goal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Indicator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5" name="Rectangle 39"/>
            <p:cNvSpPr/>
            <p:nvPr/>
          </p:nvSpPr>
          <p:spPr>
            <a:xfrm>
              <a:off x="6583320" y="5257800"/>
              <a:ext cx="1828800" cy="5335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Key Performance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66"/>
                  </a:solidFill>
                  <a:latin typeface="Tahoma"/>
                </a:rPr>
                <a:t>Indicators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226" name="AutoShape 44"/>
            <p:cNvCxnSpPr>
              <a:stCxn id="219" idx="2"/>
              <a:endCxn id="222" idx="0"/>
            </p:cNvCxnSpPr>
            <p:nvPr/>
          </p:nvCxnSpPr>
          <p:spPr>
            <a:xfrm flipH="1">
              <a:off x="1248480" y="4647960"/>
              <a:ext cx="1080" cy="610200"/>
            </a:xfrm>
            <a:prstGeom prst="straightConnector1">
              <a:avLst/>
            </a:prstGeom>
            <a:ln w="9360">
              <a:solidFill>
                <a:srgbClr val="336666"/>
              </a:solidFill>
              <a:miter/>
            </a:ln>
          </p:spPr>
        </p:cxnSp>
        <p:cxnSp>
          <p:nvCxnSpPr>
            <p:cNvPr id="227" name="AutoShape 48"/>
            <p:cNvCxnSpPr>
              <a:stCxn id="219" idx="2"/>
              <a:endCxn id="223" idx="0"/>
            </p:cNvCxnSpPr>
            <p:nvPr/>
          </p:nvCxnSpPr>
          <p:spPr>
            <a:xfrm flipH="1" rot="16200000">
              <a:off x="1971720" y="3924000"/>
              <a:ext cx="610200" cy="205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66"/>
              </a:solidFill>
              <a:miter/>
            </a:ln>
          </p:spPr>
        </p:cxnSp>
        <p:cxnSp>
          <p:nvCxnSpPr>
            <p:cNvPr id="228" name="AutoShape 49"/>
            <p:cNvCxnSpPr>
              <a:stCxn id="219" idx="2"/>
              <a:endCxn id="224" idx="0"/>
            </p:cNvCxnSpPr>
            <p:nvPr/>
          </p:nvCxnSpPr>
          <p:spPr>
            <a:xfrm flipH="1" rot="16200000">
              <a:off x="3001680" y="2895120"/>
              <a:ext cx="610200" cy="4115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66"/>
              </a:solidFill>
              <a:miter/>
            </a:ln>
          </p:spPr>
        </p:cxnSp>
        <p:cxnSp>
          <p:nvCxnSpPr>
            <p:cNvPr id="229" name="AutoShape 50"/>
            <p:cNvCxnSpPr>
              <a:stCxn id="219" idx="2"/>
              <a:endCxn id="225" idx="0"/>
            </p:cNvCxnSpPr>
            <p:nvPr/>
          </p:nvCxnSpPr>
          <p:spPr>
            <a:xfrm flipH="1" rot="16200000">
              <a:off x="4067640" y="1828440"/>
              <a:ext cx="610200" cy="6249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66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E6FE-1C95-492F-B952-E9D87CDF5C87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499"/>
              </a:spcBef>
              <a:buClr>
                <a:srgbClr val="33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overnança de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overnanç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mportância da TI para as 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Governança aplicada à 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499"/>
              </a:spcBef>
              <a:buClr>
                <a:srgbClr val="33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781-AEE7-45E5-AC34-C89AE7814894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ma necessidade básica para toda organização é entender o status de seu próprio sistema de TI e decidir que níveis segurança e controle ele deve pro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ão as medidas / orientações indicadas para o bom gerenci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s recursos de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nérico e orientado a 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9F7-2DE2-410A-A81A-754F42C66592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reciso controlar os riscos, mensurar o desempenho da TI, através de indicadores alinhados com os objetivos de negó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ndo como propósito responder as seguintes questõ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is são os indicadores de bom desempenho? -  (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Performance measuremen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 que é importante? - (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IT control profiling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nde estão os riscos?  -  (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Awareness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 que os outros fazem? -  (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Benchmarking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31B2-75F5-4C7E-A197-751533B3CE4C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ão compostas 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odelos de Maturidade (Maturity Model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atores Critícos de Suces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Critical Success Factors - CSF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dicadores-Chave de Objetiv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Key Goal Indicators - KG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dicadores-Chave de Desempenho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Key Performance Indicators - KP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0A92-B33B-46F8-AA46-BE2E6B0D71F7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delos de Maturidade (Maturity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níveis de maturidade devem ser baseados em um conjunto de condições que podem ser atingidas de forma não-ambígua. A partir desses níveis, foi desenvolvido para cada um dos 34 processos do Cobit um roteiro que permite mape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nde a organização está hoj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atual estágio de desenvolvimento da industria (best-in-clas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onde a organização quer cheg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6E4F-147A-4A3C-B79F-82D1A1F6B0A3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delos de Maturidade (Maturity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1295280" y="2612880"/>
            <a:ext cx="75438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719-5780-4D37-BA97-948E89AC0076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Ger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tores Critícos de Sucesso (Critical Success Factors - CS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em as questões e ações mais importantes como foco da gerência de TI. Identificam o que a gerência deve fazer estratégica, técnica, procedural e organizacionalm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dicadores-Chave de Objetivos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KG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em medidas que informam à gerência, depois do fato ocorrido, se um processo de TI atendeu os requisitos de negóc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dicadores-Chave de Desempenho (KP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efinem medidas para derterminar quão bem está sendo realizado um pocesso de TI para atingir uma meta defin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3D45-3947-4328-8F20-8D3BDFEAE131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talha e controla como os processos de TI produzem as informações que a empresa necessita para alcançar seus objetivos, através dos Objetivos de Control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laciona os Critérios de Informação e Recursos de TI com os Processos de TI, auxiliando a tomada de decisões pelas Diretrizes de Gerê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6BD9-9BE0-4DEE-9CE6-ABD9E2CB0E14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bjetivos Detalhados de Contro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mework foca os Objetivos de Controle de auto-nível (independentes de fatores técnic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bjetivos Detalhados de Controle focam em objetivos específicos para cada Processo de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cada Processo de TI existem de 3 a 30 objetivos de controle detalhados, num total de 21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F22-61B6-4B4C-A60A-534D46675CCD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bjetivos Detalhados de Contro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objDet"/>
          <p:cNvPicPr/>
          <p:nvPr/>
        </p:nvPicPr>
        <p:blipFill>
          <a:blip r:embed="rId2"/>
          <a:stretch/>
        </p:blipFill>
        <p:spPr>
          <a:xfrm>
            <a:off x="1447920" y="2514600"/>
            <a:ext cx="64008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CFA-91BA-4E07-BCC9-886EE71F72FE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Framework(conceitual) provê Governança d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o Guia de Governança de TI (que provê a estrutura do Cubo CobiT), permitindo a empresa tirar total proveito da inform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ximizando benefíc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pitalizando oportunidad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Vantagens competitiv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F01C-3353-4A6D-B257-E6B44CF3241C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Governança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genericamente faland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já é largamente aplicada nas empresas, em setores estraté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e definir uma relaçã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papé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inter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ntre os membros da organização para facilitar o processo decisório estratégico, garanti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onfiabilidade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efetividade e eficiência das oper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e estar alinhada com os objetivos d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oriza estruturas descentralizadas, regulação e práticas de bom governo, aprendizagem coletiva e particip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A191-5141-4A55-BD93-88851D981A0A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mento e Organ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mpreende estratégias e táticas para que a TI possa contribuir da melhor forma possível com os objetivos do negócio. Devem ser estabelecidas uma organização apropriada e uma infra-estrutura tecnológ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2362320" y="3429000"/>
            <a:ext cx="5181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1 - Definir um plano estratégico de T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2 - Definir a arquitetura da informação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3 - Determinar a direção tecnológic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4 - Definir a organização de TI e seus relacionament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5 - Gerenciar os investimentos de T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6 - Comunicar os objetivos e direções tecnológica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7 - Gerenciar os recursos human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8 - Garantir o atendimento dos requerimentos extern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9 - Avaliar risc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10 - Gerenciar projet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O11 - Gerenciar a qualid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704-5864-4BE3-A726-0F3D3178A897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resumoplanejamento"/>
          <p:cNvPicPr/>
          <p:nvPr/>
        </p:nvPicPr>
        <p:blipFill>
          <a:blip r:embed="rId2"/>
          <a:stretch/>
        </p:blipFill>
        <p:spPr>
          <a:xfrm>
            <a:off x="1066680" y="2209680"/>
            <a:ext cx="70596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7713-FD39-46BF-B351-14F9617B21DE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quisição e Implemen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estratégia de TI gera a necessidade de identificar, desenvolver ou adquirir soluções de TI e integrá-las no processo do negócio. Esse domínio considera também as mudanças e manutenções nos sistemas existentes de forma a garantir a continuidade do ciclo de vida desses sistem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2362320" y="3886200"/>
            <a:ext cx="51814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I1 - Identificar soluções automatizada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I2 - Adquirir e manter soluções de softwar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I3 - Adquirir e manter infra-estrutura tecnológic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I4 - Desenvolver e manter os procediment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I5 - Instalar e validar os sistema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I6 - Gerenciar mudança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F53B-1A51-4426-8E0F-748DE4540A0E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resumo aquis"/>
          <p:cNvPicPr/>
          <p:nvPr/>
        </p:nvPicPr>
        <p:blipFill>
          <a:blip r:embed="rId2"/>
          <a:stretch/>
        </p:blipFill>
        <p:spPr>
          <a:xfrm>
            <a:off x="990720" y="2209680"/>
            <a:ext cx="7059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A756-C9A0-41B8-BCF7-DB4CE1EAA74C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rega e Supor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ste domínio foca os produtos reais dos serviços requeridos, desde operações tradicionais de segurança à aspectos de continuidad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2362320" y="3276720"/>
            <a:ext cx="5181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1 - Definir e gerenciar os níveis de serviço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2 - Gerenciar serviços terceirizad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3 - Gerenciar Performance e Capacid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4 - Garantir o serviço contínuo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5 - Garantir a segurança dos sistema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6 - Identificar e alocar cust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7 - Educar e treinar usuári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8 - Apoiar e aconselhar os clien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9 - Gerenciar a configuração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10 - Gerenciar problemas e ocorrência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11 - Gerenciar os dad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12 - Gerenciar os equipament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S13 - Gerenciar as operaçõ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50B-C246-4D1E-B570-39B4F034B13B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resumoentragasuporte"/>
          <p:cNvPicPr/>
          <p:nvPr/>
        </p:nvPicPr>
        <p:blipFill>
          <a:blip r:embed="rId2"/>
          <a:stretch/>
        </p:blipFill>
        <p:spPr>
          <a:xfrm>
            <a:off x="1143000" y="2209680"/>
            <a:ext cx="66009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144-D328-4607-84E7-DDA1D598E86A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trola os processos de TI. Devem ser avaliados regularmente, nos aspectos de sua qualidade e conformidade às necessidades do contr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2362320" y="3200400"/>
            <a:ext cx="5181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M1 - Acompanhamento dos process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M2 - Avaliar a adequação dos controles intern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M3 - Obter garantia independen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M4 - Utilizar auditoria independen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53FD-8903-45FE-8CBE-332334A22DC2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onitoramento"/>
          <p:cNvPicPr/>
          <p:nvPr/>
        </p:nvPicPr>
        <p:blipFill>
          <a:blip r:embed="rId2"/>
          <a:stretch/>
        </p:blipFill>
        <p:spPr>
          <a:xfrm>
            <a:off x="1166760" y="2209680"/>
            <a:ext cx="6834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7CFF-4451-4906-AADF-7DB06F39AA32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Auditor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uditoria deve avaliar e informar se as atividades da empresa são correspondentes aos 34 Objetivos de Controle de auto- nível, informando os riscos de não serem cumpridos e ações preventivas e de melh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Framework, mais precisamente os Processos de TI, são analisados, bem como o desempenho da Governança de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6CCD-907D-40CD-974D-A79F956B8012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2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Diretrizes de Auditor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auditores de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tend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 administração e os gestores dos processos de negócio com garantia e aconselhamento com relação a controles em uma organizaçã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ar garant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razoável que objetivos de controle relevantes estejam sendo alcançad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onde há fraquezas significativas naqueles control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evidenciar o risco que pode estar associado com tais fraqueza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, finalmente,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conselh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ses executivos nas ações corretivas que deveriam ser tomad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9BE2-8679-473C-A517-55C3888089CC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mercado atual, a TI está cada vez mais presente nas empresas, e cada vez mais torna-se estratégica para es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itas organizações têm suas bases de dados e as tecnologias que suportam o negócio como seu maior recur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erramentas que facilitem a tomada de decisões com rapidez, eficácia e a custos baixos podem ser o diferencial para o posicionamento n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6137-AD51-40B2-A4DE-BDFF72B7C290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7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Sumário Executiv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um resumo orientado a questões-chave para a cúpula da empresa, como Governança e objetivos e estratégias de negóc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o conhecimento básico dos conceitos e princípios do COBIT, não é possível aproveitar suas vantagens alinhadas com os objetivos do negó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cutivos e Gerentes devem utilizá-lo para se orientarem e alinharem suas decisões em função do COBIT aplicado à empre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F47D-C193-40DA-8418-A1785E0CC264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Implementaçã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junto de casos e lições aprendidas (dispostos em apresentações, guias de implantação, FAQs) de organizações que aplicaram o COBIT com suces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tes de Implementar na organização é necessário saber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Quem são as pessoas que precisam ser influenciada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que uma organização deve adotar o Cobit?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Qual é o escopo e as limitações do Cobi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42D4-E7C1-40C1-967A-6E6F213E6C27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7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Implementaçã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1371600" y="2209680"/>
          <a:ext cx="7010280" cy="3921120"/>
        </p:xfrm>
        <a:graphic>
          <a:graphicData uri="http://schemas.openxmlformats.org/drawingml/2006/table">
            <a:tbl>
              <a:tblPr/>
              <a:tblGrid>
                <a:gridCol w="2470320"/>
                <a:gridCol w="2268360"/>
                <a:gridCol w="2271600"/>
              </a:tblGrid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ndo você é ?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ivos do Cobit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o Cobit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19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tar e promover o modelo de governança de TI para todas as entidades dentro da empresa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o framework de controle do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biT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a problemas específicos de TI, para fazer uma auto avaliação para aceitar padrões internacionais. Para estabelecer uma linguagem comum entre negócios e TI, bem como alocar responsabilidade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utilizado como uma guia mínimo de controle internos a serem integrados nas informações do sistema.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o guia  de contrato de nível de serviço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e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 base para determinar o universo de auditoria de TI e como uma referência de controle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o CoBit como um critério de revisão e exames nas auditorias relacionadas com TI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579A-CA7D-452F-B45F-A2AB1D130E3C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2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447920" y="2227320"/>
          <a:ext cx="6324480" cy="2652480"/>
        </p:xfrm>
        <a:graphic>
          <a:graphicData uri="http://schemas.openxmlformats.org/drawingml/2006/table">
            <a:tbl>
              <a:tblPr/>
              <a:tblGrid>
                <a:gridCol w="2666880"/>
                <a:gridCol w="3657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A quem se destina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Sumário Executivo</a:t>
                      </a: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Alta Administração (CEO, CIO)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Framework (Estrutura)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Diretores de TI e Auditoria de Sistema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Objetivos de Controle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Gerência de TI e Auditores de Sistema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Diretrizes de Auditoria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Profissionais de Auditoria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Diretrizes de Gerência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Gerência de Negócios (Operacional) / Diretoria / Gerência de TI, Gerência de Controles / Auditoria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Conjunto de Ferramentas de Implementação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66"/>
                          </a:solidFill>
                          <a:latin typeface="Verdana"/>
                          <a:ea typeface="Times New Roman"/>
                        </a:rPr>
                        <a:t>Diretor de TI e Auditoria / Controle, Gerência de TI e Gerência de Auditoria / Controle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CC14-D818-4D22-B4A5-7FE75D7D0BB8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8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i construído para responder às per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é onde devemos ir? Justificam-se os custos com os benefício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Quais os indicadores de bom desempenh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Quais os fatores críticos de sucess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Quais os riscos de se atingir os objetivo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o podemos medir, compara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que fazem os outro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biT Light, através da adaptação para o ambiente d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E10C-ECDA-412D-A5A5-FAC99B325788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vantage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omparacao"/>
          <p:cNvPicPr/>
          <p:nvPr/>
        </p:nvPicPr>
        <p:blipFill>
          <a:blip r:embed="rId2"/>
          <a:stretch/>
        </p:blipFill>
        <p:spPr>
          <a:xfrm>
            <a:off x="1828800" y="2378160"/>
            <a:ext cx="61722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236D-20E3-4665-BB8B-B1DCD5C8A976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8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CobiT – </a:t>
            </a: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vantagens x desvantage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ntos fortes: permite que TI aborde riscos não endereçados explicitamente por outros modelos e que seja aprovada em auditorias. Funciona bem com outros modelos de qualidade, principalmente IT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ões: diz o que fazer, mas não como fazer. Não lida diretamente com desenvolvimento de software ou serviços de TI. Não fornece um "road map" para aprimoramento contínuo de proces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CE4D-0455-4E8F-9FD1-5008F6479CC6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Reflexão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s é impossível implementar 100% do Cobi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gerente sênior Fábio Braz comanda cerca de 500 funcionários na área de infra-estrutura e operações da empresa de call center Cont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33C4-B16D-476C-842A-AF8563AD5284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Reflexão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itkowski, que coordenou a adoção de normas de TI no Grupo Pão de Açú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Brasil é o segundo país do mundo em número de profissionais certificados em Cobi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consultor conta que a Isaca acaba de escolher o país para traduzir a prova do Cobit para o portuguê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4" descr="logoCobit"/>
          <p:cNvPicPr/>
          <p:nvPr/>
        </p:nvPicPr>
        <p:blipFill>
          <a:blip r:embed="rId1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ço Reservado para Data 5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1027-3CA1-41F5-997E-34A70414ED46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Espaço Reservado para Rodapé 6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biT 3rd Edition. Executive Summary. July 2000. Release by the CobiT Steering Committee and the IT Governance Institu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formation Systems Audit and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ociation – Isaca. </a:t>
            </a:r>
            <a:r>
              <a:rPr b="0" lang="pt-BR" sz="2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isaca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T Governance Institute. </a:t>
            </a:r>
            <a:r>
              <a:rPr b="0" lang="pt-BR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itgi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b5c.com.br/cobi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ezCoBi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www.efagundes.com/Artigos/Arquivos_pdf/CoBiT.p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logoCobit"/>
          <p:cNvPicPr/>
          <p:nvPr/>
        </p:nvPicPr>
        <p:blipFill>
          <a:blip r:embed="rId6"/>
          <a:stretch/>
        </p:blipFill>
        <p:spPr>
          <a:xfrm>
            <a:off x="228600" y="12952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logoGTI"/>
          <p:cNvPicPr/>
          <p:nvPr/>
        </p:nvPicPr>
        <p:blipFill>
          <a:blip r:embed="rId7"/>
          <a:stretch/>
        </p:blipFill>
        <p:spPr>
          <a:xfrm>
            <a:off x="85680" y="3324240"/>
            <a:ext cx="1209600" cy="866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C:\Patricia\msc\TAES5\apresentacao\logoisacf.bmp"/>
          <p:cNvPicPr/>
          <p:nvPr/>
        </p:nvPicPr>
        <p:blipFill>
          <a:blip r:embed=""/>
          <a:stretch/>
        </p:blipFill>
        <p:spPr>
          <a:xfrm>
            <a:off x="0" y="2362320"/>
            <a:ext cx="1752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789-3019-41EC-9D61-17E1BFE5AF10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23880" y="1905120"/>
            <a:ext cx="701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mportância da TI para a estratégia das empres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47% dos CIOs acreditam que a TI seja a principal  responsável pelas definições de investimentos nas empres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26% cabe a alta administraçã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24 % a um comitê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3%  outra opçã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2124-AE1F-4B11-AB5D-71D78EA4A9C8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I deve prover qualidade, funcionalidade e facilidade no uso de seus recursos, assim como alta disponibilidade e baixos cus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I deve permitir que empresa consiga explorar o máximo de vantagens das suas informações, capitalizando-as em oportunidades e vantagens competit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I deve estar alinhada com os objetivos d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I precisa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gerenciamento confiável, efetivo e eficiente, que vá facilitar as tomadas de decisão no setor, e maximizar os ganhos para 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necessário extender a Governança à TI (G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Data 4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4E7-E69B-489D-AFDE-791278E77992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Espaço Reservado para Rodapé 5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 de TI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logoGTI"/>
          <p:cNvPicPr/>
          <p:nvPr/>
        </p:nvPicPr>
        <p:blipFill>
          <a:blip r:embed="rId1"/>
          <a:stretch/>
        </p:blipFill>
        <p:spPr>
          <a:xfrm>
            <a:off x="85680" y="1143000"/>
            <a:ext cx="12096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Governance Institute (199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TI de prover uma estrutura que assoc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ções necessárias às estratégias e objetivos d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sos da 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os da 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25"/>
          <p:cNvGrpSpPr/>
          <p:nvPr/>
        </p:nvGrpSpPr>
        <p:grpSpPr>
          <a:xfrm>
            <a:off x="4572000" y="3325680"/>
            <a:ext cx="4114800" cy="2856240"/>
            <a:chOff x="4572000" y="3325680"/>
            <a:chExt cx="4114800" cy="2856240"/>
          </a:xfrm>
        </p:grpSpPr>
        <p:sp>
          <p:nvSpPr>
            <p:cNvPr id="124" name="Text Box 14"/>
            <p:cNvSpPr/>
            <p:nvPr/>
          </p:nvSpPr>
          <p:spPr>
            <a:xfrm>
              <a:off x="4572000" y="3325680"/>
              <a:ext cx="4114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6666"/>
                  </a:solidFill>
                  <a:latin typeface="Arial"/>
                </a:rPr>
                <a:t>Objetivos de Negócio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4572000" y="4144680"/>
              <a:ext cx="4114800" cy="203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6666"/>
                  </a:solidFill>
                  <a:latin typeface="Arial"/>
                </a:rPr>
                <a:t>Governança de TI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>
              <a:off x="6400440" y="3701880"/>
              <a:ext cx="195840" cy="457200"/>
            </a:xfrm>
            <a:prstGeom prst="upArrow">
              <a:avLst>
                <a:gd name="adj1" fmla="val 50000"/>
                <a:gd name="adj2" fmla="val 58364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AutoShape 17"/>
            <p:cNvSpPr/>
            <p:nvPr/>
          </p:nvSpPr>
          <p:spPr>
            <a:xfrm>
              <a:off x="6596280" y="3701880"/>
              <a:ext cx="195840" cy="457200"/>
            </a:xfrm>
            <a:prstGeom prst="downArrow">
              <a:avLst>
                <a:gd name="adj1" fmla="val 50000"/>
                <a:gd name="adj2" fmla="val 58364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8" name="Group 23"/>
          <p:cNvGrpSpPr/>
          <p:nvPr/>
        </p:nvGrpSpPr>
        <p:grpSpPr>
          <a:xfrm>
            <a:off x="5486400" y="4621320"/>
            <a:ext cx="2417760" cy="1218600"/>
            <a:chOff x="5486400" y="4621320"/>
            <a:chExt cx="2417760" cy="1218600"/>
          </a:xfrm>
        </p:grpSpPr>
        <p:sp>
          <p:nvSpPr>
            <p:cNvPr id="129" name="Rectangle 18"/>
            <p:cNvSpPr/>
            <p:nvPr/>
          </p:nvSpPr>
          <p:spPr>
            <a:xfrm>
              <a:off x="5486400" y="4621320"/>
              <a:ext cx="24177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6666"/>
                  </a:solidFill>
                  <a:latin typeface="Arial"/>
                </a:rPr>
                <a:t>Informaçõ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Rectangle 20"/>
            <p:cNvSpPr/>
            <p:nvPr/>
          </p:nvSpPr>
          <p:spPr>
            <a:xfrm>
              <a:off x="5486400" y="5459040"/>
              <a:ext cx="2417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6666"/>
                  </a:solidFill>
                  <a:latin typeface="Arial"/>
                </a:rPr>
                <a:t>Recursos da TI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AutoShape 21"/>
            <p:cNvSpPr/>
            <p:nvPr/>
          </p:nvSpPr>
          <p:spPr>
            <a:xfrm>
              <a:off x="6466320" y="5001840"/>
              <a:ext cx="195840" cy="456840"/>
            </a:xfrm>
            <a:prstGeom prst="upArrow">
              <a:avLst>
                <a:gd name="adj1" fmla="val 50000"/>
                <a:gd name="adj2" fmla="val 58318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AutoShape 22"/>
            <p:cNvSpPr/>
            <p:nvPr/>
          </p:nvSpPr>
          <p:spPr>
            <a:xfrm>
              <a:off x="6662520" y="5001840"/>
              <a:ext cx="195840" cy="456840"/>
            </a:xfrm>
            <a:prstGeom prst="downArrow">
              <a:avLst>
                <a:gd name="adj1" fmla="val 50000"/>
                <a:gd name="adj2" fmla="val 58318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33" name="Text Box 26"/>
          <p:cNvSpPr/>
          <p:nvPr/>
        </p:nvSpPr>
        <p:spPr>
          <a:xfrm>
            <a:off x="990720" y="2028960"/>
            <a:ext cx="3429000" cy="43563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336666"/>
                </a:solidFill>
                <a:uFillTx/>
                <a:latin typeface="Arial"/>
              </a:rPr>
              <a:t>Critérios de Informação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Eficácia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informação que está sendo relevante e pertinente ao negócio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Eficiência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provisão da informação através do uso produtivo e econômico do recurso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Confidencialidade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proteção da informação sigilosa contra a revelação não autorizad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Integridade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exatidão e incerteza da informação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Disponibilidade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informação disponibilizada quando requerida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Conformidade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cumprimento das leis, regulamentos e arranjos contratuais aos quais o negócio está sujeito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Confiabilidade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provisão de informação apropriada para operar a entidade e relatar aspectos de conformidade e financeir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762120" y="2057400"/>
            <a:ext cx="3429000" cy="39301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336666"/>
                </a:solidFill>
                <a:uFillTx/>
                <a:latin typeface="Arial"/>
              </a:rPr>
              <a:t>Recursos da TI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Dados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são objetos no seu mais amplo sentido, estruturados e não estruturados, gráficos, sons, etc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Sistemas Aplicativos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são a soma dos procedimentos manuais e programados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Tecnologia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cobre o hardware, os sistemas operacionais, os sistemas de gerenciamento de banco de dados, redes, multimídia, etc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Instalações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são todos os recursos para acolher e suportar os sistemas de informação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66"/>
                </a:solidFill>
                <a:latin typeface="Arial"/>
              </a:rPr>
              <a:t>Pessoal</a:t>
            </a:r>
            <a:r>
              <a:rPr b="0" lang="pt-BR" sz="1400" spc="-1" strike="noStrike">
                <a:solidFill>
                  <a:srgbClr val="336666"/>
                </a:solidFill>
                <a:latin typeface="Arial"/>
              </a:rPr>
              <a:t> - inclui habilidades da equipe, consciência e produtividade para planejar, organizar, adquirir, entregar, suportar e monitorar os sistemas de informação e serviços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ço Reservado para Data 4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233B-FB27-4C01-B864-993C4E0AF568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Espaço Reservado para Rodapé 5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 de TI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logoGTI"/>
          <p:cNvPicPr/>
          <p:nvPr/>
        </p:nvPicPr>
        <p:blipFill>
          <a:blip r:embed="rId1"/>
          <a:stretch/>
        </p:blipFill>
        <p:spPr>
          <a:xfrm>
            <a:off x="85680" y="1143000"/>
            <a:ext cx="1209600" cy="866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2133720" y="2514600"/>
            <a:ext cx="56592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junto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lacionamentos e process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controlam e dirigem as estratégias da área de TI, garantindo que esta poss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uportar as estratégias e objetivos da Empres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adicionand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alor ao negóci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e garantindo que os investimentos em TI sejam compensados pel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ntrole de riscos e oportunidade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esta possa gera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ço Reservado para Data 3"/>
          <p:cNvSpPr/>
          <p:nvPr/>
        </p:nvSpPr>
        <p:spPr>
          <a:xfrm>
            <a:off x="6934320" y="6400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8188-32C2-448B-833E-CA720A8CF61A}" type="datetime">
              <a:rPr b="1" lang="pt-BR" sz="1000" spc="-1" strike="noStrike">
                <a:solidFill>
                  <a:srgbClr val="b2b2b2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Espaço Reservado para Rodapé 4"/>
          <p:cNvSpPr/>
          <p:nvPr/>
        </p:nvSpPr>
        <p:spPr>
          <a:xfrm>
            <a:off x="1371600" y="6400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b2b2b2"/>
                </a:solidFill>
                <a:latin typeface="Verdana"/>
              </a:rPr>
              <a:t>Cobit - Control Objectives for Information and related Technolog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Verdana"/>
              </a:rPr>
              <a:t>Governança de TI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rge como um guia de melhores práticas para Governança de 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brangente e orientado a negó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8:06:59Z</dcterms:created>
  <dc:creator>Vander</dc:creator>
  <dc:description/>
  <dc:language>en-US</dc:language>
  <cp:lastModifiedBy>mac</cp:lastModifiedBy>
  <dcterms:modified xsi:type="dcterms:W3CDTF">2008-11-06T17:21:24Z</dcterms:modified>
  <cp:revision>175</cp:revision>
  <dc:subject/>
  <dc:title>CobiT</dc:title>
</cp:coreProperties>
</file>