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96C5-AB4F-4BCA-B60B-2DC27C65AE4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7510-2842-47DD-8A92-D99EEAEA37B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1F4F-CD0B-4964-BB92-B6186E5FD91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D8DA-535B-49B7-B228-DF6CEE145A3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C38F-CF97-4F02-9C0B-58026B9D701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0BF0-4577-4A92-80DC-C7408511746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BBD7-F396-46DC-9E3C-F91F4467768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A4D8-B263-4E41-AE44-EF5A8AF5553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B50F-3DEA-43A5-B242-4CC07825952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DD1-8BCA-48DC-B569-9AE4A6FE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11A3-FB6A-428B-983C-CC53FA3D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270-CA1B-4B7C-9B1D-35376D92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CD88-275A-4D81-9E6E-18118A33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EDB5-8A09-41B8-879D-0D7A0679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CCF3-B595-454D-A9F5-06D4C0CA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231F-E1E6-4170-B3C1-614ED6C4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198D-51B0-4398-A0FE-74B2221C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8476-1037-4974-B9A6-7C1FD083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B6C2-170B-4DB3-9AC9-C9CCCD69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91D3-D073-4041-9018-0CBAB3E3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38C-38C8-42E7-8ECD-A95A97B5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63B7-4D83-4BF0-9ED7-FFCAA1CC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0695-B611-4561-B86A-0564757B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1C5D-7195-4384-AB07-0C136F3E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BB37-D838-44CB-B96F-3C2F53A7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0CF9-ECEB-4657-9623-33B66F6C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DC7-4E6B-4463-BEC2-64CC637F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829-EAF9-47D4-BE63-0B166482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831-0BA9-4304-9535-23778ADB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B32-B465-4EC5-B2BB-A203AE5D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8B4-AD60-4714-88BE-E7AA07C7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D78-E766-46BE-B615-73AD788B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31A7-79C8-48C4-AB1C-87380CE9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00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0D0B-2CB8-43A2-9803-AF1F8AF64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428800" y="6214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E270-FB49-4F2B-8C79-8451EF7AD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power_point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Conceitos Importantes no Processo de Tes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B62D-D192-4316-93C3-8A0CA41E8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os de Te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uperação de Falh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lerância a Falh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e de Ace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idade dos D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ga e St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ção e Portabi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ação e Desinstal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bi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ress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Cenários Comu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9D8B-3433-4434-84F9-9977815FC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s são planejados e executados pela própria equipe de 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 existe reuso da documentação dos artefatos de te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s de sistemas são realizados nos Ambientes de 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s de Regressão são negligenciados ou não fe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ologações são aceitas com ressal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695920" y="3989520"/>
            <a:ext cx="273672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116064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800000"/>
                </a:solidFill>
                <a:latin typeface="Arial"/>
              </a:rPr>
              <a:t>CIn-UF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0" y="2421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Modelos de Maturidade de Te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4443480"/>
            <a:ext cx="9144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leyverson Costa – cpc@cin.ufpe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ubro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B6E4-3F7E-4897-AEFE-8E98B179B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Modelos de Maturidade de Tes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2341-6DC0-4C14-8BA5-220DDAAB5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modelos de maturidade surgiram para </a:t>
            </a:r>
            <a:r>
              <a:rPr b="0" lang="en-US" sz="1800" spc="-1" strike="noStrike">
                <a:solidFill>
                  <a:srgbClr val="d2a000"/>
                </a:solidFill>
                <a:latin typeface="Arial"/>
              </a:rPr>
              <a:t>avali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d2a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horar o nível de qualidade dos </a:t>
            </a:r>
            <a:r>
              <a:rPr b="0" lang="en-US" sz="1800" spc="-1" strike="noStrike">
                <a:solidFill>
                  <a:srgbClr val="d2a000"/>
                </a:solidFill>
                <a:latin typeface="Arial"/>
              </a:rPr>
              <a:t>processos de tes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licados numa </a:t>
            </a:r>
            <a:r>
              <a:rPr b="0" lang="en-US" sz="1800" spc="-1" strike="noStrike">
                <a:solidFill>
                  <a:srgbClr val="d2a000"/>
                </a:solidFill>
                <a:latin typeface="Arial"/>
              </a:rPr>
              <a:t>organização desenvolvedora de softw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 em um </a:t>
            </a:r>
            <a:r>
              <a:rPr b="0" lang="en-US" sz="1800" spc="-1" strike="noStrike">
                <a:solidFill>
                  <a:srgbClr val="d2a000"/>
                </a:solidFill>
                <a:latin typeface="Arial"/>
              </a:rPr>
              <a:t>bureau de te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ividades execut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étodos utiliz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péis e responsab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lhores práticas de te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Modelos de Maturidade de Tes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2EAE-96DC-44C4-A856-5C039EF0D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incipais Mod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st Improvement Model (T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st Process Improvement (TP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st Maturity Model (T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tros Mod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aturity Model for Automated Software Testing (MMA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sting Assessment Programmer (TA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.T.B.G. Testing Capability Maturity Model (TC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stability Support Model (TS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st Organization Maturity Model (T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TIM: Test Improvement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4C9E-8858-4752-AFFB-28F8F5AD8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cebido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. Erics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. Subo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. Ur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tivos Princi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dentificação do estado a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plementação de pontos for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valiação dos pontos fra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limin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elhor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delo baseado em 4 ní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asel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adronização dos documentos, métodos e polí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álise e classificação dos probl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TIM: Test Improvement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3359-FD07-4F49-A71E-0D755F7E9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st-efect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tectar bugs desde o início do 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ei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u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isk-low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nvolvimento no início do 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astos justific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álise de prod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tricas de produtos, processos e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álise e gerenciamento dos ris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unicação com as partes dos proje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ptimiz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nhecimento e entendimento através de experimentação e modelag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elhoria contín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álise dos principais probl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operação com todas as partes do pro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esente em todas as fases do ciclo de desenvolv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TPI: Test Process Impr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9FEF-D769-4FA0-B8BA-61ADD1341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o modelo mais utilizado na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o de t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fícil cont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balha com 20 áreas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tratégia de teste (Test Strateg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odelo de ciclo de vida (Lyfe-cicle model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lanejamento e estimativas (Estimation and Plann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ificação de A –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turidade &gt;&gt; Área (20) x Classificação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trol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fic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timiz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402240" y="1509840"/>
            <a:ext cx="205740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800000"/>
                </a:solidFill>
                <a:latin typeface="Arial"/>
              </a:rPr>
              <a:t>TMM: Test Maturity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97FF-15FC-432D-8B6F-6FC0264D9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llinois Institute of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lhoria de processos de te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lene Burnst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. R. Car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uia para melhoria de process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te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spirado no C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5 níveis de matur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Áreas de proces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oas prá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253280" y="1203480"/>
            <a:ext cx="1635120" cy="1904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268960" y="1203480"/>
            <a:ext cx="1714320" cy="1904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479840" y="3351240"/>
            <a:ext cx="4413240" cy="2628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6200000">
            <a:off x="6121440" y="1949400"/>
            <a:ext cx="204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Costa, C.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4105080" y="2021760"/>
            <a:ext cx="20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Costa, C.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3313080" y="4832280"/>
            <a:ext cx="204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Costa, C.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3952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TMM: Meta-mod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7"/>
          <p:cNvSpPr/>
          <p:nvPr/>
        </p:nvSpPr>
        <p:spPr>
          <a:xfrm>
            <a:off x="53895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74D9-FE6E-46F2-939A-BA4EA664E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0240" y="1119240"/>
            <a:ext cx="16002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íve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58800" y="2338560"/>
            <a:ext cx="1025640" cy="6332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tur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 Te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53000" y="1969920"/>
            <a:ext cx="274320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 de Matur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57880" y="2865600"/>
            <a:ext cx="31240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objetivos de Matur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86120" y="122400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c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65360" y="12193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ê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57280" y="247824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ortados 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01200" y="332748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ingidos 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81560" y="3711600"/>
            <a:ext cx="32767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ividades / Responsabi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90760" y="4154400"/>
            <a:ext cx="155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ganizadas 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56" idx="1"/>
            <a:endCxn id="157" idx="0"/>
          </p:cNvCxnSpPr>
          <p:nvPr/>
        </p:nvCxnSpPr>
        <p:spPr>
          <a:xfrm flipV="1" rot="10800000">
            <a:off x="2071080" y="1460880"/>
            <a:ext cx="1199160" cy="87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3"/>
            <a:endCxn id="158" idx="0"/>
          </p:cNvCxnSpPr>
          <p:nvPr/>
        </p:nvCxnSpPr>
        <p:spPr>
          <a:xfrm>
            <a:off x="4870440" y="1461600"/>
            <a:ext cx="1154880" cy="508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9" idx="2"/>
            <a:endCxn id="164" idx="0"/>
          </p:cNvCxnSpPr>
          <p:nvPr/>
        </p:nvCxnSpPr>
        <p:spPr>
          <a:xfrm flipV="1" rot="10800000">
            <a:off x="6019200" y="3246120"/>
            <a:ext cx="1080" cy="46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4913280" y="4560840"/>
            <a:ext cx="22096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ões Crí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92720" y="5300640"/>
            <a:ext cx="1449360" cy="70956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envolv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st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9" idx="1"/>
            <a:endCxn id="172" idx="0"/>
          </p:cNvCxnSpPr>
          <p:nvPr/>
        </p:nvCxnSpPr>
        <p:spPr>
          <a:xfrm flipV="1" rot="10800000">
            <a:off x="4188600" y="4750920"/>
            <a:ext cx="724680" cy="55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9" idx="2"/>
            <a:endCxn id="170" idx="0"/>
          </p:cNvCxnSpPr>
          <p:nvPr/>
        </p:nvCxnSpPr>
        <p:spPr>
          <a:xfrm flipV="1" rot="10800000">
            <a:off x="6017400" y="494136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9" idx="3"/>
            <a:endCxn id="175" idx="0"/>
          </p:cNvCxnSpPr>
          <p:nvPr/>
        </p:nvCxnSpPr>
        <p:spPr>
          <a:xfrm>
            <a:off x="7122600" y="4751280"/>
            <a:ext cx="724680" cy="55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1025640" y="4724280"/>
            <a:ext cx="2209680" cy="7621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mplementação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aptação Organiz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63920" y="5300640"/>
            <a:ext cx="1449360" cy="70956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er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21520" y="5300640"/>
            <a:ext cx="1449360" cy="70956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uá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64" idx="1"/>
            <a:endCxn id="176" idx="0"/>
          </p:cNvCxnSpPr>
          <p:nvPr/>
        </p:nvCxnSpPr>
        <p:spPr>
          <a:xfrm flipV="1" rot="10800000">
            <a:off x="2129760" y="3901680"/>
            <a:ext cx="2251800" cy="82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2063520" y="362736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ic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58" idx="2"/>
            <a:endCxn id="159" idx="0"/>
          </p:cNvCxnSpPr>
          <p:nvPr/>
        </p:nvCxnSpPr>
        <p:spPr>
          <a:xfrm flipH="1">
            <a:off x="6019200" y="2350800"/>
            <a:ext cx="540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64" idx="2"/>
            <a:endCxn id="169" idx="0"/>
          </p:cNvCxnSpPr>
          <p:nvPr/>
        </p:nvCxnSpPr>
        <p:spPr>
          <a:xfrm flipH="1">
            <a:off x="6017400" y="4092120"/>
            <a:ext cx="252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16064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800000"/>
                </a:solidFill>
                <a:latin typeface="Arial"/>
              </a:rPr>
              <a:t>CIn-UF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2421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Modelos de Maturidade de Te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4443480"/>
            <a:ext cx="9144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leyverson Costa – cpc@cin.ufpe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ubro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3733-8272-4575-8310-9FAFDE5B6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TMM: Nív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7886-B1D3-4D81-AA5F-A54660542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4880" y="2308320"/>
            <a:ext cx="5029200" cy="398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ível 4: Management and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1680" y="5545080"/>
            <a:ext cx="1981080" cy="398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ível 1: Ini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16080" y="4467240"/>
            <a:ext cx="3276720" cy="3988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ível 2: Phas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3400560"/>
            <a:ext cx="403848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ível 3: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9280" y="1241280"/>
            <a:ext cx="4876920" cy="398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ível 5: Opt./Defect Prevention and Q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" y="4390920"/>
            <a:ext cx="761760" cy="1067040"/>
          </a:xfrm>
          <a:custGeom>
            <a:avLst/>
            <a:gdLst>
              <a:gd name="textAreaLeft" fmla="*/ 0 w 761760"/>
              <a:gd name="textAreaRight" fmla="*/ 762120 w 76176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92400" y="3324240"/>
            <a:ext cx="761760" cy="1066680"/>
          </a:xfrm>
          <a:custGeom>
            <a:avLst/>
            <a:gdLst>
              <a:gd name="textAreaLeft" fmla="*/ 0 w 761760"/>
              <a:gd name="textAreaRight" fmla="*/ 762120 w 7617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06800" y="2257560"/>
            <a:ext cx="761760" cy="1066680"/>
          </a:xfrm>
          <a:custGeom>
            <a:avLst/>
            <a:gdLst>
              <a:gd name="textAreaLeft" fmla="*/ 0 w 761760"/>
              <a:gd name="textAreaRight" fmla="*/ 762120 w 7617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1200" y="1190520"/>
            <a:ext cx="761760" cy="1067040"/>
          </a:xfrm>
          <a:custGeom>
            <a:avLst/>
            <a:gdLst>
              <a:gd name="textAreaLeft" fmla="*/ 0 w 761760"/>
              <a:gd name="textAreaRight" fmla="*/ 762120 w 76176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59080" y="5405400"/>
            <a:ext cx="917640" cy="6876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51960" y="559440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e == deb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85960" y="452772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ste = sw funci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63560" y="3460680"/>
            <a:ext cx="26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ste = sw NÃO funci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9720" y="2728800"/>
            <a:ext cx="599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e = reduzir risco de não funcionar conforme as mét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87640" y="164160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e = evitar defe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TMM: Nível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FBD9-25B1-421C-9DDC-48C357439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cesso de te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aótico e indefi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arte da depu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ostrar que o sistema é executá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há garantia de qua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de não satisfazer neces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de ser instá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há áreas de proce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940360" y="3860640"/>
            <a:ext cx="26002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TMM: Nível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CA64-DD1B-4A29-A840-1921E4318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has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cesso de te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finido clar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eparado da depu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istema de acordo com os requis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o de testes se inicia t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existência de equipe de te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reas de proce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líticas e objetivos de te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lanejamento de te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écnicas e métodos de te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mbiente de te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375240" y="3894120"/>
            <a:ext cx="215748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800000"/>
                </a:solidFill>
                <a:latin typeface="Arial"/>
              </a:rPr>
              <a:t>TMM: Nível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D264-A894-4B73-B5DE-AC90B7F7461A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rocesso de te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tegrado ao ciclo de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lanejamento de testes no iní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Estratégia de testes baseadas 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gerenciamento de ris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Demonstrar que o produto não funci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istência de equipe de te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Áreas de proce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quipe de te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rograma de treinamento de te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Ciclo de vida dos testes e integr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Controle e monitor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426360" y="3716280"/>
            <a:ext cx="2138040" cy="22798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86320" y="3141720"/>
            <a:ext cx="204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Vasconcelos, A.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435640" y="1268280"/>
            <a:ext cx="32400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800000"/>
                </a:solidFill>
                <a:latin typeface="Arial"/>
              </a:rPr>
              <a:t>TMM: Nível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54D7-7410-4BD9-9322-1912CAA8E488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nagement and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rocesso de te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Definido, fundamentado e mensurá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Revisões e inspeções durante todo o ciclo de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ossui programa de coleta de métr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Verificar a corretude do produto conforme métr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asos de teste armazenados, gerenciados e compartilh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Áreas de pro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Revisões por p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Métricas de te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valiação de qualidade d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300720" y="4071960"/>
            <a:ext cx="22575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800000"/>
                </a:solidFill>
                <a:latin typeface="Arial"/>
              </a:rPr>
              <a:t>TMM: Nível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B5EA-E806-4D10-A083-DAF343E41C2B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ptimization/Defect Prevention and Qualit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rocesso de te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ompletamente defi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apaz de controlar os custos e eficácia dos tes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mpedir defe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étodos e técnicas otimi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tínua melhoria no processo de te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través de coleta e análise de métricas de qua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Área de proce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revenção de defe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Controle de qua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Otimização do processo de te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7020000" y="4149720"/>
            <a:ext cx="15541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16064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800000"/>
                </a:solidFill>
                <a:latin typeface="Arial"/>
              </a:rPr>
              <a:t>CIn-UF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2421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Modelos de Aval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0" y="4443480"/>
            <a:ext cx="9144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leyverson Costa – cpc@cin.ufpe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ubro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E147-E94D-46C6-9BD0-B83866C3F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Modelos de Avalia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1FDF-A5DA-438F-B104-860632B59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r qualidade atual do processo de te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ter dados quantit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úmero de tes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o de execu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car boas práticas contempladas pelo proce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r (perceber) o nível de maturidade do processo/organiz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441600" y="4221000"/>
            <a:ext cx="225756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800000"/>
                </a:solidFill>
                <a:latin typeface="Arial"/>
              </a:rPr>
              <a:t>TIM: Modelo de Avalia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2FE0-29E5-4C74-9E50-B089A26BE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delo e avaliação: Question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vistas com pessoas c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stões : Sim/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scussão sobre ausência de respo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á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dentificação do perfil de matur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dentificação de melh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ugestões de melh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álise da solução pro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inhamento com necessidade da organiz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usto vs. Tempo vs.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res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tratégia geral combin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800000"/>
                </a:solidFill>
                <a:latin typeface="Arial"/>
              </a:rPr>
              <a:t>TPI: </a:t>
            </a:r>
            <a:r>
              <a:rPr b="1" lang="pt-BR" sz="3000" spc="-1" strike="noStrike">
                <a:solidFill>
                  <a:srgbClr val="800000"/>
                </a:solidFill>
                <a:latin typeface="Arial"/>
              </a:rPr>
              <a:t>Modelo </a:t>
            </a:r>
            <a:r>
              <a:rPr b="1" lang="pt-PT" sz="3000" spc="-1" strike="noStrike">
                <a:solidFill>
                  <a:srgbClr val="800000"/>
                </a:solidFill>
                <a:latin typeface="Arial"/>
              </a:rPr>
              <a:t>de Avalia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4A05-0209-446D-9A93-7931D0EC3733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5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tefatos para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Checkpoints/Check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5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Requisitos de cada ní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5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erguntas que devem ser respo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5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lassificam o processo de forma obje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Matriz de Matur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5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Relação entre áreas de conhec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e níve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tro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Defeitos registrados/repor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specificação de casos de teste defin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mbiente e testware organiz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utomação dos te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timi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Melhoria continu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volu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3301920" cy="196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364000" y="4624560"/>
            <a:ext cx="204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Costa, C.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Rotei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762D-3C86-4440-97ED-6874BF5AA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68360" y="1092240"/>
            <a:ext cx="8229600" cy="43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rodução a Te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tivação para Te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inalidade dos Te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lelo ent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cesso de Tes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cesso de Desenvolvimento d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ceitos Importantes no Processo de Te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enários Com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odelos de Maturidade de Te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st Improvement Model (T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st Process Improvement (T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st Maturity Model (T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800000"/>
                </a:solidFill>
                <a:latin typeface="Arial"/>
              </a:rPr>
              <a:t>TMM-AM: Modelo de Avalia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69FE-E75C-433D-B45C-315E30F28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M-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ês componentes princip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dimento de avali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mentos de avali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itérios de seleção e treinamento do time de avali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imento de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os para guiar o time de avali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ção correta da avali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eta, organização e análise de dados de avali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cepção do nível da empresa no modelo T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iação de planos de melhoria para o processo de te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800000"/>
                </a:solidFill>
                <a:latin typeface="Arial"/>
              </a:rPr>
              <a:t>TMM-AM: Modelo de Avalia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A80C-97AF-4675-9AFF-71436AAC6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os de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ário (8 parte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ções de u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ões sobre o uso ferramentas de te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ões sobre objetivos da emp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ev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peções de documen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esent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érios de seleção e treinamento do time de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a 8 pesso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ssoas bem relacionadas, motivadas e experie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ina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pretação dos d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o T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écnicas de entrevista e de criação de relató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800000"/>
                </a:solidFill>
                <a:latin typeface="Arial"/>
              </a:rPr>
              <a:t>TMM-AM: </a:t>
            </a:r>
            <a:r>
              <a:rPr b="1" lang="pt-BR" sz="3000" spc="-1" strike="noStrike">
                <a:solidFill>
                  <a:srgbClr val="800000"/>
                </a:solidFill>
                <a:latin typeface="Arial"/>
              </a:rPr>
              <a:t>Modelo </a:t>
            </a:r>
            <a:r>
              <a:rPr b="1" lang="pt-PT" sz="3000" spc="-1" strike="noStrike">
                <a:solidFill>
                  <a:srgbClr val="800000"/>
                </a:solidFill>
                <a:latin typeface="Arial"/>
              </a:rPr>
              <a:t>de Avalia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56AD-8EA7-46C8-98EB-0E450FF62E2D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errament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Controle de dados de avali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Matriz de rastreabi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Maior confiabilidade para a avali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oteiro da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209680" y="2919240"/>
            <a:ext cx="4307040" cy="29577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635280" y="5734080"/>
            <a:ext cx="204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Costa, C.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0" y="116064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800000"/>
                </a:solidFill>
                <a:latin typeface="Arial"/>
              </a:rPr>
              <a:t>CIn-UF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0" y="2421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álise Compar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0" y="4443480"/>
            <a:ext cx="9144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leyverson Costa – cpc@cin.ufpe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ubro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0271-55A7-4E9E-A887-0E5B068E8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800000"/>
                </a:solidFill>
                <a:latin typeface="Arial"/>
              </a:rPr>
              <a:t>Análise Compa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27AA-A0ED-4FB0-855B-6024713FBFF9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57200" y="1828800"/>
          <a:ext cx="8229600" cy="3402000"/>
        </p:xfrm>
        <a:graphic>
          <a:graphicData uri="http://schemas.openxmlformats.org/drawingml/2006/table">
            <a:tbl>
              <a:tblPr/>
              <a:tblGrid>
                <a:gridCol w="2363760"/>
                <a:gridCol w="1925640"/>
                <a:gridCol w="1927080"/>
                <a:gridCol w="2013120"/>
              </a:tblGrid>
              <a:tr h="59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v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s de Conhec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li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point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os da Avali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M, I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395280" y="5200560"/>
            <a:ext cx="20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Costa, C.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0" y="116064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800000"/>
                </a:solidFill>
                <a:latin typeface="Arial"/>
              </a:rPr>
              <a:t>CIn-UF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0" y="2421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Inici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0" y="4443480"/>
            <a:ext cx="9144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leyverson Costa – cpc@cin.ufpe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ubro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0903-D000-442A-B65B-9A14737DD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800000"/>
                </a:solidFill>
                <a:latin typeface="Arial"/>
              </a:rPr>
              <a:t>Iniciativa – Time de Automa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59E8-8297-4B2F-978B-B7E618385AE1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imento de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TMM-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Método QuickLoc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tudo restrito aos níveis 2 - 3 do T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a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repar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Escolher o mode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Definir escopo da organiz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xecução da avali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eparar o questioná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Fazer entrev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Revisar documentos com evidê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ós-avaliação: gerar relatório final com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800000"/>
                </a:solidFill>
                <a:latin typeface="Arial"/>
              </a:rPr>
              <a:t>Iniciativa – Time de Integra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1D9A-BD0B-4966-BB3D-60F8E6D0C9EB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cedimento de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TMM-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tudo restrito ao nível 2 do T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a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reparar o plano de avali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Definir entradas e saí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Definir fatores de r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xecutar a avali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Fazer um estudo prelimin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Escolher as pessoas a serem entrevist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Reportar resultados da avali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laborar um plano de 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lano de trei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lano de ação de ferram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116064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800000"/>
                </a:solidFill>
                <a:latin typeface="Arial"/>
              </a:rPr>
              <a:t>CIn-UF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0" y="2421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0" y="4443480"/>
            <a:ext cx="9144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leyverson Costa – cpc@cin.ufpe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ubro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667D-8A12-4039-9605-6999BEF98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800000"/>
                </a:solidFill>
                <a:latin typeface="Arial"/>
              </a:rPr>
              <a:t>Conclus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9D22-8946-469D-A4E0-C6AE578023EA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5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istemas d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Importante papel na socie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Necessário ter qua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5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d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5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O mais consolid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Complementar ao C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Fo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5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valiação e melhoria do processo de tes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plicabilidade pr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5000"/>
              </a:lnSpc>
              <a:buClr>
                <a:srgbClr val="d2a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Diversas empresas (Motorola, Accentu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ermite processos de testes mais eficazes e efic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e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rofissional especializ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arte integrada ao processo de desenvolvimento d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reocupação com maturidade de te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588000" y="1544760"/>
            <a:ext cx="14115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Rotei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1516-9E8B-43C5-B6DF-D9AF74C8D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68360" y="1092240"/>
            <a:ext cx="822960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odelos de Avali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st Improvement Model (T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st Process Improvement (T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st Maturity Model (T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nálise Compa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M x TPI x T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iciativas CIn-B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valiação do Time de Autom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valiação do Time de Integr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800000"/>
                </a:solidFill>
                <a:latin typeface="Arial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B725-3AE5-4592-9445-0B48C7300473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LVES, G. de S.. Modelo de Maturidade em Testes com Foco em Ambientes de Testes Heterogêneos.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SWINKELS, R.. A Comparison of TMM and Other Test Process Improvement.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STAAB, T. C.. Improving the Test Process – Looking at the Test Process – Getting Started. 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ROFESSIONAL TESTER. Guidelines for Testing Maturity. Volume Three, Issue Nº 1. 200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BURNSTEIN, I., SUWANASSART, T., CARLSON, R.. Developing a Testing Maturity Model for Software Test Process Evaluation and Improvement. 199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LIEBMAN, A., PAES, F., MENEZES, H.. Assessment of the Integration Test Execution Team According to Level II of the Testing Maturity Model – TMM.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JÚNIOR, N.. An Assessment of CIn-BTC Automation Test Process According to Test Maturity Model – TMM.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800000"/>
                </a:solidFill>
                <a:latin typeface="Arial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2782-53D7-4B7A-B9CA-0A3F51BBBB28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OLIVEIRA, M. E.. Avaliação do Processo de Testes do RUP em relação ao Nível 2 do Modelo de Referência TMM – Test Maturity Model.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BURNSTEIN I.; Pratical Software Testing; 200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SALVIANO, Uma Metodologia para testes de software no contexto da melhoria do processo, 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SOMMERVILLE, I. Engenharia de Software. 6 ª ed. São Paulo, Addison Wesley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A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C.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TRO, C., CARVALHO, G., RODRIGUES, H.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. Modelos de Maturidade de Testes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SCONCELOS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, A.. Modelos de Maturidade de Testes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116064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800000"/>
                </a:solidFill>
                <a:latin typeface="Arial"/>
              </a:rPr>
              <a:t>CIn-UF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2421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Modelos de Maturidade de Te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4443480"/>
            <a:ext cx="9144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leyverson Costa – cpc@cin.ufpe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ubro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46CF-74C8-43A5-9E2D-144AC77D8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power_point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116064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800000"/>
                </a:solidFill>
                <a:latin typeface="Arial"/>
              </a:rPr>
              <a:t>CIn-UF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2421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Introdução a Te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4443480"/>
            <a:ext cx="9144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leyverson Costa – cpc@cin.ufpe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ubro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335A-8074-42A9-9C27-252BBE47B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Motivação para Tes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76AB-EB06-4191-9717-C3C6F8731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oftware  tem papel importante no ambiente econômico e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ível inclusão de falhas humanas no processo de desenvolvimento de soft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uário x Analista x Desenvolve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rocesso de testes faz parte da garantia de qualidade d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custos associados às falhas de software justificam um processo de testes cuidadoso e bem planej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sem qualidade pode causar a perda de vida ou de proprie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has podem resultar em perdas catastró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Finalidade dos Tes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D022-0300-4739-A333-448EFF5EC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8360" y="1092240"/>
            <a:ext cx="842472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car se todos os requisitos foram corretamente implemen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car a correta integração entre todos os 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lar erros com uma quantidade mínima de tempo e esfor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gurar, na medida do possível, a qualidade e corretude do prod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zir uma indicação da qualidade e da confiabilidade do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zir custos de manutenção corretiva e retraba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gurar satisfação do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ir/Manter imagem da organ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516720" y="3852720"/>
            <a:ext cx="20462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434880" y="40464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Processo de Testes x Processo de Desenvolvimento d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7997-EDCB-4054-85AC-F34BBCD87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1280" y="1190520"/>
            <a:ext cx="7875360" cy="4686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6200000">
            <a:off x="-502920" y="4687200"/>
            <a:ext cx="20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Vasconcelos, A.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434880" y="357120"/>
            <a:ext cx="65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Conceitos Importantes no Processo de Tes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11DF-1B16-49F4-B804-F694CBFE3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68360" y="109224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de Te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ário de Te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rdagem de Te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ional (caixa-preta) : casos de testes são gerados com base na análise das entradas x saí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rutural (caixa-branca): casos de testes são gerados com base na análise das partes do código que devem ser execut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ágios de Te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e de unidade: uma pequena unidade é testada (ex: uma função, um compon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e de integração: as unidades integradas são testadas em conju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e de sistema: o sistema integrado é testado como um todo em um ambiente de execução próximo ao 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e de aceitação (homologação): o software é testado pelo usuário final (ex: num projeto-piloto durante um período fixo de temp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12:55:46Z</dcterms:created>
  <dc:creator>Usuario</dc:creator>
  <dc:description/>
  <dc:language>en-US</dc:language>
  <cp:lastModifiedBy>Cleyverson Costa</cp:lastModifiedBy>
  <dcterms:modified xsi:type="dcterms:W3CDTF">2007-10-17T04:57:21Z</dcterms:modified>
  <cp:revision>345</cp:revision>
  <dc:subject/>
  <dc:title>CIn Institucional (Portuguê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Owner">
    <vt:lpwstr/>
  </property>
  <property fmtid="{D5CDD505-2E9C-101B-9397-08002B2CF9AE}" pid="4" name="SPSDescription">
    <vt:lpwstr/>
  </property>
  <property fmtid="{D5CDD505-2E9C-101B-9397-08002B2CF9AE}" pid="5" name="Status">
    <vt:lpwstr/>
  </property>
</Properties>
</file>