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CD7C7-3083-420D-BF49-20430782A8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44E21-496F-4990-AF88-42363E7D85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6ED82-1198-4ED2-B962-0E0C439EEF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0240" cy="400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0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E5B77-1394-4C05-BA3E-0898F0A8E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4DF13-44A0-4185-AE29-6DE0C8DB8F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9D42-794B-4D36-8E96-948701F196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6AFC0-8FE3-4CEF-9E6C-6769D4423B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FA864-E4B5-4E71-8E57-2FE490AE1C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10FBB-2C0C-47A3-AC83-51B8463EB4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0ADD9-4A72-4A35-A9EA-C785639E98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29633-E587-487C-A288-2FA7F41803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22FAA-AE5F-45DA-AA74-543543D843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3D62E-715D-438A-95A9-ED86D04E1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CFE96-5FD1-4987-A6E5-64A123EB97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F4EC7-2850-44CA-9412-DF80C200D7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51F1D-AE0C-4316-80C9-84014ECCD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E002F-5DE3-4C9F-AAA9-A69FB5FFB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44A3A-0161-4ADF-894E-4BA5208364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BE151-3F7D-42A1-93A1-F3480CCF49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4B38D-E52D-40CC-85E3-BFA8AA2E45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1CB7F-EA30-4C95-A83A-A81571AA87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EF2E4-8F74-45CD-AF34-A3D0BCB549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BBCEB-2391-4243-8E88-C0535D6C93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EF998-FF50-424A-8765-A08284AF9E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FCE83-2B4B-4F3E-8CAD-0C139FD7F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155D7-CE4D-44CD-9D35-F117B5CC4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97DF4-4DFC-4126-9E34-7DF3AEAC54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BC320-77D4-4F89-ABC0-C3DBA193B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E0120-A124-4549-9D42-54B2289F35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151A3-9427-429E-8182-F31535122A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5F729-FA61-4788-86E1-64CC42F57B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0D214-0C8C-4CD1-BE85-B540954A00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1"/>
          <p:cNvSpPr/>
          <p:nvPr/>
        </p:nvSpPr>
        <p:spPr>
          <a:xfrm>
            <a:off x="427824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5EE78-CACE-4F3D-993D-E0EF1AE353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ED7-45AD-4E6B-A70D-F22C60D8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D3F-EB53-418F-9697-40CAFC52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EA0-C89E-49C1-A3D4-A234AE6D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E51-3D4D-4ACA-965F-A696C0A4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726-2F13-4D9A-A0AF-C2F806B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BB2-6A78-4BB4-8FBF-9BFB82FA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158-DAD6-4930-88CF-1E69D70F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017-45B9-4AF4-B0FD-82F71486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6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BE6-C6EF-4E25-B286-E81009E1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865-3DD5-4758-A4EB-00AF2B83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3DB-0A49-4552-912F-99E664C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7FE-DA42-4A4C-A80A-550B8573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080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82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6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774B0C-1A40-4846-B6A1-8EC4BFC68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CIN – Centro de Informática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2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500720" y="647640"/>
            <a:ext cx="1081080" cy="108108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079640" y="3564000"/>
            <a:ext cx="810072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808000"/>
                </a:solidFill>
                <a:latin typeface="Verdana"/>
              </a:rPr>
              <a:t>Maturidade 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808000"/>
                </a:solidFill>
                <a:latin typeface="Verdana"/>
              </a:rPr>
              <a:t>Gerenciamento de Proje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8000"/>
                </a:solidFill>
                <a:latin typeface="Verdana"/>
              </a:rPr>
              <a:t>(OPM3 e MMG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680000" y="719280"/>
            <a:ext cx="762120" cy="117144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0" y="6300720"/>
            <a:ext cx="1471680" cy="1260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8099280" y="695016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1/10/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00000" y="680400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José Henrique L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808000"/>
                </a:solidFill>
                <a:latin typeface="Verdana"/>
              </a:rPr>
              <a:t>henriquerecife@gmai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0" y="1979640"/>
            <a:ext cx="1008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Tópicos Avançados em Engenharia de Software 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0" y="900000"/>
            <a:ext cx="10080720" cy="59403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2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Organização do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-1440" y="179280"/>
            <a:ext cx="1008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Introdu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0"/>
          <p:cNvSpPr/>
          <p:nvPr/>
        </p:nvSpPr>
        <p:spPr>
          <a:xfrm>
            <a:off x="4486320" y="6462720"/>
            <a:ext cx="1625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Exemplo de Diagnóstico de Maturidade (http://www.beware.com.b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0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Passos do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Implanta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179280" y="1208160"/>
            <a:ext cx="52196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1. Apresentar o modelo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Ler o obter o conhecimento básico do OPM3, seus componentes e operaçã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2. Avaliação de alto nível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terminar o ambiente geral no continuum da maturidade organizacional de gerenciamento de projet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3. Avaliação compreensiva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aseado no resultado do passo 2, identificar as BP´s mais carentes de melhori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. Determinar o caminho de melhoria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dentificar capabilities necessárias para executar as melhorias com base nas BP´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. Avaliar capabilities atuais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terminar quais capabilities identificadas no passo 3.a. já são existentes na organização e quais devem ser desenvolv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4. Plano de melhorias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riar plano para o desenvolvimento de capabilities necessárias para executar as BP´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5. Implementar o pla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6. Repetir o process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4"/>
          <a:stretch/>
        </p:blipFill>
        <p:spPr>
          <a:xfrm>
            <a:off x="5400720" y="1892160"/>
            <a:ext cx="4629240" cy="35434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1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7058160" y="5351400"/>
            <a:ext cx="1625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Melo, Oliveir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ouza, Silva e Martins (2004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mponentes principais do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Funcion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8"/>
          <p:cNvSpPr/>
          <p:nvPr/>
        </p:nvSpPr>
        <p:spPr>
          <a:xfrm>
            <a:off x="3419640" y="1911240"/>
            <a:ext cx="5446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P – Forma escolhida para alcançar uma m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u objet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9"/>
          <p:cNvSpPr/>
          <p:nvPr/>
        </p:nvSpPr>
        <p:spPr>
          <a:xfrm>
            <a:off x="3683160" y="4137120"/>
            <a:ext cx="6000480" cy="214308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97360" y="4280040"/>
            <a:ext cx="5111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8116920" y="6469200"/>
            <a:ext cx="1625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O a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1558800" y="1784520"/>
            <a:ext cx="16210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13"/>
          <p:cNvSpPr/>
          <p:nvPr/>
        </p:nvSpPr>
        <p:spPr>
          <a:xfrm>
            <a:off x="1484280" y="29574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6"/>
          <p:cNvSpPr/>
          <p:nvPr/>
        </p:nvSpPr>
        <p:spPr>
          <a:xfrm>
            <a:off x="5648400" y="2863800"/>
            <a:ext cx="1439640" cy="900000"/>
          </a:xfrm>
          <a:prstGeom prst="flowChartExtra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7"/>
          <p:cNvSpPr/>
          <p:nvPr/>
        </p:nvSpPr>
        <p:spPr>
          <a:xfrm>
            <a:off x="3813120" y="2863800"/>
            <a:ext cx="1620720" cy="90000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 rot="16200000">
            <a:off x="2178720" y="265464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>
            <a:off x="3278160" y="3224160"/>
            <a:ext cx="539640" cy="181080"/>
          </a:xfrm>
          <a:prstGeom prst="leftRightArrow">
            <a:avLst>
              <a:gd name="adj1" fmla="val 50000"/>
              <a:gd name="adj2" fmla="val 5932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>
            <a:off x="5432400" y="3224160"/>
            <a:ext cx="539640" cy="181080"/>
          </a:xfrm>
          <a:prstGeom prst="leftRightArrow">
            <a:avLst>
              <a:gd name="adj1" fmla="val 50000"/>
              <a:gd name="adj2" fmla="val 5932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0"/>
          <p:cNvSpPr/>
          <p:nvPr/>
        </p:nvSpPr>
        <p:spPr>
          <a:xfrm rot="16200000">
            <a:off x="2181960" y="383580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484280" y="413064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0"/>
          <p:cNvSpPr/>
          <p:nvPr/>
        </p:nvSpPr>
        <p:spPr>
          <a:xfrm rot="16200000">
            <a:off x="2181960" y="500436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1484280" y="52992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CaixaDeTexto 43"/>
          <p:cNvSpPr/>
          <p:nvPr/>
        </p:nvSpPr>
        <p:spPr>
          <a:xfrm>
            <a:off x="3825720" y="4208400"/>
            <a:ext cx="56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úmero: 52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ome: “Estabelecer Comunidades Internas de Gerenciamento de Projet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scrição: “A organização estabelece uma comunidade interna que suporta gerenciamento de projeto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2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mponentes principais do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Funcion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3325680" y="4222800"/>
            <a:ext cx="5532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apability – Passos incrementais rumo a níve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uperiores de maturida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075280" y="1327320"/>
            <a:ext cx="3421080" cy="1238040"/>
          </a:xfrm>
          <a:prstGeom prst="roundRect">
            <a:avLst>
              <a:gd name="adj" fmla="val 1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5219640" y="1488960"/>
            <a:ext cx="310032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junto de 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uportam a consqu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 uma B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4967280" y="4994280"/>
            <a:ext cx="3780000" cy="1485720"/>
          </a:xfrm>
          <a:prstGeom prst="roundRect">
            <a:avLst>
              <a:gd name="adj" fmla="val 8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5111640" y="5168880"/>
            <a:ext cx="34592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existência de u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apability é demonst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ela existência de 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ut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8116920" y="6469200"/>
            <a:ext cx="1625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O a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1558800" y="1784520"/>
            <a:ext cx="16210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13"/>
          <p:cNvSpPr/>
          <p:nvPr/>
        </p:nvSpPr>
        <p:spPr>
          <a:xfrm>
            <a:off x="1484280" y="29574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5648400" y="2863800"/>
            <a:ext cx="1439640" cy="900000"/>
          </a:xfrm>
          <a:prstGeom prst="flowChartExtra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13120" y="2863800"/>
            <a:ext cx="1620720" cy="90000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 rot="16200000">
            <a:off x="2178720" y="265464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>
            <a:off x="3278160" y="3224160"/>
            <a:ext cx="539640" cy="181080"/>
          </a:xfrm>
          <a:prstGeom prst="leftRightArrow">
            <a:avLst>
              <a:gd name="adj1" fmla="val 50000"/>
              <a:gd name="adj2" fmla="val 5932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2"/>
          <p:cNvSpPr/>
          <p:nvPr/>
        </p:nvSpPr>
        <p:spPr>
          <a:xfrm>
            <a:off x="5432400" y="3224160"/>
            <a:ext cx="539640" cy="181080"/>
          </a:xfrm>
          <a:prstGeom prst="leftRightArrow">
            <a:avLst>
              <a:gd name="adj1" fmla="val 50000"/>
              <a:gd name="adj2" fmla="val 5932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20"/>
          <p:cNvSpPr/>
          <p:nvPr/>
        </p:nvSpPr>
        <p:spPr>
          <a:xfrm rot="16200000">
            <a:off x="2181960" y="383580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1484280" y="413064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20"/>
          <p:cNvSpPr/>
          <p:nvPr/>
        </p:nvSpPr>
        <p:spPr>
          <a:xfrm rot="16200000">
            <a:off x="2181960" y="500436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1484280" y="52992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3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mponentes principais do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Funcion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5445000" y="1901880"/>
            <a:ext cx="39531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utcome – Resultado tangível 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tangível da demonstração 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plicação de uma Capabil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611600" y="4597560"/>
            <a:ext cx="4032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KPI – Key Performance Indic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representa a medição de 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utcome através de uma métric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8116920" y="6469200"/>
            <a:ext cx="1625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O a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12"/>
          <p:cNvSpPr/>
          <p:nvPr/>
        </p:nvSpPr>
        <p:spPr>
          <a:xfrm>
            <a:off x="1558800" y="1784520"/>
            <a:ext cx="16210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3"/>
          <p:cNvSpPr/>
          <p:nvPr/>
        </p:nvSpPr>
        <p:spPr>
          <a:xfrm>
            <a:off x="1484280" y="29574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16"/>
          <p:cNvSpPr/>
          <p:nvPr/>
        </p:nvSpPr>
        <p:spPr>
          <a:xfrm>
            <a:off x="5648400" y="2863800"/>
            <a:ext cx="1439640" cy="900000"/>
          </a:xfrm>
          <a:prstGeom prst="flowChartExtra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13120" y="2863800"/>
            <a:ext cx="1620720" cy="90000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20"/>
          <p:cNvSpPr/>
          <p:nvPr/>
        </p:nvSpPr>
        <p:spPr>
          <a:xfrm rot="16200000">
            <a:off x="2178720" y="265464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3278160" y="3224160"/>
            <a:ext cx="539640" cy="181080"/>
          </a:xfrm>
          <a:prstGeom prst="leftRightArrow">
            <a:avLst>
              <a:gd name="adj1" fmla="val 50000"/>
              <a:gd name="adj2" fmla="val 5932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22"/>
          <p:cNvSpPr/>
          <p:nvPr/>
        </p:nvSpPr>
        <p:spPr>
          <a:xfrm>
            <a:off x="5432400" y="3224160"/>
            <a:ext cx="539640" cy="181080"/>
          </a:xfrm>
          <a:prstGeom prst="leftRightArrow">
            <a:avLst>
              <a:gd name="adj1" fmla="val 50000"/>
              <a:gd name="adj2" fmla="val 5932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20"/>
          <p:cNvSpPr/>
          <p:nvPr/>
        </p:nvSpPr>
        <p:spPr>
          <a:xfrm rot="16200000">
            <a:off x="2181960" y="383580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3"/>
          <p:cNvSpPr/>
          <p:nvPr/>
        </p:nvSpPr>
        <p:spPr>
          <a:xfrm>
            <a:off x="1484280" y="413064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0"/>
          <p:cNvSpPr/>
          <p:nvPr/>
        </p:nvSpPr>
        <p:spPr>
          <a:xfrm rot="16200000">
            <a:off x="2181960" y="500436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1484280" y="52992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Seta dobrada 36"/>
          <p:cNvSpPr/>
          <p:nvPr/>
        </p:nvSpPr>
        <p:spPr>
          <a:xfrm>
            <a:off x="4586400" y="2208240"/>
            <a:ext cx="857160" cy="50004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eta para baixo 38"/>
          <p:cNvSpPr/>
          <p:nvPr/>
        </p:nvSpPr>
        <p:spPr>
          <a:xfrm>
            <a:off x="6326280" y="3851280"/>
            <a:ext cx="214200" cy="7858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4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1"/>
          <p:cNvSpPr/>
          <p:nvPr/>
        </p:nvSpPr>
        <p:spPr>
          <a:xfrm>
            <a:off x="0" y="0"/>
            <a:ext cx="8397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mponentes principais do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Referências Cruz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Funcion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20"/>
          <p:cNvSpPr/>
          <p:nvPr/>
        </p:nvSpPr>
        <p:spPr>
          <a:xfrm>
            <a:off x="8116920" y="6469200"/>
            <a:ext cx="1625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O a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1558800" y="1784520"/>
            <a:ext cx="16210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13"/>
          <p:cNvSpPr/>
          <p:nvPr/>
        </p:nvSpPr>
        <p:spPr>
          <a:xfrm>
            <a:off x="1484280" y="29574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0"/>
          <p:cNvSpPr/>
          <p:nvPr/>
        </p:nvSpPr>
        <p:spPr>
          <a:xfrm rot="16200000">
            <a:off x="2178720" y="265464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20"/>
          <p:cNvSpPr/>
          <p:nvPr/>
        </p:nvSpPr>
        <p:spPr>
          <a:xfrm rot="16200000">
            <a:off x="2181960" y="383580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1484280" y="413064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20"/>
          <p:cNvSpPr/>
          <p:nvPr/>
        </p:nvSpPr>
        <p:spPr>
          <a:xfrm rot="16200000">
            <a:off x="2181960" y="500436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1484280" y="52992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12"/>
          <p:cNvSpPr/>
          <p:nvPr/>
        </p:nvSpPr>
        <p:spPr>
          <a:xfrm>
            <a:off x="6773760" y="1779480"/>
            <a:ext cx="16210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13"/>
          <p:cNvSpPr/>
          <p:nvPr/>
        </p:nvSpPr>
        <p:spPr>
          <a:xfrm>
            <a:off x="6699240" y="295128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20"/>
          <p:cNvSpPr/>
          <p:nvPr/>
        </p:nvSpPr>
        <p:spPr>
          <a:xfrm rot="16200000">
            <a:off x="7393680" y="264996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20"/>
          <p:cNvSpPr/>
          <p:nvPr/>
        </p:nvSpPr>
        <p:spPr>
          <a:xfrm rot="16200000">
            <a:off x="7396920" y="382932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13"/>
          <p:cNvSpPr/>
          <p:nvPr/>
        </p:nvSpPr>
        <p:spPr>
          <a:xfrm>
            <a:off x="6699240" y="412596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0"/>
          <p:cNvSpPr/>
          <p:nvPr/>
        </p:nvSpPr>
        <p:spPr>
          <a:xfrm rot="16200000">
            <a:off x="7396920" y="499932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699240" y="529416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7" name="Conector de seta reta 43"/>
          <p:cNvCxnSpPr>
            <a:stCxn id="346" idx="2"/>
            <a:endCxn id="337" idx="6"/>
          </p:cNvCxnSpPr>
          <p:nvPr/>
        </p:nvCxnSpPr>
        <p:spPr>
          <a:xfrm flipH="1" flipV="1">
            <a:off x="3253680" y="4490640"/>
            <a:ext cx="3445560" cy="116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8" name="Conector de seta reta 45"/>
          <p:cNvCxnSpPr>
            <a:stCxn id="334" idx="6"/>
            <a:endCxn id="341" idx="2"/>
          </p:cNvCxnSpPr>
          <p:nvPr/>
        </p:nvCxnSpPr>
        <p:spPr>
          <a:xfrm flipV="1">
            <a:off x="3254040" y="3310920"/>
            <a:ext cx="344556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9" name="Conector de seta reta 47"/>
          <p:cNvCxnSpPr>
            <a:stCxn id="340" idx="1"/>
            <a:endCxn id="333" idx="3"/>
          </p:cNvCxnSpPr>
          <p:nvPr/>
        </p:nvCxnSpPr>
        <p:spPr>
          <a:xfrm flipH="1">
            <a:off x="3179160" y="2139840"/>
            <a:ext cx="359460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5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Conector de seta reta 28"/>
          <p:cNvCxnSpPr>
            <a:stCxn id="339" idx="6"/>
            <a:endCxn id="340" idx="1"/>
          </p:cNvCxnSpPr>
          <p:nvPr/>
        </p:nvCxnSpPr>
        <p:spPr>
          <a:xfrm flipV="1">
            <a:off x="3254400" y="2139120"/>
            <a:ext cx="3520080" cy="352044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mponentes principais do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emplo de uma Capacidade e seus Resultados, no caso da Melhor Prática citada anteriorm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lhor Prática: “Estabelecer Comunidades Internas de Gerenciamento de Projeto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pacidade (uma das quatro dessa Melhor Prática): “Facilitar as Atividades de Gerenciamento de Projet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sultado: “Iniciativas Locais – A organização desenvolve pequenos grupos de acordos em áreas específicas de interes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3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Funcion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6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1"/>
          <p:cNvSpPr/>
          <p:nvPr/>
        </p:nvSpPr>
        <p:spPr>
          <a:xfrm>
            <a:off x="0" y="0"/>
            <a:ext cx="8397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nfiguração do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retório de Melhores Prá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retório de Capac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retório de Planejamento de Melh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Funcion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7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"/>
          <p:cNvSpPr/>
          <p:nvPr/>
        </p:nvSpPr>
        <p:spPr>
          <a:xfrm>
            <a:off x="0" y="0"/>
            <a:ext cx="8397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iretório de Melhores Prá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Funcion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0"/>
          <p:cNvSpPr/>
          <p:nvPr/>
        </p:nvSpPr>
        <p:spPr>
          <a:xfrm>
            <a:off x="7701120" y="6208560"/>
            <a:ext cx="1625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Melo, Oliveir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ouza, Silva e Martins (2004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8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4"/>
          <a:stretch/>
        </p:blipFill>
        <p:spPr>
          <a:xfrm>
            <a:off x="2182680" y="1208160"/>
            <a:ext cx="478152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1"/>
          <p:cNvSpPr/>
          <p:nvPr/>
        </p:nvSpPr>
        <p:spPr>
          <a:xfrm>
            <a:off x="0" y="0"/>
            <a:ext cx="8397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iretório de Capac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Funcion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19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4"/>
          <a:stretch/>
        </p:blipFill>
        <p:spPr>
          <a:xfrm>
            <a:off x="1238400" y="1136520"/>
            <a:ext cx="7002360" cy="52149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0"/>
          <p:cNvSpPr/>
          <p:nvPr/>
        </p:nvSpPr>
        <p:spPr>
          <a:xfrm>
            <a:off x="7701120" y="6208560"/>
            <a:ext cx="1625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Melo, Oliveir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ouza, Silva e Martins (2004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Introdu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Maturidade em Gerenciamento de Proje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Introdu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Implant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Funcion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Exemplos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MMG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Referênc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0" y="6300720"/>
            <a:ext cx="1471680" cy="1260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2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1"/>
          <p:cNvSpPr/>
          <p:nvPr/>
        </p:nvSpPr>
        <p:spPr>
          <a:xfrm>
            <a:off x="0" y="0"/>
            <a:ext cx="8397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iretório de Planejamento de Melh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Funcion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0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7701120" y="6208560"/>
            <a:ext cx="1625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Melo, Oliveir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ouza, Silva e Martins (2004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4"/>
          <a:stretch/>
        </p:blipFill>
        <p:spPr>
          <a:xfrm>
            <a:off x="104760" y="1351080"/>
            <a:ext cx="9737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1"/>
          <p:cNvSpPr/>
          <p:nvPr/>
        </p:nvSpPr>
        <p:spPr>
          <a:xfrm>
            <a:off x="0" y="0"/>
            <a:ext cx="861228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m base na configuração, temo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exibição dos result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– Exemplo de Result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8"/>
          <p:cNvSpPr/>
          <p:nvPr/>
        </p:nvSpPr>
        <p:spPr>
          <a:xfrm>
            <a:off x="3244680" y="1752480"/>
            <a:ext cx="629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ão divididas por Projeto, Programa e Portfólio - PP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8116920" y="6469200"/>
            <a:ext cx="1625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O a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44680" y="2112840"/>
            <a:ext cx="6774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Também estão divididas por estágios de melhoria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ocesso (padronizar, medir, controlar, melhorar) - SMC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44680" y="4200480"/>
            <a:ext cx="5496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ão divididas por grupos de processos (iniciar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lanejar, executar, controlar e conclui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2"/>
          <p:cNvSpPr/>
          <p:nvPr/>
        </p:nvSpPr>
        <p:spPr>
          <a:xfrm>
            <a:off x="1558800" y="1784520"/>
            <a:ext cx="162108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13"/>
          <p:cNvSpPr/>
          <p:nvPr/>
        </p:nvSpPr>
        <p:spPr>
          <a:xfrm>
            <a:off x="1484280" y="29574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6"/>
          <p:cNvSpPr/>
          <p:nvPr/>
        </p:nvSpPr>
        <p:spPr>
          <a:xfrm>
            <a:off x="5648400" y="2863800"/>
            <a:ext cx="1439640" cy="900000"/>
          </a:xfrm>
          <a:prstGeom prst="flowChartExtra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7"/>
          <p:cNvSpPr/>
          <p:nvPr/>
        </p:nvSpPr>
        <p:spPr>
          <a:xfrm>
            <a:off x="3813120" y="2863800"/>
            <a:ext cx="1620720" cy="90000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20"/>
          <p:cNvSpPr/>
          <p:nvPr/>
        </p:nvSpPr>
        <p:spPr>
          <a:xfrm rot="16200000">
            <a:off x="2178720" y="265464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21"/>
          <p:cNvSpPr/>
          <p:nvPr/>
        </p:nvSpPr>
        <p:spPr>
          <a:xfrm>
            <a:off x="3278160" y="3224160"/>
            <a:ext cx="539640" cy="181080"/>
          </a:xfrm>
          <a:prstGeom prst="leftRightArrow">
            <a:avLst>
              <a:gd name="adj1" fmla="val 50000"/>
              <a:gd name="adj2" fmla="val 5932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22"/>
          <p:cNvSpPr/>
          <p:nvPr/>
        </p:nvSpPr>
        <p:spPr>
          <a:xfrm>
            <a:off x="5432400" y="3224160"/>
            <a:ext cx="539640" cy="181080"/>
          </a:xfrm>
          <a:prstGeom prst="leftRightArrow">
            <a:avLst>
              <a:gd name="adj1" fmla="val 50000"/>
              <a:gd name="adj2" fmla="val 5932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20"/>
          <p:cNvSpPr/>
          <p:nvPr/>
        </p:nvSpPr>
        <p:spPr>
          <a:xfrm rot="16200000">
            <a:off x="2181960" y="383580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13"/>
          <p:cNvSpPr/>
          <p:nvPr/>
        </p:nvSpPr>
        <p:spPr>
          <a:xfrm>
            <a:off x="1484280" y="413064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20"/>
          <p:cNvSpPr/>
          <p:nvPr/>
        </p:nvSpPr>
        <p:spPr>
          <a:xfrm rot="16200000">
            <a:off x="2181960" y="5004360"/>
            <a:ext cx="360360" cy="18108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13"/>
          <p:cNvSpPr/>
          <p:nvPr/>
        </p:nvSpPr>
        <p:spPr>
          <a:xfrm>
            <a:off x="1484280" y="5299200"/>
            <a:ext cx="17701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1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Exemplo de resultad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(PPP – Projeto, Programa, Portfóli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– Exemplo de Result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4"/>
          <a:stretch/>
        </p:blipFill>
        <p:spPr>
          <a:xfrm>
            <a:off x="2843280" y="2004840"/>
            <a:ext cx="4519440" cy="41198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1866960" y="5931000"/>
            <a:ext cx="7646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B&amp;B Brother Lt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2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– Exemplo de Result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2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8" descr=""/>
          <p:cNvPicPr/>
          <p:nvPr/>
        </p:nvPicPr>
        <p:blipFill>
          <a:blip r:embed="rId3"/>
          <a:stretch/>
        </p:blipFill>
        <p:spPr>
          <a:xfrm>
            <a:off x="2916360" y="2055960"/>
            <a:ext cx="4390920" cy="395280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9"/>
          <p:cNvSpPr/>
          <p:nvPr/>
        </p:nvSpPr>
        <p:spPr>
          <a:xfrm>
            <a:off x="1866960" y="5931000"/>
            <a:ext cx="7646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B&amp;B Brother Lt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3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Exemplo de resultad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(SMCI – Padronizado, Medido, Controlado, Melhorad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1"/>
          <p:cNvSpPr/>
          <p:nvPr/>
        </p:nvSpPr>
        <p:spPr>
          <a:xfrm>
            <a:off x="0" y="0"/>
            <a:ext cx="804060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Exemplo de resultad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(PPP / SMC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3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– Exemplo de Result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8"/>
          <p:cNvSpPr/>
          <p:nvPr/>
        </p:nvSpPr>
        <p:spPr>
          <a:xfrm>
            <a:off x="1866960" y="5931000"/>
            <a:ext cx="7646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B&amp;B Brother Lt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9" descr=""/>
          <p:cNvPicPr/>
          <p:nvPr/>
        </p:nvPicPr>
        <p:blipFill>
          <a:blip r:embed="rId4"/>
          <a:stretch/>
        </p:blipFill>
        <p:spPr>
          <a:xfrm>
            <a:off x="1020600" y="2195640"/>
            <a:ext cx="8205840" cy="309384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4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nclusão sobre o 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– Exemplo de Result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5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0" descr=""/>
          <p:cNvPicPr/>
          <p:nvPr/>
        </p:nvPicPr>
        <p:blipFill>
          <a:blip r:embed="rId1"/>
          <a:stretch/>
        </p:blipFill>
        <p:spPr>
          <a:xfrm>
            <a:off x="884160" y="1279440"/>
            <a:ext cx="9009000" cy="528660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1"/>
          <p:cNvSpPr/>
          <p:nvPr/>
        </p:nvSpPr>
        <p:spPr>
          <a:xfrm>
            <a:off x="0" y="0"/>
            <a:ext cx="4397400" cy="7559640"/>
          </a:xfrm>
          <a:custGeom>
            <a:avLst/>
            <a:gdLst/>
            <a:ahLst/>
            <a:rect l="l" t="t" r="r" b="b"/>
            <a:pathLst>
              <a:path w="21600" h="37132">
                <a:moveTo>
                  <a:pt x="4" y="0"/>
                </a:moveTo>
                <a:arcTo wR="4" hR="4" stAng="16200000" swAng="-5400000"/>
                <a:lnTo>
                  <a:pt x="0" y="37128"/>
                </a:lnTo>
                <a:arcTo wR="4" hR="4" stAng="10800000" swAng="-5400000"/>
                <a:lnTo>
                  <a:pt x="21596" y="3713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ncep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Arquitetu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SzPct val="45000"/>
              <a:buFont typeface="Verdan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4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MMG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6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2465280" y="6402240"/>
            <a:ext cx="7647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MPCM (INDG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1"/>
          <p:cNvSpPr/>
          <p:nvPr/>
        </p:nvSpPr>
        <p:spPr>
          <a:xfrm>
            <a:off x="0" y="0"/>
            <a:ext cx="6183360" cy="7559640"/>
          </a:xfrm>
          <a:custGeom>
            <a:avLst/>
            <a:gdLst/>
            <a:ahLst/>
            <a:rect l="l" t="t" r="r" b="b"/>
            <a:pathLst>
              <a:path w="21600" h="26407">
                <a:moveTo>
                  <a:pt x="4" y="0"/>
                </a:moveTo>
                <a:arcTo wR="4" hR="4" stAng="16200000" swAng="-5400000"/>
                <a:lnTo>
                  <a:pt x="0" y="26403"/>
                </a:lnTo>
                <a:arcTo wR="4" hR="4" stAng="10800000" swAng="-5400000"/>
                <a:lnTo>
                  <a:pt x="21596" y="2640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Dimensões da maturid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nhecimentos de Gerenci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Uso prático de metodolog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Informatiza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Estrutura Organizaci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Relacionamentos human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Alinhamento com os negóc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MMG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7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7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5254560" y="3494160"/>
            <a:ext cx="5000760" cy="3643200"/>
          </a:xfrm>
          <a:prstGeom prst="roundRect">
            <a:avLst>
              <a:gd name="adj" fmla="val 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Níveis de maturid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Ini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nhecido (ling. comu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Padroniz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Gerenci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Otimiz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10" descr=""/>
          <p:cNvPicPr/>
          <p:nvPr/>
        </p:nvPicPr>
        <p:blipFill>
          <a:blip r:embed="rId4"/>
          <a:stretch/>
        </p:blipFill>
        <p:spPr>
          <a:xfrm>
            <a:off x="6254640" y="1657440"/>
            <a:ext cx="3495960" cy="2050920"/>
          </a:xfrm>
          <a:prstGeom prst="rect">
            <a:avLst/>
          </a:prstGeom>
          <a:ln w="0">
            <a:noFill/>
          </a:ln>
        </p:spPr>
      </p:pic>
      <p:sp>
        <p:nvSpPr>
          <p:cNvPr id="479" name="Elipse 12"/>
          <p:cNvSpPr/>
          <p:nvPr/>
        </p:nvSpPr>
        <p:spPr>
          <a:xfrm>
            <a:off x="7183440" y="2279520"/>
            <a:ext cx="2428920" cy="16430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10" descr=""/>
          <p:cNvPicPr/>
          <p:nvPr/>
        </p:nvPicPr>
        <p:blipFill>
          <a:blip r:embed="rId5"/>
          <a:stretch/>
        </p:blipFill>
        <p:spPr>
          <a:xfrm>
            <a:off x="1254240" y="4229280"/>
            <a:ext cx="3495600" cy="2050920"/>
          </a:xfrm>
          <a:prstGeom prst="rect">
            <a:avLst/>
          </a:prstGeom>
          <a:ln w="0">
            <a:noFill/>
          </a:ln>
        </p:spPr>
      </p:pic>
      <p:sp>
        <p:nvSpPr>
          <p:cNvPr id="481" name="Elipse 14"/>
          <p:cNvSpPr/>
          <p:nvPr/>
        </p:nvSpPr>
        <p:spPr>
          <a:xfrm rot="20373000">
            <a:off x="845640" y="4527360"/>
            <a:ext cx="4229280" cy="10029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Seta para cima 15"/>
          <p:cNvSpPr/>
          <p:nvPr/>
        </p:nvSpPr>
        <p:spPr>
          <a:xfrm rot="16886400">
            <a:off x="6041160" y="2088360"/>
            <a:ext cx="428400" cy="64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Seta para cima 16"/>
          <p:cNvSpPr/>
          <p:nvPr/>
        </p:nvSpPr>
        <p:spPr>
          <a:xfrm rot="4396200">
            <a:off x="4826520" y="4802760"/>
            <a:ext cx="428760" cy="642960"/>
          </a:xfrm>
          <a:prstGeom prst="upArrow">
            <a:avLst>
              <a:gd name="adj1" fmla="val 50000"/>
              <a:gd name="adj2" fmla="val 49986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MMG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7" descr=""/>
          <p:cNvPicPr/>
          <p:nvPr/>
        </p:nvPicPr>
        <p:blipFill>
          <a:blip r:embed="rId1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"/>
          <p:cNvPicPr/>
          <p:nvPr/>
        </p:nvPicPr>
        <p:blipFill>
          <a:blip r:embed="rId2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8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Dimensões da Maturidade X Níveis de Maturid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10" descr=""/>
          <p:cNvPicPr/>
          <p:nvPr/>
        </p:nvPicPr>
        <p:blipFill>
          <a:blip r:embed="rId3"/>
          <a:stretch/>
        </p:blipFill>
        <p:spPr>
          <a:xfrm>
            <a:off x="34920" y="1922400"/>
            <a:ext cx="9934560" cy="392904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1397160" y="5923080"/>
            <a:ext cx="7646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MPCM (INDG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Principais características de cada ní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MMG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7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29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10" descr=""/>
          <p:cNvPicPr/>
          <p:nvPr/>
        </p:nvPicPr>
        <p:blipFill>
          <a:blip r:embed="rId4"/>
          <a:stretch/>
        </p:blipFill>
        <p:spPr>
          <a:xfrm>
            <a:off x="1195560" y="1208160"/>
            <a:ext cx="7486560" cy="52862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9"/>
          <p:cNvSpPr/>
          <p:nvPr/>
        </p:nvSpPr>
        <p:spPr>
          <a:xfrm>
            <a:off x="1325520" y="6473880"/>
            <a:ext cx="7647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MPCM (INDG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"/>
          <p:cNvSpPr/>
          <p:nvPr/>
        </p:nvSpPr>
        <p:spPr>
          <a:xfrm>
            <a:off x="-1440" y="0"/>
            <a:ext cx="1008036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Gerenciamento de Projetos X Estratégia Organiz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Era do Conhecimento (tarefas inteli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- Necessidade de modelos de matur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-1440" y="179280"/>
            <a:ext cx="1008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Introdu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9"/>
          <p:cNvSpPr/>
          <p:nvPr/>
        </p:nvSpPr>
        <p:spPr>
          <a:xfrm>
            <a:off x="2664000" y="3168720"/>
            <a:ext cx="4860720" cy="3060720"/>
          </a:xfrm>
          <a:prstGeom prst="roundRect">
            <a:avLst>
              <a:gd name="adj" fmla="val 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024360" y="5543640"/>
            <a:ext cx="720720" cy="360360"/>
          </a:xfrm>
          <a:prstGeom prst="roundRect">
            <a:avLst>
              <a:gd name="adj" fmla="val 44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743280" y="5184720"/>
            <a:ext cx="720720" cy="360360"/>
          </a:xfrm>
          <a:prstGeom prst="roundRect">
            <a:avLst>
              <a:gd name="adj" fmla="val 44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4464000" y="4824360"/>
            <a:ext cx="720720" cy="360360"/>
          </a:xfrm>
          <a:prstGeom prst="roundRect">
            <a:avLst>
              <a:gd name="adj" fmla="val 44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5184720" y="4464000"/>
            <a:ext cx="720720" cy="360360"/>
          </a:xfrm>
          <a:prstGeom prst="roundRect">
            <a:avLst>
              <a:gd name="adj" fmla="val 44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5904000" y="4103640"/>
            <a:ext cx="720720" cy="360360"/>
          </a:xfrm>
          <a:prstGeom prst="roundRect">
            <a:avLst>
              <a:gd name="adj" fmla="val 44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3024360" y="5904000"/>
            <a:ext cx="4319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V="1">
            <a:off x="3024360" y="3736440"/>
            <a:ext cx="144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090960" y="5892840"/>
            <a:ext cx="1733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ATURID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 rot="16200000">
            <a:off x="2276280" y="5047920"/>
            <a:ext cx="1231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UCES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2838600" y="3156120"/>
            <a:ext cx="4349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lustração análoga entre a rel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ucesso X Maturidade em GP com 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íveis de maturidade do CMM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5970600" y="6259680"/>
            <a:ext cx="1625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O a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3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Avaliação de Maturid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Experiência de U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Conclusão sobre MMG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MMG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7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30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4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Referências Bibliográfic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7" descr=""/>
          <p:cNvPicPr/>
          <p:nvPr/>
        </p:nvPicPr>
        <p:blipFill>
          <a:blip r:embed="rId1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"/>
          <p:cNvPicPr/>
          <p:nvPr/>
        </p:nvPicPr>
        <p:blipFill>
          <a:blip r:embed="rId2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31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1"/>
          <p:cNvSpPr/>
          <p:nvPr/>
        </p:nvSpPr>
        <p:spPr>
          <a:xfrm>
            <a:off x="968400" y="0"/>
            <a:ext cx="8143920" cy="7559640"/>
          </a:xfrm>
          <a:prstGeom prst="roundRect">
            <a:avLst>
              <a:gd name="adj" fmla="val 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CLELAND, D.I. &amp; KING, W.R. Project Management Handbook, 2ª Edição, Ed. Wiley, New York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DURIGHELLO, S. Annual Meeting of the PMI. Chapter Netherlands, Maarseen. 29.01.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FAHREN KROG, S.; ABRAMS, F.; HAECK, W.P.; WHELBOUM, D. OPM3. PMI North American Congress 200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- FLEURY, A. &amp; FLEURY, M.T.L. Estratégias Empresariais e Formação de Competências: Um Quebra-cabeça Caleidoscópio da Industria Brasileira, 3ª Edição, Ed. Atlas, São Paulo,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- MELO, L.F., OLIVEIRA, L.P., SOUZA, L.R.C., SILVA, T.D. e MARTINS, V.H. Monografia sobre qualidade de software: OPM3 – Organizational Project Management Maturity Model,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- PATAH, L.A. Alinhamento Estratégico de Estrutura Organizacional de Projetos: Uma Análise de Múltiplos Casos.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- PRADO, D. Gerenciamento de Programas e Projetos nas Organizações, 3ª Edição, Ed. INDG-Tecs, Nova Lima (MG),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PETERS, T. Liberation Management: Necessary Disorganization for the Nanosecond Nineties, Ed. Ballantines Books, New York, 199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Organizational Project Management Institute Maturity Model (OPM3) – Knowledge Foundation. Project Management Institute, Inc. Newtown Square, Pennsylvania U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brigado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"/>
          <p:cNvPicPr/>
          <p:nvPr/>
        </p:nvPicPr>
        <p:blipFill>
          <a:blip r:embed="rId2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8099280" y="695016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1/10/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900000" y="680400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José Henrique L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808000"/>
                </a:solidFill>
                <a:latin typeface="Verdana"/>
              </a:rPr>
              <a:t>henriquerecife@gmai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720720" y="1387440"/>
            <a:ext cx="882000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flexão: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“Logomarca desta apresentação,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 abelha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trabalha em comunidade e faz dela uma organização bem planejada e estruturada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, onde enxergo as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ivesas áreas de gerenciamento de projetos definidas no PMBOK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. Arrisco-me a tachá-las de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'modelo' em maturidade organizacional.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”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(José Henrique Lin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9"/>
          <p:cNvGrpSpPr/>
          <p:nvPr/>
        </p:nvGrpSpPr>
        <p:grpSpPr>
          <a:xfrm>
            <a:off x="2852640" y="4032360"/>
            <a:ext cx="2509920" cy="2167920"/>
            <a:chOff x="2852640" y="4032360"/>
            <a:chExt cx="2509920" cy="2167920"/>
          </a:xfrm>
        </p:grpSpPr>
        <p:sp>
          <p:nvSpPr>
            <p:cNvPr id="529" name="AutoShape 10"/>
            <p:cNvSpPr/>
            <p:nvPr/>
          </p:nvSpPr>
          <p:spPr>
            <a:xfrm>
              <a:off x="2852640" y="4032360"/>
              <a:ext cx="2509920" cy="937080"/>
            </a:xfrm>
            <a:prstGeom prst="wedgeEllipseCallout">
              <a:avLst>
                <a:gd name="adj1" fmla="val 31800"/>
                <a:gd name="adj2" fmla="val 11977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0" name="Picture 11" descr=""/>
            <p:cNvPicPr/>
            <p:nvPr/>
          </p:nvPicPr>
          <p:blipFill>
            <a:blip r:embed="rId3"/>
            <a:stretch/>
          </p:blipFill>
          <p:spPr>
            <a:xfrm>
              <a:off x="4580280" y="5543640"/>
              <a:ext cx="723240" cy="65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Text Box 12"/>
          <p:cNvSpPr/>
          <p:nvPr/>
        </p:nvSpPr>
        <p:spPr>
          <a:xfrm>
            <a:off x="3384720" y="4151160"/>
            <a:ext cx="14252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Fim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Histór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Modelo de Maturid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Gerenciamento de Projetos Organizaciona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Modelos baseados em classificações de 5 nívei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3720" indent="-214200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- PMMM: Project Management Maturity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23720" indent="-214200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- CMMI: Capability Maturity Model 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23720" indent="-214200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-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  <a:ea typeface="Arial Unicode MS"/>
              </a:rPr>
              <a:t>MMGP: Modelo de Maturidade em Gerenciamento de Proj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Modelos baseados em valores percentuai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3720" indent="-214200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-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  <a:ea typeface="Arial Unicode MS"/>
              </a:rPr>
              <a:t>OPM3: Organizational Project Management Maturity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4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Modelos Utilizados como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9"/>
          <p:cNvGraphicFramePr/>
          <p:nvPr/>
        </p:nvGraphicFramePr>
        <p:xfrm>
          <a:off x="3470400" y="3416400"/>
          <a:ext cx="3251160" cy="81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0400" y="3416400"/>
                    <a:ext cx="3251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503280" y="1214280"/>
          <a:ext cx="9431280" cy="5248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1214280"/>
                    <a:ext cx="943128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9"/>
          <p:cNvSpPr/>
          <p:nvPr/>
        </p:nvSpPr>
        <p:spPr>
          <a:xfrm>
            <a:off x="5754600" y="6357960"/>
            <a:ext cx="41464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B&amp;B Brother Lt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5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1"/>
          <p:cNvSpPr/>
          <p:nvPr/>
        </p:nvSpPr>
        <p:spPr>
          <a:xfrm>
            <a:off x="1527120" y="1079640"/>
            <a:ext cx="2576520" cy="16207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1224000" y="1079640"/>
            <a:ext cx="2879640" cy="12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1527120" y="2916360"/>
            <a:ext cx="2576520" cy="16207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224000" y="2916360"/>
            <a:ext cx="758880" cy="121752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217520"/>
              <a:gd name="textAreaBottom" fmla="*/ 1180800 h 1217520"/>
            </a:gdLst>
            <a:ahLst/>
            <a:rect l="textAreaLeft" t="textAreaTop" r="textAreaRight" b="textAreaBottom"/>
            <a:pathLst>
              <a:path w="21600" h="34648">
                <a:moveTo>
                  <a:pt x="3600" y="0"/>
                </a:moveTo>
                <a:arcTo wR="3600" hR="3600" stAng="16200000" swAng="-5400000"/>
                <a:lnTo>
                  <a:pt x="0" y="31048"/>
                </a:lnTo>
                <a:arcTo wR="3600" hR="3600" stAng="10800000" swAng="-5400000"/>
                <a:lnTo>
                  <a:pt x="18000" y="34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193920" y="2916360"/>
            <a:ext cx="909720" cy="1217520"/>
          </a:xfrm>
          <a:custGeom>
            <a:avLst/>
            <a:gdLst>
              <a:gd name="textAreaLeft" fmla="*/ 44280 w 909720"/>
              <a:gd name="textAreaRight" fmla="*/ 865440 w 909720"/>
              <a:gd name="textAreaTop" fmla="*/ 44280 h 1217520"/>
              <a:gd name="textAreaBottom" fmla="*/ 1173240 h 1217520"/>
            </a:gdLst>
            <a:ahLst/>
            <a:rect l="textAreaLeft" t="textAreaTop" r="textAreaRight" b="textAreaBottom"/>
            <a:pathLst>
              <a:path w="21600" h="28905">
                <a:moveTo>
                  <a:pt x="3600" y="0"/>
                </a:moveTo>
                <a:arcTo wR="3600" hR="3600" stAng="16200000" swAng="-5400000"/>
                <a:lnTo>
                  <a:pt x="0" y="25305"/>
                </a:lnTo>
                <a:arcTo wR="3600" hR="3600" stAng="10800000" swAng="-5400000"/>
                <a:lnTo>
                  <a:pt x="18000" y="28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527120" y="341964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1496880" y="334800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1376280" y="331164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1376280" y="327672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284120" y="320364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11"/>
          <p:cNvSpPr/>
          <p:nvPr/>
        </p:nvSpPr>
        <p:spPr>
          <a:xfrm>
            <a:off x="1527120" y="2916360"/>
            <a:ext cx="2576520" cy="162072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1224000" y="2916360"/>
            <a:ext cx="758880" cy="121752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217520"/>
              <a:gd name="textAreaBottom" fmla="*/ 1180800 h 1217520"/>
            </a:gdLst>
            <a:ahLst/>
            <a:rect l="textAreaLeft" t="textAreaTop" r="textAreaRight" b="textAreaBottom"/>
            <a:pathLst>
              <a:path w="21600" h="34648">
                <a:moveTo>
                  <a:pt x="3600" y="0"/>
                </a:moveTo>
                <a:arcTo wR="3600" hR="3600" stAng="16200000" swAng="-5400000"/>
                <a:lnTo>
                  <a:pt x="0" y="31048"/>
                </a:lnTo>
                <a:arcTo wR="3600" hR="3600" stAng="10800000" swAng="-5400000"/>
                <a:lnTo>
                  <a:pt x="18000" y="34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3193920" y="2916360"/>
            <a:ext cx="909720" cy="1217520"/>
          </a:xfrm>
          <a:custGeom>
            <a:avLst/>
            <a:gdLst>
              <a:gd name="textAreaLeft" fmla="*/ 44280 w 909720"/>
              <a:gd name="textAreaRight" fmla="*/ 865440 w 909720"/>
              <a:gd name="textAreaTop" fmla="*/ 44280 h 1217520"/>
              <a:gd name="textAreaBottom" fmla="*/ 1173240 h 1217520"/>
            </a:gdLst>
            <a:ahLst/>
            <a:rect l="textAreaLeft" t="textAreaTop" r="textAreaRight" b="textAreaBottom"/>
            <a:pathLst>
              <a:path w="21600" h="28905">
                <a:moveTo>
                  <a:pt x="3600" y="0"/>
                </a:moveTo>
                <a:arcTo wR="3600" hR="3600" stAng="16200000" swAng="-5400000"/>
                <a:lnTo>
                  <a:pt x="0" y="25305"/>
                </a:lnTo>
                <a:arcTo wR="3600" hR="3600" stAng="10800000" swAng="-5400000"/>
                <a:lnTo>
                  <a:pt x="18000" y="28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1527120" y="341964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1496880" y="334800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1376280" y="331164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1376280" y="327672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1284120" y="320364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1527120" y="4716360"/>
            <a:ext cx="2576520" cy="162108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1224000" y="4716360"/>
            <a:ext cx="758880" cy="12178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217880"/>
              <a:gd name="textAreaBottom" fmla="*/ 1181160 h 1217880"/>
            </a:gdLst>
            <a:ahLst/>
            <a:rect l="textAreaLeft" t="textAreaTop" r="textAreaRight" b="textAreaBottom"/>
            <a:pathLst>
              <a:path w="21600" h="34658">
                <a:moveTo>
                  <a:pt x="3600" y="0"/>
                </a:moveTo>
                <a:arcTo wR="3600" hR="3600" stAng="16200000" swAng="-5400000"/>
                <a:lnTo>
                  <a:pt x="0" y="31058"/>
                </a:lnTo>
                <a:arcTo wR="3600" hR="3600" stAng="10800000" swAng="-5400000"/>
                <a:lnTo>
                  <a:pt x="18000" y="346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3193920" y="4716360"/>
            <a:ext cx="909720" cy="1217880"/>
          </a:xfrm>
          <a:custGeom>
            <a:avLst/>
            <a:gdLst>
              <a:gd name="textAreaLeft" fmla="*/ 44280 w 909720"/>
              <a:gd name="textAreaRight" fmla="*/ 865440 w 909720"/>
              <a:gd name="textAreaTop" fmla="*/ 44280 h 1217880"/>
              <a:gd name="textAreaBottom" fmla="*/ 1173600 h 1217880"/>
            </a:gdLst>
            <a:ahLst/>
            <a:rect l="textAreaLeft" t="textAreaTop" r="textAreaRight" b="textAreaBottom"/>
            <a:pathLst>
              <a:path w="21600" h="28914">
                <a:moveTo>
                  <a:pt x="3600" y="0"/>
                </a:moveTo>
                <a:arcTo wR="3600" hR="3600" stAng="16200000" swAng="-5400000"/>
                <a:lnTo>
                  <a:pt x="0" y="25314"/>
                </a:lnTo>
                <a:arcTo wR="3600" hR="3600" stAng="10800000" swAng="-5400000"/>
                <a:lnTo>
                  <a:pt x="18000" y="28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2"/>
          <p:cNvSpPr/>
          <p:nvPr/>
        </p:nvSpPr>
        <p:spPr>
          <a:xfrm>
            <a:off x="1527120" y="521964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1496880" y="514836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24"/>
          <p:cNvSpPr/>
          <p:nvPr/>
        </p:nvSpPr>
        <p:spPr>
          <a:xfrm>
            <a:off x="1376280" y="5111640"/>
            <a:ext cx="758880" cy="54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25"/>
          <p:cNvSpPr/>
          <p:nvPr/>
        </p:nvSpPr>
        <p:spPr>
          <a:xfrm>
            <a:off x="1376280" y="5075280"/>
            <a:ext cx="75888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6"/>
          <p:cNvSpPr/>
          <p:nvPr/>
        </p:nvSpPr>
        <p:spPr>
          <a:xfrm>
            <a:off x="1284120" y="5003640"/>
            <a:ext cx="758880" cy="54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1873080" y="5940360"/>
            <a:ext cx="106236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28"/>
          <p:cNvSpPr/>
          <p:nvPr/>
        </p:nvSpPr>
        <p:spPr>
          <a:xfrm>
            <a:off x="3240000" y="0"/>
            <a:ext cx="6840720" cy="7559640"/>
          </a:xfrm>
          <a:custGeom>
            <a:avLst/>
            <a:gdLst>
              <a:gd name="textAreaLeft" fmla="*/ 360 w 6840720"/>
              <a:gd name="textAreaRight" fmla="*/ 6840360 w 6840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23870">
                <a:moveTo>
                  <a:pt x="4" y="0"/>
                </a:moveTo>
                <a:arcTo wR="4" hR="4" stAng="16200000" swAng="-5400000"/>
                <a:lnTo>
                  <a:pt x="0" y="23866"/>
                </a:lnTo>
                <a:arcTo wR="4" hR="4" stAng="10800000" swAng="-5400000"/>
                <a:lnTo>
                  <a:pt x="21596" y="2387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Objetiv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-1440" y="179280"/>
            <a:ext cx="1008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Introdu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4" descr=""/>
          <p:cNvPicPr/>
          <p:nvPr/>
        </p:nvPicPr>
        <p:blipFill>
          <a:blip r:embed="rId1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"/>
          <p:cNvPicPr/>
          <p:nvPr/>
        </p:nvPicPr>
        <p:blipFill>
          <a:blip r:embed="rId2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6"/>
          <p:cNvSpPr/>
          <p:nvPr/>
        </p:nvSpPr>
        <p:spPr>
          <a:xfrm>
            <a:off x="1440000" y="521964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1440000" y="3492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M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1440000" y="1405080"/>
            <a:ext cx="234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7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stratégia Organiz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2443320" y="5973840"/>
            <a:ext cx="1625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O a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6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"/>
          <p:cNvSpPr/>
          <p:nvPr/>
        </p:nvSpPr>
        <p:spPr>
          <a:xfrm>
            <a:off x="-1440" y="0"/>
            <a:ext cx="1008036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-1440" y="0"/>
            <a:ext cx="10080360" cy="7559640"/>
          </a:xfrm>
          <a:prstGeom prst="roundRect">
            <a:avLst>
              <a:gd name="adj" fmla="val 1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Níveis de Abrangên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-1440" y="179280"/>
            <a:ext cx="1008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Introdu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3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4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5"/>
          <a:stretch/>
        </p:blipFill>
        <p:spPr>
          <a:xfrm>
            <a:off x="1763640" y="1378080"/>
            <a:ext cx="6670800" cy="5105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1255680" y="6473880"/>
            <a:ext cx="7647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(*)Proceedings of PMI Annual Seminars &amp; Symposium (sept/2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7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Níveis de Abrangên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0" y="179280"/>
            <a:ext cx="10080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Introdu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3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5"/>
          <a:stretch/>
        </p:blipFill>
        <p:spPr>
          <a:xfrm>
            <a:off x="1763640" y="1378080"/>
            <a:ext cx="6670800" cy="51051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1255680" y="6473880"/>
            <a:ext cx="7647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(*)Proceedings of PMI Annual Seminars &amp; Symposium (sept/2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3060720" y="2592360"/>
            <a:ext cx="1260360" cy="72072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c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5040360" y="2592360"/>
            <a:ext cx="126036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4068720" y="3564000"/>
            <a:ext cx="1260360" cy="72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6048360" y="3564000"/>
            <a:ext cx="1260360" cy="720720"/>
          </a:xfrm>
          <a:prstGeom prst="ellipse">
            <a:avLst/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ecu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5400720" y="4716360"/>
            <a:ext cx="126036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lu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4248000" y="2948040"/>
            <a:ext cx="935280" cy="46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 flipH="1">
            <a:off x="5146560" y="3708360"/>
            <a:ext cx="1108080" cy="46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23"/>
          <p:cNvSpPr/>
          <p:nvPr/>
        </p:nvSpPr>
        <p:spPr>
          <a:xfrm>
            <a:off x="1800360" y="5580000"/>
            <a:ext cx="1979640" cy="1081080"/>
          </a:xfrm>
          <a:prstGeom prst="ellipse">
            <a:avLst/>
          </a:prstGeom>
          <a:noFill/>
          <a:ln w="7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24"/>
          <p:cNvSpPr/>
          <p:nvPr/>
        </p:nvSpPr>
        <p:spPr>
          <a:xfrm>
            <a:off x="4068720" y="5580000"/>
            <a:ext cx="1979640" cy="1081080"/>
          </a:xfrm>
          <a:prstGeom prst="ellipse">
            <a:avLst/>
          </a:prstGeom>
          <a:noFill/>
          <a:ln w="72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25"/>
          <p:cNvSpPr/>
          <p:nvPr/>
        </p:nvSpPr>
        <p:spPr>
          <a:xfrm>
            <a:off x="6372360" y="5580000"/>
            <a:ext cx="1979640" cy="1081080"/>
          </a:xfrm>
          <a:prstGeom prst="ellipse">
            <a:avLst/>
          </a:prstGeom>
          <a:noFill/>
          <a:ln w="72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V="1">
            <a:off x="4968720" y="3136680"/>
            <a:ext cx="43848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6040440" y="3137040"/>
            <a:ext cx="35712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V="1">
            <a:off x="5183280" y="3994200"/>
            <a:ext cx="100008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5040360" y="4137120"/>
            <a:ext cx="642960" cy="78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>
            <a:off x="6540480" y="5137200"/>
            <a:ext cx="42876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8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9"/>
          <p:cNvSpPr/>
          <p:nvPr/>
        </p:nvSpPr>
        <p:spPr>
          <a:xfrm>
            <a:off x="1979640" y="1440000"/>
            <a:ext cx="7740720" cy="478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29"/>
          <p:cNvSpPr/>
          <p:nvPr/>
        </p:nvSpPr>
        <p:spPr>
          <a:xfrm>
            <a:off x="4754520" y="3130560"/>
            <a:ext cx="126036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lhorprá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"/>
          <p:cNvSpPr/>
          <p:nvPr/>
        </p:nvSpPr>
        <p:spPr>
          <a:xfrm>
            <a:off x="46080" y="720720"/>
            <a:ext cx="882000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-1440" y="6767640"/>
            <a:ext cx="10080360" cy="1440"/>
          </a:xfrm>
          <a:prstGeom prst="line">
            <a:avLst/>
          </a:prstGeom>
          <a:ln w="468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-1440" y="179280"/>
            <a:ext cx="1008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808000"/>
                </a:solidFill>
                <a:latin typeface="Verdana"/>
              </a:rPr>
              <a:t>OPM3 - Introdu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900000" y="6948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Maturidade em Gerenciamento de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8783640" y="36360"/>
            <a:ext cx="1260360" cy="1236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0" y="6299280"/>
            <a:ext cx="1471680" cy="12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- Estágios de Maturidade (ciclic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58680" y="4749840"/>
            <a:ext cx="2102040" cy="720720"/>
          </a:xfrm>
          <a:prstGeom prst="rightArrow">
            <a:avLst>
              <a:gd name="adj1" fmla="val 37435"/>
              <a:gd name="adj2" fmla="val 73050"/>
            </a:avLst>
          </a:prstGeom>
          <a:solidFill>
            <a:srgbClr val="24c9f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58680" y="3456000"/>
            <a:ext cx="2102040" cy="720720"/>
          </a:xfrm>
          <a:prstGeom prst="rightArrow">
            <a:avLst>
              <a:gd name="adj1" fmla="val 37435"/>
              <a:gd name="adj2" fmla="val 73050"/>
            </a:avLst>
          </a:prstGeom>
          <a:solidFill>
            <a:srgbClr val="24c9f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58680" y="2124000"/>
            <a:ext cx="2102040" cy="720720"/>
          </a:xfrm>
          <a:prstGeom prst="rightArrow">
            <a:avLst>
              <a:gd name="adj1" fmla="val 37435"/>
              <a:gd name="adj2" fmla="val 73050"/>
            </a:avLst>
          </a:prstGeom>
          <a:solidFill>
            <a:srgbClr val="24c9f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rtfól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13"/>
          <p:cNvSpPr/>
          <p:nvPr/>
        </p:nvSpPr>
        <p:spPr>
          <a:xfrm>
            <a:off x="2162160" y="5148360"/>
            <a:ext cx="1368360" cy="466560"/>
          </a:xfrm>
          <a:prstGeom prst="roundRect">
            <a:avLst>
              <a:gd name="adj" fmla="val 44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ível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8116920" y="6324480"/>
            <a:ext cx="1625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onte: O a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3959280" y="4788000"/>
            <a:ext cx="126036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lhorprá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7020000" y="4967280"/>
            <a:ext cx="126036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lhorprá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 rot="20400000">
            <a:off x="5037120" y="4462200"/>
            <a:ext cx="4635360" cy="1260360"/>
          </a:xfrm>
          <a:prstGeom prst="rightArrow">
            <a:avLst>
              <a:gd name="adj1" fmla="val 50000"/>
              <a:gd name="adj2" fmla="val 91945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cremento da Matur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9"/>
          <p:cNvSpPr/>
          <p:nvPr/>
        </p:nvSpPr>
        <p:spPr>
          <a:xfrm>
            <a:off x="3529080" y="4680000"/>
            <a:ext cx="1368360" cy="466560"/>
          </a:xfrm>
          <a:prstGeom prst="roundRect">
            <a:avLst>
              <a:gd name="adj" fmla="val 44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ível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4897440" y="4211640"/>
            <a:ext cx="1368360" cy="466560"/>
          </a:xfrm>
          <a:prstGeom prst="roundRect">
            <a:avLst>
              <a:gd name="adj" fmla="val 44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íve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6264360" y="3743280"/>
            <a:ext cx="1368360" cy="466920"/>
          </a:xfrm>
          <a:prstGeom prst="roundRect">
            <a:avLst>
              <a:gd name="adj" fmla="val 44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ível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2"/>
          <p:cNvSpPr/>
          <p:nvPr/>
        </p:nvSpPr>
        <p:spPr>
          <a:xfrm>
            <a:off x="7632720" y="3276720"/>
            <a:ext cx="1368360" cy="466560"/>
          </a:xfrm>
          <a:prstGeom prst="roundRect">
            <a:avLst>
              <a:gd name="adj" fmla="val 44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ível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592360" y="3240000"/>
            <a:ext cx="14907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Metodolog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Específ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4032360" y="2735280"/>
            <a:ext cx="14112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Definiçã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de Métric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5170320" y="2324160"/>
            <a:ext cx="1721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Benchmark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29"/>
          <p:cNvSpPr/>
          <p:nvPr/>
        </p:nvSpPr>
        <p:spPr>
          <a:xfrm>
            <a:off x="2879640" y="1800360"/>
            <a:ext cx="126072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á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2124000" y="4680000"/>
            <a:ext cx="14637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Intenção 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Melhor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3384720" y="4356000"/>
            <a:ext cx="1617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Padronizaçã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4859280" y="3887640"/>
            <a:ext cx="1462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Mensuraçã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6227640" y="3276720"/>
            <a:ext cx="14144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Controle 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Process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/>
          <p:cNvSpPr/>
          <p:nvPr/>
        </p:nvSpPr>
        <p:spPr>
          <a:xfrm>
            <a:off x="7775640" y="2808360"/>
            <a:ext cx="1135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Melhor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Contínu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35"/>
          <p:cNvSpPr/>
          <p:nvPr/>
        </p:nvSpPr>
        <p:spPr>
          <a:xfrm>
            <a:off x="7878600" y="1800360"/>
            <a:ext cx="126072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á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6"/>
          <p:cNvSpPr/>
          <p:nvPr/>
        </p:nvSpPr>
        <p:spPr>
          <a:xfrm>
            <a:off x="3527280" y="1311120"/>
            <a:ext cx="1800" cy="504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7"/>
          <p:cNvSpPr/>
          <p:nvPr/>
        </p:nvSpPr>
        <p:spPr>
          <a:xfrm>
            <a:off x="6264360" y="1351080"/>
            <a:ext cx="1440" cy="504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8"/>
          <p:cNvSpPr/>
          <p:nvPr/>
        </p:nvSpPr>
        <p:spPr>
          <a:xfrm>
            <a:off x="4896000" y="1311120"/>
            <a:ext cx="1440" cy="504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9"/>
          <p:cNvSpPr/>
          <p:nvPr/>
        </p:nvSpPr>
        <p:spPr>
          <a:xfrm>
            <a:off x="7632720" y="1351080"/>
            <a:ext cx="1440" cy="504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0"/>
          <p:cNvSpPr/>
          <p:nvPr/>
        </p:nvSpPr>
        <p:spPr>
          <a:xfrm>
            <a:off x="9180360" y="2484360"/>
            <a:ext cx="540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1"/>
          <p:cNvSpPr/>
          <p:nvPr/>
        </p:nvSpPr>
        <p:spPr>
          <a:xfrm>
            <a:off x="6754680" y="1784520"/>
            <a:ext cx="1430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Melhoria 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Process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eta dobrada 44"/>
          <p:cNvSpPr/>
          <p:nvPr/>
        </p:nvSpPr>
        <p:spPr>
          <a:xfrm>
            <a:off x="2754360" y="3637080"/>
            <a:ext cx="928800" cy="6429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eta dobrada 45"/>
          <p:cNvSpPr/>
          <p:nvPr/>
        </p:nvSpPr>
        <p:spPr>
          <a:xfrm>
            <a:off x="4121280" y="3065400"/>
            <a:ext cx="928440" cy="6429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eta dobrada 46"/>
          <p:cNvSpPr/>
          <p:nvPr/>
        </p:nvSpPr>
        <p:spPr>
          <a:xfrm>
            <a:off x="5524560" y="2637000"/>
            <a:ext cx="928800" cy="642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eta dobrada 47"/>
          <p:cNvSpPr/>
          <p:nvPr/>
        </p:nvSpPr>
        <p:spPr>
          <a:xfrm>
            <a:off x="6872400" y="2136600"/>
            <a:ext cx="928440" cy="6429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8820000" y="69501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08000"/>
                </a:solidFill>
                <a:latin typeface="Verdana"/>
              </a:rPr>
              <a:t>09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iente</cp:lastModifiedBy>
  <dcterms:modified xsi:type="dcterms:W3CDTF">2007-10-01T02:55:28Z</dcterms:modified>
  <cp:revision>96</cp:revision>
  <dc:subject/>
  <dc:title>Slide 1</dc:title>
</cp:coreProperties>
</file>