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6434-840C-42EB-9ADB-3EAD8317C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9C69-1920-4DD0-B011-3F04D4CE6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608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608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00960"/>
            <a:ext cx="2895840" cy="1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c875d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875d"/>
                </a:solidFill>
                <a:latin typeface="Trebuchet MS"/>
              </a:rPr>
              <a:t>Gerência de Comunicaç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6159600" y="6605640"/>
            <a:ext cx="28954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875d"/>
                </a:solidFill>
                <a:latin typeface="Trebuchet MS"/>
              </a:rPr>
              <a:t>Cleyton Carval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Inicio3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2954160" y="1695600"/>
            <a:ext cx="3434040" cy="4103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2" descr="cin2"/>
          <p:cNvPicPr/>
          <p:nvPr/>
        </p:nvPicPr>
        <p:blipFill>
          <a:blip r:embed="rId4"/>
          <a:stretch/>
        </p:blipFill>
        <p:spPr>
          <a:xfrm>
            <a:off x="209520" y="5907240"/>
            <a:ext cx="2228760" cy="822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3132000" y="6599160"/>
            <a:ext cx="289584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38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rebuchet MS"/>
              </a:rPr>
              <a:t>Gerência da Comunicação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5570640" y="5815080"/>
            <a:ext cx="351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Cleyton Carvalho da Trindade cct@cin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5570640" y="5783400"/>
            <a:ext cx="0" cy="7920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600960"/>
            <a:ext cx="28958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875d"/>
                </a:solidFill>
                <a:latin typeface="Trebuchet MS"/>
              </a:rPr>
              <a:t>Gerência de Comunic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rebuchet MS"/>
              </a:rPr>
              <a:t>Planejamento das Comunicações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rebuchet MS"/>
              </a:rPr>
              <a:t>Benefícios de um plano de comunicação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Fácil de ser feito (o que, para quem, quando e  de que forma)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Reduz drasticamente os problemas de comunicação e os conflitos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Ajuda a esclarecer papéis e responsabilidades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Diminui a perda de tempo em projeto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3124080" y="6600960"/>
            <a:ext cx="28958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875d"/>
                </a:solidFill>
                <a:latin typeface="Trebuchet MS"/>
              </a:rPr>
              <a:t>Gerência de Comunic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rebuchet MS"/>
              </a:rPr>
              <a:t>Planejamento das Comunicações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3174840" y="1959120"/>
            <a:ext cx="19080" cy="3620880"/>
          </a:xfrm>
          <a:prstGeom prst="line">
            <a:avLst/>
          </a:prstGeom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2884320" y="4954680"/>
            <a:ext cx="601920" cy="0"/>
          </a:xfrm>
          <a:prstGeom prst="line">
            <a:avLst/>
          </a:prstGeom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5"/>
          <p:cNvSpPr/>
          <p:nvPr/>
        </p:nvSpPr>
        <p:spPr>
          <a:xfrm>
            <a:off x="2884320" y="2984400"/>
            <a:ext cx="601920" cy="0"/>
          </a:xfrm>
          <a:prstGeom prst="line">
            <a:avLst/>
          </a:prstGeom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2882880" y="2336760"/>
            <a:ext cx="601560" cy="0"/>
          </a:xfrm>
          <a:prstGeom prst="line">
            <a:avLst/>
          </a:prstGeom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 flipV="1">
            <a:off x="2363760" y="1925640"/>
            <a:ext cx="0" cy="3651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1802520" y="550404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o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1865520" y="147168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>
            <a:off x="2878200" y="3984480"/>
            <a:ext cx="601560" cy="0"/>
          </a:xfrm>
          <a:prstGeom prst="line">
            <a:avLst/>
          </a:prstGeom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3746520" y="2136600"/>
            <a:ext cx="4675320" cy="35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Presença Fís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6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(Face a F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Canais Intera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6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(Telefone, Ch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651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Canais Pessoais Está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6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(E-mail, Memorandos, Cart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6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Canais Impessoais Está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6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(Comunicados Escritos, boletins, Relatórios Computador, Gera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97800" y="335772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isco 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n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3124080" y="6600960"/>
            <a:ext cx="28958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875d"/>
                </a:solidFill>
                <a:latin typeface="Trebuchet MS"/>
              </a:rPr>
              <a:t>Gerência de Comunic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rebuchet MS"/>
              </a:rPr>
              <a:t>Planejamento das Comunicações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rebuchet MS"/>
              </a:rPr>
              <a:t>Orientaçõe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Envie mensagens complexas, não rotineiras através de canais ricos, de preferência pessoalmente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Envie mensagens rotineiras através de canais pobres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Utilize canais ricos para aumentar sua presença no ambiente do projeto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Utilize canais ricos para implementar planos do projeto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Não utilize um canal pobre na coleta de informações sobre questões cruciais – gerente face-a-face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Não se limite a utilizar apenas um canal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3124080" y="6600960"/>
            <a:ext cx="28958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875d"/>
                </a:solidFill>
                <a:latin typeface="Trebuchet MS"/>
              </a:rPr>
              <a:t>Gerência de Comunic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rebuchet MS"/>
              </a:rPr>
              <a:t>Planejamento das Comunicações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600200"/>
          <a:ext cx="8229600" cy="46260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esponsável (Pelo Envi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teressado (Recepto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étodo / Me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bje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reqüê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erente do Proje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xecutivo Patrocinad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eunião de Stat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formar situação atual do Proje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Quinzen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quipe do Proje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erente do Proje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ormulário na Intern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lertar sobre ocorrência de 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Quando ocorrer condição 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erente do Proje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lie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olicitar aprovação formal do produ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pós concluir atividade K, previsão 15 de novemb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erente do Proje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quipe e Stakehold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-ma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formar sobre mudanças autorizadas no Esco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pós aprovação da mudança pelo CCB (Change Control Boar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erente do Proje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quipe do Proje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r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gradec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o atingir marcos importantes, na conclusão do proje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embro da Equipe (Sr X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retor de Engenhar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presentação em PP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strar evolução do protó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pós concluir protó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tc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3124080" y="6600960"/>
            <a:ext cx="28958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875d"/>
                </a:solidFill>
                <a:latin typeface="Trebuchet MS"/>
              </a:rPr>
              <a:t>Gerência de Comunic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rebuchet MS"/>
              </a:rPr>
              <a:t>Planejamento das Comunicações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Reuniõe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De pontapé inicial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De acompanhamento (Técnicas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De progresso do projeto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E etc..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Obs: Comemorar também é importante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3124080" y="6600960"/>
            <a:ext cx="28958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875d"/>
                </a:solidFill>
                <a:latin typeface="Trebuchet MS"/>
              </a:rPr>
              <a:t>Gerência de Comunic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rebuchet MS"/>
              </a:rPr>
              <a:t>Planejamento das Comunicações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As entregas parciais e finais do projeto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Organizar os arquivos do projeto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Obter a aceitação formal do cliente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Levantar as lições aprendidas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Rever e atualizar o planejamento das comunicaçõe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3124080" y="6600960"/>
            <a:ext cx="28958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875d"/>
                </a:solidFill>
                <a:latin typeface="Trebuchet MS"/>
              </a:rPr>
              <a:t>Gerência de Comunic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9736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rebuchet MS"/>
              </a:rPr>
              <a:t>Projetos Distribuídos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3124080" y="6600960"/>
            <a:ext cx="28958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875d"/>
                </a:solidFill>
                <a:latin typeface="Trebuchet MS"/>
              </a:rPr>
              <a:t>Gerência de Comunic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rebuchet MS"/>
              </a:rPr>
              <a:t>Projetos Distribuídos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Vantagens competitivas em termos de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Custo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Qualidade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Ganho de Produtividade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Diminuição dos riscos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Possibilidade de atuar em uma nova região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Registrar a comunicação e posteriormente analisá-lo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4"/>
          <p:cNvSpPr/>
          <p:nvPr/>
        </p:nvSpPr>
        <p:spPr>
          <a:xfrm>
            <a:off x="3124080" y="6600960"/>
            <a:ext cx="28958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875d"/>
                </a:solidFill>
                <a:latin typeface="Trebuchet MS"/>
              </a:rPr>
              <a:t>Gerência de Comunic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rebuchet MS"/>
              </a:rPr>
              <a:t>Projetos Distribuídos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Desafio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Adaptação da equipe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Treinamento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Diferenças culturais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Utilizar a tecnologia de maneira criativa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Levantamento de requisitos e análise de sistemas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Comunicação e colaboração entre desenvolvedore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3124080" y="6600960"/>
            <a:ext cx="28958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875d"/>
                </a:solidFill>
                <a:latin typeface="Trebuchet MS"/>
              </a:rPr>
              <a:t>Gerência de Comunic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rebuchet MS"/>
              </a:rPr>
              <a:t>Projetos Distribuídos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Projetos Centralizados X Distribuído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Comunicação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Pouco uso de canais ricos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Barreira inicial da pouca intimide entre as equipes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Credibilidade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Conflito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3124080" y="6600960"/>
            <a:ext cx="28958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875d"/>
                </a:solidFill>
                <a:latin typeface="Trebuchet MS"/>
              </a:rPr>
              <a:t>Gerência de Comunic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rebuchet MS"/>
              </a:rPr>
              <a:t>Tópicos a serem abordados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Mercad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Comunicação no PMBO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Comunicação em Projetos Distribuído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PMBOK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Uma experiênci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5"/>
          <p:cNvSpPr/>
          <p:nvPr/>
        </p:nvSpPr>
        <p:spPr>
          <a:xfrm>
            <a:off x="3124080" y="6600960"/>
            <a:ext cx="28958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875d"/>
                </a:solidFill>
                <a:latin typeface="Trebuchet MS"/>
              </a:rPr>
              <a:t>Gerência de Comunic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rebuchet MS"/>
              </a:rPr>
              <a:t>Projetos Distribuídos (PMBOK)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585144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Processo em Espir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62" name="Picture 5" descr="espiral"/>
          <p:cNvPicPr/>
          <p:nvPr/>
        </p:nvPicPr>
        <p:blipFill>
          <a:blip r:embed="rId1"/>
          <a:stretch/>
        </p:blipFill>
        <p:spPr>
          <a:xfrm>
            <a:off x="2643120" y="958680"/>
            <a:ext cx="4197240" cy="48247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3763800" y="6346800"/>
            <a:ext cx="128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ZANONI, 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3124080" y="6600960"/>
            <a:ext cx="28958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875d"/>
                </a:solidFill>
                <a:latin typeface="Trebuchet MS"/>
              </a:rPr>
              <a:t>Gerência de Comunic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rebuchet MS"/>
              </a:rPr>
              <a:t>Projetos Distribuídos (PMBOK)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1ª Fase - Determinação dos Requisito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Fase responsável pela coleta das necessidades dos usuários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Necessidade de fluxo de comunicação muito intenso entre os participantes do projeto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Problemas com a falta de clareza na definição de escopo e de um ponto de contato fixo com o cliente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Necessidade de reuniões com os clientes e usuário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3124080" y="6600960"/>
            <a:ext cx="28958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875d"/>
                </a:solidFill>
                <a:latin typeface="Trebuchet MS"/>
              </a:rPr>
              <a:t>Gerência de Comunic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rebuchet MS"/>
              </a:rPr>
              <a:t>Projetos Distribuídos (PMBOK)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2ª Fase - Processos de Projeto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Após a definição organizacional, o entendimento das funções que cada participante terá no projeto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Elaborar um plano de comunicação para a distribuição das informações necessárias aos interessados no projeto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Relatórios de situação, de progresso e de previsões são artefatos úteis para garantir o controle de informações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Atenção ao escolher o meio a ser utilizad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3124080" y="6600960"/>
            <a:ext cx="28958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875d"/>
                </a:solidFill>
                <a:latin typeface="Trebuchet MS"/>
              </a:rPr>
              <a:t>Gerência de Comunic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rebuchet MS"/>
              </a:rPr>
              <a:t>Projetos Distribuídos (PMBOK)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3ª Fase - Processos de produção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Alto fluxo de informações entre os participantes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Exige coordenação e preocupação com mecanismos de gestão no processo de comunicação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A distribuição da informação entre equipes deve envolver todas as informações relevantes ao projeto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Necessidade de padronização da comunicação, através da UML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3124080" y="6600960"/>
            <a:ext cx="28958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875d"/>
                </a:solidFill>
                <a:latin typeface="Trebuchet MS"/>
              </a:rPr>
              <a:t>Gerência de Comunic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rebuchet MS"/>
              </a:rPr>
              <a:t>Projetos Distribuídos (PMBOK)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4ª Fase – Avaliação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Envolve, basicamente, troca de informações entre as equipes de desenvolvimento e de testes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É necessário um plano de comunicação para esta troca, evitando perda de controle sobre esta atividade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A gerência de comunicações é considerada um dos maiores fatores de risco do projet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5"/>
          <p:cNvSpPr/>
          <p:nvPr/>
        </p:nvSpPr>
        <p:spPr>
          <a:xfrm>
            <a:off x="3124080" y="6600960"/>
            <a:ext cx="28958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875d"/>
                </a:solidFill>
                <a:latin typeface="Trebuchet MS"/>
              </a:rPr>
              <a:t>Gerência de Comunic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rebuchet MS"/>
              </a:rPr>
              <a:t>Projetos Distribuídos (Experiência)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Motivo da escolha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Possibilidade de desenvolvimento em 24h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Entregas serem feitas nas datas acordadas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Mais baixo cust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79" name="Picture 5" descr="Untitled-1 copy"/>
          <p:cNvPicPr/>
          <p:nvPr/>
        </p:nvPicPr>
        <p:blipFill>
          <a:blip r:embed="rId5"/>
          <a:stretch/>
        </p:blipFill>
        <p:spPr>
          <a:xfrm>
            <a:off x="2502000" y="4156200"/>
            <a:ext cx="4140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4"/>
          <p:cNvSpPr/>
          <p:nvPr/>
        </p:nvSpPr>
        <p:spPr>
          <a:xfrm>
            <a:off x="3124080" y="6600960"/>
            <a:ext cx="28958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875d"/>
                </a:solidFill>
                <a:latin typeface="Trebuchet MS"/>
              </a:rPr>
              <a:t>Gerência de Comunic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rebuchet MS"/>
              </a:rPr>
              <a:t>Projetos Distribuídos (Experiência)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Técnicas utilizada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Reuniões diárias em pé (Por telefone)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Baixa qualidade de voz e intermitentes conexões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Não funciona muito bem com mais de 8 pessoa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Voz sobre IP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Melhor qualidade e possibilidade de utilizar laptops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Problemas com a adaptação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Não criou um bom relacionamento entre as equipe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3124080" y="6600960"/>
            <a:ext cx="28958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875d"/>
                </a:solidFill>
                <a:latin typeface="Trebuchet MS"/>
              </a:rPr>
              <a:t>Gerência de Comunic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rebuchet MS"/>
              </a:rPr>
              <a:t>Projetos Distribuídos (Experiência)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Técnicas utilizada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Gerentes como representantes da equipe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Gerentes coletavam os questionamentos e os pedidos de ajuda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Ajudou na coordenação das atividades e no relacionamento dos gerentes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Acabou atuando como um funil de informações e de contexto entre as equipes, tornando-se mais complexo que a anterior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4"/>
          <p:cNvSpPr/>
          <p:nvPr/>
        </p:nvSpPr>
        <p:spPr>
          <a:xfrm>
            <a:off x="3124080" y="6600960"/>
            <a:ext cx="28958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875d"/>
                </a:solidFill>
                <a:latin typeface="Trebuchet MS"/>
              </a:rPr>
              <a:t>Gerência de Comunic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rebuchet MS"/>
              </a:rPr>
              <a:t>Projetos Distribuídos (Experiência)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Técnicas utilizada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Troca de embaixadore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Proporcionou um melhor relacionamento entre as equipes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Mais confiança e transferência de conhecimento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Divulgavam as lições aprendidas e a futura direção do projeto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Melhorou a comunicação entre as equipes e tornaram um importante canal de comunicação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Ajudaram a encontrar problemas de comunicação entre as equipe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4"/>
          <p:cNvSpPr/>
          <p:nvPr/>
        </p:nvSpPr>
        <p:spPr>
          <a:xfrm>
            <a:off x="3124080" y="6600960"/>
            <a:ext cx="28958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875d"/>
                </a:solidFill>
                <a:latin typeface="Trebuchet MS"/>
              </a:rPr>
              <a:t>Gerência de Comunic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rebuchet MS"/>
              </a:rPr>
              <a:t>Projetos Distribuídos (Experiência)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Técnicas utilizada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Pequenas equipe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Melhorou a eficiência das reuniões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Possibilitou um melhor direcionamento das informaçõe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Desenvolvimento em dupla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Maior esforço nos problemas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Maior colaboração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3124080" y="6600960"/>
            <a:ext cx="28958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875d"/>
                </a:solidFill>
                <a:latin typeface="Trebuchet MS"/>
              </a:rPr>
              <a:t>Gerência de Comunic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9736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rebuchet MS"/>
              </a:rPr>
              <a:t>O Mercado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3124080" y="6600960"/>
            <a:ext cx="28958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875d"/>
                </a:solidFill>
                <a:latin typeface="Trebuchet MS"/>
              </a:rPr>
              <a:t>Gerência de Comunic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rebuchet MS"/>
              </a:rPr>
              <a:t>Projetos Distribuídos (Experiência)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Ferramenta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Yahoo! Messeger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Os envolvidos já utilizavam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A possibilidade de criar grupos por localização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Contato direto com qualquer um do projeto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Baixo custo para se tirar dúvidas ou para se  passar uma mensagem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A utilização dos status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Permitiu discussões em grupo sobre importantes tópicos com desenvolvedores externo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4"/>
          <p:cNvSpPr/>
          <p:nvPr/>
        </p:nvSpPr>
        <p:spPr>
          <a:xfrm>
            <a:off x="3124080" y="6600960"/>
            <a:ext cx="28958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875d"/>
                </a:solidFill>
                <a:latin typeface="Trebuchet MS"/>
              </a:rPr>
              <a:t>Gerência de Comunic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rebuchet MS"/>
              </a:rPr>
              <a:t>Projetos Distribuídos (Experiência)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Ferramenta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Voz sobre IP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Diminuição dos custos com ligações internacionais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O armazenamento de importantes contatos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Utilizados muitas vezes como telefone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Desvantagem: Sobrecarga causada na rede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4"/>
          <p:cNvSpPr/>
          <p:nvPr/>
        </p:nvSpPr>
        <p:spPr>
          <a:xfrm>
            <a:off x="3124080" y="6600960"/>
            <a:ext cx="28958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875d"/>
                </a:solidFill>
                <a:latin typeface="Trebuchet MS"/>
              </a:rPr>
              <a:t>Gerência de Comunic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rebuchet MS"/>
              </a:rPr>
              <a:t>Projetos Distribuídos (Experiência)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Ferramenta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Vídeo comunicação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Poderosa ferramenta de comunicação e de treinamento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Computador remoto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Utilizado na programação em pares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Quando alguém queria discutir ou revisar alguma parte do código utilizava-se o VNC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Forte ajuda da gesticulação com o mouse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4"/>
          <p:cNvSpPr/>
          <p:nvPr/>
        </p:nvSpPr>
        <p:spPr>
          <a:xfrm>
            <a:off x="3124080" y="6600960"/>
            <a:ext cx="28958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875d"/>
                </a:solidFill>
                <a:latin typeface="Trebuchet MS"/>
              </a:rPr>
              <a:t>Gerência de Comunic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rebuchet MS"/>
              </a:rPr>
              <a:t>Conclusões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Não se pode esperar que os participantes se comuniquem por si só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É de fundamental importância, a utilização de uma adequada comunicação para o sucess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E tal comunicação representa igualmente gerência de conhecimento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4"/>
          <p:cNvSpPr/>
          <p:nvPr/>
        </p:nvSpPr>
        <p:spPr>
          <a:xfrm>
            <a:off x="3124080" y="6600960"/>
            <a:ext cx="28958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875d"/>
                </a:solidFill>
                <a:latin typeface="Trebuchet MS"/>
              </a:rPr>
              <a:t>Gerência de Comunic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rebuchet MS"/>
              </a:rPr>
              <a:t>Perguntas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6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7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6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4"/>
          <p:cNvSpPr/>
          <p:nvPr/>
        </p:nvSpPr>
        <p:spPr>
          <a:xfrm>
            <a:off x="3124080" y="6600960"/>
            <a:ext cx="28958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875d"/>
                </a:solidFill>
                <a:latin typeface="Trebuchet MS"/>
              </a:rPr>
              <a:t>Gerência de Comunic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rebuchet MS"/>
              </a:rPr>
              <a:t>Referências Bibliográficas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PMBOK – </a:t>
            </a:r>
            <a:r>
              <a:rPr b="0" i="1" lang="pt-BR" sz="1800" spc="-1" strike="noStrike">
                <a:solidFill>
                  <a:srgbClr val="000000"/>
                </a:solidFill>
                <a:latin typeface="Trebuchet MS"/>
              </a:rPr>
              <a:t>A Guide to Project Management Body of Knowledge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. Third Edition, Project Management Institut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PMI-RIO. </a:t>
            </a:r>
            <a:r>
              <a:rPr b="0" i="1" lang="pt-BR" sz="1800" spc="-1" strike="noStrike">
                <a:solidFill>
                  <a:srgbClr val="000000"/>
                </a:solidFill>
                <a:latin typeface="Trebuchet MS"/>
              </a:rPr>
              <a:t>Estudo de Benchmarking em Gerenciamento de Projetos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, Brasil, 2006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VARGAS, R. </a:t>
            </a:r>
            <a:r>
              <a:rPr b="0" i="1" lang="pt-BR" sz="1800" spc="-1" strike="noStrike">
                <a:solidFill>
                  <a:srgbClr val="000000"/>
                </a:solidFill>
                <a:latin typeface="Trebuchet MS"/>
              </a:rPr>
              <a:t>Manual Prático do plano de projeto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. 2. ed. Rio de Janeiro: BRASPORT, 2005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Galvão, M. </a:t>
            </a:r>
            <a:r>
              <a:rPr b="0" i="1" lang="pt-BR" sz="1800" spc="-1" strike="noStrike">
                <a:solidFill>
                  <a:srgbClr val="000000"/>
                </a:solidFill>
                <a:latin typeface="Trebuchet MS"/>
              </a:rPr>
              <a:t>Planejamento de Comunicação em Projeto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, Mundo PM, n. 6, 2006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Wille, S. </a:t>
            </a:r>
            <a:r>
              <a:rPr b="0" i="1" lang="pt-BR" sz="1800" spc="-1" strike="noStrike">
                <a:solidFill>
                  <a:srgbClr val="000000"/>
                </a:solidFill>
                <a:latin typeface="Trebuchet MS"/>
              </a:rPr>
              <a:t>Gerenciamento das Comunicações no Gerenciamento das Comunicações no Projeto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, FAE BUSINESS , n.7, nov. 2003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ogan, B. 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Lessons Learned from an eXtremely Distributed Project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, IEEE, 2006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ZANONI, R. </a:t>
            </a:r>
            <a:r>
              <a:rPr b="0" i="1" lang="pt-BR" sz="1800" spc="-1" strike="noStrike">
                <a:solidFill>
                  <a:srgbClr val="000000"/>
                </a:solidFill>
                <a:latin typeface="Trebuchet MS"/>
              </a:rPr>
              <a:t>Modelo de Gerência de Projeto Baseado no PMI para Ambiente de Desenvolvimento de Software Fisicamente Distribuído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. Porto Alegre: PUCRS, 2002. Dissertação (Mestrado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4"/>
          <p:cNvSpPr/>
          <p:nvPr/>
        </p:nvSpPr>
        <p:spPr>
          <a:xfrm>
            <a:off x="3124080" y="6600960"/>
            <a:ext cx="28958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875d"/>
                </a:solidFill>
                <a:latin typeface="Trebuchet MS"/>
              </a:rPr>
              <a:t>Gerência de Comunic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rebuchet MS"/>
              </a:rPr>
              <a:t>Obrigado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A falta de informação gera especulação”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Cleyton Carvalh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3124080" y="6600960"/>
            <a:ext cx="28958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875d"/>
                </a:solidFill>
                <a:latin typeface="Trebuchet MS"/>
              </a:rPr>
              <a:t>Gerência de Comunic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rebuchet MS"/>
              </a:rPr>
              <a:t>Mercado Internacional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Pesquisa da PCI Global (Empresas Americanas)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Muitos membros das equipes não sabiam o que estava acontecendo no projeto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64% não sabiam se seus projetos estavam dentro ou fora do orçamento planejado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44% não sabiam se os projetos terminariam dentro do praz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BULL (fabricante de hardware e integradora)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57% dos casos de falhas em projetos é causada pela má comunicaçã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763080" y="6257880"/>
            <a:ext cx="140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Mundo PM, Nº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3124080" y="6600960"/>
            <a:ext cx="28958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875d"/>
                </a:solidFill>
                <a:latin typeface="Trebuchet MS"/>
              </a:rPr>
              <a:t>Gerência de Comunic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rebuchet MS"/>
              </a:rPr>
              <a:t>Mercado Nacional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1917000" y="4954680"/>
            <a:ext cx="533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7c875d"/>
                </a:solidFill>
                <a:latin typeface="Arial"/>
              </a:rPr>
              <a:t>Aspectos Considerados no Planejamento de Proje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2" descr="img7"/>
          <p:cNvPicPr/>
          <p:nvPr/>
        </p:nvPicPr>
        <p:blipFill>
          <a:blip r:embed="rId1"/>
          <a:stretch/>
        </p:blipFill>
        <p:spPr>
          <a:xfrm>
            <a:off x="976320" y="1827360"/>
            <a:ext cx="718992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600960"/>
            <a:ext cx="28958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875d"/>
                </a:solidFill>
                <a:latin typeface="Trebuchet MS"/>
              </a:rPr>
              <a:t>Gerência de Comunic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rebuchet MS"/>
              </a:rPr>
              <a:t>Mercado Nacional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8" name="Picture 6" descr="img6"/>
          <p:cNvPicPr/>
          <p:nvPr/>
        </p:nvPicPr>
        <p:blipFill>
          <a:blip r:embed="rId1"/>
          <a:stretch/>
        </p:blipFill>
        <p:spPr>
          <a:xfrm>
            <a:off x="1150920" y="1168560"/>
            <a:ext cx="7140600" cy="48686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7"/>
          <p:cNvSpPr/>
          <p:nvPr/>
        </p:nvSpPr>
        <p:spPr>
          <a:xfrm>
            <a:off x="2537280" y="6066000"/>
            <a:ext cx="488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7c875d"/>
                </a:solidFill>
                <a:latin typeface="Arial"/>
              </a:rPr>
              <a:t>Principais Problemas das Organizações dura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7c875d"/>
                </a:solidFill>
                <a:latin typeface="Arial"/>
              </a:rPr>
              <a:t>a Gerência dos seus Proje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7"/>
          <p:cNvSpPr/>
          <p:nvPr/>
        </p:nvSpPr>
        <p:spPr>
          <a:xfrm>
            <a:off x="3124080" y="6600960"/>
            <a:ext cx="28958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875d"/>
                </a:solidFill>
                <a:latin typeface="Trebuchet MS"/>
              </a:rPr>
              <a:t>Gerência de Comunic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rebuchet MS"/>
              </a:rPr>
              <a:t>Mercado Nacional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2" name="Picture 32" descr="img4"/>
          <p:cNvPicPr/>
          <p:nvPr/>
        </p:nvPicPr>
        <p:blipFill>
          <a:blip r:embed="rId1"/>
          <a:stretch/>
        </p:blipFill>
        <p:spPr>
          <a:xfrm>
            <a:off x="1892160" y="914400"/>
            <a:ext cx="5570640" cy="2489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3" descr="img5"/>
          <p:cNvPicPr/>
          <p:nvPr/>
        </p:nvPicPr>
        <p:blipFill>
          <a:blip r:embed="rId2"/>
          <a:stretch/>
        </p:blipFill>
        <p:spPr>
          <a:xfrm>
            <a:off x="1841400" y="3782880"/>
            <a:ext cx="5668920" cy="25448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4"/>
          <p:cNvSpPr/>
          <p:nvPr/>
        </p:nvSpPr>
        <p:spPr>
          <a:xfrm>
            <a:off x="2151720" y="3379680"/>
            <a:ext cx="501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7c875d"/>
                </a:solidFill>
                <a:latin typeface="Arial"/>
              </a:rPr>
              <a:t>Habilidades Valorizadas nos Gerentes de Proje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5"/>
          <p:cNvSpPr/>
          <p:nvPr/>
        </p:nvSpPr>
        <p:spPr>
          <a:xfrm>
            <a:off x="2278080" y="6291360"/>
            <a:ext cx="489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7c875d"/>
                </a:solidFill>
                <a:latin typeface="Arial"/>
              </a:rPr>
              <a:t>Principais Deficiências dos Gerentes de Proje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3124080" y="6600960"/>
            <a:ext cx="28958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875d"/>
                </a:solidFill>
                <a:latin typeface="Trebuchet MS"/>
              </a:rPr>
              <a:t>Gerência de Comunic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9736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rebuchet MS"/>
              </a:rPr>
              <a:t>Gerência de Comunicações (PMBOK)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124080" y="6600960"/>
            <a:ext cx="28958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875d"/>
                </a:solidFill>
                <a:latin typeface="Trebuchet MS"/>
              </a:rPr>
              <a:t>Gerência de Comunic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rebuchet MS"/>
              </a:rPr>
              <a:t>Gerência de Comunicações (PMBOK)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0" name="Picture 5" descr="PMBOK_GerenciamentoComunica"/>
          <p:cNvPicPr/>
          <p:nvPr/>
        </p:nvPicPr>
        <p:blipFill>
          <a:blip r:embed="rId1"/>
          <a:stretch/>
        </p:blipFill>
        <p:spPr>
          <a:xfrm>
            <a:off x="1565280" y="2571840"/>
            <a:ext cx="601200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18:48:58Z</dcterms:created>
  <dc:creator>Rene</dc:creator>
  <dc:description/>
  <cp:keywords/>
  <dc:language>en-US</dc:language>
  <cp:lastModifiedBy>Hermano Perrelli de Moura</cp:lastModifiedBy>
  <dcterms:modified xsi:type="dcterms:W3CDTF">2007-10-15T15:45:17Z</dcterms:modified>
  <cp:revision>387</cp:revision>
  <dc:subject/>
  <dc:title>NeoDatis ODB Banco de Dados Orientado a Objet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11046</vt:lpwstr>
  </property>
</Properties>
</file>