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834-E182-4767-80CB-3946FF9E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771-EDF3-4B14-8690-3124588D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745-5C0F-4973-BB00-1CD06FAE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FE6-DF4E-450D-BA41-007B6FD0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BE3F-CFD8-483C-A760-7C35C443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8713-5B03-44D3-AF9A-440DB993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78F-4F74-416C-A0FE-15394DA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4CE2-33FB-40A2-8D78-0869A213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4251-CD60-4685-B387-AB05A54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E686-3B85-48FB-915B-F6251C3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5196-AA2A-494A-B432-76CB8DF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1B1-859D-4D7E-AB3B-15A60AC6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936-1D52-4F59-834F-FAD1420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DF7-4DB7-4432-ACF7-24D3CFC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D88-0784-4B39-BC1A-912F432C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DD29-A341-4F25-A542-CEE7D70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4D09-5CCE-4619-B84D-AF5AE6EA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95AC1-EEF6-4069-8B76-73BAEEB0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F23A8-32E9-4E5C-B3A3-FB537C8B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92D6C-92C9-4013-B711-C8958E48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2D1BF-8529-483C-89C8-69CA2CC5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13814-D0B0-4B25-89EE-FC39E0D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F20-140A-40C7-A47B-D6077F57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098AE-CBFF-4871-8D8F-9FFC9C2D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FD37D-60A5-457F-98FF-73A15B6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4B4C7-F024-419A-8B25-FB4B3F1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59FDB-7BB2-4E39-A171-96EF385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0D56A-7993-44C0-9343-FF42E661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A7D0E-DD29-4244-A6AB-06635C7A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384AD-C63A-45BF-9E44-4BE5C238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EE0BF-2B28-42F8-AB1D-FCC7FC36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B5207-F26C-47D8-953D-F6F863DE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EC692-A66D-4219-8303-8510B8F8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16D-53EF-4AFA-A613-F636B718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E03C4-113E-467B-9F10-9A50795C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4F699-A75F-4F44-8676-ACE063BE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AEC47-E15A-4388-9866-44426274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E7896-2A8F-45D7-A40E-74F5FEB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663C1-0F09-4A95-9326-7308F271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EA3A6-D77E-4BE8-9E89-624434C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365C4-5DA1-43DC-8991-9C11C38C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3E3C3-A8B8-46C3-A2F8-B38DEA71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20C86-42F0-4C31-B680-EC437251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7ECED-976A-4664-B495-EE0A9955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6EB-E9EB-46BD-A37A-74E2364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130B1-39C5-488B-A0F2-5F2A6CCE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5468E-CC7D-4648-AABC-C43221F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504E5-1DD1-4DA6-8158-60645FC8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F8BF9-559A-4EC8-B9BB-783046B1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B23FF-BA37-4012-A1BA-CFB7DE0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D9639-791A-40B8-B08C-0FB4EDF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ADEFE-CCF8-4580-AFB7-63C585BC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011E9-CB38-40C2-B8FA-4DDA68F6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1A93A-36D6-4D15-95DF-D2EDA30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3953A-5207-4F58-83F0-BB9A079F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616-8293-480B-951C-956A6555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87ABF-4265-4EDE-B66D-FC26FCFC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1AC7-A869-4F7A-8703-4F1476B5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03CE-9F71-4F06-9504-70D38DF6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22F3-D816-4BB7-8898-8588511F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760C-EF35-4818-8299-C9945C7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8738-4B7C-4CED-8D2F-16EA6EAD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18FBD-D207-4656-8190-894728A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2C28-D9EA-45F3-870E-61B615E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0A6E-3649-41FA-B257-22561C5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BF5E-AAD1-422C-ABCB-E778B13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6D2-BB76-4ACA-B329-DC0F11D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7745-D46E-43A1-B41E-FCED5DFE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7200-0DAA-4BDA-B585-B5EC881F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8F27-17A6-4DAB-9815-A11A4F3F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88F9C-BE0E-4E82-8054-D6563DEA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C7767-1CB8-4980-998A-C202ADC9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7B20F-619C-4B01-AC74-FC727967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2112D-99BE-4714-8ECD-B436BF66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BE58C-B5BF-4FB3-9038-84386C47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56C0D-C3DE-462B-8029-78D3DB03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1D27F-9DF2-4E15-A938-FA46512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C6D-7DAE-456D-9E59-0D62D12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E36B4-7110-473B-9AE1-DADDC09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5FD21-EF07-476B-9CB4-F961404B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0FA81-604C-4F1C-ACA2-580B102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3E548-BED9-43A7-B950-5B208EAB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FA3A7-AC3D-4EF8-AB6D-0F0EBBBA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07DEF-663A-4411-A318-D413308B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8DDD-B716-4D86-82E6-C845EFE9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B98D-0917-4E09-9A39-92C60C12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2021-352B-4D0D-B145-545BF474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EB445-07DA-41AD-9776-52D4A486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1DF-0245-439A-AD97-3C56929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42960" y="428400"/>
            <a:ext cx="81532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6A8AD-29F7-43BE-967D-7E2CAC8D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6BFE3-BB5A-4283-A8B9-6D9FCCF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CF136-DE37-48BC-A8AC-C8A7006C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4A87-7F27-4434-921C-134DEC6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CCBEC-83B5-4F74-AD44-3FFA1DA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2853-6166-4886-806F-DC9FD532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665B-4EB5-47C6-95A1-B62B8407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4608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4608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37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921-5D87-4CC2-85A9-3669C309490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87D-49E3-4748-A96E-13776E253DDE}" type="slidenum">
              <a:rPr b="1" lang="pt-B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4FE0-25B7-4B60-BB3E-42687CA51783}" type="slidenum"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4608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4608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37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F47E-1969-4702-B088-DEA08D78856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4608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4608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37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E1C8-7328-4149-9D1D-66330CB6EF2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7548-93D4-4051-AC0F-2FDAC4BA55C9}" type="slidenum">
              <a:rPr b="1" lang="pt-B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E14A-3A2E-4982-A16D-3DFD14F5E01B}" type="slidenum"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E28-9810-457A-9269-4F7886D7C78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EQUIPES DE PROJETOS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ésar Franç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esarfranca@gmail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8760" y="1600200"/>
            <a:ext cx="455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Criar bons times é MUITO diferente de colocar só craque prá jogar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Conflitos são inevitáveis e podem ter um impacto negativo no projeto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4956120" y="1547640"/>
            <a:ext cx="3943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O que fazer?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tender que existem aspectos não-técnicos que influenciam positivamente/negativamente em proje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2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tender que as pessoas são diferen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2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tender as diferenças entre as pesso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57120" y="5572080"/>
            <a:ext cx="4245120" cy="82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Linotype"/>
              </a:rPr>
              <a:t>Utilizar a diversidade como vantagem competitiv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786200" y="5572080"/>
            <a:ext cx="3929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Linotype"/>
              </a:rPr>
              <a:t>Antecipar e resolver e evitar confl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gend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Times de Proje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étodos de Estudo de Perfis Pessoa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Aplicações e Resultados Prát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studando as Pessoa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gni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Método de aquisição de conhecimento, interpretação de informaçõ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alid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Maneira habitual de ser, carát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ortam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ções que podem ser observad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24" name="Grupo 6"/>
          <p:cNvGrpSpPr/>
          <p:nvPr/>
        </p:nvGrpSpPr>
        <p:grpSpPr>
          <a:xfrm>
            <a:off x="4357800" y="1785960"/>
            <a:ext cx="4519440" cy="2643120"/>
            <a:chOff x="4357800" y="1785960"/>
            <a:chExt cx="4519440" cy="2643120"/>
          </a:xfrm>
        </p:grpSpPr>
        <p:sp>
          <p:nvSpPr>
            <p:cNvPr id="425" name="Nuvem 4"/>
            <p:cNvSpPr/>
            <p:nvPr/>
          </p:nvSpPr>
          <p:spPr>
            <a:xfrm>
              <a:off x="4357800" y="1928520"/>
              <a:ext cx="4519440" cy="2500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6" name="Rectangle 5"/>
            <p:cNvSpPr/>
            <p:nvPr/>
          </p:nvSpPr>
          <p:spPr>
            <a:xfrm>
              <a:off x="5072040" y="1785960"/>
              <a:ext cx="3500280" cy="26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4617b"/>
                  </a:solidFill>
                  <a:latin typeface="Tw Cen MT"/>
                </a:rPr>
                <a:t>Diferentes tipos de pessoas irão interagir de maneiras diferentes.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7" name="Grupo 7"/>
          <p:cNvGrpSpPr/>
          <p:nvPr/>
        </p:nvGrpSpPr>
        <p:grpSpPr>
          <a:xfrm>
            <a:off x="4357800" y="1714680"/>
            <a:ext cx="4786200" cy="2714400"/>
            <a:chOff x="4357800" y="1714680"/>
            <a:chExt cx="4786200" cy="2714400"/>
          </a:xfrm>
        </p:grpSpPr>
        <p:sp>
          <p:nvSpPr>
            <p:cNvPr id="428" name="Nuvem 8"/>
            <p:cNvSpPr/>
            <p:nvPr/>
          </p:nvSpPr>
          <p:spPr>
            <a:xfrm>
              <a:off x="4357800" y="1714680"/>
              <a:ext cx="4643640" cy="27144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9" name="Rectangle 7"/>
            <p:cNvSpPr/>
            <p:nvPr/>
          </p:nvSpPr>
          <p:spPr>
            <a:xfrm>
              <a:off x="4572000" y="2000160"/>
              <a:ext cx="4572000" cy="22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4617b"/>
                  </a:solidFill>
                  <a:latin typeface="Tw Cen MT"/>
                </a:rPr>
                <a:t>Entender como cada perfil "funciona" ajuda a formar times mais capacitados e evita a criação de times mal desenhados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studando as Pessoa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gni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Método de aquisição de conhecimento, interpretação de informaçõ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Personalid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Maneira habitual de ser, carát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Comportam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Ações que podem ser observad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2" name="Grupo 4"/>
          <p:cNvGrpSpPr/>
          <p:nvPr/>
        </p:nvGrpSpPr>
        <p:grpSpPr>
          <a:xfrm>
            <a:off x="4357800" y="1285920"/>
            <a:ext cx="4786200" cy="2714760"/>
            <a:chOff x="4357800" y="1285920"/>
            <a:chExt cx="4786200" cy="2714760"/>
          </a:xfrm>
        </p:grpSpPr>
        <p:sp>
          <p:nvSpPr>
            <p:cNvPr id="433" name="Nuvem 5"/>
            <p:cNvSpPr/>
            <p:nvPr/>
          </p:nvSpPr>
          <p:spPr>
            <a:xfrm>
              <a:off x="4357800" y="1285920"/>
              <a:ext cx="4643640" cy="2714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4572000" y="1571400"/>
              <a:ext cx="4572000" cy="22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4617b"/>
                  </a:solidFill>
                  <a:latin typeface="Tw Cen MT"/>
                </a:rPr>
                <a:t>Utilizado 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4617b"/>
                  </a:solidFill>
                  <a:latin typeface="Tw Cen MT"/>
                </a:rPr>
                <a:t>em estudos de interação Usuário/Máquina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17b"/>
                  </a:solidFill>
                  <a:latin typeface="Tw Cen MT"/>
                </a:rPr>
                <a:t>(Teoria da atividade, Etnografia, etc.)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studando as Pessoa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Cogni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Método de aquisição de conhecimento, interpretação de informaçõ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alid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Maneira habitual de ser, carát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ortam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ções que podem ser observad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7" name="Grupo 3"/>
          <p:cNvGrpSpPr/>
          <p:nvPr/>
        </p:nvGrpSpPr>
        <p:grpSpPr>
          <a:xfrm>
            <a:off x="4143240" y="2714760"/>
            <a:ext cx="4786560" cy="2714400"/>
            <a:chOff x="4143240" y="2714760"/>
            <a:chExt cx="4786560" cy="2714400"/>
          </a:xfrm>
        </p:grpSpPr>
        <p:sp>
          <p:nvSpPr>
            <p:cNvPr id="438" name="Nuvem 4"/>
            <p:cNvSpPr/>
            <p:nvPr/>
          </p:nvSpPr>
          <p:spPr>
            <a:xfrm>
              <a:off x="4143240" y="2714760"/>
              <a:ext cx="4644000" cy="27144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9" name="Rectangle 7"/>
            <p:cNvSpPr/>
            <p:nvPr/>
          </p:nvSpPr>
          <p:spPr>
            <a:xfrm>
              <a:off x="4357440" y="3000240"/>
              <a:ext cx="4572360" cy="22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17b"/>
                  </a:solidFill>
                  <a:latin typeface="Tw Cen MT"/>
                </a:rPr>
                <a:t>Como lidar com as Pessoas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40" name="Grupo 6"/>
          <p:cNvGrpSpPr/>
          <p:nvPr/>
        </p:nvGrpSpPr>
        <p:grpSpPr>
          <a:xfrm>
            <a:off x="4214880" y="2786040"/>
            <a:ext cx="4786200" cy="2714760"/>
            <a:chOff x="4214880" y="2786040"/>
            <a:chExt cx="4786200" cy="2714760"/>
          </a:xfrm>
        </p:grpSpPr>
        <p:sp>
          <p:nvSpPr>
            <p:cNvPr id="441" name="Nuvem 7"/>
            <p:cNvSpPr/>
            <p:nvPr/>
          </p:nvSpPr>
          <p:spPr>
            <a:xfrm>
              <a:off x="4214880" y="2786040"/>
              <a:ext cx="4643640" cy="2714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4429080" y="3071520"/>
              <a:ext cx="4572000" cy="22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17b"/>
                  </a:solidFill>
                  <a:latin typeface="Tw Cen MT"/>
                </a:rPr>
                <a:t>Perfis de Liderança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43" name="Grupo 9"/>
          <p:cNvGrpSpPr/>
          <p:nvPr/>
        </p:nvGrpSpPr>
        <p:grpSpPr>
          <a:xfrm>
            <a:off x="4071960" y="2643120"/>
            <a:ext cx="4786200" cy="2714760"/>
            <a:chOff x="4071960" y="2643120"/>
            <a:chExt cx="4786200" cy="2714760"/>
          </a:xfrm>
        </p:grpSpPr>
        <p:sp>
          <p:nvSpPr>
            <p:cNvPr id="444" name="Nuvem 10"/>
            <p:cNvSpPr/>
            <p:nvPr/>
          </p:nvSpPr>
          <p:spPr>
            <a:xfrm>
              <a:off x="4071960" y="2643120"/>
              <a:ext cx="4643640" cy="2714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5" name="Rectangle 7"/>
            <p:cNvSpPr/>
            <p:nvPr/>
          </p:nvSpPr>
          <p:spPr>
            <a:xfrm>
              <a:off x="4286160" y="2928600"/>
              <a:ext cx="4572000" cy="22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17b"/>
                  </a:solidFill>
                  <a:latin typeface="Tw Cen MT"/>
                </a:rPr>
                <a:t>Desenvolvimento de Competências para gerenciamento e liderança de equipes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46" name="Grupo 15"/>
          <p:cNvGrpSpPr/>
          <p:nvPr/>
        </p:nvGrpSpPr>
        <p:grpSpPr>
          <a:xfrm>
            <a:off x="4214880" y="2571840"/>
            <a:ext cx="4786200" cy="2714400"/>
            <a:chOff x="4214880" y="2571840"/>
            <a:chExt cx="4786200" cy="2714400"/>
          </a:xfrm>
        </p:grpSpPr>
        <p:sp>
          <p:nvSpPr>
            <p:cNvPr id="447" name="Nuvem 16"/>
            <p:cNvSpPr/>
            <p:nvPr/>
          </p:nvSpPr>
          <p:spPr>
            <a:xfrm>
              <a:off x="4214880" y="2571840"/>
              <a:ext cx="4643640" cy="27144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4429080" y="2857320"/>
              <a:ext cx="4572000" cy="22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17b"/>
                  </a:solidFill>
                  <a:latin typeface="Tw Cen MT"/>
                </a:rPr>
                <a:t>Contratação de Pessoas e construção de equipes eficientes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studando as Pessoa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Cogni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Método de aquisição de conhecimento, interpretação de informaçõ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alid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Maneira habitual de ser, carát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Comportam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Ações que podem ser observad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sonalidad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yers-Brigs Type Indicator (MBT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Conector reto 4"/>
          <p:cNvSpPr/>
          <p:nvPr/>
        </p:nvSpPr>
        <p:spPr>
          <a:xfrm>
            <a:off x="3428280" y="2919240"/>
            <a:ext cx="500040" cy="3224520"/>
          </a:xfrm>
          <a:prstGeom prst="line">
            <a:avLst/>
          </a:prstGeom>
          <a:ln w="10080">
            <a:solidFill>
              <a:srgbClr val="0f6f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Conector reto 6"/>
          <p:cNvSpPr/>
          <p:nvPr/>
        </p:nvSpPr>
        <p:spPr>
          <a:xfrm>
            <a:off x="1571760" y="3990960"/>
            <a:ext cx="2357280" cy="2152800"/>
          </a:xfrm>
          <a:prstGeom prst="line">
            <a:avLst/>
          </a:prstGeom>
          <a:ln w="10080">
            <a:solidFill>
              <a:srgbClr val="0f6f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Título 1"/>
          <p:cNvSpPr/>
          <p:nvPr/>
        </p:nvSpPr>
        <p:spPr>
          <a:xfrm>
            <a:off x="1928880" y="2500200"/>
            <a:ext cx="3000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Interação com o mundo (Extroversão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Título 1"/>
          <p:cNvSpPr/>
          <p:nvPr/>
        </p:nvSpPr>
        <p:spPr>
          <a:xfrm>
            <a:off x="214200" y="3357720"/>
            <a:ext cx="2714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Tomada d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Decis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Título 1"/>
          <p:cNvSpPr/>
          <p:nvPr/>
        </p:nvSpPr>
        <p:spPr>
          <a:xfrm>
            <a:off x="4214880" y="3071880"/>
            <a:ext cx="30002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Percepção e Assimilação de Informa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Conector reto 17"/>
          <p:cNvSpPr/>
          <p:nvPr/>
        </p:nvSpPr>
        <p:spPr>
          <a:xfrm flipH="1">
            <a:off x="3928680" y="3848040"/>
            <a:ext cx="1785960" cy="2295720"/>
          </a:xfrm>
          <a:prstGeom prst="line">
            <a:avLst/>
          </a:prstGeom>
          <a:ln w="10080">
            <a:solidFill>
              <a:srgbClr val="0f6f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Título 1"/>
          <p:cNvSpPr/>
          <p:nvPr/>
        </p:nvSpPr>
        <p:spPr>
          <a:xfrm>
            <a:off x="2571840" y="6143760"/>
            <a:ext cx="2714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w Cen MT"/>
              </a:rPr>
              <a:t>MBTI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Título 1"/>
          <p:cNvSpPr/>
          <p:nvPr/>
        </p:nvSpPr>
        <p:spPr>
          <a:xfrm>
            <a:off x="6143760" y="4143240"/>
            <a:ext cx="30002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w Cen MT"/>
              </a:rPr>
              <a:t>Organização pesso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Conector reto 32"/>
          <p:cNvSpPr/>
          <p:nvPr/>
        </p:nvSpPr>
        <p:spPr>
          <a:xfrm flipH="1">
            <a:off x="3928680" y="4562640"/>
            <a:ext cx="3714840" cy="1581120"/>
          </a:xfrm>
          <a:prstGeom prst="line">
            <a:avLst/>
          </a:prstGeom>
          <a:ln w="10080">
            <a:solidFill>
              <a:srgbClr val="0f6f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CaixaDeTexto 14"/>
          <p:cNvSpPr/>
          <p:nvPr/>
        </p:nvSpPr>
        <p:spPr>
          <a:xfrm>
            <a:off x="5500800" y="2071800"/>
            <a:ext cx="2143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4617b"/>
                </a:solidFill>
                <a:latin typeface="Tw Cen MT"/>
              </a:rPr>
              <a:t>[Briggs, Isabel Myers. 1993.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xplicando o MBTI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6000840" cy="5352840"/>
          </a:xfrm>
          <a:prstGeom prst="rect">
            <a:avLst/>
          </a:prstGeom>
          <a:ln w="0">
            <a:noFill/>
          </a:ln>
        </p:spPr>
      </p:pic>
      <p:grpSp>
        <p:nvGrpSpPr>
          <p:cNvPr id="465" name="Grupo 4"/>
          <p:cNvGrpSpPr/>
          <p:nvPr/>
        </p:nvGrpSpPr>
        <p:grpSpPr>
          <a:xfrm>
            <a:off x="0" y="714240"/>
            <a:ext cx="4786200" cy="3357720"/>
            <a:chOff x="0" y="714240"/>
            <a:chExt cx="4786200" cy="3357720"/>
          </a:xfrm>
        </p:grpSpPr>
        <p:sp>
          <p:nvSpPr>
            <p:cNvPr id="466" name="Nuvem 5"/>
            <p:cNvSpPr/>
            <p:nvPr/>
          </p:nvSpPr>
          <p:spPr>
            <a:xfrm>
              <a:off x="0" y="714240"/>
              <a:ext cx="4643640" cy="3357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7" name="Rectangle 7"/>
            <p:cNvSpPr/>
            <p:nvPr/>
          </p:nvSpPr>
          <p:spPr>
            <a:xfrm>
              <a:off x="214200" y="1067400"/>
              <a:ext cx="4572000" cy="27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4617b"/>
                  </a:solidFill>
                  <a:latin typeface="Tw Cen MT"/>
                </a:rPr>
                <a:t>ISTJ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      </a:t>
              </a: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O mais importante para o ISTJ é: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   </a:t>
              </a: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estar em serviço, trabalhar duro, e ser responsável.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Para se comunicar com este tipo: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esteja preparado e apresente as idéias seqüencialmente; dê a ele um pouco de tempo para se adaptar às mudanças; realce os benefícios práticos.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Contribuições para a Organização: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Realiza tarefas rapidamente e dentro do prazo; trabalha bem dentro das estruturas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     </a:t>
              </a: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organizacionais.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68" name="Grupo 10"/>
          <p:cNvGrpSpPr/>
          <p:nvPr/>
        </p:nvGrpSpPr>
        <p:grpSpPr>
          <a:xfrm>
            <a:off x="4357800" y="3071880"/>
            <a:ext cx="4786200" cy="3786120"/>
            <a:chOff x="4357800" y="3071880"/>
            <a:chExt cx="4786200" cy="3786120"/>
          </a:xfrm>
        </p:grpSpPr>
        <p:sp>
          <p:nvSpPr>
            <p:cNvPr id="469" name="Nuvem 11"/>
            <p:cNvSpPr/>
            <p:nvPr/>
          </p:nvSpPr>
          <p:spPr>
            <a:xfrm>
              <a:off x="4357800" y="3071880"/>
              <a:ext cx="4643640" cy="37861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4572000" y="3470400"/>
              <a:ext cx="4572000" cy="31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4617b"/>
                  </a:solidFill>
                  <a:latin typeface="Tw Cen MT"/>
                </a:rPr>
                <a:t>ENFP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      </a:t>
              </a: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O mais importante para o ENFP é: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   </a:t>
              </a: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a liberdade para ver possibilidades, fazer conexões, e estar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    </a:t>
              </a: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com uma variedade de pessoas.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Para se comunicar com este tipo: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foque em possibilidades de inovação e interesse, e em novas formas de resolver problemas; não oprima o ENFP com fatos e detalhes; seja flexível, relaxe.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0000"/>
                  </a:solidFill>
                  <a:latin typeface="Tw Cen MT"/>
                </a:rPr>
                <a:t>Contribuições para a Organização: 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Tw Cen MT"/>
                </a:rPr>
                <a:t>Inicia mudanças; origina projetos e ações.</a:t>
              </a: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sonalidades e Lideranç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ilos de Liderança e MB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Explorer: O líder empreended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Driver: O líder pragmátic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Coordinator: O líder facilitad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Administrador: O líder administrad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6064200" cy="4514760"/>
          </a:xfrm>
          <a:prstGeom prst="rect">
            <a:avLst/>
          </a:prstGeom>
          <a:ln w="0">
            <a:noFill/>
          </a:ln>
        </p:spPr>
      </p:pic>
      <p:sp>
        <p:nvSpPr>
          <p:cNvPr id="474" name="CaixaDeTexto 6"/>
          <p:cNvSpPr/>
          <p:nvPr/>
        </p:nvSpPr>
        <p:spPr>
          <a:xfrm>
            <a:off x="4143240" y="2000160"/>
            <a:ext cx="2143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4617b"/>
                </a:solidFill>
                <a:latin typeface="Tw Cen MT"/>
              </a:rPr>
              <a:t>[Wideman, Max,1996.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Quantos aqui já trabalharam em projetos qu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l os principais motivo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Nuvem 8"/>
          <p:cNvSpPr/>
          <p:nvPr/>
        </p:nvSpPr>
        <p:spPr>
          <a:xfrm>
            <a:off x="785880" y="3143160"/>
            <a:ext cx="3357360" cy="18576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quipes de Projeto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5" name="Retângulo 3"/>
          <p:cNvSpPr/>
          <p:nvPr/>
        </p:nvSpPr>
        <p:spPr>
          <a:xfrm>
            <a:off x="928800" y="364320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4617b"/>
                </a:solidFill>
                <a:latin typeface="Tw Cen MT"/>
              </a:rPr>
              <a:t>Terminaram com Sucesso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Nuvem 11"/>
          <p:cNvSpPr/>
          <p:nvPr/>
        </p:nvSpPr>
        <p:spPr>
          <a:xfrm>
            <a:off x="4500720" y="3143160"/>
            <a:ext cx="3357360" cy="18576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Retângulo 12"/>
          <p:cNvSpPr/>
          <p:nvPr/>
        </p:nvSpPr>
        <p:spPr>
          <a:xfrm>
            <a:off x="4643280" y="3643200"/>
            <a:ext cx="32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w Cen MT"/>
              </a:rPr>
              <a:t>Terminaram com Fracasso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studando as Pessoa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Cogni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Método de aquisição de conhecimento, interpretação de informaçõ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Personalid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d9d9d9"/>
                </a:solidFill>
                <a:latin typeface="Tw Cen MT"/>
              </a:rPr>
              <a:t>Maneira habitual de ser, carát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ortam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ções que podem ser observad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12720" y="14288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f-Perception Inventor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São apresentados 8 perfis que descrevem (ou pelo menos tentam descrever) </a:t>
            </a:r>
            <a:r>
              <a:rPr b="1" lang="pt-BR" sz="2400" spc="-1" strike="noStrike" u="sng">
                <a:solidFill>
                  <a:srgbClr val="083763"/>
                </a:solidFill>
                <a:uFillTx/>
                <a:latin typeface="Tw Cen MT"/>
              </a:rPr>
              <a:t>como um indivíduo se comporta em situações de trabalho em equipe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acterísticas Poisitvas para o trabalho em equi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763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83763"/>
                </a:solidFill>
                <a:latin typeface="Tw Cen MT"/>
              </a:rPr>
              <a:t>Devem ser ressaltadas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agilizades ou Fraqueza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763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83763"/>
                </a:solidFill>
                <a:latin typeface="Tw Cen MT"/>
              </a:rPr>
              <a:t>Devem ser tratadas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CaixaDeTexto 3"/>
          <p:cNvSpPr/>
          <p:nvPr/>
        </p:nvSpPr>
        <p:spPr>
          <a:xfrm>
            <a:off x="3286080" y="1785960"/>
            <a:ext cx="2143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4617b"/>
                </a:solidFill>
                <a:latin typeface="Tw Cen MT"/>
              </a:rPr>
              <a:t>[Meredith R. Belbin 1981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ap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157176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3" name="Rectangle 4"/>
          <p:cNvSpPr/>
          <p:nvPr/>
        </p:nvSpPr>
        <p:spPr>
          <a:xfrm>
            <a:off x="4857840" y="1714680"/>
            <a:ext cx="360180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esafiador, dinâmico, trabalha bem sob pressão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19280" y="3500280"/>
            <a:ext cx="360216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antém iniciativa e corag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ara superar obstáculo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4929120" y="4357800"/>
            <a:ext cx="3780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penso a provocaçõ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57680" y="4929120"/>
            <a:ext cx="3779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fende os sentimentos alheio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233880" y="2643120"/>
            <a:ext cx="347112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odifica o ponto de equilíbrio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 desafia a inér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891720" y="5929200"/>
            <a:ext cx="2713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mpaciente e explosiv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rdin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4879440" y="2000160"/>
            <a:ext cx="279144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aduro, autoconfiante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ntrolado e bom líder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688840" y="3071880"/>
            <a:ext cx="2745720" cy="119124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or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enso de objetivo, to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ecisões, delega b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s taref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5143680" y="4857840"/>
            <a:ext cx="352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de ser considerad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anipulado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000240" y="5857920"/>
            <a:ext cx="3529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obrecarregado 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rabalho pesso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401760" y="4500720"/>
            <a:ext cx="349236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Utiliza as capacidades do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grupo para atingir os objetiv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rcRect l="0" t="4718" r="0" b="0"/>
          <a:stretch/>
        </p:blipFill>
        <p:spPr>
          <a:xfrm>
            <a:off x="285840" y="1285920"/>
            <a:ext cx="1682640" cy="14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ource-Investig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4586" b="9417"/>
          <a:stretch/>
        </p:blipFill>
        <p:spPr>
          <a:xfrm>
            <a:off x="500040" y="1500120"/>
            <a:ext cx="1714680" cy="10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0" name="Rectangle 4"/>
          <p:cNvSpPr/>
          <p:nvPr/>
        </p:nvSpPr>
        <p:spPr>
          <a:xfrm>
            <a:off x="2735280" y="3500280"/>
            <a:ext cx="383832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trovertido, curioso, entusiasta 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municativ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6119280" y="2357280"/>
            <a:ext cx="182664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plor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portunidad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592200" y="4786200"/>
            <a:ext cx="3455640" cy="36828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ociável, Desenvolve contato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6306480" y="4929120"/>
            <a:ext cx="1864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uper otimist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148280" y="5721480"/>
            <a:ext cx="28476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erde 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nteresse assim que 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ntusiasmo inicial pass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1931760" cy="12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8" name="Rectangle 4"/>
          <p:cNvSpPr/>
          <p:nvPr/>
        </p:nvSpPr>
        <p:spPr>
          <a:xfrm>
            <a:off x="5072040" y="2428920"/>
            <a:ext cx="309708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riativo, imaginativo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não-convencion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2428920" y="3429000"/>
            <a:ext cx="309708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abilidade em resolv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blemas difícei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000240" y="6143760"/>
            <a:ext cx="3203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gnora incidente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5429160" y="4786200"/>
            <a:ext cx="3203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ficuldade para comunicar-se efetivamen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2960" y="4643280"/>
            <a:ext cx="338436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ndividualista, não ortodoxo e focad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ter-Finis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rcRect l="0" t="5922" r="4739" b="0"/>
          <a:stretch/>
        </p:blipFill>
        <p:spPr>
          <a:xfrm>
            <a:off x="357120" y="1500120"/>
            <a:ext cx="1785960" cy="113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Rectangle 4"/>
          <p:cNvSpPr/>
          <p:nvPr/>
        </p:nvSpPr>
        <p:spPr>
          <a:xfrm>
            <a:off x="500040" y="4714920"/>
            <a:ext cx="280836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uidadoso, consciente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nsioso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5214960" y="2428920"/>
            <a:ext cx="280836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cura p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rros e omissõ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714760" y="3500280"/>
            <a:ext cx="280800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ntrega o trabalho n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empo corret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714840" y="5929200"/>
            <a:ext cx="2808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ende a se preocup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cessivament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5643720" y="4643280"/>
            <a:ext cx="280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lutante em deleg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ref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lemen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rcRect l="0" t="0" r="4708" b="0"/>
          <a:stretch/>
        </p:blipFill>
        <p:spPr>
          <a:xfrm>
            <a:off x="571680" y="1500120"/>
            <a:ext cx="157140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4" name="Rectangle 4"/>
          <p:cNvSpPr/>
          <p:nvPr/>
        </p:nvSpPr>
        <p:spPr>
          <a:xfrm>
            <a:off x="2571840" y="3214800"/>
            <a:ext cx="424800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isciplinado, confiável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nservador e eficient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428760" y="4214880"/>
            <a:ext cx="424800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ransforma idéias 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çõ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4572000" y="5072040"/>
            <a:ext cx="424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Um pouco inflexíve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2428920" y="5786280"/>
            <a:ext cx="424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evagar em responder 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novas possibilidade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5117400" y="2071800"/>
            <a:ext cx="356400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w Cen MT"/>
              </a:rPr>
              <a:t>Em geral, assume postos d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w Cen MT"/>
              </a:rPr>
              <a:t>chefia em grandes corporaçõ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m Work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0" r="0" b="5335"/>
          <a:stretch/>
        </p:blipFill>
        <p:spPr>
          <a:xfrm>
            <a:off x="500040" y="1428840"/>
            <a:ext cx="1628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2" name="Rectangle 4"/>
          <p:cNvSpPr/>
          <p:nvPr/>
        </p:nvSpPr>
        <p:spPr>
          <a:xfrm>
            <a:off x="5214960" y="2071800"/>
            <a:ext cx="3166920" cy="91692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operativo, moderado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erceptivo 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iplomático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3429000" y="3357720"/>
            <a:ext cx="316692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uve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ecuta, evita atrito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5143680" y="5357880"/>
            <a:ext cx="31669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ndeciso em situaçõ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ecisiv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500040" y="4429080"/>
            <a:ext cx="388764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ocialmente orientado, sensível e calm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itor Evalu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1719360" cy="13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9" name="Rectangle 4"/>
          <p:cNvSpPr/>
          <p:nvPr/>
        </p:nvSpPr>
        <p:spPr>
          <a:xfrm>
            <a:off x="3286080" y="3714840"/>
            <a:ext cx="298944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óbrio, estratégico 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bservador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214280" y="4643280"/>
            <a:ext cx="298944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nxerg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odas as opçõe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429160" y="2857680"/>
            <a:ext cx="2989440" cy="642600"/>
          </a:xfrm>
          <a:prstGeom prst="rect">
            <a:avLst/>
          </a:prstGeom>
          <a:solidFill>
            <a:srgbClr val="0837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Julg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m primo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929120" y="5429160"/>
            <a:ext cx="298944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alta iniciativa 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abilidade para inspir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utras pesso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liás…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 que projetos sã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envolvidos em equip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00040" y="3214800"/>
            <a:ext cx="3500640" cy="2744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379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44" name="Título 1"/>
          <p:cNvSpPr/>
          <p:nvPr/>
        </p:nvSpPr>
        <p:spPr>
          <a:xfrm>
            <a:off x="2500200" y="1428840"/>
            <a:ext cx="221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Orientados à A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Título 1"/>
          <p:cNvSpPr/>
          <p:nvPr/>
        </p:nvSpPr>
        <p:spPr>
          <a:xfrm>
            <a:off x="4572000" y="1428840"/>
            <a:ext cx="2071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Orientados à Pesso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Título 1"/>
          <p:cNvSpPr/>
          <p:nvPr/>
        </p:nvSpPr>
        <p:spPr>
          <a:xfrm>
            <a:off x="6643800" y="1428840"/>
            <a:ext cx="16430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Perfis Cerebra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Título 1"/>
          <p:cNvSpPr/>
          <p:nvPr/>
        </p:nvSpPr>
        <p:spPr>
          <a:xfrm>
            <a:off x="0" y="2286000"/>
            <a:ext cx="221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Lideranç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Título 1"/>
          <p:cNvSpPr/>
          <p:nvPr/>
        </p:nvSpPr>
        <p:spPr>
          <a:xfrm>
            <a:off x="0" y="3929040"/>
            <a:ext cx="2214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Criativida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Título 1"/>
          <p:cNvSpPr/>
          <p:nvPr/>
        </p:nvSpPr>
        <p:spPr>
          <a:xfrm>
            <a:off x="0" y="5143680"/>
            <a:ext cx="221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Execu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Conector reto 10"/>
          <p:cNvSpPr/>
          <p:nvPr/>
        </p:nvSpPr>
        <p:spPr>
          <a:xfrm flipH="1">
            <a:off x="4498560" y="2286000"/>
            <a:ext cx="1800" cy="40734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Conector reto 12"/>
          <p:cNvSpPr/>
          <p:nvPr/>
        </p:nvSpPr>
        <p:spPr>
          <a:xfrm flipH="1">
            <a:off x="6428880" y="2214720"/>
            <a:ext cx="1800" cy="421632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Conector reto 13"/>
          <p:cNvSpPr/>
          <p:nvPr/>
        </p:nvSpPr>
        <p:spPr>
          <a:xfrm flipH="1">
            <a:off x="8572680" y="2214720"/>
            <a:ext cx="1440" cy="421632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Conector reto 14"/>
          <p:cNvSpPr/>
          <p:nvPr/>
        </p:nvSpPr>
        <p:spPr>
          <a:xfrm flipH="1">
            <a:off x="2428920" y="2286000"/>
            <a:ext cx="1440" cy="40734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Conector reto 15"/>
          <p:cNvSpPr/>
          <p:nvPr/>
        </p:nvSpPr>
        <p:spPr>
          <a:xfrm>
            <a:off x="2214720" y="2357280"/>
            <a:ext cx="6715080" cy="18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Conector reto 23"/>
          <p:cNvSpPr/>
          <p:nvPr/>
        </p:nvSpPr>
        <p:spPr>
          <a:xfrm>
            <a:off x="2214720" y="3500280"/>
            <a:ext cx="6715080" cy="18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Conector reto 25"/>
          <p:cNvSpPr/>
          <p:nvPr/>
        </p:nvSpPr>
        <p:spPr>
          <a:xfrm>
            <a:off x="2214720" y="4786200"/>
            <a:ext cx="6715080" cy="18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Conector reto 27"/>
          <p:cNvSpPr/>
          <p:nvPr/>
        </p:nvSpPr>
        <p:spPr>
          <a:xfrm>
            <a:off x="2214720" y="6000840"/>
            <a:ext cx="6715080" cy="144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2928960" y="2571840"/>
            <a:ext cx="107172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9" name="Picture 3" descr=""/>
          <p:cNvPicPr/>
          <p:nvPr/>
        </p:nvPicPr>
        <p:blipFill>
          <a:blip r:embed="rId2"/>
          <a:srcRect l="0" t="4718" r="0" b="0"/>
          <a:stretch/>
        </p:blipFill>
        <p:spPr>
          <a:xfrm>
            <a:off x="5072040" y="2643120"/>
            <a:ext cx="857160" cy="73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0" name="Picture 3" descr=""/>
          <p:cNvPicPr/>
          <p:nvPr/>
        </p:nvPicPr>
        <p:blipFill>
          <a:blip r:embed="rId3"/>
          <a:srcRect l="0" t="0" r="4586" b="9417"/>
          <a:stretch/>
        </p:blipFill>
        <p:spPr>
          <a:xfrm>
            <a:off x="5000760" y="3786120"/>
            <a:ext cx="1071360" cy="6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1" name="Picture 3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1214640" cy="79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2" name="Picture 3" descr=""/>
          <p:cNvPicPr/>
          <p:nvPr/>
        </p:nvPicPr>
        <p:blipFill>
          <a:blip r:embed="rId5"/>
          <a:srcRect l="0" t="5922" r="4739" b="0"/>
          <a:stretch/>
        </p:blipFill>
        <p:spPr>
          <a:xfrm>
            <a:off x="2500200" y="4857840"/>
            <a:ext cx="1143000" cy="73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3" name="Picture 3" descr=""/>
          <p:cNvPicPr/>
          <p:nvPr/>
        </p:nvPicPr>
        <p:blipFill>
          <a:blip r:embed="rId6"/>
          <a:srcRect l="0" t="0" r="4708" b="0"/>
          <a:stretch/>
        </p:blipFill>
        <p:spPr>
          <a:xfrm>
            <a:off x="3429000" y="5357880"/>
            <a:ext cx="1000080" cy="78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4" name="Picture 3" descr=""/>
          <p:cNvPicPr/>
          <p:nvPr/>
        </p:nvPicPr>
        <p:blipFill>
          <a:blip r:embed="rId7"/>
          <a:srcRect l="0" t="0" r="0" b="5335"/>
          <a:stretch/>
        </p:blipFill>
        <p:spPr>
          <a:xfrm>
            <a:off x="4857840" y="5000760"/>
            <a:ext cx="1071360" cy="7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5" name="Picture 3" descr=""/>
          <p:cNvPicPr/>
          <p:nvPr/>
        </p:nvPicPr>
        <p:blipFill>
          <a:blip r:embed="rId8"/>
          <a:stretch/>
        </p:blipFill>
        <p:spPr>
          <a:xfrm>
            <a:off x="6500880" y="4857840"/>
            <a:ext cx="1071360" cy="81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66" name="Grupo 37"/>
          <p:cNvGrpSpPr/>
          <p:nvPr/>
        </p:nvGrpSpPr>
        <p:grpSpPr>
          <a:xfrm>
            <a:off x="6786720" y="5357880"/>
            <a:ext cx="2143080" cy="1285920"/>
            <a:chOff x="6786720" y="5357880"/>
            <a:chExt cx="2143080" cy="1285920"/>
          </a:xfrm>
        </p:grpSpPr>
        <p:pic>
          <p:nvPicPr>
            <p:cNvPr id="567" name="Picture 3" descr=""/>
            <p:cNvPicPr/>
            <p:nvPr/>
          </p:nvPicPr>
          <p:blipFill>
            <a:blip r:embed="rId9"/>
            <a:stretch/>
          </p:blipFill>
          <p:spPr>
            <a:xfrm>
              <a:off x="7224840" y="5357880"/>
              <a:ext cx="170496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CaixaDeTexto 36"/>
            <p:cNvSpPr/>
            <p:nvPr/>
          </p:nvSpPr>
          <p:spPr>
            <a:xfrm>
              <a:off x="6786720" y="6334920"/>
              <a:ext cx="21182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4617b"/>
                  </a:solidFill>
                  <a:latin typeface="Tw Cen MT"/>
                </a:rPr>
                <a:t>[Meredith R. Belbin 1999]</a:t>
              </a:r>
              <a:endParaRPr b="0" lang="en-US" sz="11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Título 1"/>
          <p:cNvSpPr/>
          <p:nvPr/>
        </p:nvSpPr>
        <p:spPr>
          <a:xfrm>
            <a:off x="2500200" y="1428840"/>
            <a:ext cx="221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Orientados à A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Título 1"/>
          <p:cNvSpPr/>
          <p:nvPr/>
        </p:nvSpPr>
        <p:spPr>
          <a:xfrm>
            <a:off x="4572000" y="1428840"/>
            <a:ext cx="2071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Orientados à Pesso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Título 1"/>
          <p:cNvSpPr/>
          <p:nvPr/>
        </p:nvSpPr>
        <p:spPr>
          <a:xfrm>
            <a:off x="6643800" y="1428840"/>
            <a:ext cx="16430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Perfis Cerebra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ítulo 1"/>
          <p:cNvSpPr/>
          <p:nvPr/>
        </p:nvSpPr>
        <p:spPr>
          <a:xfrm>
            <a:off x="0" y="2286000"/>
            <a:ext cx="221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Lideranç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Título 1"/>
          <p:cNvSpPr/>
          <p:nvPr/>
        </p:nvSpPr>
        <p:spPr>
          <a:xfrm>
            <a:off x="0" y="3929040"/>
            <a:ext cx="2214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Criativida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Título 1"/>
          <p:cNvSpPr/>
          <p:nvPr/>
        </p:nvSpPr>
        <p:spPr>
          <a:xfrm>
            <a:off x="0" y="5143680"/>
            <a:ext cx="221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Tw Cen MT"/>
              </a:rPr>
              <a:t>Execu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Conector reto 10"/>
          <p:cNvSpPr/>
          <p:nvPr/>
        </p:nvSpPr>
        <p:spPr>
          <a:xfrm flipH="1">
            <a:off x="4498560" y="2286000"/>
            <a:ext cx="1800" cy="40734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Conector reto 12"/>
          <p:cNvSpPr/>
          <p:nvPr/>
        </p:nvSpPr>
        <p:spPr>
          <a:xfrm flipH="1">
            <a:off x="6428880" y="2214720"/>
            <a:ext cx="1800" cy="421632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Conector reto 13"/>
          <p:cNvSpPr/>
          <p:nvPr/>
        </p:nvSpPr>
        <p:spPr>
          <a:xfrm flipH="1">
            <a:off x="8572680" y="2214720"/>
            <a:ext cx="1440" cy="421632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Conector reto 14"/>
          <p:cNvSpPr/>
          <p:nvPr/>
        </p:nvSpPr>
        <p:spPr>
          <a:xfrm flipH="1">
            <a:off x="2428920" y="2286000"/>
            <a:ext cx="1440" cy="40734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Conector reto 15"/>
          <p:cNvSpPr/>
          <p:nvPr/>
        </p:nvSpPr>
        <p:spPr>
          <a:xfrm>
            <a:off x="2214720" y="2357280"/>
            <a:ext cx="6715080" cy="18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Conector reto 23"/>
          <p:cNvSpPr/>
          <p:nvPr/>
        </p:nvSpPr>
        <p:spPr>
          <a:xfrm>
            <a:off x="2214720" y="3500280"/>
            <a:ext cx="6715080" cy="18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Conector reto 25"/>
          <p:cNvSpPr/>
          <p:nvPr/>
        </p:nvSpPr>
        <p:spPr>
          <a:xfrm>
            <a:off x="2214720" y="4786200"/>
            <a:ext cx="6715080" cy="180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Conector reto 27"/>
          <p:cNvSpPr/>
          <p:nvPr/>
        </p:nvSpPr>
        <p:spPr>
          <a:xfrm>
            <a:off x="2214720" y="6000840"/>
            <a:ext cx="6715080" cy="144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2928960" y="2571840"/>
            <a:ext cx="107172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5" name="Picture 3" descr=""/>
          <p:cNvPicPr/>
          <p:nvPr/>
        </p:nvPicPr>
        <p:blipFill>
          <a:blip r:embed="rId2"/>
          <a:srcRect l="0" t="4718" r="0" b="0"/>
          <a:stretch/>
        </p:blipFill>
        <p:spPr>
          <a:xfrm>
            <a:off x="5072040" y="2643120"/>
            <a:ext cx="857160" cy="73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6" name="Picture 3" descr=""/>
          <p:cNvPicPr/>
          <p:nvPr/>
        </p:nvPicPr>
        <p:blipFill>
          <a:blip r:embed="rId3"/>
          <a:srcRect l="0" t="0" r="4586" b="9417"/>
          <a:stretch/>
        </p:blipFill>
        <p:spPr>
          <a:xfrm>
            <a:off x="5000760" y="3786120"/>
            <a:ext cx="1071360" cy="6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7" name="Picture 3" descr=""/>
          <p:cNvPicPr/>
          <p:nvPr/>
        </p:nvPicPr>
        <p:blipFill>
          <a:blip r:embed="rId4"/>
          <a:stretch/>
        </p:blipFill>
        <p:spPr>
          <a:xfrm>
            <a:off x="6929280" y="3786120"/>
            <a:ext cx="1214640" cy="79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8" name="Picture 3" descr=""/>
          <p:cNvPicPr/>
          <p:nvPr/>
        </p:nvPicPr>
        <p:blipFill>
          <a:blip r:embed="rId5"/>
          <a:srcRect l="0" t="5922" r="4739" b="0"/>
          <a:stretch/>
        </p:blipFill>
        <p:spPr>
          <a:xfrm>
            <a:off x="2500200" y="4857840"/>
            <a:ext cx="1143000" cy="73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9" name="Picture 3" descr=""/>
          <p:cNvPicPr/>
          <p:nvPr/>
        </p:nvPicPr>
        <p:blipFill>
          <a:blip r:embed="rId6"/>
          <a:srcRect l="0" t="0" r="4708" b="0"/>
          <a:stretch/>
        </p:blipFill>
        <p:spPr>
          <a:xfrm>
            <a:off x="3429000" y="5357880"/>
            <a:ext cx="1000080" cy="78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0" name="Picture 3" descr=""/>
          <p:cNvPicPr/>
          <p:nvPr/>
        </p:nvPicPr>
        <p:blipFill>
          <a:blip r:embed="rId7"/>
          <a:srcRect l="0" t="0" r="0" b="5335"/>
          <a:stretch/>
        </p:blipFill>
        <p:spPr>
          <a:xfrm>
            <a:off x="4857840" y="5000760"/>
            <a:ext cx="1071360" cy="7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1" name="Picture 3" descr=""/>
          <p:cNvPicPr/>
          <p:nvPr/>
        </p:nvPicPr>
        <p:blipFill>
          <a:blip r:embed="rId8"/>
          <a:stretch/>
        </p:blipFill>
        <p:spPr>
          <a:xfrm>
            <a:off x="7072200" y="5000760"/>
            <a:ext cx="1071720" cy="81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92" name="Grupo 36"/>
          <p:cNvGrpSpPr/>
          <p:nvPr/>
        </p:nvGrpSpPr>
        <p:grpSpPr>
          <a:xfrm>
            <a:off x="3214800" y="2928960"/>
            <a:ext cx="4786200" cy="2714760"/>
            <a:chOff x="3214800" y="2928960"/>
            <a:chExt cx="4786200" cy="2714760"/>
          </a:xfrm>
        </p:grpSpPr>
        <p:sp>
          <p:nvSpPr>
            <p:cNvPr id="593" name="Nuvem 37"/>
            <p:cNvSpPr/>
            <p:nvPr/>
          </p:nvSpPr>
          <p:spPr>
            <a:xfrm>
              <a:off x="3214800" y="2928960"/>
              <a:ext cx="4643640" cy="2714760"/>
            </a:xfrm>
            <a:prstGeom prst="pie">
              <a:avLst/>
            </a:prstGeom>
            <a:solidFill>
              <a:srgbClr val="bfbfb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3429000" y="3214440"/>
              <a:ext cx="4572000" cy="22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4617b"/>
                  </a:solidFill>
                  <a:latin typeface="Tw Cen MT"/>
                </a:rPr>
                <a:t>Todos os Perfis devem estar presentes, em equilíbrio!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erfis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596" name="Grupo 4"/>
          <p:cNvGrpSpPr/>
          <p:nvPr/>
        </p:nvGrpSpPr>
        <p:grpSpPr>
          <a:xfrm>
            <a:off x="1785960" y="1428840"/>
            <a:ext cx="5429160" cy="3286080"/>
            <a:chOff x="1785960" y="1428840"/>
            <a:chExt cx="5429160" cy="3286080"/>
          </a:xfrm>
        </p:grpSpPr>
        <p:sp>
          <p:nvSpPr>
            <p:cNvPr id="597" name="Nuvem 5"/>
            <p:cNvSpPr/>
            <p:nvPr/>
          </p:nvSpPr>
          <p:spPr>
            <a:xfrm>
              <a:off x="1785960" y="1428840"/>
              <a:ext cx="5267160" cy="3286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8" name="Rectangle 7"/>
            <p:cNvSpPr/>
            <p:nvPr/>
          </p:nvSpPr>
          <p:spPr>
            <a:xfrm>
              <a:off x="2028960" y="1774440"/>
              <a:ext cx="518616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w Cen MT"/>
                </a:rPr>
                <a:t>Não existe um perfil 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w Cen MT"/>
                </a:rPr>
                <a:t>correto ou melhor do 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w Cen MT"/>
                </a:rPr>
                <a:t>que os outros!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99" name="Grupo 7"/>
          <p:cNvGrpSpPr/>
          <p:nvPr/>
        </p:nvGrpSpPr>
        <p:grpSpPr>
          <a:xfrm>
            <a:off x="2571840" y="4929120"/>
            <a:ext cx="3643200" cy="1500120"/>
            <a:chOff x="2571840" y="4929120"/>
            <a:chExt cx="3643200" cy="1500120"/>
          </a:xfrm>
        </p:grpSpPr>
        <p:sp>
          <p:nvSpPr>
            <p:cNvPr id="600" name="Nuvem 8"/>
            <p:cNvSpPr/>
            <p:nvPr/>
          </p:nvSpPr>
          <p:spPr>
            <a:xfrm>
              <a:off x="2571840" y="4929120"/>
              <a:ext cx="3534480" cy="15001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>
              <a:off x="2734920" y="5086800"/>
              <a:ext cx="34801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83763"/>
                  </a:solidFill>
                  <a:latin typeface="Tw Cen MT"/>
                </a:rPr>
                <a:t>SPI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3763"/>
                  </a:solidFill>
                  <a:latin typeface="Tw Cen MT"/>
                </a:rPr>
                <a:t>Auto-Percepção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gend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Times de Proje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Métodos de Estudo de Perfis Pessoa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licações e Resultados Prát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revisão de comportament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s it possible to predict the behaviour of a decision making team from the team role profile given by Belbin’s team </a:t>
            </a:r>
            <a:r>
              <a:rPr b="0" i="1" lang="pt-BR" sz="2900" spc="-1" strike="noStrike">
                <a:solidFill>
                  <a:srgbClr val="000000"/>
                </a:solidFill>
                <a:latin typeface="Tw Cen MT"/>
              </a:rPr>
              <a:t>role self perception test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CaixaDeTexto 3"/>
          <p:cNvSpPr/>
          <p:nvPr/>
        </p:nvSpPr>
        <p:spPr>
          <a:xfrm>
            <a:off x="6215040" y="2928960"/>
            <a:ext cx="2143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4617b"/>
                </a:solidFill>
                <a:latin typeface="Tw Cen MT"/>
              </a:rPr>
              <a:t>[Krause, 2003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07" name="Grupo 4"/>
          <p:cNvGrpSpPr/>
          <p:nvPr/>
        </p:nvGrpSpPr>
        <p:grpSpPr>
          <a:xfrm>
            <a:off x="2000160" y="3357720"/>
            <a:ext cx="5429520" cy="3286080"/>
            <a:chOff x="2000160" y="3357720"/>
            <a:chExt cx="5429520" cy="3286080"/>
          </a:xfrm>
        </p:grpSpPr>
        <p:sp>
          <p:nvSpPr>
            <p:cNvPr id="608" name="Nuvem 5"/>
            <p:cNvSpPr/>
            <p:nvPr/>
          </p:nvSpPr>
          <p:spPr>
            <a:xfrm>
              <a:off x="2000160" y="3357720"/>
              <a:ext cx="5267520" cy="3286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2243160" y="3703320"/>
              <a:ext cx="518652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w Cen MT"/>
                </a:rPr>
                <a:t>SIM para 67% dos casos!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mportamento e Performanc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iando equipes balancead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CaixaDeTexto 3"/>
          <p:cNvSpPr/>
          <p:nvPr/>
        </p:nvSpPr>
        <p:spPr>
          <a:xfrm>
            <a:off x="4857840" y="1500120"/>
            <a:ext cx="2143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4617b"/>
                </a:solidFill>
                <a:latin typeface="Tw Cen MT"/>
              </a:rPr>
              <a:t>[Water et. al, 2006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7486560" cy="42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714240" y="2214720"/>
            <a:ext cx="7115400" cy="151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000080" y="2357280"/>
            <a:ext cx="7134120" cy="329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1357200" y="2643120"/>
            <a:ext cx="7162920" cy="37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357120" y="2071800"/>
            <a:ext cx="73152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857160" y="2214720"/>
            <a:ext cx="7286760" cy="40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285920" y="2571840"/>
            <a:ext cx="766764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mportamento e Performance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riando equipes balanceada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quipes devem ter apenas um papel de lideranç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 balanceamento dos times não tem correlação direta com a performance do time. Porém, para alguns tipos de tarefas, alguns papéis contribuem mais do que outr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r isso, é necessário existir uma coerência entre o perfil de comportamento e a função no projeto/process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CaixaDeTexto 3"/>
          <p:cNvSpPr/>
          <p:nvPr/>
        </p:nvSpPr>
        <p:spPr>
          <a:xfrm>
            <a:off x="4857840" y="1500120"/>
            <a:ext cx="2143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4617b"/>
                </a:solidFill>
                <a:latin typeface="Tw Cen MT"/>
              </a:rPr>
              <a:t>[Partington, 1999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65"/>
          <p:cNvGrpSpPr/>
          <p:nvPr/>
        </p:nvGrpSpPr>
        <p:grpSpPr>
          <a:xfrm>
            <a:off x="1654200" y="2000160"/>
            <a:ext cx="6989760" cy="4042800"/>
            <a:chOff x="1654200" y="2000160"/>
            <a:chExt cx="6989760" cy="4042800"/>
          </a:xfrm>
        </p:grpSpPr>
        <p:sp>
          <p:nvSpPr>
            <p:cNvPr id="624" name="Rectangle 66"/>
            <p:cNvSpPr/>
            <p:nvPr/>
          </p:nvSpPr>
          <p:spPr>
            <a:xfrm>
              <a:off x="2151000" y="5476680"/>
              <a:ext cx="636444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Freeform 67"/>
            <p:cNvSpPr/>
            <p:nvPr/>
          </p:nvSpPr>
          <p:spPr>
            <a:xfrm>
              <a:off x="8507160" y="5416560"/>
              <a:ext cx="136800" cy="137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Rectangle 68"/>
            <p:cNvSpPr/>
            <p:nvPr/>
          </p:nvSpPr>
          <p:spPr>
            <a:xfrm>
              <a:off x="2139840" y="2128680"/>
              <a:ext cx="22320" cy="3359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Freeform 69"/>
            <p:cNvSpPr/>
            <p:nvPr/>
          </p:nvSpPr>
          <p:spPr>
            <a:xfrm>
              <a:off x="2081160" y="2000160"/>
              <a:ext cx="136440" cy="13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8" name="Rectangle 70"/>
            <p:cNvSpPr/>
            <p:nvPr/>
          </p:nvSpPr>
          <p:spPr>
            <a:xfrm rot="16200000">
              <a:off x="1693440" y="42577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9" name="Rectangle 71"/>
            <p:cNvSpPr/>
            <p:nvPr/>
          </p:nvSpPr>
          <p:spPr>
            <a:xfrm rot="16200000">
              <a:off x="1744200" y="413856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0" name="Rectangle 72"/>
            <p:cNvSpPr/>
            <p:nvPr/>
          </p:nvSpPr>
          <p:spPr>
            <a:xfrm rot="16200000">
              <a:off x="1717560" y="4036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Rectangle 73"/>
            <p:cNvSpPr/>
            <p:nvPr/>
          </p:nvSpPr>
          <p:spPr>
            <a:xfrm rot="16200000">
              <a:off x="1715400" y="390384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Rectangle 74"/>
            <p:cNvSpPr/>
            <p:nvPr/>
          </p:nvSpPr>
          <p:spPr>
            <a:xfrm rot="16200000">
              <a:off x="1744200" y="380376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3" name="Rectangle 75"/>
            <p:cNvSpPr/>
            <p:nvPr/>
          </p:nvSpPr>
          <p:spPr>
            <a:xfrm rot="16200000">
              <a:off x="1748880" y="37339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4" name="Rectangle 76"/>
            <p:cNvSpPr/>
            <p:nvPr/>
          </p:nvSpPr>
          <p:spPr>
            <a:xfrm rot="16200000">
              <a:off x="1711440" y="362736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Rectangle 77"/>
            <p:cNvSpPr/>
            <p:nvPr/>
          </p:nvSpPr>
          <p:spPr>
            <a:xfrm rot="16200000">
              <a:off x="1715400" y="349092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6" name="Rectangle 78"/>
            <p:cNvSpPr/>
            <p:nvPr/>
          </p:nvSpPr>
          <p:spPr>
            <a:xfrm rot="16200000">
              <a:off x="1748880" y="33879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7" name="Rectangle 79"/>
            <p:cNvSpPr/>
            <p:nvPr/>
          </p:nvSpPr>
          <p:spPr>
            <a:xfrm rot="16200000">
              <a:off x="1705680" y="32734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8" name="Rectangle 80"/>
            <p:cNvSpPr/>
            <p:nvPr/>
          </p:nvSpPr>
          <p:spPr>
            <a:xfrm rot="16200000">
              <a:off x="1731240" y="3147480"/>
              <a:ext cx="89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9" name="Rectangle 81"/>
            <p:cNvSpPr/>
            <p:nvPr/>
          </p:nvSpPr>
          <p:spPr>
            <a:xfrm rot="16200000">
              <a:off x="1744200" y="306864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Rectangle 82"/>
            <p:cNvSpPr/>
            <p:nvPr/>
          </p:nvSpPr>
          <p:spPr>
            <a:xfrm rot="16200000">
              <a:off x="1717560" y="29646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Rectangle 83"/>
            <p:cNvSpPr/>
            <p:nvPr/>
          </p:nvSpPr>
          <p:spPr>
            <a:xfrm rot="16200000">
              <a:off x="1744200" y="286704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2" name="Rectangle 84"/>
            <p:cNvSpPr/>
            <p:nvPr/>
          </p:nvSpPr>
          <p:spPr>
            <a:xfrm rot="16200000">
              <a:off x="1711440" y="27622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3" name="Rectangle 85"/>
            <p:cNvSpPr/>
            <p:nvPr/>
          </p:nvSpPr>
          <p:spPr>
            <a:xfrm rot="16200000">
              <a:off x="1716120" y="262260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4" name="Rectangle 86"/>
            <p:cNvSpPr/>
            <p:nvPr/>
          </p:nvSpPr>
          <p:spPr>
            <a:xfrm rot="16200000">
              <a:off x="1712880" y="248436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5" name="Rectangle 87"/>
            <p:cNvSpPr/>
            <p:nvPr/>
          </p:nvSpPr>
          <p:spPr>
            <a:xfrm rot="16200000">
              <a:off x="1716840" y="23464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6" name="Rectangle 88"/>
            <p:cNvSpPr/>
            <p:nvPr/>
          </p:nvSpPr>
          <p:spPr>
            <a:xfrm rot="16200000">
              <a:off x="1726920" y="22194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7" name="Rectangle 89"/>
            <p:cNvSpPr/>
            <p:nvPr/>
          </p:nvSpPr>
          <p:spPr>
            <a:xfrm>
              <a:off x="2383560" y="5799240"/>
              <a:ext cx="113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Fase Inicial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8" name="Rectangle 90"/>
            <p:cNvSpPr/>
            <p:nvPr/>
          </p:nvSpPr>
          <p:spPr>
            <a:xfrm>
              <a:off x="7464960" y="57992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Fase Final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9" name="Rectangle 91"/>
            <p:cNvSpPr/>
            <p:nvPr/>
          </p:nvSpPr>
          <p:spPr>
            <a:xfrm>
              <a:off x="4249080" y="579924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f1a17"/>
                  </a:solidFill>
                  <a:latin typeface="Verdana"/>
                </a:rPr>
                <a:t>Tempo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0" name="Rectangle 92"/>
            <p:cNvSpPr/>
            <p:nvPr/>
          </p:nvSpPr>
          <p:spPr>
            <a:xfrm>
              <a:off x="4994280" y="5946840"/>
              <a:ext cx="1033200" cy="21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1" name="Freeform 93"/>
            <p:cNvSpPr/>
            <p:nvPr/>
          </p:nvSpPr>
          <p:spPr>
            <a:xfrm>
              <a:off x="6022800" y="5888160"/>
              <a:ext cx="136440" cy="1378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2" name="Rectangle 94"/>
            <p:cNvSpPr/>
            <p:nvPr/>
          </p:nvSpPr>
          <p:spPr>
            <a:xfrm>
              <a:off x="2283840" y="445284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240"/>
                  </a:solidFill>
                  <a:latin typeface="Verdana"/>
                </a:rPr>
                <a:t>Iniciação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3" name="Freeform 95"/>
            <p:cNvSpPr/>
            <p:nvPr/>
          </p:nvSpPr>
          <p:spPr>
            <a:xfrm>
              <a:off x="2154240" y="5203800"/>
              <a:ext cx="407880" cy="277920"/>
            </a:xfrm>
            <a:prstGeom prst="pie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4" name="Freeform 96"/>
            <p:cNvSpPr/>
            <p:nvPr/>
          </p:nvSpPr>
          <p:spPr>
            <a:xfrm>
              <a:off x="2547720" y="4792680"/>
              <a:ext cx="392400" cy="430200"/>
            </a:xfrm>
            <a:prstGeom prst="pie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5" name="Freeform 97"/>
            <p:cNvSpPr/>
            <p:nvPr/>
          </p:nvSpPr>
          <p:spPr>
            <a:xfrm>
              <a:off x="2936880" y="4792680"/>
              <a:ext cx="1022400" cy="689040"/>
            </a:xfrm>
            <a:prstGeom prst="pie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6" name="Freeform 98"/>
            <p:cNvSpPr/>
            <p:nvPr/>
          </p:nvSpPr>
          <p:spPr>
            <a:xfrm>
              <a:off x="2558880" y="4711680"/>
              <a:ext cx="684360" cy="768240"/>
            </a:xfrm>
            <a:prstGeom prst="pie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7" name="Freeform 99"/>
            <p:cNvSpPr/>
            <p:nvPr/>
          </p:nvSpPr>
          <p:spPr>
            <a:xfrm>
              <a:off x="3227400" y="4349880"/>
              <a:ext cx="345960" cy="374400"/>
            </a:xfrm>
            <a:prstGeom prst="pie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8" name="Freeform 100"/>
            <p:cNvSpPr/>
            <p:nvPr/>
          </p:nvSpPr>
          <p:spPr>
            <a:xfrm>
              <a:off x="3565440" y="4251240"/>
              <a:ext cx="747720" cy="119160"/>
            </a:xfrm>
            <a:prstGeom prst="pie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9" name="Freeform 101"/>
            <p:cNvSpPr/>
            <p:nvPr/>
          </p:nvSpPr>
          <p:spPr>
            <a:xfrm>
              <a:off x="4311720" y="4262400"/>
              <a:ext cx="564840" cy="279360"/>
            </a:xfrm>
            <a:prstGeom prst="pie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0" name="Freeform 102"/>
            <p:cNvSpPr/>
            <p:nvPr/>
          </p:nvSpPr>
          <p:spPr>
            <a:xfrm>
              <a:off x="4862520" y="4524480"/>
              <a:ext cx="568080" cy="552240"/>
            </a:xfrm>
            <a:prstGeom prst="pie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1" name="Freeform 103"/>
            <p:cNvSpPr/>
            <p:nvPr/>
          </p:nvSpPr>
          <p:spPr>
            <a:xfrm>
              <a:off x="5422680" y="5054400"/>
              <a:ext cx="1700280" cy="430200"/>
            </a:xfrm>
            <a:prstGeom prst="pie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2" name="Rectangle 104"/>
            <p:cNvSpPr/>
            <p:nvPr/>
          </p:nvSpPr>
          <p:spPr>
            <a:xfrm>
              <a:off x="3127680" y="3968640"/>
              <a:ext cx="141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3dd"/>
                  </a:solidFill>
                  <a:latin typeface="Verdana"/>
                </a:rPr>
                <a:t>Planejamento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3" name="Freeform 105"/>
            <p:cNvSpPr/>
            <p:nvPr/>
          </p:nvSpPr>
          <p:spPr>
            <a:xfrm>
              <a:off x="2601720" y="4930560"/>
              <a:ext cx="2725920" cy="565200"/>
            </a:xfrm>
            <a:prstGeom prst="pie">
              <a:avLst/>
            </a:prstGeom>
            <a:solidFill>
              <a:srgbClr val="994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4" name="Freeform 106"/>
            <p:cNvSpPr/>
            <p:nvPr/>
          </p:nvSpPr>
          <p:spPr>
            <a:xfrm>
              <a:off x="5327640" y="4930560"/>
              <a:ext cx="2870280" cy="554040"/>
            </a:xfrm>
            <a:prstGeom prst="pie">
              <a:avLst/>
            </a:prstGeom>
            <a:solidFill>
              <a:srgbClr val="994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5" name="Rectangle 107"/>
            <p:cNvSpPr/>
            <p:nvPr/>
          </p:nvSpPr>
          <p:spPr>
            <a:xfrm>
              <a:off x="5306400" y="4626000"/>
              <a:ext cx="875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94779"/>
                  </a:solidFill>
                  <a:latin typeface="Verdana"/>
                </a:rPr>
                <a:t>Controle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6" name="Freeform 108"/>
            <p:cNvSpPr/>
            <p:nvPr/>
          </p:nvSpPr>
          <p:spPr>
            <a:xfrm>
              <a:off x="2993760" y="5303880"/>
              <a:ext cx="249480" cy="17784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7" name="Freeform 109"/>
            <p:cNvSpPr/>
            <p:nvPr/>
          </p:nvSpPr>
          <p:spPr>
            <a:xfrm>
              <a:off x="3227400" y="5130720"/>
              <a:ext cx="126720" cy="18900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8" name="Freeform 110"/>
            <p:cNvSpPr/>
            <p:nvPr/>
          </p:nvSpPr>
          <p:spPr>
            <a:xfrm>
              <a:off x="3340080" y="4919760"/>
              <a:ext cx="544320" cy="23004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9" name="Freeform 111"/>
            <p:cNvSpPr/>
            <p:nvPr/>
          </p:nvSpPr>
          <p:spPr>
            <a:xfrm>
              <a:off x="3875040" y="4697280"/>
              <a:ext cx="565200" cy="24156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0" name="Freeform 112"/>
            <p:cNvSpPr/>
            <p:nvPr/>
          </p:nvSpPr>
          <p:spPr>
            <a:xfrm>
              <a:off x="4430520" y="3448080"/>
              <a:ext cx="555840" cy="126828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1" name="Freeform 113"/>
            <p:cNvSpPr/>
            <p:nvPr/>
          </p:nvSpPr>
          <p:spPr>
            <a:xfrm>
              <a:off x="4970520" y="3100320"/>
              <a:ext cx="938160" cy="36504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2" name="Freeform 114"/>
            <p:cNvSpPr/>
            <p:nvPr/>
          </p:nvSpPr>
          <p:spPr>
            <a:xfrm>
              <a:off x="5908680" y="3100320"/>
              <a:ext cx="650880" cy="23976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3" name="Freeform 115"/>
            <p:cNvSpPr/>
            <p:nvPr/>
          </p:nvSpPr>
          <p:spPr>
            <a:xfrm>
              <a:off x="6541920" y="3324240"/>
              <a:ext cx="488880" cy="98100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4" name="Freeform 116"/>
            <p:cNvSpPr/>
            <p:nvPr/>
          </p:nvSpPr>
          <p:spPr>
            <a:xfrm>
              <a:off x="7011720" y="4292640"/>
              <a:ext cx="758880" cy="76824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5" name="Freeform 117"/>
            <p:cNvSpPr/>
            <p:nvPr/>
          </p:nvSpPr>
          <p:spPr>
            <a:xfrm>
              <a:off x="7754760" y="5043600"/>
              <a:ext cx="473040" cy="438120"/>
            </a:xfrm>
            <a:prstGeom prst="pie">
              <a:avLst/>
            </a:prstGeom>
            <a:solidFill>
              <a:srgbClr val="e56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6" name="Freeform 118"/>
            <p:cNvSpPr/>
            <p:nvPr/>
          </p:nvSpPr>
          <p:spPr>
            <a:xfrm>
              <a:off x="6481800" y="5032440"/>
              <a:ext cx="608040" cy="463320"/>
            </a:xfrm>
            <a:prstGeom prst="pie">
              <a:avLst/>
            </a:prstGeom>
            <a:solidFill>
              <a:srgbClr val="133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7" name="Freeform 119"/>
            <p:cNvSpPr/>
            <p:nvPr/>
          </p:nvSpPr>
          <p:spPr>
            <a:xfrm>
              <a:off x="7073640" y="4532400"/>
              <a:ext cx="443160" cy="517320"/>
            </a:xfrm>
            <a:prstGeom prst="pie">
              <a:avLst/>
            </a:prstGeom>
            <a:solidFill>
              <a:srgbClr val="133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8" name="Freeform 120"/>
            <p:cNvSpPr/>
            <p:nvPr/>
          </p:nvSpPr>
          <p:spPr>
            <a:xfrm>
              <a:off x="7515000" y="4532400"/>
              <a:ext cx="355680" cy="403200"/>
            </a:xfrm>
            <a:prstGeom prst="pie">
              <a:avLst/>
            </a:prstGeom>
            <a:solidFill>
              <a:srgbClr val="133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9" name="Freeform 121"/>
            <p:cNvSpPr/>
            <p:nvPr/>
          </p:nvSpPr>
          <p:spPr>
            <a:xfrm>
              <a:off x="7853400" y="4922640"/>
              <a:ext cx="363240" cy="570240"/>
            </a:xfrm>
            <a:prstGeom prst="pie">
              <a:avLst/>
            </a:prstGeom>
            <a:solidFill>
              <a:srgbClr val="133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0" name="Rectangle 122"/>
            <p:cNvSpPr/>
            <p:nvPr/>
          </p:nvSpPr>
          <p:spPr>
            <a:xfrm>
              <a:off x="5437080" y="281952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e56f22"/>
                  </a:solidFill>
                  <a:latin typeface="Verdana"/>
                </a:rPr>
                <a:t>Execução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1" name="Rectangle 123"/>
            <p:cNvSpPr/>
            <p:nvPr/>
          </p:nvSpPr>
          <p:spPr>
            <a:xfrm>
              <a:off x="7339680" y="4118040"/>
              <a:ext cx="112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133984"/>
                  </a:solidFill>
                  <a:latin typeface="Verdana"/>
                </a:rPr>
                <a:t>Finalização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mportamento e Projeto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683" name="Grupo 64"/>
          <p:cNvGrpSpPr/>
          <p:nvPr/>
        </p:nvGrpSpPr>
        <p:grpSpPr>
          <a:xfrm>
            <a:off x="0" y="4357080"/>
            <a:ext cx="2548440" cy="2072160"/>
            <a:chOff x="0" y="4357080"/>
            <a:chExt cx="2548440" cy="2072160"/>
          </a:xfrm>
        </p:grpSpPr>
        <p:sp>
          <p:nvSpPr>
            <p:cNvPr id="684" name="Elipse 65"/>
            <p:cNvSpPr/>
            <p:nvPr/>
          </p:nvSpPr>
          <p:spPr>
            <a:xfrm>
              <a:off x="2142720" y="4643280"/>
              <a:ext cx="214200" cy="214200"/>
            </a:xfrm>
            <a:prstGeom prst="ellipse">
              <a:avLst/>
            </a:prstGeom>
            <a:solidFill>
              <a:srgbClr val="55a839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5" name="Fluxograma: Mesclar 66"/>
            <p:cNvSpPr/>
            <p:nvPr/>
          </p:nvSpPr>
          <p:spPr>
            <a:xfrm rot="14061000">
              <a:off x="1202400" y="4362480"/>
              <a:ext cx="857160" cy="1642680"/>
            </a:xfrm>
            <a:prstGeom prst="flowChartMerge">
              <a:avLst/>
            </a:prstGeom>
            <a:solidFill>
              <a:srgbClr val="dbe7b6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6" name="Título 3"/>
            <p:cNvSpPr/>
            <p:nvPr/>
          </p:nvSpPr>
          <p:spPr>
            <a:xfrm>
              <a:off x="0" y="5143320"/>
              <a:ext cx="21427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Coordin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Resource Investig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Monitor Evalu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87" name="Grupo 64"/>
          <p:cNvGrpSpPr/>
          <p:nvPr/>
        </p:nvGrpSpPr>
        <p:grpSpPr>
          <a:xfrm>
            <a:off x="2613600" y="1571760"/>
            <a:ext cx="2428200" cy="2357280"/>
            <a:chOff x="2613600" y="1571760"/>
            <a:chExt cx="2428200" cy="2357280"/>
          </a:xfrm>
        </p:grpSpPr>
        <p:sp>
          <p:nvSpPr>
            <p:cNvPr id="688" name="Elipse 69"/>
            <p:cNvSpPr/>
            <p:nvPr/>
          </p:nvSpPr>
          <p:spPr>
            <a:xfrm>
              <a:off x="2899080" y="3714840"/>
              <a:ext cx="214200" cy="214200"/>
            </a:xfrm>
            <a:prstGeom prst="ellipse">
              <a:avLst/>
            </a:prstGeom>
            <a:solidFill>
              <a:srgbClr val="59aaf2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9" name="Fluxograma: Mesclar 70"/>
            <p:cNvSpPr/>
            <p:nvPr/>
          </p:nvSpPr>
          <p:spPr>
            <a:xfrm rot="438600">
              <a:off x="2714400" y="2190600"/>
              <a:ext cx="856800" cy="1643040"/>
            </a:xfrm>
            <a:prstGeom prst="flowChartMerge">
              <a:avLst/>
            </a:prstGeom>
            <a:solidFill>
              <a:srgbClr val="c8e3fb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0" name="Título 3"/>
            <p:cNvSpPr/>
            <p:nvPr/>
          </p:nvSpPr>
          <p:spPr>
            <a:xfrm>
              <a:off x="2899080" y="1571760"/>
              <a:ext cx="21427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Coordin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Shap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Plant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Monitor Evalu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91" name="Grupo 64"/>
          <p:cNvGrpSpPr/>
          <p:nvPr/>
        </p:nvGrpSpPr>
        <p:grpSpPr>
          <a:xfrm>
            <a:off x="5542560" y="1095120"/>
            <a:ext cx="2672640" cy="1786320"/>
            <a:chOff x="5542560" y="1095120"/>
            <a:chExt cx="2672640" cy="1786320"/>
          </a:xfrm>
        </p:grpSpPr>
        <p:sp>
          <p:nvSpPr>
            <p:cNvPr id="692" name="Elipse 73"/>
            <p:cNvSpPr/>
            <p:nvPr/>
          </p:nvSpPr>
          <p:spPr>
            <a:xfrm>
              <a:off x="5828400" y="2667240"/>
              <a:ext cx="214200" cy="21420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Fluxograma: Mesclar 74"/>
            <p:cNvSpPr/>
            <p:nvPr/>
          </p:nvSpPr>
          <p:spPr>
            <a:xfrm rot="438600">
              <a:off x="5643360" y="1142640"/>
              <a:ext cx="857160" cy="1643400"/>
            </a:xfrm>
            <a:prstGeom prst="flowChartMerge">
              <a:avLst/>
            </a:prstGeom>
            <a:solidFill>
              <a:srgbClr val="ffe48f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Título 3"/>
            <p:cNvSpPr/>
            <p:nvPr/>
          </p:nvSpPr>
          <p:spPr>
            <a:xfrm>
              <a:off x="6072120" y="1166400"/>
              <a:ext cx="214308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Team Work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Implemen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Coordin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Shap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95" name="Grupo 64"/>
          <p:cNvGrpSpPr/>
          <p:nvPr/>
        </p:nvGrpSpPr>
        <p:grpSpPr>
          <a:xfrm>
            <a:off x="6858000" y="2286000"/>
            <a:ext cx="2261520" cy="1987920"/>
            <a:chOff x="6858000" y="2286000"/>
            <a:chExt cx="2261520" cy="1987920"/>
          </a:xfrm>
        </p:grpSpPr>
        <p:sp>
          <p:nvSpPr>
            <p:cNvPr id="696" name="Elipse 77"/>
            <p:cNvSpPr/>
            <p:nvPr/>
          </p:nvSpPr>
          <p:spPr>
            <a:xfrm>
              <a:off x="7542720" y="3880800"/>
              <a:ext cx="214200" cy="214200"/>
            </a:xfrm>
            <a:prstGeom prst="ellipse">
              <a:avLst/>
            </a:prstGeom>
            <a:solidFill>
              <a:srgbClr val="7030a0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Fluxograma: Mesclar 78"/>
            <p:cNvSpPr/>
            <p:nvPr/>
          </p:nvSpPr>
          <p:spPr>
            <a:xfrm rot="2661600">
              <a:off x="7809840" y="2565720"/>
              <a:ext cx="857160" cy="1642680"/>
            </a:xfrm>
            <a:prstGeom prst="flowChartMerge">
              <a:avLst/>
            </a:prstGeom>
            <a:solidFill>
              <a:srgbClr val="d4d1e5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Título 3"/>
            <p:cNvSpPr/>
            <p:nvPr/>
          </p:nvSpPr>
          <p:spPr>
            <a:xfrm>
              <a:off x="6858000" y="2286000"/>
              <a:ext cx="214308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Team Work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Shap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Monitor Evaluato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w Cen MT"/>
                </a:rPr>
                <a:t>Completer Finish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eta circular 15"/>
          <p:cNvSpPr/>
          <p:nvPr/>
        </p:nvSpPr>
        <p:spPr>
          <a:xfrm>
            <a:off x="3286080" y="2643120"/>
            <a:ext cx="2071800" cy="2071800"/>
          </a:xfrm>
          <a:prstGeom prst="pie">
            <a:avLst/>
          </a:prstGeom>
          <a:solidFill>
            <a:srgbClr val="f2f2f2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Seta circular 16"/>
          <p:cNvSpPr/>
          <p:nvPr/>
        </p:nvSpPr>
        <p:spPr>
          <a:xfrm>
            <a:off x="4643280" y="3429000"/>
            <a:ext cx="2071800" cy="2071800"/>
          </a:xfrm>
          <a:prstGeom prst="pie">
            <a:avLst/>
          </a:prstGeom>
          <a:solidFill>
            <a:srgbClr val="f2f2f2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Seta circular 17"/>
          <p:cNvSpPr/>
          <p:nvPr/>
        </p:nvSpPr>
        <p:spPr>
          <a:xfrm>
            <a:off x="6072120" y="4214880"/>
            <a:ext cx="2071800" cy="2071800"/>
          </a:xfrm>
          <a:prstGeom prst="pie">
            <a:avLst/>
          </a:prstGeom>
          <a:solidFill>
            <a:srgbClr val="f2f2f2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Seta circular 8"/>
          <p:cNvSpPr/>
          <p:nvPr/>
        </p:nvSpPr>
        <p:spPr>
          <a:xfrm>
            <a:off x="1714680" y="1785960"/>
            <a:ext cx="2071440" cy="2071800"/>
          </a:xfrm>
          <a:prstGeom prst="pie">
            <a:avLst/>
          </a:prstGeom>
          <a:solidFill>
            <a:srgbClr val="f2f2f2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omportamento e Organizaçõe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4" name="Retângulo 4"/>
          <p:cNvSpPr/>
          <p:nvPr/>
        </p:nvSpPr>
        <p:spPr>
          <a:xfrm>
            <a:off x="928800" y="2071800"/>
            <a:ext cx="1571400" cy="642960"/>
          </a:xfrm>
          <a:prstGeom prst="rect">
            <a:avLst/>
          </a:prstGeom>
          <a:solidFill>
            <a:srgbClr val="f2f2f2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nalista de Negóci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5" name="Picture 2" descr="C:\Documents and Settings\Administrador\My Documents\Cesar\Faculdade\Mestrado\Periodo 1\in953\chopp_publish\images\compositerole.gif"/>
          <p:cNvPicPr/>
          <p:nvPr/>
        </p:nvPicPr>
        <p:blipFill>
          <a:blip r:embed="rId1"/>
          <a:stretch/>
        </p:blipFill>
        <p:spPr>
          <a:xfrm>
            <a:off x="928800" y="1714680"/>
            <a:ext cx="552240" cy="552240"/>
          </a:xfrm>
          <a:prstGeom prst="rect">
            <a:avLst/>
          </a:prstGeom>
          <a:ln w="0">
            <a:noFill/>
          </a:ln>
        </p:spPr>
      </p:pic>
      <p:sp>
        <p:nvSpPr>
          <p:cNvPr id="706" name="Retângulo 5"/>
          <p:cNvSpPr/>
          <p:nvPr/>
        </p:nvSpPr>
        <p:spPr>
          <a:xfrm>
            <a:off x="2500200" y="2857680"/>
            <a:ext cx="1571760" cy="642600"/>
          </a:xfrm>
          <a:prstGeom prst="rect">
            <a:avLst/>
          </a:prstGeom>
          <a:solidFill>
            <a:srgbClr val="f2f2f2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rquiteto de Softw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7" name="Picture 2" descr="C:\Documents and Settings\Administrador\My Documents\Cesar\Faculdade\Mestrado\Periodo 1\in953\chopp_publish\images\compositerole.gif"/>
          <p:cNvPicPr/>
          <p:nvPr/>
        </p:nvPicPr>
        <p:blipFill>
          <a:blip r:embed="rId2"/>
          <a:stretch/>
        </p:blipFill>
        <p:spPr>
          <a:xfrm>
            <a:off x="2500200" y="2500200"/>
            <a:ext cx="552600" cy="552600"/>
          </a:xfrm>
          <a:prstGeom prst="rect">
            <a:avLst/>
          </a:prstGeom>
          <a:ln w="0">
            <a:noFill/>
          </a:ln>
        </p:spPr>
      </p:pic>
      <p:sp>
        <p:nvSpPr>
          <p:cNvPr id="708" name="Retângulo 9"/>
          <p:cNvSpPr/>
          <p:nvPr/>
        </p:nvSpPr>
        <p:spPr>
          <a:xfrm>
            <a:off x="3857760" y="3714840"/>
            <a:ext cx="1571400" cy="642960"/>
          </a:xfrm>
          <a:prstGeom prst="rect">
            <a:avLst/>
          </a:prstGeom>
          <a:solidFill>
            <a:srgbClr val="f2f2f2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nalista de Sistem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9" name="Picture 2" descr="C:\Documents and Settings\Administrador\My Documents\Cesar\Faculdade\Mestrado\Periodo 1\in953\chopp_publish\images\compositerole.gif"/>
          <p:cNvPicPr/>
          <p:nvPr/>
        </p:nvPicPr>
        <p:blipFill>
          <a:blip r:embed="rId3"/>
          <a:stretch/>
        </p:blipFill>
        <p:spPr>
          <a:xfrm>
            <a:off x="3857760" y="3357720"/>
            <a:ext cx="552240" cy="552240"/>
          </a:xfrm>
          <a:prstGeom prst="rect">
            <a:avLst/>
          </a:prstGeom>
          <a:ln w="0">
            <a:noFill/>
          </a:ln>
        </p:spPr>
      </p:pic>
      <p:sp>
        <p:nvSpPr>
          <p:cNvPr id="710" name="Retângulo 11"/>
          <p:cNvSpPr/>
          <p:nvPr/>
        </p:nvSpPr>
        <p:spPr>
          <a:xfrm>
            <a:off x="5286240" y="4500720"/>
            <a:ext cx="1571760" cy="642960"/>
          </a:xfrm>
          <a:prstGeom prst="rect">
            <a:avLst/>
          </a:prstGeom>
          <a:solidFill>
            <a:srgbClr val="f2f2f2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mplementad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1" name="Picture 2" descr="C:\Documents and Settings\Administrador\My Documents\Cesar\Faculdade\Mestrado\Periodo 1\in953\chopp_publish\images\compositerole.gif"/>
          <p:cNvPicPr/>
          <p:nvPr/>
        </p:nvPicPr>
        <p:blipFill>
          <a:blip r:embed="rId4"/>
          <a:stretch/>
        </p:blipFill>
        <p:spPr>
          <a:xfrm>
            <a:off x="5286240" y="4143240"/>
            <a:ext cx="552600" cy="552600"/>
          </a:xfrm>
          <a:prstGeom prst="rect">
            <a:avLst/>
          </a:prstGeom>
          <a:ln w="0">
            <a:noFill/>
          </a:ln>
        </p:spPr>
      </p:pic>
      <p:sp>
        <p:nvSpPr>
          <p:cNvPr id="712" name="Retângulo 13"/>
          <p:cNvSpPr/>
          <p:nvPr/>
        </p:nvSpPr>
        <p:spPr>
          <a:xfrm>
            <a:off x="6786720" y="5214960"/>
            <a:ext cx="1571400" cy="642960"/>
          </a:xfrm>
          <a:prstGeom prst="rect">
            <a:avLst/>
          </a:prstGeom>
          <a:solidFill>
            <a:srgbClr val="f2f2f2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estad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3" name="Picture 2" descr="C:\Documents and Settings\Administrador\My Documents\Cesar\Faculdade\Mestrado\Periodo 1\in953\chopp_publish\images\compositerole.gif"/>
          <p:cNvPicPr/>
          <p:nvPr/>
        </p:nvPicPr>
        <p:blipFill>
          <a:blip r:embed="rId5"/>
          <a:stretch/>
        </p:blipFill>
        <p:spPr>
          <a:xfrm>
            <a:off x="6786720" y="4857840"/>
            <a:ext cx="552240" cy="552240"/>
          </a:xfrm>
          <a:prstGeom prst="rect">
            <a:avLst/>
          </a:prstGeom>
          <a:ln w="0">
            <a:noFill/>
          </a:ln>
        </p:spPr>
      </p:pic>
      <p:sp>
        <p:nvSpPr>
          <p:cNvPr id="714" name="Retângulo 18"/>
          <p:cNvSpPr/>
          <p:nvPr/>
        </p:nvSpPr>
        <p:spPr>
          <a:xfrm>
            <a:off x="357120" y="44290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erente de Proje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5" name="Picture 2" descr="C:\Documents and Settings\Administrador\My Documents\Cesar\Faculdade\Mestrado\Periodo 1\in953\chopp_publish\images\compositerole.gif"/>
          <p:cNvPicPr/>
          <p:nvPr/>
        </p:nvPicPr>
        <p:blipFill>
          <a:blip r:embed="rId6"/>
          <a:stretch/>
        </p:blipFill>
        <p:spPr>
          <a:xfrm>
            <a:off x="857160" y="3929040"/>
            <a:ext cx="552600" cy="552600"/>
          </a:xfrm>
          <a:prstGeom prst="rect">
            <a:avLst/>
          </a:prstGeom>
          <a:ln w="0">
            <a:noFill/>
          </a:ln>
        </p:spPr>
      </p:pic>
      <p:sp>
        <p:nvSpPr>
          <p:cNvPr id="716" name="Retângulo 20"/>
          <p:cNvSpPr/>
          <p:nvPr/>
        </p:nvSpPr>
        <p:spPr>
          <a:xfrm>
            <a:off x="1928880" y="5643720"/>
            <a:ext cx="1571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erente de Configuraçã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7" name="Picture 2" descr="C:\Documents and Settings\Administrador\My Documents\Cesar\Faculdade\Mestrado\Periodo 1\in953\chopp_publish\images\compositerole.gif"/>
          <p:cNvPicPr/>
          <p:nvPr/>
        </p:nvPicPr>
        <p:blipFill>
          <a:blip r:embed="rId7"/>
          <a:stretch/>
        </p:blipFill>
        <p:spPr>
          <a:xfrm>
            <a:off x="2428920" y="5143680"/>
            <a:ext cx="552240" cy="552240"/>
          </a:xfrm>
          <a:prstGeom prst="rect">
            <a:avLst/>
          </a:prstGeom>
          <a:ln w="0">
            <a:noFill/>
          </a:ln>
        </p:spPr>
      </p:pic>
      <p:grpSp>
        <p:nvGrpSpPr>
          <p:cNvPr id="718" name="Grupo 22"/>
          <p:cNvGrpSpPr/>
          <p:nvPr/>
        </p:nvGrpSpPr>
        <p:grpSpPr>
          <a:xfrm>
            <a:off x="1428840" y="1285920"/>
            <a:ext cx="1500120" cy="928800"/>
            <a:chOff x="1428840" y="1285920"/>
            <a:chExt cx="1500120" cy="928800"/>
          </a:xfrm>
        </p:grpSpPr>
        <p:sp>
          <p:nvSpPr>
            <p:cNvPr id="719" name="Nuvem 23"/>
            <p:cNvSpPr/>
            <p:nvPr/>
          </p:nvSpPr>
          <p:spPr>
            <a:xfrm>
              <a:off x="1428840" y="1285920"/>
              <a:ext cx="1455480" cy="92880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0" name="Rectangle 7"/>
            <p:cNvSpPr/>
            <p:nvPr/>
          </p:nvSpPr>
          <p:spPr>
            <a:xfrm>
              <a:off x="1495800" y="1383480"/>
              <a:ext cx="143316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w Cen MT"/>
                </a:rPr>
                <a:t>IMP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21" name="Grupo 34"/>
          <p:cNvGrpSpPr/>
          <p:nvPr/>
        </p:nvGrpSpPr>
        <p:grpSpPr>
          <a:xfrm>
            <a:off x="3429000" y="2071800"/>
            <a:ext cx="1500120" cy="928440"/>
            <a:chOff x="3429000" y="2071800"/>
            <a:chExt cx="1500120" cy="928440"/>
          </a:xfrm>
        </p:grpSpPr>
        <p:sp>
          <p:nvSpPr>
            <p:cNvPr id="722" name="Nuvem 35"/>
            <p:cNvSpPr/>
            <p:nvPr/>
          </p:nvSpPr>
          <p:spPr>
            <a:xfrm>
              <a:off x="3429000" y="2071800"/>
              <a:ext cx="1455480" cy="92844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3495960" y="2169360"/>
              <a:ext cx="143316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24" name="Grupo 37"/>
          <p:cNvGrpSpPr/>
          <p:nvPr/>
        </p:nvGrpSpPr>
        <p:grpSpPr>
          <a:xfrm>
            <a:off x="4929120" y="3000240"/>
            <a:ext cx="1500120" cy="928800"/>
            <a:chOff x="4929120" y="3000240"/>
            <a:chExt cx="1500120" cy="928800"/>
          </a:xfrm>
        </p:grpSpPr>
        <p:sp>
          <p:nvSpPr>
            <p:cNvPr id="725" name="Nuvem 38"/>
            <p:cNvSpPr/>
            <p:nvPr/>
          </p:nvSpPr>
          <p:spPr>
            <a:xfrm>
              <a:off x="4929120" y="3000240"/>
              <a:ext cx="1455480" cy="92880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6" name="Rectangle 7"/>
            <p:cNvSpPr/>
            <p:nvPr/>
          </p:nvSpPr>
          <p:spPr>
            <a:xfrm>
              <a:off x="4996080" y="3097800"/>
              <a:ext cx="143316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TW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27" name="Grupo 40"/>
          <p:cNvGrpSpPr/>
          <p:nvPr/>
        </p:nvGrpSpPr>
        <p:grpSpPr>
          <a:xfrm>
            <a:off x="1214280" y="3857760"/>
            <a:ext cx="1500480" cy="928440"/>
            <a:chOff x="1214280" y="3857760"/>
            <a:chExt cx="1500480" cy="928440"/>
          </a:xfrm>
        </p:grpSpPr>
        <p:sp>
          <p:nvSpPr>
            <p:cNvPr id="728" name="Nuvem 41"/>
            <p:cNvSpPr/>
            <p:nvPr/>
          </p:nvSpPr>
          <p:spPr>
            <a:xfrm>
              <a:off x="1214280" y="3857760"/>
              <a:ext cx="1455840" cy="92844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>
              <a:off x="1281240" y="3955320"/>
              <a:ext cx="143352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SH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30" name="Grupo 43"/>
          <p:cNvGrpSpPr/>
          <p:nvPr/>
        </p:nvGrpSpPr>
        <p:grpSpPr>
          <a:xfrm>
            <a:off x="6357960" y="3786120"/>
            <a:ext cx="1500120" cy="928800"/>
            <a:chOff x="6357960" y="3786120"/>
            <a:chExt cx="1500120" cy="928800"/>
          </a:xfrm>
        </p:grpSpPr>
        <p:sp>
          <p:nvSpPr>
            <p:cNvPr id="731" name="Nuvem 44"/>
            <p:cNvSpPr/>
            <p:nvPr/>
          </p:nvSpPr>
          <p:spPr>
            <a:xfrm>
              <a:off x="6357960" y="3786120"/>
              <a:ext cx="1455480" cy="92880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6424920" y="3883680"/>
              <a:ext cx="143316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IMP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33" name="Grupo 46"/>
          <p:cNvGrpSpPr/>
          <p:nvPr/>
        </p:nvGrpSpPr>
        <p:grpSpPr>
          <a:xfrm>
            <a:off x="7643880" y="4572000"/>
            <a:ext cx="1500120" cy="928800"/>
            <a:chOff x="7643880" y="4572000"/>
            <a:chExt cx="1500120" cy="928800"/>
          </a:xfrm>
        </p:grpSpPr>
        <p:sp>
          <p:nvSpPr>
            <p:cNvPr id="734" name="Nuvem 47"/>
            <p:cNvSpPr/>
            <p:nvPr/>
          </p:nvSpPr>
          <p:spPr>
            <a:xfrm>
              <a:off x="7643880" y="4572000"/>
              <a:ext cx="1455480" cy="92880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7710840" y="4669560"/>
              <a:ext cx="143316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ME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IMP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36" name="Grupo 49"/>
          <p:cNvGrpSpPr/>
          <p:nvPr/>
        </p:nvGrpSpPr>
        <p:grpSpPr>
          <a:xfrm>
            <a:off x="2857680" y="5000760"/>
            <a:ext cx="1500120" cy="928440"/>
            <a:chOff x="2857680" y="5000760"/>
            <a:chExt cx="1500120" cy="928440"/>
          </a:xfrm>
        </p:grpSpPr>
        <p:sp>
          <p:nvSpPr>
            <p:cNvPr id="737" name="Nuvem 50"/>
            <p:cNvSpPr/>
            <p:nvPr/>
          </p:nvSpPr>
          <p:spPr>
            <a:xfrm>
              <a:off x="2857680" y="5000760"/>
              <a:ext cx="1455480" cy="928440"/>
            </a:xfrm>
            <a:prstGeom prst="pie">
              <a:avLst/>
            </a:prstGeom>
            <a:solidFill>
              <a:srgbClr val="ffe48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8" name="Rectangle 7"/>
            <p:cNvSpPr/>
            <p:nvPr/>
          </p:nvSpPr>
          <p:spPr>
            <a:xfrm>
              <a:off x="2924640" y="5098320"/>
              <a:ext cx="143316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ME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PMI/PMCD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ject Manager Competency Development (PMCD) Frame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2214720" cy="3322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liás…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 geral, porque são grandes demais para serem desenvolvidos por uma “Eu”quip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9" descr="itaipu 3"/>
          <p:cNvPicPr/>
          <p:nvPr/>
        </p:nvPicPr>
        <p:blipFill>
          <a:blip r:embed="rId2"/>
          <a:stretch/>
        </p:blipFill>
        <p:spPr>
          <a:xfrm>
            <a:off x="2500200" y="4429080"/>
            <a:ext cx="2998800" cy="2241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3"/>
          <a:srcRect l="0" t="21194" r="0" b="0"/>
          <a:stretch/>
        </p:blipFill>
        <p:spPr>
          <a:xfrm>
            <a:off x="4786200" y="2928960"/>
            <a:ext cx="4170600" cy="2390760"/>
          </a:xfrm>
          <a:prstGeom prst="rect">
            <a:avLst/>
          </a:prstGeom>
          <a:ln w="0">
            <a:noFill/>
          </a:ln>
        </p:spPr>
      </p:pic>
      <p:sp>
        <p:nvSpPr>
          <p:cNvPr id="367" name="Título 3"/>
          <p:cNvSpPr/>
          <p:nvPr/>
        </p:nvSpPr>
        <p:spPr>
          <a:xfrm>
            <a:off x="5429160" y="657216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UHE Itaipú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ítulo 3"/>
          <p:cNvSpPr/>
          <p:nvPr/>
        </p:nvSpPr>
        <p:spPr>
          <a:xfrm>
            <a:off x="7572240" y="5357880"/>
            <a:ext cx="1143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Ponte Rio-Niteró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Título 3"/>
          <p:cNvSpPr/>
          <p:nvPr/>
        </p:nvSpPr>
        <p:spPr>
          <a:xfrm>
            <a:off x="357120" y="5929200"/>
            <a:ext cx="2428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A Síndrome do </a:t>
            </a:r>
            <a:r>
              <a:rPr b="0" i="1" lang="en-US" sz="1100" spc="-1" strike="noStrike">
                <a:solidFill>
                  <a:srgbClr val="04617b"/>
                </a:solidFill>
                <a:latin typeface="Tw Cen MT"/>
              </a:rPr>
              <a:t>Monte Everest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Projetos Virtualmente Impossíveis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[Edward Yourdon, 97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Limitaçõe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grpSp>
        <p:nvGrpSpPr>
          <p:cNvPr id="742" name="Grupo 3"/>
          <p:cNvGrpSpPr/>
          <p:nvPr/>
        </p:nvGrpSpPr>
        <p:grpSpPr>
          <a:xfrm>
            <a:off x="1714680" y="1785960"/>
            <a:ext cx="5429160" cy="3286080"/>
            <a:chOff x="1714680" y="1785960"/>
            <a:chExt cx="5429160" cy="3286080"/>
          </a:xfrm>
        </p:grpSpPr>
        <p:sp>
          <p:nvSpPr>
            <p:cNvPr id="743" name="Nuvem 4"/>
            <p:cNvSpPr/>
            <p:nvPr/>
          </p:nvSpPr>
          <p:spPr>
            <a:xfrm>
              <a:off x="1714680" y="1785960"/>
              <a:ext cx="5267160" cy="3286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4" name="Rectangle 7"/>
            <p:cNvSpPr/>
            <p:nvPr/>
          </p:nvSpPr>
          <p:spPr>
            <a:xfrm>
              <a:off x="1957680" y="2131560"/>
              <a:ext cx="518616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w Cen MT"/>
                </a:rPr>
                <a:t>Qual medida de eficiência de equipes?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45" name="Grupo 6"/>
          <p:cNvGrpSpPr/>
          <p:nvPr/>
        </p:nvGrpSpPr>
        <p:grpSpPr>
          <a:xfrm>
            <a:off x="1785960" y="1785960"/>
            <a:ext cx="5429160" cy="3286080"/>
            <a:chOff x="1785960" y="1785960"/>
            <a:chExt cx="5429160" cy="3286080"/>
          </a:xfrm>
        </p:grpSpPr>
        <p:sp>
          <p:nvSpPr>
            <p:cNvPr id="746" name="Nuvem 7"/>
            <p:cNvSpPr/>
            <p:nvPr/>
          </p:nvSpPr>
          <p:spPr>
            <a:xfrm>
              <a:off x="1785960" y="1785960"/>
              <a:ext cx="5267160" cy="3286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7" name="Rectangle 7"/>
            <p:cNvSpPr/>
            <p:nvPr/>
          </p:nvSpPr>
          <p:spPr>
            <a:xfrm>
              <a:off x="2028960" y="2131560"/>
              <a:ext cx="518616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w Cen MT"/>
                </a:rPr>
                <a:t>As pessoas mudam!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Referência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12720" y="1142640"/>
            <a:ext cx="81532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w Cen MT"/>
              </a:rPr>
              <a:t>França, Alberto C., Silva Fábio Q. B., 2006, Um estudo da adequação de perfis profissionais e aptidões individuais em Fábricas de Software, Trabalho de Graduação, Centro de Informática, Universidade Federal de Pernambuco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w Cen MT"/>
              </a:rPr>
              <a:t>França, Alberto C., Silva Fábio Q. B., 2007, Um estudo sobre Relações entre Papéis Funcionais do RUP e o Comportamento Pessoal no Trabalho em Equipe em Fábricas de Software. III Workshop Um Olhar Sociotécnico sobre a Engenharia de Software – WOSES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Belbin, M.R. (1981) “Management Teams: Why they succeed or Fail”, Butterworth-Heinemann Ltd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w Cen MT"/>
              </a:rPr>
              <a:t>Belbin, M.R. (1993) “Team Roles at Work”, Elsevier Butterworth-Heinemann Ltd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w Cen MT"/>
              </a:rPr>
              <a:t>Fernandes, Flávio L.M. e da Silva, Fabio Q.B. (2007) "Relações entre Competências Pessoais e Tipos de Personalidade do Gerente de Projetos de Software", 2º Congresso Brasileiro em Gerenciamento de Projeto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Briggs, Isabel Myers. 1993. </a:t>
            </a:r>
            <a:r>
              <a:rPr b="0" i="1" lang="en-US" sz="1500" spc="-1" strike="noStrike">
                <a:solidFill>
                  <a:srgbClr val="000000"/>
                </a:solidFill>
                <a:latin typeface="Tw Cen MT"/>
              </a:rPr>
              <a:t>Introduction to Type. Consulting Psychologist Press, Ca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Wideman, R. Max. 1996. Dominant Personality Characteristics Suited to Running a Successful Project (And What Type are You?), AEW Services, Vancouver, Canada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Wideman, R. Max. 1996. Project Teamwork, Personality Profiles and the Population at Large: Do we have enough of the right kind of people? , AEW Services, Vancouver, Canada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Johansen, T Krause, 2003, Predicting a Team’s Behaviour by Using Belbin’s Team Role Self Perception Inventory, Department of Management &amp; Organisation University of Stirling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Water, Tara van, et. al, 2006 A balanced team generating model, Elsevier B.V. All rights reserved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Partington, David and Harris, Hilary 1999, Team role balance and team performance: an empirical study, pp. 694-705. # MCB University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EQUIPES DE PROJETOS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ésar Franç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esarfranca@gmail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1532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quipes são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le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áve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aptáve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ultidisciplina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lex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eten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nováve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tc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licados de gerenci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fíceis de constru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90000" rIns="90000" tIns="46800" bIns="46800" anchor="ctr">
            <a:normAutofit fontScale="7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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rmAutofit fontScale="74000"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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Fronteira de aspectos não-técnicos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cxnSp>
        <p:nvCxnSpPr>
          <p:cNvPr id="376" name="Conector de seta reta 4"/>
          <p:cNvCxnSpPr>
            <a:stCxn id="377" idx="0"/>
            <a:endCxn id="378" idx="2"/>
          </p:cNvCxnSpPr>
          <p:nvPr/>
        </p:nvCxnSpPr>
        <p:spPr>
          <a:xfrm flipH="1" flipV="1">
            <a:off x="2999880" y="2776320"/>
            <a:ext cx="1572480" cy="2867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9" name="Conector de seta reta 6"/>
          <p:cNvCxnSpPr>
            <a:stCxn id="377" idx="0"/>
            <a:endCxn id="380" idx="2"/>
          </p:cNvCxnSpPr>
          <p:nvPr/>
        </p:nvCxnSpPr>
        <p:spPr>
          <a:xfrm flipH="1" flipV="1">
            <a:off x="1499400" y="4276080"/>
            <a:ext cx="3072600" cy="1367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1" name="Conector de seta reta 11"/>
          <p:cNvCxnSpPr>
            <a:stCxn id="377" idx="0"/>
            <a:endCxn id="382" idx="2"/>
          </p:cNvCxnSpPr>
          <p:nvPr/>
        </p:nvCxnSpPr>
        <p:spPr>
          <a:xfrm flipV="1">
            <a:off x="4572000" y="3704400"/>
            <a:ext cx="1180080" cy="19393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77" name="Título 1"/>
          <p:cNvSpPr/>
          <p:nvPr/>
        </p:nvSpPr>
        <p:spPr>
          <a:xfrm>
            <a:off x="0" y="56437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Organi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zaçõ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Título 1"/>
          <p:cNvSpPr/>
          <p:nvPr/>
        </p:nvSpPr>
        <p:spPr>
          <a:xfrm>
            <a:off x="1500120" y="1785960"/>
            <a:ext cx="300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Título 1"/>
          <p:cNvSpPr/>
          <p:nvPr/>
        </p:nvSpPr>
        <p:spPr>
          <a:xfrm>
            <a:off x="0" y="3286080"/>
            <a:ext cx="3000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Título 1"/>
          <p:cNvSpPr/>
          <p:nvPr/>
        </p:nvSpPr>
        <p:spPr>
          <a:xfrm>
            <a:off x="4786200" y="2714760"/>
            <a:ext cx="1928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w Cen MT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Conector reto 32"/>
          <p:cNvSpPr/>
          <p:nvPr/>
        </p:nvSpPr>
        <p:spPr>
          <a:xfrm flipH="1">
            <a:off x="4570560" y="1571760"/>
            <a:ext cx="1440" cy="5287680"/>
          </a:xfrm>
          <a:prstGeom prst="line">
            <a:avLst/>
          </a:prstGeom>
          <a:ln w="10080">
            <a:solidFill>
              <a:srgbClr val="0f6f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Chave esquerda 13"/>
          <p:cNvSpPr/>
          <p:nvPr/>
        </p:nvSpPr>
        <p:spPr>
          <a:xfrm>
            <a:off x="6500880" y="1643040"/>
            <a:ext cx="214200" cy="392904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440 h 3929040"/>
              <a:gd name="textAreaBottom" fmla="*/ 3909600 h 39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"/>
                  <a:pt x="10800" y="346"/>
                </a:cubicBezTo>
                <a:lnTo>
                  <a:pt x="10800" y="9038"/>
                </a:lnTo>
                <a:cubicBezTo>
                  <a:pt x="10800" y="9211"/>
                  <a:pt x="5400" y="9384"/>
                  <a:pt x="0" y="9384"/>
                </a:cubicBezTo>
                <a:cubicBezTo>
                  <a:pt x="5400" y="9384"/>
                  <a:pt x="10800" y="9557"/>
                  <a:pt x="10800" y="9730"/>
                </a:cubicBezTo>
                <a:lnTo>
                  <a:pt x="10800" y="21254"/>
                </a:lnTo>
                <a:cubicBezTo>
                  <a:pt x="10800" y="2142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Título 1"/>
          <p:cNvSpPr/>
          <p:nvPr/>
        </p:nvSpPr>
        <p:spPr>
          <a:xfrm>
            <a:off x="6643800" y="1643040"/>
            <a:ext cx="192888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4617b"/>
                </a:solidFill>
                <a:latin typeface="Tw Cen MT"/>
              </a:rPr>
              <a:t>Equip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2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4617b"/>
                </a:solidFill>
                <a:latin typeface="Tw Cen MT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2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4617b"/>
                </a:solidFill>
                <a:latin typeface="Tw Cen MT"/>
              </a:rPr>
              <a:t>Comunicaçã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2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4617b"/>
                </a:solidFill>
                <a:latin typeface="Tw Cen MT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2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4617b"/>
                </a:solidFill>
                <a:latin typeface="Tw Cen MT"/>
              </a:rPr>
              <a:t>Entre outr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2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Título 3"/>
          <p:cNvSpPr/>
          <p:nvPr/>
        </p:nvSpPr>
        <p:spPr>
          <a:xfrm>
            <a:off x="6643800" y="521496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[Pilatti &amp; Prikladnicki, WOSES’07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gend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mes de Proje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étodos de Estudo de Perfis de Pesso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plicações e Resultados Prát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Agenda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mes de Proje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Métodos de Estudo de Perfis de Pesso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d9d9"/>
                </a:solidFill>
                <a:latin typeface="Tw Cen MT"/>
              </a:rPr>
              <a:t>Aplicações e Resultados Prát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Equipes 100%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2" name="Título 3"/>
          <p:cNvSpPr/>
          <p:nvPr/>
        </p:nvSpPr>
        <p:spPr>
          <a:xfrm>
            <a:off x="714240" y="1000080"/>
            <a:ext cx="2428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4617b"/>
                </a:solidFill>
                <a:latin typeface="Tw Cen MT"/>
              </a:rPr>
              <a:t>[Márcio Dayrell Batitucci, 2002]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3" name="Conector de seta reta 10"/>
          <p:cNvCxnSpPr/>
          <p:nvPr/>
        </p:nvCxnSpPr>
        <p:spPr>
          <a:xfrm flipV="1">
            <a:off x="3569040" y="2142720"/>
            <a:ext cx="2520" cy="3574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94" name="Conector de seta reta 12"/>
          <p:cNvCxnSpPr/>
          <p:nvPr/>
        </p:nvCxnSpPr>
        <p:spPr>
          <a:xfrm>
            <a:off x="3571560" y="5715000"/>
            <a:ext cx="4500720" cy="21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95" name="Título 3"/>
          <p:cNvSpPr/>
          <p:nvPr/>
        </p:nvSpPr>
        <p:spPr>
          <a:xfrm>
            <a:off x="428760" y="2000160"/>
            <a:ext cx="3143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4617b"/>
                </a:solidFill>
                <a:latin typeface="Tw Cen MT"/>
              </a:rPr>
              <a:t>Interdependênci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Título 3"/>
          <p:cNvSpPr/>
          <p:nvPr/>
        </p:nvSpPr>
        <p:spPr>
          <a:xfrm>
            <a:off x="5786280" y="5857920"/>
            <a:ext cx="31435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4617b"/>
                </a:solidFill>
                <a:latin typeface="Tw Cen MT"/>
              </a:rPr>
              <a:t>Objetivos Comu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tângulo 15"/>
          <p:cNvSpPr/>
          <p:nvPr/>
        </p:nvSpPr>
        <p:spPr>
          <a:xfrm>
            <a:off x="3571920" y="4143240"/>
            <a:ext cx="178596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AND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Retângulo 16"/>
          <p:cNvSpPr/>
          <p:nvPr/>
        </p:nvSpPr>
        <p:spPr>
          <a:xfrm>
            <a:off x="3571920" y="2571840"/>
            <a:ext cx="1785960" cy="1571400"/>
          </a:xfrm>
          <a:prstGeom prst="rect">
            <a:avLst/>
          </a:prstGeom>
          <a:solidFill>
            <a:srgbClr val="91c6f7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ORPORAÇÃ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tângulo 17"/>
          <p:cNvSpPr/>
          <p:nvPr/>
        </p:nvSpPr>
        <p:spPr>
          <a:xfrm>
            <a:off x="5357880" y="2571840"/>
            <a:ext cx="1785960" cy="157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QUIP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Retângulo 18"/>
          <p:cNvSpPr/>
          <p:nvPr/>
        </p:nvSpPr>
        <p:spPr>
          <a:xfrm>
            <a:off x="5357880" y="4143240"/>
            <a:ext cx="1785960" cy="1571760"/>
          </a:xfrm>
          <a:prstGeom prst="rect">
            <a:avLst/>
          </a:prstGeom>
          <a:solidFill>
            <a:srgbClr val="92d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GRUP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1" name="Grupo 35"/>
          <p:cNvGrpSpPr/>
          <p:nvPr/>
        </p:nvGrpSpPr>
        <p:grpSpPr>
          <a:xfrm>
            <a:off x="714240" y="3143160"/>
            <a:ext cx="3143520" cy="1285920"/>
            <a:chOff x="714240" y="3143160"/>
            <a:chExt cx="3143520" cy="1285920"/>
          </a:xfrm>
        </p:grpSpPr>
        <p:sp>
          <p:nvSpPr>
            <p:cNvPr id="402" name="Elipse 19"/>
            <p:cNvSpPr/>
            <p:nvPr/>
          </p:nvSpPr>
          <p:spPr>
            <a:xfrm>
              <a:off x="3643560" y="3714480"/>
              <a:ext cx="214200" cy="214200"/>
            </a:xfrm>
            <a:prstGeom prst="ellipse">
              <a:avLst/>
            </a:prstGeom>
            <a:solidFill>
              <a:srgbClr val="0f6fc6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Fluxograma: Mesclar 22"/>
            <p:cNvSpPr/>
            <p:nvPr/>
          </p:nvSpPr>
          <p:spPr>
            <a:xfrm rot="16200000">
              <a:off x="2535840" y="2963880"/>
              <a:ext cx="857160" cy="1643040"/>
            </a:xfrm>
            <a:prstGeom prst="flowChartMerge">
              <a:avLst/>
            </a:prstGeom>
            <a:solidFill>
              <a:srgbClr val="91c6f7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4" name="Título 3"/>
            <p:cNvSpPr/>
            <p:nvPr/>
          </p:nvSpPr>
          <p:spPr>
            <a:xfrm>
              <a:off x="714240" y="3143160"/>
              <a:ext cx="28580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4617b"/>
                  </a:solidFill>
                  <a:latin typeface="Tw Cen MT"/>
                </a:rPr>
                <a:t>Empresas Comun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05" name="Grupo 36"/>
          <p:cNvGrpSpPr/>
          <p:nvPr/>
        </p:nvGrpSpPr>
        <p:grpSpPr>
          <a:xfrm>
            <a:off x="6000840" y="1292040"/>
            <a:ext cx="2857320" cy="1766160"/>
            <a:chOff x="6000840" y="1292040"/>
            <a:chExt cx="2857320" cy="1766160"/>
          </a:xfrm>
        </p:grpSpPr>
        <p:sp>
          <p:nvSpPr>
            <p:cNvPr id="406" name="Elipse 24"/>
            <p:cNvSpPr/>
            <p:nvPr/>
          </p:nvSpPr>
          <p:spPr>
            <a:xfrm>
              <a:off x="6786360" y="2649600"/>
              <a:ext cx="214200" cy="21420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7" name="Fluxograma: Mesclar 25"/>
            <p:cNvSpPr/>
            <p:nvPr/>
          </p:nvSpPr>
          <p:spPr>
            <a:xfrm rot="2711400">
              <a:off x="7028280" y="1353240"/>
              <a:ext cx="857160" cy="1643040"/>
            </a:xfrm>
            <a:prstGeom prst="flowChartMerge">
              <a:avLst/>
            </a:prstGeom>
            <a:solidFill>
              <a:srgbClr val="ffe48f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8" name="Título 3"/>
            <p:cNvSpPr/>
            <p:nvPr/>
          </p:nvSpPr>
          <p:spPr>
            <a:xfrm>
              <a:off x="6000840" y="1292400"/>
              <a:ext cx="2857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4617b"/>
                  </a:solidFill>
                  <a:latin typeface="Tw Cen MT"/>
                </a:rPr>
                <a:t>Projetos de Software Livre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09" name="Grupo 37"/>
          <p:cNvGrpSpPr/>
          <p:nvPr/>
        </p:nvGrpSpPr>
        <p:grpSpPr>
          <a:xfrm>
            <a:off x="6705000" y="3958200"/>
            <a:ext cx="2439000" cy="1756800"/>
            <a:chOff x="6705000" y="3958200"/>
            <a:chExt cx="2439000" cy="1756800"/>
          </a:xfrm>
        </p:grpSpPr>
        <p:sp>
          <p:nvSpPr>
            <p:cNvPr id="410" name="Elipse 32"/>
            <p:cNvSpPr/>
            <p:nvPr/>
          </p:nvSpPr>
          <p:spPr>
            <a:xfrm>
              <a:off x="6858000" y="4214520"/>
              <a:ext cx="214200" cy="214200"/>
            </a:xfrm>
            <a:prstGeom prst="ellipse">
              <a:avLst/>
            </a:prstGeom>
            <a:solidFill>
              <a:srgbClr val="55a839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1" name="Fluxograma: Mesclar 33"/>
            <p:cNvSpPr/>
            <p:nvPr/>
          </p:nvSpPr>
          <p:spPr>
            <a:xfrm rot="7452000">
              <a:off x="7196400" y="3952440"/>
              <a:ext cx="857160" cy="1643040"/>
            </a:xfrm>
            <a:prstGeom prst="flowChartMerge">
              <a:avLst/>
            </a:prstGeom>
            <a:solidFill>
              <a:srgbClr val="b0dfa1"/>
            </a:solidFill>
            <a:ln w="1908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2" name="Título 3"/>
            <p:cNvSpPr/>
            <p:nvPr/>
          </p:nvSpPr>
          <p:spPr>
            <a:xfrm>
              <a:off x="7143840" y="4143240"/>
              <a:ext cx="2000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4617b"/>
                  </a:solidFill>
                  <a:latin typeface="Tw Cen MT"/>
                </a:rPr>
                <a:t>Aluno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ésar França</cp:lastModifiedBy>
  <dcterms:modified xsi:type="dcterms:W3CDTF">2007-10-01T13:00:24Z</dcterms:modified>
  <cp:revision>49</cp:revision>
  <dc:subject/>
  <dc:title>Equipes de Projetos</dc:title>
</cp:coreProperties>
</file>