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55.png" ContentType="image/png"/>
  <Override PartName="/ppt/media/image15.wmf" ContentType="image/x-wmf"/>
  <Override PartName="/ppt/media/image54.png" ContentType="image/png"/>
  <Override PartName="/ppt/media/image1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31.jpeg" ContentType="image/jpeg"/>
  <Override PartName="/ppt/media/image7.wmf" ContentType="image/x-wmf"/>
  <Override PartName="/ppt/media/image38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51.png" ContentType="image/png"/>
  <Override PartName="/ppt/media/image12.wmf" ContentType="image/x-wmf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6629-3238-441C-8928-AFD33A79B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pt-BR" sz="1000" spc="-1" strike="noStrike">
                <a:solidFill>
                  <a:srgbClr val="ff0000"/>
                </a:solidFill>
                <a:latin typeface="Arial"/>
              </a:rPr>
              <a:t>Modelo de Interação do Negócio </a:t>
            </a: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 permite  representar a relação da organização com os seus clientes, fornecedores, competidores e com os elementos da sua estrutura interna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Este modelo provê uma visão estratégica do negócio que pode ser avaliada e modelada em detalhes pelos demais modelo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pt-BR" sz="1000" spc="-1" strike="noStrike">
                <a:solidFill>
                  <a:srgbClr val="ff0000"/>
                </a:solidFill>
                <a:latin typeface="Arial"/>
              </a:rPr>
              <a:t>Modelo da organização</a:t>
            </a: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 permite visualizar a estrutura da organização até o nível de função. Os elementos da organização serão usados nos demais model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Os processos que apoiam a estratégia do negócio são detalhados no </a:t>
            </a:r>
            <a:r>
              <a:rPr b="1" lang="pt-BR" sz="1000" spc="-1" strike="noStrike">
                <a:solidFill>
                  <a:srgbClr val="ff0000"/>
                </a:solidFill>
                <a:latin typeface="Arial"/>
              </a:rPr>
              <a:t>Modelo de Workflo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Esta visão detalhada do modelo de negócios ajuda a visualizar e analisar como as várias unidades organizacionais trabalham em conjunto através da avaliação das suas atividades internas e as  concessões  de uma para ou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pt-BR" sz="1000" spc="-1" strike="noStrike">
                <a:solidFill>
                  <a:srgbClr val="ff0000"/>
                </a:solidFill>
                <a:latin typeface="Arial"/>
              </a:rPr>
              <a:t>Modelo de processos </a:t>
            </a: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permite modelar a estrutura de processos e atividades que serão associadas para modelar o workflow dos processo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1" lang="pt-BR" sz="1000" spc="-1" strike="noStrike">
                <a:solidFill>
                  <a:srgbClr val="ff0000"/>
                </a:solidFill>
                <a:latin typeface="Arial"/>
              </a:rPr>
              <a:t>Modelo de objetivos</a:t>
            </a:r>
            <a:r>
              <a:rPr b="0" lang="pt-BR" sz="1000" spc="-1" strike="noStrike">
                <a:solidFill>
                  <a:srgbClr val="ff0000"/>
                </a:solidFill>
                <a:latin typeface="Arial"/>
              </a:rPr>
              <a:t> permite a organização explicitar seus objetivos e liga-los aos processos de negócios e à estrutura organizacion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547B-7E08-482F-9FF3-EA504EE1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3B8-82A6-417F-9B88-F5B66D54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812-9441-4292-B0D4-39C87D7D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FB8-4BE9-4411-9785-128401F2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5D97-B779-4EFA-9712-3DD36515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DB2A-B9B8-47E2-B91D-0ACCBCCA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E00D-1348-4B5A-A18A-68ACB355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CAAF-CD2B-49BF-870F-E8DA865D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CED4-7862-490F-BFEB-74387B56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FE3F-6805-4FB9-9AAA-4850D4FB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C324-4B81-4EA3-B136-D80620B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C65-299A-4347-85C1-CA6E8BF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B9B9-6B36-47CA-A9BD-9D2887C3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8A0B-E8A3-4B05-AC94-1A537090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C427-321E-474C-8248-B3C63378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62E7-95A0-4E3F-8547-ED84D037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216D-1DD2-4AED-869C-8EE380F9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AF4-5F8D-48BE-AD69-D0C9A0A2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978-7F52-471A-816E-AC1F5C8B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729-7F95-4C38-8A13-23D45C90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D51-AABD-4983-8B25-E79C00D7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9CA0-9E98-4096-8303-4AC51D6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402-8620-4D94-9646-269E1751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519C-DE96-4FAA-B1EA-A72F3E08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777777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777777"/>
                </a:solidFill>
                <a:latin typeface="Verdana"/>
              </a:rPr>
              <a:t>Starch Souza (starch.souza@gmail.com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3E67-D5CF-41F4-B153-457B29C6A6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e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179280" y="6237360"/>
            <a:ext cx="1055880" cy="4190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179280" y="6237360"/>
            <a:ext cx="105588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7777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77777"/>
                </a:solidFill>
                <a:latin typeface="Verdana"/>
              </a:rPr>
              <a:t>Recife, 03 de fevereiro de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D420-0B19-4E6B-892D-65FB2406B4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75400" y="6237360"/>
            <a:ext cx="1200240" cy="47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paraiba.pb.gov.br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caixa.gov.br/" TargetMode="External"/><Relationship Id="rId3" Type="http://schemas.openxmlformats.org/officeDocument/2006/relationships/image" Target="../media/image36.png"/><Relationship Id="rId4" Type="http://schemas.openxmlformats.org/officeDocument/2006/relationships/hyperlink" Target="http://www.tim.com.br/" TargetMode="External"/><Relationship Id="rId5" Type="http://schemas.openxmlformats.org/officeDocument/2006/relationships/image" Target="../media/image37.png"/><Relationship Id="rId6" Type="http://schemas.openxmlformats.org/officeDocument/2006/relationships/hyperlink" Target="http://www.schahin.com.br/banco/br" TargetMode="External"/><Relationship Id="rId7" Type="http://schemas.openxmlformats.org/officeDocument/2006/relationships/image" Target="../media/image38.png"/><Relationship Id="rId8" Type="http://schemas.openxmlformats.org/officeDocument/2006/relationships/hyperlink" Target="http://www.bcp.com.br/" TargetMode="External"/><Relationship Id="rId9" Type="http://schemas.openxmlformats.org/officeDocument/2006/relationships/image" Target="../media/image39.png"/><Relationship Id="rId10" Type="http://schemas.openxmlformats.org/officeDocument/2006/relationships/hyperlink" Target="http://www.nestle.com.br/" TargetMode="External"/><Relationship Id="rId11" Type="http://schemas.openxmlformats.org/officeDocument/2006/relationships/image" Target="../media/image40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3.png"/><Relationship Id="rId18" Type="http://schemas.openxmlformats.org/officeDocument/2006/relationships/image" Target="../media/image46.png"/><Relationship Id="rId19" Type="http://schemas.openxmlformats.org/officeDocument/2006/relationships/image" Target="../media/image47.png"/><Relationship Id="rId20" Type="http://schemas.openxmlformats.org/officeDocument/2006/relationships/image" Target="../media/image48.png"/><Relationship Id="rId21" Type="http://schemas.openxmlformats.org/officeDocument/2006/relationships/image" Target="../media/image49.png"/><Relationship Id="rId22" Type="http://schemas.openxmlformats.org/officeDocument/2006/relationships/image" Target="../media/image50.png"/><Relationship Id="rId23" Type="http://schemas.openxmlformats.org/officeDocument/2006/relationships/image" Target="../media/image51.png"/><Relationship Id="rId24" Type="http://schemas.openxmlformats.org/officeDocument/2006/relationships/image" Target="../media/image52.png"/><Relationship Id="rId25" Type="http://schemas.openxmlformats.org/officeDocument/2006/relationships/image" Target="../media/image53.jpe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620280"/>
            <a:ext cx="7345440" cy="18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Uma visão geral sobre BPM (</a:t>
            </a:r>
            <a:r>
              <a:rPr b="0" i="1" lang="pt-PT" sz="3600" spc="-1" strike="noStrike">
                <a:solidFill>
                  <a:srgbClr val="006666"/>
                </a:solidFill>
                <a:latin typeface="Arial"/>
              </a:rPr>
              <a:t>Business Process Management</a:t>
            </a:r>
            <a:r>
              <a:rPr b="0" lang="pt-PT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tarch Souza</a:t>
            </a:r>
            <a:br>
              <a:rPr sz="29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ópicos Avançados em Engenharia de Software 3</a:t>
            </a:r>
            <a:br>
              <a:rPr sz="2100"/>
            </a:br>
            <a:br>
              <a:rPr sz="2100"/>
            </a:b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articipação Especial:</a:t>
            </a:r>
            <a:br>
              <a:rPr sz="1700"/>
            </a:b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pt-BR" sz="2100" spc="-1" strike="noStrike">
                <a:solidFill>
                  <a:srgbClr val="000000"/>
                </a:solidFill>
                <a:latin typeface="Verdana"/>
              </a:rPr>
              <a:t>Tayanna Soter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rocessos de negócio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990033"/>
                </a:solidFill>
                <a:latin typeface="Verdana"/>
              </a:rPr>
              <a:t>Processos de Negócios</a:t>
            </a:r>
            <a:r>
              <a:rPr b="0" lang="pt-BR" sz="2900" spc="-1" strike="noStrike">
                <a:solidFill>
                  <a:srgbClr val="003366"/>
                </a:solidFill>
                <a:latin typeface="Verdana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9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i="1" lang="pt-BR" sz="2900" spc="-1" strike="noStrike">
                <a:solidFill>
                  <a:srgbClr val="003366"/>
                </a:solidFill>
                <a:latin typeface="Verdana"/>
              </a:rPr>
              <a:t>Uma série de passos repetitíveis  adotados por uma organização para produzir um resultado desejável.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rocessos de negócio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Processos de negócios representam um conjunto de atividades que transformam um conjunto de entradas em um conjunto de saídas (serviços ou produtos) para outra pessoa ou processo usando pessoas e ferramentas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600200" y="4437000"/>
            <a:ext cx="6488280" cy="1692000"/>
            <a:chOff x="1600200" y="4437000"/>
            <a:chExt cx="6488280" cy="16920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600200" y="4437000"/>
              <a:ext cx="6488280" cy="1692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26" name=""/>
            <p:cNvSpPr/>
            <p:nvPr/>
          </p:nvSpPr>
          <p:spPr>
            <a:xfrm>
              <a:off x="1962000" y="5256000"/>
              <a:ext cx="990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orneced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48120" y="4589280"/>
              <a:ext cx="99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Entr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4120" y="4589280"/>
              <a:ext cx="99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Saí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72040" y="4589280"/>
              <a:ext cx="1238040" cy="914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 Narrow"/>
                </a:rPr>
                <a:t>S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 Narrow"/>
                </a:rPr>
                <a:t>proces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86640" y="5236920"/>
              <a:ext cx="1047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19920" y="5732280"/>
              <a:ext cx="11430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 Narrow"/>
                </a:rPr>
                <a:t>Feedba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Processos de negócio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20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a coleção de tarefas de trabalho interrelacionadas, iniciada em resposta a um evento, atingindo um determinado resultado para o cliente e os demais interessados no processo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61800" y="3935520"/>
            <a:ext cx="8457840" cy="2157120"/>
            <a:chOff x="361800" y="3935520"/>
            <a:chExt cx="8457840" cy="2157120"/>
          </a:xfrm>
        </p:grpSpPr>
        <p:graphicFrame>
          <p:nvGraphicFramePr>
            <p:cNvPr id="135" name=""/>
            <p:cNvGraphicFramePr/>
            <p:nvPr/>
          </p:nvGraphicFramePr>
          <p:xfrm>
            <a:off x="593640" y="3951360"/>
            <a:ext cx="941400" cy="1803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3640" y="3951360"/>
                      <a:ext cx="941400" cy="180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7" name=""/>
            <p:cNvGraphicFramePr/>
            <p:nvPr/>
          </p:nvGraphicFramePr>
          <p:xfrm>
            <a:off x="2138760" y="4541400"/>
            <a:ext cx="1225800" cy="1112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38760" y="4541400"/>
                      <a:ext cx="1225800" cy="111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" name=""/>
            <p:cNvGraphicFramePr/>
            <p:nvPr/>
          </p:nvGraphicFramePr>
          <p:xfrm>
            <a:off x="6027120" y="4541400"/>
            <a:ext cx="1226520" cy="1112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27120" y="4541400"/>
                      <a:ext cx="1226520" cy="111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4928400" y="4356720"/>
              <a:ext cx="2623680" cy="1494360"/>
            </a:xfrm>
            <a:prstGeom prst="ellipse">
              <a:avLst/>
            </a:prstGeom>
            <a:solidFill>
              <a:srgbClr val="00cc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s de Atendimento a Cli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05040" y="4356720"/>
              <a:ext cx="2624760" cy="1494360"/>
            </a:xfrm>
            <a:prstGeom prst="ellipse">
              <a:avLst/>
            </a:prstGeom>
            <a:solidFill>
              <a:srgbClr val="66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 Relação c/ Fornec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3" name=""/>
            <p:cNvGraphicFramePr/>
            <p:nvPr/>
          </p:nvGraphicFramePr>
          <p:xfrm>
            <a:off x="4038840" y="4541400"/>
            <a:ext cx="1226520" cy="1112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840" y="4541400"/>
                      <a:ext cx="1226520" cy="111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5" name=""/>
            <p:cNvSpPr/>
            <p:nvPr/>
          </p:nvSpPr>
          <p:spPr>
            <a:xfrm>
              <a:off x="3525480" y="4356720"/>
              <a:ext cx="2279160" cy="1494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s Internos à Organiz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361800" y="4688280"/>
            <a:ext cx="1354320" cy="73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1800" y="4688280"/>
                      <a:ext cx="1354320" cy="73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7637760" y="3935520"/>
            <a:ext cx="941400" cy="1804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637760" y="3935520"/>
                      <a:ext cx="941400" cy="180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7544880" y="4640400"/>
            <a:ext cx="1248480" cy="1032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7544880" y="4640400"/>
                      <a:ext cx="1248480" cy="103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"/>
            <p:cNvSpPr/>
            <p:nvPr/>
          </p:nvSpPr>
          <p:spPr>
            <a:xfrm>
              <a:off x="2850840" y="4256640"/>
              <a:ext cx="3751920" cy="169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52440" y="5610240"/>
              <a:ext cx="12672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6520" y="5610240"/>
              <a:ext cx="1797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NECEDOR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assificaçã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primári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lacionam-se diretamente com o clien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de apo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laboram com os processos primários na obtenção de sucesso junto aos clie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rocessos gerenciai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ordenam as atividades de apoio e dos processos primár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Hierarqui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acroproces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ubprocess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Ativida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aref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Modelagem de Processos de Negóci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s organizações conhecem seus processos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833560" y="2116080"/>
            <a:ext cx="3733920" cy="3979800"/>
            <a:chOff x="2833560" y="2116080"/>
            <a:chExt cx="3733920" cy="3979800"/>
          </a:xfrm>
        </p:grpSpPr>
        <p:sp>
          <p:nvSpPr>
            <p:cNvPr id="162" name=""/>
            <p:cNvSpPr/>
            <p:nvPr/>
          </p:nvSpPr>
          <p:spPr>
            <a:xfrm>
              <a:off x="5210280" y="2311560"/>
              <a:ext cx="1357200" cy="830160"/>
            </a:xfrm>
            <a:custGeom>
              <a:avLst/>
              <a:gdLst>
                <a:gd name="textAreaLeft" fmla="*/ 202680 w 1357200"/>
                <a:gd name="textAreaRight" fmla="*/ 1154520 w 1357200"/>
                <a:gd name="textAreaTop" fmla="*/ 123840 h 830160"/>
                <a:gd name="textAreaBottom" fmla="*/ 706320 h 83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45" y="21600"/>
                  </a:lnTo>
                  <a:lnTo>
                    <a:pt x="2655" y="216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6880" y="4457880"/>
              <a:ext cx="849240" cy="1293480"/>
            </a:xfrm>
            <a:prstGeom prst="flowChartProcess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94120" y="4479840"/>
              <a:ext cx="847800" cy="1293840"/>
            </a:xfrm>
            <a:prstGeom prst="flowChartProcess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33560" y="2454120"/>
              <a:ext cx="849600" cy="1293840"/>
            </a:xfrm>
            <a:prstGeom prst="flowChartProcess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" descr=""/>
            <p:cNvPicPr/>
            <p:nvPr/>
          </p:nvPicPr>
          <p:blipFill>
            <a:blip r:embed="rId1"/>
            <a:stretch/>
          </p:blipFill>
          <p:spPr>
            <a:xfrm flipH="1">
              <a:off x="3204720" y="4595760"/>
              <a:ext cx="4525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"/>
            <a:stretch/>
          </p:blipFill>
          <p:spPr>
            <a:xfrm flipH="1">
              <a:off x="2998800" y="2538360"/>
              <a:ext cx="442800" cy="100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 flipH="1">
              <a:off x="5514840" y="2116080"/>
              <a:ext cx="743040" cy="99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4"/>
            <a:stretch/>
          </p:blipFill>
          <p:spPr>
            <a:xfrm>
              <a:off x="5334120" y="4686480"/>
              <a:ext cx="796680" cy="828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70" name=""/>
            <p:cNvCxnSpPr>
              <a:stCxn id="165" idx="3"/>
              <a:endCxn id="171" idx="1"/>
            </p:cNvCxnSpPr>
            <p:nvPr/>
          </p:nvCxnSpPr>
          <p:spPr>
            <a:xfrm>
              <a:off x="3682800" y="3101760"/>
              <a:ext cx="508680" cy="479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endCxn id="164" idx="3"/>
            </p:cNvCxnSpPr>
            <p:nvPr/>
          </p:nvCxnSpPr>
          <p:spPr>
            <a:xfrm flipV="1" rot="10800000">
              <a:off x="3841200" y="4942440"/>
              <a:ext cx="349920" cy="184680"/>
            </a:xfrm>
            <a:prstGeom prst="bentConnector3">
              <a:avLst>
                <a:gd name="adj1" fmla="val 49948"/>
              </a:avLst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endCxn id="163" idx="1"/>
            </p:cNvCxnSpPr>
            <p:nvPr/>
          </p:nvCxnSpPr>
          <p:spPr>
            <a:xfrm>
              <a:off x="5005440" y="4943520"/>
              <a:ext cx="272160" cy="162720"/>
            </a:xfrm>
            <a:prstGeom prst="bentConnector3">
              <a:avLst>
                <a:gd name="adj1" fmla="val 49668"/>
              </a:avLst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3" idx="0"/>
              <a:endCxn id="162" idx="1"/>
            </p:cNvCxnSpPr>
            <p:nvPr/>
          </p:nvCxnSpPr>
          <p:spPr>
            <a:xfrm flipH="1" flipV="1" rot="5400000">
              <a:off x="5137920" y="3706200"/>
              <a:ext cx="1316520" cy="187920"/>
            </a:xfrm>
            <a:prstGeom prst="bentConnector3">
              <a:avLst>
                <a:gd name="adj1" fmla="val 49945"/>
              </a:avLst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2971800" y="4033800"/>
              <a:ext cx="732600" cy="159480"/>
            </a:xfrm>
            <a:prstGeom prst="bentConnector3">
              <a:avLst>
                <a:gd name="adj1" fmla="val 49852"/>
              </a:avLst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4138560" y="4802040"/>
              <a:ext cx="849240" cy="1293840"/>
            </a:xfrm>
            <a:prstGeom prst="flowChartProcess">
              <a:avLst/>
            </a:prstGeom>
            <a:solidFill>
              <a:srgbClr val="ffff66"/>
            </a:solidFill>
            <a:ln w="0">
              <a:noFill/>
            </a:ln>
            <a:effectLst>
              <a:outerShdw dist="17819" dir="2700000" blurRad="0" rotWithShape="0">
                <a:srgbClr val="9898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4375080" y="5000760"/>
              <a:ext cx="406440" cy="817560"/>
              <a:chOff x="4375080" y="5000760"/>
              <a:chExt cx="406440" cy="817560"/>
            </a:xfrm>
          </p:grpSpPr>
          <p:sp>
            <p:nvSpPr>
              <p:cNvPr id="178" name=""/>
              <p:cNvSpPr/>
              <p:nvPr/>
            </p:nvSpPr>
            <p:spPr>
              <a:xfrm>
                <a:off x="4375080" y="5251680"/>
                <a:ext cx="158760" cy="277920"/>
              </a:xfrm>
              <a:custGeom>
                <a:avLst/>
                <a:gdLst/>
                <a:ahLst/>
                <a:rect l="l" t="t" r="r" b="b"/>
                <a:pathLst>
                  <a:path w="601" h="876">
                    <a:moveTo>
                      <a:pt x="319" y="130"/>
                    </a:moveTo>
                    <a:lnTo>
                      <a:pt x="381" y="76"/>
                    </a:lnTo>
                    <a:lnTo>
                      <a:pt x="467" y="22"/>
                    </a:lnTo>
                    <a:lnTo>
                      <a:pt x="527" y="0"/>
                    </a:lnTo>
                    <a:lnTo>
                      <a:pt x="601" y="4"/>
                    </a:lnTo>
                    <a:lnTo>
                      <a:pt x="601" y="55"/>
                    </a:lnTo>
                    <a:lnTo>
                      <a:pt x="564" y="98"/>
                    </a:lnTo>
                    <a:lnTo>
                      <a:pt x="495" y="130"/>
                    </a:lnTo>
                    <a:lnTo>
                      <a:pt x="324" y="199"/>
                    </a:lnTo>
                    <a:lnTo>
                      <a:pt x="159" y="282"/>
                    </a:lnTo>
                    <a:lnTo>
                      <a:pt x="90" y="303"/>
                    </a:lnTo>
                    <a:lnTo>
                      <a:pt x="66" y="336"/>
                    </a:lnTo>
                    <a:lnTo>
                      <a:pt x="90" y="368"/>
                    </a:lnTo>
                    <a:lnTo>
                      <a:pt x="233" y="490"/>
                    </a:lnTo>
                    <a:lnTo>
                      <a:pt x="298" y="530"/>
                    </a:lnTo>
                    <a:lnTo>
                      <a:pt x="396" y="599"/>
                    </a:lnTo>
                    <a:lnTo>
                      <a:pt x="495" y="664"/>
                    </a:lnTo>
                    <a:lnTo>
                      <a:pt x="490" y="696"/>
                    </a:lnTo>
                    <a:lnTo>
                      <a:pt x="417" y="707"/>
                    </a:lnTo>
                    <a:lnTo>
                      <a:pt x="307" y="707"/>
                    </a:lnTo>
                    <a:lnTo>
                      <a:pt x="238" y="740"/>
                    </a:lnTo>
                    <a:lnTo>
                      <a:pt x="213" y="823"/>
                    </a:lnTo>
                    <a:lnTo>
                      <a:pt x="213" y="866"/>
                    </a:lnTo>
                    <a:lnTo>
                      <a:pt x="184" y="876"/>
                    </a:lnTo>
                    <a:lnTo>
                      <a:pt x="139" y="837"/>
                    </a:lnTo>
                    <a:lnTo>
                      <a:pt x="147" y="768"/>
                    </a:lnTo>
                    <a:lnTo>
                      <a:pt x="188" y="718"/>
                    </a:lnTo>
                    <a:lnTo>
                      <a:pt x="270" y="674"/>
                    </a:lnTo>
                    <a:lnTo>
                      <a:pt x="359" y="653"/>
                    </a:lnTo>
                    <a:lnTo>
                      <a:pt x="368" y="631"/>
                    </a:lnTo>
                    <a:lnTo>
                      <a:pt x="324" y="588"/>
                    </a:lnTo>
                    <a:lnTo>
                      <a:pt x="135" y="480"/>
                    </a:lnTo>
                    <a:lnTo>
                      <a:pt x="78" y="437"/>
                    </a:lnTo>
                    <a:lnTo>
                      <a:pt x="24" y="379"/>
                    </a:lnTo>
                    <a:lnTo>
                      <a:pt x="0" y="314"/>
                    </a:lnTo>
                    <a:lnTo>
                      <a:pt x="16" y="275"/>
                    </a:lnTo>
                    <a:lnTo>
                      <a:pt x="110" y="249"/>
                    </a:lnTo>
                    <a:lnTo>
                      <a:pt x="225" y="206"/>
                    </a:lnTo>
                    <a:lnTo>
                      <a:pt x="298" y="162"/>
                    </a:lnTo>
                    <a:lnTo>
                      <a:pt x="319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16560" y="5239080"/>
                <a:ext cx="110880" cy="266760"/>
              </a:xfrm>
              <a:custGeom>
                <a:avLst/>
                <a:gdLst/>
                <a:ahLst/>
                <a:rect l="l" t="t" r="r" b="b"/>
                <a:pathLst>
                  <a:path w="418" h="840">
                    <a:moveTo>
                      <a:pt x="89" y="64"/>
                    </a:moveTo>
                    <a:lnTo>
                      <a:pt x="126" y="11"/>
                    </a:lnTo>
                    <a:lnTo>
                      <a:pt x="171" y="0"/>
                    </a:lnTo>
                    <a:lnTo>
                      <a:pt x="233" y="0"/>
                    </a:lnTo>
                    <a:lnTo>
                      <a:pt x="311" y="39"/>
                    </a:lnTo>
                    <a:lnTo>
                      <a:pt x="360" y="126"/>
                    </a:lnTo>
                    <a:lnTo>
                      <a:pt x="397" y="238"/>
                    </a:lnTo>
                    <a:lnTo>
                      <a:pt x="418" y="353"/>
                    </a:lnTo>
                    <a:lnTo>
                      <a:pt x="418" y="508"/>
                    </a:lnTo>
                    <a:lnTo>
                      <a:pt x="373" y="678"/>
                    </a:lnTo>
                    <a:lnTo>
                      <a:pt x="307" y="778"/>
                    </a:lnTo>
                    <a:lnTo>
                      <a:pt x="220" y="828"/>
                    </a:lnTo>
                    <a:lnTo>
                      <a:pt x="139" y="840"/>
                    </a:lnTo>
                    <a:lnTo>
                      <a:pt x="77" y="807"/>
                    </a:lnTo>
                    <a:lnTo>
                      <a:pt x="28" y="767"/>
                    </a:lnTo>
                    <a:lnTo>
                      <a:pt x="15" y="703"/>
                    </a:lnTo>
                    <a:lnTo>
                      <a:pt x="0" y="580"/>
                    </a:lnTo>
                    <a:lnTo>
                      <a:pt x="12" y="428"/>
                    </a:lnTo>
                    <a:lnTo>
                      <a:pt x="49" y="270"/>
                    </a:lnTo>
                    <a:lnTo>
                      <a:pt x="73" y="158"/>
                    </a:lnTo>
                    <a:lnTo>
                      <a:pt x="89" y="6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48240" y="5470920"/>
                <a:ext cx="63360" cy="347400"/>
              </a:xfrm>
              <a:custGeom>
                <a:avLst/>
                <a:gdLst/>
                <a:ahLst/>
                <a:rect l="l" t="t" r="r" b="b"/>
                <a:pathLst>
                  <a:path w="245" h="1095">
                    <a:moveTo>
                      <a:pt x="118" y="194"/>
                    </a:moveTo>
                    <a:lnTo>
                      <a:pt x="85" y="122"/>
                    </a:lnTo>
                    <a:lnTo>
                      <a:pt x="85" y="43"/>
                    </a:lnTo>
                    <a:lnTo>
                      <a:pt x="130" y="0"/>
                    </a:lnTo>
                    <a:lnTo>
                      <a:pt x="183" y="21"/>
                    </a:lnTo>
                    <a:lnTo>
                      <a:pt x="220" y="97"/>
                    </a:lnTo>
                    <a:lnTo>
                      <a:pt x="240" y="226"/>
                    </a:lnTo>
                    <a:lnTo>
                      <a:pt x="245" y="388"/>
                    </a:lnTo>
                    <a:lnTo>
                      <a:pt x="232" y="529"/>
                    </a:lnTo>
                    <a:lnTo>
                      <a:pt x="208" y="681"/>
                    </a:lnTo>
                    <a:lnTo>
                      <a:pt x="208" y="864"/>
                    </a:lnTo>
                    <a:lnTo>
                      <a:pt x="240" y="940"/>
                    </a:lnTo>
                    <a:lnTo>
                      <a:pt x="228" y="975"/>
                    </a:lnTo>
                    <a:lnTo>
                      <a:pt x="171" y="987"/>
                    </a:lnTo>
                    <a:lnTo>
                      <a:pt x="110" y="1037"/>
                    </a:lnTo>
                    <a:lnTo>
                      <a:pt x="82" y="1081"/>
                    </a:lnTo>
                    <a:lnTo>
                      <a:pt x="12" y="1095"/>
                    </a:lnTo>
                    <a:lnTo>
                      <a:pt x="0" y="1048"/>
                    </a:lnTo>
                    <a:lnTo>
                      <a:pt x="24" y="1008"/>
                    </a:lnTo>
                    <a:lnTo>
                      <a:pt x="110" y="975"/>
                    </a:lnTo>
                    <a:lnTo>
                      <a:pt x="171" y="951"/>
                    </a:lnTo>
                    <a:lnTo>
                      <a:pt x="191" y="929"/>
                    </a:lnTo>
                    <a:lnTo>
                      <a:pt x="167" y="868"/>
                    </a:lnTo>
                    <a:lnTo>
                      <a:pt x="147" y="745"/>
                    </a:lnTo>
                    <a:lnTo>
                      <a:pt x="142" y="598"/>
                    </a:lnTo>
                    <a:lnTo>
                      <a:pt x="147" y="500"/>
                    </a:lnTo>
                    <a:lnTo>
                      <a:pt x="154" y="367"/>
                    </a:lnTo>
                    <a:lnTo>
                      <a:pt x="142" y="248"/>
                    </a:lnTo>
                    <a:lnTo>
                      <a:pt x="118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57880" y="5472360"/>
                <a:ext cx="99720" cy="345960"/>
              </a:xfrm>
              <a:custGeom>
                <a:avLst/>
                <a:gdLst/>
                <a:ahLst/>
                <a:rect l="l" t="t" r="r" b="b"/>
                <a:pathLst>
                  <a:path w="381" h="1092">
                    <a:moveTo>
                      <a:pt x="234" y="101"/>
                    </a:moveTo>
                    <a:lnTo>
                      <a:pt x="274" y="33"/>
                    </a:lnTo>
                    <a:lnTo>
                      <a:pt x="323" y="0"/>
                    </a:lnTo>
                    <a:lnTo>
                      <a:pt x="381" y="21"/>
                    </a:lnTo>
                    <a:lnTo>
                      <a:pt x="372" y="87"/>
                    </a:lnTo>
                    <a:lnTo>
                      <a:pt x="335" y="133"/>
                    </a:lnTo>
                    <a:lnTo>
                      <a:pt x="263" y="249"/>
                    </a:lnTo>
                    <a:lnTo>
                      <a:pt x="214" y="360"/>
                    </a:lnTo>
                    <a:lnTo>
                      <a:pt x="185" y="479"/>
                    </a:lnTo>
                    <a:lnTo>
                      <a:pt x="189" y="595"/>
                    </a:lnTo>
                    <a:lnTo>
                      <a:pt x="234" y="749"/>
                    </a:lnTo>
                    <a:lnTo>
                      <a:pt x="271" y="898"/>
                    </a:lnTo>
                    <a:lnTo>
                      <a:pt x="323" y="962"/>
                    </a:lnTo>
                    <a:lnTo>
                      <a:pt x="320" y="999"/>
                    </a:lnTo>
                    <a:lnTo>
                      <a:pt x="274" y="1017"/>
                    </a:lnTo>
                    <a:lnTo>
                      <a:pt x="172" y="1030"/>
                    </a:lnTo>
                    <a:lnTo>
                      <a:pt x="99" y="1070"/>
                    </a:lnTo>
                    <a:lnTo>
                      <a:pt x="62" y="1092"/>
                    </a:lnTo>
                    <a:lnTo>
                      <a:pt x="0" y="1042"/>
                    </a:lnTo>
                    <a:lnTo>
                      <a:pt x="13" y="1009"/>
                    </a:lnTo>
                    <a:lnTo>
                      <a:pt x="74" y="987"/>
                    </a:lnTo>
                    <a:lnTo>
                      <a:pt x="152" y="977"/>
                    </a:lnTo>
                    <a:lnTo>
                      <a:pt x="226" y="977"/>
                    </a:lnTo>
                    <a:lnTo>
                      <a:pt x="238" y="956"/>
                    </a:lnTo>
                    <a:lnTo>
                      <a:pt x="226" y="919"/>
                    </a:lnTo>
                    <a:lnTo>
                      <a:pt x="164" y="779"/>
                    </a:lnTo>
                    <a:lnTo>
                      <a:pt x="123" y="641"/>
                    </a:lnTo>
                    <a:lnTo>
                      <a:pt x="103" y="541"/>
                    </a:lnTo>
                    <a:lnTo>
                      <a:pt x="99" y="447"/>
                    </a:lnTo>
                    <a:lnTo>
                      <a:pt x="115" y="357"/>
                    </a:lnTo>
                    <a:lnTo>
                      <a:pt x="152" y="263"/>
                    </a:lnTo>
                    <a:lnTo>
                      <a:pt x="209" y="140"/>
                    </a:lnTo>
                    <a:lnTo>
                      <a:pt x="234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6600" y="5038920"/>
                <a:ext cx="130320" cy="181080"/>
              </a:xfrm>
              <a:custGeom>
                <a:avLst/>
                <a:gdLst/>
                <a:ahLst/>
                <a:rect l="l" t="t" r="r" b="b"/>
                <a:pathLst>
                  <a:path w="490" h="570">
                    <a:moveTo>
                      <a:pt x="179" y="477"/>
                    </a:moveTo>
                    <a:lnTo>
                      <a:pt x="216" y="548"/>
                    </a:lnTo>
                    <a:lnTo>
                      <a:pt x="302" y="570"/>
                    </a:lnTo>
                    <a:lnTo>
                      <a:pt x="376" y="563"/>
                    </a:lnTo>
                    <a:lnTo>
                      <a:pt x="436" y="517"/>
                    </a:lnTo>
                    <a:lnTo>
                      <a:pt x="485" y="422"/>
                    </a:lnTo>
                    <a:lnTo>
                      <a:pt x="490" y="310"/>
                    </a:lnTo>
                    <a:lnTo>
                      <a:pt x="473" y="213"/>
                    </a:lnTo>
                    <a:lnTo>
                      <a:pt x="404" y="104"/>
                    </a:lnTo>
                    <a:lnTo>
                      <a:pt x="354" y="54"/>
                    </a:lnTo>
                    <a:lnTo>
                      <a:pt x="302" y="22"/>
                    </a:lnTo>
                    <a:lnTo>
                      <a:pt x="253" y="0"/>
                    </a:lnTo>
                    <a:lnTo>
                      <a:pt x="167" y="7"/>
                    </a:lnTo>
                    <a:lnTo>
                      <a:pt x="122" y="73"/>
                    </a:lnTo>
                    <a:lnTo>
                      <a:pt x="98" y="141"/>
                    </a:lnTo>
                    <a:lnTo>
                      <a:pt x="98" y="249"/>
                    </a:lnTo>
                    <a:lnTo>
                      <a:pt x="118" y="354"/>
                    </a:lnTo>
                    <a:lnTo>
                      <a:pt x="142" y="411"/>
                    </a:lnTo>
                    <a:lnTo>
                      <a:pt x="7" y="498"/>
                    </a:lnTo>
                    <a:lnTo>
                      <a:pt x="0" y="530"/>
                    </a:lnTo>
                    <a:lnTo>
                      <a:pt x="20" y="548"/>
                    </a:lnTo>
                    <a:lnTo>
                      <a:pt x="167" y="451"/>
                    </a:lnTo>
                    <a:lnTo>
                      <a:pt x="179" y="47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24480" y="5000760"/>
                <a:ext cx="257040" cy="303480"/>
              </a:xfrm>
              <a:custGeom>
                <a:avLst/>
                <a:gdLst/>
                <a:ahLst/>
                <a:rect l="l" t="t" r="r" b="b"/>
                <a:pathLst>
                  <a:path w="975" h="954">
                    <a:moveTo>
                      <a:pt x="648" y="660"/>
                    </a:moveTo>
                    <a:lnTo>
                      <a:pt x="600" y="703"/>
                    </a:lnTo>
                    <a:lnTo>
                      <a:pt x="497" y="756"/>
                    </a:lnTo>
                    <a:lnTo>
                      <a:pt x="404" y="789"/>
                    </a:lnTo>
                    <a:lnTo>
                      <a:pt x="338" y="822"/>
                    </a:lnTo>
                    <a:lnTo>
                      <a:pt x="276" y="865"/>
                    </a:lnTo>
                    <a:lnTo>
                      <a:pt x="269" y="941"/>
                    </a:lnTo>
                    <a:lnTo>
                      <a:pt x="330" y="954"/>
                    </a:lnTo>
                    <a:lnTo>
                      <a:pt x="485" y="875"/>
                    </a:lnTo>
                    <a:lnTo>
                      <a:pt x="600" y="782"/>
                    </a:lnTo>
                    <a:lnTo>
                      <a:pt x="734" y="663"/>
                    </a:lnTo>
                    <a:lnTo>
                      <a:pt x="844" y="587"/>
                    </a:lnTo>
                    <a:lnTo>
                      <a:pt x="938" y="529"/>
                    </a:lnTo>
                    <a:lnTo>
                      <a:pt x="975" y="501"/>
                    </a:lnTo>
                    <a:lnTo>
                      <a:pt x="962" y="465"/>
                    </a:lnTo>
                    <a:lnTo>
                      <a:pt x="918" y="415"/>
                    </a:lnTo>
                    <a:lnTo>
                      <a:pt x="755" y="336"/>
                    </a:lnTo>
                    <a:lnTo>
                      <a:pt x="600" y="263"/>
                    </a:lnTo>
                    <a:lnTo>
                      <a:pt x="411" y="187"/>
                    </a:lnTo>
                    <a:lnTo>
                      <a:pt x="342" y="144"/>
                    </a:lnTo>
                    <a:lnTo>
                      <a:pt x="269" y="86"/>
                    </a:lnTo>
                    <a:lnTo>
                      <a:pt x="195" y="22"/>
                    </a:lnTo>
                    <a:lnTo>
                      <a:pt x="130" y="0"/>
                    </a:lnTo>
                    <a:lnTo>
                      <a:pt x="0" y="80"/>
                    </a:lnTo>
                    <a:lnTo>
                      <a:pt x="8" y="155"/>
                    </a:lnTo>
                    <a:lnTo>
                      <a:pt x="32" y="184"/>
                    </a:lnTo>
                    <a:lnTo>
                      <a:pt x="98" y="173"/>
                    </a:lnTo>
                    <a:lnTo>
                      <a:pt x="86" y="141"/>
                    </a:lnTo>
                    <a:lnTo>
                      <a:pt x="61" y="129"/>
                    </a:lnTo>
                    <a:lnTo>
                      <a:pt x="49" y="91"/>
                    </a:lnTo>
                    <a:lnTo>
                      <a:pt x="121" y="47"/>
                    </a:lnTo>
                    <a:lnTo>
                      <a:pt x="183" y="91"/>
                    </a:lnTo>
                    <a:lnTo>
                      <a:pt x="183" y="129"/>
                    </a:lnTo>
                    <a:lnTo>
                      <a:pt x="158" y="177"/>
                    </a:lnTo>
                    <a:lnTo>
                      <a:pt x="179" y="209"/>
                    </a:lnTo>
                    <a:lnTo>
                      <a:pt x="301" y="238"/>
                    </a:lnTo>
                    <a:lnTo>
                      <a:pt x="350" y="198"/>
                    </a:lnTo>
                    <a:lnTo>
                      <a:pt x="514" y="285"/>
                    </a:lnTo>
                    <a:lnTo>
                      <a:pt x="648" y="339"/>
                    </a:lnTo>
                    <a:lnTo>
                      <a:pt x="722" y="371"/>
                    </a:lnTo>
                    <a:lnTo>
                      <a:pt x="795" y="404"/>
                    </a:lnTo>
                    <a:lnTo>
                      <a:pt x="852" y="447"/>
                    </a:lnTo>
                    <a:lnTo>
                      <a:pt x="889" y="490"/>
                    </a:lnTo>
                    <a:lnTo>
                      <a:pt x="856" y="522"/>
                    </a:lnTo>
                    <a:lnTo>
                      <a:pt x="778" y="566"/>
                    </a:lnTo>
                    <a:lnTo>
                      <a:pt x="697" y="615"/>
                    </a:lnTo>
                    <a:lnTo>
                      <a:pt x="648" y="66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599000" y="4229280"/>
              <a:ext cx="677880" cy="45396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72000" y="2725560"/>
              <a:ext cx="1604880" cy="180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598640" y="3159000"/>
              <a:ext cx="1290600" cy="164304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05440" y="3510000"/>
              <a:ext cx="696960" cy="94788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72000" y="3411360"/>
              <a:ext cx="892080" cy="139068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417480" y="4229280"/>
              <a:ext cx="1181160" cy="22860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441600" y="2727360"/>
              <a:ext cx="1835280" cy="173052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05440" y="2727360"/>
              <a:ext cx="271440" cy="820800"/>
            </a:xfrm>
            <a:prstGeom prst="line">
              <a:avLst/>
            </a:prstGeom>
            <a:ln cap="sq" w="1260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191120" y="2933640"/>
              <a:ext cx="814320" cy="1295280"/>
              <a:chOff x="4191120" y="2933640"/>
              <a:chExt cx="814320" cy="1295280"/>
            </a:xfrm>
          </p:grpSpPr>
          <p:sp>
            <p:nvSpPr>
              <p:cNvPr id="171" name=""/>
              <p:cNvSpPr/>
              <p:nvPr/>
            </p:nvSpPr>
            <p:spPr>
              <a:xfrm>
                <a:off x="4191120" y="2933640"/>
                <a:ext cx="814320" cy="1295280"/>
              </a:xfrm>
              <a:prstGeom prst="flowChartProcess">
                <a:avLst/>
              </a:prstGeom>
              <a:solidFill>
                <a:srgbClr val="ffff66"/>
              </a:soli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43320" y="3159000"/>
                <a:ext cx="614520" cy="914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agem de processos em organizaçõ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ndimento da organização através da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representação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dos seus processos de negóci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agem de processos em organizaçõ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de se quer chegar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tendimento uniforme do negó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om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presentação e descrição do Modelo de Negócios da Organiz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hecimento e uso disseminado pela organiz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portunidade para melhorar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73240" y="1773360"/>
            <a:ext cx="7575120" cy="3882600"/>
            <a:chOff x="1173240" y="1773360"/>
            <a:chExt cx="7575120" cy="3882600"/>
          </a:xfrm>
        </p:grpSpPr>
        <p:sp>
          <p:nvSpPr>
            <p:cNvPr id="200" name=""/>
            <p:cNvSpPr/>
            <p:nvPr/>
          </p:nvSpPr>
          <p:spPr>
            <a:xfrm>
              <a:off x="5652720" y="1847160"/>
              <a:ext cx="814680" cy="1285200"/>
            </a:xfrm>
            <a:prstGeom prst="flowChart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09560" y="3430440"/>
              <a:ext cx="1432440" cy="893520"/>
            </a:xfrm>
            <a:prstGeom prst="flowChart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33680" y="4255920"/>
              <a:ext cx="814680" cy="1285560"/>
            </a:xfrm>
            <a:prstGeom prst="flowChartProcess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5913720" y="2053440"/>
              <a:ext cx="312480" cy="100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7998840" y="4393800"/>
              <a:ext cx="717480" cy="96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3"/>
            <a:stretch/>
          </p:blipFill>
          <p:spPr>
            <a:xfrm>
              <a:off x="6239880" y="3568320"/>
              <a:ext cx="1151640" cy="6562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6" name=""/>
            <p:cNvCxnSpPr>
              <a:stCxn id="201" idx="2"/>
              <a:endCxn id="202" idx="1"/>
            </p:cNvCxnSpPr>
            <p:nvPr/>
          </p:nvCxnSpPr>
          <p:spPr>
            <a:xfrm flipH="1" rot="16200000">
              <a:off x="7091280" y="4057200"/>
              <a:ext cx="575280" cy="1108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0" idx="3"/>
              <a:endCxn id="201" idx="0"/>
            </p:cNvCxnSpPr>
            <p:nvPr/>
          </p:nvCxnSpPr>
          <p:spPr>
            <a:xfrm>
              <a:off x="6467400" y="2489760"/>
              <a:ext cx="358920" cy="94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4596840" y="3365280"/>
              <a:ext cx="1092240" cy="740160"/>
            </a:xfrm>
            <a:prstGeom prst="rightArrow">
              <a:avLst>
                <a:gd name="adj1" fmla="val 52185"/>
                <a:gd name="adj2" fmla="val 67020"/>
              </a:avLst>
            </a:prstGeom>
            <a:solidFill>
              <a:srgbClr val="00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173240" y="1773360"/>
              <a:ext cx="3568680" cy="3882600"/>
              <a:chOff x="1173240" y="1773360"/>
              <a:chExt cx="3568680" cy="3882600"/>
            </a:xfrm>
          </p:grpSpPr>
          <p:sp>
            <p:nvSpPr>
              <p:cNvPr id="210" name=""/>
              <p:cNvSpPr/>
              <p:nvPr/>
            </p:nvSpPr>
            <p:spPr>
              <a:xfrm>
                <a:off x="3444840" y="1963800"/>
                <a:ext cx="1297080" cy="809640"/>
              </a:xfrm>
              <a:custGeom>
                <a:avLst/>
                <a:gdLst>
                  <a:gd name="textAreaLeft" fmla="*/ 193680 w 1297080"/>
                  <a:gd name="textAreaRight" fmla="*/ 1103400 w 1297080"/>
                  <a:gd name="textAreaTop" fmla="*/ 120600 h 809640"/>
                  <a:gd name="textAreaBottom" fmla="*/ 689040 h 80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945" y="21600"/>
                    </a:lnTo>
                    <a:lnTo>
                      <a:pt x="2655" y="2160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8560" y="4057920"/>
                <a:ext cx="811440" cy="1261800"/>
              </a:xfrm>
              <a:prstGeom prst="flowChartProcess">
                <a:avLst/>
              </a:prstGeom>
              <a:solidFill>
                <a:srgbClr val="ffff66"/>
              </a:soli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26600" y="4079520"/>
                <a:ext cx="810360" cy="1262160"/>
              </a:xfrm>
              <a:prstGeom prst="flowChartProcess">
                <a:avLst/>
              </a:prstGeom>
              <a:solidFill>
                <a:srgbClr val="ffff66"/>
              </a:soli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173240" y="2103120"/>
                <a:ext cx="811800" cy="1262160"/>
              </a:xfrm>
              <a:prstGeom prst="flowChartProcess">
                <a:avLst/>
              </a:prstGeom>
              <a:solidFill>
                <a:srgbClr val="ffff66"/>
              </a:soli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1527840" y="4192560"/>
                <a:ext cx="432360" cy="96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1330560" y="2185200"/>
                <a:ext cx="423000" cy="98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3736080" y="1773360"/>
                <a:ext cx="709920" cy="967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563280" y="4281120"/>
                <a:ext cx="761400" cy="808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218" name=""/>
              <p:cNvCxnSpPr>
                <a:stCxn id="213" idx="3"/>
                <a:endCxn id="219" idx="1"/>
              </p:cNvCxnSpPr>
              <p:nvPr/>
            </p:nvCxnSpPr>
            <p:spPr>
              <a:xfrm>
                <a:off x="1985040" y="2735280"/>
                <a:ext cx="486000" cy="468000"/>
              </a:xfrm>
              <a:prstGeom prst="bentConnector3">
                <a:avLst>
                  <a:gd name="adj1" fmla="val 49962"/>
                </a:avLst>
              </a:prstGeom>
              <a:ln w="9360">
                <a:solidFill>
                  <a:srgbClr val="cc9900"/>
                </a:solidFill>
                <a:miter/>
                <a:tailEnd len="med" type="triangle" w="med"/>
              </a:ln>
            </p:spPr>
          </p:cxnSp>
          <p:cxnSp>
            <p:nvCxnSpPr>
              <p:cNvPr id="220" name=""/>
              <p:cNvCxnSpPr>
                <a:endCxn id="212" idx="3"/>
              </p:cNvCxnSpPr>
              <p:nvPr/>
            </p:nvCxnSpPr>
            <p:spPr>
              <a:xfrm flipV="1" rot="10800000">
                <a:off x="2136240" y="4531320"/>
                <a:ext cx="334080" cy="180000"/>
              </a:xfrm>
              <a:prstGeom prst="bentConnector3">
                <a:avLst>
                  <a:gd name="adj1" fmla="val 49946"/>
                </a:avLst>
              </a:prstGeom>
              <a:ln w="9360">
                <a:solidFill>
                  <a:srgbClr val="cc9900"/>
                </a:solidFill>
                <a:miter/>
                <a:tailEnd len="med" type="triangle" w="med"/>
              </a:ln>
            </p:spPr>
          </p:cxnSp>
          <p:cxnSp>
            <p:nvCxnSpPr>
              <p:cNvPr id="221" name=""/>
              <p:cNvCxnSpPr>
                <a:endCxn id="211" idx="1"/>
              </p:cNvCxnSpPr>
              <p:nvPr/>
            </p:nvCxnSpPr>
            <p:spPr>
              <a:xfrm>
                <a:off x="3249000" y="4531320"/>
                <a:ext cx="259920" cy="158760"/>
              </a:xfrm>
              <a:prstGeom prst="bentConnector3">
                <a:avLst>
                  <a:gd name="adj1" fmla="val 49653"/>
                </a:avLst>
              </a:prstGeom>
              <a:ln w="9360">
                <a:solidFill>
                  <a:srgbClr val="cc9900"/>
                </a:solidFill>
                <a:miter/>
                <a:tailEnd len="med" type="triangle" w="med"/>
              </a:ln>
            </p:spPr>
          </p:cxnSp>
          <p:cxnSp>
            <p:nvCxnSpPr>
              <p:cNvPr id="222" name=""/>
              <p:cNvCxnSpPr>
                <a:stCxn id="211" idx="0"/>
                <a:endCxn id="210" idx="1"/>
              </p:cNvCxnSpPr>
              <p:nvPr/>
            </p:nvCxnSpPr>
            <p:spPr>
              <a:xfrm flipH="1" flipV="1" rot="5400000">
                <a:off x="3362400" y="3325680"/>
                <a:ext cx="1284840" cy="179640"/>
              </a:xfrm>
              <a:prstGeom prst="bentConnector3">
                <a:avLst>
                  <a:gd name="adj1" fmla="val 49915"/>
                </a:avLst>
              </a:prstGeom>
              <a:ln w="9360">
                <a:solidFill>
                  <a:srgbClr val="cc9900"/>
                </a:solidFill>
                <a:miter/>
                <a:tailEnd len="med" type="triangle" w="med"/>
              </a:ln>
            </p:spPr>
          </p:cxnSp>
          <p:cxnSp>
            <p:nvCxnSpPr>
              <p:cNvPr id="223" name=""/>
              <p:cNvCxnSpPr>
                <a:stCxn id="212" idx="0"/>
                <a:endCxn id="213" idx="2"/>
              </p:cNvCxnSpPr>
              <p:nvPr/>
            </p:nvCxnSpPr>
            <p:spPr>
              <a:xfrm flipV="1" rot="16200000">
                <a:off x="1297800" y="3645720"/>
                <a:ext cx="714600" cy="152280"/>
              </a:xfrm>
              <a:prstGeom prst="bentConnector3">
                <a:avLst>
                  <a:gd name="adj1" fmla="val 49848"/>
                </a:avLst>
              </a:prstGeom>
              <a:ln w="9360">
                <a:solidFill>
                  <a:srgbClr val="cc9900"/>
                </a:solidFill>
                <a:miter/>
                <a:tailEnd len="med" type="triangle" w="med"/>
              </a:ln>
            </p:spPr>
          </p:cxnSp>
          <p:sp>
            <p:nvSpPr>
              <p:cNvPr id="224" name=""/>
              <p:cNvSpPr/>
              <p:nvPr/>
            </p:nvSpPr>
            <p:spPr>
              <a:xfrm>
                <a:off x="2420280" y="4393800"/>
                <a:ext cx="811440" cy="1262160"/>
              </a:xfrm>
              <a:prstGeom prst="flowChartProcess">
                <a:avLst/>
              </a:prstGeom>
              <a:solidFill>
                <a:srgbClr val="ffff66"/>
              </a:solidFill>
              <a:ln w="0">
                <a:noFill/>
              </a:ln>
              <a:effectLst>
                <a:outerShdw dist="17819" dir="2700000" blurRad="0" rotWithShape="0">
                  <a:srgbClr val="98983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2646360" y="4587840"/>
                <a:ext cx="388080" cy="797040"/>
                <a:chOff x="2646360" y="4587840"/>
                <a:chExt cx="388080" cy="7970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2646360" y="4832280"/>
                  <a:ext cx="151560" cy="270720"/>
                </a:xfrm>
                <a:custGeom>
                  <a:avLst/>
                  <a:gdLst/>
                  <a:ahLst/>
                  <a:rect l="l" t="t" r="r" b="b"/>
                  <a:pathLst>
                    <a:path w="601" h="876">
                      <a:moveTo>
                        <a:pt x="319" y="130"/>
                      </a:moveTo>
                      <a:lnTo>
                        <a:pt x="381" y="76"/>
                      </a:lnTo>
                      <a:lnTo>
                        <a:pt x="467" y="22"/>
                      </a:lnTo>
                      <a:lnTo>
                        <a:pt x="527" y="0"/>
                      </a:lnTo>
                      <a:lnTo>
                        <a:pt x="601" y="4"/>
                      </a:lnTo>
                      <a:lnTo>
                        <a:pt x="601" y="55"/>
                      </a:lnTo>
                      <a:lnTo>
                        <a:pt x="564" y="98"/>
                      </a:lnTo>
                      <a:lnTo>
                        <a:pt x="495" y="130"/>
                      </a:lnTo>
                      <a:lnTo>
                        <a:pt x="324" y="199"/>
                      </a:lnTo>
                      <a:lnTo>
                        <a:pt x="159" y="282"/>
                      </a:lnTo>
                      <a:lnTo>
                        <a:pt x="90" y="303"/>
                      </a:lnTo>
                      <a:lnTo>
                        <a:pt x="66" y="336"/>
                      </a:lnTo>
                      <a:lnTo>
                        <a:pt x="90" y="368"/>
                      </a:lnTo>
                      <a:lnTo>
                        <a:pt x="233" y="490"/>
                      </a:lnTo>
                      <a:lnTo>
                        <a:pt x="298" y="530"/>
                      </a:lnTo>
                      <a:lnTo>
                        <a:pt x="396" y="599"/>
                      </a:lnTo>
                      <a:lnTo>
                        <a:pt x="495" y="664"/>
                      </a:lnTo>
                      <a:lnTo>
                        <a:pt x="490" y="696"/>
                      </a:lnTo>
                      <a:lnTo>
                        <a:pt x="417" y="707"/>
                      </a:lnTo>
                      <a:lnTo>
                        <a:pt x="307" y="707"/>
                      </a:lnTo>
                      <a:lnTo>
                        <a:pt x="238" y="740"/>
                      </a:lnTo>
                      <a:lnTo>
                        <a:pt x="213" y="823"/>
                      </a:lnTo>
                      <a:lnTo>
                        <a:pt x="213" y="866"/>
                      </a:lnTo>
                      <a:lnTo>
                        <a:pt x="184" y="876"/>
                      </a:lnTo>
                      <a:lnTo>
                        <a:pt x="139" y="837"/>
                      </a:lnTo>
                      <a:lnTo>
                        <a:pt x="147" y="768"/>
                      </a:lnTo>
                      <a:lnTo>
                        <a:pt x="188" y="718"/>
                      </a:lnTo>
                      <a:lnTo>
                        <a:pt x="270" y="674"/>
                      </a:lnTo>
                      <a:lnTo>
                        <a:pt x="359" y="653"/>
                      </a:lnTo>
                      <a:lnTo>
                        <a:pt x="368" y="631"/>
                      </a:lnTo>
                      <a:lnTo>
                        <a:pt x="324" y="588"/>
                      </a:lnTo>
                      <a:lnTo>
                        <a:pt x="135" y="480"/>
                      </a:lnTo>
                      <a:lnTo>
                        <a:pt x="78" y="437"/>
                      </a:lnTo>
                      <a:lnTo>
                        <a:pt x="24" y="379"/>
                      </a:lnTo>
                      <a:lnTo>
                        <a:pt x="0" y="314"/>
                      </a:lnTo>
                      <a:lnTo>
                        <a:pt x="16" y="275"/>
                      </a:lnTo>
                      <a:lnTo>
                        <a:pt x="110" y="249"/>
                      </a:lnTo>
                      <a:lnTo>
                        <a:pt x="225" y="206"/>
                      </a:lnTo>
                      <a:lnTo>
                        <a:pt x="298" y="162"/>
                      </a:lnTo>
                      <a:lnTo>
                        <a:pt x="319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781360" y="4820040"/>
                  <a:ext cx="105840" cy="259920"/>
                </a:xfrm>
                <a:custGeom>
                  <a:avLst/>
                  <a:gdLst/>
                  <a:ahLst/>
                  <a:rect l="l" t="t" r="r" b="b"/>
                  <a:pathLst>
                    <a:path w="418" h="840">
                      <a:moveTo>
                        <a:pt x="89" y="64"/>
                      </a:moveTo>
                      <a:lnTo>
                        <a:pt x="126" y="11"/>
                      </a:lnTo>
                      <a:lnTo>
                        <a:pt x="171" y="0"/>
                      </a:lnTo>
                      <a:lnTo>
                        <a:pt x="233" y="0"/>
                      </a:lnTo>
                      <a:lnTo>
                        <a:pt x="311" y="39"/>
                      </a:lnTo>
                      <a:lnTo>
                        <a:pt x="360" y="126"/>
                      </a:lnTo>
                      <a:lnTo>
                        <a:pt x="397" y="238"/>
                      </a:lnTo>
                      <a:lnTo>
                        <a:pt x="418" y="353"/>
                      </a:lnTo>
                      <a:lnTo>
                        <a:pt x="418" y="508"/>
                      </a:lnTo>
                      <a:lnTo>
                        <a:pt x="373" y="678"/>
                      </a:lnTo>
                      <a:lnTo>
                        <a:pt x="307" y="778"/>
                      </a:lnTo>
                      <a:lnTo>
                        <a:pt x="220" y="828"/>
                      </a:lnTo>
                      <a:lnTo>
                        <a:pt x="139" y="840"/>
                      </a:lnTo>
                      <a:lnTo>
                        <a:pt x="77" y="807"/>
                      </a:lnTo>
                      <a:lnTo>
                        <a:pt x="28" y="767"/>
                      </a:lnTo>
                      <a:lnTo>
                        <a:pt x="15" y="703"/>
                      </a:lnTo>
                      <a:lnTo>
                        <a:pt x="0" y="580"/>
                      </a:lnTo>
                      <a:lnTo>
                        <a:pt x="12" y="428"/>
                      </a:lnTo>
                      <a:lnTo>
                        <a:pt x="49" y="270"/>
                      </a:lnTo>
                      <a:lnTo>
                        <a:pt x="73" y="158"/>
                      </a:lnTo>
                      <a:lnTo>
                        <a:pt x="89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811600" y="5046120"/>
                  <a:ext cx="60480" cy="338760"/>
                </a:xfrm>
                <a:custGeom>
                  <a:avLst/>
                  <a:gdLst/>
                  <a:ahLst/>
                  <a:rect l="l" t="t" r="r" b="b"/>
                  <a:pathLst>
                    <a:path w="245" h="1095">
                      <a:moveTo>
                        <a:pt x="118" y="194"/>
                      </a:moveTo>
                      <a:lnTo>
                        <a:pt x="85" y="122"/>
                      </a:lnTo>
                      <a:lnTo>
                        <a:pt x="85" y="43"/>
                      </a:lnTo>
                      <a:lnTo>
                        <a:pt x="130" y="0"/>
                      </a:lnTo>
                      <a:lnTo>
                        <a:pt x="183" y="21"/>
                      </a:lnTo>
                      <a:lnTo>
                        <a:pt x="220" y="97"/>
                      </a:lnTo>
                      <a:lnTo>
                        <a:pt x="240" y="226"/>
                      </a:lnTo>
                      <a:lnTo>
                        <a:pt x="245" y="388"/>
                      </a:lnTo>
                      <a:lnTo>
                        <a:pt x="232" y="529"/>
                      </a:lnTo>
                      <a:lnTo>
                        <a:pt x="208" y="681"/>
                      </a:lnTo>
                      <a:lnTo>
                        <a:pt x="208" y="864"/>
                      </a:lnTo>
                      <a:lnTo>
                        <a:pt x="240" y="940"/>
                      </a:lnTo>
                      <a:lnTo>
                        <a:pt x="228" y="975"/>
                      </a:lnTo>
                      <a:lnTo>
                        <a:pt x="171" y="987"/>
                      </a:lnTo>
                      <a:lnTo>
                        <a:pt x="110" y="1037"/>
                      </a:lnTo>
                      <a:lnTo>
                        <a:pt x="82" y="1081"/>
                      </a:lnTo>
                      <a:lnTo>
                        <a:pt x="12" y="1095"/>
                      </a:lnTo>
                      <a:lnTo>
                        <a:pt x="0" y="1048"/>
                      </a:lnTo>
                      <a:lnTo>
                        <a:pt x="24" y="1008"/>
                      </a:lnTo>
                      <a:lnTo>
                        <a:pt x="110" y="975"/>
                      </a:lnTo>
                      <a:lnTo>
                        <a:pt x="171" y="951"/>
                      </a:lnTo>
                      <a:lnTo>
                        <a:pt x="191" y="929"/>
                      </a:lnTo>
                      <a:lnTo>
                        <a:pt x="167" y="868"/>
                      </a:lnTo>
                      <a:lnTo>
                        <a:pt x="147" y="745"/>
                      </a:lnTo>
                      <a:lnTo>
                        <a:pt x="142" y="598"/>
                      </a:lnTo>
                      <a:lnTo>
                        <a:pt x="147" y="500"/>
                      </a:lnTo>
                      <a:lnTo>
                        <a:pt x="154" y="367"/>
                      </a:lnTo>
                      <a:lnTo>
                        <a:pt x="142" y="248"/>
                      </a:lnTo>
                      <a:lnTo>
                        <a:pt x="118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725200" y="5047560"/>
                  <a:ext cx="95040" cy="337320"/>
                </a:xfrm>
                <a:custGeom>
                  <a:avLst/>
                  <a:gdLst/>
                  <a:ahLst/>
                  <a:rect l="l" t="t" r="r" b="b"/>
                  <a:pathLst>
                    <a:path w="381" h="1092">
                      <a:moveTo>
                        <a:pt x="234" y="101"/>
                      </a:moveTo>
                      <a:lnTo>
                        <a:pt x="274" y="33"/>
                      </a:lnTo>
                      <a:lnTo>
                        <a:pt x="323" y="0"/>
                      </a:lnTo>
                      <a:lnTo>
                        <a:pt x="381" y="21"/>
                      </a:lnTo>
                      <a:lnTo>
                        <a:pt x="372" y="87"/>
                      </a:lnTo>
                      <a:lnTo>
                        <a:pt x="335" y="133"/>
                      </a:lnTo>
                      <a:lnTo>
                        <a:pt x="263" y="249"/>
                      </a:lnTo>
                      <a:lnTo>
                        <a:pt x="214" y="360"/>
                      </a:lnTo>
                      <a:lnTo>
                        <a:pt x="185" y="479"/>
                      </a:lnTo>
                      <a:lnTo>
                        <a:pt x="189" y="595"/>
                      </a:lnTo>
                      <a:lnTo>
                        <a:pt x="234" y="749"/>
                      </a:lnTo>
                      <a:lnTo>
                        <a:pt x="271" y="898"/>
                      </a:lnTo>
                      <a:lnTo>
                        <a:pt x="323" y="962"/>
                      </a:lnTo>
                      <a:lnTo>
                        <a:pt x="320" y="999"/>
                      </a:lnTo>
                      <a:lnTo>
                        <a:pt x="274" y="1017"/>
                      </a:lnTo>
                      <a:lnTo>
                        <a:pt x="172" y="1030"/>
                      </a:lnTo>
                      <a:lnTo>
                        <a:pt x="99" y="1070"/>
                      </a:lnTo>
                      <a:lnTo>
                        <a:pt x="62" y="1092"/>
                      </a:lnTo>
                      <a:lnTo>
                        <a:pt x="0" y="1042"/>
                      </a:lnTo>
                      <a:lnTo>
                        <a:pt x="13" y="1009"/>
                      </a:lnTo>
                      <a:lnTo>
                        <a:pt x="74" y="987"/>
                      </a:lnTo>
                      <a:lnTo>
                        <a:pt x="152" y="977"/>
                      </a:lnTo>
                      <a:lnTo>
                        <a:pt x="226" y="977"/>
                      </a:lnTo>
                      <a:lnTo>
                        <a:pt x="238" y="956"/>
                      </a:lnTo>
                      <a:lnTo>
                        <a:pt x="226" y="919"/>
                      </a:lnTo>
                      <a:lnTo>
                        <a:pt x="164" y="779"/>
                      </a:lnTo>
                      <a:lnTo>
                        <a:pt x="123" y="641"/>
                      </a:lnTo>
                      <a:lnTo>
                        <a:pt x="103" y="541"/>
                      </a:lnTo>
                      <a:lnTo>
                        <a:pt x="99" y="447"/>
                      </a:lnTo>
                      <a:lnTo>
                        <a:pt x="115" y="357"/>
                      </a:lnTo>
                      <a:lnTo>
                        <a:pt x="152" y="263"/>
                      </a:lnTo>
                      <a:lnTo>
                        <a:pt x="209" y="140"/>
                      </a:lnTo>
                      <a:lnTo>
                        <a:pt x="234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43200" y="4624920"/>
                  <a:ext cx="124200" cy="176400"/>
                </a:xfrm>
                <a:custGeom>
                  <a:avLst/>
                  <a:gdLst/>
                  <a:ahLst/>
                  <a:rect l="l" t="t" r="r" b="b"/>
                  <a:pathLst>
                    <a:path w="490" h="570">
                      <a:moveTo>
                        <a:pt x="179" y="477"/>
                      </a:moveTo>
                      <a:lnTo>
                        <a:pt x="216" y="548"/>
                      </a:lnTo>
                      <a:lnTo>
                        <a:pt x="302" y="570"/>
                      </a:lnTo>
                      <a:lnTo>
                        <a:pt x="376" y="563"/>
                      </a:lnTo>
                      <a:lnTo>
                        <a:pt x="436" y="517"/>
                      </a:lnTo>
                      <a:lnTo>
                        <a:pt x="485" y="422"/>
                      </a:lnTo>
                      <a:lnTo>
                        <a:pt x="490" y="310"/>
                      </a:lnTo>
                      <a:lnTo>
                        <a:pt x="473" y="213"/>
                      </a:lnTo>
                      <a:lnTo>
                        <a:pt x="404" y="104"/>
                      </a:lnTo>
                      <a:lnTo>
                        <a:pt x="354" y="54"/>
                      </a:lnTo>
                      <a:lnTo>
                        <a:pt x="302" y="22"/>
                      </a:lnTo>
                      <a:lnTo>
                        <a:pt x="253" y="0"/>
                      </a:lnTo>
                      <a:lnTo>
                        <a:pt x="167" y="7"/>
                      </a:lnTo>
                      <a:lnTo>
                        <a:pt x="122" y="73"/>
                      </a:lnTo>
                      <a:lnTo>
                        <a:pt x="98" y="141"/>
                      </a:lnTo>
                      <a:lnTo>
                        <a:pt x="98" y="249"/>
                      </a:lnTo>
                      <a:lnTo>
                        <a:pt x="118" y="354"/>
                      </a:lnTo>
                      <a:lnTo>
                        <a:pt x="142" y="411"/>
                      </a:lnTo>
                      <a:lnTo>
                        <a:pt x="7" y="498"/>
                      </a:lnTo>
                      <a:lnTo>
                        <a:pt x="0" y="530"/>
                      </a:lnTo>
                      <a:lnTo>
                        <a:pt x="20" y="548"/>
                      </a:lnTo>
                      <a:lnTo>
                        <a:pt x="167" y="451"/>
                      </a:lnTo>
                      <a:lnTo>
                        <a:pt x="179" y="4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788920" y="4587840"/>
                  <a:ext cx="245520" cy="295920"/>
                </a:xfrm>
                <a:custGeom>
                  <a:avLst/>
                  <a:gdLst/>
                  <a:ahLst/>
                  <a:rect l="l" t="t" r="r" b="b"/>
                  <a:pathLst>
                    <a:path w="975" h="954">
                      <a:moveTo>
                        <a:pt x="648" y="660"/>
                      </a:moveTo>
                      <a:lnTo>
                        <a:pt x="600" y="703"/>
                      </a:lnTo>
                      <a:lnTo>
                        <a:pt x="497" y="756"/>
                      </a:lnTo>
                      <a:lnTo>
                        <a:pt x="404" y="789"/>
                      </a:lnTo>
                      <a:lnTo>
                        <a:pt x="338" y="822"/>
                      </a:lnTo>
                      <a:lnTo>
                        <a:pt x="276" y="865"/>
                      </a:lnTo>
                      <a:lnTo>
                        <a:pt x="269" y="941"/>
                      </a:lnTo>
                      <a:lnTo>
                        <a:pt x="330" y="954"/>
                      </a:lnTo>
                      <a:lnTo>
                        <a:pt x="485" y="875"/>
                      </a:lnTo>
                      <a:lnTo>
                        <a:pt x="600" y="782"/>
                      </a:lnTo>
                      <a:lnTo>
                        <a:pt x="734" y="663"/>
                      </a:lnTo>
                      <a:lnTo>
                        <a:pt x="844" y="587"/>
                      </a:lnTo>
                      <a:lnTo>
                        <a:pt x="938" y="529"/>
                      </a:lnTo>
                      <a:lnTo>
                        <a:pt x="975" y="501"/>
                      </a:lnTo>
                      <a:lnTo>
                        <a:pt x="962" y="465"/>
                      </a:lnTo>
                      <a:lnTo>
                        <a:pt x="918" y="415"/>
                      </a:lnTo>
                      <a:lnTo>
                        <a:pt x="755" y="336"/>
                      </a:lnTo>
                      <a:lnTo>
                        <a:pt x="600" y="263"/>
                      </a:lnTo>
                      <a:lnTo>
                        <a:pt x="411" y="187"/>
                      </a:lnTo>
                      <a:lnTo>
                        <a:pt x="342" y="144"/>
                      </a:lnTo>
                      <a:lnTo>
                        <a:pt x="269" y="86"/>
                      </a:lnTo>
                      <a:lnTo>
                        <a:pt x="195" y="22"/>
                      </a:lnTo>
                      <a:lnTo>
                        <a:pt x="130" y="0"/>
                      </a:lnTo>
                      <a:lnTo>
                        <a:pt x="0" y="80"/>
                      </a:lnTo>
                      <a:lnTo>
                        <a:pt x="8" y="155"/>
                      </a:lnTo>
                      <a:lnTo>
                        <a:pt x="32" y="184"/>
                      </a:lnTo>
                      <a:lnTo>
                        <a:pt x="98" y="173"/>
                      </a:lnTo>
                      <a:lnTo>
                        <a:pt x="86" y="141"/>
                      </a:lnTo>
                      <a:lnTo>
                        <a:pt x="61" y="129"/>
                      </a:lnTo>
                      <a:lnTo>
                        <a:pt x="49" y="91"/>
                      </a:lnTo>
                      <a:lnTo>
                        <a:pt x="121" y="47"/>
                      </a:lnTo>
                      <a:lnTo>
                        <a:pt x="183" y="91"/>
                      </a:lnTo>
                      <a:lnTo>
                        <a:pt x="183" y="129"/>
                      </a:lnTo>
                      <a:lnTo>
                        <a:pt x="158" y="177"/>
                      </a:lnTo>
                      <a:lnTo>
                        <a:pt x="179" y="209"/>
                      </a:lnTo>
                      <a:lnTo>
                        <a:pt x="301" y="238"/>
                      </a:lnTo>
                      <a:lnTo>
                        <a:pt x="350" y="198"/>
                      </a:lnTo>
                      <a:lnTo>
                        <a:pt x="514" y="285"/>
                      </a:lnTo>
                      <a:lnTo>
                        <a:pt x="648" y="339"/>
                      </a:lnTo>
                      <a:lnTo>
                        <a:pt x="722" y="371"/>
                      </a:lnTo>
                      <a:lnTo>
                        <a:pt x="795" y="404"/>
                      </a:lnTo>
                      <a:lnTo>
                        <a:pt x="852" y="447"/>
                      </a:lnTo>
                      <a:lnTo>
                        <a:pt x="889" y="490"/>
                      </a:lnTo>
                      <a:lnTo>
                        <a:pt x="856" y="522"/>
                      </a:lnTo>
                      <a:lnTo>
                        <a:pt x="778" y="566"/>
                      </a:lnTo>
                      <a:lnTo>
                        <a:pt x="697" y="615"/>
                      </a:lnTo>
                      <a:lnTo>
                        <a:pt x="648" y="6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cc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2860560" y="3835080"/>
                <a:ext cx="647640" cy="44280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974600" y="2367720"/>
                <a:ext cx="1533960" cy="144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860560" y="2790720"/>
                <a:ext cx="1233360" cy="160272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249000" y="3133080"/>
                <a:ext cx="666000" cy="92448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74600" y="3036960"/>
                <a:ext cx="852480" cy="135684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731600" y="3835080"/>
                <a:ext cx="1128960" cy="22284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754280" y="2369520"/>
                <a:ext cx="1753920" cy="168840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249000" y="2369520"/>
                <a:ext cx="259200" cy="800640"/>
              </a:xfrm>
              <a:prstGeom prst="line">
                <a:avLst/>
              </a:prstGeom>
              <a:ln cap="sq" w="12600">
                <a:solidFill>
                  <a:srgbClr val="cc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2470680" y="2570760"/>
                <a:ext cx="778320" cy="1263960"/>
                <a:chOff x="2470680" y="2570760"/>
                <a:chExt cx="778320" cy="12639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470680" y="2570760"/>
                  <a:ext cx="778320" cy="1263960"/>
                </a:xfrm>
                <a:prstGeom prst="flowChartProcess">
                  <a:avLst/>
                </a:prstGeom>
                <a:solidFill>
                  <a:srgbClr val="ffff66"/>
                </a:solidFill>
                <a:ln w="0">
                  <a:noFill/>
                </a:ln>
                <a:effectLst>
                  <a:outerShdw dist="17819" dir="2700000" blurRad="0" rotWithShape="0">
                    <a:srgbClr val="98983c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520360" y="2790360"/>
                  <a:ext cx="587160" cy="892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oteir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tiv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sos de Negó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agem de Processos de Negóc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o, métodos e ferrament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plicações, benefícios e oportunida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ase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87640" y="4514760"/>
            <a:ext cx="1368360" cy="6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delo de negócio da organizaçã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0160" y="4723920"/>
            <a:ext cx="449712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Quem são as pessoas da organizaçã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o o trabalho é realiz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mo os objetivos se ligam aos processos de negóci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rodutos/serviços gerados pelos process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96960" y="1916280"/>
            <a:ext cx="8267400" cy="4737240"/>
            <a:chOff x="696960" y="1916280"/>
            <a:chExt cx="8267400" cy="4737240"/>
          </a:xfrm>
        </p:grpSpPr>
        <p:grpSp>
          <p:nvGrpSpPr>
            <p:cNvPr id="245" name=""/>
            <p:cNvGrpSpPr/>
            <p:nvPr/>
          </p:nvGrpSpPr>
          <p:grpSpPr>
            <a:xfrm>
              <a:off x="696960" y="2079360"/>
              <a:ext cx="2067480" cy="1147680"/>
              <a:chOff x="696960" y="2079360"/>
              <a:chExt cx="2067480" cy="1147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87560" y="2079360"/>
                <a:ext cx="1155240" cy="61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>
                <a:off x="696960" y="2768040"/>
                <a:ext cx="2067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66"/>
                    </a:solidFill>
                    <a:latin typeface="Arial"/>
                  </a:rPr>
                  <a:t>Modelo de Interação do Negócio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752120" y="3283920"/>
              <a:ext cx="1482840" cy="1366920"/>
              <a:chOff x="1752120" y="3283920"/>
              <a:chExt cx="1482840" cy="1366920"/>
            </a:xfrm>
          </p:grpSpPr>
          <p:pic>
            <p:nvPicPr>
              <p:cNvPr id="2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41400" y="3283920"/>
                <a:ext cx="865800" cy="85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52120" y="4191840"/>
                <a:ext cx="1482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66"/>
                    </a:solidFill>
                    <a:latin typeface="Arial"/>
                  </a:rPr>
                  <a:t>Modelo de Event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6498360" y="1995480"/>
              <a:ext cx="1832040" cy="1137600"/>
              <a:chOff x="6498360" y="1995480"/>
              <a:chExt cx="1832040" cy="1137600"/>
            </a:xfrm>
          </p:grpSpPr>
          <p:pic>
            <p:nvPicPr>
              <p:cNvPr id="25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505920" y="1995480"/>
                <a:ext cx="1139760" cy="87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6498360" y="2856600"/>
                <a:ext cx="1832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66"/>
                    </a:solidFill>
                    <a:latin typeface="Arial"/>
                  </a:rPr>
                  <a:t>Modelo de Localiz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09360" y="1967040"/>
              <a:ext cx="1767600" cy="1315800"/>
              <a:chOff x="3609360" y="1967040"/>
              <a:chExt cx="1767600" cy="1315800"/>
            </a:xfrm>
          </p:grpSpPr>
          <p:pic>
            <p:nvPicPr>
              <p:cNvPr id="25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5000" y="1967040"/>
                <a:ext cx="1321200" cy="85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3609360" y="2823840"/>
                <a:ext cx="1767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66"/>
                    </a:solidFill>
                    <a:latin typeface="Arial"/>
                  </a:rPr>
                  <a:t>Modelo da Organizaçã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741440" y="3337920"/>
              <a:ext cx="1027800" cy="1186560"/>
              <a:chOff x="7741440" y="3337920"/>
              <a:chExt cx="1027800" cy="1186560"/>
            </a:xfrm>
          </p:grpSpPr>
          <p:pic>
            <p:nvPicPr>
              <p:cNvPr id="25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890480" y="3337920"/>
                <a:ext cx="735120" cy="71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741440" y="4065480"/>
                <a:ext cx="1027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66"/>
                    </a:solidFill>
                    <a:latin typeface="Arial"/>
                  </a:rPr>
                  <a:t>Modelo de Objetiv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72320" y="1917720"/>
              <a:ext cx="1532160" cy="459720"/>
              <a:chOff x="2272320" y="1917720"/>
              <a:chExt cx="1532160" cy="459720"/>
            </a:xfrm>
          </p:grpSpPr>
          <p:sp>
            <p:nvSpPr>
              <p:cNvPr id="261" name=""/>
              <p:cNvSpPr/>
              <p:nvPr/>
            </p:nvSpPr>
            <p:spPr>
              <a:xfrm>
                <a:off x="2347560" y="1917720"/>
                <a:ext cx="125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Arial"/>
                  </a:rPr>
                  <a:t>Quem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72320" y="2329200"/>
                <a:ext cx="153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056920" y="1916280"/>
              <a:ext cx="1420200" cy="459720"/>
              <a:chOff x="5056920" y="1916280"/>
              <a:chExt cx="1420200" cy="459720"/>
            </a:xfrm>
          </p:grpSpPr>
          <p:sp>
            <p:nvSpPr>
              <p:cNvPr id="264" name=""/>
              <p:cNvSpPr/>
              <p:nvPr/>
            </p:nvSpPr>
            <p:spPr>
              <a:xfrm>
                <a:off x="5169240" y="1916280"/>
                <a:ext cx="130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Arial"/>
                  </a:rPr>
                  <a:t>Onde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056920" y="2316240"/>
                <a:ext cx="1420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644560" y="3324240"/>
              <a:ext cx="1407600" cy="825480"/>
              <a:chOff x="2644560" y="3324240"/>
              <a:chExt cx="1407600" cy="82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2644560" y="3324240"/>
                <a:ext cx="1407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Arial"/>
                  </a:rPr>
                  <a:t>Quando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848680" y="3712320"/>
                <a:ext cx="970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860000" y="3319920"/>
              <a:ext cx="1181520" cy="459720"/>
              <a:chOff x="4860000" y="3319920"/>
              <a:chExt cx="1181520" cy="459720"/>
            </a:xfrm>
          </p:grpSpPr>
          <p:sp>
            <p:nvSpPr>
              <p:cNvPr id="270" name=""/>
              <p:cNvSpPr/>
              <p:nvPr/>
            </p:nvSpPr>
            <p:spPr>
              <a:xfrm>
                <a:off x="4860000" y="3319920"/>
                <a:ext cx="1181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Arial"/>
                  </a:rPr>
                  <a:t>Como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902840" y="3712320"/>
                <a:ext cx="98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6706080" y="3315600"/>
              <a:ext cx="1329120" cy="825480"/>
              <a:chOff x="6706080" y="3315600"/>
              <a:chExt cx="1329120" cy="825480"/>
            </a:xfrm>
          </p:grpSpPr>
          <p:sp>
            <p:nvSpPr>
              <p:cNvPr id="273" name=""/>
              <p:cNvSpPr/>
              <p:nvPr/>
            </p:nvSpPr>
            <p:spPr>
              <a:xfrm>
                <a:off x="6706080" y="3315600"/>
                <a:ext cx="1329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Arial"/>
                  </a:rPr>
                  <a:t>Porque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54760" y="3712320"/>
                <a:ext cx="943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5229000" y="4119840"/>
              <a:ext cx="2616480" cy="1349640"/>
              <a:chOff x="5229000" y="4119840"/>
              <a:chExt cx="2616480" cy="1349640"/>
            </a:xfrm>
          </p:grpSpPr>
          <p:sp>
            <p:nvSpPr>
              <p:cNvPr id="276" name=""/>
              <p:cNvSpPr/>
              <p:nvPr/>
            </p:nvSpPr>
            <p:spPr>
              <a:xfrm>
                <a:off x="6631560" y="468612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66"/>
                    </a:solidFill>
                    <a:latin typeface="Arial"/>
                  </a:rPr>
                  <a:t>O que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229000" y="4119840"/>
                <a:ext cx="1656720" cy="134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766320" y="2834280"/>
              <a:ext cx="1307520" cy="1809720"/>
              <a:chOff x="3766320" y="2834280"/>
              <a:chExt cx="1307520" cy="1809720"/>
            </a:xfrm>
          </p:grpSpPr>
          <p:sp>
            <p:nvSpPr>
              <p:cNvPr id="279" name=""/>
              <p:cNvSpPr/>
              <p:nvPr/>
            </p:nvSpPr>
            <p:spPr>
              <a:xfrm>
                <a:off x="4395240" y="2834280"/>
                <a:ext cx="0" cy="43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3766320" y="3354120"/>
                <a:ext cx="1307520" cy="1289880"/>
                <a:chOff x="3766320" y="3354120"/>
                <a:chExt cx="1307520" cy="1289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6320" y="4185000"/>
                  <a:ext cx="13075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200" spc="-1" strike="noStrike">
                      <a:solidFill>
                        <a:srgbClr val="006666"/>
                      </a:solidFill>
                      <a:latin typeface="Arial"/>
                    </a:rPr>
                    <a:t>Modelo Workfl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953880" y="3354120"/>
                  <a:ext cx="865800" cy="87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3" name=""/>
            <p:cNvGrpSpPr/>
            <p:nvPr/>
          </p:nvGrpSpPr>
          <p:grpSpPr>
            <a:xfrm>
              <a:off x="5886000" y="3357360"/>
              <a:ext cx="1706040" cy="1043280"/>
              <a:chOff x="5886000" y="3357360"/>
              <a:chExt cx="1706040" cy="1043280"/>
            </a:xfrm>
          </p:grpSpPr>
          <p:sp>
            <p:nvSpPr>
              <p:cNvPr id="284" name=""/>
              <p:cNvSpPr/>
              <p:nvPr/>
            </p:nvSpPr>
            <p:spPr>
              <a:xfrm>
                <a:off x="5886000" y="4124160"/>
                <a:ext cx="170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6666"/>
                    </a:solidFill>
                    <a:latin typeface="Arial"/>
                  </a:rPr>
                  <a:t>Modelo de  Process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079680" y="3357360"/>
                <a:ext cx="707040" cy="68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6" name=""/>
            <p:cNvGrpSpPr/>
            <p:nvPr/>
          </p:nvGrpSpPr>
          <p:grpSpPr>
            <a:xfrm>
              <a:off x="6410880" y="4943880"/>
              <a:ext cx="2553480" cy="1709640"/>
              <a:chOff x="6410880" y="4943880"/>
              <a:chExt cx="2553480" cy="1709640"/>
            </a:xfrm>
          </p:grpSpPr>
          <p:sp>
            <p:nvSpPr>
              <p:cNvPr id="287" name=""/>
              <p:cNvSpPr/>
              <p:nvPr/>
            </p:nvSpPr>
            <p:spPr>
              <a:xfrm>
                <a:off x="6410880" y="6133320"/>
                <a:ext cx="2553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o de Objetos de Negóci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1280" y="4943880"/>
                <a:ext cx="1784520" cy="118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omo desenvolver um projeto de modelagem de processos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736800" y="4314960"/>
            <a:ext cx="16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jeto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129120" y="2070000"/>
            <a:ext cx="3022560" cy="1957320"/>
            <a:chOff x="3129120" y="2070000"/>
            <a:chExt cx="3022560" cy="195732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3129120" y="2435400"/>
              <a:ext cx="302256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 txBox="1"/>
            <p:nvPr/>
          </p:nvSpPr>
          <p:spPr>
            <a:xfrm>
              <a:off x="3705120" y="2070000"/>
              <a:ext cx="1859040" cy="647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ff"/>
                  </a:solidFill>
                  <a:latin typeface="Arial Black"/>
                </a:rPr>
                <a:t>Métod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32240" y="3246480"/>
              <a:ext cx="486000" cy="780840"/>
            </a:xfrm>
            <a:prstGeom prst="downArrow">
              <a:avLst>
                <a:gd name="adj1" fmla="val 50000"/>
                <a:gd name="adj2" fmla="val 401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514840" y="3746520"/>
            <a:ext cx="2873520" cy="1882800"/>
            <a:chOff x="5514840" y="3746520"/>
            <a:chExt cx="2873520" cy="1882800"/>
          </a:xfrm>
        </p:grpSpPr>
        <p:grpSp>
          <p:nvGrpSpPr>
            <p:cNvPr id="296" name=""/>
            <p:cNvGrpSpPr/>
            <p:nvPr/>
          </p:nvGrpSpPr>
          <p:grpSpPr>
            <a:xfrm>
              <a:off x="6683400" y="3746520"/>
              <a:ext cx="1704960" cy="1882800"/>
              <a:chOff x="6683400" y="3746520"/>
              <a:chExt cx="1704960" cy="1882800"/>
            </a:xfrm>
          </p:grpSpPr>
          <p:pic>
            <p:nvPicPr>
              <p:cNvPr id="2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759720" y="3746520"/>
                <a:ext cx="1504800" cy="139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 txBox="1"/>
              <p:nvPr/>
            </p:nvSpPr>
            <p:spPr>
              <a:xfrm>
                <a:off x="6683400" y="5029200"/>
                <a:ext cx="1704960" cy="600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 Black"/>
                  </a:rPr>
                  <a:t>Ferramentas</a:t>
                </a:r>
                <a:endParaRPr b="0" lang="en-US" sz="2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  <a:ea typeface="Arial Black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5514840" y="4402080"/>
              <a:ext cx="976320" cy="486000"/>
            </a:xfrm>
            <a:prstGeom prst="leftArrow">
              <a:avLst>
                <a:gd name="adj1" fmla="val 50000"/>
                <a:gd name="adj2" fmla="val 5022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23960" y="3637080"/>
            <a:ext cx="2932200" cy="2023920"/>
            <a:chOff x="723960" y="3637080"/>
            <a:chExt cx="2932200" cy="2023920"/>
          </a:xfrm>
        </p:grpSpPr>
        <p:pic>
          <p:nvPicPr>
            <p:cNvPr id="301" name="" descr=""/>
            <p:cNvPicPr/>
            <p:nvPr/>
          </p:nvPicPr>
          <p:blipFill>
            <a:blip r:embed="rId3"/>
            <a:stretch/>
          </p:blipFill>
          <p:spPr>
            <a:xfrm>
              <a:off x="774720" y="3637080"/>
              <a:ext cx="18144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679840" y="441324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723960" y="5060880"/>
              <a:ext cx="1704960" cy="600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latin typeface="Arial Black"/>
                </a:rPr>
                <a:t>Modelo</a:t>
              </a:r>
              <a:endParaRPr b="0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  <a:ea typeface="Arial Black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, Métodos e Ferramenta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odelo é uma representação de  um objeto qualqu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uma abstração da realida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model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presenta, simplificadamente, o que se pretende constru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controlar a qualida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mite que o projetista, o construtor e o cliente tenham a mesma visão do problem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de ser testado e simul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o de Process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506600" y="1708200"/>
            <a:ext cx="7313400" cy="44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agem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 conhecimento humano é composto de modelos do mundo real ou de modelos criados a partir de outros existentes em nossa m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iste em criar um modelo de uma parcela do mundo real ou a partir de outro model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m um modelo optamos por representar as características do mundo real que são do nosso interesse, ou seja, que são relevantes para o propósito da modelag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Modelagem de Processo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932040" y="3147840"/>
            <a:ext cx="796104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Ferramenta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2082960" y="1541520"/>
            <a:ext cx="501012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Outras funcionalidad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 de planejament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lanejamento da implementação e estratégia de execu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 de análise da Organizaçã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Mapear e planejar a mudança da organizaçã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 de Modelagem e Análi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Modelar o presente, o futuro e especular (“what-if”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 de avaliação de custos das ativi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valiar o custo das atividades do processo (recursos e temp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 de Simulação gráfica do model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Medir a produtividade, qualidade e outras medida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Ferramenta de Análise de Benchmar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Comparar com processos de outras organizaçõ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plicações, benefícios e oportunidad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 que é um processo de negócio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  <a:ea typeface="Arial"/>
              </a:rPr>
              <a:t>Se você já esperou na fila em uma loja, você entende a necessidade da melhoria de processo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  <a:ea typeface="Arial"/>
              </a:rPr>
              <a:t>Neste caso, o “processo” é chamado processo de </a:t>
            </a:r>
            <a:r>
              <a:rPr b="0" i="1" lang="pt-BR" sz="1700" spc="-1" strike="noStrike">
                <a:solidFill>
                  <a:srgbClr val="000000"/>
                </a:solidFill>
                <a:latin typeface="Verdana"/>
                <a:ea typeface="Arial"/>
              </a:rPr>
              <a:t>check-out</a:t>
            </a:r>
            <a:r>
              <a:rPr b="0" lang="pt-BR" sz="1700" spc="-1" strike="noStrike">
                <a:solidFill>
                  <a:srgbClr val="000000"/>
                </a:solidFill>
                <a:latin typeface="Verdana"/>
                <a:ea typeface="Arial"/>
              </a:rPr>
              <a:t> e o seu propósito é pagar e embalar o seu produt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  <a:ea typeface="Arial"/>
              </a:rPr>
              <a:t>O processo começa com você entrando na fila e termina com você recebendo o produto que comprou e deixando a loja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  <a:ea typeface="Arial"/>
              </a:rPr>
              <a:t>Você é o cliente e a loja é o fornecedo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  <a:ea typeface="Arial"/>
              </a:rPr>
              <a:t>Os passos do processo são as atividades que você e o pessoal da loja tem que fazer para completar a transação. Este exemplo simples descreve um processo de negócio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  <a:ea typeface="Arial"/>
              </a:rPr>
              <a:t>Imagine outros processos de negócio dos quais você participa: requisição de serviços da sua companhia telefônica, administração de seguros, compra de um automóvel, …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Aplicaçõ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o melhor entendimento da organiz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conscientizar a organização sobre sua importâ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possibilitar a reengenharia ou a melhoria contínua dos proces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identificar atividades candidatas à automação e sua relação com outras ativida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ara automatizar o controle de execução de process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nefícios e Oportunidad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ó é possível melhorar aquilo que se conhe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O conhecimento só é generalizado quando é tornado explíci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representação de processos é uma excelente oportunidade de tornar o conhecimento tácito em explícito (externalizaçã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melhoria vem da combinação de conhecimentos explícitos e da conseqüente internalizaçã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Benefícios e Oportunidade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 a definição de processos é mais fácil identificar as atividades que devem ter um suporte computacional (automaçã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especificação dos sistemas a serem desenvolvidos são mais natura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stemas melhor especificados são mais baratos e mais adequados à realidade dos negóc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onclusã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1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i="1" lang="pt-BR" sz="3700" spc="-1" strike="noStrike">
                <a:solidFill>
                  <a:srgbClr val="003366"/>
                </a:solidFill>
                <a:latin typeface="Verdana"/>
              </a:rPr>
              <a:t>”</a:t>
            </a:r>
            <a:r>
              <a:rPr b="1" i="1" lang="pt-BR" sz="3700" spc="-1" strike="noStrike">
                <a:solidFill>
                  <a:srgbClr val="003366"/>
                </a:solidFill>
                <a:latin typeface="Verdana"/>
              </a:rPr>
              <a:t>... induzir aos bons hábitos corporativos, enquanto reduz ou elimina os maus hábitos.”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dução de custo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Redução de tempo de execução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Melhor qualidad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467400" y="3141720"/>
            <a:ext cx="2208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Case - Governo do </a:t>
            </a:r>
            <a:br>
              <a:rPr sz="4000"/>
            </a:b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Estado da Paraíba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052640"/>
            <a:ext cx="2806560" cy="133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upo TCI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to de BP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scop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todologi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rtefatos produz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ncipais dificuldad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luções, boas práticas e lições aprendid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ultados obt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spectivas para o futur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994200" y="2341440"/>
            <a:ext cx="4681440" cy="2419560"/>
          </a:xfrm>
          <a:prstGeom prst="rightArrow">
            <a:avLst>
              <a:gd name="adj1" fmla="val 50000"/>
              <a:gd name="adj2" fmla="val 48371"/>
            </a:avLst>
          </a:prstGeom>
          <a:gradFill rotWithShape="0">
            <a:gsLst>
              <a:gs pos="0">
                <a:srgbClr val="006666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1112760" y="2168640"/>
            <a:ext cx="4355280" cy="2570760"/>
            <a:chOff x="1112760" y="2168640"/>
            <a:chExt cx="4355280" cy="2570760"/>
          </a:xfrm>
        </p:grpSpPr>
        <p:sp>
          <p:nvSpPr>
            <p:cNvPr id="335" name=""/>
            <p:cNvSpPr/>
            <p:nvPr/>
          </p:nvSpPr>
          <p:spPr>
            <a:xfrm>
              <a:off x="1112760" y="3492000"/>
              <a:ext cx="1546920" cy="124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Oper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1120" y="3461040"/>
              <a:ext cx="1546920" cy="1247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Metodolo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70680" y="2168640"/>
              <a:ext cx="1546920" cy="124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>
                    <a:alpha val="70196"/>
                  </a:srgbClr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66"/>
                  </a:solidFill>
                  <a:latin typeface="Arial"/>
                </a:rPr>
                <a:t>Tecnolog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2216880" y="3083760"/>
              <a:ext cx="630720" cy="6613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36360" y="3114360"/>
              <a:ext cx="758160" cy="692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05160" y="4341600"/>
              <a:ext cx="170784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6256440" y="2960640"/>
            <a:ext cx="173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ess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sou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61080" y="3389400"/>
            <a:ext cx="20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37080" y="1773360"/>
            <a:ext cx="2447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ef1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icrosoft Sans Serif"/>
              </a:rPr>
              <a:t>Grupo T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89440" y="256536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60360" y="2957400"/>
            <a:ext cx="13716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ef1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</a:rPr>
              <a:t>TCI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29080" y="3389400"/>
            <a:ext cx="2120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140360" y="2884320"/>
            <a:ext cx="13716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ef1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</a:rPr>
              <a:t>TCI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45480" y="2957400"/>
            <a:ext cx="13716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ef1f2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oft Sans Serif"/>
              </a:rPr>
              <a:t>TCI 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564000" y="3965400"/>
            <a:ext cx="25923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van</a:t>
            </a: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GUARDA</a:t>
            </a:r>
            <a:br>
              <a:rPr sz="1600"/>
            </a:br>
            <a:r>
              <a:rPr b="0" lang="en-US" sz="1400" spc="-1" strike="noStrike">
                <a:solidFill>
                  <a:srgbClr val="777777"/>
                </a:solidFill>
                <a:latin typeface="Verdana"/>
              </a:rPr>
              <a:t>Focada em </a:t>
            </a:r>
            <a:r>
              <a:rPr b="1" lang="en-US" sz="1400" spc="-1" strike="noStrike">
                <a:solidFill>
                  <a:srgbClr val="777777"/>
                </a:solidFill>
                <a:latin typeface="Verdana"/>
              </a:rPr>
              <a:t>guarda e gerenciamento de inform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445080" y="4005360"/>
            <a:ext cx="2519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ideo</a:t>
            </a: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LOGÍ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Verdana"/>
              </a:rPr>
              <a:t>Focada em </a:t>
            </a:r>
            <a:r>
              <a:rPr b="1" lang="en-US" sz="1400" spc="-1" strike="noStrike">
                <a:solidFill>
                  <a:srgbClr val="777777"/>
                </a:solidFill>
                <a:latin typeface="Verdana"/>
              </a:rPr>
              <a:t>gestão inteligente de materiais e supr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4130640" y="5084640"/>
            <a:ext cx="1090800" cy="129708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352520" y="5410080"/>
            <a:ext cx="915840" cy="97164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7021440" y="5229360"/>
            <a:ext cx="851040" cy="1152360"/>
          </a:xfrm>
          <a:prstGeom prst="rect">
            <a:avLst/>
          </a:prstGeom>
          <a:ln w="9360">
            <a:solidFill>
              <a:srgbClr val="66ccff"/>
            </a:solidFill>
            <a:miter/>
          </a:ln>
        </p:spPr>
      </p:pic>
      <p:sp>
        <p:nvSpPr>
          <p:cNvPr id="355" name=""/>
          <p:cNvSpPr/>
          <p:nvPr/>
        </p:nvSpPr>
        <p:spPr>
          <a:xfrm>
            <a:off x="1260360" y="4014720"/>
            <a:ext cx="1944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Verdana"/>
              </a:rPr>
              <a:t>re</a:t>
            </a:r>
            <a:r>
              <a:rPr b="1" lang="en-US" sz="1600" spc="-1" strike="noStrike">
                <a:solidFill>
                  <a:srgbClr val="0033cc"/>
                </a:solidFill>
                <a:latin typeface="Verdana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Verdana"/>
              </a:rPr>
              <a:t>Focada em </a:t>
            </a:r>
            <a:r>
              <a:rPr b="1" lang="en-US" sz="1400" spc="-1" strike="noStrike">
                <a:solidFill>
                  <a:srgbClr val="777777"/>
                </a:solidFill>
                <a:latin typeface="Verdana"/>
              </a:rPr>
              <a:t>resolver problemas</a:t>
            </a:r>
            <a:r>
              <a:rPr b="0" lang="en-US" sz="1400" spc="-1" strike="noStrike">
                <a:solidFill>
                  <a:srgbClr val="777777"/>
                </a:solidFill>
                <a:latin typeface="Verdana"/>
              </a:rPr>
              <a:t> através de tecnolo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 problema das organizações na gestão de seu conhec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Cenário 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: Como funciona a organização e como posso fazê-la funcionar melhor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s organizações os processos existem mas nem sempre são explícitos 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o melhorar algo que eu não conheço bem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o resolver ambigüidades se eu não sei onde elas estão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o tratar inconsistências se eu não sei se elas existem e porque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611280" y="1703520"/>
            <a:ext cx="8424720" cy="503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82920" y="2343240"/>
            <a:ext cx="1038240" cy="2952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2206800"/>
            <a:ext cx="1143000" cy="3999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067280" y="2935440"/>
            <a:ext cx="1523880" cy="4950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771640" y="28544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154560" y="213516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12"/>
          <a:stretch/>
        </p:blipFill>
        <p:spPr>
          <a:xfrm>
            <a:off x="6083280" y="3143160"/>
            <a:ext cx="1008000" cy="50508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3"/>
          <a:stretch/>
        </p:blipFill>
        <p:spPr>
          <a:xfrm>
            <a:off x="898560" y="3214800"/>
            <a:ext cx="1143000" cy="57132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4"/>
          <a:stretch/>
        </p:blipFill>
        <p:spPr>
          <a:xfrm>
            <a:off x="898560" y="2351160"/>
            <a:ext cx="1225440" cy="62712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15"/>
          <a:stretch/>
        </p:blipFill>
        <p:spPr>
          <a:xfrm>
            <a:off x="7812000" y="3503520"/>
            <a:ext cx="719280" cy="4190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6"/>
          <a:stretch/>
        </p:blipFill>
        <p:spPr>
          <a:xfrm>
            <a:off x="7596360" y="4078440"/>
            <a:ext cx="1152360" cy="4302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7"/>
          <a:stretch/>
        </p:blipFill>
        <p:spPr>
          <a:xfrm>
            <a:off x="7594560" y="4511520"/>
            <a:ext cx="1152720" cy="5461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8"/>
          <a:stretch/>
        </p:blipFill>
        <p:spPr>
          <a:xfrm>
            <a:off x="7883640" y="2135160"/>
            <a:ext cx="647640" cy="596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9"/>
          <a:stretch/>
        </p:blipFill>
        <p:spPr>
          <a:xfrm>
            <a:off x="3995640" y="3726000"/>
            <a:ext cx="2016360" cy="496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2411280" y="1846440"/>
            <a:ext cx="0" cy="44654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95640" y="1846440"/>
            <a:ext cx="0" cy="44654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22920" y="1846440"/>
            <a:ext cx="0" cy="44654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80360" y="1846440"/>
            <a:ext cx="0" cy="446544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912960" y="1747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Serviç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20"/>
          <a:stretch/>
        </p:blipFill>
        <p:spPr>
          <a:xfrm>
            <a:off x="826920" y="3935520"/>
            <a:ext cx="1297080" cy="6667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1"/>
          <a:stretch/>
        </p:blipFill>
        <p:spPr>
          <a:xfrm>
            <a:off x="5994360" y="3719520"/>
            <a:ext cx="1170000" cy="1130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607840" y="17254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Tele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92560" y="17035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Financei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51960" y="1703520"/>
            <a:ext cx="10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Indúst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741440" y="17035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7777"/>
                </a:solidFill>
                <a:latin typeface="Arial"/>
              </a:rPr>
              <a:t>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2"/>
          <a:stretch/>
        </p:blipFill>
        <p:spPr>
          <a:xfrm>
            <a:off x="7667640" y="2782800"/>
            <a:ext cx="1008000" cy="7002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3"/>
          <a:stretch/>
        </p:blipFill>
        <p:spPr>
          <a:xfrm>
            <a:off x="682560" y="5446800"/>
            <a:ext cx="1584360" cy="496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4"/>
          <a:stretch/>
        </p:blipFill>
        <p:spPr>
          <a:xfrm>
            <a:off x="4354560" y="4511520"/>
            <a:ext cx="914400" cy="77652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Clique aqui para ampliar a imagem"/>
          <p:cNvPicPr/>
          <p:nvPr/>
        </p:nvPicPr>
        <p:blipFill>
          <a:blip r:embed="rId25"/>
          <a:stretch/>
        </p:blipFill>
        <p:spPr>
          <a:xfrm>
            <a:off x="7883640" y="5230800"/>
            <a:ext cx="647640" cy="55728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6"/>
          <a:stretch/>
        </p:blipFill>
        <p:spPr>
          <a:xfrm>
            <a:off x="7488360" y="6089760"/>
            <a:ext cx="1366560" cy="3286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7"/>
          <a:stretch/>
        </p:blipFill>
        <p:spPr>
          <a:xfrm>
            <a:off x="539640" y="4005360"/>
            <a:ext cx="1314720" cy="6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jeto de BP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peamento e redesenho dos principais processos das 4 maiores secretarias e a CODA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anhia de Processamento de dados da Paraíba – CODA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Órgão gestor e executor da política tecnológica do Estado da Paraíb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ponsável por toda a gestão e operação de tecnologia do estado da Paraíb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rai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lhoria no processo de atendimento de solicitações feitas à CODAT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specífico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xiliar a reestruturação organizacional da CODAT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lhorar a comunicação entre as diretorias e gerências da CODAT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senvolver o mecanismo de acompanhamento e gerenciamento do atendimento dos serviços prestado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scop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peamento do processo prioriz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licitação de atendimento de serviç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desenho para o processo priorizad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iação do plano de ação para a migração da situação atual para a situação desej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0548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684360" y="3068640"/>
            <a:ext cx="796104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todolog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dentificação dos processos de negóci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iorização dos processos de negóci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peamento da situação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ATUA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do processo priorizado (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MO É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licitação de Atendimento de Serviço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desenho para o processo priorizado (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MO DEVERIA SER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iação do plano de ação para a migração da situação atual para a situação desejad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basamento para inovações tecnológ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Ferramenta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soft Visio 2003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soft Project 2003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icrosoft Wor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rtefatos produzid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lano de projet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presentaçõ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tas de reuniã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cumento do projet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agramas da fase “como é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agramas da fase “como será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conexõ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gestõ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o de açã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ificulda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trições legai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ompatibilidade dos horários dos diretores e gerent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siedade inicial da equipe do process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oluções, boas práticas e lições aprendid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uniões com apenas 2 horas e em maior intensidade durante a seman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embrar do tempo interno para  geração da documentaçã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pós a elaboração dos artefatos, realizar uma reunião só para validação dos mesmo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ssinatura dos termos de validação dos artefato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cumentar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TODAS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as reuniões realizada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alizar treinamentos sobre tópicos de maior divergência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quipes multidisciplinare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oluções, boas práticas e lições aprendid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volver a equipe com os objetivos do projeto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tilização de papel e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post it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istro das desconexões/ sugestões/anotações em local visível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mpre ter pronta uma apresentação do status do projeto e sempre lembrar da possível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conversa do elevador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r </a:t>
            </a:r>
            <a:r>
              <a:rPr b="0" i="1" lang="en-US" sz="1900" spc="-1" strike="noStrike">
                <a:solidFill>
                  <a:srgbClr val="000000"/>
                </a:solidFill>
                <a:latin typeface="Verdana"/>
              </a:rPr>
              <a:t>FACILITADOR,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irecionando as idéias, lidando com conflito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balhar sempre juntos 2 consultores de BP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ntualidade SEMPRE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 problema das organizações na gestão de seu conhec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Cenário 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Arial"/>
              </a:rPr>
              <a:t>: Que sistemas desenvolver/contratar e para quê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s organizações existe demanda constante para desenvolvimento de sistemas  para as suas diversas áreas de atuação..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 o escopo do sistema a ser desenvolvido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o ele se relaciona com outros sistemas e com as áreas de negócio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 o conteúdo do documento a ser gerado para o desenvolvimento ou tomada de preço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oluções, boas práticas e lições aprendid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ividir para conquistar! Dividir o macro processo em sub-processo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lassificar as desconexões de acordo com sua natureza (Organizacional/Processo)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Estabelecimento de metas a serem alcançadas pelo projeto desde o iníci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alizar o treinamento de “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Quebrando os modelos mentais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”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lotar os mapas para entrega ao cliente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ultados obti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minuição do tempo de atendimento de uma solicitação de serviço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dronização dos documentos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gistros de todos os atendimentos de solicitações de serviço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nitoramento do atendimento das solicitações de serviç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sultados obtid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dentificação das necessidades de utilização de ferramentas para controle e registro das solicitações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artilhamento das informações inerentes às atividades desenvolvidas pelos diversos setores da CODATA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erspectivas para o futur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elhoria contínua do processo de Solicitação de Atendimento de Serviço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mplantação do sistema de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Service Desk 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 na CODA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BPM dos outros processos organizacionai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Direcionamento para certificações de qualidade: ISO 9001:2000, CMM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0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clusõ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poio da Alta direção é FUNDAMENTAL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rometimento de todos os colaborador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oca de experiência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einamentos e Consultorias externa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cessos construídos a partir dos existentes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eração de indicadores para o gerenciamento efetivo do processo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lhoria contínua nos proces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Template_LogomarcaGrupoTCI" descr=""/>
          <p:cNvPicPr/>
          <p:nvPr/>
        </p:nvPicPr>
        <p:blipFill>
          <a:blip r:embed="rId1"/>
          <a:stretch/>
        </p:blipFill>
        <p:spPr>
          <a:xfrm>
            <a:off x="7380360" y="692280"/>
            <a:ext cx="12571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 problema das organizações na gestão de seu conhecimen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Verdana"/>
                <a:ea typeface="Arial"/>
              </a:rPr>
              <a:t>Cenário 3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  <a:ea typeface="Arial"/>
              </a:rPr>
              <a:t>: Gostaria de automatizar o controle dos meus processos mas não sei por onde começar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mo tratar ambigüidades e inconsistências que eu sei que existem nos meus processos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rá que eu vou conseguir resolver o meu problema com os processos da organização iniciando um movimento de automatização do controle (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)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ara que processos eu devo priorizar a automatização e que tenho que fazer antes de implantar um </a:t>
            </a:r>
            <a:r>
              <a:rPr b="0" i="1" lang="pt-BR" sz="2100" spc="-1" strike="noStrike">
                <a:solidFill>
                  <a:srgbClr val="000000"/>
                </a:solidFill>
                <a:latin typeface="Verdana"/>
              </a:rPr>
              <a:t>workflow</a:t>
            </a: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Business Process Manage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BPM define, possibilita, gerencia a troca de informações da corporação através da visão semântica dos processos de negócios, que envolvem empregados, clientes, parceiros, aplicações e bancos de dados. A gerência deve ser capaz de modelar um processo, intermediar sua execução, monitorar seus resultados e gerenciá-l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6167160" y="5376960"/>
            <a:ext cx="22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erdee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tivação para Modelagem dos Processos de Negóci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elhor entendimento dos mecanismos chaves de um negóc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ase para a inovação tecnológ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rmite a melhoria ou reengenharia do negóc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acilita a identificação de oportunidades de terceirizaçã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6666"/>
                </a:solidFill>
                <a:latin typeface="Arial"/>
              </a:rPr>
              <a:t>Processos de Negócio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7:25:12Z</dcterms:created>
  <dc:creator>Cynthia Belleza</dc:creator>
  <dc:description/>
  <dc:language>en-US</dc:language>
  <cp:lastModifiedBy>starch.souza</cp:lastModifiedBy>
  <dcterms:modified xsi:type="dcterms:W3CDTF">2006-02-03T00:14:32Z</dcterms:modified>
  <cp:revision>301</cp:revision>
  <dc:subject/>
  <dc:title>Melhoria de Processo do Software Brasileiro (mps.Br)</dc:title>
</cp:coreProperties>
</file>