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4.wmf" ContentType="image/x-wmf"/>
  <Override PartName="/ppt/media/image23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B7E3-BDF1-4430-90BC-96C130FF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2955-1CC9-4B07-AFEC-A742564A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05F8-9758-44F8-88FB-53BB482F7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2AF6-A070-43F2-9300-2A19727F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4CF5-5E27-4242-9DCE-739A9D71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B87A-FCB5-4755-BC9D-9F3602E0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ADFC-30E6-40D7-AABA-624B98FE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BD54-7C2E-4C3F-9473-2DD4F946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E4CC-55DD-421F-A246-86170120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F7E4-E25A-4291-AF12-8754DD3B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C71-27F5-4FEA-96DB-590B9296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1F20-91AF-4AD2-86A7-FED0E42D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32FE-43EA-4F02-ABC9-B131CD9B1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5560" y="1523880"/>
            <a:ext cx="575784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139680" y="63360"/>
            <a:ext cx="0" cy="575784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28600" y="76320"/>
            <a:ext cx="891540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PSEE (</a:t>
            </a:r>
            <a:r>
              <a:rPr b="0" i="1" lang="pt-BR" sz="4000" spc="-1" strike="noStrike">
                <a:solidFill>
                  <a:srgbClr val="000000"/>
                </a:solidFill>
                <a:latin typeface="Arial"/>
              </a:rPr>
              <a:t>Process-centered Software Engineering Environment</a:t>
            </a: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) – uma Visão Ge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4519440"/>
            <a:ext cx="64008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ucas Roberto Bechert Schmi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lrbs@cin.ufpe.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S – Ambiente de Desenvolvimento de Softwar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S orientado a Processo ou PS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mas pontos a serem consider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aspecto humano envolvido; a dificuldade em se definir todo o processo antes de executá-lo e o tratamento de mudanças durante sua execuçã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cução de Processos de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a fase do ciclo de vida dos processo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a as atividades modeladas são realizadas tanto pelos desenvolvedores quanto automaticamen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ões importa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, Planejamento,  Monitoração, Garantia de Conformidade, Treinamento e Seguranç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ecução de Processos de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orre quando o processo está instanciad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 o apoio de um 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ados a cerca do andamen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hora na gerênci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 de Processo de Softw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ção abstrata que indica quem, quando, onde, como e por que os passos são realiz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agem de Processo de Softw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uem características específicas que as distanciam das linguagens gerai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em descrição de atividades que necessitam de interação humana para serem concluíd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 de Processo de Software Instanci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 Executável, possui informações sobre a alocação de recursos, definição de desenvolvedores e descrição de prazos de atividad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canismo de Execu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 o modelo instanciado gerenciando informações do ambiente e orientando desenvolvedores de acordo com esse mode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 os objetivos de manter o estado da execução condizente com o estado real da realização das tarefas, monitorar e coletar métricas do process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ção com o Usuár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eedb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erca do andamento do process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ramenta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sitó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azena os artefatos produzidos, manipulados e modificad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r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acordo com as necessidades expressas no model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ricas/Históric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S orientado a Proc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ção de PSEE para automatizar a gerência dos process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íc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hor comunicação entre envolvi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ência do que está sendo fei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ção de tarefas repetitivas (automatizaçã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necimento de informações sobre o andamento do process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ilidade de reutiliz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eta automática de métric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S orientado a Proc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erência do processo de software (coordenação) depende de duas cama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 comunicação deve permitir o compartilhamento de informações no ambi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 colaboração deve permitir aos participantes a atualização colaborativa de um conjunto de decisões compartilhad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esta deve garantir que ações colaborativas sejam coordenadas para obter o resultado desejado de forma eficien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quema de um PS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26708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anismo de Execução de um PSEE – B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ção de Proces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enação de atividad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/Sem intervenção human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balho Cooperativ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ação entre pessoas envolvid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ação e assistência durante todo o ciclo de desenvolvimen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óp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istórico e Introduçã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cução de Processos de Softw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i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DS orientados a Processo ou PS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quema de um PS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canismo de Execução de um PSE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eração com Usuári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quisitos de Interação com Desenvolvedor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lexibilidade na Execuçã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s de PSE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anismo de Execução de um PSEE – Bás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a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r visões do estado de execução para fornecer ao gerente informações sobre o andamento real das ativ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ro da História (Métrica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etar dados da evolução do process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horar o processo onde houver necessida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anismo de Execução de um PSEE – Diferen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 de tratar influência human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rvação da consistência e recuperação de inconsistência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ir modificações dinâmica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 de acesso a artefato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ção com Usuários na Exec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soas envolvidas devem receber orientações e assistência na realização de tarefa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a interação dos PSEE foi a causa do pouco sucesso desses ambient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is papé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en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nvolvedo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ção com Usuários na Exec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66760" y="1906560"/>
          <a:ext cx="8610480" cy="4608360"/>
        </p:xfrm>
        <a:graphic>
          <a:graphicData uri="http://schemas.openxmlformats.org/drawingml/2006/table">
            <a:tbl>
              <a:tblPr/>
              <a:tblGrid>
                <a:gridCol w="685800"/>
                <a:gridCol w="4038480"/>
                <a:gridCol w="3886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re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envolved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05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ão, acompanhamento e monitoração dos eventos que ocorrem durante a execução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pulação do processo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bem orientação a cerca das tarefas a serem desempenhadas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necem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edback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obre a performance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monitoração do processo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 modelagem de processos e planejamento de atividades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Interação (Agendas, espaço de trabalho, etc)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 rot="16200000">
            <a:off x="18360" y="329220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-144360" y="53496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erramen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ção com Usuários na Execução – Questõ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ste instante, qual a situação do processo em execuçã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ue eventos levaram a essa situaçã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uais as conseqüências de uma modificação na modelagem do processo em execuçã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o o desempenho dos desenvolvedores afeta o andamento do process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uais os recursos disponíveis e/ou mais adequad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ção com Usuários na Execução – Questõ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envolved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necer ao PSEE u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edb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 mais preciso possíve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nde est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ual o próximo pass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ue eventos levaram a essa situaçã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o o trabalho dos outros afeta o m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sitos de Interação com Desenvolve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entar desenvolvedores na realização de suas taref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edba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andamento do process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necer visualizações dos estados do processo (atual e anteriore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r comunicação e cooperação entre desenvolvedor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ibilidade na Exec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ificação dinâmica durante execuçã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ção de processos incompletos; Sendo completado durante a execuçã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anciação do processo durante a execução; Ex: informações abstratas como alocação de recursos e de pessoas podem ter sua instanciação adiad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scolha entre caminhos alternativ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almente prevista na modelagem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o pode mudar de rumo sem que seja necessária a monitoraçã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ibilidade na Exec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ossibilidade de adaptação ao usuário Desenvolvedo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onhecer e agir de acordo com o perfil do mesm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ndo: métricas, informações gerenciais e informações fornecidas pelo próprio usuár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Gerência e tratamento de event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ificação automática do process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ente pode programar o mecanismo de execução para agir em determinadas situ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canismo de execução deve manter um registro de todos eventos ocorri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xemplos de PS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RVE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P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PA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cessWeav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DEAVO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YNAMI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B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SEE e WebAPSEE (desenvolviment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rolPro entre outr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óp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S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cterístic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is Compone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çao de Process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P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cterístic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is Compone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açõ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ênci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S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mbiente de desenvolvimento orientado a Process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la Reis - UFRG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te do ADS PROSOF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Jav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porte a Processos evolutivos – Flexíve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ndo expandido para o WebAPS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ersão We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s comple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s Flexíve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desenvolvi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SEE – Principais Compon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33640" y="1654200"/>
            <a:ext cx="699588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SEE – Principais Compon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-Mode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s de Processos em diferentes estad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óri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ções sobre as Ferramentas disponíve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definir e armazenar métricas e estimativas para os componentes do Process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SEE – Principais Compon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canismos para gerência de Proces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nguagem para modelagem de Process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ordena atividades do Processo em execuçã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xilia na instanciação com o uso de políticas de instanciação definidas pelo usuári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oio à reutilização de Process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ponsável pela criação, recuperação e adaptaçã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empla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reutilizáve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SEE – Principais Compon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eração e Visualização do Proces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vê mecanismos de interação para os diferentes usuários do sistem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das para os Age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stas neste trabalho e visualização de processos para os Projetist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tricas obtidas para o Gerente do Proje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ividades a serem realizadas pelos Desenvolve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cução de Processos de Software no APS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ividades modeladas e instanciadas são realizadas tanto pelos desenvolvedores quanto automaticamen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atiza o envolvimento humano no Proces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or flexibilida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orte a processos criativos e a incertez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cução de Processos de Software no APS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is caracterís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execução de processos incompletos e modificação dinâmic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escolha entre alternativas para o fluxo de execução de acordo com a situ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lta a conhecimento sobre processos executados anteriormente (Meta-Model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repetição de atividades a partir d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edb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ecução de Processos de Software no APS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ais caracterís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nece registro histórico dos process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execução de processos colaborati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ravés de atividades que podem ser realizadas por várias pesso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ravés de atividades diferentes executadas em parale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 a interação com os usuários e obté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edbac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bre a realização do process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nece agendas de tarefas para cada envolvido no Process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tilizando o APS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Módulo APSEE-Mana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rabalhando com o </a:t>
            </a:r>
            <a:r>
              <a:rPr b="0" i="1" lang="pt-PT" sz="32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de requisitos do RUP (</a:t>
            </a:r>
            <a:r>
              <a:rPr b="0" i="1" lang="pt-PT" sz="3200" spc="-1" strike="noStrike">
                <a:solidFill>
                  <a:srgbClr val="000000"/>
                </a:solidFill>
                <a:latin typeface="Arial"/>
              </a:rPr>
              <a:t>Rational Unified Proces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Seguindo três pas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odelag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Gerenciamento das Ativ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stanciação do Process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ag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Nesta eta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riadas as atividades, conexões, artefatos e suas respectivas descrições no ambiente APS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i necessária a criação do processo no pacote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Processes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, atribuindo uma identificação (RUP[Requirements Workflow]) e tipo (ReqSpe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s de Softw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cionados às primeiras propostas de um ciclo de vida para o Softw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junto bem definido de estágios que forneçam uma referência para o acompanhamento do desenvolvimento de um Proje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agem – Criar Proce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0920" y="1643040"/>
            <a:ext cx="887868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agem – Criar Proce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 seguida, foi feita a modelagem do processo em si, realizando as seguintes taref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ar Atividad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ar Conexõ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ar Artefat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agem – Criar Ativi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mando </a:t>
            </a:r>
            <a:r>
              <a:rPr b="0" i="1" lang="pt-PT" sz="3200" spc="-1" strike="noStrike">
                <a:solidFill>
                  <a:srgbClr val="000000"/>
                </a:solidFill>
                <a:latin typeface="Arial"/>
              </a:rPr>
              <a:t>new activity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Com a definição das características, tais como: ID, nome, tipo (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Plain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Fragment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agem – Criar Ativi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27160" y="1614600"/>
            <a:ext cx="89074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agem – Criar Conex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presentam o fluxo de controle e de dados do proces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ando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New Connection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 a definição das características, tais como: tipo (simples, artefato, feedback e conexões múltiplas), dependência (start-start, end-start, end-end) e a orientação da mesma (origem e destin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agem – Criar Conexõ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8600" y="1592280"/>
            <a:ext cx="885816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agem – Criar Artef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ando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New Connection – Artifac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 as características dos mesmos, tais como: tipo e instância do artefato, e orientação do mesm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agem – Criar Artef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" y="1614600"/>
            <a:ext cx="88390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Gerenciamento das Ativ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0984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apa para alocar os recursos humanos e materiais referentes ao desenvolvimento de cada uma das atividades modeladas no proces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tal, foram feitas as seguintes taref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ocar Agent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ocar Grup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ocar Recurs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Gerenciamento das Atividades – Alocar Ag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ntes de se alocar um agente, é necessário criá-lo no pacote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Organization-People-Agent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efinindo suas características, tais como: ID, nome, e-mail, Custo por hora, etc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erramentas CASE (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Computer Aided Software Engineering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cursoras no apoio ao desenvolvimento de Softwa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rgimento de Ambientes de desenvolvimento (AD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urge a necessidade de incorporar mecanismos para controlar o processo de desenvolvimento </a:t>
            </a:r>
            <a:r>
              <a:rPr b="0" lang="pt-B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SEE ou ADSO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Gerenciamento das Atividades – Alocar Ag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1452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614600"/>
            <a:ext cx="8839080" cy="50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Gerenciamento das Atividades – Alocar Ag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 seguida, retornando à tela de modelagem do proces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cesse o menu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op-up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a atividade e selecionand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how Detail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depois navegando pelos botõe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how Description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Botão Required Peopl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, por fim, selecionando a função requerida, as habilidades necessárias e o agente através do ID cadastrad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Gerenciamento das Atividades – Alocar Ag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1452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9240" y="1600200"/>
            <a:ext cx="89154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Gerenciamento das Atividades – Alocar Gru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náloga à tarefa de alocar agentes, primeiramente foram criados os grupos necessários no pacote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Organization – People – Group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efinindo as características do grupo, tais como: ID, nome, descrição, tipo, hierarqui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Gerenciamento das Atividades – Alocar Gru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1452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28600" y="1614600"/>
            <a:ext cx="891540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Gerenciamento das Atividades – Alocar Gru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 seguida, retornando-se a tela de modelagem do proces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cesse o menu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op-up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a atividade e selecion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how Detail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depois navegando pelos botõe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how Descriptio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- Botã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Required Peopl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, por fim, selecionando o tipo requerido e o grupo através do ID cadastrad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Gerenciamento das Atividades – Alocar Recur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náloga às anteriores, primeiramente foram criados os recursos necessários no pacote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Organization – Resourc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efinindo as características do recurso, tais como: ID, nome, descrição, tipo, hierarquia, dependências de outros recurso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Gerenciamento das Atividades – Alocar Recur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1452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" y="1614600"/>
            <a:ext cx="89154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Gerenciamento das Atividades – Alocar Recur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m seguida, retornando-se a tela de modelagem do proces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cesse o menu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op-up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a atividade e selecionand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how Detail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depois navegando pelos botões Show Description -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Botão Required Resourc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, por fim, selecionando o tipo requerido e o recurso através d ID cadastrad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Gerenciamento das Atividades – Alocar Recur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09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614600"/>
            <a:ext cx="88200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ortância da definição de modelos de avaliação do processo de ES em organizaçõ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s têm procurado atender a estes modelos a fim de terem seu processo avaliado de forma positiva perante o mercad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guns mode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MM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apability Maturity Mode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PICE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oftware Process Improvement and Capability Determinatio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stanciação do Proc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ase de gerenciamento do processo, onde realizamos a execução do mesmo no APSEE-Mana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stanciar o proces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ravés do botã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Execute Proces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no pacot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rocess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já com o Processo selecionado, no caso 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RUP [Requirements Workflow]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stanciação do Processo – Visão do Ger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isualizando os estados das ativ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Waiting(Branco): as dependências da atividade ainda não estão satisfeit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ady(Amarelo): pronta para começ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ctive(Azul-Escuro): a atividade está sendo realizada pelos agentes responsáve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inished(Cinza): a atividade foi concluí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stanciação do Processo – Visão do Ger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isualizando os estados das ativida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used(Azul-Claro): todos os agentes solicitaram pausa da atividad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ncelled(): a atividade foi cancelada antes de inicia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iled(Vermelho): a atividade falhou após o início por decisão dos agentes ou do geren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stanciação do Processo – Visão do Ger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0984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8600" y="1614600"/>
            <a:ext cx="883908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stanciação do Processo – Visão do Desenvolve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1936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52480" y="1714680"/>
            <a:ext cx="5715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stanciação do Processo – Visão do Desenvolve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1468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52480" y="1733400"/>
            <a:ext cx="576756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rolP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mbiente de desenvolvimento baseado em ODE (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Ontology-based Software Development Environment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SEE baseado em Ontologi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corporando o conceito de definição dinâmica de Processo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odrigo Moro - UF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rolP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que o Processo de Software possa ser alterado em tempo de execuçã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iente flexível, possibilitando um maior controle da execução do Proces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õ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en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envolvedo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rolPro – Visão do Ger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sso a todas as atividades do Processo, criadas a qualquer momento da execu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cação para as criadas por e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itura para as criadas pelos desenvolve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sso a funcionalidades que dizem respeito ao controle do proje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do do projeto (Iniciar, Finalizar, Cancelar, reativar, excluir e até mesmo Alterar o gerent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rolPro – Visão do Desenvolve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sso às atividades do Proces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cação para as criadas por el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itura para as criadas por outros desenvolvedor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ação de sub-atividad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aumentar a qualidade dos softwares a Engenharia de Software t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zido ferramentas de auxílio ao desenvolvimen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udado e Produzido formas de controlar o processo de desenvolvimen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o da ES deslocou-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Orientado a Laboratóri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Orientado a Indústri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rolPro – Compon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nentes de um O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nente do Domínio do problem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nente de Interação Human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nente de Gerência de Tarefa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nente de Gerência de Dado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743200" y="4038480"/>
            <a:ext cx="3657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rolPro – Tela Princ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262160" y="1609560"/>
            <a:ext cx="670536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rolPro – Incluir Ativ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33360" y="1662120"/>
            <a:ext cx="669132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rolPro – Incluir Ativ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233360" y="1657440"/>
            <a:ext cx="669132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rolPro – Incluir Ativ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219320" y="1657440"/>
            <a:ext cx="669132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rolPro – Incluir Sub-Ativ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224000" y="1638360"/>
            <a:ext cx="6686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rolPro – Incluir Sub-Ativ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238400" y="1643040"/>
            <a:ext cx="669132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rolPro – Excluir Ativ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185840" y="1652760"/>
            <a:ext cx="6696000" cy="50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rolPro – Excluir Ativ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252440" y="1638360"/>
            <a:ext cx="668196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rolPro – Excluir Ativid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228680" y="1643040"/>
            <a:ext cx="669600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sso reflete a as necessidades da indústria de software de integrar técnicas de desenvolvimento de software com metodologias organizacionais e gerenciais para formar ambientes que atuem na coordenação de processos de software.” [REIS, 200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rolPro – Alterar Es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19320" y="1652760"/>
            <a:ext cx="670068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rolPro – Alterar Es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219320" y="1652760"/>
            <a:ext cx="66862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der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s de Software muitas vez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ão complex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ão estão totalmente definid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mesmo assim precisam ser executado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a Ferramenta que auxilie quaisquer envolvidos a seguir o Processo é de interesse das organizaçõ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der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SEEs facilitam o controle e auxiliam a seguir o Process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incipalmente 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ssuem interação com seu usuári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mitem alteração dinâmica do Process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em todos fornecem essas possibilidad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usa da fraca divulgação no início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IS, Carla Alessandra Lima.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Uma Abordagem Flexível para Execução de Processos de Software Evolutiv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Tese de doutorado. UFRGS. 200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ALES, Ernani, VIANA, Joseana C. S.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Modelagem do Workflow de requisitos no APSE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Relatório Técnico, UFP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RO, Rodrigo Dal.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TROLPRO: Uma Ferramenta de Apoio ao Acompanhamento de Projetos de Software em OD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Monografia. UFES. 200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RO, Rodrigo Dal, et.al.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trolPro: Uma Ferramenta de Acompanhamento de Projetos Integrada a um Ambiente de Desenvolvimento de Softwar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SBES. 200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RUHN, V.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ocess-Centered Software Engineering Environments A Brief History and Future Challenge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Annals of Software Engineering 14, 363–382, 200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RBAOUI, S.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 Comparative Review of Process-Centered Software Engineering Environment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Annals of Software Engineering 14, 363–382, 200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ERTOLLO, G., FALBO, R. A.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poio Automatizado à Definição de Processos de Software em Nívei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SBQS. 200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FUGGETTA, A., et.al. Experiences in the Implementation of a Process-centered Software Engineering Environment using Object-Oriented Technology. CEFRIEL - Politecnico di Milano. 199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ir Software é uma atividade cooperativ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 da qualidade da comunicação entre desenvolvedores e gerentes de desenvolvimen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se contexto destaca-se a Tecnologia de Processos de Softw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ção de ambientes e ferramentas que atuem na modelagem, execução, simulação e evolução de Processos de desenvolvimento de Softwa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8:52:50Z</dcterms:created>
  <dc:creator>Lucas Roberto Bechert Schmitz</dc:creator>
  <dc:description/>
  <dc:language>en-US</dc:language>
  <cp:lastModifiedBy>Lucas Roberto Bechert Schmitz</cp:lastModifiedBy>
  <dcterms:modified xsi:type="dcterms:W3CDTF">2005-10-21T10:49:13Z</dcterms:modified>
  <cp:revision>206</cp:revision>
  <dc:subject/>
  <dc:title>PSEE</dc:title>
</cp:coreProperties>
</file>