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687DF-0274-4A8C-A79C-D75AADA97B68}" type="slidenum">
              <a:rPr b="0" lang="pt-P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Relações com o cl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&gt; Métodos ágeis: interface entre cliente e usuár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&gt; Métodos tradicionais: interface entre o desenvolvedor e o cl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&gt; Métodos ágeis: “working software” e participação do cl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&gt; Métodos tradicionais usam processos maduros para ganhar confiança do cl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Planejamento e contr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&gt; métodos ágeis: Planejamento possibilita operação na base de conhecimento implícito. (fica difícil quando o projeto cres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&gt; métodos tradicionais: planos do processo (agenda, marcos, atividades) e planos de produtos (requisitos, arquitetur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&gt; medida de progresso: progresso atual x plano (quanto mais planejamento documentado mais re-trabalho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Comunic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&gt; métodos ágeis: dependem da experiência e do entendimento das pessoas. Comunicação entre pessoas frequentemente. (pode ser perigoso). Difícil de escal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&gt;Métodos ágeis: histórias informais ajustáve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&gt;Iterações rápidas: identificar mudanças necessárias que serão corrigidas na próxima iter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-&gt;Requisitos de maior prioridade para a próxima iteração são determinados pelo cliente e desenvolved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Desenvolv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Principal diferença entre métodos ágeis e tradicionais do ponto de vista de desenvolvimento é o projeto e a arquitetura do 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Projeto simples: Se baseia no trabalho para se adequar a uma mudança e em mudanças rápidas (pra que fazer se no futuro não vai utilizar por que já mudou?). Porcentagem para refatorar e corrigir defeitos aumenta com o número de “users stories”. Não é escalável (quebras na arquitetura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YAGN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Métodos tradicionais: planejamento e projeto baseado na arquitetura para lidar com mudanças previsíve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Arquitetura pode gastar recursos em ambientes de alta mudanç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T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Métodos ágeis: desenvolvem teste antes de codificar e testa incrementalmente. (cliente especificou o produto coreto e os desenvolvedores desenvolveram o produto corretamen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Incrementos curtos para lidar com testes mais ce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Teste de regress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Problemas: mudanças rápidas afetam os tes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Métodos tradicionais testam especificaç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Checam requisitos e arquitetura o mais cedo possív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Teste automáticos (mudanças apenas nos requisito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 usuário tem que colaborar com o desenvolvimento do sistema. Tem que ser um representante da organização. Tem que ser autorizado por ela. Tem que estar comprometido. Tem que ter conhecimento do domínio da aplica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A (regular users stories para se adequar a incremento, compor padrões, compor refactoring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B (codificar métodos, executar testes,..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Os desenvolvedores, clientes e cultura da organização têm influência significante no sucesso da maioria dos proje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Client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Métodos ágeis: dedicado e acompanhar de perto. Organização disponibiliza (perde) a pessoa mais exper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Métodos tradicionais: planos contratuais e especificaç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Desenvolved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Métodos ágeis: desenvolvedores precisam mais do que habilidades técnicas (amizade, talento, técnica, comunicaçã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Métodos tradicionais: precisa de menos gente talentosa do que métodos áge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Métodos ágeis: muitos graus de liberdade para fazer qualquer trabalho para atingir o sucesso do proje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Métodos tradicionais: processo claro e papé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Times New Roman"/>
              </a:rPr>
              <a:t>fatores críticos envolvidos na indicação de método ágil ou tradicional para um proje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s que não se enquadram nas características conceituais de cada abordagem (combinar processos ágeis e pesado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manho da iteração continua o mesmo =&gt; Subdividir stories para se adequar à agen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rquitetura de alto ní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guia para escrever histórias e testes funcionais em seus relacionamentos com outras históri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suscetível a modificações em qualquer momento do desenvolv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cialmente o cliente não está comprometido com suas responsabilidades em um projeto ág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histórias foram desenvolvidas, mas não foi considerada a integração das mesm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a de tarefas que devem ser feitas para completar uma história e verificar se elas foram realizadas (vai de encontro aos processos ágeis de que se deve confiar nas pessoas). Tensão entre equipes pequenas e projetos gran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isciplina é fundamental para se atingir sucesso em qualquer projeto de 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cesso mantido por muito tem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guir processos bem-definidos (documentados, atividades, workflows, papé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ituações crític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nta com a habilidade e experiência das pessoa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ó disciplina = burocracia e estagn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ó agilidade = falso entusias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mbiente de software está mudan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cessos pesados atacam isso com arquitetura robusta e qualidade dos artefa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W-CMM torna o desenvolvimento de software menos caóti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étodos áge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 Pessoas e interações sobre processos e ferrame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 desenvolvimento de software sobre document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 Colaboração do cliente sobre contra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 Resposta a mudança sobre seguir plan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ada processo de desenvolvimento de software é mais adequado a determinadas características de projeto (tamanho, dinamismo, pessoal, cultural, quão crítico é o produ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tendimento dos processos e da situação em questão é primordial para realizar o balanceamento apropria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uidelines são necessários que considerem diferentes fatores tecnológicos, gerenciamento e pessoais e não apenas exemplos individua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dução de software sem muita documentação em situações de mudanças rápidas e alta satisfação do clien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ivalidade: métodos ágeis: de-humanização do desenvolvimento de software pelos métodos tradicion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étodos tradicionais: baixa qualidade e falta de controle pelos métodos áge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nterpretações erradas causam confus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liminar as interpretações erradas se faz necessário para realizar o balanceamento entre métodos ágeis e tradicion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finições múltiplas: mesma palavra com mais de uma definição. Ex: Disciplinado: estar de acordo com processo estabelecido (métodos tradicionais); auto-controle (métodos áge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alidade: seguir processos e especificação (métodos tradicionais); satisfação do cliente (métodos áge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so incorreto do proc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implesmente não documentar (métodos ágeis); satisfazer critérios em detrimento de boa execução do projeto (métodos tradicionai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Generalizaçã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XP não reflete toda a comunidade ág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MM não é a única fonte de ord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niversalid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udança esta se tornando cada vez mais freqüente. Métodos ágeis se adaptam melhor a mudanças que métodos tradicionais, então métodos ágeis serão domina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senvolvimento de software é incerto, métodos tradicionais melhoram a previsibilidade, então todos devem usar métodos tradicion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Interpretações pur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penas uma forma de usar uma abordagem para o desenvolvimento de softw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étodos tradicionais devem reagir mais rapidamente a mudanças (agilidade se torna cada vez mais importan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ncontrar o peso certo é uma questão de gerenciamento que envolve: membros da equipe e suas capacidades, tipo do projeto e seu 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Diferenças nos tipos de projeto onde cada abordagem tem mais sucess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Métodos ágeis preferem desenvolver rapidamente e descobrir através de experiência que atividade adicionará mais valor depo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 Postura reativa tem vantagens onde mudanças são rápidas, mas há um certo risco (prefere responder logo a mudanças do que seguir um plano). Exemplo: usuário inexperiente. Valoriza objetivos táticos e não estratégic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 Métodos tradicionais: postura pró-ativa é eficaz em ambientes estáve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 Padronização, medida e controle para atingir previsibilidade e estabilid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-&gt; Em ambientes não estáveis a previsibilidade e estabilidade diminuem. Alto custo para manter a documentação atualizad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Taman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étodos ágeis: coordenação local e compartilhamento de conhecimento geralmente impedem métodos ágeis de serem utilizados em grandes projetos. (escalabilidade é difíci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ojetos ágeis muito grandes necessitam adotar planos e especificações de métodos tradicionais para lidar com complexidade e interações entre componentes do proje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étodos ágeis: requisitos são emergentes em vez de pré-especificáveis. (preocupação com teste, verificação e gerenciamento de configuraçã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étodos tradicionais: requisitos são largamente determinados com antecedência e se mantém relativamente estáve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A3B-C129-4F00-9436-2BD15F8D3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DB59-4A44-49BB-AD49-21CD7AF0A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01A0-E265-4E71-9189-11682B27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22C-6DD8-43D1-BAB9-36A1626BA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C7FEA-A903-4B8E-99EA-C392CBCC5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8E6C-79C3-4170-971C-F850C853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DD1D-A725-485E-8B25-AF901541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B066-849A-4DA0-B150-C6C62727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9863-300E-4828-801A-2F2F392D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448E7-8FC0-459E-A5AB-924EDD6EB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08FD-A477-4D2B-8817-894F3E6A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E2E-FAC5-4975-9466-8BE92B48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7147D-D75C-483F-AEB3-F8DAFA73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8DD7-9B01-4091-886E-0AB07DDEC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CE9F7-9772-4DDC-A037-CA5397890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A6B2-1DA7-42DB-96D8-563774166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9C505-2D32-4283-A3C2-352A0073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690-D6AB-4A73-87DB-E413D31CD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EF72-2764-4798-8C20-7F790014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D05-BC6C-455B-8085-64A423F0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59E9-9655-4C5A-B982-215B3264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5527-B0B4-41FC-8146-F3261B2B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328-AAC2-4043-ACCD-52DAA6A9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B46-C4DD-4DA6-B805-8500BAC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492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0328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16436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17A6-E4CE-426A-96DA-65E48F35600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D9319-5CE6-485F-BDC6-C9B81378629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newarchitectmag.com/documents/s=2412/na1002e/" TargetMode="External"/><Relationship Id="rId2" Type="http://schemas.openxmlformats.org/officeDocument/2006/relationships/hyperlink" Target="http://www.martinfowler.com/articles/newMethodology.html" TargetMode="External"/><Relationship Id="rId3" Type="http://schemas.openxmlformats.org/officeDocument/2006/relationships/hyperlink" Target="http://www.martinfowler.com/articles/newMethodology.html" TargetMode="External"/><Relationship Id="rId4" Type="http://schemas.openxmlformats.org/officeDocument/2006/relationships/hyperlink" Target="http://www.martinfowler.com/articles/newMethodology.html" TargetMode="External"/><Relationship Id="rId5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extremeprogramming.org/" TargetMode="External"/><Relationship Id="rId2" Type="http://schemas.openxmlformats.org/officeDocument/2006/relationships/hyperlink" Target="http://www.extremeprogramming.org/" TargetMode="External"/><Relationship Id="rId3" Type="http://schemas.openxmlformats.org/officeDocument/2006/relationships/hyperlink" Target="http://www.extremeprogramming.org/" TargetMode="External"/><Relationship Id="rId4" Type="http://schemas.openxmlformats.org/officeDocument/2006/relationships/hyperlink" Target="http://www.extremeprogramming.org/" TargetMode="External"/><Relationship Id="rId5" Type="http://schemas.openxmlformats.org/officeDocument/2006/relationships/hyperlink" Target="http://www.extremeprogramming.org/" TargetMode="External"/><Relationship Id="rId6" Type="http://schemas.openxmlformats.org/officeDocument/2006/relationships/hyperlink" Target="http://www.extremeprogramming.org/" TargetMode="External"/><Relationship Id="rId7" Type="http://schemas.openxmlformats.org/officeDocument/2006/relationships/hyperlink" Target="http://www.testing.com/agile/agile-testing-essay.html" TargetMode="External"/><Relationship Id="rId8" Type="http://schemas.openxmlformats.org/officeDocument/2006/relationships/hyperlink" Target="http://www.testing.com/agile/agile-testing-essay.html" TargetMode="External"/><Relationship Id="rId9" Type="http://schemas.openxmlformats.org/officeDocument/2006/relationships/hyperlink" Target="http://www.eweek.com/article2/0,1895,1872254,00.asp" TargetMode="External"/><Relationship Id="rId10" Type="http://schemas.openxmlformats.org/officeDocument/2006/relationships/hyperlink" Target="http://www.eweek.com/article2/0,1895,1872254,00.asp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lanceando Agilidade e Disciplin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8153280" cy="19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uclides Napoleão Arcoverde N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oel Messias da S. Menezes Jún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acterísticas de Gerenciam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82600" y="2000160"/>
          <a:ext cx="8610480" cy="4597200"/>
        </p:xfrm>
        <a:graphic>
          <a:graphicData uri="http://schemas.openxmlformats.org/drawingml/2006/table">
            <a:tbl>
              <a:tblPr/>
              <a:tblGrid>
                <a:gridCol w="2057400"/>
                <a:gridCol w="3683160"/>
                <a:gridCol w="2869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cessos Ág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cessos Pes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lações com o client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sença do cliente, foco em incrementos priorizad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terações com o cliente quando necessário, foco em contratos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ejamento e controle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os internos, controle qualitativ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os documentados, controle quantitativ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unicaçã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hecimento implícit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hecimento documentado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12B-92B1-40B3-8AE7-13FF73E885B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acterísticas Técnic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82600" y="2068560"/>
          <a:ext cx="8610480" cy="4565520"/>
        </p:xfrm>
        <a:graphic>
          <a:graphicData uri="http://schemas.openxmlformats.org/drawingml/2006/table">
            <a:tbl>
              <a:tblPr/>
              <a:tblGrid>
                <a:gridCol w="2438280"/>
                <a:gridCol w="3302280"/>
                <a:gridCol w="2869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cessos Ág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cessos Pes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quisi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stórias informais e casos de testes, passa por mudanças imprevisívei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to formalizado, evolução prevista dos requisi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envolviment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to simples, incrementos pequenos, refactoring não custo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to extensivo, incrementos longos, refactoring custos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s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sos de teste executáveis determinam os requisi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lanos e procedimentos de teste documentad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5539-8EAD-4C52-9FA8-125650C0BA0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acterísticas Pessoa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R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llabor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Represent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uthor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Knowledg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7BF5-319B-4EA0-9CDC-E8071B5FFB7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acterísticas Pessoa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33360" y="2421000"/>
          <a:ext cx="8486640" cy="3960720"/>
        </p:xfrm>
        <a:graphic>
          <a:graphicData uri="http://schemas.openxmlformats.org/drawingml/2006/table">
            <a:tbl>
              <a:tblPr/>
              <a:tblGrid>
                <a:gridCol w="647640"/>
                <a:gridCol w="7839000"/>
              </a:tblGrid>
              <a:tr h="614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ível de Entendimento e de Uso do Processo (Cockburn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z de revisar o processo para adequá-lo a uma nova situação sem precede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z de revisar o processo para adequá-lo a uma nova situação com precede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z de executar passos complexos do proces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apaz de executar passos simples do proces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capaz de colaborar ou seguir proces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801-BA3A-4B25-88C7-001312DF62D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acterísticas Pessoa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82600" y="1916280"/>
          <a:ext cx="8610480" cy="4821120"/>
        </p:xfrm>
        <a:graphic>
          <a:graphicData uri="http://schemas.openxmlformats.org/drawingml/2006/table">
            <a:tbl>
              <a:tblPr/>
              <a:tblGrid>
                <a:gridCol w="2286000"/>
                <a:gridCol w="3454560"/>
                <a:gridCol w="2869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cessos Ág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cessos Pes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ient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dicado, presente (CRACK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RACK, mas nem sempre prese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senvolvedo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ínimo 30% Cockburn Nível 2 e 3, nenhum Nível 1B ou 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início, 50% Cockburn Nível 3 e 10% durante, 30% Nível 1B, nenhum -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ltur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to e autorização através de muitos graus de liberda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forto e autorização através de framework de procedimento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D1E-05B1-43B8-9041-3E5D92DD451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tores Crí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manh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to críti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namism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ss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l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0CA1-B7E1-4D0E-B5D2-60E417731B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tores Crí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28440" y="1992240"/>
            <a:ext cx="9182160" cy="4533840"/>
            <a:chOff x="28440" y="1992240"/>
            <a:chExt cx="9182160" cy="4533840"/>
          </a:xfrm>
        </p:grpSpPr>
        <p:sp>
          <p:nvSpPr>
            <p:cNvPr id="138" name=""/>
            <p:cNvSpPr/>
            <p:nvPr/>
          </p:nvSpPr>
          <p:spPr>
            <a:xfrm flipV="1">
              <a:off x="4381560" y="2449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4392000" y="3773880"/>
              <a:ext cx="1750320" cy="52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4385520" y="4291920"/>
              <a:ext cx="847440" cy="16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977200" y="4293000"/>
              <a:ext cx="1411920" cy="11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25600" y="3201120"/>
              <a:ext cx="2959200" cy="10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440" y="2516400"/>
              <a:ext cx="411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duto crí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Perda devido a impacto dos defeit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04840" y="549756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amanho (Número de pessoa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991040" y="2982960"/>
              <a:ext cx="3429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inamis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% Mudança de requisitos/mê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33640" y="199224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sso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% Nível 1B) (% Nível 2 e 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14920" y="5883480"/>
              <a:ext cx="44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l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% sucesso no caos x sucesso na orde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4826880" y="4327200"/>
              <a:ext cx="3052800" cy="1982880"/>
              <a:chOff x="4826880" y="4327200"/>
              <a:chExt cx="3052800" cy="1982880"/>
            </a:xfrm>
          </p:grpSpPr>
          <p:sp>
            <p:nvSpPr>
              <p:cNvPr id="149" name=""/>
              <p:cNvSpPr/>
              <p:nvPr/>
            </p:nvSpPr>
            <p:spPr>
              <a:xfrm rot="1649400">
                <a:off x="4791240" y="5013720"/>
                <a:ext cx="3124080" cy="609840"/>
              </a:xfrm>
              <a:prstGeom prst="leftRightArrow">
                <a:avLst>
                  <a:gd name="adj1" fmla="val 50000"/>
                  <a:gd name="adj2" fmla="val 1019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649400">
                <a:off x="5094000" y="4676760"/>
                <a:ext cx="76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Áge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49400">
                <a:off x="6272280" y="545832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radiciona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309920" y="397368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309920" y="366876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33638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19640" y="3059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19640" y="27734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25960" y="4408200"/>
              <a:ext cx="11124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906720" y="4606560"/>
              <a:ext cx="11088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692520" y="4775040"/>
              <a:ext cx="11124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49520" y="4987800"/>
              <a:ext cx="11124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220920" y="5168520"/>
              <a:ext cx="11088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727440" y="4009320"/>
              <a:ext cx="1033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151080" y="3783960"/>
              <a:ext cx="1033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2433600" y="3544200"/>
              <a:ext cx="1033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1928880" y="3328200"/>
              <a:ext cx="102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441440" y="3168000"/>
              <a:ext cx="1033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48320" y="412596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48200" y="403560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205240" y="3963960"/>
              <a:ext cx="76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462640" y="389268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29400" y="380700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419720" y="450684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572000" y="474480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00520" y="4992480"/>
              <a:ext cx="1526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829040" y="525456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971960" y="551664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14080" y="3745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59640" y="34401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973680" y="31496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59640" y="2830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88080" y="25257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411800" y="25401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426200" y="28306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93080" y="31543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426200" y="34401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391280" y="37450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92880" y="42134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16880" y="41083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78600" y="4016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95400" y="39416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24000" y="38656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78520" y="44895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12080" y="47181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16840" y="4979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515120" y="52070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64520" y="54658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61800" y="42022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659400" y="436896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40520" y="45086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180960" y="47070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895120" y="492120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69400" y="3159000"/>
              <a:ext cx="82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i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i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510560" y="3308400"/>
              <a:ext cx="63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948320" y="3565440"/>
              <a:ext cx="114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un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ssenci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3480" y="40291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for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878200" y="3308400"/>
              <a:ext cx="100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un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ínim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187E-9B26-42E9-9D0B-C8C68C8C15B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Estudo de Ca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ando planos para tornar processos ágeis mais escaláv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E75-0026-41C3-9EBA-1DDFF6EDA87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Usando planos para tornar processos ágeis mais escaláve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dústria de leas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Processo ágil adotado: X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urante três 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plicação J2EE (500 KSLO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1000 histó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30 desenvolvedores e 20 participantes adicion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5A6B-68A3-446D-A654-3EEB38E0B4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Usando planos para tornar processos ágeis mais escalávei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728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uposições (XP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Esforço para desenvolver ou modificar uma história não aumenta com o tempo e número de histó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nfiar nas pessoas para ter tudo feito em tempo é compatível com agenda fix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Design simples é facilmente escalável para grandes proje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AD7-CBD5-4D63-9820-4F77789892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ge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iplina e Agilid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ções Err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acterísticas de Projeto d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udo de Ca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ndo Risco para Balancear Agilidade e Discipl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ração Entre Méto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816-81A3-4E79-82C2-D43D9AD7C1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Esforço para desenvolver ou modificar uma história não aumenta com o tempo e número de históri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sforço para desenvolver </a:t>
            </a:r>
            <a:r>
              <a:rPr b="0" i="1" lang="pt-BR" sz="3200" spc="-1" strike="noStrike">
                <a:solidFill>
                  <a:srgbClr val="000000"/>
                </a:solidFill>
                <a:latin typeface="Tahoma"/>
              </a:rPr>
              <a:t>stories card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 aumenta com o temp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Subdividir históri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Com o tempo, funções não integram bem com out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rquitetura de alto ní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9DA0-59BD-409B-9E6C-FD1003565E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onfiar nas pessoas para ter tudo feito em tempo é compatível com agenda fix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3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 o tempo o cliente reclama de muitas coisas de todas iteraçõ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einar” o clien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ção não foi bem considerada em plan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os mais detalhados são necessá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abilidades compartilhadas não são considerad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CF8-682F-4BEF-9864-131C28DD50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esign simples é facilmente escalável para grandes projet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blemas com mudanças previs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oção de padrões de proj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ções arquitetura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C992-7C4C-485A-92B3-AA9AE9B4A2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tores Críti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28440" y="1989000"/>
            <a:ext cx="9182160" cy="4533840"/>
            <a:chOff x="28440" y="1989000"/>
            <a:chExt cx="9182160" cy="4533840"/>
          </a:xfrm>
        </p:grpSpPr>
        <p:sp>
          <p:nvSpPr>
            <p:cNvPr id="221" name=""/>
            <p:cNvSpPr/>
            <p:nvPr/>
          </p:nvSpPr>
          <p:spPr>
            <a:xfrm flipV="1">
              <a:off x="4381560" y="244620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4392000" y="3770640"/>
              <a:ext cx="1750320" cy="52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4385520" y="4288680"/>
              <a:ext cx="847440" cy="16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977200" y="4289760"/>
              <a:ext cx="1411920" cy="11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425600" y="3197880"/>
              <a:ext cx="2959200" cy="108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440" y="2513160"/>
              <a:ext cx="4114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roduto crít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Perda devido a impacto dos defeito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104840" y="54943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amanho (Número de pessoa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991040" y="2979720"/>
              <a:ext cx="3429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inamism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% Mudança de requisitos/mês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933640" y="1989000"/>
              <a:ext cx="3200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sso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% Nível 1B) (% Nível 2 e 3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714920" y="5880240"/>
              <a:ext cx="4495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ul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(% sucesso no caos x sucesso na ordem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4826880" y="4323960"/>
              <a:ext cx="3052800" cy="1982880"/>
              <a:chOff x="4826880" y="4323960"/>
              <a:chExt cx="3052800" cy="1982880"/>
            </a:xfrm>
          </p:grpSpPr>
          <p:sp>
            <p:nvSpPr>
              <p:cNvPr id="232" name=""/>
              <p:cNvSpPr/>
              <p:nvPr/>
            </p:nvSpPr>
            <p:spPr>
              <a:xfrm rot="1649400">
                <a:off x="4791240" y="5010480"/>
                <a:ext cx="3124080" cy="609840"/>
              </a:xfrm>
              <a:prstGeom prst="leftRightArrow">
                <a:avLst>
                  <a:gd name="adj1" fmla="val 50000"/>
                  <a:gd name="adj2" fmla="val 101981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649400">
                <a:off x="5094000" y="4673520"/>
                <a:ext cx="766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Áge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1649400">
                <a:off x="6272280" y="5455080"/>
                <a:ext cx="1476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Tradicionai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4309920" y="397044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9920" y="366552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309920" y="3360600"/>
              <a:ext cx="15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19640" y="30560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319640" y="2770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25960" y="4404960"/>
              <a:ext cx="11124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06720" y="4603320"/>
              <a:ext cx="11088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692520" y="4771800"/>
              <a:ext cx="11124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449520" y="4984560"/>
              <a:ext cx="11124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20920" y="5165280"/>
              <a:ext cx="11088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727440" y="4006080"/>
              <a:ext cx="1033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151080" y="3780720"/>
              <a:ext cx="1033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2433600" y="3540960"/>
              <a:ext cx="1033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1928880" y="3324960"/>
              <a:ext cx="10296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1441440" y="3164760"/>
              <a:ext cx="103320" cy="11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648320" y="412272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948200" y="403236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05240" y="3960720"/>
              <a:ext cx="76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62640" y="388944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729400" y="3803760"/>
              <a:ext cx="7596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419720" y="4503600"/>
              <a:ext cx="1522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572000" y="4741560"/>
              <a:ext cx="15228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700520" y="4989240"/>
              <a:ext cx="1526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829040" y="525132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971960" y="5513400"/>
              <a:ext cx="1526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080" y="37418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59640" y="3436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973680" y="3146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959640" y="28274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988080" y="25225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11800" y="2536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26200" y="28274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393080" y="31510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426200" y="3436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391280" y="37418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92880" y="42102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916880" y="41050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78600" y="401328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400" y="393840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24000" y="38624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78520" y="44863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9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312080" y="47149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7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416840" y="49766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515120" y="52038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64520" y="546264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961800" y="41990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59400" y="436572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440520" y="4505400"/>
              <a:ext cx="41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80960" y="470376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95120" y="491796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3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69400" y="3155760"/>
              <a:ext cx="82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uit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i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510560" y="3305160"/>
              <a:ext cx="631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U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i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48320" y="3562200"/>
              <a:ext cx="114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un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ssencia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363480" y="40258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nfor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78200" y="3305160"/>
              <a:ext cx="1006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un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mínim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05240" y="3594240"/>
              <a:ext cx="1150920" cy="12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3656160" y="4817520"/>
              <a:ext cx="100800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664160" y="4025880"/>
              <a:ext cx="57600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4376880" y="3593880"/>
              <a:ext cx="86328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2504880" y="359424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6F9C-E159-43B4-B143-DBF54EAFCD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rodução de Elementos de Processo Tradiciona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quitetura de alto ní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ão geral do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ção mais cuidadosa de critérios de término de taref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drões de proj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dar com mudanças previsív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4C6E-3107-4407-A0B2-255CA755AAE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Usando Risco para Balancear Agilidade e Disciplin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o incorporar tanto agilidade quanto disciplina de acordo com as necessidades do projet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C97F-48BB-4BCD-B43A-7A64673AFC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ritérios Utilizados para Balancear Agilidade e Disciplin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seia-se nos riscos particulares de cada proj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Riscos relacionados ao uso de métodos ágeis ou não-ág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Plan-drive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Heavy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2311-606B-42ED-B7E8-DB3FAABE4AD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étodo propo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nálise de ris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ramework de processo unificado para adaptar processos baseados em risc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4C8-A670-4497-B09C-E39D6C1C8EE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álise de ris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ada para definir e endereçar riscos associados com métodos ágeis e não-áge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Usada para definir "Quanto é suficient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Quanto de prototipação é suficien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Quanto de testes é suficien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Quanto de planejamento e arquitetura é suficient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have para balancear agilidade e discipli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22A-6AA2-48DA-98DF-5729FB67E9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tegorias de risc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cos do ambi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cos ág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scos não-ág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7650-3B04-4737-97DB-7B560938489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iplina e Agilida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iplina provê força e confor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gilidade provê flexibilidade e criativ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ciplina e agilidade são necessárias para atingir o sucesso de um proje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6407-767F-4E9B-8AB2-C5F50D410C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scos do Ambie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-Te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certezas relacionadas à tecnolog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-Co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Vários colaboradores para coorden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-Cmpl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omplexidade dos sistem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C66-3F7D-41B4-9B54-8274470B6E5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scos Áge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-Sc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Escalabilidade e Criticalid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-YAGN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Uso de um design si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-Chu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otatividade de pesso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-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alta de pessoas com habilidade em métodos áge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642A-F59C-4B7E-8797-2940FDB7521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iscos Não-Áge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-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Mudanças rápi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-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Necessidade de resultados ráp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-Eme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quisitos emergen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P-Sk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Falta de pessoas com habilidade em métodos não-áge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902B-F93E-46F0-8438-B5BFAFF7BE5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539640" y="1270080"/>
            <a:ext cx="2089440" cy="331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7792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umo do Método Baseado em Risco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156360" y="1268280"/>
            <a:ext cx="2448000" cy="5327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03640" y="4654440"/>
            <a:ext cx="2376360" cy="18716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203640" y="2997360"/>
            <a:ext cx="2376360" cy="1584000"/>
          </a:xfrm>
          <a:prstGeom prst="rect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3640" y="1270080"/>
            <a:ext cx="2376360" cy="16542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61920" y="1679400"/>
            <a:ext cx="1241640" cy="590760"/>
          </a:xfrm>
          <a:prstGeom prst="rect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lassificar os riscos do ambiente do projeto, da agilidade e da não agilida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98640" y="3583080"/>
            <a:ext cx="1164960" cy="590400"/>
          </a:xfrm>
          <a:prstGeom prst="rect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bter informações via prototipação, </a:t>
            </a:r>
            <a:r>
              <a:rPr b="0" i="1" lang="pt-BR" sz="800" spc="-1" strike="noStrike">
                <a:solidFill>
                  <a:srgbClr val="000000"/>
                </a:solidFill>
                <a:latin typeface="Arial"/>
              </a:rPr>
              <a:t>data collection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e análi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44720" y="2565360"/>
            <a:ext cx="1081080" cy="720720"/>
          </a:xfrm>
          <a:prstGeom prst="flowChartDecision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erteza sobr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a classificação?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11360" y="1920960"/>
            <a:ext cx="1582920" cy="863640"/>
          </a:xfrm>
          <a:prstGeom prst="flowChartDecision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ação dos riscos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da agilidad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 da não agilidad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475080" y="3789360"/>
            <a:ext cx="1440000" cy="433440"/>
          </a:xfrm>
          <a:prstGeom prst="rect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rquiteturar aplicação para encapsular as partes ágei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5832360"/>
            <a:ext cx="1512720" cy="590760"/>
          </a:xfrm>
          <a:prstGeom prst="rect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nitorar progresso e riscos/ oportunidades, reajustar balanceamento e processo apropriadamen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78160" y="5184720"/>
            <a:ext cx="1511280" cy="590760"/>
          </a:xfrm>
          <a:prstGeom prst="rect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pacidade de entrega incremental de acordo com a estratégia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04000" y="1662120"/>
            <a:ext cx="1224000" cy="376200"/>
          </a:xfrm>
          <a:prstGeom prst="flowChartConnector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colha de um métod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ági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659640" y="3606840"/>
            <a:ext cx="1512720" cy="792000"/>
          </a:xfrm>
          <a:prstGeom prst="flowChartConnector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colha de um métod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ágil nas partes ágeis e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colha de um métod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não ágil caso contrár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804000" y="5521320"/>
            <a:ext cx="1297080" cy="590400"/>
          </a:xfrm>
          <a:prstGeom prst="rect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daptar o ciclo de vida do processo de acordo com os padrões de risco e mileston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28720" y="5661000"/>
            <a:ext cx="1584360" cy="720720"/>
          </a:xfrm>
          <a:prstGeom prst="flowChartAlternateProcess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Nota: Loops de feedback </a:t>
            </a:r>
            <a:br>
              <a:rPr sz="1000"/>
            </a:b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mitidos por simplicida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87600" y="22780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587600" y="3294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71480" y="38624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63560" y="1989000"/>
            <a:ext cx="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0320" y="198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85800" y="3397320"/>
            <a:ext cx="4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12400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340000" y="2359080"/>
            <a:ext cx="0" cy="56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40000" y="2349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203720" y="278136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203720" y="1917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211640" y="185256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03640" y="2349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96080" y="2165400"/>
            <a:ext cx="1224000" cy="376200"/>
          </a:xfrm>
          <a:prstGeom prst="flowChartConnector">
            <a:avLst/>
          </a:prstGeom>
          <a:solidFill>
            <a:srgbClr val="d3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colha de um método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ão ági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211640" y="18464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40068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788000" y="54864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788000" y="61261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75280" y="54864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15280" y="1846440"/>
            <a:ext cx="0" cy="39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099280" y="58212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172360" y="40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028000" y="234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028000" y="18464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050920" y="2927520"/>
            <a:ext cx="4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79600" y="130644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o 1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álise de r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203640" y="127008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o 2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aração de ris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203640" y="2997360"/>
            <a:ext cx="100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o 3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álise da arquitetu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03640" y="4654440"/>
            <a:ext cx="14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o 5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xecutar e monitor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6238800"/>
            <a:ext cx="14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sso 4: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iclo de vida da Adaptaçã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27640" y="1557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mínio de riscos não-áge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8800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mínio de riscos áge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635280" y="2637000"/>
            <a:ext cx="7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nhum domíni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76720" y="580536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17FF-D7CF-413C-971C-5FEA423CFFC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étodo Baseado em Riscos: Passo 1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ê a base para tomada de decisões sobre a estratégia de desenvolvimento a ser adot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5722920" y="3357720"/>
            <a:ext cx="2089080" cy="3311280"/>
            <a:chOff x="5722920" y="3357720"/>
            <a:chExt cx="2089080" cy="3311280"/>
          </a:xfrm>
        </p:grpSpPr>
        <p:sp>
          <p:nvSpPr>
            <p:cNvPr id="367" name=""/>
            <p:cNvSpPr/>
            <p:nvPr/>
          </p:nvSpPr>
          <p:spPr>
            <a:xfrm>
              <a:off x="5722920" y="3357720"/>
              <a:ext cx="2089080" cy="3311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287760" y="3840120"/>
              <a:ext cx="1241280" cy="590040"/>
            </a:xfrm>
            <a:prstGeom prst="rect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lassificar os riscos do ambiente do projeto, da agilidade e da não agilidad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324480" y="5743440"/>
              <a:ext cx="1164600" cy="590400"/>
            </a:xfrm>
            <a:prstGeom prst="rect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Obter informações via prototipação, </a:t>
              </a:r>
              <a:r>
                <a:rPr b="0" i="1" lang="pt-BR" sz="800" spc="-1" strike="noStrike">
                  <a:solidFill>
                    <a:srgbClr val="000000"/>
                  </a:solidFill>
                  <a:latin typeface="Arial"/>
                </a:rPr>
                <a:t>data collection</a:t>
              </a: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 e anális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70560" y="4725720"/>
              <a:ext cx="1080720" cy="720360"/>
            </a:xfrm>
            <a:prstGeom prst="flowChartDecision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certeza sobre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a classificação?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913440" y="443844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13440" y="5454720"/>
              <a:ext cx="0" cy="2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6096960" y="602280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089400" y="4149720"/>
              <a:ext cx="0" cy="187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081480" y="4135320"/>
              <a:ext cx="21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05440" y="3467160"/>
              <a:ext cx="122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sso 1: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álise de ris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56FF-FE31-454E-9BCA-DBE6A04662E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étodo Baseado em Riscos: Passo 2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lia os resultados da análise de riscos para determinar se o projeto é apropriado para ser puramente ágil ou não-ág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4788000" y="4149720"/>
            <a:ext cx="2376360" cy="1654200"/>
            <a:chOff x="4788000" y="4149720"/>
            <a:chExt cx="2376360" cy="1654200"/>
          </a:xfrm>
        </p:grpSpPr>
        <p:sp>
          <p:nvSpPr>
            <p:cNvPr id="380" name=""/>
            <p:cNvSpPr/>
            <p:nvPr/>
          </p:nvSpPr>
          <p:spPr>
            <a:xfrm>
              <a:off x="4788000" y="4149720"/>
              <a:ext cx="2376360" cy="165420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95720" y="4800600"/>
              <a:ext cx="1582560" cy="863640"/>
            </a:xfrm>
            <a:prstGeom prst="flowChartDecision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aração dos riscos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da agilidade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 da não agilidad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88080" y="4797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5796000" y="4725720"/>
              <a:ext cx="0" cy="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788000" y="4149720"/>
              <a:ext cx="122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sso 2: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paração de ris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AFD1-9D56-4339-859A-777584BBE65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étodo Baseado em Riscos: Passo 3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ntece quando o projeto não tem características somente ágeis ou não-áge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4427640" y="3932280"/>
            <a:ext cx="2376360" cy="1584360"/>
            <a:chOff x="4427640" y="3932280"/>
            <a:chExt cx="2376360" cy="1584360"/>
          </a:xfrm>
        </p:grpSpPr>
        <p:sp>
          <p:nvSpPr>
            <p:cNvPr id="388" name=""/>
            <p:cNvSpPr/>
            <p:nvPr/>
          </p:nvSpPr>
          <p:spPr>
            <a:xfrm>
              <a:off x="4427640" y="3932280"/>
              <a:ext cx="2376360" cy="1584360"/>
            </a:xfrm>
            <a:prstGeom prst="rect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98720" y="4724640"/>
              <a:ext cx="1439640" cy="433440"/>
            </a:xfrm>
            <a:prstGeom prst="rect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Arquiteturar aplicação para encapsular as partes ágei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27640" y="393228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sso 3: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álise da arquitet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8C98-791C-4088-B0E6-E6A7BE78BBA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étodo Baseado em Riscos: Passo 4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9640" y="2122560"/>
            <a:ext cx="540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envolve uma estratégia geral que endereça e identifica os ris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olve estratégias de resolução para cada um dos riscos identific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6084720" y="1268280"/>
            <a:ext cx="2448000" cy="5327640"/>
            <a:chOff x="6084720" y="1268280"/>
            <a:chExt cx="2448000" cy="5327640"/>
          </a:xfrm>
        </p:grpSpPr>
        <p:sp>
          <p:nvSpPr>
            <p:cNvPr id="394" name=""/>
            <p:cNvSpPr/>
            <p:nvPr/>
          </p:nvSpPr>
          <p:spPr>
            <a:xfrm>
              <a:off x="6084720" y="1268280"/>
              <a:ext cx="2448000" cy="5327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732720" y="1662120"/>
              <a:ext cx="1224000" cy="376200"/>
            </a:xfrm>
            <a:prstGeom prst="flowChartConnector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scolha de um método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ágil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588000" y="3606840"/>
              <a:ext cx="1513080" cy="792000"/>
            </a:xfrm>
            <a:prstGeom prst="flowChartConnector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scolha de um método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ão ágil nas partes ágeis e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scolha de um método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não ágil caso contrári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32720" y="5521320"/>
              <a:ext cx="1296720" cy="590400"/>
            </a:xfrm>
            <a:prstGeom prst="rect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800" spc="-1" strike="noStrike">
                  <a:solidFill>
                    <a:srgbClr val="000000"/>
                  </a:solidFill>
                  <a:latin typeface="Arial"/>
                </a:rPr>
                <a:t>Adaptar o ciclo de vida do processo de acordo com os padrões de risco e milestones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24800" y="2165400"/>
              <a:ext cx="1223640" cy="376200"/>
            </a:xfrm>
            <a:prstGeom prst="flowChartConnector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scolha de um método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não ágil.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244000" y="1846080"/>
              <a:ext cx="0" cy="397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028000" y="582120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8101080" y="400500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956720" y="2349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956720" y="18460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084720" y="6238800"/>
              <a:ext cx="144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sso 4: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iclo de vid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C45F-4BD1-4852-A2A1-1F10865196A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étodo Baseado em Riscos: Passo 5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amento e avaliação do processo adot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ase de ajus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291280" y="4005360"/>
            <a:ext cx="2376360" cy="1871640"/>
            <a:chOff x="5291280" y="4005360"/>
            <a:chExt cx="2376360" cy="1871640"/>
          </a:xfrm>
        </p:grpSpPr>
        <p:sp>
          <p:nvSpPr>
            <p:cNvPr id="408" name=""/>
            <p:cNvSpPr/>
            <p:nvPr/>
          </p:nvSpPr>
          <p:spPr>
            <a:xfrm>
              <a:off x="5291280" y="4005360"/>
              <a:ext cx="2376360" cy="187164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364000" y="5183280"/>
              <a:ext cx="1512720" cy="590400"/>
            </a:xfrm>
            <a:prstGeom prst="rect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onitorar progresso e riscos/ oportunidades, reajustar balanceamento e processo apropriadamente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365800" y="4535640"/>
              <a:ext cx="1510920" cy="590400"/>
            </a:xfrm>
            <a:prstGeom prst="rect">
              <a:avLst/>
            </a:prstGeom>
            <a:solidFill>
              <a:srgbClr val="d3d3d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pacidade de entrega incremental de acordo com a estratégia.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875280" y="483732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875280" y="5477040"/>
              <a:ext cx="28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162560" y="483732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291280" y="400536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sso 5:</a:t>
              </a:r>
              <a:br>
                <a:rPr sz="800"/>
              </a:b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ecutar e monitora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8E3C-EF78-47E4-B6E0-77396C4B4AE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tudos de Cas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mplos de aplicaçõ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quena e relativamente não-crí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á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ito grande, crític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562C-4658-48C4-858B-7EB8F6B6FCB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iplina e Agilida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os pesados focam em planos e arquitetur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amento (Processos pesad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o cu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crita de documentos x Produção d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03F9-56E2-4199-A916-3A5E2423EF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7" name=""/>
          <p:cNvGraphicFramePr/>
          <p:nvPr/>
        </p:nvGraphicFramePr>
        <p:xfrm>
          <a:off x="519120" y="817560"/>
          <a:ext cx="8229240" cy="5851080"/>
        </p:xfrm>
        <a:graphic>
          <a:graphicData uri="http://schemas.openxmlformats.org/drawingml/2006/table">
            <a:tbl>
              <a:tblPr/>
              <a:tblGrid>
                <a:gridCol w="1640160"/>
                <a:gridCol w="2053440"/>
                <a:gridCol w="2286000"/>
                <a:gridCol w="2249640"/>
              </a:tblGrid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plic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lanejamento de ev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Event Manager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Gerenciamento 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ornecimento em cade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SupplyChain.co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Gerenciamento 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rise nacion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(NISC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427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amanho do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Tipo do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inter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distribuído, geralm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m multiorganiz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ortemente distribuído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ultiorganizaçã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7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isco de falh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apital de risco; esforço manu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erda de grandes negóci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erda de vid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3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li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único representa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últiplos representa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uitos representa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equisi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objetivos geralm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onhecidos; detalh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merg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lgumas partes relativam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stáveis, outras voláte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lgumas partes relativamen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estáveis, outras voláte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rquite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fornecido por pacotes 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na maioria das vezes é fornecido p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um pequeno número 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acotes 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sistemas de sistemas; mui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acotes C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efatorament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barato, pessoas com habil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mais caro, pessoas com vár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habilidade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possível somente dentro 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lguns subsistem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0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Objetivo primá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valor rápi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umento do valor rápido; fidelidade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daptabil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resposta rápida, segurança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confiança, escalabilidade,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ahoma"/>
                          <a:ea typeface="Arial"/>
                        </a:rPr>
                        <a:t>adaptabilida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8" name=""/>
          <p:cNvSpPr/>
          <p:nvPr/>
        </p:nvSpPr>
        <p:spPr>
          <a:xfrm>
            <a:off x="684360" y="115920"/>
            <a:ext cx="7792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Resumo das Características das Aplic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37AA-6168-4B11-A0AA-60AA035A4A1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9" name=""/>
          <p:cNvGraphicFramePr/>
          <p:nvPr/>
        </p:nvGraphicFramePr>
        <p:xfrm>
          <a:off x="79200" y="800280"/>
          <a:ext cx="8964720" cy="572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" y="800280"/>
                    <a:ext cx="8964720" cy="57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1" name=""/>
          <p:cNvSpPr/>
          <p:nvPr/>
        </p:nvSpPr>
        <p:spPr>
          <a:xfrm>
            <a:off x="684360" y="115920"/>
            <a:ext cx="7792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lassificação dos Riscos para Cada Aplic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650-5157-4B40-97FA-4DBE7604F2D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Event Manager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1908000" y="1955880"/>
            <a:ext cx="5315040" cy="461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CE41-0385-4C9D-A465-C128577B6A7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SupplyChain.co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979640" y="1949400"/>
            <a:ext cx="57722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6262-BF5C-42CE-B0C1-D02BF6618F8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ISCM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889600" cy="4489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9F8-B20E-4C47-8EF0-9FD31A00B27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Event Managers </a:t>
            </a:r>
            <a:br>
              <a:rPr sz="4000"/>
            </a:b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Estratégia de Projet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547640" y="2492280"/>
            <a:ext cx="5832720" cy="3068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74BE-8E68-414E-8AC4-ADD0FCF0B3C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SupplyChain.com</a:t>
            </a:r>
            <a:br>
              <a:rPr sz="4000"/>
            </a:b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Estratégia de Projet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1187280" y="2170080"/>
            <a:ext cx="6985080" cy="399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21ED-646E-4505-9688-2E98BD09295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NISCM</a:t>
            </a:r>
            <a:br>
              <a:rPr sz="40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stratégia de Projet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6553080" cy="4640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87B1-AE02-4D6D-809A-B7CE40C7FC5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ação Entre Métod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116000" y="4043520"/>
            <a:ext cx="7137360" cy="269856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1116000" y="2421000"/>
            <a:ext cx="7121520" cy="99360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116000" y="1989000"/>
            <a:ext cx="7128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ritérios Utilizados para Compa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900000" y="3714840"/>
            <a:ext cx="7488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Métodos Ordenados por Número de Restri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FBD7-8259-4866-9979-EEAD30ADB6B7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õ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esso da aplicação de um processo depende das características do proje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ar métodos ágeis e tradicionais requer pessoas experien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cessário um processo que ajude a determinar como e quando realizar este balanceam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2773-F7E2-4764-B7D3-A0C0B96D7AB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iplina e Agilida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étodos ágeis representam uma perspectiva difere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rnam o processo mais le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estionamento (Métodos Ágei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cos envolvi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tos grandes sem muita documentaçã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ordagem balanceada é possí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EE11-97D6-4528-9C28-3246DF4C16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õ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m os métodos ágeis nem os métodos não-ágeis são perfei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 métodos ágeis e não-ágeis têm seus pontos fortes que dominam sobre os out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tendências futuras são voltadas para desenvolvimento de aplicações que precisam de agilidade e discipli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A63F-43BB-47E6-AAE3-E3D0D2998E6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õ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 métodos “balanceados” estão emergin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É melhor criar o seu próprio método a adaptar um exist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7FAB-8E79-4224-B76D-1952B275A61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. Boehm, R. Turner.  Balancing Agility and Discipline: A Guide for the Per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caling Agile Methods.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newarchitectmag.com/documents/s=2412/na1002e/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The New Methodology.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://www.martinfowler.com/articles/newMethodology.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071F-1BC3-4DFF-95CE-8D43542C4643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ferê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Extreme Programming:</a:t>
            </a:r>
            <a:br>
              <a:rPr sz="3200"/>
            </a:b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A gentle introduction. </a:t>
            </a:r>
            <a:r>
              <a:rPr b="0" lang="pt-BR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</a:t>
            </a:r>
            <a:r>
              <a:rPr b="0" lang="pt-BR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://www.</a:t>
            </a:r>
            <a:r>
              <a:rPr b="0" lang="pt-BR" sz="32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extremeprogramming</a:t>
            </a:r>
            <a:r>
              <a:rPr b="0" lang="pt-BR" sz="3200" spc="-1" strike="noStrike" u="sng">
                <a:solidFill>
                  <a:srgbClr val="ff0000"/>
                </a:solidFill>
                <a:uFillTx/>
                <a:latin typeface="Tahoma"/>
                <a:hlinkClick r:id="rId4"/>
              </a:rPr>
              <a:t>.</a:t>
            </a:r>
            <a:r>
              <a:rPr b="0" lang="pt-BR" sz="3200" spc="-1" strike="noStrike" u="sng">
                <a:solidFill>
                  <a:srgbClr val="ff0000"/>
                </a:solidFill>
                <a:uFillTx/>
                <a:latin typeface="Tahoma"/>
                <a:hlinkClick r:id="rId5"/>
              </a:rPr>
              <a:t>org</a:t>
            </a:r>
            <a:r>
              <a:rPr b="0" lang="pt-BR" sz="3200" spc="-1" strike="noStrike" u="sng">
                <a:solidFill>
                  <a:srgbClr val="ff0000"/>
                </a:solidFill>
                <a:uFillTx/>
                <a:latin typeface="Tahoma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Agile Methods and Agile Testing.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Tahoma"/>
                <a:hlinkClick r:id="rId7"/>
              </a:rPr>
              <a:t>http://www.testing.com/agile/agile-testing-essay.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Tahoma"/>
                <a:hlinkClick r:id="rId8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Be Agile or Be Gone. 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Tahoma"/>
                <a:hlinkClick r:id="rId9"/>
              </a:rPr>
              <a:t>http://www.eweek.com/article2/0,1895,1872254,00.</a:t>
            </a:r>
            <a:r>
              <a:rPr b="0" lang="pt-BR" sz="2800" spc="-1" strike="noStrike" u="sng">
                <a:solidFill>
                  <a:srgbClr val="ff0000"/>
                </a:solidFill>
                <a:uFillTx/>
                <a:latin typeface="Tahoma"/>
                <a:hlinkClick r:id="rId10"/>
              </a:rPr>
              <a:t>a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EE6B-D8C4-43B1-BAAD-6F8D6659852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erpretações Errad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ções múltipl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o incorreto do process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zação e universa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pretações purist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629-0B4B-4B15-AB1E-A4FF102DB2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contrando Meio Term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9886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locidade das mudanças exigi ag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cessos devem ter o “peso certo” para projeto, time e ambiente específic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álise dos riscos é o ponto chave para balancear disciplina e agilid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FE8-730E-40D3-8F19-96D420ADA7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acterísticas de Projeto de Softwa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acterísticas da aplicaçã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acterísticas de gerenciam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acterísticas técnic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acterísticas Pessoa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BDE0-0353-461A-9939-4650C04852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racterísticas da Aplicaçã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282600" y="2068560"/>
          <a:ext cx="8610480" cy="4697280"/>
        </p:xfrm>
        <a:graphic>
          <a:graphicData uri="http://schemas.openxmlformats.org/drawingml/2006/table">
            <a:tbl>
              <a:tblPr/>
              <a:tblGrid>
                <a:gridCol w="1752480"/>
                <a:gridCol w="3988080"/>
                <a:gridCol w="2869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cessos Áge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cessos Pesa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bjetiv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sposta à mudanç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visibilidade, estabilidade, alta seguranç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amanh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tos e equipes men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jetos e equipes maio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bien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urbulento, alta mudança, foco no 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stável, pouca mudança, foco na organização e 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EAD-BB0D-4C21-B3A6-5852EF97DB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6:46:05Z</dcterms:created>
  <dc:creator>mmsmj</dc:creator>
  <dc:description/>
  <dc:language>en-US</dc:language>
  <cp:lastModifiedBy>wmm119</cp:lastModifiedBy>
  <dcterms:modified xsi:type="dcterms:W3CDTF">2005-11-16T16:37:56Z</dcterms:modified>
  <cp:revision>404</cp:revision>
  <dc:subject/>
  <dc:title>Balanceando Agilidade e Disciplina</dc:title>
</cp:coreProperties>
</file>