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79280" y="189000"/>
            <a:ext cx="8785440" cy="6480000"/>
          </a:xfrm>
          <a:prstGeom prst="roundRect">
            <a:avLst>
              <a:gd name="adj" fmla="val 7912"/>
            </a:avLst>
          </a:prstGeom>
          <a:noFill/>
          <a:ln w="127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98240" y="60930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54E0-4E25-41E5-BEC7-A59407674B68}" type="datetime">
              <a:rPr b="1" lang="en-US" sz="1400" spc="-1" strike="noStrike">
                <a:solidFill>
                  <a:srgbClr val="80808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6213240" y="60930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60.xml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tilizando Ontologias para Definição de Processos de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2997360"/>
            <a:ext cx="6400800" cy="2862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11200" y="3213000"/>
            <a:ext cx="64008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dade Federal de Pernambu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o de Infor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ós-Graduação em Ciência da Compu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Avançados em Engenharia de Software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ndro Ronaldo Bezerra Oliv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rbo@cin.ufpe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48AAD-9069-4FC1-8F6C-0718D1AEC8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finição de Processo de Softwa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definição, utilização e melhoria contínua de um processo de software correspondem aos principais objetivos de uma organização d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o definir um processo de software adequado a uma organização, é também importante ponde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características da própria empresa e de seus grupos de trab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alta rotatividade de pess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equipes geograficamente disper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falta de experiência sobre o domínio do conhecimento da aplicação não correspondendo a dificuldades técn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 o aumento da preocupação com a qualidade de software, aumenta a procura das organizações em seguir as orientações de modelos e os padrões de qualidade de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SO 9000-3 [ISO.91], CMM [Paulk.93], ISO/IEC 12207 [ISO.97] e SPICE (ISO/IEC TR 15504) [ISO.9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F3C62-D96D-4782-804F-C14FF5F0C7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finição de Processo de Softwa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341360"/>
            <a:ext cx="822960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efinição de processos de software envolve várias e complexas fac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r alguma forma de ajuda, e o apoio automatizado é uma maneira de oferecer essa aju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tores que influenciam a forma como um produto de software é adquirido, desenvolvido, operado e man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ções nas políticas e procedimentos organizacio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ções nos métodos e estratégias de aquisi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tamanho e complexidade do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 requisitos e métodos de desenvolvimento do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efinição de processo de software deve conside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ua adequação às tecnologias envolvi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 tipo de software em quest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 domínio de aplic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 grau de maturidade (ou capacitação) da equipe em engenharia d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s características próprias da organiz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s características do projeto e da equip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7C45E-7AC6-4372-B2C1-E3715827AE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efinição de Processo de Softwa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modelo para definição de processos de software foi extraído de [Rocha.0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ência de definição de processo de software para diferentes domínios de aplic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ndo diferentes tecnologias de desenvolvimento de softw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acterísticas definidas pelo SEI de definição dos Processos d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 de três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ção do processo padr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ecialização do processo padr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ciação para projetos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1011D-29F6-4241-9E58-58303BA4A5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694560" y="404640"/>
            <a:ext cx="2449440" cy="2808360"/>
          </a:xfrm>
          <a:prstGeom prst="wedgeRoundRectCallout">
            <a:avLst>
              <a:gd name="adj1" fmla="val -72750"/>
              <a:gd name="adj2" fmla="val -28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abelece a estrutura comum a ser usada pela organização nos seus projetos de software e constitui a base para a definição de todos os proces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4221000"/>
            <a:ext cx="3672000" cy="1656000"/>
          </a:xfrm>
          <a:prstGeom prst="wedgeRoundRectCallout">
            <a:avLst>
              <a:gd name="adj1" fmla="val -18657"/>
              <a:gd name="adj2" fmla="val -1192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apta o processo padrão a partir das características distintas de tipos de software e diferentes abordagens de desenvolvimen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1484280"/>
            <a:ext cx="3672000" cy="2521080"/>
          </a:xfrm>
          <a:prstGeom prst="wedgeRoundRectCallout">
            <a:avLst>
              <a:gd name="adj1" fmla="val -24148"/>
              <a:gd name="adj2" fmla="val 7115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apta-se um processo especializado de acordo com as particularidades do projeto. Define-se modelo de ciclo de vida, métodos, ferramentas, recursos humanos, responsabilidades e artef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C0E60-40AA-4E53-AD95-410F22DCF8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D7484-4E04-4ED3-8A51-161D359045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mbiente EPOS possui um planejador inteligente que é responsável pelo detalhamento de tarefas, gerando automaticamente uma rede de subtarefas para cada tarefa compos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ambiente SMART utiliza uma ferramenta com base em conhecimento, articulador para modelar, analisar e simular processo complex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EF-PRO, da estação TABA considera a automatização da definição de processo a partir de um processo padrão, nas características do desenvolvimento de software da organização e no tipo de ADS para o qual está sendo definido o proces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O ASSIST-PRO, da estação TABA, considera a definição do processo para projetos específicos, com base em um assistente inteligente que fornece diretrizes, sugestões e opções para aumentar a qualidade e a produtividade nesta taref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poio Automatizado à Definição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94BEE-9AA5-4AE0-A030-4101DFFDB0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poio Automatizado a Definição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nhuma ferramenta permi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ma definição totalmente automatizada, usando características de reuso e melhoria contínua das características que compõem um novo processo de software ou um já existe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mbiente para Implantação de Processo de Soft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inir uma metodologia para a implantação do Processo de Softwar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vir como guia na definição das propriedades de um domínio de projeto específico e das características de uma Organizaçã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tomatizar a partir de ADS os módulos que compõem a definição, simulação, execução, avaliação e melhoria contínua do Processo de Software, com base nas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Etapas de Implantação de Processo de SW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, no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delo IDEAL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 e no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Meta-Processo de Softw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5F4FF-45AC-4412-B152-8CA2299F45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82440"/>
          <a:ext cx="9144000" cy="677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2440"/>
                    <a:ext cx="9144000" cy="67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5577F-FA9D-40E6-82E2-5861F734F6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68360" y="2765520"/>
            <a:ext cx="1152360" cy="86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6560" y="2637000"/>
            <a:ext cx="1152720" cy="86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3355920"/>
            <a:ext cx="1152360" cy="86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4149720"/>
            <a:ext cx="1152360" cy="86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4365720"/>
            <a:ext cx="1152360" cy="8650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1987560"/>
            <a:ext cx="2305080" cy="1440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48360" y="189000"/>
            <a:ext cx="1152720" cy="765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8B37D-6605-4344-9B12-B211710D89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42920" y="0"/>
          <a:ext cx="69138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0"/>
                    <a:ext cx="69138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41D93-AEED-4FAE-B9FE-62520F3958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bientes de Desenvolvimento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rência de Processo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ção de Processo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tologia de Processo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FAB1C-D111-487D-9AFD-48820AA631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ma ontologia é uma especificação de uma conceitua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ma descrição de conceitos e relações que podem existir para um agente ou uma comunidade de agentes, procurando restringir a estrutura de uma abstração da realida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ma ontologia consiste de conceitos e relações, e suas definições e restrições expressas na forma de axiom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da ontologia especifica um módulo de conhecimento do domínio de atua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ntologia de Processo de Softwa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DBD5B-9000-4030-9E95-E1EF22B491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ntologia de Processo de Softwar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413000"/>
            <a:ext cx="822960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 definição de uma ontologia de processo de software objetiv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poiar a aquisição, organização, reuso e compartilhamento de conhecimento sobre processos de desenvolvimento de soft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ara atingir este objetivo, a ontologia deve prover um vocabulário e um conjunto de axiomas fixando a semântica dos termos neste domínio de discur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ara a construção dos vocabulários e axiomas usou-se a notação da linguagem gráfica LIN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o construir uma ontologia de processo de software, fixa-se interpretações para os elementos de um corpo de conhecimento sobre processos de soft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 ontologia foi projetada por [Falbo.98] para dar suporte ao desenvolvimento de ferramentas baseadas no conhecimento sobre processos de soft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2147C-C3B8-4428-B424-03B7FF02CF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Toda ferramenta que venha a se comprometer com esta ontologia, estar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mpartilhando um vocabulário comum, facilitando a comunicação entre os desenvolvedo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brindo caminho para permitir o compartilhamento e reuso de bases de conhecimento nos ambientes instanci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Este conhecimento poderá ser usado p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um meta-ambiente para instanciar ambientes específic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erramentas dos ambientes instanciados para prover suporte a um processo de desenvolvimento específi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Três conceitos fundamentais no contexto de processos de soft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tivid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rocedimen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Recur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ntologia de Processo de Softwa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37581-4201-45A3-84D2-AC31F8320C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A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7080" y="2060640"/>
            <a:ext cx="316728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 - Qual a naturez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 uma atividad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- Como uma ativida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de ser decompost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 - Que atividades dev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teceder uma dada atividad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 - Que artefatos são consumi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r uma determinada atividad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 - Que artefatos são produzi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r uma determinada atividad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 - Qual a natureza de 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tefat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 - Que recursos são necessár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ra que uma atividade possa 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alizada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 - Que procedimentos podem 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otados na realização de u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ividade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4000" y="198900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xonomia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3080" y="2492280"/>
            <a:ext cx="143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composiçã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 Ativ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321300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cadeam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 Ativ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1280" y="3862440"/>
            <a:ext cx="15130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ividades com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imitivas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formaçã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08720" y="4724280"/>
            <a:ext cx="143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curso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queridos p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5445000"/>
            <a:ext cx="143964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oção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dimen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a Realizaçã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 Ativ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1000" y="147960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cação do Pro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00640" y="1484280"/>
            <a:ext cx="27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pectos no Domí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556000" y="2276280"/>
            <a:ext cx="273672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16360" y="2852280"/>
            <a:ext cx="4032000" cy="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48000" y="3286080"/>
            <a:ext cx="1871640" cy="142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3789360"/>
            <a:ext cx="316836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4221000"/>
            <a:ext cx="309564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059280" y="4508640"/>
            <a:ext cx="3600360" cy="217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780000" y="5084640"/>
            <a:ext cx="1655640" cy="217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5950080"/>
            <a:ext cx="331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2450A-5327-43A9-8835-A45E920D8A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xonomia de Ativida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tologia de Ativida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2160" y="3513240"/>
            <a:ext cx="8597880" cy="28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edica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atividade(a) =&gt;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ativid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2. atconstrução(a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atividade de constru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3. atgerência(a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atividade de ge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4. atavqualidade(a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atividade de avaliação da qualid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1. (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a) (atconstrução(a) 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atividade(a)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2. (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a) (atgerência(a) 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atividade(a)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3. (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a) (atavqualidade(a) 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atividade(a)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59280" y="1916280"/>
            <a:ext cx="3097080" cy="1584000"/>
            <a:chOff x="3059280" y="1916280"/>
            <a:chExt cx="3097080" cy="1584000"/>
          </a:xfrm>
        </p:grpSpPr>
        <p:sp>
          <p:nvSpPr>
            <p:cNvPr id="138" name=""/>
            <p:cNvSpPr/>
            <p:nvPr/>
          </p:nvSpPr>
          <p:spPr>
            <a:xfrm>
              <a:off x="4137120" y="1916280"/>
              <a:ext cx="7300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59280" y="2886120"/>
              <a:ext cx="865080" cy="61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 de Constru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37120" y="2886120"/>
              <a:ext cx="795240" cy="61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 de Gerên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3680" y="2886120"/>
              <a:ext cx="1012680" cy="61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 de Avaliação da Qual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500720" y="23554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493800" y="2633400"/>
              <a:ext cx="4680" cy="252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00720" y="2633400"/>
              <a:ext cx="2880" cy="252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94160" y="2631960"/>
              <a:ext cx="201276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05480" y="2633760"/>
              <a:ext cx="4680" cy="252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75207-CAC3-4196-B5E8-75CB3B79EE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A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mposição de A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971800" y="2335320"/>
            <a:ext cx="2247840" cy="733320"/>
            <a:chOff x="2971800" y="2335320"/>
            <a:chExt cx="2247840" cy="733320"/>
          </a:xfrm>
        </p:grpSpPr>
        <p:sp>
          <p:nvSpPr>
            <p:cNvPr id="151" name=""/>
            <p:cNvSpPr/>
            <p:nvPr/>
          </p:nvSpPr>
          <p:spPr>
            <a:xfrm>
              <a:off x="4029120" y="2335320"/>
              <a:ext cx="915840" cy="45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1280" y="2795400"/>
              <a:ext cx="183960" cy="92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938400" y="270144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3080" y="288432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938040" y="306864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38400" y="2701800"/>
              <a:ext cx="92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03800" y="2825640"/>
              <a:ext cx="9158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er-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71800" y="2367000"/>
              <a:ext cx="9158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-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4720" y="3546360"/>
            <a:ext cx="8384400" cy="24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edica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subatividade(a1, a2) =&gt;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dica que a atividad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sub-ativid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(ou parte) da atividad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2. superatividade(a2, a1) =&gt;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dica que a atividad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super-ativid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(ou é um todo) da atividad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3. atividadelementar(a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atividade element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4. macroatividade(a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macro-ativid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A742E-C5D8-4149-991B-2A779CCF9C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A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6720" y="2198520"/>
            <a:ext cx="8496360" cy="33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1 , a2 ) ( subatividade(a1 , a2 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superatividade(a2 , a1 ))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2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( sub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3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(sub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sub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sub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4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( sub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sub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5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) ( atividadeelementar(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(sub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))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6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) ( macroatividade(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(super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)))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omposição de A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D1D89-DFE4-4567-8B47-5C37175C1F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tologia de Ativida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adeamento de A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92360" y="2152800"/>
            <a:ext cx="2087640" cy="915840"/>
            <a:chOff x="3492360" y="2152800"/>
            <a:chExt cx="2087640" cy="915840"/>
          </a:xfrm>
        </p:grpSpPr>
        <p:sp>
          <p:nvSpPr>
            <p:cNvPr id="168" name=""/>
            <p:cNvSpPr/>
            <p:nvPr/>
          </p:nvSpPr>
          <p:spPr>
            <a:xfrm>
              <a:off x="3564000" y="2610000"/>
              <a:ext cx="914400" cy="45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4478400" y="2336760"/>
              <a:ext cx="1096920" cy="366840"/>
              <a:chOff x="4478400" y="2336760"/>
              <a:chExt cx="1096920" cy="366840"/>
            </a:xfrm>
          </p:grpSpPr>
          <p:sp>
            <p:nvSpPr>
              <p:cNvPr id="170" name=""/>
              <p:cNvSpPr/>
              <p:nvPr/>
            </p:nvSpPr>
            <p:spPr>
              <a:xfrm>
                <a:off x="4628160" y="2336760"/>
                <a:ext cx="767520" cy="36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478400" y="2383200"/>
                <a:ext cx="109692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pendênc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 flipV="1">
              <a:off x="4295520" y="242856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95520" y="242892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18120" y="270180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478040" y="279396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92360" y="2152800"/>
              <a:ext cx="731880" cy="18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é-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65600" y="2871720"/>
              <a:ext cx="91440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ós-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95560" y="3327480"/>
            <a:ext cx="8533800" cy="29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edica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preatividade(a1, a2) =&gt;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pré-atividade (antecede) d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2. posatividade(a2, a1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pós-atividade (sucede) d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1 , a2 ) ( preatividade(a1 , a2 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posatividade(a2 , a1 ))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2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)( pre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pre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re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3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( pre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pre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4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( pre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CE96B-5FBF-4AEF-A60C-02BD464C97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A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ividades como Primitivas de Trans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00000" y="2133720"/>
            <a:ext cx="3934080" cy="1100160"/>
            <a:chOff x="900000" y="2133720"/>
            <a:chExt cx="3934080" cy="1100160"/>
          </a:xfrm>
        </p:grpSpPr>
        <p:sp>
          <p:nvSpPr>
            <p:cNvPr id="183" name=""/>
            <p:cNvSpPr/>
            <p:nvPr/>
          </p:nvSpPr>
          <p:spPr>
            <a:xfrm>
              <a:off x="2363760" y="2133720"/>
              <a:ext cx="91512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3760" y="2775600"/>
              <a:ext cx="91512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te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735720" y="2499840"/>
              <a:ext cx="1098360" cy="366840"/>
              <a:chOff x="3735720" y="2499840"/>
              <a:chExt cx="1098360" cy="366840"/>
            </a:xfrm>
          </p:grpSpPr>
          <p:sp>
            <p:nvSpPr>
              <p:cNvPr id="186" name=""/>
              <p:cNvSpPr/>
              <p:nvPr/>
            </p:nvSpPr>
            <p:spPr>
              <a:xfrm>
                <a:off x="3884760" y="2499840"/>
                <a:ext cx="768600" cy="3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735720" y="2546280"/>
                <a:ext cx="1098360" cy="24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du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278520" y="3049200"/>
              <a:ext cx="915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3280" y="2316600"/>
              <a:ext cx="36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93280" y="2865960"/>
              <a:ext cx="36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278520" y="2316600"/>
              <a:ext cx="915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900000" y="2499840"/>
              <a:ext cx="1098360" cy="366840"/>
              <a:chOff x="900000" y="2499840"/>
              <a:chExt cx="1098360" cy="366840"/>
            </a:xfrm>
          </p:grpSpPr>
          <p:sp>
            <p:nvSpPr>
              <p:cNvPr id="193" name=""/>
              <p:cNvSpPr/>
              <p:nvPr/>
            </p:nvSpPr>
            <p:spPr>
              <a:xfrm>
                <a:off x="1049040" y="2499840"/>
                <a:ext cx="768600" cy="3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900000" y="2546280"/>
                <a:ext cx="1098360" cy="24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sum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H="1">
              <a:off x="1448640" y="3049200"/>
              <a:ext cx="915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48640" y="2865960"/>
              <a:ext cx="360" cy="18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448640" y="2316600"/>
              <a:ext cx="3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48640" y="2316600"/>
              <a:ext cx="915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07880" y="4076640"/>
            <a:ext cx="8439120" cy="183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edica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artefato(s, t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artefato do tipo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, ond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assume um 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seguintes valores: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{Componente, Documento, Código}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2. insumo(s, a) =&gt;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dica que o artefato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insumo para a atividad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3. produto(s, a) =&gt;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dica que o artefato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produto para a atividad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435640" y="3068640"/>
            <a:ext cx="2103480" cy="733320"/>
            <a:chOff x="5435640" y="3068640"/>
            <a:chExt cx="2103480" cy="733320"/>
          </a:xfrm>
        </p:grpSpPr>
        <p:sp>
          <p:nvSpPr>
            <p:cNvPr id="201" name=""/>
            <p:cNvSpPr/>
            <p:nvPr/>
          </p:nvSpPr>
          <p:spPr>
            <a:xfrm>
              <a:off x="6350040" y="3068640"/>
              <a:ext cx="914760" cy="45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te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41480" y="3529440"/>
              <a:ext cx="18324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258600" y="3435480"/>
              <a:ext cx="36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32920" y="3618000"/>
              <a:ext cx="36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258240" y="3801600"/>
              <a:ext cx="274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58600" y="3435480"/>
              <a:ext cx="918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24360" y="3558960"/>
              <a:ext cx="9147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er-arte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35640" y="3194280"/>
              <a:ext cx="91476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-arte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23984-3143-4EF9-9F54-48693FA467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tologia de Ativida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6720" y="1981080"/>
            <a:ext cx="8496360" cy="419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 s) ( insumo(s, 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rtefato(s,*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tividade(a))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2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 s) ( produto(s, 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rtefato(s,*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tividade(a)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3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(pre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s) (insumo(s,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roduto(s,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4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...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s) (sub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sub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insumo(s,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(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) produto(s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)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insumo(s,a)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5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...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s) (sub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subativ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roduto(s,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(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b) (insumo(s,b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,...,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})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roduto(s,a)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6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) (atividade (a)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s) (produto(s,a)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ividades como Primitivas de Trans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33792-0DBA-4304-BE7B-38517ED372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de Software pode ser compreendido como um conjunto de todas as atividades necessárias para transformar requisitos do usuário em softwa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[Humphrey.89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824360" cy="314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05D5F-B02A-4BB3-B511-FD3B2FC95E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A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71640" y="1903320"/>
            <a:ext cx="7056360" cy="3686400"/>
            <a:chOff x="971640" y="1903320"/>
            <a:chExt cx="7056360" cy="3686400"/>
          </a:xfrm>
        </p:grpSpPr>
        <p:sp>
          <p:nvSpPr>
            <p:cNvPr id="216" name=""/>
            <p:cNvSpPr/>
            <p:nvPr/>
          </p:nvSpPr>
          <p:spPr>
            <a:xfrm>
              <a:off x="2673360" y="2700360"/>
              <a:ext cx="1306440" cy="65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77920" y="4683240"/>
              <a:ext cx="1231920" cy="90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 de Constru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43040" y="4660920"/>
              <a:ext cx="1046160" cy="9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 de Gerên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14840" y="4683240"/>
              <a:ext cx="1374480" cy="90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 de Avaliação da Qual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060720" y="3365280"/>
              <a:ext cx="3240" cy="10220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886040" y="4387320"/>
              <a:ext cx="0" cy="295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060720" y="4387320"/>
              <a:ext cx="3240" cy="295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86040" y="4387680"/>
              <a:ext cx="2352600" cy="3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38640" y="4390920"/>
              <a:ext cx="0" cy="295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85960" y="3365640"/>
              <a:ext cx="260640" cy="14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021280" y="3072960"/>
              <a:ext cx="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4840" y="3513240"/>
              <a:ext cx="144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714480" y="3805200"/>
              <a:ext cx="13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75120" y="3073320"/>
              <a:ext cx="10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971640" y="1903320"/>
              <a:ext cx="1568160" cy="585720"/>
              <a:chOff x="971640" y="1903320"/>
              <a:chExt cx="1568160" cy="585720"/>
            </a:xfrm>
          </p:grpSpPr>
          <p:sp>
            <p:nvSpPr>
              <p:cNvPr id="231" name=""/>
              <p:cNvSpPr/>
              <p:nvPr/>
            </p:nvSpPr>
            <p:spPr>
              <a:xfrm>
                <a:off x="1185480" y="1903320"/>
                <a:ext cx="1097280" cy="58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71640" y="1977120"/>
                <a:ext cx="1568160" cy="39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pendênc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flipH="1" flipV="1">
              <a:off x="3192120" y="2193840"/>
              <a:ext cx="468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78080" y="2193840"/>
              <a:ext cx="9144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25400" y="2486160"/>
              <a:ext cx="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625400" y="3073320"/>
              <a:ext cx="10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4761000" y="1903320"/>
              <a:ext cx="1569960" cy="585720"/>
              <a:chOff x="4761000" y="1903320"/>
              <a:chExt cx="1569960" cy="585720"/>
            </a:xfrm>
          </p:grpSpPr>
          <p:sp>
            <p:nvSpPr>
              <p:cNvPr id="238" name=""/>
              <p:cNvSpPr/>
              <p:nvPr/>
            </p:nvSpPr>
            <p:spPr>
              <a:xfrm>
                <a:off x="4974120" y="1903320"/>
                <a:ext cx="1098720" cy="585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61000" y="1977120"/>
                <a:ext cx="1569960" cy="396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du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flipH="1">
              <a:off x="7373520" y="2193840"/>
              <a:ext cx="468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67080" y="2193840"/>
              <a:ext cx="1306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5283000" y="3949560"/>
              <a:ext cx="1570320" cy="586080"/>
              <a:chOff x="5283000" y="3949560"/>
              <a:chExt cx="1570320" cy="586080"/>
            </a:xfrm>
          </p:grpSpPr>
          <p:sp>
            <p:nvSpPr>
              <p:cNvPr id="243" name=""/>
              <p:cNvSpPr/>
              <p:nvPr/>
            </p:nvSpPr>
            <p:spPr>
              <a:xfrm>
                <a:off x="5496120" y="3949560"/>
                <a:ext cx="1099080" cy="586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83000" y="4023720"/>
                <a:ext cx="1570320" cy="39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sum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 flipH="1">
              <a:off x="3454200" y="4243320"/>
              <a:ext cx="209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3714480" y="2193840"/>
              <a:ext cx="468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14840" y="2193840"/>
              <a:ext cx="130968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89800" y="4243320"/>
              <a:ext cx="10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81840" y="2633760"/>
              <a:ext cx="1046160" cy="73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te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9600" y="2193840"/>
              <a:ext cx="392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06880" y="2781360"/>
              <a:ext cx="1046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-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22560" y="3500280"/>
              <a:ext cx="11764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er-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35960" y="336564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54200" y="3365640"/>
              <a:ext cx="180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97240" y="1916280"/>
              <a:ext cx="10443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ós-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93800" y="2629080"/>
              <a:ext cx="10447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é-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13600" y="3365640"/>
              <a:ext cx="260280" cy="147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935680" y="3072960"/>
              <a:ext cx="324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42120" y="3513240"/>
              <a:ext cx="324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935680" y="3805200"/>
              <a:ext cx="13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35680" y="3073320"/>
              <a:ext cx="10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87880" y="3497400"/>
              <a:ext cx="1176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er-arte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11920" y="2781360"/>
              <a:ext cx="104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b-arte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11BC7-F8C6-4BF1-A3DE-BCA6649A67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tologia de Procedimento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7080" y="2060640"/>
            <a:ext cx="316728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 – Que procedimentos podem 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otados na realização de u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ividad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– Qual a natureza de 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terminado Procediment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 – A que tecnologia d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envolvimento e / ou paradig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m procedimento é adequad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 – Que ferramentas podem 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tilizadas para (semi-) automatiz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m Procediment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84720" y="350028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equação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dimen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242100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xonomia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dimen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96000" y="4653000"/>
            <a:ext cx="201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Semi-) automatizaçã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dimen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1000" y="147960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cação do Pro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19640" y="1484280"/>
            <a:ext cx="27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pectos no Domí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635280" y="2925720"/>
            <a:ext cx="2376720" cy="790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348000" y="2781000"/>
            <a:ext cx="2664000" cy="93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419640" y="3860280"/>
            <a:ext cx="259236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708360" y="5084640"/>
            <a:ext cx="2016000" cy="2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2B265-9D2F-4AFA-A459-49FB89B1F4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Proced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xonomia de Procedime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65400" y="2270160"/>
            <a:ext cx="5671800" cy="3606840"/>
            <a:chOff x="1265400" y="2270160"/>
            <a:chExt cx="5671800" cy="3606840"/>
          </a:xfrm>
        </p:grpSpPr>
        <p:sp>
          <p:nvSpPr>
            <p:cNvPr id="280" name=""/>
            <p:cNvSpPr/>
            <p:nvPr/>
          </p:nvSpPr>
          <p:spPr>
            <a:xfrm>
              <a:off x="3824280" y="2270160"/>
              <a:ext cx="10350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84360" y="3230640"/>
              <a:ext cx="6397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to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59400" y="3228840"/>
              <a:ext cx="64116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éc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38840" y="3230640"/>
              <a:ext cx="6411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tri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281480" y="2749680"/>
              <a:ext cx="1440" cy="258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843280" y="303984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834080" y="304632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43280" y="3046320"/>
              <a:ext cx="327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13520" y="30463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65400" y="4143240"/>
              <a:ext cx="930240" cy="6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todo de Constru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70320" y="4143240"/>
              <a:ext cx="914400" cy="6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todo de Avaliação  Qual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849400" y="3681000"/>
              <a:ext cx="1800" cy="274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762200" y="395424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51280" y="395424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63640" y="393372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35280" y="5184720"/>
              <a:ext cx="833400" cy="69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écnica de Constru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59400" y="5184720"/>
              <a:ext cx="804600" cy="69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écnica de Gerên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33840" y="5184720"/>
              <a:ext cx="793800" cy="69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écnica de Avaliação  Qual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834080" y="3687840"/>
              <a:ext cx="0" cy="1280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102200" y="500040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834080" y="500040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02200" y="4998960"/>
              <a:ext cx="1693800" cy="14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96000" y="500076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48480" y="4143240"/>
              <a:ext cx="549000" cy="54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tei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88200" y="4143240"/>
              <a:ext cx="549000" cy="54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205680" y="36874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838840" y="396072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38840" y="3960720"/>
              <a:ext cx="82404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62880" y="396072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40000" y="4143240"/>
              <a:ext cx="939600" cy="654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todo de Gerên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841480" y="3954240"/>
              <a:ext cx="1800" cy="183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79280" y="1989000"/>
            <a:ext cx="2160720" cy="2376720"/>
          </a:xfrm>
          <a:prstGeom prst="wedgeRoundRectCallout">
            <a:avLst>
              <a:gd name="adj1" fmla="val 55365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 um procedimento sistemático para a realização de uma ou mais atividades, definindo passos e heurísticas, ou seja, definem padrões em termos de sub-ativ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50920" y="1989000"/>
            <a:ext cx="2160720" cy="2592360"/>
          </a:xfrm>
          <a:prstGeom prst="wedgeRoundRectCallout">
            <a:avLst>
              <a:gd name="adj1" fmla="val 66606"/>
              <a:gd name="adj2" fmla="val 774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bém um procedimento para a realização de uma atividade, menos rígido e detalhado, ou seja, define aspectos gerais para a realização de uma ativ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32000" y="3357720"/>
            <a:ext cx="2160720" cy="2158920"/>
          </a:xfrm>
          <a:prstGeom prst="wedgeRoundRectCallout">
            <a:avLst>
              <a:gd name="adj1" fmla="val 69689"/>
              <a:gd name="adj2" fmla="val 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imentos para a elaboração de documentos, só podendo ser usados em atividades que produzam docum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32720" y="1341360"/>
            <a:ext cx="2160360" cy="2665440"/>
          </a:xfrm>
          <a:prstGeom prst="wedgeRoundRectCallout">
            <a:avLst>
              <a:gd name="adj1" fmla="val -41037"/>
              <a:gd name="adj2" fmla="val 60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imentos que visam estabelecer padrões para realização de atividades, excluindo elaboração de documentos, ex: normas de program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280" y="4941720"/>
            <a:ext cx="2160720" cy="1916280"/>
          </a:xfrm>
          <a:prstGeom prst="wedgeRoundRectCallout">
            <a:avLst>
              <a:gd name="adj1" fmla="val 18476"/>
              <a:gd name="adj2" fmla="val -5629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cluem Métodos de Análise e Projeto, tal como o Método de Booch para o desenvolvimento 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941720"/>
            <a:ext cx="2160720" cy="1295640"/>
          </a:xfrm>
          <a:prstGeom prst="wedgeRoundRectCallout">
            <a:avLst>
              <a:gd name="adj1" fmla="val 18476"/>
              <a:gd name="adj2" fmla="val -59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étodos de Estimativa de Custo, como o COCO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00360" y="5013360"/>
            <a:ext cx="2160720" cy="1295280"/>
          </a:xfrm>
          <a:prstGeom prst="wedgeRoundRectCallout">
            <a:avLst>
              <a:gd name="adj1" fmla="val 18476"/>
              <a:gd name="adj2" fmla="val -59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étodos de Avaliação de Qualidade , ex: Rocha 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95640" y="4076640"/>
            <a:ext cx="2160360" cy="719280"/>
          </a:xfrm>
          <a:prstGeom prst="wedgeRoundRectCallout">
            <a:avLst>
              <a:gd name="adj1" fmla="val 18476"/>
              <a:gd name="adj2" fmla="val 952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écnicas Top-down e bottom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2360" y="3645000"/>
            <a:ext cx="2160720" cy="1150920"/>
          </a:xfrm>
          <a:prstGeom prst="wedgeRoundRectCallout">
            <a:avLst>
              <a:gd name="adj1" fmla="val 18476"/>
              <a:gd name="adj2" fmla="val 78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écnica de estimativa de tamanho por linhas de códi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588000" y="5084640"/>
            <a:ext cx="2160720" cy="865440"/>
          </a:xfrm>
          <a:prstGeom prst="wedgeRoundRectCallout">
            <a:avLst>
              <a:gd name="adj1" fmla="val -67560"/>
              <a:gd name="adj2" fmla="val 1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peções, testes de caixa de branca e caixa de p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1ABF1-F487-496C-BFC1-85B0A5C442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Proced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4360" y="2060640"/>
            <a:ext cx="8820360" cy="385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edica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procedimento(p) =&gt;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procedimen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2. método(m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méto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3. técnica(t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técni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4. diretriz(d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diretri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5. metconstrução(m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método de constru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6. metgerência(m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método de ge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7. metavqualidade(m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método de avaliação de qualid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8. tecconstrução(t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técnica de constru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9. tecgerência(t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técnica de ge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0. tecavqualidade(t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técnica de avaliação de qualid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1. roteiro(r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rotei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2. norma(n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nor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xonomia de Procedime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FDCE7-C04E-4913-890F-4E1C4A6B12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tologia de Procedimento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dequação de Procedime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8200" y="3765600"/>
            <a:ext cx="8076600" cy="125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edica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possíveladoção(p, a) =&gt;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dica que o procedimento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pode ser adot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na realização da atividad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268360" y="2514600"/>
            <a:ext cx="3959280" cy="482760"/>
            <a:chOff x="2268360" y="2514600"/>
            <a:chExt cx="3959280" cy="482760"/>
          </a:xfrm>
        </p:grpSpPr>
        <p:sp>
          <p:nvSpPr>
            <p:cNvPr id="330" name=""/>
            <p:cNvSpPr/>
            <p:nvPr/>
          </p:nvSpPr>
          <p:spPr>
            <a:xfrm>
              <a:off x="5403960" y="2514600"/>
              <a:ext cx="823680" cy="482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68360" y="2514600"/>
              <a:ext cx="10400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581280" y="2565720"/>
              <a:ext cx="1567080" cy="366480"/>
              <a:chOff x="3581280" y="2565720"/>
              <a:chExt cx="1567080" cy="366480"/>
            </a:xfrm>
          </p:grpSpPr>
          <p:sp>
            <p:nvSpPr>
              <p:cNvPr id="333" name=""/>
              <p:cNvSpPr/>
              <p:nvPr/>
            </p:nvSpPr>
            <p:spPr>
              <a:xfrm>
                <a:off x="3795120" y="2565720"/>
                <a:ext cx="109728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581280" y="2611800"/>
                <a:ext cx="1567080" cy="2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ossível ado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4948200" y="274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06600" y="274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06600" y="2565720"/>
              <a:ext cx="2746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A151C-C78D-48D0-97D2-6EC09B0E30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Proced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6720" y="2198520"/>
            <a:ext cx="8496360" cy="40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p,a) ( possíveladoção(p,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procedimento(p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tividade(a)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2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 r) (possíveladoção(r,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roteiro(r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s) (produto(s,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rtefato(s,Documento))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3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 p) ((metconstrução(p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tecconstrução(p)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ossíveladoção(p,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tconstrução(a ))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4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 p) ((metgerência(p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tecgerência(p)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ossíveladoção(p,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tgerência(a )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 m) ( metavqualidade (p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tecavqualidade(p)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ossíveladoção (p,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tavqualidade(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dequação de Procedime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2A4F8-47C9-4539-87D5-EA83B1F1EE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tologia de Procedimento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dequação de Procedime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2680" y="3213000"/>
            <a:ext cx="816192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dic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1. padrãoat(pa)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dica qu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 padrão de 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2. padrão-composição(a,pa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&gt; indica que a ativida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põe o padrã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vida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3. descrição(m, a, pa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&gt; indica que o métod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screve a ativida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ravés do padrão de atividades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4. proced-conformidade(p,pd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&gt; indica que o procediment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stá 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formidade com o paradigma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5. proced-adequação(p, td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&gt; indica que o procediment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adequado 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envolvimento utilizando a tecnologia de desenvolvimento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6. paradigma(pd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 paradigma de 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7. tecnologia(td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tecnologia de 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788000" y="1628640"/>
            <a:ext cx="3960720" cy="1800360"/>
            <a:chOff x="4788000" y="1628640"/>
            <a:chExt cx="3960720" cy="1800360"/>
          </a:xfrm>
        </p:grpSpPr>
        <p:sp>
          <p:nvSpPr>
            <p:cNvPr id="347" name=""/>
            <p:cNvSpPr/>
            <p:nvPr/>
          </p:nvSpPr>
          <p:spPr>
            <a:xfrm>
              <a:off x="7742160" y="1727280"/>
              <a:ext cx="823680" cy="45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88000" y="1628640"/>
              <a:ext cx="8236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to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5846760" y="1701720"/>
              <a:ext cx="1710720" cy="366840"/>
              <a:chOff x="5846760" y="1701720"/>
              <a:chExt cx="1710720" cy="366840"/>
            </a:xfrm>
          </p:grpSpPr>
          <p:sp>
            <p:nvSpPr>
              <p:cNvPr id="350" name=""/>
              <p:cNvSpPr/>
              <p:nvPr/>
            </p:nvSpPr>
            <p:spPr>
              <a:xfrm>
                <a:off x="6080040" y="1701720"/>
                <a:ext cx="1197720" cy="3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46760" y="1748160"/>
                <a:ext cx="171072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ossível ado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7283160" y="1925640"/>
              <a:ext cx="45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10240" y="1884240"/>
              <a:ext cx="458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67440" y="3036960"/>
              <a:ext cx="915480" cy="39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drão de Ativ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81840" y="3129120"/>
              <a:ext cx="91440" cy="183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5884560" y="2354400"/>
              <a:ext cx="1398240" cy="366480"/>
              <a:chOff x="5884560" y="2354400"/>
              <a:chExt cx="1398240" cy="3664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75000" y="2354400"/>
                <a:ext cx="97884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84560" y="2400480"/>
                <a:ext cx="1398240" cy="2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cri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7073640" y="3206880"/>
              <a:ext cx="10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10240" y="1628640"/>
              <a:ext cx="2757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8172360" y="2200320"/>
              <a:ext cx="0" cy="10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967520" y="2195640"/>
              <a:ext cx="275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53040" y="2098800"/>
              <a:ext cx="1080" cy="4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24640" y="2732040"/>
              <a:ext cx="108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24640" y="2843280"/>
              <a:ext cx="275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73640" y="2995560"/>
              <a:ext cx="2743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10200" y="2195640"/>
              <a:ext cx="144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7073640" y="2567160"/>
              <a:ext cx="7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152680" y="2567160"/>
              <a:ext cx="91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32240" y="2098800"/>
              <a:ext cx="275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1880" y="2195640"/>
              <a:ext cx="18396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74040" y="2287440"/>
              <a:ext cx="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74040" y="2475000"/>
              <a:ext cx="27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8748720" y="20066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8564040" y="200664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250920" y="1925640"/>
            <a:ext cx="4322520" cy="1071720"/>
            <a:chOff x="250920" y="1925640"/>
            <a:chExt cx="4322520" cy="1071720"/>
          </a:xfrm>
        </p:grpSpPr>
        <p:sp>
          <p:nvSpPr>
            <p:cNvPr id="377" name=""/>
            <p:cNvSpPr/>
            <p:nvPr/>
          </p:nvSpPr>
          <p:spPr>
            <a:xfrm>
              <a:off x="1897200" y="1925640"/>
              <a:ext cx="1004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98960" y="2538360"/>
              <a:ext cx="130320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nologia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envolv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3440" y="2536920"/>
              <a:ext cx="914400" cy="382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adig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250920" y="1955880"/>
              <a:ext cx="1396800" cy="366480"/>
              <a:chOff x="250920" y="1955880"/>
              <a:chExt cx="1396800" cy="366480"/>
            </a:xfrm>
          </p:grpSpPr>
          <p:sp>
            <p:nvSpPr>
              <p:cNvPr id="381" name=""/>
              <p:cNvSpPr/>
              <p:nvPr/>
            </p:nvSpPr>
            <p:spPr>
              <a:xfrm>
                <a:off x="441000" y="1955880"/>
                <a:ext cx="97776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0920" y="2001960"/>
                <a:ext cx="1396800" cy="24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formida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176640" y="1957320"/>
              <a:ext cx="1396800" cy="366840"/>
              <a:chOff x="3176640" y="1957320"/>
              <a:chExt cx="1396800" cy="366840"/>
            </a:xfrm>
          </p:grpSpPr>
          <p:sp>
            <p:nvSpPr>
              <p:cNvPr id="384" name=""/>
              <p:cNvSpPr/>
              <p:nvPr/>
            </p:nvSpPr>
            <p:spPr>
              <a:xfrm>
                <a:off x="3366720" y="1957320"/>
                <a:ext cx="977760" cy="3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76640" y="2003760"/>
                <a:ext cx="1396800" cy="24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dequa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1440000" y="213840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01960" y="213840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90640" y="2320920"/>
              <a:ext cx="144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16360" y="2322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5580000" y="2779560"/>
            <a:ext cx="2872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198520" y="2563920"/>
            <a:ext cx="28764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38257-3E33-46D4-AA33-7732D34750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tologia de Procedimento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68360" y="1773360"/>
            <a:ext cx="8136000" cy="477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 m) (metódo(m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possíveladoção(m,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macroatividade(a))    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 t) (técnica(t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possíveladoção(t,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tividadeelementar(a)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3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m,pa) (descrição(m,a,p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ossíveladoção(m,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padrãoat(pa )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4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a1,pa) (padrão-composição(a1,p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descrição(m,a,p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(a1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superatividade(a1,a)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5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p,pd) (proced-conformidade(p,pd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rocedimento(p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paradigma(pd))  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6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p,td) ( proced-adequação(p,td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rocedimento(p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tecnologia(td))         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240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dequação de Procedime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22955-24EB-485F-8F0C-908A480F1D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tologia de Procedimento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474920" y="1700280"/>
            <a:ext cx="5761080" cy="3862440"/>
            <a:chOff x="1474920" y="1700280"/>
            <a:chExt cx="5761080" cy="3862440"/>
          </a:xfrm>
        </p:grpSpPr>
        <p:sp>
          <p:nvSpPr>
            <p:cNvPr id="399" name=""/>
            <p:cNvSpPr/>
            <p:nvPr/>
          </p:nvSpPr>
          <p:spPr>
            <a:xfrm>
              <a:off x="1873440" y="1704960"/>
              <a:ext cx="733320" cy="39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2697480" y="1700280"/>
              <a:ext cx="1585800" cy="366480"/>
              <a:chOff x="2697480" y="1700280"/>
              <a:chExt cx="1585800" cy="366480"/>
            </a:xfrm>
          </p:grpSpPr>
          <p:sp>
            <p:nvSpPr>
              <p:cNvPr id="401" name=""/>
              <p:cNvSpPr/>
              <p:nvPr/>
            </p:nvSpPr>
            <p:spPr>
              <a:xfrm>
                <a:off x="2913840" y="1700280"/>
                <a:ext cx="111024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697480" y="1746360"/>
                <a:ext cx="1585800" cy="2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ossível ado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3708720" y="2219400"/>
              <a:ext cx="1092240" cy="48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437360" y="3224160"/>
              <a:ext cx="64116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éc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61040" y="3224160"/>
              <a:ext cx="6415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tri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4343760" y="27363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703680" y="301464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712040" y="304128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06920" y="304164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35720" y="3041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22800" y="4116240"/>
              <a:ext cx="852480" cy="54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todo de Gerên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70320" y="4116240"/>
              <a:ext cx="841680" cy="54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todo de Avaliaçã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al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703680" y="3673080"/>
              <a:ext cx="0" cy="252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057760" y="39254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57760" y="3924360"/>
              <a:ext cx="16459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06920" y="3924360"/>
              <a:ext cx="1800" cy="183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64000" y="5013360"/>
              <a:ext cx="863640" cy="54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écnica de Constru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81720" y="5013360"/>
              <a:ext cx="853920" cy="54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écnica de Gerên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29600" y="5013360"/>
              <a:ext cx="842760" cy="54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écnica de Avaliação  Qual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4857840" y="3716280"/>
              <a:ext cx="1800" cy="1262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980160" y="4795560"/>
              <a:ext cx="144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80160" y="4795920"/>
              <a:ext cx="1887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65840" y="479592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26440" y="4138560"/>
              <a:ext cx="550800" cy="54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tei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67600" y="4138560"/>
              <a:ext cx="549360" cy="54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r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626440" y="3681360"/>
              <a:ext cx="144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992920" y="39560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26440" y="395604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42280" y="395604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05320" y="18874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45320" y="1852560"/>
              <a:ext cx="182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227840" y="185256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92920" y="2859120"/>
              <a:ext cx="12430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nologia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envolv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175440" y="2036880"/>
              <a:ext cx="8445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adig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891320" y="1722600"/>
              <a:ext cx="1398600" cy="366480"/>
              <a:chOff x="4891320" y="1722600"/>
              <a:chExt cx="1398600" cy="366480"/>
            </a:xfrm>
          </p:grpSpPr>
          <p:sp>
            <p:nvSpPr>
              <p:cNvPr id="436" name=""/>
              <p:cNvSpPr/>
              <p:nvPr/>
            </p:nvSpPr>
            <p:spPr>
              <a:xfrm>
                <a:off x="5081760" y="1722600"/>
                <a:ext cx="97920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91320" y="1768680"/>
                <a:ext cx="1398600" cy="24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formida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4891320" y="2379600"/>
              <a:ext cx="1306440" cy="366840"/>
              <a:chOff x="4891320" y="2379600"/>
              <a:chExt cx="1306440" cy="366840"/>
            </a:xfrm>
          </p:grpSpPr>
          <p:sp>
            <p:nvSpPr>
              <p:cNvPr id="439" name=""/>
              <p:cNvSpPr/>
              <p:nvPr/>
            </p:nvSpPr>
            <p:spPr>
              <a:xfrm>
                <a:off x="5069160" y="2379600"/>
                <a:ext cx="914400" cy="3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891320" y="2426040"/>
                <a:ext cx="1306440" cy="24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dequa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4621320" y="1852560"/>
              <a:ext cx="457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85080" y="1852560"/>
              <a:ext cx="457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4621320" y="185220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00960" y="2521080"/>
              <a:ext cx="27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92920" y="2584440"/>
              <a:ext cx="54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83080" y="3341520"/>
              <a:ext cx="8236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drão de Ativida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65600" y="3243240"/>
              <a:ext cx="183960" cy="92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2148120" y="2427120"/>
              <a:ext cx="1281240" cy="366840"/>
              <a:chOff x="2148120" y="2427120"/>
              <a:chExt cx="1281240" cy="366840"/>
            </a:xfrm>
          </p:grpSpPr>
          <p:sp>
            <p:nvSpPr>
              <p:cNvPr id="449" name=""/>
              <p:cNvSpPr/>
              <p:nvPr/>
            </p:nvSpPr>
            <p:spPr>
              <a:xfrm>
                <a:off x="2322720" y="2427120"/>
                <a:ext cx="896760" cy="3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148120" y="2473560"/>
                <a:ext cx="128124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cri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3429360" y="3193920"/>
              <a:ext cx="6397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to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2057760" y="2097000"/>
              <a:ext cx="0" cy="11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24600" y="1978200"/>
              <a:ext cx="2746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422800" y="2792520"/>
              <a:ext cx="0" cy="54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37200" y="3009960"/>
              <a:ext cx="2746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14960" y="3200400"/>
              <a:ext cx="2743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83080" y="3106800"/>
              <a:ext cx="2746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73440" y="2097000"/>
              <a:ext cx="2761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,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22800" y="209700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45040" y="26398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19720" y="2639880"/>
              <a:ext cx="1440" cy="55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74920" y="4108320"/>
              <a:ext cx="857160" cy="54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étodo de Constru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87840" y="3924360"/>
              <a:ext cx="1440" cy="1839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542280" y="1852560"/>
              <a:ext cx="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542280" y="258408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D0FDA-53F7-4D67-BA0A-8D06FDD32A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Re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7080" y="2060640"/>
            <a:ext cx="316728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 – Que recursos são requeri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r uma Atividad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– Qual a natureza de 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terminado Recurs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 – Que Ferramentas de Softw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dem ser utilizadas para (semi-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utomatizar um Procediment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84720" y="350028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cursos requerid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r Ativ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84720" y="242100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axonomia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796000" y="4653000"/>
            <a:ext cx="2016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Semi-) automatizaçã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dimen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21000" y="147960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cação do Pro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219640" y="1484280"/>
            <a:ext cx="27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pectos no Domí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348000" y="3284640"/>
            <a:ext cx="266400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132000" y="2781000"/>
            <a:ext cx="288000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708360" y="5084640"/>
            <a:ext cx="2016000" cy="21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2CB64-88A4-48E6-BAC2-FBBEAEA29A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m forma de analisar e amadurecer o Processo de Software é através de sua descri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delo de Processo de Softwa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ção Formal deste modelo permite a sua Automa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ecução das características planejadas pelos envolvidos no process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apoiar Modelagem e Execução de Proces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S Orientados ao Process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porcionar alto nível de integração entre suas ferrament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paz de executar um modelo de processo de software através da coordenação da equipe de desenvolvimento na execução de suas taref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erência de alocação de recurs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leta de métric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xecução automática de algumas ativid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udança do processo durante sua execuçã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2317D-D93E-4D19-8BA7-19129786CC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tologia de Recurso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xonomia de Recurs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908000" y="2206800"/>
            <a:ext cx="4392720" cy="3166560"/>
            <a:chOff x="1908000" y="2206800"/>
            <a:chExt cx="4392720" cy="3166560"/>
          </a:xfrm>
        </p:grpSpPr>
        <p:sp>
          <p:nvSpPr>
            <p:cNvPr id="481" name=""/>
            <p:cNvSpPr/>
            <p:nvPr/>
          </p:nvSpPr>
          <p:spPr>
            <a:xfrm>
              <a:off x="3987720" y="2206800"/>
              <a:ext cx="915840" cy="46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ur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71520" y="2994120"/>
              <a:ext cx="822240" cy="49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urso de Hard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84640" y="3019320"/>
              <a:ext cx="823680" cy="46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urso 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079520" y="3019320"/>
              <a:ext cx="824040" cy="46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urso de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4444920" y="2665440"/>
              <a:ext cx="1440" cy="183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36560" y="2816280"/>
              <a:ext cx="0" cy="183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4444920" y="2841480"/>
              <a:ext cx="1440" cy="182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436560" y="2816280"/>
              <a:ext cx="201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51120" y="28382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48000" y="3876480"/>
              <a:ext cx="100296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rramenta de 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33840" y="3876480"/>
              <a:ext cx="831600" cy="45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  Apo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4443120" y="3486240"/>
              <a:ext cx="0" cy="183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076640" y="3692520"/>
              <a:ext cx="1440" cy="183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76640" y="3692520"/>
              <a:ext cx="73152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08160" y="3692520"/>
              <a:ext cx="0" cy="183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08000" y="4699080"/>
              <a:ext cx="10810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rramenta de Constru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132000" y="4699080"/>
              <a:ext cx="95868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rramenta de Gerên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01920" y="4699080"/>
              <a:ext cx="101916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rramenta de Avaliação da Qual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985920" y="43333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2412720" y="4516560"/>
              <a:ext cx="0" cy="182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619440" y="4516560"/>
              <a:ext cx="1440" cy="182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412720" y="4516560"/>
              <a:ext cx="345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16360" y="4516560"/>
              <a:ext cx="0" cy="183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84520" y="4699080"/>
              <a:ext cx="916200" cy="67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rramenta de Propósito Ge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67280" y="4516560"/>
              <a:ext cx="1440" cy="182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16D1B-A1A6-47A4-A037-2C74FC2FD0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Re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4000" y="2246400"/>
            <a:ext cx="8569080" cy="35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edica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recursos(r) =&gt;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recur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2. rechumano(r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recurso huma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3. rechardware(r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recurso de hard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4. recsoftware(r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recurso de soft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5. ferramenta(f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ferramenta de softw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6. sistemaapoio(s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sistema de apo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7. ferconstrução(f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ferramenta de construçã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8. fergerência(f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ferramenta de gerê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9. feravqualidade(f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ferramenta de avaliação da qualida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0. ferpropgeral(f)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a ferramenta de propósito ger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xonomia de Recurs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F1668-7B6F-4550-A771-1BA6314DE6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Re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cursos Requeridos por Ativida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11480" y="3716280"/>
            <a:ext cx="7768440" cy="21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edica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uso(r, a) =&gt;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dica que o recurso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necessário para a realização 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tividad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,r) ( uso(r,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recurso(r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tividade(a))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2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1 ,a ,r) ((uso(r,a1 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subatividade(a1 ,a)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uso(r,a))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476360" y="2239920"/>
            <a:ext cx="5216400" cy="1189080"/>
            <a:chOff x="1476360" y="2239920"/>
            <a:chExt cx="5216400" cy="1189080"/>
          </a:xfrm>
        </p:grpSpPr>
        <p:sp>
          <p:nvSpPr>
            <p:cNvPr id="516" name=""/>
            <p:cNvSpPr/>
            <p:nvPr/>
          </p:nvSpPr>
          <p:spPr>
            <a:xfrm>
              <a:off x="1476360" y="2492640"/>
              <a:ext cx="915120" cy="45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ur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2577240" y="2572560"/>
              <a:ext cx="1006200" cy="366120"/>
              <a:chOff x="2577240" y="2572560"/>
              <a:chExt cx="1006200" cy="366120"/>
            </a:xfrm>
          </p:grpSpPr>
          <p:sp>
            <p:nvSpPr>
              <p:cNvPr id="518" name=""/>
              <p:cNvSpPr/>
              <p:nvPr/>
            </p:nvSpPr>
            <p:spPr>
              <a:xfrm>
                <a:off x="2713680" y="2572560"/>
                <a:ext cx="70416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577240" y="2618640"/>
                <a:ext cx="100620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s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2393640" y="2755440"/>
              <a:ext cx="275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57040" y="2604240"/>
              <a:ext cx="917640" cy="425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778000" y="2572560"/>
              <a:ext cx="914760" cy="45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te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774320" y="3062880"/>
              <a:ext cx="1097640" cy="366120"/>
              <a:chOff x="4774320" y="3062880"/>
              <a:chExt cx="1097640" cy="366120"/>
            </a:xfrm>
          </p:grpSpPr>
          <p:sp>
            <p:nvSpPr>
              <p:cNvPr id="524" name=""/>
              <p:cNvSpPr/>
              <p:nvPr/>
            </p:nvSpPr>
            <p:spPr>
              <a:xfrm>
                <a:off x="4923360" y="3062880"/>
                <a:ext cx="76824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74320" y="3108960"/>
                <a:ext cx="109764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du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688720" y="3245760"/>
              <a:ext cx="549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37360" y="2422800"/>
              <a:ext cx="7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37360" y="3062880"/>
              <a:ext cx="7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4774320" y="2239920"/>
              <a:ext cx="1097640" cy="366120"/>
              <a:chOff x="4774320" y="2239920"/>
              <a:chExt cx="1097640" cy="366120"/>
            </a:xfrm>
          </p:grpSpPr>
          <p:sp>
            <p:nvSpPr>
              <p:cNvPr id="530" name=""/>
              <p:cNvSpPr/>
              <p:nvPr/>
            </p:nvSpPr>
            <p:spPr>
              <a:xfrm>
                <a:off x="4923360" y="2239920"/>
                <a:ext cx="76824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74320" y="2286000"/>
                <a:ext cx="109764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sum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flipH="1">
              <a:off x="4314240" y="3211920"/>
              <a:ext cx="6408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314240" y="3029040"/>
              <a:ext cx="7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316760" y="2422440"/>
              <a:ext cx="72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16760" y="2422800"/>
              <a:ext cx="6408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688720" y="2422800"/>
              <a:ext cx="549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99840" y="2755440"/>
              <a:ext cx="457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48840" y="3029040"/>
              <a:ext cx="183600" cy="9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40280" y="3120480"/>
              <a:ext cx="36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3582720" y="3303360"/>
              <a:ext cx="457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582720" y="2937240"/>
              <a:ext cx="720" cy="36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82720" y="2937600"/>
              <a:ext cx="275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16760" y="3022200"/>
              <a:ext cx="27468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4FAB5-83D6-41BC-AA7D-28E47AFE91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tologia de Recurso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95280" y="2708280"/>
            <a:ext cx="8496360" cy="38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edicad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1. possívelautomatização(f, p)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=&gt; indica que a ferramenta 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pode ser us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ara (semi-)automatizar o procedimento 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1. (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f,p) (possívelautomatização(f,p 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ferramenta(f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procedimento(p))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2. (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f, p) ((metconstrução(p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tecconstrução(p)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possívelautomatização(f,p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 (ferconstrução(f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 ferpropgeral(f)))   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3. (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f, p) ((metgerência (p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tecgerência(p)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possívelautomatização(f,p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 (fergerência(f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 ferpropgeral(f))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4. (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f, p) ((metavqualidade(p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tecavqualidade(p)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possívelautomatização(f,p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(feravqualidade(f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 ferpropgeral(f)))   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5. (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a, f) ( uso(f,a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p) (possíveladoção(p,a) </a:t>
            </a:r>
            <a:r>
              <a:rPr b="1" i="1" lang="pt-BR" sz="1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possívelautomatização(f,p))) 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Semi-) Automatização de Procediment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340000" y="2060640"/>
            <a:ext cx="4392720" cy="611280"/>
            <a:chOff x="2340000" y="2060640"/>
            <a:chExt cx="4392720" cy="611280"/>
          </a:xfrm>
        </p:grpSpPr>
        <p:sp>
          <p:nvSpPr>
            <p:cNvPr id="549" name=""/>
            <p:cNvSpPr/>
            <p:nvPr/>
          </p:nvSpPr>
          <p:spPr>
            <a:xfrm>
              <a:off x="5659560" y="2062440"/>
              <a:ext cx="10731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340000" y="2060640"/>
              <a:ext cx="968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rramen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14920" y="2070360"/>
              <a:ext cx="1198440" cy="60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54360" y="2171880"/>
              <a:ext cx="14223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ssível automatiz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03640" y="2289240"/>
              <a:ext cx="6573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308400" y="2291040"/>
              <a:ext cx="471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08400" y="2060640"/>
              <a:ext cx="274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B61B2-32C0-45DC-B5AA-76D49361E6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Recu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690560" y="1844640"/>
            <a:ext cx="5689440" cy="3384720"/>
            <a:chOff x="1690560" y="1844640"/>
            <a:chExt cx="5689440" cy="3384720"/>
          </a:xfrm>
        </p:grpSpPr>
        <p:sp>
          <p:nvSpPr>
            <p:cNvPr id="559" name=""/>
            <p:cNvSpPr/>
            <p:nvPr/>
          </p:nvSpPr>
          <p:spPr>
            <a:xfrm>
              <a:off x="2982600" y="1844640"/>
              <a:ext cx="914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ur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90560" y="2776680"/>
              <a:ext cx="803160" cy="45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ur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um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27280" y="2776680"/>
              <a:ext cx="907920" cy="45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urso de Hard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25560" y="2776680"/>
              <a:ext cx="873360" cy="45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urso de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3439800" y="2301480"/>
              <a:ext cx="0" cy="268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124000" y="256968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168360" y="259380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24000" y="2593800"/>
              <a:ext cx="18684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90960" y="2593800"/>
              <a:ext cx="1440" cy="1828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51280" y="3681360"/>
              <a:ext cx="9633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rramenta de Softwa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33760" y="3498840"/>
              <a:ext cx="915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48160" y="349884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990960" y="3223800"/>
              <a:ext cx="1440" cy="274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4171680" y="1928880"/>
              <a:ext cx="917640" cy="366480"/>
              <a:chOff x="4171680" y="1928880"/>
              <a:chExt cx="917640" cy="366480"/>
            </a:xfrm>
          </p:grpSpPr>
          <p:sp>
            <p:nvSpPr>
              <p:cNvPr id="573" name=""/>
              <p:cNvSpPr/>
              <p:nvPr/>
            </p:nvSpPr>
            <p:spPr>
              <a:xfrm>
                <a:off x="4296600" y="1928880"/>
                <a:ext cx="64224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171680" y="1974960"/>
                <a:ext cx="917640" cy="24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s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 flipH="1">
              <a:off x="3897000" y="2112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05360" y="2136600"/>
              <a:ext cx="54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54360" y="1954080"/>
              <a:ext cx="7318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482560" y="4595760"/>
              <a:ext cx="935280" cy="561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rramenta de Constru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63640" y="4595760"/>
              <a:ext cx="854280" cy="561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rramenta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rên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20880" y="4595760"/>
              <a:ext cx="987480" cy="561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rramenta de Avaliação da Qual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448160" y="4138200"/>
              <a:ext cx="1440" cy="274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2987640" y="441288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995640" y="441288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87640" y="441324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03640" y="441324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32200" y="4595760"/>
              <a:ext cx="1027080" cy="6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rramenta de Propósito Ge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81480" y="4413240"/>
              <a:ext cx="1800" cy="182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997160" y="3773520"/>
              <a:ext cx="1878120" cy="366840"/>
              <a:chOff x="4997160" y="3773520"/>
              <a:chExt cx="1878120" cy="366840"/>
            </a:xfrm>
          </p:grpSpPr>
          <p:sp>
            <p:nvSpPr>
              <p:cNvPr id="589" name=""/>
              <p:cNvSpPr/>
              <p:nvPr/>
            </p:nvSpPr>
            <p:spPr>
              <a:xfrm>
                <a:off x="5253120" y="3773520"/>
                <a:ext cx="1314720" cy="3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97160" y="3819960"/>
                <a:ext cx="187812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ossível automatiza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4814640" y="395604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636880" y="3224160"/>
              <a:ext cx="1800" cy="54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03640" y="2771640"/>
              <a:ext cx="109224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6094080" y="2406600"/>
              <a:ext cx="1285920" cy="366840"/>
              <a:chOff x="6094080" y="2406600"/>
              <a:chExt cx="1285920" cy="366840"/>
            </a:xfrm>
          </p:grpSpPr>
          <p:sp>
            <p:nvSpPr>
              <p:cNvPr id="595" name=""/>
              <p:cNvSpPr/>
              <p:nvPr/>
            </p:nvSpPr>
            <p:spPr>
              <a:xfrm>
                <a:off x="6268680" y="2406600"/>
                <a:ext cx="900000" cy="3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094080" y="2453040"/>
                <a:ext cx="1285920" cy="24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ossível ado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 flipV="1">
              <a:off x="6643440" y="277308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86240" y="2136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43440" y="213192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87640" y="3681360"/>
              <a:ext cx="7318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stema de Apo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533760" y="3498840"/>
              <a:ext cx="1440" cy="184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94080" y="3046320"/>
              <a:ext cx="54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144BF-BB08-44D7-9E68-834E272499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tologia de Processo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57080" y="2060640"/>
            <a:ext cx="316728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 – Que Atividades devem 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sideradas em um Processo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157800" y="4365720"/>
            <a:ext cx="194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finição de 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cesso de Softw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157800" y="3286080"/>
            <a:ext cx="1440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os 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iclo de Vi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21000" y="147960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icação do Pro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19640" y="1484280"/>
            <a:ext cx="279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pectos no Domí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565440" y="3573000"/>
            <a:ext cx="244800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708360" y="4222800"/>
            <a:ext cx="230508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57E34-AE50-4799-B012-14EF377A99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delos de Ciclo de V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16360" y="3011400"/>
            <a:ext cx="8721000" cy="358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Predicato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1. mciclovida(mcv, e) =&gt;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dica qu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mcv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é um modelo de ciclo de vida, cuj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ma de estruturação básica é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2. combinação(c, e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é uma combinação, cuja a form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ruturação é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3. mcv-composição(c, mcv, n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é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ésima combinaçã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odelo de ciclo de vid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m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4. comb-composição(a, c, n)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é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ésima fase da combinação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=&gt; necessário para capturar a ordem das combinações de um model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iclo de vida e a ordem das fases dentro de uma combin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=&gt; representa a estrutura e pode assumir os valores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{Seq, Iter}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presenta as organizações Seqüencial e Ite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3995640" y="1751040"/>
            <a:ext cx="2665440" cy="1461960"/>
            <a:chOff x="3995640" y="1751040"/>
            <a:chExt cx="2665440" cy="1461960"/>
          </a:xfrm>
        </p:grpSpPr>
        <p:sp>
          <p:nvSpPr>
            <p:cNvPr id="617" name=""/>
            <p:cNvSpPr/>
            <p:nvPr/>
          </p:nvSpPr>
          <p:spPr>
            <a:xfrm>
              <a:off x="3995640" y="1843200"/>
              <a:ext cx="1112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o de Ciclo de V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46680" y="2755800"/>
              <a:ext cx="8236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746680" y="1903320"/>
              <a:ext cx="9144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in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21360" y="2355840"/>
              <a:ext cx="183960" cy="92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13160" y="244800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198760" y="2041560"/>
              <a:ext cx="54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06960" y="1950840"/>
              <a:ext cx="91800" cy="182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62400" y="1751040"/>
              <a:ext cx="2746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49680" y="2023920"/>
              <a:ext cx="274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03880" y="2390760"/>
              <a:ext cx="2746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1425E-EA00-498E-B800-CDE429E1E6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delos de Ciclo de Vi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57120" y="2435400"/>
            <a:ext cx="7495920" cy="186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c, mcv, n) (mcv-composição(c,mcv,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mciclovida(mcv,*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combinação(c,*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n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.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2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 c, n) (comb-composição(a,c,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macroatividade(a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combinação(c,*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 n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.             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00DE4-F1C2-407A-B0C3-763611CB3B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finição de um Processo de Soft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05160" y="4475160"/>
            <a:ext cx="7469640" cy="19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edica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proc-composição(a, pr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=&gt; indica que uma atividad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parte 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rocesso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2. processo(pr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=&gt; indica qu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é um process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xiom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1. (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,pr) ( proc-composição(a, p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processo(pr) </a:t>
            </a:r>
            <a:r>
              <a:rPr b="0" i="1" lang="pt-BR" sz="19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 atividade(a))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954080" y="1862280"/>
            <a:ext cx="5210280" cy="2287440"/>
            <a:chOff x="1954080" y="1862280"/>
            <a:chExt cx="5210280" cy="2287440"/>
          </a:xfrm>
        </p:grpSpPr>
        <p:sp>
          <p:nvSpPr>
            <p:cNvPr id="636" name=""/>
            <p:cNvSpPr/>
            <p:nvPr/>
          </p:nvSpPr>
          <p:spPr>
            <a:xfrm>
              <a:off x="4692600" y="1862280"/>
              <a:ext cx="822240" cy="45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94040" y="2685960"/>
              <a:ext cx="916200" cy="4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17680" y="2581200"/>
              <a:ext cx="91440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ur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3414600" y="2673360"/>
              <a:ext cx="1096920" cy="320760"/>
              <a:chOff x="3414600" y="2673360"/>
              <a:chExt cx="1096920" cy="320760"/>
            </a:xfrm>
          </p:grpSpPr>
          <p:sp>
            <p:nvSpPr>
              <p:cNvPr id="640" name=""/>
              <p:cNvSpPr/>
              <p:nvPr/>
            </p:nvSpPr>
            <p:spPr>
              <a:xfrm>
                <a:off x="3563640" y="2673360"/>
                <a:ext cx="767520" cy="320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414600" y="2713680"/>
                <a:ext cx="1096920" cy="217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s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"/>
            <p:cNvSpPr/>
            <p:nvPr/>
          </p:nvSpPr>
          <p:spPr>
            <a:xfrm flipH="1">
              <a:off x="4328640" y="285588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3106800" y="3770280"/>
              <a:ext cx="1704960" cy="366840"/>
              <a:chOff x="3106800" y="3770280"/>
              <a:chExt cx="1704960" cy="366840"/>
            </a:xfrm>
          </p:grpSpPr>
          <p:sp>
            <p:nvSpPr>
              <p:cNvPr id="644" name=""/>
              <p:cNvSpPr/>
              <p:nvPr/>
            </p:nvSpPr>
            <p:spPr>
              <a:xfrm>
                <a:off x="3339000" y="3770280"/>
                <a:ext cx="1193760" cy="3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106800" y="3816720"/>
                <a:ext cx="1704960" cy="24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ossível ado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1954080" y="3691080"/>
              <a:ext cx="987480" cy="45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dim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340320" y="3678480"/>
              <a:ext cx="824040" cy="458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tef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5972040" y="3051360"/>
              <a:ext cx="1189080" cy="366480"/>
              <a:chOff x="5972040" y="3051360"/>
              <a:chExt cx="1189080" cy="366480"/>
            </a:xfrm>
          </p:grpSpPr>
          <p:sp>
            <p:nvSpPr>
              <p:cNvPr id="649" name=""/>
              <p:cNvSpPr/>
              <p:nvPr/>
            </p:nvSpPr>
            <p:spPr>
              <a:xfrm>
                <a:off x="6063480" y="3051360"/>
                <a:ext cx="98604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972040" y="3098160"/>
                <a:ext cx="1189080" cy="247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du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"/>
            <p:cNvSpPr/>
            <p:nvPr/>
          </p:nvSpPr>
          <p:spPr>
            <a:xfrm>
              <a:off x="4694040" y="3130560"/>
              <a:ext cx="184320" cy="92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419720" y="3038040"/>
              <a:ext cx="1440" cy="4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786200" y="322128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419720" y="349560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57640" y="2316240"/>
              <a:ext cx="184320" cy="92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5149440" y="2408400"/>
              <a:ext cx="324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19720" y="3038400"/>
              <a:ext cx="276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32080" y="285588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41560" y="396576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5060880" y="3770280"/>
              <a:ext cx="1096920" cy="366840"/>
              <a:chOff x="5060880" y="3770280"/>
              <a:chExt cx="1096920" cy="366840"/>
            </a:xfrm>
          </p:grpSpPr>
          <p:sp>
            <p:nvSpPr>
              <p:cNvPr id="661" name=""/>
              <p:cNvSpPr/>
              <p:nvPr/>
            </p:nvSpPr>
            <p:spPr>
              <a:xfrm>
                <a:off x="5151960" y="3770280"/>
                <a:ext cx="913680" cy="3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060880" y="3817800"/>
                <a:ext cx="109692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sum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5607000" y="2868840"/>
              <a:ext cx="10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03920" y="286884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03920" y="3417840"/>
              <a:ext cx="324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25920" y="3130560"/>
              <a:ext cx="1800" cy="63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65640" y="3952800"/>
              <a:ext cx="274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4603320" y="3952800"/>
              <a:ext cx="366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68720" y="3130560"/>
              <a:ext cx="180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32320" y="2316240"/>
              <a:ext cx="2746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00600" y="2581200"/>
              <a:ext cx="274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35D1E-0AA5-4183-9B5E-4D01E27E84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"/>
          <p:cNvGrpSpPr/>
          <p:nvPr/>
        </p:nvGrpSpPr>
        <p:grpSpPr>
          <a:xfrm>
            <a:off x="2409840" y="2619360"/>
            <a:ext cx="3746520" cy="1962000"/>
            <a:chOff x="2409840" y="2619360"/>
            <a:chExt cx="3746520" cy="1962000"/>
          </a:xfrm>
        </p:grpSpPr>
        <p:sp>
          <p:nvSpPr>
            <p:cNvPr id="673" name=""/>
            <p:cNvSpPr/>
            <p:nvPr/>
          </p:nvSpPr>
          <p:spPr>
            <a:xfrm>
              <a:off x="2592360" y="2984400"/>
              <a:ext cx="804960" cy="51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ces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506760" y="2666880"/>
              <a:ext cx="1397160" cy="320760"/>
              <a:chOff x="3506760" y="2666880"/>
              <a:chExt cx="1397160" cy="320760"/>
            </a:xfrm>
          </p:grpSpPr>
          <p:sp>
            <p:nvSpPr>
              <p:cNvPr id="675" name=""/>
              <p:cNvSpPr/>
              <p:nvPr/>
            </p:nvSpPr>
            <p:spPr>
              <a:xfrm>
                <a:off x="3697200" y="2666880"/>
                <a:ext cx="978120" cy="320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06760" y="2707560"/>
                <a:ext cx="1397160" cy="21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ferênc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5151600" y="2619360"/>
              <a:ext cx="1004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lo de Ciclo de Vi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2959200" y="28015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959200" y="28018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4695840" y="2801520"/>
              <a:ext cx="457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92360" y="3887640"/>
              <a:ext cx="824040" cy="46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ivid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3598920" y="3517920"/>
              <a:ext cx="1189080" cy="366840"/>
              <a:chOff x="3598920" y="3517920"/>
              <a:chExt cx="1189080" cy="366840"/>
            </a:xfrm>
          </p:grpSpPr>
          <p:sp>
            <p:nvSpPr>
              <p:cNvPr id="683" name=""/>
              <p:cNvSpPr/>
              <p:nvPr/>
            </p:nvSpPr>
            <p:spPr>
              <a:xfrm>
                <a:off x="3761280" y="3517920"/>
                <a:ext cx="831960" cy="3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598920" y="3564360"/>
                <a:ext cx="1189080" cy="24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pendênc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2684520" y="4356000"/>
              <a:ext cx="182520" cy="92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774880" y="4448160"/>
              <a:ext cx="18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09840" y="458136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09840" y="4214880"/>
              <a:ext cx="183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232080" y="3700440"/>
              <a:ext cx="180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232080" y="3700440"/>
              <a:ext cx="54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414600" y="398160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146480" y="388944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151600" y="3441600"/>
              <a:ext cx="10047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bin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5425920" y="3898800"/>
              <a:ext cx="184320" cy="366840"/>
              <a:chOff x="5425920" y="3898800"/>
              <a:chExt cx="184320" cy="366840"/>
            </a:xfrm>
          </p:grpSpPr>
          <p:sp>
            <p:nvSpPr>
              <p:cNvPr id="695" name=""/>
              <p:cNvSpPr/>
              <p:nvPr/>
            </p:nvSpPr>
            <p:spPr>
              <a:xfrm>
                <a:off x="5425920" y="3898800"/>
                <a:ext cx="184320" cy="92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17720" y="3990240"/>
                <a:ext cx="360" cy="27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"/>
            <p:cNvSpPr/>
            <p:nvPr/>
          </p:nvSpPr>
          <p:spPr>
            <a:xfrm>
              <a:off x="3414600" y="4264200"/>
              <a:ext cx="2103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18080" y="3166920"/>
              <a:ext cx="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25920" y="3076560"/>
              <a:ext cx="184320" cy="92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09840" y="421488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08800" y="3076560"/>
              <a:ext cx="274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292720" y="3219480"/>
              <a:ext cx="2746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608800" y="3897360"/>
              <a:ext cx="27432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00360" y="2787480"/>
              <a:ext cx="274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,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468360" y="414360"/>
            <a:ext cx="81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a de 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efinição de um Processo de Soft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2EE3A-725E-4B2D-BDEA-F7D2E0A715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nologia de 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274160" cy="463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C71F8-DFAD-4589-BB5F-D933BA5DC3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nciação da Ontologia de Proc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995640" y="1484280"/>
            <a:ext cx="129708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stanciaçã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emplo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2001960" y="2997360"/>
            <a:ext cx="4730760" cy="431640"/>
            <a:chOff x="2001960" y="2997360"/>
            <a:chExt cx="4730760" cy="431640"/>
          </a:xfrm>
        </p:grpSpPr>
        <p:sp>
          <p:nvSpPr>
            <p:cNvPr id="713" name=""/>
            <p:cNvSpPr/>
            <p:nvPr/>
          </p:nvSpPr>
          <p:spPr>
            <a:xfrm>
              <a:off x="2001960" y="2997360"/>
              <a:ext cx="914400" cy="43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álise de Requisi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191040" y="2997360"/>
              <a:ext cx="914400" cy="43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je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378680" y="2997360"/>
              <a:ext cx="1079280" cy="43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mplementaçã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818320" y="2997360"/>
              <a:ext cx="914400" cy="43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916360" y="317952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05440" y="3179520"/>
              <a:ext cx="274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57960" y="3179520"/>
              <a:ext cx="36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971640" y="4292640"/>
            <a:ext cx="7199280" cy="216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mciclovida(Cascata,Seq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combinação(CCascata, Seq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mcv-composição(CCascata, Cascata, 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comb-composição(Análise, CCascata, 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comb-composição(Projeto, CCascata, 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comb-composição(Implementação, CCascata, 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comb-composição(Teste, CCascata, 4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327320" y="3879720"/>
            <a:ext cx="6540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alização da Instanciação do Modelo em Casc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2ECD5-A9D7-4C55-A253-EEB40EDD7C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nciação da Ontologia de Proc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emplo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977760" y="2133720"/>
            <a:ext cx="7050240" cy="3566880"/>
            <a:chOff x="977760" y="2133720"/>
            <a:chExt cx="7050240" cy="3566880"/>
          </a:xfrm>
        </p:grpSpPr>
        <p:sp>
          <p:nvSpPr>
            <p:cNvPr id="726" name=""/>
            <p:cNvSpPr/>
            <p:nvPr/>
          </p:nvSpPr>
          <p:spPr>
            <a:xfrm>
              <a:off x="2592360" y="542592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2589120" y="3613320"/>
              <a:ext cx="4719240" cy="641160"/>
              <a:chOff x="2589120" y="3613320"/>
              <a:chExt cx="4719240" cy="641160"/>
            </a:xfrm>
          </p:grpSpPr>
          <p:sp>
            <p:nvSpPr>
              <p:cNvPr id="728" name=""/>
              <p:cNvSpPr/>
              <p:nvPr/>
            </p:nvSpPr>
            <p:spPr>
              <a:xfrm>
                <a:off x="2937960" y="3818520"/>
                <a:ext cx="805680" cy="36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jeto Detalhad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969360" y="3817080"/>
                <a:ext cx="1150920" cy="36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mplementa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350680" y="3773520"/>
                <a:ext cx="806040" cy="36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s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39320" y="3994560"/>
                <a:ext cx="231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120640" y="3971880"/>
                <a:ext cx="2307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386760" y="3773520"/>
                <a:ext cx="9216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trega do 2</a:t>
                </a:r>
                <a:r>
                  <a:rPr b="0" lang="en-US" sz="1200" spc="-1" strike="noStrike" u="sng" baseline="30000">
                    <a:solidFill>
                      <a:srgbClr val="000000"/>
                    </a:solidFill>
                    <a:uFillTx/>
                    <a:latin typeface="Arial"/>
                  </a:rPr>
                  <a:t>o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incremen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085280" y="3614400"/>
                <a:ext cx="92088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cremento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589120" y="3994560"/>
                <a:ext cx="345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703960" y="3613320"/>
                <a:ext cx="3568320" cy="6411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2682720" y="5059440"/>
              <a:ext cx="4768920" cy="641160"/>
              <a:chOff x="2682720" y="5059440"/>
              <a:chExt cx="4768920" cy="641160"/>
            </a:xfrm>
          </p:grpSpPr>
          <p:sp>
            <p:nvSpPr>
              <p:cNvPr id="738" name=""/>
              <p:cNvSpPr/>
              <p:nvPr/>
            </p:nvSpPr>
            <p:spPr>
              <a:xfrm>
                <a:off x="2925000" y="5264640"/>
                <a:ext cx="835200" cy="36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jeto Detalhad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993840" y="5263200"/>
                <a:ext cx="1192680" cy="366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mplementa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424480" y="5243760"/>
                <a:ext cx="835200" cy="36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s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755520" y="5455440"/>
                <a:ext cx="2390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185800" y="5441760"/>
                <a:ext cx="2390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497280" y="5240880"/>
                <a:ext cx="9543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trega do  incremento-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113000" y="5059440"/>
                <a:ext cx="95436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cremento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682720" y="5059440"/>
                <a:ext cx="3696120" cy="6411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>
              <a:off x="977760" y="2133720"/>
              <a:ext cx="857520" cy="36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álise de Requisi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92360" y="2590920"/>
              <a:ext cx="809640" cy="36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jeto da Arquite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68440" y="2498760"/>
              <a:ext cx="18252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500200" y="2865600"/>
              <a:ext cx="366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2684520" y="2500200"/>
              <a:ext cx="4623840" cy="639720"/>
              <a:chOff x="2684520" y="2500200"/>
              <a:chExt cx="4623840" cy="639720"/>
            </a:xfrm>
          </p:grpSpPr>
          <p:sp>
            <p:nvSpPr>
              <p:cNvPr id="751" name=""/>
              <p:cNvSpPr/>
              <p:nvPr/>
            </p:nvSpPr>
            <p:spPr>
              <a:xfrm>
                <a:off x="5342760" y="2652480"/>
                <a:ext cx="809640" cy="36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es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724560" y="2864880"/>
                <a:ext cx="231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111640" y="2835360"/>
                <a:ext cx="2318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383160" y="2652840"/>
                <a:ext cx="9252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ntrega do 1</a:t>
                </a:r>
                <a:r>
                  <a:rPr b="0" lang="en-US" sz="1200" spc="-1" strike="noStrike" u="sng" baseline="30000">
                    <a:solidFill>
                      <a:srgbClr val="000000"/>
                    </a:solidFill>
                    <a:uFillTx/>
                    <a:latin typeface="Arial"/>
                  </a:rPr>
                  <a:t>o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incremen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955680" y="2500200"/>
                <a:ext cx="1156320" cy="18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cremento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915640" y="2682000"/>
                <a:ext cx="809640" cy="36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ojeto Detalhad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684520" y="2500200"/>
                <a:ext cx="3583800" cy="6397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955680" y="2682720"/>
                <a:ext cx="1156320" cy="365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mplementa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2592360" y="2865600"/>
              <a:ext cx="0" cy="25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960720" y="4575240"/>
              <a:ext cx="2746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96360" y="2606760"/>
              <a:ext cx="0" cy="22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80360" y="4941720"/>
              <a:ext cx="6476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04000" y="3213000"/>
              <a:ext cx="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2592000" y="3414600"/>
              <a:ext cx="4211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02560" y="4365720"/>
              <a:ext cx="144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2592000" y="4513320"/>
              <a:ext cx="421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D88CF-585F-42D8-9732-134B01EFBE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nciação da Ontologia de Proc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327680" y="1792440"/>
            <a:ext cx="6509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alização da Instanciação do Modelo Incremen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187280" y="2565360"/>
            <a:ext cx="6697800" cy="30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mciclovida(Incremental,Seq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combinação(CInc1, Seq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combinação(CInc2, It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mcv-composição(CInc1, Incremental, 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mcv-composição(CInc2, Incremental, 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comb-composição(Análise, CInc1, 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comb-composição(ProjetoArquitetural, CInc1, 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comb-composição(ProjetoDetalhado, CInc2, 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comb-composição(Implementação, CInc2, 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comb-composição(Teste, CInc2, 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BD894-1E9A-4754-A5E1-8F61BEBDA0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nciação da Ontologia de Proc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1484280"/>
            <a:ext cx="6942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Instanciação do Método de Coad-Yourdon e 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de seus Padrões de Atividad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84360" y="2709720"/>
            <a:ext cx="7848360" cy="302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proced-adequação(CoadYourdon,ConvencionalP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proced-conformidade(CoadYourdon,OO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possíveladoção(CoadYourdon, Anális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descrição(CoadYourdon,Análise,POOAC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padrãoat(POOAC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padrão-composição(LocalizaçãoClassesObjetos, POOAC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padrão-composição(IdEstruturas, POOAC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padrão-composição(IdAssuntos, POOAC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padrão-composição(DefAtributos, POOAC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000000"/>
                </a:solidFill>
                <a:latin typeface="Arial"/>
              </a:rPr>
              <a:t>padrão-composição(DefServiços, POOAC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90ECA-66FB-43E9-9A13-5B81052508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0" y="836640"/>
          <a:ext cx="9144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144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"/>
          <p:cNvSpPr/>
          <p:nvPr/>
        </p:nvSpPr>
        <p:spPr>
          <a:xfrm>
            <a:off x="1527480" y="279360"/>
            <a:ext cx="5787360" cy="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tanciação da Atividade de Análise de Ris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E286A-ED39-435C-8111-C1F14705EF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527480" y="279360"/>
            <a:ext cx="5787360" cy="41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tanciação da Atividade de Análise de Risc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765000"/>
            <a:ext cx="9144000" cy="612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subatividade(IdentificarRiscos, Análise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subatividade(ProjetarRiscos, Análise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subatividade(DocumentarRiscos, Análise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subatividade(MonitorarGerenciarRiscos, Análise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possíveladoção(ChecklistRisco, Identific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uso(GerenteProjeto,Identific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uso(EngSoftware,Identific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uso(Cliente,Identific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produto(ListaItensRisco, Identific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possíveladoção(TabelaRiscos, Projet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uso(GerenteProjeto,Projet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uso(EngSoftware,Projet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uso(Cliente,Projet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insumo(ListaItensRisco, Projet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produto(TabRiscos, Projet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possíveladoção(RotPlanoGerRiscos, Document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uso(EngSoftware,Document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insumo(ListaItensRisco, Document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insumo(TabRiscos, Document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produto(PlanoGerMonAbranRiscos, Document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uso(GerenteProjeto,MonitorarGerenci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insumo(PlanoGerMonAbranRiscos, MonitorarGerenci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000000"/>
                </a:solidFill>
                <a:latin typeface="Arial"/>
              </a:rPr>
              <a:t>produto(PlanoGerMonAbranRiscosAtualizado, MonitorarGerenciarRisco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00CF4-76B7-4598-AADC-2E5323ED71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cução da Base de Conheci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395280" y="1982880"/>
            <a:ext cx="8280360" cy="375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B6F40-AC56-4143-ACEF-5DAB1858D1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83760" y="1350720"/>
            <a:ext cx="8435880" cy="517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ROCHA, Ana Regina Cavalcanti da &amp; MALDONADO, José Carlos &amp; WEBER, Kival Chaves, </a:t>
            </a:r>
            <a:r>
              <a:rPr b="1" lang="pt-PT" sz="1700" spc="-1" strike="noStrike">
                <a:solidFill>
                  <a:srgbClr val="000000"/>
                </a:solidFill>
                <a:latin typeface="Arial"/>
              </a:rPr>
              <a:t>Qualidade de Software: Teoria e Prática</a:t>
            </a: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, São Paulo: Prentice Hall, 200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FALBO, Ricardo de Almeida,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Integração de Conhecimento em um Ambiente de Desenvolvimento de Software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, Orientadora: Ana Regina Cavalcanti da Rocha. Tese de Doutorado, COPPE/UFRJ, 1998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PAULK, Mark C. &amp; CURTIS, Bill &amp; CHRISSIS, Mary Beth &amp; WEBER, Charles V., </a:t>
            </a:r>
            <a:r>
              <a:rPr b="1" lang="pt-PT" sz="1700" spc="-1" strike="noStrike">
                <a:solidFill>
                  <a:srgbClr val="000000"/>
                </a:solidFill>
                <a:latin typeface="Arial"/>
              </a:rPr>
              <a:t>Capability Maturity Model for Software</a:t>
            </a: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, Version 1.1. Technical Report CMU/SEI-93-TR-024. Software Engineering Institute - Carnegie Mellon University, 1993.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ISSO/IEC TR 15504, </a:t>
            </a:r>
            <a:r>
              <a:rPr b="1" lang="pt-PT" sz="1700" spc="-1" strike="noStrike">
                <a:solidFill>
                  <a:srgbClr val="000000"/>
                </a:solidFill>
                <a:latin typeface="Arial"/>
              </a:rPr>
              <a:t>Information technology – software process assessment</a:t>
            </a: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. International Organization for Standardization, 1998.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HUMPHREY, Watts S., </a:t>
            </a:r>
            <a:r>
              <a:rPr b="1" lang="pt-PT" sz="1700" spc="-1" strike="noStrike">
                <a:solidFill>
                  <a:srgbClr val="000000"/>
                </a:solidFill>
                <a:latin typeface="Arial"/>
              </a:rPr>
              <a:t>Managing the Software Process</a:t>
            </a: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, The SEI Series in Software Engineering. Addison-Wesley, 19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REIS, Carla Alessandra Lima, </a:t>
            </a:r>
            <a:r>
              <a:rPr b="1" lang="pt-PT" sz="1700" spc="-1" strike="noStrike">
                <a:solidFill>
                  <a:srgbClr val="000000"/>
                </a:solidFill>
                <a:latin typeface="Arial"/>
              </a:rPr>
              <a:t>Ambientes de Desenvolvimento de Software e seus Mecanismos de Execução de Processos de Software</a:t>
            </a: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, Orientador Daltro José Nunes. Exame de Qualificação do Doutorado.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PGC – UFRGS, 2000.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BALDUINO, Ricardo,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Implementação de um processo de desenvolvimento de software: uma abordagem passo-a-passo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, Rational Software White Paper, 2002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MCFEELEY, Bob, </a:t>
            </a:r>
            <a:r>
              <a:rPr b="1" lang="pt-PT" sz="1700" spc="-1" strike="noStrike">
                <a:solidFill>
                  <a:srgbClr val="000000"/>
                </a:solidFill>
                <a:latin typeface="Arial"/>
              </a:rPr>
              <a:t>IDEALSM: A User’s Guide for Software Process Improvement</a:t>
            </a:r>
            <a:r>
              <a:rPr b="0" lang="pt-PT" sz="1700" spc="-1" strike="noStrike">
                <a:solidFill>
                  <a:srgbClr val="000000"/>
                </a:solidFill>
                <a:latin typeface="Arial"/>
              </a:rPr>
              <a:t>, Software Engineering Institute Handbook. Carnegie Mellon University. CMU/SEI-96-HB-001, 1996.</a:t>
            </a: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DECF4-237D-4396-A4AC-AC7585CFF7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317520" y="765000"/>
            <a:ext cx="5842080" cy="424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dro Ronaldo Bezerra Oliv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torando em Ciência da Computação pelo CIN/UF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ha de Pesquisa: Engenharia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esse de Pesquis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o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dade de Pro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bientes de Desenvolvimento de 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rbo@cin.ufpe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entador: Prof. Alexandre Vasconc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5564160" y="101520"/>
            <a:ext cx="3579840" cy="6783480"/>
            <a:chOff x="5564160" y="101520"/>
            <a:chExt cx="3579840" cy="6783480"/>
          </a:xfrm>
        </p:grpSpPr>
        <p:sp>
          <p:nvSpPr>
            <p:cNvPr id="789" name=""/>
            <p:cNvSpPr/>
            <p:nvPr/>
          </p:nvSpPr>
          <p:spPr>
            <a:xfrm>
              <a:off x="5564160" y="114120"/>
              <a:ext cx="3579840" cy="6770880"/>
            </a:xfrm>
            <a:custGeom>
              <a:avLst/>
              <a:gdLst/>
              <a:ahLst/>
              <a:rect l="l" t="t" r="r" b="b"/>
              <a:pathLst>
                <a:path w="2255" h="4265">
                  <a:moveTo>
                    <a:pt x="63" y="168"/>
                  </a:moveTo>
                  <a:lnTo>
                    <a:pt x="76" y="108"/>
                  </a:lnTo>
                  <a:lnTo>
                    <a:pt x="109" y="68"/>
                  </a:lnTo>
                  <a:lnTo>
                    <a:pt x="171" y="38"/>
                  </a:lnTo>
                  <a:lnTo>
                    <a:pt x="226" y="23"/>
                  </a:lnTo>
                  <a:lnTo>
                    <a:pt x="289" y="15"/>
                  </a:lnTo>
                  <a:lnTo>
                    <a:pt x="375" y="6"/>
                  </a:lnTo>
                  <a:lnTo>
                    <a:pt x="470" y="0"/>
                  </a:lnTo>
                  <a:lnTo>
                    <a:pt x="565" y="1"/>
                  </a:lnTo>
                  <a:lnTo>
                    <a:pt x="641" y="4"/>
                  </a:lnTo>
                  <a:lnTo>
                    <a:pt x="700" y="9"/>
                  </a:lnTo>
                  <a:lnTo>
                    <a:pt x="765" y="34"/>
                  </a:lnTo>
                  <a:lnTo>
                    <a:pt x="835" y="68"/>
                  </a:lnTo>
                  <a:lnTo>
                    <a:pt x="904" y="108"/>
                  </a:lnTo>
                  <a:lnTo>
                    <a:pt x="972" y="160"/>
                  </a:lnTo>
                  <a:lnTo>
                    <a:pt x="1033" y="242"/>
                  </a:lnTo>
                  <a:lnTo>
                    <a:pt x="1073" y="319"/>
                  </a:lnTo>
                  <a:lnTo>
                    <a:pt x="1139" y="236"/>
                  </a:lnTo>
                  <a:lnTo>
                    <a:pt x="1209" y="163"/>
                  </a:lnTo>
                  <a:lnTo>
                    <a:pt x="1257" y="126"/>
                  </a:lnTo>
                  <a:lnTo>
                    <a:pt x="1324" y="82"/>
                  </a:lnTo>
                  <a:lnTo>
                    <a:pt x="1376" y="58"/>
                  </a:lnTo>
                  <a:lnTo>
                    <a:pt x="1422" y="48"/>
                  </a:lnTo>
                  <a:lnTo>
                    <a:pt x="1454" y="60"/>
                  </a:lnTo>
                  <a:lnTo>
                    <a:pt x="1485" y="89"/>
                  </a:lnTo>
                  <a:lnTo>
                    <a:pt x="1511" y="122"/>
                  </a:lnTo>
                  <a:lnTo>
                    <a:pt x="1537" y="154"/>
                  </a:lnTo>
                  <a:lnTo>
                    <a:pt x="1571" y="200"/>
                  </a:lnTo>
                  <a:lnTo>
                    <a:pt x="1599" y="257"/>
                  </a:lnTo>
                  <a:lnTo>
                    <a:pt x="1626" y="310"/>
                  </a:lnTo>
                  <a:lnTo>
                    <a:pt x="1652" y="373"/>
                  </a:lnTo>
                  <a:lnTo>
                    <a:pt x="1672" y="430"/>
                  </a:lnTo>
                  <a:lnTo>
                    <a:pt x="1696" y="484"/>
                  </a:lnTo>
                  <a:lnTo>
                    <a:pt x="1714" y="501"/>
                  </a:lnTo>
                  <a:lnTo>
                    <a:pt x="1747" y="521"/>
                  </a:lnTo>
                  <a:lnTo>
                    <a:pt x="1793" y="540"/>
                  </a:lnTo>
                  <a:lnTo>
                    <a:pt x="1825" y="574"/>
                  </a:lnTo>
                  <a:lnTo>
                    <a:pt x="1830" y="583"/>
                  </a:lnTo>
                  <a:lnTo>
                    <a:pt x="1835" y="600"/>
                  </a:lnTo>
                  <a:lnTo>
                    <a:pt x="1850" y="648"/>
                  </a:lnTo>
                  <a:lnTo>
                    <a:pt x="1884" y="725"/>
                  </a:lnTo>
                  <a:lnTo>
                    <a:pt x="1921" y="813"/>
                  </a:lnTo>
                  <a:lnTo>
                    <a:pt x="1969" y="932"/>
                  </a:lnTo>
                  <a:lnTo>
                    <a:pt x="1997" y="1014"/>
                  </a:lnTo>
                  <a:lnTo>
                    <a:pt x="2026" y="1102"/>
                  </a:lnTo>
                  <a:lnTo>
                    <a:pt x="2047" y="1165"/>
                  </a:lnTo>
                  <a:lnTo>
                    <a:pt x="2048" y="1191"/>
                  </a:lnTo>
                  <a:lnTo>
                    <a:pt x="2052" y="1265"/>
                  </a:lnTo>
                  <a:lnTo>
                    <a:pt x="2056" y="1386"/>
                  </a:lnTo>
                  <a:lnTo>
                    <a:pt x="2088" y="1450"/>
                  </a:lnTo>
                  <a:lnTo>
                    <a:pt x="2130" y="1529"/>
                  </a:lnTo>
                  <a:lnTo>
                    <a:pt x="2169" y="1620"/>
                  </a:lnTo>
                  <a:lnTo>
                    <a:pt x="2205" y="1710"/>
                  </a:lnTo>
                  <a:lnTo>
                    <a:pt x="2225" y="1768"/>
                  </a:lnTo>
                  <a:lnTo>
                    <a:pt x="2242" y="1830"/>
                  </a:lnTo>
                  <a:lnTo>
                    <a:pt x="2253" y="1955"/>
                  </a:lnTo>
                  <a:lnTo>
                    <a:pt x="2254" y="2082"/>
                  </a:lnTo>
                  <a:lnTo>
                    <a:pt x="2244" y="2219"/>
                  </a:lnTo>
                  <a:lnTo>
                    <a:pt x="2226" y="2376"/>
                  </a:lnTo>
                  <a:lnTo>
                    <a:pt x="2213" y="2540"/>
                  </a:lnTo>
                  <a:lnTo>
                    <a:pt x="2195" y="2730"/>
                  </a:lnTo>
                  <a:lnTo>
                    <a:pt x="2167" y="2910"/>
                  </a:lnTo>
                  <a:lnTo>
                    <a:pt x="2141" y="3076"/>
                  </a:lnTo>
                  <a:lnTo>
                    <a:pt x="2105" y="3264"/>
                  </a:lnTo>
                  <a:lnTo>
                    <a:pt x="2079" y="3488"/>
                  </a:lnTo>
                  <a:lnTo>
                    <a:pt x="2079" y="3770"/>
                  </a:lnTo>
                  <a:lnTo>
                    <a:pt x="2079" y="4144"/>
                  </a:lnTo>
                  <a:lnTo>
                    <a:pt x="2081" y="4264"/>
                  </a:lnTo>
                  <a:lnTo>
                    <a:pt x="945" y="4264"/>
                  </a:lnTo>
                  <a:lnTo>
                    <a:pt x="943" y="4064"/>
                  </a:lnTo>
                  <a:lnTo>
                    <a:pt x="933" y="3742"/>
                  </a:lnTo>
                  <a:lnTo>
                    <a:pt x="923" y="3545"/>
                  </a:lnTo>
                  <a:lnTo>
                    <a:pt x="899" y="3388"/>
                  </a:lnTo>
                  <a:lnTo>
                    <a:pt x="868" y="3329"/>
                  </a:lnTo>
                  <a:lnTo>
                    <a:pt x="844" y="3280"/>
                  </a:lnTo>
                  <a:lnTo>
                    <a:pt x="818" y="3216"/>
                  </a:lnTo>
                  <a:lnTo>
                    <a:pt x="803" y="3187"/>
                  </a:lnTo>
                  <a:lnTo>
                    <a:pt x="767" y="3142"/>
                  </a:lnTo>
                  <a:lnTo>
                    <a:pt x="716" y="3079"/>
                  </a:lnTo>
                  <a:lnTo>
                    <a:pt x="664" y="3008"/>
                  </a:lnTo>
                  <a:lnTo>
                    <a:pt x="655" y="2986"/>
                  </a:lnTo>
                  <a:lnTo>
                    <a:pt x="635" y="2924"/>
                  </a:lnTo>
                  <a:lnTo>
                    <a:pt x="620" y="2883"/>
                  </a:lnTo>
                  <a:lnTo>
                    <a:pt x="600" y="2830"/>
                  </a:lnTo>
                  <a:lnTo>
                    <a:pt x="587" y="2796"/>
                  </a:lnTo>
                  <a:lnTo>
                    <a:pt x="557" y="2752"/>
                  </a:lnTo>
                  <a:lnTo>
                    <a:pt x="531" y="2722"/>
                  </a:lnTo>
                  <a:lnTo>
                    <a:pt x="514" y="2684"/>
                  </a:lnTo>
                  <a:lnTo>
                    <a:pt x="481" y="2602"/>
                  </a:lnTo>
                  <a:lnTo>
                    <a:pt x="450" y="2522"/>
                  </a:lnTo>
                  <a:lnTo>
                    <a:pt x="408" y="2422"/>
                  </a:lnTo>
                  <a:lnTo>
                    <a:pt x="362" y="2344"/>
                  </a:lnTo>
                  <a:lnTo>
                    <a:pt x="312" y="2268"/>
                  </a:lnTo>
                  <a:lnTo>
                    <a:pt x="272" y="2212"/>
                  </a:lnTo>
                  <a:lnTo>
                    <a:pt x="214" y="2142"/>
                  </a:lnTo>
                  <a:lnTo>
                    <a:pt x="150" y="2080"/>
                  </a:lnTo>
                  <a:lnTo>
                    <a:pt x="91" y="2008"/>
                  </a:lnTo>
                  <a:lnTo>
                    <a:pt x="54" y="1946"/>
                  </a:lnTo>
                  <a:lnTo>
                    <a:pt x="31" y="1901"/>
                  </a:lnTo>
                  <a:lnTo>
                    <a:pt x="10" y="1856"/>
                  </a:lnTo>
                  <a:lnTo>
                    <a:pt x="1" y="1816"/>
                  </a:lnTo>
                  <a:lnTo>
                    <a:pt x="0" y="1778"/>
                  </a:lnTo>
                  <a:lnTo>
                    <a:pt x="9" y="1725"/>
                  </a:lnTo>
                  <a:lnTo>
                    <a:pt x="31" y="1685"/>
                  </a:lnTo>
                  <a:lnTo>
                    <a:pt x="56" y="1665"/>
                  </a:lnTo>
                  <a:lnTo>
                    <a:pt x="82" y="1634"/>
                  </a:lnTo>
                  <a:lnTo>
                    <a:pt x="119" y="1606"/>
                  </a:lnTo>
                  <a:lnTo>
                    <a:pt x="155" y="1596"/>
                  </a:lnTo>
                  <a:lnTo>
                    <a:pt x="200" y="1586"/>
                  </a:lnTo>
                  <a:lnTo>
                    <a:pt x="238" y="1583"/>
                  </a:lnTo>
                  <a:lnTo>
                    <a:pt x="289" y="1588"/>
                  </a:lnTo>
                  <a:lnTo>
                    <a:pt x="335" y="1592"/>
                  </a:lnTo>
                  <a:lnTo>
                    <a:pt x="382" y="1610"/>
                  </a:lnTo>
                  <a:lnTo>
                    <a:pt x="424" y="1636"/>
                  </a:lnTo>
                  <a:lnTo>
                    <a:pt x="462" y="1664"/>
                  </a:lnTo>
                  <a:lnTo>
                    <a:pt x="510" y="1705"/>
                  </a:lnTo>
                  <a:lnTo>
                    <a:pt x="549" y="1750"/>
                  </a:lnTo>
                  <a:lnTo>
                    <a:pt x="593" y="1804"/>
                  </a:lnTo>
                  <a:lnTo>
                    <a:pt x="645" y="1874"/>
                  </a:lnTo>
                  <a:lnTo>
                    <a:pt x="726" y="1984"/>
                  </a:lnTo>
                  <a:lnTo>
                    <a:pt x="791" y="2072"/>
                  </a:lnTo>
                  <a:lnTo>
                    <a:pt x="854" y="2151"/>
                  </a:lnTo>
                  <a:lnTo>
                    <a:pt x="884" y="2126"/>
                  </a:lnTo>
                  <a:lnTo>
                    <a:pt x="914" y="2090"/>
                  </a:lnTo>
                  <a:lnTo>
                    <a:pt x="945" y="2038"/>
                  </a:lnTo>
                  <a:lnTo>
                    <a:pt x="967" y="1984"/>
                  </a:lnTo>
                  <a:lnTo>
                    <a:pt x="978" y="1921"/>
                  </a:lnTo>
                  <a:lnTo>
                    <a:pt x="969" y="1816"/>
                  </a:lnTo>
                  <a:lnTo>
                    <a:pt x="963" y="1702"/>
                  </a:lnTo>
                  <a:lnTo>
                    <a:pt x="954" y="1620"/>
                  </a:lnTo>
                  <a:lnTo>
                    <a:pt x="948" y="1620"/>
                  </a:lnTo>
                  <a:lnTo>
                    <a:pt x="936" y="1620"/>
                  </a:lnTo>
                  <a:lnTo>
                    <a:pt x="918" y="1616"/>
                  </a:lnTo>
                  <a:lnTo>
                    <a:pt x="896" y="1606"/>
                  </a:lnTo>
                  <a:lnTo>
                    <a:pt x="875" y="1594"/>
                  </a:lnTo>
                  <a:lnTo>
                    <a:pt x="858" y="1577"/>
                  </a:lnTo>
                  <a:lnTo>
                    <a:pt x="844" y="1562"/>
                  </a:lnTo>
                  <a:lnTo>
                    <a:pt x="828" y="1538"/>
                  </a:lnTo>
                  <a:lnTo>
                    <a:pt x="819" y="1514"/>
                  </a:lnTo>
                  <a:lnTo>
                    <a:pt x="807" y="1482"/>
                  </a:lnTo>
                  <a:lnTo>
                    <a:pt x="803" y="1444"/>
                  </a:lnTo>
                  <a:lnTo>
                    <a:pt x="804" y="1407"/>
                  </a:lnTo>
                  <a:lnTo>
                    <a:pt x="805" y="1358"/>
                  </a:lnTo>
                  <a:lnTo>
                    <a:pt x="818" y="1302"/>
                  </a:lnTo>
                  <a:lnTo>
                    <a:pt x="828" y="1262"/>
                  </a:lnTo>
                  <a:lnTo>
                    <a:pt x="838" y="1228"/>
                  </a:lnTo>
                  <a:lnTo>
                    <a:pt x="850" y="1204"/>
                  </a:lnTo>
                  <a:lnTo>
                    <a:pt x="836" y="1123"/>
                  </a:lnTo>
                  <a:lnTo>
                    <a:pt x="820" y="1048"/>
                  </a:lnTo>
                  <a:lnTo>
                    <a:pt x="805" y="1000"/>
                  </a:lnTo>
                  <a:lnTo>
                    <a:pt x="799" y="960"/>
                  </a:lnTo>
                  <a:lnTo>
                    <a:pt x="803" y="878"/>
                  </a:lnTo>
                  <a:lnTo>
                    <a:pt x="785" y="833"/>
                  </a:lnTo>
                  <a:lnTo>
                    <a:pt x="749" y="788"/>
                  </a:lnTo>
                  <a:lnTo>
                    <a:pt x="725" y="738"/>
                  </a:lnTo>
                  <a:lnTo>
                    <a:pt x="695" y="657"/>
                  </a:lnTo>
                  <a:lnTo>
                    <a:pt x="662" y="582"/>
                  </a:lnTo>
                  <a:lnTo>
                    <a:pt x="635" y="528"/>
                  </a:lnTo>
                  <a:lnTo>
                    <a:pt x="573" y="535"/>
                  </a:lnTo>
                  <a:lnTo>
                    <a:pt x="494" y="529"/>
                  </a:lnTo>
                  <a:lnTo>
                    <a:pt x="419" y="521"/>
                  </a:lnTo>
                  <a:lnTo>
                    <a:pt x="322" y="512"/>
                  </a:lnTo>
                  <a:lnTo>
                    <a:pt x="255" y="500"/>
                  </a:lnTo>
                  <a:lnTo>
                    <a:pt x="183" y="475"/>
                  </a:lnTo>
                  <a:lnTo>
                    <a:pt x="136" y="444"/>
                  </a:lnTo>
                  <a:lnTo>
                    <a:pt x="104" y="407"/>
                  </a:lnTo>
                  <a:lnTo>
                    <a:pt x="78" y="359"/>
                  </a:lnTo>
                  <a:lnTo>
                    <a:pt x="65" y="299"/>
                  </a:lnTo>
                  <a:lnTo>
                    <a:pt x="58" y="228"/>
                  </a:lnTo>
                  <a:lnTo>
                    <a:pt x="63" y="168"/>
                  </a:lnTo>
                </a:path>
              </a:pathLst>
            </a:custGeom>
            <a:solidFill>
              <a:srgbClr val="ffbf7f"/>
            </a:solidFill>
            <a:ln cap="rnd" w="25560">
              <a:solidFill>
                <a:srgbClr val="ff9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5649840" y="101520"/>
              <a:ext cx="3193920" cy="5126040"/>
              <a:chOff x="5649840" y="101520"/>
              <a:chExt cx="3193920" cy="5126040"/>
            </a:xfrm>
          </p:grpSpPr>
          <p:grpSp>
            <p:nvGrpSpPr>
              <p:cNvPr id="791" name=""/>
              <p:cNvGrpSpPr/>
              <p:nvPr/>
            </p:nvGrpSpPr>
            <p:grpSpPr>
              <a:xfrm>
                <a:off x="5649840" y="101520"/>
                <a:ext cx="3193920" cy="5126040"/>
                <a:chOff x="5649840" y="101520"/>
                <a:chExt cx="3193920" cy="5126040"/>
              </a:xfrm>
            </p:grpSpPr>
            <p:grpSp>
              <p:nvGrpSpPr>
                <p:cNvPr id="792" name=""/>
                <p:cNvGrpSpPr/>
                <p:nvPr/>
              </p:nvGrpSpPr>
              <p:grpSpPr>
                <a:xfrm>
                  <a:off x="5649840" y="101520"/>
                  <a:ext cx="596880" cy="365040"/>
                  <a:chOff x="5649840" y="101520"/>
                  <a:chExt cx="596880" cy="365040"/>
                </a:xfrm>
              </p:grpSpPr>
              <p:sp>
                <p:nvSpPr>
                  <p:cNvPr id="793" name=""/>
                  <p:cNvSpPr/>
                  <p:nvPr/>
                </p:nvSpPr>
                <p:spPr>
                  <a:xfrm>
                    <a:off x="5930640" y="129960"/>
                    <a:ext cx="316080" cy="33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9" h="212">
                        <a:moveTo>
                          <a:pt x="0" y="208"/>
                        </a:moveTo>
                        <a:lnTo>
                          <a:pt x="125" y="4"/>
                        </a:lnTo>
                        <a:lnTo>
                          <a:pt x="198" y="0"/>
                        </a:lnTo>
                        <a:lnTo>
                          <a:pt x="156" y="23"/>
                        </a:lnTo>
                        <a:lnTo>
                          <a:pt x="164" y="67"/>
                        </a:lnTo>
                        <a:lnTo>
                          <a:pt x="161" y="114"/>
                        </a:lnTo>
                        <a:lnTo>
                          <a:pt x="152" y="151"/>
                        </a:lnTo>
                        <a:lnTo>
                          <a:pt x="138" y="179"/>
                        </a:lnTo>
                        <a:lnTo>
                          <a:pt x="115" y="198"/>
                        </a:lnTo>
                        <a:lnTo>
                          <a:pt x="90" y="205"/>
                        </a:lnTo>
                        <a:lnTo>
                          <a:pt x="60" y="211"/>
                        </a:lnTo>
                        <a:lnTo>
                          <a:pt x="0" y="208"/>
                        </a:lnTo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5649840" y="104760"/>
                    <a:ext cx="49680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211">
                        <a:moveTo>
                          <a:pt x="297" y="17"/>
                        </a:moveTo>
                        <a:lnTo>
                          <a:pt x="311" y="47"/>
                        </a:lnTo>
                        <a:lnTo>
                          <a:pt x="312" y="93"/>
                        </a:lnTo>
                        <a:lnTo>
                          <a:pt x="301" y="156"/>
                        </a:lnTo>
                        <a:lnTo>
                          <a:pt x="284" y="181"/>
                        </a:lnTo>
                        <a:lnTo>
                          <a:pt x="254" y="197"/>
                        </a:lnTo>
                        <a:lnTo>
                          <a:pt x="200" y="207"/>
                        </a:lnTo>
                        <a:lnTo>
                          <a:pt x="145" y="210"/>
                        </a:lnTo>
                        <a:lnTo>
                          <a:pt x="71" y="202"/>
                        </a:lnTo>
                        <a:lnTo>
                          <a:pt x="31" y="189"/>
                        </a:lnTo>
                        <a:lnTo>
                          <a:pt x="9" y="166"/>
                        </a:lnTo>
                        <a:lnTo>
                          <a:pt x="0" y="126"/>
                        </a:lnTo>
                        <a:lnTo>
                          <a:pt x="8" y="84"/>
                        </a:lnTo>
                        <a:lnTo>
                          <a:pt x="28" y="45"/>
                        </a:lnTo>
                        <a:lnTo>
                          <a:pt x="67" y="19"/>
                        </a:lnTo>
                        <a:lnTo>
                          <a:pt x="108" y="7"/>
                        </a:lnTo>
                        <a:lnTo>
                          <a:pt x="157" y="1"/>
                        </a:lnTo>
                        <a:lnTo>
                          <a:pt x="194" y="0"/>
                        </a:lnTo>
                        <a:lnTo>
                          <a:pt x="231" y="0"/>
                        </a:lnTo>
                        <a:lnTo>
                          <a:pt x="279" y="7"/>
                        </a:lnTo>
                        <a:lnTo>
                          <a:pt x="297" y="17"/>
                        </a:lnTo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5651280" y="101520"/>
                    <a:ext cx="50796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222">
                        <a:moveTo>
                          <a:pt x="302" y="26"/>
                        </a:moveTo>
                        <a:lnTo>
                          <a:pt x="315" y="49"/>
                        </a:lnTo>
                        <a:lnTo>
                          <a:pt x="319" y="85"/>
                        </a:lnTo>
                        <a:lnTo>
                          <a:pt x="315" y="127"/>
                        </a:lnTo>
                        <a:lnTo>
                          <a:pt x="305" y="164"/>
                        </a:lnTo>
                        <a:lnTo>
                          <a:pt x="288" y="191"/>
                        </a:lnTo>
                        <a:lnTo>
                          <a:pt x="258" y="205"/>
                        </a:lnTo>
                        <a:lnTo>
                          <a:pt x="204" y="219"/>
                        </a:lnTo>
                        <a:lnTo>
                          <a:pt x="158" y="221"/>
                        </a:lnTo>
                        <a:lnTo>
                          <a:pt x="116" y="221"/>
                        </a:lnTo>
                        <a:lnTo>
                          <a:pt x="68" y="210"/>
                        </a:lnTo>
                        <a:lnTo>
                          <a:pt x="36" y="203"/>
                        </a:lnTo>
                        <a:lnTo>
                          <a:pt x="18" y="189"/>
                        </a:lnTo>
                        <a:lnTo>
                          <a:pt x="6" y="167"/>
                        </a:lnTo>
                        <a:lnTo>
                          <a:pt x="0" y="141"/>
                        </a:lnTo>
                        <a:lnTo>
                          <a:pt x="3" y="108"/>
                        </a:lnTo>
                        <a:lnTo>
                          <a:pt x="12" y="76"/>
                        </a:lnTo>
                        <a:lnTo>
                          <a:pt x="25" y="54"/>
                        </a:lnTo>
                        <a:lnTo>
                          <a:pt x="39" y="40"/>
                        </a:lnTo>
                        <a:lnTo>
                          <a:pt x="55" y="26"/>
                        </a:lnTo>
                        <a:lnTo>
                          <a:pt x="71" y="20"/>
                        </a:lnTo>
                        <a:lnTo>
                          <a:pt x="89" y="14"/>
                        </a:lnTo>
                        <a:lnTo>
                          <a:pt x="111" y="9"/>
                        </a:lnTo>
                        <a:lnTo>
                          <a:pt x="158" y="4"/>
                        </a:lnTo>
                        <a:lnTo>
                          <a:pt x="197" y="0"/>
                        </a:lnTo>
                        <a:lnTo>
                          <a:pt x="226" y="0"/>
                        </a:lnTo>
                        <a:lnTo>
                          <a:pt x="256" y="4"/>
                        </a:lnTo>
                        <a:lnTo>
                          <a:pt x="284" y="9"/>
                        </a:lnTo>
                        <a:lnTo>
                          <a:pt x="302" y="26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9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6060960" y="123840"/>
                    <a:ext cx="87120" cy="233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147">
                        <a:moveTo>
                          <a:pt x="0" y="0"/>
                        </a:moveTo>
                        <a:lnTo>
                          <a:pt x="6" y="40"/>
                        </a:lnTo>
                        <a:lnTo>
                          <a:pt x="15" y="86"/>
                        </a:lnTo>
                        <a:lnTo>
                          <a:pt x="27" y="123"/>
                        </a:lnTo>
                        <a:lnTo>
                          <a:pt x="36" y="146"/>
                        </a:lnTo>
                        <a:lnTo>
                          <a:pt x="48" y="122"/>
                        </a:lnTo>
                        <a:lnTo>
                          <a:pt x="54" y="75"/>
                        </a:lnTo>
                        <a:lnTo>
                          <a:pt x="47" y="26"/>
                        </a:lnTo>
                        <a:lnTo>
                          <a:pt x="24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d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7" name=""/>
                <p:cNvGrpSpPr/>
                <p:nvPr/>
              </p:nvGrpSpPr>
              <p:grpSpPr>
                <a:xfrm>
                  <a:off x="5667120" y="127080"/>
                  <a:ext cx="3176640" cy="5100480"/>
                  <a:chOff x="5667120" y="127080"/>
                  <a:chExt cx="3176640" cy="5100480"/>
                </a:xfrm>
              </p:grpSpPr>
              <p:sp>
                <p:nvSpPr>
                  <p:cNvPr id="798" name=""/>
                  <p:cNvSpPr/>
                  <p:nvPr/>
                </p:nvSpPr>
                <p:spPr>
                  <a:xfrm>
                    <a:off x="5667120" y="2757240"/>
                    <a:ext cx="395280" cy="75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476">
                        <a:moveTo>
                          <a:pt x="163" y="475"/>
                        </a:moveTo>
                        <a:lnTo>
                          <a:pt x="185" y="447"/>
                        </a:lnTo>
                        <a:lnTo>
                          <a:pt x="206" y="410"/>
                        </a:lnTo>
                        <a:lnTo>
                          <a:pt x="226" y="368"/>
                        </a:lnTo>
                        <a:lnTo>
                          <a:pt x="239" y="322"/>
                        </a:lnTo>
                        <a:lnTo>
                          <a:pt x="245" y="256"/>
                        </a:lnTo>
                        <a:lnTo>
                          <a:pt x="248" y="208"/>
                        </a:lnTo>
                        <a:lnTo>
                          <a:pt x="244" y="180"/>
                        </a:lnTo>
                        <a:lnTo>
                          <a:pt x="231" y="166"/>
                        </a:lnTo>
                        <a:lnTo>
                          <a:pt x="197" y="126"/>
                        </a:lnTo>
                        <a:lnTo>
                          <a:pt x="157" y="89"/>
                        </a:lnTo>
                        <a:lnTo>
                          <a:pt x="115" y="60"/>
                        </a:lnTo>
                        <a:lnTo>
                          <a:pt x="72" y="32"/>
                        </a:lnTo>
                        <a:lnTo>
                          <a:pt x="27" y="1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ff9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808600" y="127080"/>
                    <a:ext cx="3035160" cy="5100480"/>
                    <a:chOff x="5808600" y="127080"/>
                    <a:chExt cx="3035160" cy="5100480"/>
                  </a:xfrm>
                </p:grpSpPr>
                <p:grpSp>
                  <p:nvGrpSpPr>
                    <p:cNvPr id="800" name=""/>
                    <p:cNvGrpSpPr/>
                    <p:nvPr/>
                  </p:nvGrpSpPr>
                  <p:grpSpPr>
                    <a:xfrm>
                      <a:off x="6549840" y="565200"/>
                      <a:ext cx="858960" cy="3324240"/>
                      <a:chOff x="6549840" y="565200"/>
                      <a:chExt cx="858960" cy="3324240"/>
                    </a:xfrm>
                  </p:grpSpPr>
                  <p:grpSp>
                    <p:nvGrpSpPr>
                      <p:cNvPr id="801" name=""/>
                      <p:cNvGrpSpPr/>
                      <p:nvPr/>
                    </p:nvGrpSpPr>
                    <p:grpSpPr>
                      <a:xfrm>
                        <a:off x="6886440" y="3247920"/>
                        <a:ext cx="522360" cy="641520"/>
                        <a:chOff x="6886440" y="3247920"/>
                        <a:chExt cx="522360" cy="641520"/>
                      </a:xfrm>
                    </p:grpSpPr>
                    <p:sp>
                      <p:nvSpPr>
                        <p:cNvPr id="802" name=""/>
                        <p:cNvSpPr/>
                        <p:nvPr/>
                      </p:nvSpPr>
                      <p:spPr>
                        <a:xfrm>
                          <a:off x="6945120" y="3247920"/>
                          <a:ext cx="463680" cy="388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2" h="245">
                              <a:moveTo>
                                <a:pt x="17" y="145"/>
                              </a:moveTo>
                              <a:lnTo>
                                <a:pt x="86" y="151"/>
                              </a:lnTo>
                              <a:lnTo>
                                <a:pt x="145" y="141"/>
                              </a:lnTo>
                              <a:lnTo>
                                <a:pt x="212" y="110"/>
                              </a:lnTo>
                              <a:lnTo>
                                <a:pt x="256" y="71"/>
                              </a:lnTo>
                              <a:lnTo>
                                <a:pt x="291" y="0"/>
                              </a:lnTo>
                              <a:lnTo>
                                <a:pt x="260" y="102"/>
                              </a:lnTo>
                              <a:lnTo>
                                <a:pt x="237" y="152"/>
                              </a:lnTo>
                              <a:lnTo>
                                <a:pt x="198" y="199"/>
                              </a:lnTo>
                              <a:lnTo>
                                <a:pt x="141" y="232"/>
                              </a:lnTo>
                              <a:lnTo>
                                <a:pt x="83" y="244"/>
                              </a:lnTo>
                              <a:lnTo>
                                <a:pt x="0" y="179"/>
                              </a:lnTo>
                              <a:lnTo>
                                <a:pt x="17" y="145"/>
                              </a:lnTo>
                            </a:path>
                          </a:pathLst>
                        </a:cu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3" name=""/>
                        <p:cNvSpPr/>
                        <p:nvPr/>
                      </p:nvSpPr>
                      <p:spPr>
                        <a:xfrm>
                          <a:off x="6886440" y="3530520"/>
                          <a:ext cx="16200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" h="226">
                              <a:moveTo>
                                <a:pt x="0" y="0"/>
                              </a:moveTo>
                              <a:lnTo>
                                <a:pt x="36" y="27"/>
                              </a:lnTo>
                              <a:lnTo>
                                <a:pt x="63" y="64"/>
                              </a:lnTo>
                              <a:lnTo>
                                <a:pt x="84" y="122"/>
                              </a:lnTo>
                              <a:lnTo>
                                <a:pt x="87" y="165"/>
                              </a:lnTo>
                              <a:lnTo>
                                <a:pt x="77" y="225"/>
                              </a:lnTo>
                              <a:lnTo>
                                <a:pt x="100" y="177"/>
                              </a:lnTo>
                              <a:lnTo>
                                <a:pt x="101" y="122"/>
                              </a:lnTo>
                              <a:lnTo>
                                <a:pt x="94" y="75"/>
                              </a:lnTo>
                              <a:lnTo>
                                <a:pt x="73" y="24"/>
                              </a:lnTo>
                              <a:lnTo>
                                <a:pt x="45" y="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ff9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4" name=""/>
                        <p:cNvSpPr/>
                        <p:nvPr/>
                      </p:nvSpPr>
                      <p:spPr>
                        <a:xfrm>
                          <a:off x="7008840" y="3301920"/>
                          <a:ext cx="241200" cy="171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2" h="108">
                              <a:moveTo>
                                <a:pt x="0" y="99"/>
                              </a:moveTo>
                              <a:lnTo>
                                <a:pt x="40" y="107"/>
                              </a:lnTo>
                              <a:lnTo>
                                <a:pt x="75" y="93"/>
                              </a:lnTo>
                              <a:lnTo>
                                <a:pt x="111" y="68"/>
                              </a:lnTo>
                              <a:lnTo>
                                <a:pt x="138" y="33"/>
                              </a:lnTo>
                              <a:lnTo>
                                <a:pt x="151" y="0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05" name=""/>
                      <p:cNvSpPr/>
                      <p:nvPr/>
                    </p:nvSpPr>
                    <p:spPr>
                      <a:xfrm>
                        <a:off x="6549840" y="565200"/>
                        <a:ext cx="109440" cy="37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238">
                            <a:moveTo>
                              <a:pt x="18" y="234"/>
                            </a:moveTo>
                            <a:lnTo>
                              <a:pt x="19" y="198"/>
                            </a:lnTo>
                            <a:lnTo>
                              <a:pt x="24" y="164"/>
                            </a:lnTo>
                            <a:lnTo>
                              <a:pt x="30" y="129"/>
                            </a:lnTo>
                            <a:lnTo>
                              <a:pt x="42" y="91"/>
                            </a:lnTo>
                            <a:lnTo>
                              <a:pt x="52" y="56"/>
                            </a:lnTo>
                            <a:lnTo>
                              <a:pt x="68" y="0"/>
                            </a:lnTo>
                            <a:lnTo>
                              <a:pt x="50" y="33"/>
                            </a:lnTo>
                            <a:lnTo>
                              <a:pt x="38" y="58"/>
                            </a:lnTo>
                            <a:lnTo>
                              <a:pt x="24" y="99"/>
                            </a:lnTo>
                            <a:lnTo>
                              <a:pt x="13" y="141"/>
                            </a:lnTo>
                            <a:lnTo>
                              <a:pt x="4" y="187"/>
                            </a:lnTo>
                            <a:lnTo>
                              <a:pt x="0" y="237"/>
                            </a:lnTo>
                            <a:lnTo>
                              <a:pt x="18" y="234"/>
                            </a:lnTo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6" name=""/>
                      <p:cNvSpPr/>
                      <p:nvPr/>
                    </p:nvSpPr>
                    <p:spPr>
                      <a:xfrm>
                        <a:off x="6805440" y="1057320"/>
                        <a:ext cx="177840" cy="38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245">
                            <a:moveTo>
                              <a:pt x="0" y="234"/>
                            </a:moveTo>
                            <a:lnTo>
                              <a:pt x="27" y="220"/>
                            </a:lnTo>
                            <a:lnTo>
                              <a:pt x="56" y="195"/>
                            </a:lnTo>
                            <a:lnTo>
                              <a:pt x="77" y="154"/>
                            </a:lnTo>
                            <a:lnTo>
                              <a:pt x="90" y="112"/>
                            </a:lnTo>
                            <a:lnTo>
                              <a:pt x="101" y="61"/>
                            </a:lnTo>
                            <a:lnTo>
                              <a:pt x="109" y="0"/>
                            </a:lnTo>
                            <a:lnTo>
                              <a:pt x="111" y="54"/>
                            </a:lnTo>
                            <a:lnTo>
                              <a:pt x="105" y="116"/>
                            </a:lnTo>
                            <a:lnTo>
                              <a:pt x="97" y="157"/>
                            </a:lnTo>
                            <a:lnTo>
                              <a:pt x="89" y="192"/>
                            </a:lnTo>
                            <a:lnTo>
                              <a:pt x="76" y="220"/>
                            </a:lnTo>
                            <a:lnTo>
                              <a:pt x="56" y="237"/>
                            </a:lnTo>
                            <a:lnTo>
                              <a:pt x="31" y="244"/>
                            </a:lnTo>
                            <a:lnTo>
                              <a:pt x="0" y="234"/>
                            </a:lnTo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7037280" y="2230200"/>
                        <a:ext cx="226800" cy="46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3" h="294">
                            <a:moveTo>
                              <a:pt x="0" y="166"/>
                            </a:moveTo>
                            <a:lnTo>
                              <a:pt x="22" y="174"/>
                            </a:lnTo>
                            <a:lnTo>
                              <a:pt x="46" y="168"/>
                            </a:lnTo>
                            <a:lnTo>
                              <a:pt x="65" y="158"/>
                            </a:lnTo>
                            <a:lnTo>
                              <a:pt x="79" y="143"/>
                            </a:lnTo>
                            <a:lnTo>
                              <a:pt x="97" y="116"/>
                            </a:lnTo>
                            <a:lnTo>
                              <a:pt x="115" y="80"/>
                            </a:lnTo>
                            <a:lnTo>
                              <a:pt x="142" y="0"/>
                            </a:lnTo>
                            <a:lnTo>
                              <a:pt x="127" y="74"/>
                            </a:lnTo>
                            <a:lnTo>
                              <a:pt x="116" y="121"/>
                            </a:lnTo>
                            <a:lnTo>
                              <a:pt x="95" y="166"/>
                            </a:lnTo>
                            <a:lnTo>
                              <a:pt x="73" y="196"/>
                            </a:lnTo>
                            <a:lnTo>
                              <a:pt x="49" y="201"/>
                            </a:lnTo>
                            <a:lnTo>
                              <a:pt x="36" y="237"/>
                            </a:lnTo>
                            <a:lnTo>
                              <a:pt x="25" y="293"/>
                            </a:lnTo>
                            <a:lnTo>
                              <a:pt x="16" y="224"/>
                            </a:lnTo>
                            <a:lnTo>
                              <a:pt x="0" y="166"/>
                            </a:lnTo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>
                        <a:off x="7119720" y="2994120"/>
                        <a:ext cx="252360" cy="15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9" h="99">
                            <a:moveTo>
                              <a:pt x="0" y="95"/>
                            </a:moveTo>
                            <a:lnTo>
                              <a:pt x="33" y="98"/>
                            </a:lnTo>
                            <a:lnTo>
                              <a:pt x="68" y="88"/>
                            </a:lnTo>
                            <a:lnTo>
                              <a:pt x="103" y="62"/>
                            </a:lnTo>
                            <a:lnTo>
                              <a:pt x="131" y="36"/>
                            </a:lnTo>
                            <a:lnTo>
                              <a:pt x="158" y="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>
                        <a:off x="6843600" y="1373040"/>
                        <a:ext cx="76320" cy="26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" h="169">
                            <a:moveTo>
                              <a:pt x="0" y="168"/>
                            </a:moveTo>
                            <a:lnTo>
                              <a:pt x="5" y="128"/>
                            </a:lnTo>
                            <a:lnTo>
                              <a:pt x="12" y="88"/>
                            </a:lnTo>
                            <a:lnTo>
                              <a:pt x="28" y="40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5808600" y="2027160"/>
                      <a:ext cx="1535040" cy="3200400"/>
                      <a:chOff x="5808600" y="2027160"/>
                      <a:chExt cx="1535040" cy="3200400"/>
                    </a:xfrm>
                  </p:grpSpPr>
                  <p:sp>
                    <p:nvSpPr>
                      <p:cNvPr id="811" name=""/>
                      <p:cNvSpPr/>
                      <p:nvPr/>
                    </p:nvSpPr>
                    <p:spPr>
                      <a:xfrm>
                        <a:off x="6821280" y="5132160"/>
                        <a:ext cx="52236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9" h="60">
                            <a:moveTo>
                              <a:pt x="0" y="0"/>
                            </a:moveTo>
                            <a:lnTo>
                              <a:pt x="64" y="31"/>
                            </a:lnTo>
                            <a:lnTo>
                              <a:pt x="130" y="51"/>
                            </a:lnTo>
                            <a:lnTo>
                              <a:pt x="186" y="59"/>
                            </a:lnTo>
                            <a:lnTo>
                              <a:pt x="268" y="46"/>
                            </a:lnTo>
                            <a:lnTo>
                              <a:pt x="328" y="34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"/>
                      <p:cNvSpPr/>
                      <p:nvPr/>
                    </p:nvSpPr>
                    <p:spPr>
                      <a:xfrm>
                        <a:off x="6137280" y="3379680"/>
                        <a:ext cx="261720" cy="449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5" h="283">
                            <a:moveTo>
                              <a:pt x="0" y="282"/>
                            </a:moveTo>
                            <a:lnTo>
                              <a:pt x="10" y="240"/>
                            </a:lnTo>
                            <a:lnTo>
                              <a:pt x="34" y="182"/>
                            </a:lnTo>
                            <a:lnTo>
                              <a:pt x="63" y="123"/>
                            </a:lnTo>
                            <a:lnTo>
                              <a:pt x="93" y="74"/>
                            </a:lnTo>
                            <a:lnTo>
                              <a:pt x="135" y="27"/>
                            </a:lnTo>
                            <a:lnTo>
                              <a:pt x="164" y="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"/>
                      <p:cNvSpPr/>
                      <p:nvPr/>
                    </p:nvSpPr>
                    <p:spPr>
                      <a:xfrm>
                        <a:off x="6229080" y="3419280"/>
                        <a:ext cx="300240" cy="56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9" h="359">
                            <a:moveTo>
                              <a:pt x="0" y="358"/>
                            </a:moveTo>
                            <a:lnTo>
                              <a:pt x="36" y="321"/>
                            </a:lnTo>
                            <a:lnTo>
                              <a:pt x="76" y="279"/>
                            </a:lnTo>
                            <a:lnTo>
                              <a:pt x="118" y="218"/>
                            </a:lnTo>
                            <a:lnTo>
                              <a:pt x="150" y="146"/>
                            </a:lnTo>
                            <a:lnTo>
                              <a:pt x="174" y="72"/>
                            </a:lnTo>
                            <a:lnTo>
                              <a:pt x="188" y="0"/>
                            </a:lnTo>
                            <a:lnTo>
                              <a:pt x="162" y="142"/>
                            </a:lnTo>
                            <a:lnTo>
                              <a:pt x="131" y="230"/>
                            </a:lnTo>
                            <a:lnTo>
                              <a:pt x="98" y="286"/>
                            </a:lnTo>
                            <a:lnTo>
                              <a:pt x="72" y="318"/>
                            </a:lnTo>
                            <a:lnTo>
                              <a:pt x="40" y="344"/>
                            </a:lnTo>
                            <a:lnTo>
                              <a:pt x="0" y="358"/>
                            </a:lnTo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4" name=""/>
                      <p:cNvSpPr/>
                      <p:nvPr/>
                    </p:nvSpPr>
                    <p:spPr>
                      <a:xfrm>
                        <a:off x="6292800" y="3921120"/>
                        <a:ext cx="206280" cy="22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0" h="142">
                            <a:moveTo>
                              <a:pt x="129" y="0"/>
                            </a:moveTo>
                            <a:lnTo>
                              <a:pt x="111" y="37"/>
                            </a:lnTo>
                            <a:lnTo>
                              <a:pt x="89" y="68"/>
                            </a:lnTo>
                            <a:lnTo>
                              <a:pt x="62" y="98"/>
                            </a:lnTo>
                            <a:lnTo>
                              <a:pt x="30" y="125"/>
                            </a:lnTo>
                            <a:lnTo>
                              <a:pt x="0" y="141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15" name=""/>
                      <p:cNvGrpSpPr/>
                      <p:nvPr/>
                    </p:nvGrpSpPr>
                    <p:grpSpPr>
                      <a:xfrm>
                        <a:off x="5808600" y="2027160"/>
                        <a:ext cx="1271520" cy="1474920"/>
                        <a:chOff x="5808600" y="2027160"/>
                        <a:chExt cx="1271520" cy="1474920"/>
                      </a:xfrm>
                    </p:grpSpPr>
                    <p:sp>
                      <p:nvSpPr>
                        <p:cNvPr id="816" name=""/>
                        <p:cNvSpPr/>
                        <p:nvPr/>
                      </p:nvSpPr>
                      <p:spPr>
                        <a:xfrm>
                          <a:off x="6914880" y="2027160"/>
                          <a:ext cx="165240" cy="65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4" h="410">
                              <a:moveTo>
                                <a:pt x="0" y="0"/>
                              </a:moveTo>
                              <a:lnTo>
                                <a:pt x="12" y="90"/>
                              </a:lnTo>
                              <a:lnTo>
                                <a:pt x="33" y="175"/>
                              </a:lnTo>
                              <a:lnTo>
                                <a:pt x="67" y="261"/>
                              </a:lnTo>
                              <a:lnTo>
                                <a:pt x="93" y="344"/>
                              </a:lnTo>
                              <a:lnTo>
                                <a:pt x="103" y="409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7" name=""/>
                        <p:cNvSpPr/>
                        <p:nvPr/>
                      </p:nvSpPr>
                      <p:spPr>
                        <a:xfrm>
                          <a:off x="5808600" y="3058920"/>
                          <a:ext cx="236520" cy="443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279">
                              <a:moveTo>
                                <a:pt x="0" y="210"/>
                              </a:moveTo>
                              <a:lnTo>
                                <a:pt x="10" y="224"/>
                              </a:lnTo>
                              <a:lnTo>
                                <a:pt x="34" y="245"/>
                              </a:lnTo>
                              <a:lnTo>
                                <a:pt x="55" y="264"/>
                              </a:lnTo>
                              <a:lnTo>
                                <a:pt x="65" y="278"/>
                              </a:lnTo>
                              <a:lnTo>
                                <a:pt x="81" y="256"/>
                              </a:lnTo>
                              <a:lnTo>
                                <a:pt x="101" y="226"/>
                              </a:lnTo>
                              <a:lnTo>
                                <a:pt x="123" y="189"/>
                              </a:lnTo>
                              <a:lnTo>
                                <a:pt x="136" y="146"/>
                              </a:lnTo>
                              <a:lnTo>
                                <a:pt x="142" y="100"/>
                              </a:lnTo>
                              <a:lnTo>
                                <a:pt x="147" y="52"/>
                              </a:lnTo>
                              <a:lnTo>
                                <a:pt x="148" y="11"/>
                              </a:lnTo>
                              <a:lnTo>
                                <a:pt x="144" y="0"/>
                              </a:lnTo>
                              <a:lnTo>
                                <a:pt x="122" y="20"/>
                              </a:lnTo>
                              <a:lnTo>
                                <a:pt x="76" y="69"/>
                              </a:lnTo>
                              <a:lnTo>
                                <a:pt x="39" y="113"/>
                              </a:lnTo>
                              <a:lnTo>
                                <a:pt x="15" y="158"/>
                              </a:lnTo>
                              <a:lnTo>
                                <a:pt x="0" y="210"/>
                              </a:lnTo>
                            </a:path>
                          </a:pathLst>
                        </a:custGeom>
                        <a:solidFill>
                          <a:srgbClr val="ffd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18" name=""/>
                    <p:cNvGrpSpPr/>
                    <p:nvPr/>
                  </p:nvGrpSpPr>
                  <p:grpSpPr>
                    <a:xfrm>
                      <a:off x="6543360" y="127080"/>
                      <a:ext cx="2300400" cy="2930400"/>
                      <a:chOff x="6543360" y="127080"/>
                      <a:chExt cx="2300400" cy="2930400"/>
                    </a:xfrm>
                  </p:grpSpPr>
                  <p:sp>
                    <p:nvSpPr>
                      <p:cNvPr id="819" name=""/>
                      <p:cNvSpPr/>
                      <p:nvPr/>
                    </p:nvSpPr>
                    <p:spPr>
                      <a:xfrm>
                        <a:off x="6967440" y="338040"/>
                        <a:ext cx="117360" cy="12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81">
                            <a:moveTo>
                              <a:pt x="73" y="4"/>
                            </a:moveTo>
                            <a:lnTo>
                              <a:pt x="56" y="0"/>
                            </a:lnTo>
                            <a:lnTo>
                              <a:pt x="35" y="12"/>
                            </a:lnTo>
                            <a:lnTo>
                              <a:pt x="18" y="29"/>
                            </a:lnTo>
                            <a:lnTo>
                              <a:pt x="8" y="52"/>
                            </a:lnTo>
                            <a:lnTo>
                              <a:pt x="0" y="80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0" name=""/>
                      <p:cNvSpPr/>
                      <p:nvPr/>
                    </p:nvSpPr>
                    <p:spPr>
                      <a:xfrm>
                        <a:off x="7054560" y="371520"/>
                        <a:ext cx="59040" cy="21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" h="135">
                            <a:moveTo>
                              <a:pt x="32" y="0"/>
                            </a:moveTo>
                            <a:lnTo>
                              <a:pt x="36" y="38"/>
                            </a:lnTo>
                            <a:lnTo>
                              <a:pt x="32" y="78"/>
                            </a:lnTo>
                            <a:lnTo>
                              <a:pt x="19" y="109"/>
                            </a:lnTo>
                            <a:lnTo>
                              <a:pt x="0" y="134"/>
                            </a:lnTo>
                          </a:path>
                        </a:pathLst>
                      </a:custGeom>
                      <a:noFill/>
                      <a:ln cap="rnd" w="25560">
                        <a:solidFill>
                          <a:srgbClr val="ff9f1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21" name=""/>
                      <p:cNvGrpSpPr/>
                      <p:nvPr/>
                    </p:nvGrpSpPr>
                    <p:grpSpPr>
                      <a:xfrm>
                        <a:off x="6543360" y="127080"/>
                        <a:ext cx="2300400" cy="2930400"/>
                        <a:chOff x="6543360" y="127080"/>
                        <a:chExt cx="2300400" cy="2930400"/>
                      </a:xfrm>
                    </p:grpSpPr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>
                          <a:off x="8804160" y="2320920"/>
                          <a:ext cx="39600" cy="73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" h="464">
                              <a:moveTo>
                                <a:pt x="13" y="0"/>
                              </a:moveTo>
                              <a:lnTo>
                                <a:pt x="5" y="105"/>
                              </a:lnTo>
                              <a:lnTo>
                                <a:pt x="0" y="216"/>
                              </a:lnTo>
                              <a:lnTo>
                                <a:pt x="8" y="347"/>
                              </a:lnTo>
                              <a:lnTo>
                                <a:pt x="24" y="463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>
                          <a:off x="8248680" y="865080"/>
                          <a:ext cx="377640" cy="208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8" h="1316">
                              <a:moveTo>
                                <a:pt x="0" y="0"/>
                              </a:moveTo>
                              <a:lnTo>
                                <a:pt x="30" y="128"/>
                              </a:lnTo>
                              <a:lnTo>
                                <a:pt x="51" y="222"/>
                              </a:lnTo>
                              <a:lnTo>
                                <a:pt x="74" y="296"/>
                              </a:lnTo>
                              <a:lnTo>
                                <a:pt x="104" y="378"/>
                              </a:lnTo>
                              <a:lnTo>
                                <a:pt x="131" y="452"/>
                              </a:lnTo>
                              <a:lnTo>
                                <a:pt x="166" y="542"/>
                              </a:lnTo>
                              <a:lnTo>
                                <a:pt x="209" y="645"/>
                              </a:lnTo>
                              <a:lnTo>
                                <a:pt x="223" y="739"/>
                              </a:lnTo>
                              <a:lnTo>
                                <a:pt x="216" y="818"/>
                              </a:lnTo>
                              <a:lnTo>
                                <a:pt x="211" y="888"/>
                              </a:lnTo>
                              <a:lnTo>
                                <a:pt x="211" y="996"/>
                              </a:lnTo>
                              <a:lnTo>
                                <a:pt x="219" y="1105"/>
                              </a:lnTo>
                              <a:lnTo>
                                <a:pt x="236" y="1206"/>
                              </a:lnTo>
                              <a:lnTo>
                                <a:pt x="237" y="1315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>
                          <a:off x="8040600" y="2541600"/>
                          <a:ext cx="69840" cy="422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4" h="266">
                              <a:moveTo>
                                <a:pt x="0" y="0"/>
                              </a:moveTo>
                              <a:lnTo>
                                <a:pt x="28" y="159"/>
                              </a:lnTo>
                              <a:lnTo>
                                <a:pt x="43" y="265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>
                          <a:off x="6999120" y="353880"/>
                          <a:ext cx="95400" cy="214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" h="135">
                              <a:moveTo>
                                <a:pt x="59" y="0"/>
                              </a:moveTo>
                              <a:lnTo>
                                <a:pt x="55" y="31"/>
                              </a:lnTo>
                              <a:lnTo>
                                <a:pt x="49" y="56"/>
                              </a:lnTo>
                              <a:lnTo>
                                <a:pt x="38" y="76"/>
                              </a:lnTo>
                              <a:lnTo>
                                <a:pt x="25" y="93"/>
                              </a:lnTo>
                              <a:lnTo>
                                <a:pt x="9" y="110"/>
                              </a:lnTo>
                              <a:lnTo>
                                <a:pt x="0" y="134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>
                          <a:off x="7711920" y="191880"/>
                          <a:ext cx="117360" cy="13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" h="85">
                              <a:moveTo>
                                <a:pt x="73" y="0"/>
                              </a:moveTo>
                              <a:lnTo>
                                <a:pt x="47" y="16"/>
                              </a:lnTo>
                              <a:lnTo>
                                <a:pt x="30" y="30"/>
                              </a:lnTo>
                              <a:lnTo>
                                <a:pt x="13" y="54"/>
                              </a:lnTo>
                              <a:lnTo>
                                <a:pt x="0" y="84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>
                          <a:off x="7843680" y="217440"/>
                          <a:ext cx="52560" cy="233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" h="147">
                              <a:moveTo>
                                <a:pt x="29" y="0"/>
                              </a:moveTo>
                              <a:lnTo>
                                <a:pt x="32" y="29"/>
                              </a:lnTo>
                              <a:lnTo>
                                <a:pt x="31" y="58"/>
                              </a:lnTo>
                              <a:lnTo>
                                <a:pt x="24" y="88"/>
                              </a:lnTo>
                              <a:lnTo>
                                <a:pt x="12" y="118"/>
                              </a:lnTo>
                              <a:lnTo>
                                <a:pt x="0" y="146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>
                          <a:off x="7267320" y="619200"/>
                          <a:ext cx="755640" cy="18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6" h="1148">
                              <a:moveTo>
                                <a:pt x="0" y="0"/>
                              </a:moveTo>
                              <a:lnTo>
                                <a:pt x="25" y="38"/>
                              </a:lnTo>
                              <a:lnTo>
                                <a:pt x="50" y="91"/>
                              </a:lnTo>
                              <a:lnTo>
                                <a:pt x="66" y="129"/>
                              </a:lnTo>
                              <a:lnTo>
                                <a:pt x="90" y="169"/>
                              </a:lnTo>
                              <a:lnTo>
                                <a:pt x="114" y="211"/>
                              </a:lnTo>
                              <a:lnTo>
                                <a:pt x="134" y="253"/>
                              </a:lnTo>
                              <a:lnTo>
                                <a:pt x="157" y="310"/>
                              </a:lnTo>
                              <a:lnTo>
                                <a:pt x="188" y="355"/>
                              </a:lnTo>
                              <a:lnTo>
                                <a:pt x="208" y="401"/>
                              </a:lnTo>
                              <a:lnTo>
                                <a:pt x="231" y="455"/>
                              </a:lnTo>
                              <a:lnTo>
                                <a:pt x="252" y="515"/>
                              </a:lnTo>
                              <a:lnTo>
                                <a:pt x="272" y="575"/>
                              </a:lnTo>
                              <a:lnTo>
                                <a:pt x="301" y="637"/>
                              </a:lnTo>
                              <a:lnTo>
                                <a:pt x="333" y="693"/>
                              </a:lnTo>
                              <a:lnTo>
                                <a:pt x="372" y="755"/>
                              </a:lnTo>
                              <a:lnTo>
                                <a:pt x="415" y="805"/>
                              </a:lnTo>
                              <a:lnTo>
                                <a:pt x="450" y="866"/>
                              </a:lnTo>
                              <a:lnTo>
                                <a:pt x="462" y="953"/>
                              </a:lnTo>
                              <a:lnTo>
                                <a:pt x="461" y="1054"/>
                              </a:lnTo>
                              <a:lnTo>
                                <a:pt x="475" y="1147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>
                          <a:off x="7534080" y="801720"/>
                          <a:ext cx="34920" cy="323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" h="204">
                              <a:moveTo>
                                <a:pt x="5" y="203"/>
                              </a:moveTo>
                              <a:lnTo>
                                <a:pt x="0" y="117"/>
                              </a:lnTo>
                              <a:lnTo>
                                <a:pt x="7" y="51"/>
                              </a:lnTo>
                              <a:lnTo>
                                <a:pt x="21" y="0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>
                          <a:off x="6543360" y="127080"/>
                          <a:ext cx="133560" cy="228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4" h="144">
                              <a:moveTo>
                                <a:pt x="83" y="0"/>
                              </a:moveTo>
                              <a:lnTo>
                                <a:pt x="51" y="27"/>
                              </a:lnTo>
                              <a:lnTo>
                                <a:pt x="30" y="58"/>
                              </a:lnTo>
                              <a:lnTo>
                                <a:pt x="15" y="94"/>
                              </a:lnTo>
                              <a:lnTo>
                                <a:pt x="0" y="143"/>
                              </a:lnTo>
                            </a:path>
                          </a:pathLst>
                        </a:custGeom>
                        <a:noFill/>
                        <a:ln cap="rnd" w="25560">
                          <a:solidFill>
                            <a:srgbClr val="ff9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831" name=""/>
              <p:cNvSpPr/>
              <p:nvPr/>
            </p:nvSpPr>
            <p:spPr>
              <a:xfrm>
                <a:off x="7414920" y="922320"/>
                <a:ext cx="339840" cy="736560"/>
              </a:xfrm>
              <a:custGeom>
                <a:avLst/>
                <a:gdLst/>
                <a:ahLst/>
                <a:rect l="l" t="t" r="r" b="b"/>
                <a:pathLst>
                  <a:path w="214" h="464">
                    <a:moveTo>
                      <a:pt x="0" y="0"/>
                    </a:moveTo>
                    <a:lnTo>
                      <a:pt x="37" y="64"/>
                    </a:lnTo>
                    <a:lnTo>
                      <a:pt x="52" y="97"/>
                    </a:lnTo>
                    <a:lnTo>
                      <a:pt x="79" y="139"/>
                    </a:lnTo>
                    <a:lnTo>
                      <a:pt x="95" y="175"/>
                    </a:lnTo>
                    <a:lnTo>
                      <a:pt x="116" y="212"/>
                    </a:lnTo>
                    <a:lnTo>
                      <a:pt x="142" y="279"/>
                    </a:lnTo>
                    <a:lnTo>
                      <a:pt x="161" y="348"/>
                    </a:lnTo>
                    <a:lnTo>
                      <a:pt x="176" y="387"/>
                    </a:lnTo>
                    <a:lnTo>
                      <a:pt x="198" y="428"/>
                    </a:lnTo>
                    <a:lnTo>
                      <a:pt x="213" y="463"/>
                    </a:lnTo>
                    <a:lnTo>
                      <a:pt x="193" y="395"/>
                    </a:lnTo>
                    <a:lnTo>
                      <a:pt x="175" y="348"/>
                    </a:lnTo>
                    <a:lnTo>
                      <a:pt x="157" y="289"/>
                    </a:lnTo>
                    <a:lnTo>
                      <a:pt x="144" y="237"/>
                    </a:lnTo>
                    <a:lnTo>
                      <a:pt x="129" y="200"/>
                    </a:lnTo>
                    <a:lnTo>
                      <a:pt x="104" y="165"/>
                    </a:lnTo>
                    <a:lnTo>
                      <a:pt x="89" y="128"/>
                    </a:lnTo>
                    <a:lnTo>
                      <a:pt x="79" y="91"/>
                    </a:lnTo>
                    <a:lnTo>
                      <a:pt x="68" y="58"/>
                    </a:lnTo>
                    <a:lnTo>
                      <a:pt x="51" y="38"/>
                    </a:lnTo>
                    <a:lnTo>
                      <a:pt x="29" y="2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-1067040" y="4648320"/>
            <a:ext cx="784836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Perguntas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735AB-9304-49BA-AA14-2E48EC4EDC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Implantação de Processo de SW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611280" y="1509840"/>
            <a:ext cx="7775640" cy="4151160"/>
          </a:xfrm>
          <a:prstGeom prst="rect">
            <a:avLst/>
          </a:prstGeom>
          <a:ln w="0">
            <a:noFill/>
          </a:ln>
        </p:spPr>
      </p:pic>
      <p:sp>
        <p:nvSpPr>
          <p:cNvPr id="836" name="">
            <a:hlinkClick r:id="rId2" action="ppaction://hlinksldjump"/>
          </p:cNvPr>
          <p:cNvSpPr/>
          <p:nvPr/>
        </p:nvSpPr>
        <p:spPr>
          <a:xfrm>
            <a:off x="8682120" y="6372360"/>
            <a:ext cx="360360" cy="358560"/>
          </a:xfrm>
          <a:prstGeom prst="rightArrow">
            <a:avLst>
              <a:gd name="adj1" fmla="val 50000"/>
              <a:gd name="adj2" fmla="val 2512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7002F-2236-4553-803A-B53B098FE1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S Centrado no 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m ADS centrado em processo (PSEE -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Process-Centered Software Engineering Environmen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 baseia-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finição explícita do processo de desenvolvimento d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 funções genéricas que podem ser suportadas por um ADS centrado em processo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genharia de Processo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finição e manutenção de modelos de processo d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genharia de Software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senvolvimento e manutenção de um produto d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ência de Projeto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ordenação e monitoramento das atividades da engenharia de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uporte a Múltiplos Usuá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ência de Obje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ência de Comunicação entre Pesso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ência de Coope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ência de Proc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xtensibili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egração entre todos os Módu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2961C-36FE-48B9-AF6F-85FC4F9020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408720" cy="455292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rId2" action="ppaction://hlinksldjump"/>
          </p:cNvPr>
          <p:cNvSpPr/>
          <p:nvPr/>
        </p:nvSpPr>
        <p:spPr>
          <a:xfrm>
            <a:off x="8682120" y="6372360"/>
            <a:ext cx="360360" cy="358560"/>
          </a:xfrm>
          <a:prstGeom prst="rightArrow">
            <a:avLst>
              <a:gd name="adj1" fmla="val 50000"/>
              <a:gd name="adj2" fmla="val 2512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88967-895C-47D2-9D57-3B116C74E1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-Processo de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103720"/>
          </a:xfrm>
          <a:prstGeom prst="rect">
            <a:avLst/>
          </a:prstGeom>
          <a:ln w="0">
            <a:noFill/>
          </a:ln>
        </p:spPr>
      </p:pic>
      <p:sp>
        <p:nvSpPr>
          <p:cNvPr id="844" name="">
            <a:hlinkClick r:id="rId2" action="ppaction://hlinksldjump"/>
          </p:cNvPr>
          <p:cNvSpPr/>
          <p:nvPr/>
        </p:nvSpPr>
        <p:spPr>
          <a:xfrm>
            <a:off x="8682120" y="6372360"/>
            <a:ext cx="360360" cy="358560"/>
          </a:xfrm>
          <a:prstGeom prst="rightArrow">
            <a:avLst>
              <a:gd name="adj1" fmla="val 50000"/>
              <a:gd name="adj2" fmla="val 2512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DAB2E-5A1D-452B-8CBC-16A00784D9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S Centrado no 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488000" cy="477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FB459-2788-4EF8-8DDD-D83E7E3D08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erência de Processo de Softwa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51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31218-C92F-43E9-9A4A-D5754C313F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1400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erência de Processo de Softwa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268280"/>
            <a:ext cx="820728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341360"/>
            <a:ext cx="822960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de processo de softw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é uma descrição abstrata do processo d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 indicar quem, quando, onde, como e por que os passos são reali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representar 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de processo de softw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é utilizada uma linguagem de modelagem do processo de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M, SLANG, SPELL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de processo instanciad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executáv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é um modelo de processo pronto para exec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ém Informações específicas do projeto (cronograma, equi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e modelo pode ser interpretado por uma máquina de proc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a Máquina de Pro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xilia na coordenação das atividades realizadas por pessoas e por ferram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iva automaticamente atividades sem intervenção hum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óia o trabalho coope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a o andamento do proces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 histórico da execu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N/UFP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9C36E-E0C8-44E6-B773-CA89DF4902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1:53:43Z</dcterms:created>
  <dc:creator>sandro</dc:creator>
  <dc:description/>
  <dc:language>en-US</dc:language>
  <cp:lastModifiedBy>sandro</cp:lastModifiedBy>
  <dcterms:modified xsi:type="dcterms:W3CDTF">2004-07-12T11:07:18Z</dcterms:modified>
  <cp:revision>267</cp:revision>
  <dc:subject/>
  <dc:title>Ambiente para Implantação de Processo de Software</dc:title>
</cp:coreProperties>
</file>