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pptx" ContentType="application/vnd.openxmlformats-officedocument.presentationml.presentation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88584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-36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388584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D1FF7E-6360-4074-9DFC-5D263A92FEF5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Img"/>
          </p:nvPr>
        </p:nvSpPr>
        <p:spPr>
          <a:xfrm>
            <a:off x="1177560" y="703080"/>
            <a:ext cx="4514760" cy="33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"/>
          <p:cNvSpPr/>
          <p:nvPr/>
        </p:nvSpPr>
        <p:spPr>
          <a:xfrm>
            <a:off x="291960" y="4772160"/>
            <a:ext cx="6199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00" y="372960"/>
            <a:ext cx="672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00" y="9171000"/>
            <a:ext cx="672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09040" y="9245520"/>
            <a:ext cx="70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DAA9-BEEE-40E0-9E54-8EE34AC6B85C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3320" y="149400"/>
            <a:ext cx="10490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BA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720" y="9259920"/>
            <a:ext cx="44064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© 1995 Integrated System Diagnostics, Inc. and Carnegie Mellon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body"/>
          </p:nvPr>
        </p:nvSpPr>
        <p:spPr>
          <a:xfrm>
            <a:off x="890640" y="5006880"/>
            <a:ext cx="507672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79360" y="70344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890640" y="5006880"/>
            <a:ext cx="507672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79360" y="70344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890640" y="5006880"/>
            <a:ext cx="507672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 txBox="1"/>
          <p:nvPr/>
        </p:nvSpPr>
        <p:spPr>
          <a:xfrm>
            <a:off x="388584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D0465C-4190-40E0-AD0C-9378DA8FD9B6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-36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 txBox="1"/>
          <p:nvPr/>
        </p:nvSpPr>
        <p:spPr>
          <a:xfrm>
            <a:off x="-36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 txBox="1"/>
          <p:nvPr/>
        </p:nvSpPr>
        <p:spPr>
          <a:xfrm>
            <a:off x="388584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estudo e aplicação do CMM temos que ter entendimento do conceito de organização aplicado neste contex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apítulo “Interpreting the CMM” do CMU/SEI-93-TR-25, página O-70, temos esta definição e outras correla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 txBox="1"/>
          <p:nvPr/>
        </p:nvSpPr>
        <p:spPr>
          <a:xfrm>
            <a:off x="388584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EA34F5-2719-44D6-87C7-A677AF2B3476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-36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-36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388584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1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estudo e aplicação do CMM temos que ter entendimento do conceito de organização aplicado neste contex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apítulo “Interpreting the CMM” do CMU/SEI-93-TR-25, página O-70, temos esta definição e outras correla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"/>
          <p:cNvSpPr txBox="1"/>
          <p:nvPr/>
        </p:nvSpPr>
        <p:spPr>
          <a:xfrm>
            <a:off x="388584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369575-F66F-4956-B6B2-D8912C64F5C9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-36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-36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388584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estudo e aplicação do CMM temos que ter entendimento do conceito de organização aplicado neste contex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apítulo “Interpreting the CMM” do CMU/SEI-93-TR-25, página O-70, temos esta definição e outras correla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 txBox="1"/>
          <p:nvPr/>
        </p:nvSpPr>
        <p:spPr>
          <a:xfrm>
            <a:off x="388584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8FED49-ED0D-4F96-960A-AC38790BBF5D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 txBox="1"/>
          <p:nvPr/>
        </p:nvSpPr>
        <p:spPr>
          <a:xfrm>
            <a:off x="-36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-36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388584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1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estudo e aplicação do CMM temos que ter entendimento do conceito de organização aplicado neste contex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apítulo “Interpreting the CMM” do CMU/SEI-93-TR-25, página O-70, temos esta definição e outras correla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 txBox="1"/>
          <p:nvPr/>
        </p:nvSpPr>
        <p:spPr>
          <a:xfrm>
            <a:off x="388584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7FBBA7-26B5-48D3-B1EC-04658E6FBA8A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-36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 txBox="1"/>
          <p:nvPr/>
        </p:nvSpPr>
        <p:spPr>
          <a:xfrm>
            <a:off x="-36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388584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1979" name="PlaceHolder 2"/>
          <p:cNvSpPr>
            <a:spLocks noGrp="1"/>
          </p:cNvSpPr>
          <p:nvPr>
            <p:ph type="body"/>
          </p:nvPr>
        </p:nvSpPr>
        <p:spPr>
          <a:xfrm>
            <a:off x="890640" y="5006880"/>
            <a:ext cx="507672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"/>
          <p:cNvSpPr txBox="1"/>
          <p:nvPr/>
        </p:nvSpPr>
        <p:spPr>
          <a:xfrm>
            <a:off x="388584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CF17C8-AE64-447D-90F8-DBDBDDC2D3BC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 txBox="1"/>
          <p:nvPr/>
        </p:nvSpPr>
        <p:spPr>
          <a:xfrm>
            <a:off x="-360" y="90849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-36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3885840" y="1224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estudo e aplicação do CMM temos que ter entendimento do conceito de organização aplicado neste contex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apítulo “Interpreting the CMM” do CMU/SEI-93-TR-25, página O-70, temos esta definição e outras correla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72F-6C95-4734-8B17-52FAAD8C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82880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876240" y="397836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069-A930-46B1-974E-EAD4D89E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6240" y="182880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3040" y="182880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76240" y="397836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03040" y="397836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904-D99B-47F2-B768-F1909FA2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76240" y="182880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01280" y="182880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26320" y="182880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76240" y="397836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01280" y="397836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26320" y="397836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198-555D-4ED7-AC4E-C1786F68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87624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F09-E3BD-4FAC-B810-8D58478E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060-6BD7-47A9-A7BC-6F63DAB6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76240" y="182880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3040" y="182880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8CA-4853-4877-BB27-6D9E8BA8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1CC-804D-4921-AF03-C5B61911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4E9-09CB-412A-9CB9-5EDDADAD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82880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040" y="182880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7836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9A4-F3B6-455F-A59E-ED13142B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82880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040" y="182880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03040" y="397836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65C-2AAC-4513-B3CE-ED08039E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82880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3040" y="182880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7836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28A-952D-4882-823D-0D73C83F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97A7B2-0D6D-4528-A320-7AE47D973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92160" y="279360"/>
            <a:ext cx="2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1790640"/>
            <a:ext cx="139680" cy="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84880" y="6548400"/>
            <a:ext cx="119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240" y="6554880"/>
            <a:ext cx="2708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87624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344680" y="117360"/>
            <a:ext cx="43308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152388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5238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"/>
          <p:cNvSpPr/>
          <p:nvPr/>
        </p:nvSpPr>
        <p:spPr>
          <a:xfrm>
            <a:off x="8071920" y="6643800"/>
            <a:ext cx="1056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D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685800"/>
            <a:ext cx="9144000" cy="52560"/>
            <a:chOff x="0" y="685800"/>
            <a:chExt cx="9144000" cy="52560"/>
          </a:xfrm>
        </p:grpSpPr>
        <p:sp>
          <p:nvSpPr>
            <p:cNvPr id="13" name=""/>
            <p:cNvSpPr/>
            <p:nvPr/>
          </p:nvSpPr>
          <p:spPr>
            <a:xfrm>
              <a:off x="1440" y="685800"/>
              <a:ext cx="914256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738360"/>
              <a:ext cx="91425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MMI_Seminario.ppt#3. Um pouco de CM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image" Target="../media/image10.png"/><Relationship Id="rId13" Type="http://schemas.openxmlformats.org/officeDocument/2006/relationships/image" Target="../media/image7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7.png"/><Relationship Id="rId20" Type="http://schemas.openxmlformats.org/officeDocument/2006/relationships/image" Target="../media/image10.png"/><Relationship Id="rId21" Type="http://schemas.openxmlformats.org/officeDocument/2006/relationships/image" Target="../media/image7.png"/><Relationship Id="rId22" Type="http://schemas.openxmlformats.org/officeDocument/2006/relationships/image" Target="../media/image10.png"/><Relationship Id="rId23" Type="http://schemas.openxmlformats.org/officeDocument/2006/relationships/image" Target="../media/image7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7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7.png"/><Relationship Id="rId33" Type="http://schemas.openxmlformats.org/officeDocument/2006/relationships/image" Target="../media/image10.png"/><Relationship Id="rId34" Type="http://schemas.openxmlformats.org/officeDocument/2006/relationships/image" Target="../media/image7.png"/><Relationship Id="rId35" Type="http://schemas.openxmlformats.org/officeDocument/2006/relationships/image" Target="../media/image10.png"/><Relationship Id="rId36" Type="http://schemas.openxmlformats.org/officeDocument/2006/relationships/image" Target="../media/image7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7.png"/><Relationship Id="rId40" Type="http://schemas.openxmlformats.org/officeDocument/2006/relationships/image" Target="../media/image10.png"/><Relationship Id="rId41" Type="http://schemas.openxmlformats.org/officeDocument/2006/relationships/image" Target="../media/image7.png"/><Relationship Id="rId42" Type="http://schemas.openxmlformats.org/officeDocument/2006/relationships/image" Target="../media/image10.png"/><Relationship Id="rId43" Type="http://schemas.openxmlformats.org/officeDocument/2006/relationships/image" Target="../media/image7.png"/><Relationship Id="rId44" Type="http://schemas.openxmlformats.org/officeDocument/2006/relationships/image" Target="../media/image10.png"/><Relationship Id="rId45" Type="http://schemas.openxmlformats.org/officeDocument/2006/relationships/image" Target="../media/image7.png"/><Relationship Id="rId46" Type="http://schemas.openxmlformats.org/officeDocument/2006/relationships/image" Target="../media/image10.png"/><Relationship Id="rId47" Type="http://schemas.openxmlformats.org/officeDocument/2006/relationships/image" Target="../media/image7.png"/><Relationship Id="rId48" Type="http://schemas.openxmlformats.org/officeDocument/2006/relationships/image" Target="../media/image10.png"/><Relationship Id="rId49" Type="http://schemas.openxmlformats.org/officeDocument/2006/relationships/image" Target="../media/image7.png"/><Relationship Id="rId50" Type="http://schemas.openxmlformats.org/officeDocument/2006/relationships/image" Target="../media/image10.png"/><Relationship Id="rId51" Type="http://schemas.openxmlformats.org/officeDocument/2006/relationships/image" Target="../media/image7.png"/><Relationship Id="rId52" Type="http://schemas.openxmlformats.org/officeDocument/2006/relationships/image" Target="../media/image10.png"/><Relationship Id="rId5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10.png"/><Relationship Id="rId14" Type="http://schemas.openxmlformats.org/officeDocument/2006/relationships/image" Target="../media/image7.png"/><Relationship Id="rId15" Type="http://schemas.openxmlformats.org/officeDocument/2006/relationships/image" Target="../media/image10.png"/><Relationship Id="rId16" Type="http://schemas.openxmlformats.org/officeDocument/2006/relationships/image" Target="../media/image7.png"/><Relationship Id="rId17" Type="http://schemas.openxmlformats.org/officeDocument/2006/relationships/image" Target="../media/image10.png"/><Relationship Id="rId18" Type="http://schemas.openxmlformats.org/officeDocument/2006/relationships/image" Target="../media/image7.png"/><Relationship Id="rId19" Type="http://schemas.openxmlformats.org/officeDocument/2006/relationships/image" Target="../media/image10.png"/><Relationship Id="rId20" Type="http://schemas.openxmlformats.org/officeDocument/2006/relationships/image" Target="../media/image7.png"/><Relationship Id="rId21" Type="http://schemas.openxmlformats.org/officeDocument/2006/relationships/image" Target="../media/image10.png"/><Relationship Id="rId22" Type="http://schemas.openxmlformats.org/officeDocument/2006/relationships/image" Target="../media/image7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7.png"/><Relationship Id="rId29" Type="http://schemas.openxmlformats.org/officeDocument/2006/relationships/image" Target="../media/image10.png"/><Relationship Id="rId30" Type="http://schemas.openxmlformats.org/officeDocument/2006/relationships/image" Target="../media/image7.png"/><Relationship Id="rId31" Type="http://schemas.openxmlformats.org/officeDocument/2006/relationships/image" Target="../media/image10.png"/><Relationship Id="rId32" Type="http://schemas.openxmlformats.org/officeDocument/2006/relationships/image" Target="../media/image7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7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7.png"/><Relationship Id="rId42" Type="http://schemas.openxmlformats.org/officeDocument/2006/relationships/image" Target="../media/image10.png"/><Relationship Id="rId43" Type="http://schemas.openxmlformats.org/officeDocument/2006/relationships/image" Target="../media/image7.png"/><Relationship Id="rId44" Type="http://schemas.openxmlformats.org/officeDocument/2006/relationships/image" Target="../media/image10.png"/><Relationship Id="rId45" Type="http://schemas.openxmlformats.org/officeDocument/2006/relationships/image" Target="../media/image7.png"/><Relationship Id="rId46" Type="http://schemas.openxmlformats.org/officeDocument/2006/relationships/image" Target="../media/image10.png"/><Relationship Id="rId47" Type="http://schemas.openxmlformats.org/officeDocument/2006/relationships/image" Target="../media/image10.png"/><Relationship Id="rId48" Type="http://schemas.openxmlformats.org/officeDocument/2006/relationships/image" Target="../media/image7.png"/><Relationship Id="rId49" Type="http://schemas.openxmlformats.org/officeDocument/2006/relationships/image" Target="../media/image10.png"/><Relationship Id="rId50" Type="http://schemas.openxmlformats.org/officeDocument/2006/relationships/image" Target="../media/image7.png"/><Relationship Id="rId51" Type="http://schemas.openxmlformats.org/officeDocument/2006/relationships/image" Target="../media/image10.png"/><Relationship Id="rId52" Type="http://schemas.openxmlformats.org/officeDocument/2006/relationships/image" Target="../media/image7.png"/><Relationship Id="rId53" Type="http://schemas.openxmlformats.org/officeDocument/2006/relationships/image" Target="../media/image10.png"/><Relationship Id="rId54" Type="http://schemas.openxmlformats.org/officeDocument/2006/relationships/image" Target="../media/image7.png"/><Relationship Id="rId55" Type="http://schemas.openxmlformats.org/officeDocument/2006/relationships/image" Target="../media/image10.png"/><Relationship Id="rId56" Type="http://schemas.openxmlformats.org/officeDocument/2006/relationships/image" Target="../media/image7.png"/><Relationship Id="rId57" Type="http://schemas.openxmlformats.org/officeDocument/2006/relationships/image" Target="../media/image10.png"/><Relationship Id="rId58" Type="http://schemas.openxmlformats.org/officeDocument/2006/relationships/image" Target="../media/image7.png"/><Relationship Id="rId59" Type="http://schemas.openxmlformats.org/officeDocument/2006/relationships/image" Target="../media/image10.png"/><Relationship Id="rId60" Type="http://schemas.openxmlformats.org/officeDocument/2006/relationships/image" Target="../media/image7.png"/><Relationship Id="rId61" Type="http://schemas.openxmlformats.org/officeDocument/2006/relationships/image" Target="../media/image10.png"/><Relationship Id="rId62" Type="http://schemas.openxmlformats.org/officeDocument/2006/relationships/image" Target="../media/image7.png"/><Relationship Id="rId6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hyperlink" Target="file:///CMMI_Seminario.ppt#3. Um pouco de CMM" TargetMode="External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457200"/>
            <a:ext cx="84582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</a:rPr>
              <a:t>Qualidade de Software com SW-CM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ceitos, Aplicação e Impla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895480" y="2057400"/>
          <a:ext cx="335304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33530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435120" y="563868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ff"/>
                </a:solidFill>
                <a:latin typeface="Times New Roman"/>
              </a:rPr>
              <a:t>Arthur Maria do Va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arthur@isdbrasil.com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0"/>
            <a:ext cx="9142560" cy="76320"/>
            <a:chOff x="0" y="0"/>
            <a:chExt cx="9142560" cy="76320"/>
          </a:xfrm>
        </p:grpSpPr>
        <p:sp>
          <p:nvSpPr>
            <p:cNvPr id="70" name=""/>
            <p:cNvSpPr/>
            <p:nvPr/>
          </p:nvSpPr>
          <p:spPr>
            <a:xfrm>
              <a:off x="0" y="76320"/>
              <a:ext cx="914256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91425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9067680" y="0"/>
            <a:ext cx="76320" cy="6858000"/>
            <a:chOff x="9067680" y="0"/>
            <a:chExt cx="76320" cy="6858000"/>
          </a:xfrm>
        </p:grpSpPr>
        <p:sp>
          <p:nvSpPr>
            <p:cNvPr id="73" name=""/>
            <p:cNvSpPr/>
            <p:nvPr/>
          </p:nvSpPr>
          <p:spPr>
            <a:xfrm>
              <a:off x="9067680" y="0"/>
              <a:ext cx="0" cy="685800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0" y="0"/>
            <a:ext cx="76320" cy="6858000"/>
            <a:chOff x="0" y="0"/>
            <a:chExt cx="76320" cy="6858000"/>
          </a:xfrm>
        </p:grpSpPr>
        <p:sp>
          <p:nvSpPr>
            <p:cNvPr id="76" name=""/>
            <p:cNvSpPr/>
            <p:nvPr/>
          </p:nvSpPr>
          <p:spPr>
            <a:xfrm>
              <a:off x="76320" y="0"/>
              <a:ext cx="0" cy="685800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440" y="6781680"/>
            <a:ext cx="9142560" cy="76320"/>
            <a:chOff x="1440" y="6781680"/>
            <a:chExt cx="9142560" cy="76320"/>
          </a:xfrm>
        </p:grpSpPr>
        <p:sp>
          <p:nvSpPr>
            <p:cNvPr id="79" name=""/>
            <p:cNvSpPr/>
            <p:nvPr/>
          </p:nvSpPr>
          <p:spPr>
            <a:xfrm>
              <a:off x="1440" y="6781680"/>
              <a:ext cx="914256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40" y="6858000"/>
              <a:ext cx="91425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988560" y="4465800"/>
            <a:ext cx="73497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rimeira consultoria internacional, atuando na América do Su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cada exclusivamente em qualidade de processos com ênf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CMM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 credenciais do SEI – Software Engineering Institut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45480" y="362124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www.isdbrasil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7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QM – Total Quality Manage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"/>
          <p:cNvSpPr/>
          <p:nvPr/>
        </p:nvSpPr>
        <p:spPr>
          <a:xfrm>
            <a:off x="1280520" y="5346720"/>
            <a:ext cx="677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Script"/>
              </a:rPr>
              <a:t>TQM aplica-se a todo o contexto do negóc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Script"/>
              </a:rPr>
              <a:t>O CMM aplica-se especificamente ao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0"/>
            <a:ext cx="7380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14ffb"/>
                </a:solidFill>
                <a:latin typeface="Century Schoolbook"/>
              </a:rPr>
              <a:t>Princípi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1557360"/>
            <a:ext cx="3886200" cy="37339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72280" y="1776240"/>
            <a:ext cx="16128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Q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75000" y="18874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31120" y="24336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284560" y="2940120"/>
            <a:ext cx="533160" cy="533160"/>
            <a:chOff x="2284560" y="2940120"/>
            <a:chExt cx="533160" cy="533160"/>
          </a:xfrm>
        </p:grpSpPr>
        <p:sp>
          <p:nvSpPr>
            <p:cNvPr id="117" name=""/>
            <p:cNvSpPr/>
            <p:nvPr/>
          </p:nvSpPr>
          <p:spPr>
            <a:xfrm>
              <a:off x="2284560" y="2940120"/>
              <a:ext cx="533160" cy="53316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49720" y="2977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159080" y="2922480"/>
            <a:ext cx="533520" cy="533520"/>
            <a:chOff x="4159080" y="2922480"/>
            <a:chExt cx="533520" cy="533520"/>
          </a:xfrm>
        </p:grpSpPr>
        <p:sp>
          <p:nvSpPr>
            <p:cNvPr id="120" name=""/>
            <p:cNvSpPr/>
            <p:nvPr/>
          </p:nvSpPr>
          <p:spPr>
            <a:xfrm>
              <a:off x="4159080" y="2922480"/>
              <a:ext cx="533520" cy="53352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24960" y="296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730600" y="3705120"/>
            <a:ext cx="1512720" cy="144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28320" y="371304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62280" y="4113360"/>
            <a:ext cx="1473120" cy="379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66960" y="4492800"/>
            <a:ext cx="1463760" cy="4190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505400" y="2125800"/>
            <a:ext cx="1798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696920" y="2444760"/>
            <a:ext cx="1605240" cy="65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284720" y="2460600"/>
            <a:ext cx="2185920" cy="118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34280" y="2490840"/>
            <a:ext cx="1295280" cy="1811160"/>
          </a:xfrm>
          <a:prstGeom prst="downArrow">
            <a:avLst>
              <a:gd name="adj1" fmla="val 62259"/>
              <a:gd name="adj2" fmla="val 3489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57960" y="4317840"/>
            <a:ext cx="1447920" cy="679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M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292280" y="4665240"/>
            <a:ext cx="205884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2573280" y="3240360"/>
            <a:ext cx="1851120" cy="1514160"/>
          </a:xfrm>
          <a:custGeom>
            <a:avLst/>
            <a:gdLst>
              <a:gd name="textAreaLeft" fmla="*/ 0 w 1851120"/>
              <a:gd name="textAreaRight" fmla="*/ 1851480 w 1851120"/>
              <a:gd name="textAreaTop" fmla="*/ 0 h 1514160"/>
              <a:gd name="textAreaBottom" fmla="*/ 1514520 h 151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85" y="0"/>
                </a:lnTo>
                <a:lnTo>
                  <a:pt x="21600" y="10800"/>
                </a:lnTo>
                <a:lnTo>
                  <a:pt x="14385" y="21600"/>
                </a:lnTo>
                <a:lnTo>
                  <a:pt x="0" y="216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243240" y="2935440"/>
            <a:ext cx="533520" cy="533160"/>
            <a:chOff x="3243240" y="2935440"/>
            <a:chExt cx="533520" cy="533160"/>
          </a:xfrm>
        </p:grpSpPr>
        <p:sp>
          <p:nvSpPr>
            <p:cNvPr id="134" name=""/>
            <p:cNvSpPr/>
            <p:nvPr/>
          </p:nvSpPr>
          <p:spPr>
            <a:xfrm>
              <a:off x="3243240" y="2935440"/>
              <a:ext cx="533520" cy="53316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09120" y="297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597800" y="5950080"/>
            <a:ext cx="124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  <a:hlinkClick r:id="rId1"/>
              </a:rPr>
              <a:t>Vol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812000" cy="8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Gerenciamento de Process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"/>
          <p:cNvSpPr/>
          <p:nvPr/>
        </p:nvSpPr>
        <p:spPr>
          <a:xfrm>
            <a:off x="277560" y="1557360"/>
            <a:ext cx="87242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ush Script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Brush Script MT"/>
              </a:rPr>
              <a:t>A qualidade de um sistema é governada pela qu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rush Script MT"/>
              </a:rPr>
              <a:t>do processo utilizado para desenvolvê-lo e mantê-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2421000"/>
            <a:ext cx="2644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ff"/>
                </a:solidFill>
                <a:latin typeface="Brush Script MT"/>
              </a:rPr>
              <a:t>Watts Humphr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0"/>
            <a:ext cx="7380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14ffb"/>
                </a:solidFill>
                <a:latin typeface="Century Schoolbook"/>
              </a:rPr>
              <a:t>Princípi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1047600"/>
            <a:ext cx="762948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entury Schoolbook"/>
              </a:rPr>
              <a:t>Definição de “Processo” em Softwa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31480" y="1803240"/>
            <a:ext cx="7592400" cy="4411080"/>
            <a:chOff x="1131480" y="1803240"/>
            <a:chExt cx="7592400" cy="4411080"/>
          </a:xfrm>
        </p:grpSpPr>
        <p:grpSp>
          <p:nvGrpSpPr>
            <p:cNvPr id="143" name=""/>
            <p:cNvGrpSpPr/>
            <p:nvPr/>
          </p:nvGrpSpPr>
          <p:grpSpPr>
            <a:xfrm>
              <a:off x="1131480" y="1803240"/>
              <a:ext cx="7592400" cy="2371680"/>
              <a:chOff x="1131480" y="1803240"/>
              <a:chExt cx="7592400" cy="2371680"/>
            </a:xfrm>
          </p:grpSpPr>
          <p:sp>
            <p:nvSpPr>
              <p:cNvPr id="144" name=""/>
              <p:cNvSpPr/>
              <p:nvPr/>
            </p:nvSpPr>
            <p:spPr>
              <a:xfrm>
                <a:off x="1131480" y="1803240"/>
                <a:ext cx="25632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2840" bIns="4284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36240" y="1803240"/>
                <a:ext cx="711756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2840" bIns="4284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Arial"/>
                  </a:rPr>
                  <a:t>IEEE - uma sequência de passos executados para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Arial"/>
                  </a:rPr>
                  <a:t>um determinado propósito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41280" y="2144880"/>
                <a:ext cx="13273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131480" y="2487600"/>
                <a:ext cx="25632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2840" bIns="4284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31480" y="2828880"/>
                <a:ext cx="25632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2840" bIns="4284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37680" y="2828880"/>
                <a:ext cx="748620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2840" bIns="4284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Arial"/>
                  </a:rPr>
                  <a:t>CMM - um conjunto de atividades, métodos, prática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Arial"/>
                  </a:rPr>
                  <a:t>e transformações que as pessoas utilizam para 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Arial"/>
                  </a:rPr>
                  <a:t>desenvolver e manter o software e seus produtos 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Arial"/>
                  </a:rPr>
                  <a:t>associado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41280" y="3171960"/>
                <a:ext cx="6845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41280" y="3514680"/>
                <a:ext cx="669924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645000" y="4686480"/>
              <a:ext cx="1325520" cy="14634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27400" y="5195880"/>
              <a:ext cx="212760" cy="257040"/>
            </a:xfrm>
            <a:custGeom>
              <a:avLst/>
              <a:gdLst>
                <a:gd name="textAreaLeft" fmla="*/ 7560 w 212760"/>
                <a:gd name="textAreaRight" fmla="*/ 205200 w 212760"/>
                <a:gd name="textAreaTop" fmla="*/ 7560 h 257040"/>
                <a:gd name="textAreaBottom" fmla="*/ 249480 h 257040"/>
              </a:gdLst>
              <a:ahLst/>
              <a:rect l="textAreaLeft" t="textAreaTop" r="textAreaRight" b="textAreaBottom"/>
              <a:pathLst>
                <a:path w="21600" h="26088">
                  <a:moveTo>
                    <a:pt x="2699" y="0"/>
                  </a:moveTo>
                  <a:arcTo wR="2699" hR="2699" stAng="16200000" swAng="-5400000"/>
                  <a:lnTo>
                    <a:pt x="0" y="23389"/>
                  </a:lnTo>
                  <a:arcTo wR="2699" hR="2699" stAng="10800000" swAng="-5400000"/>
                  <a:lnTo>
                    <a:pt x="18901" y="26088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90760" y="5089680"/>
              <a:ext cx="85680" cy="85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0240" y="5452920"/>
              <a:ext cx="4140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4480" y="5452920"/>
              <a:ext cx="4284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51160" y="4614840"/>
              <a:ext cx="204840" cy="206280"/>
            </a:xfrm>
            <a:prstGeom prst="ellipse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1000" y="5608800"/>
              <a:ext cx="206280" cy="204480"/>
            </a:xfrm>
            <a:prstGeom prst="ellipse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078880" y="4292640"/>
              <a:ext cx="2501280" cy="660600"/>
              <a:chOff x="5078880" y="4292640"/>
              <a:chExt cx="2501280" cy="660600"/>
            </a:xfrm>
          </p:grpSpPr>
          <p:sp>
            <p:nvSpPr>
              <p:cNvPr id="160" name=""/>
              <p:cNvSpPr/>
              <p:nvPr/>
            </p:nvSpPr>
            <p:spPr>
              <a:xfrm>
                <a:off x="5078880" y="4292640"/>
                <a:ext cx="250128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2840" bIns="4284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cedimentos e Méto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finindo o relacionamen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tre taref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06960" y="4467240"/>
                <a:ext cx="1649520" cy="22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00520" y="4602240"/>
                <a:ext cx="2106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2840" bIns="4284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074920" y="5745240"/>
              <a:ext cx="1439280" cy="469080"/>
              <a:chOff x="5074920" y="5745240"/>
              <a:chExt cx="1439280" cy="469080"/>
            </a:xfrm>
          </p:grpSpPr>
          <p:sp>
            <p:nvSpPr>
              <p:cNvPr id="164" name=""/>
              <p:cNvSpPr/>
              <p:nvPr/>
            </p:nvSpPr>
            <p:spPr>
              <a:xfrm>
                <a:off x="5113080" y="5745240"/>
                <a:ext cx="1401120" cy="46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2840" bIns="4284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erramentas 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quipamen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74920" y="5921280"/>
                <a:ext cx="2106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2840" bIns="4284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33400" y="5254560"/>
              <a:ext cx="936720" cy="623880"/>
              <a:chOff x="1733400" y="5254560"/>
              <a:chExt cx="936720" cy="623880"/>
            </a:xfrm>
          </p:grpSpPr>
          <p:sp>
            <p:nvSpPr>
              <p:cNvPr id="167" name=""/>
              <p:cNvSpPr/>
              <p:nvPr/>
            </p:nvSpPr>
            <p:spPr>
              <a:xfrm>
                <a:off x="1909800" y="5254560"/>
                <a:ext cx="690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76240" y="5389560"/>
                <a:ext cx="852840" cy="22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33400" y="5522760"/>
                <a:ext cx="936720" cy="22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93880" y="5656320"/>
                <a:ext cx="816120" cy="22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3752280" y="5307120"/>
              <a:ext cx="11844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119560" y="5264280"/>
              <a:ext cx="15840" cy="314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59440" y="5208480"/>
              <a:ext cx="144360" cy="54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211720" y="5184720"/>
              <a:ext cx="23760" cy="1000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35520" y="5643720"/>
              <a:ext cx="206280" cy="204480"/>
            </a:xfrm>
            <a:prstGeom prst="ellipse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15040" y="5194440"/>
              <a:ext cx="9360" cy="309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94160" y="5430960"/>
              <a:ext cx="52560" cy="152280"/>
            </a:xfrm>
            <a:custGeom>
              <a:avLst/>
              <a:gdLst>
                <a:gd name="textAreaLeft" fmla="*/ 1440 w 52560"/>
                <a:gd name="textAreaRight" fmla="*/ 51120 w 52560"/>
                <a:gd name="textAreaTop" fmla="*/ 1440 h 152280"/>
                <a:gd name="textAreaBottom" fmla="*/ 150840 h 152280"/>
              </a:gdLst>
              <a:ahLst/>
              <a:rect l="textAreaLeft" t="textAreaTop" r="textAreaRight" b="textAreaBottom"/>
              <a:pathLst>
                <a:path w="21600" h="62302">
                  <a:moveTo>
                    <a:pt x="2477" y="0"/>
                  </a:moveTo>
                  <a:arcTo wR="2477" hR="2477" stAng="16200000" swAng="-5400000"/>
                  <a:lnTo>
                    <a:pt x="0" y="59825"/>
                  </a:lnTo>
                  <a:arcTo wR="2477" hR="2477" stAng="10800000" swAng="-5400000"/>
                  <a:lnTo>
                    <a:pt x="19123" y="62302"/>
                  </a:lnTo>
                  <a:arcTo wR="2477" hR="2477" stAng="5400000" swAng="-5400000"/>
                  <a:lnTo>
                    <a:pt x="21600" y="2477"/>
                  </a:lnTo>
                  <a:arcTo wR="2477" hR="2477" stAng="0" swAng="-5400000"/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00640" y="5608800"/>
              <a:ext cx="39600" cy="28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324400" y="513216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0360" y="5195880"/>
              <a:ext cx="214200" cy="257040"/>
            </a:xfrm>
            <a:custGeom>
              <a:avLst/>
              <a:gdLst>
                <a:gd name="textAreaLeft" fmla="*/ 7560 w 214200"/>
                <a:gd name="textAreaRight" fmla="*/ 206640 w 214200"/>
                <a:gd name="textAreaTop" fmla="*/ 7560 h 257040"/>
                <a:gd name="textAreaBottom" fmla="*/ 249480 h 257040"/>
              </a:gdLst>
              <a:ahLst/>
              <a:rect l="textAreaLeft" t="textAreaTop" r="textAreaRight" b="textAreaBottom"/>
              <a:pathLst>
                <a:path w="21600" h="25913">
                  <a:moveTo>
                    <a:pt x="2699" y="0"/>
                  </a:moveTo>
                  <a:arcTo wR="2699" hR="2699" stAng="16200000" swAng="-5400000"/>
                  <a:lnTo>
                    <a:pt x="0" y="23214"/>
                  </a:lnTo>
                  <a:arcTo wR="2699" hR="2699" stAng="10800000" swAng="-5400000"/>
                  <a:lnTo>
                    <a:pt x="18901" y="2591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33720" y="5089680"/>
              <a:ext cx="85680" cy="85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13200" y="5452920"/>
              <a:ext cx="4284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7080" y="5452920"/>
              <a:ext cx="4284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12960" y="5195880"/>
              <a:ext cx="214560" cy="257040"/>
            </a:xfrm>
            <a:custGeom>
              <a:avLst/>
              <a:gdLst>
                <a:gd name="textAreaLeft" fmla="*/ 7560 w 214560"/>
                <a:gd name="textAreaRight" fmla="*/ 207000 w 214560"/>
                <a:gd name="textAreaTop" fmla="*/ 7560 h 257040"/>
                <a:gd name="textAreaBottom" fmla="*/ 249480 h 257040"/>
              </a:gdLst>
              <a:ahLst/>
              <a:rect l="textAreaLeft" t="textAreaTop" r="textAreaRight" b="textAreaBottom"/>
              <a:pathLst>
                <a:path w="21600" h="25869">
                  <a:moveTo>
                    <a:pt x="2699" y="0"/>
                  </a:moveTo>
                  <a:arcTo wR="2699" hR="2699" stAng="16200000" swAng="-5400000"/>
                  <a:lnTo>
                    <a:pt x="0" y="23170"/>
                  </a:lnTo>
                  <a:arcTo wR="2699" hR="2699" stAng="10800000" swAng="-5400000"/>
                  <a:lnTo>
                    <a:pt x="18901" y="25869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76680" y="5089680"/>
              <a:ext cx="85680" cy="85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55800" y="5452920"/>
              <a:ext cx="4284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41480" y="5452920"/>
              <a:ext cx="4140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462640" y="5264280"/>
              <a:ext cx="14400" cy="314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00720" y="5208480"/>
              <a:ext cx="146160" cy="54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555520" y="5184720"/>
              <a:ext cx="20520" cy="1000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7760" y="5194440"/>
              <a:ext cx="9720" cy="309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35800" y="5430960"/>
              <a:ext cx="53640" cy="152280"/>
            </a:xfrm>
            <a:custGeom>
              <a:avLst/>
              <a:gdLst>
                <a:gd name="textAreaLeft" fmla="*/ 1800 w 53640"/>
                <a:gd name="textAreaRight" fmla="*/ 51840 w 53640"/>
                <a:gd name="textAreaTop" fmla="*/ 1800 h 152280"/>
                <a:gd name="textAreaBottom" fmla="*/ 150480 h 152280"/>
              </a:gdLst>
              <a:ahLst/>
              <a:rect l="textAreaLeft" t="textAreaTop" r="textAreaRight" b="textAreaBottom"/>
              <a:pathLst>
                <a:path w="21600" h="61056">
                  <a:moveTo>
                    <a:pt x="2477" y="0"/>
                  </a:moveTo>
                  <a:arcTo wR="2477" hR="2477" stAng="16200000" swAng="-5400000"/>
                  <a:lnTo>
                    <a:pt x="0" y="58579"/>
                  </a:lnTo>
                  <a:arcTo wR="2477" hR="2477" stAng="10800000" swAng="-5400000"/>
                  <a:lnTo>
                    <a:pt x="19123" y="61056"/>
                  </a:lnTo>
                  <a:arcTo wR="2477" hR="2477" stAng="5400000" swAng="-5400000"/>
                  <a:lnTo>
                    <a:pt x="21600" y="2477"/>
                  </a:lnTo>
                  <a:arcTo wR="2477" hR="2477" stAng="0" swAng="-5400000"/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43720" y="5608800"/>
              <a:ext cx="37800" cy="28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665680" y="513216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03240" y="4087800"/>
              <a:ext cx="2944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22360" y="3924360"/>
              <a:ext cx="2944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15880" y="4245120"/>
              <a:ext cx="2944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373640" y="4038480"/>
              <a:ext cx="387360" cy="122400"/>
              <a:chOff x="4373640" y="4038480"/>
              <a:chExt cx="387360" cy="122400"/>
            </a:xfrm>
          </p:grpSpPr>
          <p:sp>
            <p:nvSpPr>
              <p:cNvPr id="199" name=""/>
              <p:cNvSpPr/>
              <p:nvPr/>
            </p:nvSpPr>
            <p:spPr>
              <a:xfrm>
                <a:off x="4373640" y="4060800"/>
                <a:ext cx="387360" cy="8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37080" y="4038480"/>
                <a:ext cx="223920" cy="122400"/>
              </a:xfrm>
              <a:custGeom>
                <a:avLst/>
                <a:gdLst/>
                <a:ahLst/>
                <a:rect l="l" t="t" r="r" b="b"/>
                <a:pathLst>
                  <a:path w="141" h="77">
                    <a:moveTo>
                      <a:pt x="140" y="67"/>
                    </a:moveTo>
                    <a:lnTo>
                      <a:pt x="17" y="0"/>
                    </a:lnTo>
                    <a:lnTo>
                      <a:pt x="0" y="76"/>
                    </a:lnTo>
                    <a:lnTo>
                      <a:pt x="140" y="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37080" y="4038480"/>
                <a:ext cx="212760" cy="112680"/>
              </a:xfrm>
              <a:custGeom>
                <a:avLst/>
                <a:gdLst/>
                <a:ahLst/>
                <a:rect l="l" t="t" r="r" b="b"/>
                <a:pathLst>
                  <a:path w="134" h="71">
                    <a:moveTo>
                      <a:pt x="133" y="61"/>
                    </a:moveTo>
                    <a:lnTo>
                      <a:pt x="16" y="0"/>
                    </a:lnTo>
                    <a:lnTo>
                      <a:pt x="0" y="70"/>
                    </a:lnTo>
                    <a:lnTo>
                      <a:pt x="133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17800" y="4051440"/>
              <a:ext cx="344520" cy="122040"/>
              <a:chOff x="3817800" y="4051440"/>
              <a:chExt cx="344520" cy="122040"/>
            </a:xfrm>
          </p:grpSpPr>
          <p:sp>
            <p:nvSpPr>
              <p:cNvPr id="203" name=""/>
              <p:cNvSpPr/>
              <p:nvPr/>
            </p:nvSpPr>
            <p:spPr>
              <a:xfrm flipV="1">
                <a:off x="3817800" y="4060800"/>
                <a:ext cx="344520" cy="8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38760" y="4051440"/>
                <a:ext cx="223560" cy="122040"/>
              </a:xfrm>
              <a:custGeom>
                <a:avLst/>
                <a:gdLst/>
                <a:ahLst/>
                <a:rect l="l" t="t" r="r" b="b"/>
                <a:pathLst>
                  <a:path w="141" h="77">
                    <a:moveTo>
                      <a:pt x="140" y="6"/>
                    </a:moveTo>
                    <a:lnTo>
                      <a:pt x="0" y="0"/>
                    </a:lnTo>
                    <a:lnTo>
                      <a:pt x="19" y="76"/>
                    </a:lnTo>
                    <a:lnTo>
                      <a:pt x="14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38760" y="4051440"/>
                <a:ext cx="212400" cy="11088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33" y="5"/>
                    </a:moveTo>
                    <a:lnTo>
                      <a:pt x="0" y="0"/>
                    </a:lnTo>
                    <a:lnTo>
                      <a:pt x="18" y="69"/>
                    </a:lnTo>
                    <a:lnTo>
                      <a:pt x="13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4673160" y="4087800"/>
              <a:ext cx="2944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817800" y="4248000"/>
              <a:ext cx="344520" cy="122400"/>
              <a:chOff x="3817800" y="4248000"/>
              <a:chExt cx="344520" cy="122400"/>
            </a:xfrm>
          </p:grpSpPr>
          <p:sp>
            <p:nvSpPr>
              <p:cNvPr id="208" name=""/>
              <p:cNvSpPr/>
              <p:nvPr/>
            </p:nvSpPr>
            <p:spPr>
              <a:xfrm>
                <a:off x="3817800" y="4275000"/>
                <a:ext cx="344520" cy="8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38760" y="4248000"/>
                <a:ext cx="223560" cy="122400"/>
              </a:xfrm>
              <a:custGeom>
                <a:avLst/>
                <a:gdLst/>
                <a:ahLst/>
                <a:rect l="l" t="t" r="r" b="b"/>
                <a:pathLst>
                  <a:path w="141" h="77">
                    <a:moveTo>
                      <a:pt x="140" y="70"/>
                    </a:moveTo>
                    <a:lnTo>
                      <a:pt x="19" y="0"/>
                    </a:lnTo>
                    <a:lnTo>
                      <a:pt x="0" y="76"/>
                    </a:lnTo>
                    <a:lnTo>
                      <a:pt x="140" y="7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38760" y="4248000"/>
                <a:ext cx="212400" cy="11124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33" y="64"/>
                    </a:moveTo>
                    <a:lnTo>
                      <a:pt x="18" y="0"/>
                    </a:lnTo>
                    <a:lnTo>
                      <a:pt x="0" y="69"/>
                    </a:lnTo>
                    <a:lnTo>
                      <a:pt x="133" y="6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332240" y="4259160"/>
              <a:ext cx="385920" cy="122400"/>
              <a:chOff x="4332240" y="4259160"/>
              <a:chExt cx="385920" cy="122400"/>
            </a:xfrm>
          </p:grpSpPr>
          <p:sp>
            <p:nvSpPr>
              <p:cNvPr id="212" name=""/>
              <p:cNvSpPr/>
              <p:nvPr/>
            </p:nvSpPr>
            <p:spPr>
              <a:xfrm flipV="1">
                <a:off x="4332240" y="4274640"/>
                <a:ext cx="385920" cy="8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94240" y="4259160"/>
                <a:ext cx="223920" cy="122400"/>
              </a:xfrm>
              <a:custGeom>
                <a:avLst/>
                <a:gdLst/>
                <a:ahLst/>
                <a:rect l="l" t="t" r="r" b="b"/>
                <a:pathLst>
                  <a:path w="141" h="77">
                    <a:moveTo>
                      <a:pt x="140" y="9"/>
                    </a:moveTo>
                    <a:lnTo>
                      <a:pt x="0" y="0"/>
                    </a:lnTo>
                    <a:lnTo>
                      <a:pt x="17" y="76"/>
                    </a:lnTo>
                    <a:lnTo>
                      <a:pt x="140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494240" y="4259160"/>
                <a:ext cx="212760" cy="112680"/>
              </a:xfrm>
              <a:custGeom>
                <a:avLst/>
                <a:gdLst/>
                <a:ahLst/>
                <a:rect l="l" t="t" r="r" b="b"/>
                <a:pathLst>
                  <a:path w="134" h="71">
                    <a:moveTo>
                      <a:pt x="133" y="9"/>
                    </a:moveTo>
                    <a:lnTo>
                      <a:pt x="0" y="0"/>
                    </a:lnTo>
                    <a:lnTo>
                      <a:pt x="16" y="70"/>
                    </a:lnTo>
                    <a:lnTo>
                      <a:pt x="133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3733920" y="4317840"/>
              <a:ext cx="0" cy="2066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3920" y="4532400"/>
              <a:ext cx="512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4191120" y="4083120"/>
              <a:ext cx="125280" cy="214200"/>
              <a:chOff x="4191120" y="4083120"/>
              <a:chExt cx="125280" cy="214200"/>
            </a:xfrm>
          </p:grpSpPr>
          <p:sp>
            <p:nvSpPr>
              <p:cNvPr id="218" name=""/>
              <p:cNvSpPr/>
              <p:nvPr/>
            </p:nvSpPr>
            <p:spPr>
              <a:xfrm>
                <a:off x="4254480" y="4125960"/>
                <a:ext cx="0" cy="17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191120" y="4083120"/>
                <a:ext cx="125280" cy="214200"/>
              </a:xfrm>
              <a:custGeom>
                <a:avLst/>
                <a:gdLst/>
                <a:ahLst/>
                <a:rect l="l" t="t" r="r" b="b"/>
                <a:pathLst>
                  <a:path w="79" h="135">
                    <a:moveTo>
                      <a:pt x="39" y="134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39" y="1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191120" y="4083120"/>
                <a:ext cx="114120" cy="203040"/>
              </a:xfrm>
              <a:custGeom>
                <a:avLst/>
                <a:gdLst/>
                <a:ahLst/>
                <a:rect l="l" t="t" r="r" b="b"/>
                <a:pathLst>
                  <a:path w="72" h="128">
                    <a:moveTo>
                      <a:pt x="36" y="127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36" y="1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3672000" y="4274640"/>
              <a:ext cx="123840" cy="216360"/>
              <a:chOff x="3672000" y="4274640"/>
              <a:chExt cx="123840" cy="216360"/>
            </a:xfrm>
          </p:grpSpPr>
          <p:sp>
            <p:nvSpPr>
              <p:cNvPr id="222" name=""/>
              <p:cNvSpPr/>
              <p:nvPr/>
            </p:nvSpPr>
            <p:spPr>
              <a:xfrm flipV="1">
                <a:off x="3733920" y="4274640"/>
                <a:ext cx="0" cy="42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72000" y="4275000"/>
                <a:ext cx="123840" cy="21600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39" y="0"/>
                    </a:moveTo>
                    <a:lnTo>
                      <a:pt x="0" y="135"/>
                    </a:lnTo>
                    <a:lnTo>
                      <a:pt x="77" y="135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72000" y="4275000"/>
                <a:ext cx="114120" cy="204840"/>
              </a:xfrm>
              <a:custGeom>
                <a:avLst/>
                <a:gdLst/>
                <a:ahLst/>
                <a:rect l="l" t="t" r="r" b="b"/>
                <a:pathLst>
                  <a:path w="72" h="129">
                    <a:moveTo>
                      <a:pt x="36" y="0"/>
                    </a:moveTo>
                    <a:lnTo>
                      <a:pt x="0" y="128"/>
                    </a:lnTo>
                    <a:lnTo>
                      <a:pt x="71" y="128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4254480" y="4446720"/>
              <a:ext cx="0" cy="712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6560" y="4532400"/>
              <a:ext cx="5554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2040" y="4297320"/>
              <a:ext cx="0" cy="235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81600" y="4218120"/>
              <a:ext cx="271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4964040" y="4159080"/>
              <a:ext cx="217440" cy="125640"/>
              <a:chOff x="4964040" y="4159080"/>
              <a:chExt cx="217440" cy="125640"/>
            </a:xfrm>
          </p:grpSpPr>
          <p:sp>
            <p:nvSpPr>
              <p:cNvPr id="230" name=""/>
              <p:cNvSpPr/>
              <p:nvPr/>
            </p:nvSpPr>
            <p:spPr>
              <a:xfrm flipV="1">
                <a:off x="5051520" y="4210200"/>
                <a:ext cx="129960" cy="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64040" y="4159080"/>
                <a:ext cx="217440" cy="12564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6" y="32"/>
                    </a:moveTo>
                    <a:lnTo>
                      <a:pt x="0" y="0"/>
                    </a:lnTo>
                    <a:lnTo>
                      <a:pt x="4" y="78"/>
                    </a:lnTo>
                    <a:lnTo>
                      <a:pt x="136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64040" y="4159080"/>
                <a:ext cx="206280" cy="115920"/>
              </a:xfrm>
              <a:custGeom>
                <a:avLst/>
                <a:gdLst/>
                <a:ahLst/>
                <a:rect l="l" t="t" r="r" b="b"/>
                <a:pathLst>
                  <a:path w="130" h="73">
                    <a:moveTo>
                      <a:pt x="129" y="29"/>
                    </a:moveTo>
                    <a:lnTo>
                      <a:pt x="0" y="0"/>
                    </a:lnTo>
                    <a:lnTo>
                      <a:pt x="4" y="72"/>
                    </a:lnTo>
                    <a:lnTo>
                      <a:pt x="129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014720" y="4668840"/>
              <a:ext cx="128520" cy="195120"/>
              <a:chOff x="4014720" y="4668840"/>
              <a:chExt cx="128520" cy="195120"/>
            </a:xfrm>
          </p:grpSpPr>
          <p:sp>
            <p:nvSpPr>
              <p:cNvPr id="234" name=""/>
              <p:cNvSpPr/>
              <p:nvPr/>
            </p:nvSpPr>
            <p:spPr>
              <a:xfrm>
                <a:off x="4021200" y="467532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74" h="115">
                    <a:moveTo>
                      <a:pt x="0" y="0"/>
                    </a:moveTo>
                    <a:lnTo>
                      <a:pt x="73" y="39"/>
                    </a:lnTo>
                    <a:lnTo>
                      <a:pt x="37" y="1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14720" y="4668840"/>
                <a:ext cx="128520" cy="195120"/>
              </a:xfrm>
              <a:custGeom>
                <a:avLst/>
                <a:gdLst/>
                <a:ahLst/>
                <a:rect l="l" t="t" r="r" b="b"/>
                <a:pathLst>
                  <a:path w="81" h="123">
                    <a:moveTo>
                      <a:pt x="0" y="0"/>
                    </a:moveTo>
                    <a:lnTo>
                      <a:pt x="80" y="41"/>
                    </a:lnTo>
                    <a:lnTo>
                      <a:pt x="40" y="12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894200" y="5492880"/>
              <a:ext cx="195480" cy="131760"/>
              <a:chOff x="4894200" y="5492880"/>
              <a:chExt cx="195480" cy="131760"/>
            </a:xfrm>
          </p:grpSpPr>
          <p:sp>
            <p:nvSpPr>
              <p:cNvPr id="237" name=""/>
              <p:cNvSpPr/>
              <p:nvPr/>
            </p:nvSpPr>
            <p:spPr>
              <a:xfrm>
                <a:off x="4900680" y="5499000"/>
                <a:ext cx="182520" cy="119160"/>
              </a:xfrm>
              <a:custGeom>
                <a:avLst/>
                <a:gdLst/>
                <a:ahLst/>
                <a:rect l="l" t="t" r="r" b="b"/>
                <a:pathLst>
                  <a:path w="115" h="75">
                    <a:moveTo>
                      <a:pt x="38" y="74"/>
                    </a:moveTo>
                    <a:lnTo>
                      <a:pt x="114" y="37"/>
                    </a:lnTo>
                    <a:lnTo>
                      <a:pt x="0" y="0"/>
                    </a:lnTo>
                    <a:lnTo>
                      <a:pt x="38" y="7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94200" y="5492880"/>
                <a:ext cx="195480" cy="131760"/>
              </a:xfrm>
              <a:custGeom>
                <a:avLst/>
                <a:gdLst/>
                <a:ahLst/>
                <a:rect l="l" t="t" r="r" b="b"/>
                <a:pathLst>
                  <a:path w="123" h="83">
                    <a:moveTo>
                      <a:pt x="40" y="82"/>
                    </a:moveTo>
                    <a:lnTo>
                      <a:pt x="122" y="41"/>
                    </a:lnTo>
                    <a:lnTo>
                      <a:pt x="0" y="0"/>
                    </a:lnTo>
                    <a:lnTo>
                      <a:pt x="4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747960" y="5845320"/>
              <a:ext cx="131760" cy="129960"/>
              <a:chOff x="3747960" y="5845320"/>
              <a:chExt cx="131760" cy="129960"/>
            </a:xfrm>
          </p:grpSpPr>
          <p:sp>
            <p:nvSpPr>
              <p:cNvPr id="240" name=""/>
              <p:cNvSpPr/>
              <p:nvPr/>
            </p:nvSpPr>
            <p:spPr>
              <a:xfrm>
                <a:off x="3754440" y="585000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0" y="0"/>
                    </a:moveTo>
                    <a:lnTo>
                      <a:pt x="74" y="25"/>
                    </a:lnTo>
                    <a:lnTo>
                      <a:pt x="0" y="74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47960" y="584532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0"/>
                    </a:moveTo>
                    <a:lnTo>
                      <a:pt x="82" y="27"/>
                    </a:lnTo>
                    <a:lnTo>
                      <a:pt x="0" y="81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" name=""/>
          <p:cNvSpPr/>
          <p:nvPr/>
        </p:nvSpPr>
        <p:spPr>
          <a:xfrm>
            <a:off x="1354680" y="5295960"/>
            <a:ext cx="1323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ssoas 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bilidad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ina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Motiv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63640" y="0"/>
            <a:ext cx="7380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14ffb"/>
                </a:solidFill>
                <a:latin typeface="Century Schoolbook"/>
              </a:rPr>
              <a:t>Princípi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fffff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ff"/>
                </a:solidFill>
                <a:latin typeface="Century Schoolbook"/>
              </a:rPr>
              <a:t>Capability Maturity Model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odelo de Maturidade da Capacidad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009800" y="838080"/>
            <a:ext cx="7448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ff"/>
                </a:solidFill>
                <a:latin typeface="Century Schoolbook"/>
              </a:rPr>
              <a:t>Capability Matur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9200" y="4684680"/>
            <a:ext cx="11829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65800" y="3719520"/>
            <a:ext cx="885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81440" y="3909960"/>
            <a:ext cx="401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04320" y="2944800"/>
            <a:ext cx="235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59280" y="1828800"/>
            <a:ext cx="1152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87600" y="4113360"/>
            <a:ext cx="866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80000" y="2868480"/>
            <a:ext cx="866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2480" y="2127240"/>
            <a:ext cx="811548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que é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a aplicação do senso comum em gerenciamento de processo e conceitos de melhoria da qualidade ao desenvolvimento e manutenção de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 guia desenvolvido pela com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 modelo para a melhoria organiz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09800" y="838080"/>
            <a:ext cx="7448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ff"/>
                </a:solidFill>
                <a:latin typeface="Century Schoolbook"/>
              </a:rPr>
              <a:t>Capability Matur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22720" y="5546880"/>
            <a:ext cx="698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48000" y="5737320"/>
            <a:ext cx="401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9200" y="4684680"/>
            <a:ext cx="11829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6760" y="4873680"/>
            <a:ext cx="235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65800" y="3719520"/>
            <a:ext cx="885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1440" y="3909960"/>
            <a:ext cx="401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04320" y="2944800"/>
            <a:ext cx="235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2280" y="5699160"/>
            <a:ext cx="2158920" cy="542880"/>
          </a:xfrm>
          <a:prstGeom prst="roundRect">
            <a:avLst>
              <a:gd name="adj" fmla="val 1555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59280" y="1828800"/>
            <a:ext cx="1152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8440" y="5394240"/>
            <a:ext cx="766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87600" y="4113360"/>
            <a:ext cx="866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2868480"/>
            <a:ext cx="866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65440" y="5691240"/>
            <a:ext cx="3814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mprevisível e Insatisfatoriamente contro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59436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03480" y="5732640"/>
            <a:ext cx="108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1160" y="5778360"/>
            <a:ext cx="1171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(1) Inic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333360" y="1166760"/>
            <a:ext cx="8354880" cy="1197000"/>
            <a:chOff x="333360" y="1166760"/>
            <a:chExt cx="8354880" cy="1197000"/>
          </a:xfrm>
        </p:grpSpPr>
        <p:sp>
          <p:nvSpPr>
            <p:cNvPr id="275" name=""/>
            <p:cNvSpPr/>
            <p:nvPr/>
          </p:nvSpPr>
          <p:spPr>
            <a:xfrm>
              <a:off x="336600" y="1176480"/>
              <a:ext cx="8343720" cy="36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6520" y="117144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82120" y="117144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3360" y="116676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3360" y="2362320"/>
              <a:ext cx="8354880" cy="1440"/>
            </a:xfrm>
            <a:custGeom>
              <a:avLst/>
              <a:gdLst/>
              <a:ahLst/>
              <a:rect l="l" t="t" r="r" b="b"/>
              <a:pathLst>
                <a:path w="5263" h="1">
                  <a:moveTo>
                    <a:pt x="0" y="0"/>
                  </a:moveTo>
                  <a:lnTo>
                    <a:pt x="526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20280" y="1200240"/>
            <a:ext cx="7610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N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93920" y="1185840"/>
            <a:ext cx="43498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Características do  Gerenci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360" y="6515280"/>
            <a:ext cx="6925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</a:rPr>
              <a:t>Fonte - The Capability Maturity Model - Guidelines for improving the Software Process - CMU/S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1628640"/>
            <a:ext cx="277920" cy="438120"/>
          </a:xfrm>
          <a:custGeom>
            <a:avLst/>
            <a:gdLst/>
            <a:ahLst/>
            <a:rect l="l" t="t" r="r" b="b"/>
            <a:pathLst>
              <a:path w="175" h="361">
                <a:moveTo>
                  <a:pt x="0" y="360"/>
                </a:moveTo>
                <a:lnTo>
                  <a:pt x="174" y="360"/>
                </a:lnTo>
                <a:lnTo>
                  <a:pt x="174" y="335"/>
                </a:lnTo>
                <a:lnTo>
                  <a:pt x="144" y="335"/>
                </a:lnTo>
                <a:lnTo>
                  <a:pt x="121" y="327"/>
                </a:lnTo>
                <a:lnTo>
                  <a:pt x="113" y="319"/>
                </a:lnTo>
                <a:lnTo>
                  <a:pt x="113" y="310"/>
                </a:lnTo>
                <a:lnTo>
                  <a:pt x="113" y="0"/>
                </a:lnTo>
                <a:lnTo>
                  <a:pt x="99" y="0"/>
                </a:lnTo>
                <a:lnTo>
                  <a:pt x="75" y="0"/>
                </a:lnTo>
                <a:lnTo>
                  <a:pt x="45" y="8"/>
                </a:lnTo>
                <a:lnTo>
                  <a:pt x="23" y="17"/>
                </a:lnTo>
                <a:lnTo>
                  <a:pt x="0" y="17"/>
                </a:lnTo>
                <a:lnTo>
                  <a:pt x="0" y="25"/>
                </a:lnTo>
                <a:lnTo>
                  <a:pt x="8" y="25"/>
                </a:lnTo>
                <a:lnTo>
                  <a:pt x="15" y="25"/>
                </a:lnTo>
                <a:lnTo>
                  <a:pt x="38" y="33"/>
                </a:lnTo>
                <a:lnTo>
                  <a:pt x="53" y="41"/>
                </a:lnTo>
                <a:lnTo>
                  <a:pt x="61" y="50"/>
                </a:lnTo>
                <a:lnTo>
                  <a:pt x="61" y="75"/>
                </a:lnTo>
                <a:lnTo>
                  <a:pt x="61" y="310"/>
                </a:lnTo>
                <a:lnTo>
                  <a:pt x="61" y="319"/>
                </a:lnTo>
                <a:lnTo>
                  <a:pt x="45" y="327"/>
                </a:lnTo>
                <a:lnTo>
                  <a:pt x="31" y="335"/>
                </a:lnTo>
                <a:lnTo>
                  <a:pt x="0" y="335"/>
                </a:lnTo>
                <a:lnTo>
                  <a:pt x="0" y="36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5280" y="1989000"/>
            <a:ext cx="8694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60680" y="1768320"/>
            <a:ext cx="6568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 gerenciamento de Software é uma caixa pre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84360" y="1954080"/>
            <a:ext cx="13780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26760" y="2732040"/>
            <a:ext cx="7913160" cy="768240"/>
            <a:chOff x="626760" y="2732040"/>
            <a:chExt cx="7913160" cy="768240"/>
          </a:xfrm>
        </p:grpSpPr>
        <p:sp>
          <p:nvSpPr>
            <p:cNvPr id="288" name=""/>
            <p:cNvSpPr/>
            <p:nvPr/>
          </p:nvSpPr>
          <p:spPr>
            <a:xfrm>
              <a:off x="8071560" y="2995200"/>
              <a:ext cx="46836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66800" y="2732040"/>
              <a:ext cx="5707080" cy="768240"/>
            </a:xfrm>
            <a:custGeom>
              <a:avLst/>
              <a:gdLst/>
              <a:ahLst/>
              <a:rect l="l" t="t" r="r" b="b"/>
              <a:pathLst>
                <a:path w="3595" h="484">
                  <a:moveTo>
                    <a:pt x="0" y="172"/>
                  </a:moveTo>
                  <a:lnTo>
                    <a:pt x="0" y="190"/>
                  </a:lnTo>
                  <a:lnTo>
                    <a:pt x="0" y="224"/>
                  </a:lnTo>
                  <a:lnTo>
                    <a:pt x="17" y="277"/>
                  </a:lnTo>
                  <a:lnTo>
                    <a:pt x="17" y="293"/>
                  </a:lnTo>
                  <a:lnTo>
                    <a:pt x="33" y="327"/>
                  </a:lnTo>
                  <a:lnTo>
                    <a:pt x="50" y="362"/>
                  </a:lnTo>
                  <a:lnTo>
                    <a:pt x="66" y="362"/>
                  </a:lnTo>
                  <a:lnTo>
                    <a:pt x="81" y="380"/>
                  </a:lnTo>
                  <a:lnTo>
                    <a:pt x="97" y="380"/>
                  </a:lnTo>
                  <a:lnTo>
                    <a:pt x="147" y="380"/>
                  </a:lnTo>
                  <a:lnTo>
                    <a:pt x="194" y="380"/>
                  </a:lnTo>
                  <a:lnTo>
                    <a:pt x="227" y="362"/>
                  </a:lnTo>
                  <a:lnTo>
                    <a:pt x="258" y="362"/>
                  </a:lnTo>
                  <a:lnTo>
                    <a:pt x="322" y="346"/>
                  </a:lnTo>
                  <a:lnTo>
                    <a:pt x="372" y="327"/>
                  </a:lnTo>
                  <a:lnTo>
                    <a:pt x="403" y="327"/>
                  </a:lnTo>
                  <a:lnTo>
                    <a:pt x="420" y="311"/>
                  </a:lnTo>
                  <a:lnTo>
                    <a:pt x="453" y="293"/>
                  </a:lnTo>
                  <a:lnTo>
                    <a:pt x="484" y="293"/>
                  </a:lnTo>
                  <a:lnTo>
                    <a:pt x="517" y="311"/>
                  </a:lnTo>
                  <a:lnTo>
                    <a:pt x="564" y="346"/>
                  </a:lnTo>
                  <a:lnTo>
                    <a:pt x="614" y="346"/>
                  </a:lnTo>
                  <a:lnTo>
                    <a:pt x="645" y="362"/>
                  </a:lnTo>
                  <a:lnTo>
                    <a:pt x="678" y="362"/>
                  </a:lnTo>
                  <a:lnTo>
                    <a:pt x="725" y="362"/>
                  </a:lnTo>
                  <a:lnTo>
                    <a:pt x="742" y="362"/>
                  </a:lnTo>
                  <a:lnTo>
                    <a:pt x="856" y="362"/>
                  </a:lnTo>
                  <a:lnTo>
                    <a:pt x="936" y="362"/>
                  </a:lnTo>
                  <a:lnTo>
                    <a:pt x="984" y="362"/>
                  </a:lnTo>
                  <a:lnTo>
                    <a:pt x="1081" y="362"/>
                  </a:lnTo>
                  <a:lnTo>
                    <a:pt x="1128" y="362"/>
                  </a:lnTo>
                  <a:lnTo>
                    <a:pt x="1178" y="362"/>
                  </a:lnTo>
                  <a:lnTo>
                    <a:pt x="1259" y="380"/>
                  </a:lnTo>
                  <a:lnTo>
                    <a:pt x="1290" y="380"/>
                  </a:lnTo>
                  <a:lnTo>
                    <a:pt x="1323" y="396"/>
                  </a:lnTo>
                  <a:lnTo>
                    <a:pt x="1370" y="396"/>
                  </a:lnTo>
                  <a:lnTo>
                    <a:pt x="1418" y="396"/>
                  </a:lnTo>
                  <a:lnTo>
                    <a:pt x="1515" y="380"/>
                  </a:lnTo>
                  <a:lnTo>
                    <a:pt x="1564" y="362"/>
                  </a:lnTo>
                  <a:lnTo>
                    <a:pt x="1579" y="362"/>
                  </a:lnTo>
                  <a:lnTo>
                    <a:pt x="1629" y="346"/>
                  </a:lnTo>
                  <a:lnTo>
                    <a:pt x="1693" y="327"/>
                  </a:lnTo>
                  <a:lnTo>
                    <a:pt x="1709" y="327"/>
                  </a:lnTo>
                  <a:lnTo>
                    <a:pt x="1757" y="311"/>
                  </a:lnTo>
                  <a:lnTo>
                    <a:pt x="1790" y="311"/>
                  </a:lnTo>
                  <a:lnTo>
                    <a:pt x="1821" y="327"/>
                  </a:lnTo>
                  <a:lnTo>
                    <a:pt x="1854" y="362"/>
                  </a:lnTo>
                  <a:lnTo>
                    <a:pt x="1901" y="380"/>
                  </a:lnTo>
                  <a:lnTo>
                    <a:pt x="1934" y="396"/>
                  </a:lnTo>
                  <a:lnTo>
                    <a:pt x="1968" y="414"/>
                  </a:lnTo>
                  <a:lnTo>
                    <a:pt x="1982" y="449"/>
                  </a:lnTo>
                  <a:lnTo>
                    <a:pt x="2015" y="465"/>
                  </a:lnTo>
                  <a:lnTo>
                    <a:pt x="2032" y="483"/>
                  </a:lnTo>
                  <a:lnTo>
                    <a:pt x="2063" y="483"/>
                  </a:lnTo>
                  <a:lnTo>
                    <a:pt x="2096" y="465"/>
                  </a:lnTo>
                  <a:lnTo>
                    <a:pt x="2160" y="449"/>
                  </a:lnTo>
                  <a:lnTo>
                    <a:pt x="2224" y="430"/>
                  </a:lnTo>
                  <a:lnTo>
                    <a:pt x="2257" y="430"/>
                  </a:lnTo>
                  <a:lnTo>
                    <a:pt x="2304" y="430"/>
                  </a:lnTo>
                  <a:lnTo>
                    <a:pt x="2321" y="430"/>
                  </a:lnTo>
                  <a:lnTo>
                    <a:pt x="2368" y="430"/>
                  </a:lnTo>
                  <a:lnTo>
                    <a:pt x="2402" y="414"/>
                  </a:lnTo>
                  <a:lnTo>
                    <a:pt x="2418" y="396"/>
                  </a:lnTo>
                  <a:lnTo>
                    <a:pt x="2435" y="380"/>
                  </a:lnTo>
                  <a:lnTo>
                    <a:pt x="2449" y="362"/>
                  </a:lnTo>
                  <a:lnTo>
                    <a:pt x="2466" y="346"/>
                  </a:lnTo>
                  <a:lnTo>
                    <a:pt x="2482" y="346"/>
                  </a:lnTo>
                  <a:lnTo>
                    <a:pt x="2482" y="327"/>
                  </a:lnTo>
                  <a:lnTo>
                    <a:pt x="2515" y="311"/>
                  </a:lnTo>
                  <a:lnTo>
                    <a:pt x="2530" y="311"/>
                  </a:lnTo>
                  <a:lnTo>
                    <a:pt x="2579" y="293"/>
                  </a:lnTo>
                  <a:lnTo>
                    <a:pt x="2596" y="293"/>
                  </a:lnTo>
                  <a:lnTo>
                    <a:pt x="2610" y="293"/>
                  </a:lnTo>
                  <a:lnTo>
                    <a:pt x="2643" y="293"/>
                  </a:lnTo>
                  <a:lnTo>
                    <a:pt x="2676" y="277"/>
                  </a:lnTo>
                  <a:lnTo>
                    <a:pt x="2707" y="277"/>
                  </a:lnTo>
                  <a:lnTo>
                    <a:pt x="2740" y="277"/>
                  </a:lnTo>
                  <a:lnTo>
                    <a:pt x="2757" y="277"/>
                  </a:lnTo>
                  <a:lnTo>
                    <a:pt x="2838" y="259"/>
                  </a:lnTo>
                  <a:lnTo>
                    <a:pt x="2918" y="259"/>
                  </a:lnTo>
                  <a:lnTo>
                    <a:pt x="2933" y="259"/>
                  </a:lnTo>
                  <a:lnTo>
                    <a:pt x="2966" y="259"/>
                  </a:lnTo>
                  <a:lnTo>
                    <a:pt x="2999" y="259"/>
                  </a:lnTo>
                  <a:lnTo>
                    <a:pt x="3013" y="277"/>
                  </a:lnTo>
                  <a:lnTo>
                    <a:pt x="3030" y="293"/>
                  </a:lnTo>
                  <a:lnTo>
                    <a:pt x="3030" y="311"/>
                  </a:lnTo>
                  <a:lnTo>
                    <a:pt x="3046" y="346"/>
                  </a:lnTo>
                  <a:lnTo>
                    <a:pt x="3063" y="362"/>
                  </a:lnTo>
                  <a:lnTo>
                    <a:pt x="3094" y="380"/>
                  </a:lnTo>
                  <a:lnTo>
                    <a:pt x="3110" y="396"/>
                  </a:lnTo>
                  <a:lnTo>
                    <a:pt x="3143" y="396"/>
                  </a:lnTo>
                  <a:lnTo>
                    <a:pt x="3208" y="414"/>
                  </a:lnTo>
                  <a:lnTo>
                    <a:pt x="3239" y="414"/>
                  </a:lnTo>
                  <a:lnTo>
                    <a:pt x="3272" y="414"/>
                  </a:lnTo>
                  <a:lnTo>
                    <a:pt x="3336" y="414"/>
                  </a:lnTo>
                  <a:lnTo>
                    <a:pt x="3433" y="396"/>
                  </a:lnTo>
                  <a:lnTo>
                    <a:pt x="3466" y="380"/>
                  </a:lnTo>
                  <a:lnTo>
                    <a:pt x="3480" y="380"/>
                  </a:lnTo>
                  <a:lnTo>
                    <a:pt x="3530" y="362"/>
                  </a:lnTo>
                  <a:lnTo>
                    <a:pt x="3561" y="346"/>
                  </a:lnTo>
                  <a:lnTo>
                    <a:pt x="3561" y="327"/>
                  </a:lnTo>
                  <a:lnTo>
                    <a:pt x="3561" y="311"/>
                  </a:lnTo>
                  <a:lnTo>
                    <a:pt x="3546" y="277"/>
                  </a:lnTo>
                  <a:lnTo>
                    <a:pt x="3530" y="259"/>
                  </a:lnTo>
                  <a:lnTo>
                    <a:pt x="3530" y="243"/>
                  </a:lnTo>
                  <a:lnTo>
                    <a:pt x="3513" y="224"/>
                  </a:lnTo>
                  <a:lnTo>
                    <a:pt x="3513" y="206"/>
                  </a:lnTo>
                  <a:lnTo>
                    <a:pt x="3513" y="190"/>
                  </a:lnTo>
                  <a:lnTo>
                    <a:pt x="3530" y="172"/>
                  </a:lnTo>
                  <a:lnTo>
                    <a:pt x="3546" y="156"/>
                  </a:lnTo>
                  <a:lnTo>
                    <a:pt x="3561" y="137"/>
                  </a:lnTo>
                  <a:lnTo>
                    <a:pt x="3594" y="121"/>
                  </a:lnTo>
                  <a:lnTo>
                    <a:pt x="3577" y="121"/>
                  </a:lnTo>
                  <a:lnTo>
                    <a:pt x="3577" y="87"/>
                  </a:lnTo>
                  <a:lnTo>
                    <a:pt x="3546" y="69"/>
                  </a:lnTo>
                  <a:lnTo>
                    <a:pt x="3513" y="53"/>
                  </a:lnTo>
                  <a:lnTo>
                    <a:pt x="3480" y="53"/>
                  </a:lnTo>
                  <a:lnTo>
                    <a:pt x="3449" y="34"/>
                  </a:lnTo>
                  <a:lnTo>
                    <a:pt x="3400" y="18"/>
                  </a:lnTo>
                  <a:lnTo>
                    <a:pt x="3319" y="0"/>
                  </a:lnTo>
                  <a:lnTo>
                    <a:pt x="3288" y="0"/>
                  </a:lnTo>
                  <a:lnTo>
                    <a:pt x="3255" y="18"/>
                  </a:lnTo>
                  <a:lnTo>
                    <a:pt x="3191" y="34"/>
                  </a:lnTo>
                  <a:lnTo>
                    <a:pt x="3160" y="53"/>
                  </a:lnTo>
                  <a:lnTo>
                    <a:pt x="3127" y="69"/>
                  </a:lnTo>
                  <a:lnTo>
                    <a:pt x="3094" y="69"/>
                  </a:lnTo>
                  <a:lnTo>
                    <a:pt x="3013" y="87"/>
                  </a:lnTo>
                  <a:lnTo>
                    <a:pt x="2966" y="87"/>
                  </a:lnTo>
                  <a:lnTo>
                    <a:pt x="2918" y="87"/>
                  </a:lnTo>
                  <a:lnTo>
                    <a:pt x="2885" y="87"/>
                  </a:lnTo>
                  <a:lnTo>
                    <a:pt x="2805" y="103"/>
                  </a:lnTo>
                  <a:lnTo>
                    <a:pt x="2757" y="121"/>
                  </a:lnTo>
                  <a:lnTo>
                    <a:pt x="2707" y="137"/>
                  </a:lnTo>
                  <a:lnTo>
                    <a:pt x="2691" y="137"/>
                  </a:lnTo>
                  <a:lnTo>
                    <a:pt x="2660" y="156"/>
                  </a:lnTo>
                  <a:lnTo>
                    <a:pt x="2579" y="190"/>
                  </a:lnTo>
                  <a:lnTo>
                    <a:pt x="2563" y="190"/>
                  </a:lnTo>
                  <a:lnTo>
                    <a:pt x="2546" y="190"/>
                  </a:lnTo>
                  <a:lnTo>
                    <a:pt x="2530" y="190"/>
                  </a:lnTo>
                  <a:lnTo>
                    <a:pt x="2515" y="172"/>
                  </a:lnTo>
                  <a:lnTo>
                    <a:pt x="2482" y="156"/>
                  </a:lnTo>
                  <a:lnTo>
                    <a:pt x="2466" y="137"/>
                  </a:lnTo>
                  <a:lnTo>
                    <a:pt x="2435" y="121"/>
                  </a:lnTo>
                  <a:lnTo>
                    <a:pt x="2402" y="103"/>
                  </a:lnTo>
                  <a:lnTo>
                    <a:pt x="2354" y="87"/>
                  </a:lnTo>
                  <a:lnTo>
                    <a:pt x="2321" y="69"/>
                  </a:lnTo>
                  <a:lnTo>
                    <a:pt x="2304" y="69"/>
                  </a:lnTo>
                  <a:lnTo>
                    <a:pt x="2240" y="53"/>
                  </a:lnTo>
                  <a:lnTo>
                    <a:pt x="2193" y="53"/>
                  </a:lnTo>
                  <a:lnTo>
                    <a:pt x="2129" y="53"/>
                  </a:lnTo>
                  <a:lnTo>
                    <a:pt x="2096" y="53"/>
                  </a:lnTo>
                  <a:lnTo>
                    <a:pt x="2032" y="53"/>
                  </a:lnTo>
                  <a:lnTo>
                    <a:pt x="1918" y="53"/>
                  </a:lnTo>
                  <a:lnTo>
                    <a:pt x="1854" y="34"/>
                  </a:lnTo>
                  <a:lnTo>
                    <a:pt x="1821" y="34"/>
                  </a:lnTo>
                  <a:lnTo>
                    <a:pt x="1773" y="34"/>
                  </a:lnTo>
                  <a:lnTo>
                    <a:pt x="1693" y="34"/>
                  </a:lnTo>
                  <a:lnTo>
                    <a:pt x="1629" y="53"/>
                  </a:lnTo>
                  <a:lnTo>
                    <a:pt x="1612" y="53"/>
                  </a:lnTo>
                  <a:lnTo>
                    <a:pt x="1579" y="69"/>
                  </a:lnTo>
                  <a:lnTo>
                    <a:pt x="1531" y="87"/>
                  </a:lnTo>
                  <a:lnTo>
                    <a:pt x="1498" y="103"/>
                  </a:lnTo>
                  <a:lnTo>
                    <a:pt x="1467" y="121"/>
                  </a:lnTo>
                  <a:lnTo>
                    <a:pt x="1451" y="137"/>
                  </a:lnTo>
                  <a:lnTo>
                    <a:pt x="1418" y="156"/>
                  </a:lnTo>
                  <a:lnTo>
                    <a:pt x="1387" y="172"/>
                  </a:lnTo>
                  <a:lnTo>
                    <a:pt x="1354" y="172"/>
                  </a:lnTo>
                  <a:lnTo>
                    <a:pt x="1339" y="172"/>
                  </a:lnTo>
                  <a:lnTo>
                    <a:pt x="1306" y="172"/>
                  </a:lnTo>
                  <a:lnTo>
                    <a:pt x="1226" y="156"/>
                  </a:lnTo>
                  <a:lnTo>
                    <a:pt x="1192" y="137"/>
                  </a:lnTo>
                  <a:lnTo>
                    <a:pt x="1178" y="137"/>
                  </a:lnTo>
                  <a:lnTo>
                    <a:pt x="1128" y="121"/>
                  </a:lnTo>
                  <a:lnTo>
                    <a:pt x="1064" y="103"/>
                  </a:lnTo>
                  <a:lnTo>
                    <a:pt x="984" y="103"/>
                  </a:lnTo>
                  <a:lnTo>
                    <a:pt x="936" y="103"/>
                  </a:lnTo>
                  <a:lnTo>
                    <a:pt x="887" y="103"/>
                  </a:lnTo>
                  <a:lnTo>
                    <a:pt x="806" y="103"/>
                  </a:lnTo>
                  <a:lnTo>
                    <a:pt x="742" y="87"/>
                  </a:lnTo>
                  <a:lnTo>
                    <a:pt x="694" y="87"/>
                  </a:lnTo>
                  <a:lnTo>
                    <a:pt x="678" y="69"/>
                  </a:lnTo>
                  <a:lnTo>
                    <a:pt x="661" y="69"/>
                  </a:lnTo>
                  <a:lnTo>
                    <a:pt x="614" y="53"/>
                  </a:lnTo>
                  <a:lnTo>
                    <a:pt x="581" y="53"/>
                  </a:lnTo>
                  <a:lnTo>
                    <a:pt x="517" y="34"/>
                  </a:lnTo>
                  <a:lnTo>
                    <a:pt x="484" y="34"/>
                  </a:lnTo>
                  <a:lnTo>
                    <a:pt x="436" y="34"/>
                  </a:lnTo>
                  <a:lnTo>
                    <a:pt x="322" y="53"/>
                  </a:lnTo>
                  <a:lnTo>
                    <a:pt x="291" y="53"/>
                  </a:lnTo>
                  <a:lnTo>
                    <a:pt x="211" y="87"/>
                  </a:lnTo>
                  <a:lnTo>
                    <a:pt x="147" y="103"/>
                  </a:lnTo>
                  <a:lnTo>
                    <a:pt x="130" y="103"/>
                  </a:lnTo>
                  <a:lnTo>
                    <a:pt x="81" y="121"/>
                  </a:lnTo>
                  <a:lnTo>
                    <a:pt x="50" y="137"/>
                  </a:lnTo>
                  <a:lnTo>
                    <a:pt x="33" y="156"/>
                  </a:lnTo>
                  <a:lnTo>
                    <a:pt x="0" y="17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6760" y="3025440"/>
              <a:ext cx="33120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335240" y="2817360"/>
              <a:ext cx="311040" cy="672480"/>
              <a:chOff x="1335240" y="2817360"/>
              <a:chExt cx="311040" cy="67248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1335240" y="2817360"/>
                <a:ext cx="311040" cy="112320"/>
                <a:chOff x="1335240" y="2817360"/>
                <a:chExt cx="311040" cy="1123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1539720" y="2817360"/>
                  <a:ext cx="106560" cy="112320"/>
                </a:xfrm>
                <a:custGeom>
                  <a:avLst/>
                  <a:gdLst/>
                  <a:ahLst/>
                  <a:rect l="l" t="t" r="r" b="b"/>
                  <a:pathLst>
                    <a:path w="67" h="71">
                      <a:moveTo>
                        <a:pt x="66" y="35"/>
                      </a:moveTo>
                      <a:lnTo>
                        <a:pt x="33" y="51"/>
                      </a:lnTo>
                      <a:lnTo>
                        <a:pt x="0" y="70"/>
                      </a:lnTo>
                      <a:lnTo>
                        <a:pt x="0" y="51"/>
                      </a:lnTo>
                      <a:lnTo>
                        <a:pt x="0" y="35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33" y="16"/>
                      </a:lnTo>
                      <a:lnTo>
                        <a:pt x="66" y="3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335240" y="2872800"/>
                  <a:ext cx="230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335240" y="3405960"/>
                <a:ext cx="311040" cy="83880"/>
                <a:chOff x="1335240" y="3405960"/>
                <a:chExt cx="311040" cy="83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539720" y="3405960"/>
                  <a:ext cx="106560" cy="83880"/>
                </a:xfrm>
                <a:custGeom>
                  <a:avLst/>
                  <a:gdLst/>
                  <a:ahLst/>
                  <a:rect l="l" t="t" r="r" b="b"/>
                  <a:pathLst>
                    <a:path w="67" h="53">
                      <a:moveTo>
                        <a:pt x="66" y="35"/>
                      </a:moveTo>
                      <a:lnTo>
                        <a:pt x="33" y="35"/>
                      </a:lnTo>
                      <a:lnTo>
                        <a:pt x="0" y="52"/>
                      </a:lnTo>
                      <a:lnTo>
                        <a:pt x="0" y="35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33" y="17"/>
                      </a:lnTo>
                      <a:lnTo>
                        <a:pt x="66" y="3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335240" y="3432600"/>
                  <a:ext cx="230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335240" y="3182400"/>
                <a:ext cx="311040" cy="139320"/>
                <a:chOff x="1335240" y="3182400"/>
                <a:chExt cx="311040" cy="1393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539720" y="3182400"/>
                  <a:ext cx="106560" cy="139320"/>
                </a:xfrm>
                <a:custGeom>
                  <a:avLst/>
                  <a:gdLst/>
                  <a:ahLst/>
                  <a:rect l="l" t="t" r="r" b="b"/>
                  <a:pathLst>
                    <a:path w="67" h="88">
                      <a:moveTo>
                        <a:pt x="66" y="52"/>
                      </a:moveTo>
                      <a:lnTo>
                        <a:pt x="33" y="70"/>
                      </a:lnTo>
                      <a:lnTo>
                        <a:pt x="0" y="87"/>
                      </a:lnTo>
                      <a:lnTo>
                        <a:pt x="0" y="70"/>
                      </a:lnTo>
                      <a:lnTo>
                        <a:pt x="0" y="52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33" y="17"/>
                      </a:lnTo>
                      <a:lnTo>
                        <a:pt x="66" y="5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35240" y="3264480"/>
                  <a:ext cx="230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1335240" y="3010680"/>
                <a:ext cx="311040" cy="87120"/>
                <a:chOff x="1335240" y="3010680"/>
                <a:chExt cx="311040" cy="871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539720" y="3010680"/>
                  <a:ext cx="106560" cy="87120"/>
                </a:xfrm>
                <a:custGeom>
                  <a:avLst/>
                  <a:gdLst/>
                  <a:ahLst/>
                  <a:rect l="l" t="t" r="r" b="b"/>
                  <a:pathLst>
                    <a:path w="67" h="55">
                      <a:moveTo>
                        <a:pt x="66" y="35"/>
                      </a:moveTo>
                      <a:lnTo>
                        <a:pt x="33" y="54"/>
                      </a:lnTo>
                      <a:lnTo>
                        <a:pt x="0" y="54"/>
                      </a:lnTo>
                      <a:lnTo>
                        <a:pt x="0" y="35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33" y="19"/>
                      </a:lnTo>
                      <a:lnTo>
                        <a:pt x="66" y="3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335240" y="3040560"/>
                  <a:ext cx="230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7391520" y="3182760"/>
              <a:ext cx="334800" cy="139320"/>
              <a:chOff x="7391520" y="3182760"/>
              <a:chExt cx="334800" cy="139320"/>
            </a:xfrm>
          </p:grpSpPr>
          <p:sp>
            <p:nvSpPr>
              <p:cNvPr id="305" name=""/>
              <p:cNvSpPr/>
              <p:nvPr/>
            </p:nvSpPr>
            <p:spPr>
              <a:xfrm>
                <a:off x="7623000" y="3182760"/>
                <a:ext cx="103320" cy="139320"/>
              </a:xfrm>
              <a:custGeom>
                <a:avLst/>
                <a:gdLst/>
                <a:ahLst/>
                <a:rect l="l" t="t" r="r" b="b"/>
                <a:pathLst>
                  <a:path w="65" h="88">
                    <a:moveTo>
                      <a:pt x="64" y="52"/>
                    </a:moveTo>
                    <a:lnTo>
                      <a:pt x="33" y="70"/>
                    </a:lnTo>
                    <a:lnTo>
                      <a:pt x="0" y="87"/>
                    </a:lnTo>
                    <a:lnTo>
                      <a:pt x="0" y="70"/>
                    </a:lnTo>
                    <a:lnTo>
                      <a:pt x="0" y="5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3" y="17"/>
                    </a:lnTo>
                    <a:lnTo>
                      <a:pt x="64" y="5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391520" y="326484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91520" y="3011040"/>
              <a:ext cx="334800" cy="87120"/>
              <a:chOff x="7391520" y="3011040"/>
              <a:chExt cx="334800" cy="87120"/>
            </a:xfrm>
          </p:grpSpPr>
          <p:sp>
            <p:nvSpPr>
              <p:cNvPr id="308" name=""/>
              <p:cNvSpPr/>
              <p:nvPr/>
            </p:nvSpPr>
            <p:spPr>
              <a:xfrm>
                <a:off x="7623000" y="3011040"/>
                <a:ext cx="103320" cy="87120"/>
              </a:xfrm>
              <a:custGeom>
                <a:avLst/>
                <a:gdLst/>
                <a:ahLst/>
                <a:rect l="l" t="t" r="r" b="b"/>
                <a:pathLst>
                  <a:path w="65" h="55">
                    <a:moveTo>
                      <a:pt x="64" y="35"/>
                    </a:moveTo>
                    <a:lnTo>
                      <a:pt x="33" y="54"/>
                    </a:lnTo>
                    <a:lnTo>
                      <a:pt x="0" y="54"/>
                    </a:lnTo>
                    <a:lnTo>
                      <a:pt x="0" y="35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3" y="19"/>
                    </a:lnTo>
                    <a:lnTo>
                      <a:pt x="64" y="3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91520" y="304092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0" name=""/>
          <p:cNvSpPr/>
          <p:nvPr/>
        </p:nvSpPr>
        <p:spPr>
          <a:xfrm>
            <a:off x="468360" y="4292640"/>
            <a:ext cx="813744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mpenho dirigido por pessoas competentes e heróicas realizando o trabal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a qualidade e desempenho excepcional possível quando as melhores pessoas podem ser empreg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evisível - para bom ou ru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maiores problemas enfrentados pela organização são gerenciais, não téc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09800" y="838080"/>
            <a:ext cx="7448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ff"/>
                </a:solidFill>
                <a:latin typeface="Century Schoolbook"/>
              </a:rPr>
              <a:t>Capability Matur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22720" y="5546880"/>
            <a:ext cx="698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5737320"/>
            <a:ext cx="401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4684680"/>
            <a:ext cx="11829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56760" y="4873680"/>
            <a:ext cx="235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65800" y="3719520"/>
            <a:ext cx="885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81440" y="3909960"/>
            <a:ext cx="401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04320" y="2944800"/>
            <a:ext cx="235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2280" y="5699160"/>
            <a:ext cx="2158920" cy="542880"/>
          </a:xfrm>
          <a:prstGeom prst="roundRect">
            <a:avLst>
              <a:gd name="adj" fmla="val 1555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414440" y="4684680"/>
            <a:ext cx="2162160" cy="614520"/>
            <a:chOff x="1414440" y="4684680"/>
            <a:chExt cx="2162160" cy="614520"/>
          </a:xfrm>
        </p:grpSpPr>
        <p:sp>
          <p:nvSpPr>
            <p:cNvPr id="322" name=""/>
            <p:cNvSpPr/>
            <p:nvPr/>
          </p:nvSpPr>
          <p:spPr>
            <a:xfrm>
              <a:off x="1515960" y="4684680"/>
              <a:ext cx="2060640" cy="541440"/>
            </a:xfrm>
            <a:prstGeom prst="roundRect">
              <a:avLst>
                <a:gd name="adj" fmla="val 15593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14440" y="4759200"/>
              <a:ext cx="2033640" cy="540000"/>
            </a:xfrm>
            <a:prstGeom prst="roundRect">
              <a:avLst>
                <a:gd name="adj" fmla="val 1559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5759280" y="1828800"/>
            <a:ext cx="1152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15840" y="4938840"/>
            <a:ext cx="612360" cy="1199160"/>
            <a:chOff x="915840" y="4938840"/>
            <a:chExt cx="612360" cy="1199160"/>
          </a:xfrm>
        </p:grpSpPr>
        <p:sp>
          <p:nvSpPr>
            <p:cNvPr id="326" name=""/>
            <p:cNvSpPr/>
            <p:nvPr/>
          </p:nvSpPr>
          <p:spPr>
            <a:xfrm>
              <a:off x="915840" y="4992840"/>
              <a:ext cx="612360" cy="114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0"/>
                  </a:moveTo>
                  <a:arcTo wR="10800" hR="10800" stAng="-10790515" swAng="5319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0"/>
                  </a:moveTo>
                  <a:arcTo wR="10800" hR="10800" stAng="-10790515" swAng="5319190"/>
                </a:path>
              </a:pathLst>
            </a:custGeom>
            <a:noFill/>
            <a:ln cap="rnd"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168560" y="4938840"/>
              <a:ext cx="218880" cy="106200"/>
              <a:chOff x="1168560" y="4938840"/>
              <a:chExt cx="218880" cy="106200"/>
            </a:xfrm>
          </p:grpSpPr>
          <p:sp>
            <p:nvSpPr>
              <p:cNvPr id="328" name=""/>
              <p:cNvSpPr/>
              <p:nvPr/>
            </p:nvSpPr>
            <p:spPr>
              <a:xfrm>
                <a:off x="1181160" y="4938840"/>
                <a:ext cx="206280" cy="106200"/>
              </a:xfrm>
              <a:custGeom>
                <a:avLst/>
                <a:gdLst/>
                <a:ahLst/>
                <a:rect l="l" t="t" r="r" b="b"/>
                <a:pathLst>
                  <a:path w="130" h="67">
                    <a:moveTo>
                      <a:pt x="129" y="37"/>
                    </a:moveTo>
                    <a:lnTo>
                      <a:pt x="0" y="66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29" y="37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68560" y="4989600"/>
                <a:ext cx="6660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41" y="0"/>
                    </a:lnTo>
                    <a:lnTo>
                      <a:pt x="41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34920" y="4443480"/>
            <a:ext cx="1290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iplin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8440" y="5394240"/>
            <a:ext cx="766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87600" y="4113360"/>
            <a:ext cx="866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56080" y="5691240"/>
            <a:ext cx="467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mprevisível e Insatisfatoriamente contro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28880" y="4700520"/>
            <a:ext cx="25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cesso em taref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viamente dom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95480" y="59436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33920" y="4952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03480" y="5732640"/>
            <a:ext cx="108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22520" y="4863960"/>
            <a:ext cx="1476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(2) Repet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81160" y="5778360"/>
            <a:ext cx="1171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(1) Inic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333360" y="1166760"/>
            <a:ext cx="8354880" cy="1197000"/>
            <a:chOff x="333360" y="1166760"/>
            <a:chExt cx="8354880" cy="1197000"/>
          </a:xfrm>
        </p:grpSpPr>
        <p:sp>
          <p:nvSpPr>
            <p:cNvPr id="341" name=""/>
            <p:cNvSpPr/>
            <p:nvPr/>
          </p:nvSpPr>
          <p:spPr>
            <a:xfrm>
              <a:off x="336600" y="1176480"/>
              <a:ext cx="8343720" cy="36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76520" y="117144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82120" y="117144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3360" y="116676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3360" y="2362320"/>
              <a:ext cx="8354880" cy="1440"/>
            </a:xfrm>
            <a:custGeom>
              <a:avLst/>
              <a:gdLst/>
              <a:ahLst/>
              <a:rect l="l" t="t" r="r" b="b"/>
              <a:pathLst>
                <a:path w="5263" h="1">
                  <a:moveTo>
                    <a:pt x="0" y="0"/>
                  </a:moveTo>
                  <a:lnTo>
                    <a:pt x="526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620280" y="1200240"/>
            <a:ext cx="7610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N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93920" y="1185840"/>
            <a:ext cx="43498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Características do  Gerenci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1200" y="1635120"/>
            <a:ext cx="425160" cy="587520"/>
          </a:xfrm>
          <a:custGeom>
            <a:avLst/>
            <a:gdLst/>
            <a:ahLst/>
            <a:rect l="l" t="t" r="r" b="b"/>
            <a:pathLst>
              <a:path w="268" h="370">
                <a:moveTo>
                  <a:pt x="8" y="369"/>
                </a:moveTo>
                <a:lnTo>
                  <a:pt x="245" y="369"/>
                </a:lnTo>
                <a:lnTo>
                  <a:pt x="267" y="277"/>
                </a:lnTo>
                <a:lnTo>
                  <a:pt x="245" y="269"/>
                </a:lnTo>
                <a:lnTo>
                  <a:pt x="237" y="294"/>
                </a:lnTo>
                <a:lnTo>
                  <a:pt x="221" y="319"/>
                </a:lnTo>
                <a:lnTo>
                  <a:pt x="199" y="328"/>
                </a:lnTo>
                <a:lnTo>
                  <a:pt x="160" y="336"/>
                </a:lnTo>
                <a:lnTo>
                  <a:pt x="54" y="336"/>
                </a:lnTo>
                <a:lnTo>
                  <a:pt x="68" y="319"/>
                </a:lnTo>
                <a:lnTo>
                  <a:pt x="107" y="285"/>
                </a:lnTo>
                <a:lnTo>
                  <a:pt x="153" y="260"/>
                </a:lnTo>
                <a:lnTo>
                  <a:pt x="175" y="226"/>
                </a:lnTo>
                <a:lnTo>
                  <a:pt x="199" y="202"/>
                </a:lnTo>
                <a:lnTo>
                  <a:pt x="221" y="176"/>
                </a:lnTo>
                <a:lnTo>
                  <a:pt x="237" y="143"/>
                </a:lnTo>
                <a:lnTo>
                  <a:pt x="245" y="126"/>
                </a:lnTo>
                <a:lnTo>
                  <a:pt x="245" y="100"/>
                </a:lnTo>
                <a:lnTo>
                  <a:pt x="237" y="59"/>
                </a:lnTo>
                <a:lnTo>
                  <a:pt x="213" y="33"/>
                </a:lnTo>
                <a:lnTo>
                  <a:pt x="168" y="9"/>
                </a:lnTo>
                <a:lnTo>
                  <a:pt x="130" y="0"/>
                </a:lnTo>
                <a:lnTo>
                  <a:pt x="76" y="9"/>
                </a:lnTo>
                <a:lnTo>
                  <a:pt x="38" y="33"/>
                </a:lnTo>
                <a:lnTo>
                  <a:pt x="16" y="59"/>
                </a:lnTo>
                <a:lnTo>
                  <a:pt x="8" y="100"/>
                </a:lnTo>
                <a:lnTo>
                  <a:pt x="8" y="126"/>
                </a:lnTo>
                <a:lnTo>
                  <a:pt x="16" y="135"/>
                </a:lnTo>
                <a:lnTo>
                  <a:pt x="22" y="143"/>
                </a:lnTo>
                <a:lnTo>
                  <a:pt x="30" y="143"/>
                </a:lnTo>
                <a:lnTo>
                  <a:pt x="46" y="143"/>
                </a:lnTo>
                <a:lnTo>
                  <a:pt x="54" y="135"/>
                </a:lnTo>
                <a:lnTo>
                  <a:pt x="61" y="135"/>
                </a:lnTo>
                <a:lnTo>
                  <a:pt x="61" y="117"/>
                </a:lnTo>
                <a:lnTo>
                  <a:pt x="61" y="109"/>
                </a:lnTo>
                <a:lnTo>
                  <a:pt x="54" y="100"/>
                </a:lnTo>
                <a:lnTo>
                  <a:pt x="46" y="84"/>
                </a:lnTo>
                <a:lnTo>
                  <a:pt x="46" y="76"/>
                </a:lnTo>
                <a:lnTo>
                  <a:pt x="54" y="59"/>
                </a:lnTo>
                <a:lnTo>
                  <a:pt x="68" y="42"/>
                </a:lnTo>
                <a:lnTo>
                  <a:pt x="92" y="33"/>
                </a:lnTo>
                <a:lnTo>
                  <a:pt x="114" y="33"/>
                </a:lnTo>
                <a:lnTo>
                  <a:pt x="153" y="33"/>
                </a:lnTo>
                <a:lnTo>
                  <a:pt x="168" y="50"/>
                </a:lnTo>
                <a:lnTo>
                  <a:pt x="183" y="67"/>
                </a:lnTo>
                <a:lnTo>
                  <a:pt x="183" y="100"/>
                </a:lnTo>
                <a:lnTo>
                  <a:pt x="183" y="126"/>
                </a:lnTo>
                <a:lnTo>
                  <a:pt x="175" y="152"/>
                </a:lnTo>
                <a:lnTo>
                  <a:pt x="160" y="176"/>
                </a:lnTo>
                <a:lnTo>
                  <a:pt x="145" y="210"/>
                </a:lnTo>
                <a:lnTo>
                  <a:pt x="122" y="235"/>
                </a:lnTo>
                <a:lnTo>
                  <a:pt x="84" y="269"/>
                </a:lnTo>
                <a:lnTo>
                  <a:pt x="46" y="294"/>
                </a:lnTo>
                <a:lnTo>
                  <a:pt x="0" y="336"/>
                </a:lnTo>
                <a:lnTo>
                  <a:pt x="8" y="369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1200" y="1635120"/>
            <a:ext cx="425160" cy="587520"/>
          </a:xfrm>
          <a:custGeom>
            <a:avLst/>
            <a:gdLst/>
            <a:ahLst/>
            <a:rect l="l" t="t" r="r" b="b"/>
            <a:pathLst>
              <a:path w="268" h="370">
                <a:moveTo>
                  <a:pt x="8" y="369"/>
                </a:moveTo>
                <a:lnTo>
                  <a:pt x="245" y="369"/>
                </a:lnTo>
                <a:lnTo>
                  <a:pt x="267" y="277"/>
                </a:lnTo>
                <a:lnTo>
                  <a:pt x="245" y="269"/>
                </a:lnTo>
                <a:lnTo>
                  <a:pt x="237" y="294"/>
                </a:lnTo>
                <a:lnTo>
                  <a:pt x="221" y="319"/>
                </a:lnTo>
                <a:lnTo>
                  <a:pt x="199" y="328"/>
                </a:lnTo>
                <a:lnTo>
                  <a:pt x="160" y="336"/>
                </a:lnTo>
                <a:lnTo>
                  <a:pt x="54" y="336"/>
                </a:lnTo>
                <a:lnTo>
                  <a:pt x="68" y="319"/>
                </a:lnTo>
                <a:lnTo>
                  <a:pt x="107" y="285"/>
                </a:lnTo>
                <a:lnTo>
                  <a:pt x="153" y="260"/>
                </a:lnTo>
                <a:lnTo>
                  <a:pt x="175" y="226"/>
                </a:lnTo>
                <a:lnTo>
                  <a:pt x="199" y="202"/>
                </a:lnTo>
                <a:lnTo>
                  <a:pt x="221" y="176"/>
                </a:lnTo>
                <a:lnTo>
                  <a:pt x="237" y="143"/>
                </a:lnTo>
                <a:lnTo>
                  <a:pt x="245" y="126"/>
                </a:lnTo>
                <a:lnTo>
                  <a:pt x="245" y="100"/>
                </a:lnTo>
                <a:lnTo>
                  <a:pt x="237" y="59"/>
                </a:lnTo>
                <a:lnTo>
                  <a:pt x="213" y="33"/>
                </a:lnTo>
                <a:lnTo>
                  <a:pt x="168" y="9"/>
                </a:lnTo>
                <a:lnTo>
                  <a:pt x="130" y="0"/>
                </a:lnTo>
                <a:lnTo>
                  <a:pt x="76" y="9"/>
                </a:lnTo>
                <a:lnTo>
                  <a:pt x="38" y="33"/>
                </a:lnTo>
                <a:lnTo>
                  <a:pt x="16" y="59"/>
                </a:lnTo>
                <a:lnTo>
                  <a:pt x="8" y="100"/>
                </a:lnTo>
                <a:lnTo>
                  <a:pt x="8" y="126"/>
                </a:lnTo>
                <a:lnTo>
                  <a:pt x="16" y="135"/>
                </a:lnTo>
                <a:lnTo>
                  <a:pt x="22" y="143"/>
                </a:lnTo>
                <a:lnTo>
                  <a:pt x="30" y="143"/>
                </a:lnTo>
                <a:lnTo>
                  <a:pt x="46" y="143"/>
                </a:lnTo>
                <a:lnTo>
                  <a:pt x="54" y="135"/>
                </a:lnTo>
                <a:lnTo>
                  <a:pt x="61" y="135"/>
                </a:lnTo>
                <a:lnTo>
                  <a:pt x="61" y="117"/>
                </a:lnTo>
                <a:lnTo>
                  <a:pt x="61" y="109"/>
                </a:lnTo>
                <a:lnTo>
                  <a:pt x="54" y="100"/>
                </a:lnTo>
                <a:lnTo>
                  <a:pt x="46" y="84"/>
                </a:lnTo>
                <a:lnTo>
                  <a:pt x="46" y="76"/>
                </a:lnTo>
                <a:lnTo>
                  <a:pt x="54" y="59"/>
                </a:lnTo>
                <a:lnTo>
                  <a:pt x="68" y="42"/>
                </a:lnTo>
                <a:lnTo>
                  <a:pt x="92" y="33"/>
                </a:lnTo>
                <a:lnTo>
                  <a:pt x="114" y="33"/>
                </a:lnTo>
                <a:lnTo>
                  <a:pt x="153" y="33"/>
                </a:lnTo>
                <a:lnTo>
                  <a:pt x="168" y="50"/>
                </a:lnTo>
                <a:lnTo>
                  <a:pt x="183" y="67"/>
                </a:lnTo>
                <a:lnTo>
                  <a:pt x="183" y="100"/>
                </a:lnTo>
                <a:lnTo>
                  <a:pt x="183" y="126"/>
                </a:lnTo>
                <a:lnTo>
                  <a:pt x="175" y="152"/>
                </a:lnTo>
                <a:lnTo>
                  <a:pt x="160" y="176"/>
                </a:lnTo>
                <a:lnTo>
                  <a:pt x="145" y="210"/>
                </a:lnTo>
                <a:lnTo>
                  <a:pt x="122" y="235"/>
                </a:lnTo>
                <a:lnTo>
                  <a:pt x="84" y="269"/>
                </a:lnTo>
                <a:lnTo>
                  <a:pt x="46" y="294"/>
                </a:lnTo>
                <a:lnTo>
                  <a:pt x="0" y="336"/>
                </a:lnTo>
                <a:lnTo>
                  <a:pt x="8" y="369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2200" y="1758960"/>
            <a:ext cx="12578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et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16120" y="1636560"/>
            <a:ext cx="6894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m sistema de gerenciamento de projetos existe. Pobre em visibilidade do process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60680" y="5027760"/>
            <a:ext cx="29732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60680" y="5270400"/>
            <a:ext cx="26510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42680" y="2565360"/>
            <a:ext cx="7788960" cy="1206360"/>
            <a:chOff x="742680" y="2565360"/>
            <a:chExt cx="7788960" cy="1206360"/>
          </a:xfrm>
        </p:grpSpPr>
        <p:sp>
          <p:nvSpPr>
            <p:cNvPr id="355" name=""/>
            <p:cNvSpPr/>
            <p:nvPr/>
          </p:nvSpPr>
          <p:spPr>
            <a:xfrm>
              <a:off x="1805040" y="2565360"/>
              <a:ext cx="1112400" cy="487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05160" y="2565360"/>
              <a:ext cx="1112400" cy="487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5280" y="2565360"/>
              <a:ext cx="1114200" cy="487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05400" y="2565360"/>
              <a:ext cx="1110960" cy="487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42680" y="2657520"/>
              <a:ext cx="33120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63280" y="2657520"/>
              <a:ext cx="46836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71480" y="2762280"/>
              <a:ext cx="101160" cy="11592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63" y="36"/>
                  </a:moveTo>
                  <a:lnTo>
                    <a:pt x="33" y="55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33" y="17"/>
                  </a:lnTo>
                  <a:lnTo>
                    <a:pt x="63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71680" y="2819520"/>
              <a:ext cx="1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46400" y="2762280"/>
              <a:ext cx="128160" cy="11592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80" y="36"/>
                  </a:moveTo>
                  <a:lnTo>
                    <a:pt x="49" y="55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9" y="17"/>
                  </a:lnTo>
                  <a:lnTo>
                    <a:pt x="80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4800" y="281952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47960" y="2762280"/>
              <a:ext cx="126720" cy="115920"/>
            </a:xfrm>
            <a:custGeom>
              <a:avLst/>
              <a:gdLst/>
              <a:ahLst/>
              <a:rect l="l" t="t" r="r" b="b"/>
              <a:pathLst>
                <a:path w="80" h="73">
                  <a:moveTo>
                    <a:pt x="79" y="36"/>
                  </a:moveTo>
                  <a:lnTo>
                    <a:pt x="49" y="55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9" y="17"/>
                  </a:lnTo>
                  <a:lnTo>
                    <a:pt x="79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41680" y="2819520"/>
              <a:ext cx="23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70400" y="2762280"/>
              <a:ext cx="104400" cy="11592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65" y="36"/>
                  </a:moveTo>
                  <a:lnTo>
                    <a:pt x="34" y="55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65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43600" y="281952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72320" y="2762280"/>
              <a:ext cx="101160" cy="11592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63" y="36"/>
                  </a:moveTo>
                  <a:lnTo>
                    <a:pt x="33" y="55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33" y="17"/>
                  </a:lnTo>
                  <a:lnTo>
                    <a:pt x="63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43720" y="281952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46000" y="3625920"/>
              <a:ext cx="58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477800" y="3517920"/>
              <a:ext cx="321840" cy="253800"/>
              <a:chOff x="1477800" y="3517920"/>
              <a:chExt cx="321840" cy="253800"/>
            </a:xfrm>
          </p:grpSpPr>
          <p:sp>
            <p:nvSpPr>
              <p:cNvPr id="373" name=""/>
              <p:cNvSpPr/>
              <p:nvPr/>
            </p:nvSpPr>
            <p:spPr>
              <a:xfrm>
                <a:off x="1477800" y="3517920"/>
                <a:ext cx="321840" cy="253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594800" y="3571920"/>
                <a:ext cx="10152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571400" y="3079800"/>
              <a:ext cx="101520" cy="401400"/>
              <a:chOff x="1571400" y="3079800"/>
              <a:chExt cx="101520" cy="401400"/>
            </a:xfrm>
          </p:grpSpPr>
          <p:sp>
            <p:nvSpPr>
              <p:cNvPr id="376" name=""/>
              <p:cNvSpPr/>
              <p:nvPr/>
            </p:nvSpPr>
            <p:spPr>
              <a:xfrm>
                <a:off x="1571400" y="3079800"/>
                <a:ext cx="101520" cy="114120"/>
              </a:xfrm>
              <a:custGeom>
                <a:avLst/>
                <a:gdLst/>
                <a:ahLst/>
                <a:rect l="l" t="t" r="r" b="b"/>
                <a:pathLst>
                  <a:path w="64" h="72">
                    <a:moveTo>
                      <a:pt x="30" y="0"/>
                    </a:moveTo>
                    <a:lnTo>
                      <a:pt x="47" y="36"/>
                    </a:lnTo>
                    <a:lnTo>
                      <a:pt x="63" y="71"/>
                    </a:lnTo>
                    <a:lnTo>
                      <a:pt x="47" y="71"/>
                    </a:lnTo>
                    <a:lnTo>
                      <a:pt x="30" y="71"/>
                    </a:lnTo>
                    <a:lnTo>
                      <a:pt x="16" y="71"/>
                    </a:lnTo>
                    <a:lnTo>
                      <a:pt x="0" y="71"/>
                    </a:lnTo>
                    <a:lnTo>
                      <a:pt x="16" y="36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1620360" y="31924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950920" y="3517920"/>
              <a:ext cx="323640" cy="253800"/>
              <a:chOff x="2950920" y="3517920"/>
              <a:chExt cx="323640" cy="253800"/>
            </a:xfrm>
          </p:grpSpPr>
          <p:sp>
            <p:nvSpPr>
              <p:cNvPr id="379" name=""/>
              <p:cNvSpPr/>
              <p:nvPr/>
            </p:nvSpPr>
            <p:spPr>
              <a:xfrm>
                <a:off x="2950920" y="3517920"/>
                <a:ext cx="323640" cy="253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3096720" y="3571920"/>
                <a:ext cx="7416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071880" y="3079800"/>
              <a:ext cx="48600" cy="401400"/>
              <a:chOff x="3071880" y="3079800"/>
              <a:chExt cx="48600" cy="401400"/>
            </a:xfrm>
          </p:grpSpPr>
          <p:sp>
            <p:nvSpPr>
              <p:cNvPr id="382" name=""/>
              <p:cNvSpPr/>
              <p:nvPr/>
            </p:nvSpPr>
            <p:spPr>
              <a:xfrm>
                <a:off x="3071880" y="3079800"/>
                <a:ext cx="48600" cy="114120"/>
              </a:xfrm>
              <a:custGeom>
                <a:avLst/>
                <a:gdLst/>
                <a:ahLst/>
                <a:rect l="l" t="t" r="r" b="b"/>
                <a:pathLst>
                  <a:path w="31" h="72">
                    <a:moveTo>
                      <a:pt x="16" y="0"/>
                    </a:moveTo>
                    <a:lnTo>
                      <a:pt x="30" y="36"/>
                    </a:lnTo>
                    <a:lnTo>
                      <a:pt x="30" y="71"/>
                    </a:lnTo>
                    <a:lnTo>
                      <a:pt x="16" y="71"/>
                    </a:lnTo>
                    <a:lnTo>
                      <a:pt x="0" y="71"/>
                    </a:lnTo>
                    <a:lnTo>
                      <a:pt x="16" y="3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3096720" y="31924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4448160" y="3517920"/>
              <a:ext cx="323280" cy="253800"/>
              <a:chOff x="4448160" y="3517920"/>
              <a:chExt cx="323280" cy="253800"/>
            </a:xfrm>
          </p:grpSpPr>
          <p:sp>
            <p:nvSpPr>
              <p:cNvPr id="385" name=""/>
              <p:cNvSpPr/>
              <p:nvPr/>
            </p:nvSpPr>
            <p:spPr>
              <a:xfrm>
                <a:off x="4448160" y="3517920"/>
                <a:ext cx="323280" cy="253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596840" y="3571920"/>
                <a:ext cx="7596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4572000" y="3079800"/>
              <a:ext cx="77400" cy="401400"/>
              <a:chOff x="4572000" y="3079800"/>
              <a:chExt cx="77400" cy="401400"/>
            </a:xfrm>
          </p:grpSpPr>
          <p:sp>
            <p:nvSpPr>
              <p:cNvPr id="388" name=""/>
              <p:cNvSpPr/>
              <p:nvPr/>
            </p:nvSpPr>
            <p:spPr>
              <a:xfrm>
                <a:off x="4572000" y="3079800"/>
                <a:ext cx="77400" cy="114120"/>
              </a:xfrm>
              <a:custGeom>
                <a:avLst/>
                <a:gdLst/>
                <a:ahLst/>
                <a:rect l="l" t="t" r="r" b="b"/>
                <a:pathLst>
                  <a:path w="49" h="72">
                    <a:moveTo>
                      <a:pt x="31" y="0"/>
                    </a:moveTo>
                    <a:lnTo>
                      <a:pt x="31" y="36"/>
                    </a:lnTo>
                    <a:lnTo>
                      <a:pt x="48" y="71"/>
                    </a:lnTo>
                    <a:lnTo>
                      <a:pt x="31" y="71"/>
                    </a:lnTo>
                    <a:lnTo>
                      <a:pt x="17" y="71"/>
                    </a:lnTo>
                    <a:lnTo>
                      <a:pt x="0" y="71"/>
                    </a:lnTo>
                    <a:lnTo>
                      <a:pt x="17" y="36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4619160" y="31924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5949720" y="3517920"/>
              <a:ext cx="323640" cy="253800"/>
              <a:chOff x="5949720" y="3517920"/>
              <a:chExt cx="323640" cy="253800"/>
            </a:xfrm>
          </p:grpSpPr>
          <p:sp>
            <p:nvSpPr>
              <p:cNvPr id="391" name=""/>
              <p:cNvSpPr/>
              <p:nvPr/>
            </p:nvSpPr>
            <p:spPr>
              <a:xfrm>
                <a:off x="5949720" y="3517920"/>
                <a:ext cx="323640" cy="253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6098760" y="3571920"/>
                <a:ext cx="9792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6073560" y="3079800"/>
              <a:ext cx="74520" cy="401400"/>
              <a:chOff x="6073560" y="3079800"/>
              <a:chExt cx="74520" cy="401400"/>
            </a:xfrm>
          </p:grpSpPr>
          <p:sp>
            <p:nvSpPr>
              <p:cNvPr id="394" name=""/>
              <p:cNvSpPr/>
              <p:nvPr/>
            </p:nvSpPr>
            <p:spPr>
              <a:xfrm>
                <a:off x="6073560" y="3079800"/>
                <a:ext cx="74520" cy="114120"/>
              </a:xfrm>
              <a:custGeom>
                <a:avLst/>
                <a:gdLst/>
                <a:ahLst/>
                <a:rect l="l" t="t" r="r" b="b"/>
                <a:pathLst>
                  <a:path w="47" h="72">
                    <a:moveTo>
                      <a:pt x="30" y="0"/>
                    </a:moveTo>
                    <a:lnTo>
                      <a:pt x="30" y="36"/>
                    </a:lnTo>
                    <a:lnTo>
                      <a:pt x="46" y="71"/>
                    </a:lnTo>
                    <a:lnTo>
                      <a:pt x="30" y="71"/>
                    </a:lnTo>
                    <a:lnTo>
                      <a:pt x="16" y="71"/>
                    </a:lnTo>
                    <a:lnTo>
                      <a:pt x="0" y="71"/>
                    </a:lnTo>
                    <a:lnTo>
                      <a:pt x="16" y="36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6119280" y="31924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424640" y="3517920"/>
              <a:ext cx="321840" cy="253800"/>
              <a:chOff x="7424640" y="3517920"/>
              <a:chExt cx="321840" cy="253800"/>
            </a:xfrm>
          </p:grpSpPr>
          <p:sp>
            <p:nvSpPr>
              <p:cNvPr id="397" name=""/>
              <p:cNvSpPr/>
              <p:nvPr/>
            </p:nvSpPr>
            <p:spPr>
              <a:xfrm>
                <a:off x="7424640" y="3517920"/>
                <a:ext cx="321840" cy="253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7570440" y="3568320"/>
                <a:ext cx="10116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7543800" y="3079800"/>
              <a:ext cx="101160" cy="401400"/>
              <a:chOff x="7543800" y="3079800"/>
              <a:chExt cx="101160" cy="401400"/>
            </a:xfrm>
          </p:grpSpPr>
          <p:sp>
            <p:nvSpPr>
              <p:cNvPr id="400" name=""/>
              <p:cNvSpPr/>
              <p:nvPr/>
            </p:nvSpPr>
            <p:spPr>
              <a:xfrm>
                <a:off x="7543800" y="3079800"/>
                <a:ext cx="101160" cy="114120"/>
              </a:xfrm>
              <a:custGeom>
                <a:avLst/>
                <a:gdLst/>
                <a:ahLst/>
                <a:rect l="l" t="t" r="r" b="b"/>
                <a:pathLst>
                  <a:path w="64" h="72">
                    <a:moveTo>
                      <a:pt x="33" y="0"/>
                    </a:moveTo>
                    <a:lnTo>
                      <a:pt x="47" y="36"/>
                    </a:lnTo>
                    <a:lnTo>
                      <a:pt x="63" y="71"/>
                    </a:lnTo>
                    <a:lnTo>
                      <a:pt x="47" y="71"/>
                    </a:lnTo>
                    <a:lnTo>
                      <a:pt x="33" y="71"/>
                    </a:lnTo>
                    <a:lnTo>
                      <a:pt x="16" y="71"/>
                    </a:lnTo>
                    <a:lnTo>
                      <a:pt x="0" y="71"/>
                    </a:lnTo>
                    <a:lnTo>
                      <a:pt x="16" y="36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7595640" y="31924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54360" y="6515280"/>
            <a:ext cx="6925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</a:rPr>
              <a:t>Fonte - The Capability Maturity Model - Guidelines for improving the Software Process - CMU/S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9040" y="4149720"/>
            <a:ext cx="840096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necessidade predominante é estabelecer um efetiv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gerenciamento de proje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 softw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os de gerenciamento de projeto de software são documentados e segui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íticas organizacionais guiam os projetos no estabelecimento de processos de gerenciam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áticas de sucesso desenvolvidas em projetos anteriores podem ser repeti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009800" y="838080"/>
            <a:ext cx="7448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ff"/>
                </a:solidFill>
                <a:latin typeface="Century Schoolbook"/>
              </a:rPr>
              <a:t>Capability Matur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22720" y="5546880"/>
            <a:ext cx="698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48000" y="5737320"/>
            <a:ext cx="401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89200" y="4684680"/>
            <a:ext cx="11829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56760" y="4873680"/>
            <a:ext cx="235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65800" y="3719520"/>
            <a:ext cx="885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81440" y="3909960"/>
            <a:ext cx="401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04320" y="2944800"/>
            <a:ext cx="235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2280" y="5699160"/>
            <a:ext cx="2158920" cy="542880"/>
          </a:xfrm>
          <a:prstGeom prst="roundRect">
            <a:avLst>
              <a:gd name="adj" fmla="val 1555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414440" y="4684680"/>
            <a:ext cx="2162160" cy="614520"/>
            <a:chOff x="1414440" y="4684680"/>
            <a:chExt cx="2162160" cy="614520"/>
          </a:xfrm>
        </p:grpSpPr>
        <p:sp>
          <p:nvSpPr>
            <p:cNvPr id="415" name=""/>
            <p:cNvSpPr/>
            <p:nvPr/>
          </p:nvSpPr>
          <p:spPr>
            <a:xfrm>
              <a:off x="1515960" y="4684680"/>
              <a:ext cx="2060640" cy="541440"/>
            </a:xfrm>
            <a:prstGeom prst="roundRect">
              <a:avLst>
                <a:gd name="adj" fmla="val 15593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14440" y="4759200"/>
              <a:ext cx="2033640" cy="540000"/>
            </a:xfrm>
            <a:prstGeom prst="roundRect">
              <a:avLst>
                <a:gd name="adj" fmla="val 1559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403360" y="3730680"/>
            <a:ext cx="2165400" cy="628560"/>
            <a:chOff x="2403360" y="3730680"/>
            <a:chExt cx="2165400" cy="628560"/>
          </a:xfrm>
        </p:grpSpPr>
        <p:sp>
          <p:nvSpPr>
            <p:cNvPr id="418" name=""/>
            <p:cNvSpPr/>
            <p:nvPr/>
          </p:nvSpPr>
          <p:spPr>
            <a:xfrm>
              <a:off x="2506680" y="3730680"/>
              <a:ext cx="2062080" cy="555480"/>
            </a:xfrm>
            <a:prstGeom prst="roundRect">
              <a:avLst>
                <a:gd name="adj" fmla="val 15208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3360" y="3803760"/>
              <a:ext cx="2038320" cy="555480"/>
            </a:xfrm>
            <a:prstGeom prst="roundRect">
              <a:avLst>
                <a:gd name="adj" fmla="val 1520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759280" y="1828800"/>
            <a:ext cx="1152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915840" y="4938840"/>
            <a:ext cx="612360" cy="1199160"/>
            <a:chOff x="915840" y="4938840"/>
            <a:chExt cx="612360" cy="1199160"/>
          </a:xfrm>
        </p:grpSpPr>
        <p:sp>
          <p:nvSpPr>
            <p:cNvPr id="422" name=""/>
            <p:cNvSpPr/>
            <p:nvPr/>
          </p:nvSpPr>
          <p:spPr>
            <a:xfrm>
              <a:off x="915840" y="4992840"/>
              <a:ext cx="612360" cy="114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0"/>
                  </a:moveTo>
                  <a:arcTo wR="10800" hR="10800" stAng="-10790515" swAng="5319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0"/>
                  </a:moveTo>
                  <a:arcTo wR="10800" hR="10800" stAng="-10790515" swAng="5319190"/>
                </a:path>
              </a:pathLst>
            </a:custGeom>
            <a:noFill/>
            <a:ln cap="rnd"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168560" y="4938840"/>
              <a:ext cx="218880" cy="106200"/>
              <a:chOff x="1168560" y="4938840"/>
              <a:chExt cx="218880" cy="106200"/>
            </a:xfrm>
          </p:grpSpPr>
          <p:sp>
            <p:nvSpPr>
              <p:cNvPr id="424" name=""/>
              <p:cNvSpPr/>
              <p:nvPr/>
            </p:nvSpPr>
            <p:spPr>
              <a:xfrm>
                <a:off x="1181160" y="4938840"/>
                <a:ext cx="206280" cy="106200"/>
              </a:xfrm>
              <a:custGeom>
                <a:avLst/>
                <a:gdLst/>
                <a:ahLst/>
                <a:rect l="l" t="t" r="r" b="b"/>
                <a:pathLst>
                  <a:path w="130" h="67">
                    <a:moveTo>
                      <a:pt x="129" y="37"/>
                    </a:moveTo>
                    <a:lnTo>
                      <a:pt x="0" y="66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29" y="37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168560" y="4989600"/>
                <a:ext cx="6660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41" y="0"/>
                    </a:lnTo>
                    <a:lnTo>
                      <a:pt x="41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1906560" y="3821040"/>
            <a:ext cx="558360" cy="1446120"/>
            <a:chOff x="1906560" y="3821040"/>
            <a:chExt cx="558360" cy="1446120"/>
          </a:xfrm>
        </p:grpSpPr>
        <p:sp>
          <p:nvSpPr>
            <p:cNvPr id="427" name=""/>
            <p:cNvSpPr/>
            <p:nvPr/>
          </p:nvSpPr>
          <p:spPr>
            <a:xfrm>
              <a:off x="1906560" y="3882960"/>
              <a:ext cx="558360" cy="13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5"/>
                  </a:moveTo>
                  <a:arcTo wR="10800" hR="10800" stAng="-10792106" swAng="5372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5"/>
                  </a:moveTo>
                  <a:arcTo wR="10800" hR="10800" stAng="-10792106" swAng="5372596"/>
                </a:path>
              </a:pathLst>
            </a:custGeom>
            <a:noFill/>
            <a:ln cap="rnd"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2143080" y="3821040"/>
              <a:ext cx="196920" cy="127080"/>
              <a:chOff x="2143080" y="3821040"/>
              <a:chExt cx="196920" cy="127080"/>
            </a:xfrm>
          </p:grpSpPr>
          <p:sp>
            <p:nvSpPr>
              <p:cNvPr id="429" name=""/>
              <p:cNvSpPr/>
              <p:nvPr/>
            </p:nvSpPr>
            <p:spPr>
              <a:xfrm>
                <a:off x="2154240" y="3821040"/>
                <a:ext cx="185760" cy="127080"/>
              </a:xfrm>
              <a:custGeom>
                <a:avLst/>
                <a:gdLst/>
                <a:ahLst/>
                <a:rect l="l" t="t" r="r" b="b"/>
                <a:pathLst>
                  <a:path w="117" h="80">
                    <a:moveTo>
                      <a:pt x="116" y="44"/>
                    </a:moveTo>
                    <a:lnTo>
                      <a:pt x="0" y="79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116" y="44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43080" y="3881520"/>
                <a:ext cx="61920" cy="2700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0" y="0"/>
                    </a:moveTo>
                    <a:lnTo>
                      <a:pt x="38" y="0"/>
                    </a:lnTo>
                    <a:lnTo>
                      <a:pt x="3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>
            <a:off x="34920" y="4443480"/>
            <a:ext cx="1290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iplin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8440" y="5394240"/>
            <a:ext cx="766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000" y="3538440"/>
            <a:ext cx="2241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 Padrã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92080" y="3892680"/>
            <a:ext cx="1414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(3) Defin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87600" y="4113360"/>
            <a:ext cx="866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56080" y="5691240"/>
            <a:ext cx="467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mprevisível e Insatisfatoriamente contro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28880" y="4700520"/>
            <a:ext cx="25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cesso em taref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viamente dom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75480" y="3751200"/>
            <a:ext cx="2225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 processo está  caracterizado e bem enten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95480" y="59436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33920" y="4952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03480" y="5732640"/>
            <a:ext cx="108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22520" y="4863960"/>
            <a:ext cx="1476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(2) Repet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81160" y="5778360"/>
            <a:ext cx="1171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(1) Inic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grated System Diagnostics Brasil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(ISD Brasi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15328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É 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primeira empresa internacion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atuando na América do Sul, focad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exclusivamente em qualidade de processo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baseada em modelos reconhecidos mundialm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ISD Brasil trabalha com planejamento estratégico, treinamento, consultoria, avaliações (oficiais e preparatórias) e seleção de fornecedores, com base nos modelos do SEI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oftware-CMM, Software Acquisition-CMM, People-CMM, CMM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 , ISO9000, Six Sigma para Tecnologia, ISF for Excellence (framework integrado elaborado pela ISD Brasil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empresa é 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únic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que possui brasileiros com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redenciais do SE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ara efetuar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avaliaçõ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ministrar os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urso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oficiais de SW-CMM®, CMMI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métodos de avaliaçã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ISD é um “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SEI transition partn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” e tem trabalho ao longo dos anos junto ao SEI na criação dos diversos modelos(SW-CMM e CMMI) e métodos de avaliação(CBA-IPI, SCE, SCAM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537240" y="101520"/>
            <a:ext cx="2571840" cy="4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333360" y="1166760"/>
            <a:ext cx="8354880" cy="1197000"/>
            <a:chOff x="333360" y="1166760"/>
            <a:chExt cx="8354880" cy="1197000"/>
          </a:xfrm>
        </p:grpSpPr>
        <p:sp>
          <p:nvSpPr>
            <p:cNvPr id="446" name=""/>
            <p:cNvSpPr/>
            <p:nvPr/>
          </p:nvSpPr>
          <p:spPr>
            <a:xfrm>
              <a:off x="336600" y="1176480"/>
              <a:ext cx="8343720" cy="36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76520" y="117144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82120" y="117144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3360" y="116676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3360" y="2362320"/>
              <a:ext cx="8354880" cy="1440"/>
            </a:xfrm>
            <a:custGeom>
              <a:avLst/>
              <a:gdLst/>
              <a:ahLst/>
              <a:rect l="l" t="t" r="r" b="b"/>
              <a:pathLst>
                <a:path w="5263" h="1">
                  <a:moveTo>
                    <a:pt x="0" y="0"/>
                  </a:moveTo>
                  <a:lnTo>
                    <a:pt x="526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20280" y="1200240"/>
            <a:ext cx="7610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N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93920" y="1185840"/>
            <a:ext cx="43498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Características do  Gerenci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360" y="6515280"/>
            <a:ext cx="6925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</a:rPr>
              <a:t>Fonte - The Capability Maturity Model - Guidelines for improving the Software Process - CMU/S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5400" y="1684440"/>
            <a:ext cx="425520" cy="600120"/>
          </a:xfrm>
          <a:custGeom>
            <a:avLst/>
            <a:gdLst/>
            <a:ahLst/>
            <a:rect l="l" t="t" r="r" b="b"/>
            <a:pathLst>
              <a:path w="268" h="378">
                <a:moveTo>
                  <a:pt x="168" y="167"/>
                </a:moveTo>
                <a:lnTo>
                  <a:pt x="199" y="151"/>
                </a:lnTo>
                <a:lnTo>
                  <a:pt x="229" y="134"/>
                </a:lnTo>
                <a:lnTo>
                  <a:pt x="245" y="117"/>
                </a:lnTo>
                <a:lnTo>
                  <a:pt x="251" y="92"/>
                </a:lnTo>
                <a:lnTo>
                  <a:pt x="237" y="50"/>
                </a:lnTo>
                <a:lnTo>
                  <a:pt x="213" y="25"/>
                </a:lnTo>
                <a:lnTo>
                  <a:pt x="175" y="0"/>
                </a:lnTo>
                <a:lnTo>
                  <a:pt x="137" y="0"/>
                </a:lnTo>
                <a:lnTo>
                  <a:pt x="84" y="8"/>
                </a:lnTo>
                <a:lnTo>
                  <a:pt x="46" y="25"/>
                </a:lnTo>
                <a:lnTo>
                  <a:pt x="30" y="50"/>
                </a:lnTo>
                <a:lnTo>
                  <a:pt x="22" y="84"/>
                </a:lnTo>
                <a:lnTo>
                  <a:pt x="22" y="100"/>
                </a:lnTo>
                <a:lnTo>
                  <a:pt x="30" y="117"/>
                </a:lnTo>
                <a:lnTo>
                  <a:pt x="46" y="117"/>
                </a:lnTo>
                <a:lnTo>
                  <a:pt x="54" y="117"/>
                </a:lnTo>
                <a:lnTo>
                  <a:pt x="61" y="117"/>
                </a:lnTo>
                <a:lnTo>
                  <a:pt x="68" y="108"/>
                </a:lnTo>
                <a:lnTo>
                  <a:pt x="68" y="92"/>
                </a:lnTo>
                <a:lnTo>
                  <a:pt x="68" y="84"/>
                </a:lnTo>
                <a:lnTo>
                  <a:pt x="68" y="75"/>
                </a:lnTo>
                <a:lnTo>
                  <a:pt x="61" y="67"/>
                </a:lnTo>
                <a:lnTo>
                  <a:pt x="61" y="58"/>
                </a:lnTo>
                <a:lnTo>
                  <a:pt x="68" y="50"/>
                </a:lnTo>
                <a:lnTo>
                  <a:pt x="84" y="33"/>
                </a:lnTo>
                <a:lnTo>
                  <a:pt x="107" y="25"/>
                </a:lnTo>
                <a:lnTo>
                  <a:pt x="130" y="25"/>
                </a:lnTo>
                <a:lnTo>
                  <a:pt x="160" y="25"/>
                </a:lnTo>
                <a:lnTo>
                  <a:pt x="168" y="41"/>
                </a:lnTo>
                <a:lnTo>
                  <a:pt x="183" y="58"/>
                </a:lnTo>
                <a:lnTo>
                  <a:pt x="191" y="92"/>
                </a:lnTo>
                <a:lnTo>
                  <a:pt x="183" y="117"/>
                </a:lnTo>
                <a:lnTo>
                  <a:pt x="168" y="134"/>
                </a:lnTo>
                <a:lnTo>
                  <a:pt x="145" y="151"/>
                </a:lnTo>
                <a:lnTo>
                  <a:pt x="114" y="159"/>
                </a:lnTo>
                <a:lnTo>
                  <a:pt x="107" y="159"/>
                </a:lnTo>
                <a:lnTo>
                  <a:pt x="99" y="159"/>
                </a:lnTo>
                <a:lnTo>
                  <a:pt x="92" y="159"/>
                </a:lnTo>
                <a:lnTo>
                  <a:pt x="92" y="184"/>
                </a:lnTo>
                <a:lnTo>
                  <a:pt x="99" y="184"/>
                </a:lnTo>
                <a:lnTo>
                  <a:pt x="107" y="184"/>
                </a:lnTo>
                <a:lnTo>
                  <a:pt x="114" y="184"/>
                </a:lnTo>
                <a:lnTo>
                  <a:pt x="160" y="184"/>
                </a:lnTo>
                <a:lnTo>
                  <a:pt x="183" y="193"/>
                </a:lnTo>
                <a:lnTo>
                  <a:pt x="199" y="226"/>
                </a:lnTo>
                <a:lnTo>
                  <a:pt x="206" y="268"/>
                </a:lnTo>
                <a:lnTo>
                  <a:pt x="199" y="302"/>
                </a:lnTo>
                <a:lnTo>
                  <a:pt x="183" y="327"/>
                </a:lnTo>
                <a:lnTo>
                  <a:pt x="160" y="344"/>
                </a:lnTo>
                <a:lnTo>
                  <a:pt x="130" y="344"/>
                </a:lnTo>
                <a:lnTo>
                  <a:pt x="99" y="344"/>
                </a:lnTo>
                <a:lnTo>
                  <a:pt x="76" y="336"/>
                </a:lnTo>
                <a:lnTo>
                  <a:pt x="54" y="327"/>
                </a:lnTo>
                <a:lnTo>
                  <a:pt x="54" y="310"/>
                </a:lnTo>
                <a:lnTo>
                  <a:pt x="54" y="302"/>
                </a:lnTo>
                <a:lnTo>
                  <a:pt x="54" y="293"/>
                </a:lnTo>
                <a:lnTo>
                  <a:pt x="54" y="285"/>
                </a:lnTo>
                <a:lnTo>
                  <a:pt x="54" y="268"/>
                </a:lnTo>
                <a:lnTo>
                  <a:pt x="46" y="268"/>
                </a:lnTo>
                <a:lnTo>
                  <a:pt x="38" y="260"/>
                </a:lnTo>
                <a:lnTo>
                  <a:pt x="30" y="260"/>
                </a:lnTo>
                <a:lnTo>
                  <a:pt x="22" y="260"/>
                </a:lnTo>
                <a:lnTo>
                  <a:pt x="8" y="268"/>
                </a:lnTo>
                <a:lnTo>
                  <a:pt x="0" y="277"/>
                </a:lnTo>
                <a:lnTo>
                  <a:pt x="0" y="293"/>
                </a:lnTo>
                <a:lnTo>
                  <a:pt x="8" y="327"/>
                </a:lnTo>
                <a:lnTo>
                  <a:pt x="30" y="344"/>
                </a:lnTo>
                <a:lnTo>
                  <a:pt x="68" y="369"/>
                </a:lnTo>
                <a:lnTo>
                  <a:pt x="122" y="377"/>
                </a:lnTo>
                <a:lnTo>
                  <a:pt x="175" y="369"/>
                </a:lnTo>
                <a:lnTo>
                  <a:pt x="221" y="344"/>
                </a:lnTo>
                <a:lnTo>
                  <a:pt x="259" y="310"/>
                </a:lnTo>
                <a:lnTo>
                  <a:pt x="267" y="268"/>
                </a:lnTo>
                <a:lnTo>
                  <a:pt x="259" y="226"/>
                </a:lnTo>
                <a:lnTo>
                  <a:pt x="245" y="193"/>
                </a:lnTo>
                <a:lnTo>
                  <a:pt x="213" y="184"/>
                </a:lnTo>
                <a:lnTo>
                  <a:pt x="168" y="167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5400" y="1684440"/>
            <a:ext cx="425520" cy="600120"/>
          </a:xfrm>
          <a:custGeom>
            <a:avLst/>
            <a:gdLst/>
            <a:ahLst/>
            <a:rect l="l" t="t" r="r" b="b"/>
            <a:pathLst>
              <a:path w="268" h="378">
                <a:moveTo>
                  <a:pt x="168" y="167"/>
                </a:moveTo>
                <a:lnTo>
                  <a:pt x="199" y="151"/>
                </a:lnTo>
                <a:lnTo>
                  <a:pt x="229" y="134"/>
                </a:lnTo>
                <a:lnTo>
                  <a:pt x="245" y="117"/>
                </a:lnTo>
                <a:lnTo>
                  <a:pt x="251" y="92"/>
                </a:lnTo>
                <a:lnTo>
                  <a:pt x="237" y="50"/>
                </a:lnTo>
                <a:lnTo>
                  <a:pt x="213" y="25"/>
                </a:lnTo>
                <a:lnTo>
                  <a:pt x="175" y="0"/>
                </a:lnTo>
                <a:lnTo>
                  <a:pt x="137" y="0"/>
                </a:lnTo>
                <a:lnTo>
                  <a:pt x="84" y="8"/>
                </a:lnTo>
                <a:lnTo>
                  <a:pt x="46" y="25"/>
                </a:lnTo>
                <a:lnTo>
                  <a:pt x="30" y="50"/>
                </a:lnTo>
                <a:lnTo>
                  <a:pt x="22" y="84"/>
                </a:lnTo>
                <a:lnTo>
                  <a:pt x="22" y="100"/>
                </a:lnTo>
                <a:lnTo>
                  <a:pt x="30" y="117"/>
                </a:lnTo>
                <a:lnTo>
                  <a:pt x="46" y="117"/>
                </a:lnTo>
                <a:lnTo>
                  <a:pt x="54" y="117"/>
                </a:lnTo>
                <a:lnTo>
                  <a:pt x="61" y="117"/>
                </a:lnTo>
                <a:lnTo>
                  <a:pt x="68" y="108"/>
                </a:lnTo>
                <a:lnTo>
                  <a:pt x="68" y="92"/>
                </a:lnTo>
                <a:lnTo>
                  <a:pt x="68" y="84"/>
                </a:lnTo>
                <a:lnTo>
                  <a:pt x="68" y="75"/>
                </a:lnTo>
                <a:lnTo>
                  <a:pt x="61" y="67"/>
                </a:lnTo>
                <a:lnTo>
                  <a:pt x="61" y="58"/>
                </a:lnTo>
                <a:lnTo>
                  <a:pt x="68" y="50"/>
                </a:lnTo>
                <a:lnTo>
                  <a:pt x="84" y="33"/>
                </a:lnTo>
                <a:lnTo>
                  <a:pt x="107" y="25"/>
                </a:lnTo>
                <a:lnTo>
                  <a:pt x="130" y="25"/>
                </a:lnTo>
                <a:lnTo>
                  <a:pt x="160" y="25"/>
                </a:lnTo>
                <a:lnTo>
                  <a:pt x="168" y="41"/>
                </a:lnTo>
                <a:lnTo>
                  <a:pt x="183" y="58"/>
                </a:lnTo>
                <a:lnTo>
                  <a:pt x="191" y="92"/>
                </a:lnTo>
                <a:lnTo>
                  <a:pt x="183" y="117"/>
                </a:lnTo>
                <a:lnTo>
                  <a:pt x="168" y="134"/>
                </a:lnTo>
                <a:lnTo>
                  <a:pt x="145" y="151"/>
                </a:lnTo>
                <a:lnTo>
                  <a:pt x="114" y="159"/>
                </a:lnTo>
                <a:lnTo>
                  <a:pt x="107" y="159"/>
                </a:lnTo>
                <a:lnTo>
                  <a:pt x="99" y="159"/>
                </a:lnTo>
                <a:lnTo>
                  <a:pt x="92" y="159"/>
                </a:lnTo>
                <a:lnTo>
                  <a:pt x="92" y="184"/>
                </a:lnTo>
                <a:lnTo>
                  <a:pt x="99" y="184"/>
                </a:lnTo>
                <a:lnTo>
                  <a:pt x="107" y="184"/>
                </a:lnTo>
                <a:lnTo>
                  <a:pt x="114" y="184"/>
                </a:lnTo>
                <a:lnTo>
                  <a:pt x="160" y="184"/>
                </a:lnTo>
                <a:lnTo>
                  <a:pt x="183" y="193"/>
                </a:lnTo>
                <a:lnTo>
                  <a:pt x="199" y="226"/>
                </a:lnTo>
                <a:lnTo>
                  <a:pt x="206" y="268"/>
                </a:lnTo>
                <a:lnTo>
                  <a:pt x="199" y="302"/>
                </a:lnTo>
                <a:lnTo>
                  <a:pt x="183" y="327"/>
                </a:lnTo>
                <a:lnTo>
                  <a:pt x="160" y="344"/>
                </a:lnTo>
                <a:lnTo>
                  <a:pt x="130" y="344"/>
                </a:lnTo>
                <a:lnTo>
                  <a:pt x="99" y="344"/>
                </a:lnTo>
                <a:lnTo>
                  <a:pt x="76" y="336"/>
                </a:lnTo>
                <a:lnTo>
                  <a:pt x="54" y="327"/>
                </a:lnTo>
                <a:lnTo>
                  <a:pt x="54" y="310"/>
                </a:lnTo>
                <a:lnTo>
                  <a:pt x="54" y="302"/>
                </a:lnTo>
                <a:lnTo>
                  <a:pt x="54" y="293"/>
                </a:lnTo>
                <a:lnTo>
                  <a:pt x="54" y="285"/>
                </a:lnTo>
                <a:lnTo>
                  <a:pt x="54" y="268"/>
                </a:lnTo>
                <a:lnTo>
                  <a:pt x="46" y="268"/>
                </a:lnTo>
                <a:lnTo>
                  <a:pt x="38" y="260"/>
                </a:lnTo>
                <a:lnTo>
                  <a:pt x="30" y="260"/>
                </a:lnTo>
                <a:lnTo>
                  <a:pt x="22" y="260"/>
                </a:lnTo>
                <a:lnTo>
                  <a:pt x="8" y="268"/>
                </a:lnTo>
                <a:lnTo>
                  <a:pt x="0" y="277"/>
                </a:lnTo>
                <a:lnTo>
                  <a:pt x="0" y="293"/>
                </a:lnTo>
                <a:lnTo>
                  <a:pt x="8" y="327"/>
                </a:lnTo>
                <a:lnTo>
                  <a:pt x="30" y="344"/>
                </a:lnTo>
                <a:lnTo>
                  <a:pt x="68" y="369"/>
                </a:lnTo>
                <a:lnTo>
                  <a:pt x="122" y="377"/>
                </a:lnTo>
                <a:lnTo>
                  <a:pt x="175" y="369"/>
                </a:lnTo>
                <a:lnTo>
                  <a:pt x="221" y="344"/>
                </a:lnTo>
                <a:lnTo>
                  <a:pt x="259" y="310"/>
                </a:lnTo>
                <a:lnTo>
                  <a:pt x="267" y="268"/>
                </a:lnTo>
                <a:lnTo>
                  <a:pt x="259" y="226"/>
                </a:lnTo>
                <a:lnTo>
                  <a:pt x="245" y="193"/>
                </a:lnTo>
                <a:lnTo>
                  <a:pt x="213" y="184"/>
                </a:lnTo>
                <a:lnTo>
                  <a:pt x="168" y="167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2360" y="1808280"/>
            <a:ext cx="1151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fin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60680" y="1657440"/>
            <a:ext cx="69498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renciamento é feito de acordo com um processo bem defin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81200" y="2841480"/>
            <a:ext cx="3066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49000" y="2708280"/>
            <a:ext cx="7982640" cy="1159560"/>
            <a:chOff x="549000" y="2708280"/>
            <a:chExt cx="7982640" cy="1159560"/>
          </a:xfrm>
        </p:grpSpPr>
        <p:grpSp>
          <p:nvGrpSpPr>
            <p:cNvPr id="460" name=""/>
            <p:cNvGrpSpPr/>
            <p:nvPr/>
          </p:nvGrpSpPr>
          <p:grpSpPr>
            <a:xfrm>
              <a:off x="1635120" y="2708280"/>
              <a:ext cx="5766480" cy="477720"/>
              <a:chOff x="1635120" y="2708280"/>
              <a:chExt cx="5766480" cy="477720"/>
            </a:xfrm>
          </p:grpSpPr>
          <p:sp>
            <p:nvSpPr>
              <p:cNvPr id="461" name=""/>
              <p:cNvSpPr/>
              <p:nvPr/>
            </p:nvSpPr>
            <p:spPr>
              <a:xfrm>
                <a:off x="1635120" y="2708280"/>
                <a:ext cx="1136160" cy="477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68000" y="2708280"/>
                <a:ext cx="1163520" cy="477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730400" y="2708280"/>
                <a:ext cx="1136160" cy="477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63640" y="2708280"/>
                <a:ext cx="1137960" cy="477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49000" y="2795400"/>
              <a:ext cx="33120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63280" y="2795400"/>
              <a:ext cx="46836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628640" y="2759040"/>
              <a:ext cx="1169280" cy="407160"/>
              <a:chOff x="1628640" y="2759040"/>
              <a:chExt cx="1169280" cy="407160"/>
            </a:xfrm>
          </p:grpSpPr>
          <p:sp>
            <p:nvSpPr>
              <p:cNvPr id="468" name=""/>
              <p:cNvSpPr/>
              <p:nvPr/>
            </p:nvSpPr>
            <p:spPr>
              <a:xfrm>
                <a:off x="1887120" y="2759040"/>
                <a:ext cx="242640" cy="120240"/>
              </a:xfrm>
              <a:custGeom>
                <a:avLst/>
                <a:gdLst/>
                <a:ahLst/>
                <a:rect l="l" t="t" r="r" b="b"/>
                <a:pathLst>
                  <a:path w="153" h="76">
                    <a:moveTo>
                      <a:pt x="0" y="0"/>
                    </a:moveTo>
                    <a:lnTo>
                      <a:pt x="152" y="0"/>
                    </a:lnTo>
                    <a:lnTo>
                      <a:pt x="152" y="75"/>
                    </a:lnTo>
                    <a:lnTo>
                      <a:pt x="0" y="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628640" y="2814120"/>
                <a:ext cx="2854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995120" y="2841120"/>
                <a:ext cx="0" cy="142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128320" y="2871360"/>
                <a:ext cx="279000" cy="19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511000" y="2898360"/>
                <a:ext cx="0" cy="169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864800" y="2984040"/>
                <a:ext cx="240840" cy="121680"/>
              </a:xfrm>
              <a:custGeom>
                <a:avLst/>
                <a:gdLst/>
                <a:ahLst/>
                <a:rect l="l" t="t" r="r" b="b"/>
                <a:pathLst>
                  <a:path w="152" h="77">
                    <a:moveTo>
                      <a:pt x="0" y="0"/>
                    </a:moveTo>
                    <a:lnTo>
                      <a:pt x="151" y="0"/>
                    </a:lnTo>
                    <a:lnTo>
                      <a:pt x="151" y="76"/>
                    </a:lnTo>
                    <a:lnTo>
                      <a:pt x="0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58720" y="2785680"/>
                <a:ext cx="240840" cy="123120"/>
              </a:xfrm>
              <a:custGeom>
                <a:avLst/>
                <a:gdLst/>
                <a:ahLst/>
                <a:rect l="l" t="t" r="r" b="b"/>
                <a:pathLst>
                  <a:path w="152" h="78">
                    <a:moveTo>
                      <a:pt x="0" y="0"/>
                    </a:moveTo>
                    <a:lnTo>
                      <a:pt x="151" y="0"/>
                    </a:lnTo>
                    <a:lnTo>
                      <a:pt x="151" y="77"/>
                    </a:ln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382480" y="3040920"/>
                <a:ext cx="266400" cy="125280"/>
              </a:xfrm>
              <a:custGeom>
                <a:avLst/>
                <a:gdLst/>
                <a:ahLst/>
                <a:rect l="l" t="t" r="r" b="b"/>
                <a:pathLst>
                  <a:path w="168" h="79">
                    <a:moveTo>
                      <a:pt x="0" y="0"/>
                    </a:moveTo>
                    <a:lnTo>
                      <a:pt x="167" y="0"/>
                    </a:lnTo>
                    <a:lnTo>
                      <a:pt x="167" y="78"/>
                    </a:lnTo>
                    <a:lnTo>
                      <a:pt x="0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19000" y="2871360"/>
                <a:ext cx="178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3139920" y="2759040"/>
              <a:ext cx="1218600" cy="407160"/>
              <a:chOff x="3139920" y="2759040"/>
              <a:chExt cx="1218600" cy="407160"/>
            </a:xfrm>
          </p:grpSpPr>
          <p:sp>
            <p:nvSpPr>
              <p:cNvPr id="478" name=""/>
              <p:cNvSpPr/>
              <p:nvPr/>
            </p:nvSpPr>
            <p:spPr>
              <a:xfrm>
                <a:off x="3422160" y="2759040"/>
                <a:ext cx="242640" cy="120240"/>
              </a:xfrm>
              <a:custGeom>
                <a:avLst/>
                <a:gdLst/>
                <a:ahLst/>
                <a:rect l="l" t="t" r="r" b="b"/>
                <a:pathLst>
                  <a:path w="153" h="76">
                    <a:moveTo>
                      <a:pt x="0" y="0"/>
                    </a:moveTo>
                    <a:lnTo>
                      <a:pt x="152" y="0"/>
                    </a:lnTo>
                    <a:lnTo>
                      <a:pt x="152" y="75"/>
                    </a:lnTo>
                    <a:lnTo>
                      <a:pt x="0" y="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9920" y="2814120"/>
                <a:ext cx="282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528360" y="2841120"/>
                <a:ext cx="0" cy="142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636360" y="2871360"/>
                <a:ext cx="306000" cy="19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46040" y="2898360"/>
                <a:ext cx="0" cy="169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372840" y="2984040"/>
                <a:ext cx="241200" cy="121680"/>
              </a:xfrm>
              <a:custGeom>
                <a:avLst/>
                <a:gdLst/>
                <a:ahLst/>
                <a:rect l="l" t="t" r="r" b="b"/>
                <a:pathLst>
                  <a:path w="152" h="77">
                    <a:moveTo>
                      <a:pt x="0" y="0"/>
                    </a:moveTo>
                    <a:lnTo>
                      <a:pt x="151" y="0"/>
                    </a:lnTo>
                    <a:lnTo>
                      <a:pt x="151" y="76"/>
                    </a:lnTo>
                    <a:lnTo>
                      <a:pt x="0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893760" y="2785680"/>
                <a:ext cx="239400" cy="123120"/>
              </a:xfrm>
              <a:custGeom>
                <a:avLst/>
                <a:gdLst/>
                <a:ahLst/>
                <a:rect l="l" t="t" r="r" b="b"/>
                <a:pathLst>
                  <a:path w="151" h="78">
                    <a:moveTo>
                      <a:pt x="0" y="0"/>
                    </a:moveTo>
                    <a:lnTo>
                      <a:pt x="150" y="0"/>
                    </a:lnTo>
                    <a:lnTo>
                      <a:pt x="150" y="77"/>
                    </a:ln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42720" y="3040920"/>
                <a:ext cx="241200" cy="125280"/>
              </a:xfrm>
              <a:custGeom>
                <a:avLst/>
                <a:gdLst/>
                <a:ahLst/>
                <a:rect l="l" t="t" r="r" b="b"/>
                <a:pathLst>
                  <a:path w="152" h="79">
                    <a:moveTo>
                      <a:pt x="0" y="0"/>
                    </a:moveTo>
                    <a:lnTo>
                      <a:pt x="151" y="0"/>
                    </a:lnTo>
                    <a:lnTo>
                      <a:pt x="151" y="78"/>
                    </a:lnTo>
                    <a:lnTo>
                      <a:pt x="0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127040" y="2871360"/>
                <a:ext cx="2314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4697280" y="2759040"/>
              <a:ext cx="1196280" cy="407160"/>
              <a:chOff x="4697280" y="2759040"/>
              <a:chExt cx="1196280" cy="407160"/>
            </a:xfrm>
          </p:grpSpPr>
          <p:sp>
            <p:nvSpPr>
              <p:cNvPr id="488" name=""/>
              <p:cNvSpPr/>
              <p:nvPr/>
            </p:nvSpPr>
            <p:spPr>
              <a:xfrm>
                <a:off x="4957200" y="2759040"/>
                <a:ext cx="241200" cy="120240"/>
              </a:xfrm>
              <a:custGeom>
                <a:avLst/>
                <a:gdLst/>
                <a:ahLst/>
                <a:rect l="l" t="t" r="r" b="b"/>
                <a:pathLst>
                  <a:path w="152" h="76">
                    <a:moveTo>
                      <a:pt x="0" y="0"/>
                    </a:moveTo>
                    <a:lnTo>
                      <a:pt x="151" y="0"/>
                    </a:lnTo>
                    <a:lnTo>
                      <a:pt x="151" y="75"/>
                    </a:lnTo>
                    <a:lnTo>
                      <a:pt x="0" y="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697280" y="2814120"/>
                <a:ext cx="259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63760" y="2841120"/>
                <a:ext cx="0" cy="142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68520" y="2871360"/>
                <a:ext cx="309240" cy="19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579640" y="2898360"/>
                <a:ext cx="0" cy="169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906440" y="2984040"/>
                <a:ext cx="242640" cy="121680"/>
              </a:xfrm>
              <a:custGeom>
                <a:avLst/>
                <a:gdLst/>
                <a:ahLst/>
                <a:rect l="l" t="t" r="r" b="b"/>
                <a:pathLst>
                  <a:path w="153" h="77">
                    <a:moveTo>
                      <a:pt x="0" y="0"/>
                    </a:moveTo>
                    <a:lnTo>
                      <a:pt x="152" y="0"/>
                    </a:lnTo>
                    <a:lnTo>
                      <a:pt x="152" y="76"/>
                    </a:lnTo>
                    <a:lnTo>
                      <a:pt x="0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27360" y="2785680"/>
                <a:ext cx="240840" cy="123120"/>
              </a:xfrm>
              <a:custGeom>
                <a:avLst/>
                <a:gdLst/>
                <a:ahLst/>
                <a:rect l="l" t="t" r="r" b="b"/>
                <a:pathLst>
                  <a:path w="152" h="78">
                    <a:moveTo>
                      <a:pt x="0" y="0"/>
                    </a:moveTo>
                    <a:lnTo>
                      <a:pt x="151" y="0"/>
                    </a:lnTo>
                    <a:lnTo>
                      <a:pt x="151" y="77"/>
                    </a:ln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8120" y="3040920"/>
                <a:ext cx="239040" cy="125280"/>
              </a:xfrm>
              <a:custGeom>
                <a:avLst/>
                <a:gdLst/>
                <a:ahLst/>
                <a:rect l="l" t="t" r="r" b="b"/>
                <a:pathLst>
                  <a:path w="151" h="79">
                    <a:moveTo>
                      <a:pt x="0" y="0"/>
                    </a:moveTo>
                    <a:lnTo>
                      <a:pt x="150" y="0"/>
                    </a:lnTo>
                    <a:lnTo>
                      <a:pt x="150" y="78"/>
                    </a:lnTo>
                    <a:lnTo>
                      <a:pt x="0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660640" y="2871360"/>
                <a:ext cx="232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6257880" y="2759040"/>
              <a:ext cx="1170720" cy="407160"/>
              <a:chOff x="6257880" y="2759040"/>
              <a:chExt cx="1170720" cy="407160"/>
            </a:xfrm>
          </p:grpSpPr>
          <p:sp>
            <p:nvSpPr>
              <p:cNvPr id="498" name=""/>
              <p:cNvSpPr/>
              <p:nvPr/>
            </p:nvSpPr>
            <p:spPr>
              <a:xfrm>
                <a:off x="6490800" y="2759040"/>
                <a:ext cx="242640" cy="120240"/>
              </a:xfrm>
              <a:custGeom>
                <a:avLst/>
                <a:gdLst/>
                <a:ahLst/>
                <a:rect l="l" t="t" r="r" b="b"/>
                <a:pathLst>
                  <a:path w="153" h="76">
                    <a:moveTo>
                      <a:pt x="0" y="0"/>
                    </a:moveTo>
                    <a:lnTo>
                      <a:pt x="152" y="0"/>
                    </a:lnTo>
                    <a:lnTo>
                      <a:pt x="152" y="75"/>
                    </a:lnTo>
                    <a:lnTo>
                      <a:pt x="0" y="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57880" y="2814120"/>
                <a:ext cx="259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598800" y="2841120"/>
                <a:ext cx="0" cy="142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732000" y="2871360"/>
                <a:ext cx="306000" cy="19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14680" y="2898360"/>
                <a:ext cx="0" cy="169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67040" y="2984040"/>
                <a:ext cx="242640" cy="121680"/>
              </a:xfrm>
              <a:custGeom>
                <a:avLst/>
                <a:gdLst/>
                <a:ahLst/>
                <a:rect l="l" t="t" r="r" b="b"/>
                <a:pathLst>
                  <a:path w="153" h="77">
                    <a:moveTo>
                      <a:pt x="0" y="0"/>
                    </a:moveTo>
                    <a:lnTo>
                      <a:pt x="152" y="0"/>
                    </a:lnTo>
                    <a:lnTo>
                      <a:pt x="152" y="76"/>
                    </a:lnTo>
                    <a:lnTo>
                      <a:pt x="0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62400" y="2785680"/>
                <a:ext cx="239400" cy="123120"/>
              </a:xfrm>
              <a:custGeom>
                <a:avLst/>
                <a:gdLst/>
                <a:ahLst/>
                <a:rect l="l" t="t" r="r" b="b"/>
                <a:pathLst>
                  <a:path w="151" h="78">
                    <a:moveTo>
                      <a:pt x="0" y="0"/>
                    </a:moveTo>
                    <a:lnTo>
                      <a:pt x="150" y="0"/>
                    </a:lnTo>
                    <a:lnTo>
                      <a:pt x="150" y="77"/>
                    </a:ln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11360" y="3040920"/>
                <a:ext cx="241200" cy="125280"/>
              </a:xfrm>
              <a:custGeom>
                <a:avLst/>
                <a:gdLst/>
                <a:ahLst/>
                <a:rect l="l" t="t" r="r" b="b"/>
                <a:pathLst>
                  <a:path w="152" h="79">
                    <a:moveTo>
                      <a:pt x="0" y="0"/>
                    </a:moveTo>
                    <a:lnTo>
                      <a:pt x="151" y="0"/>
                    </a:lnTo>
                    <a:lnTo>
                      <a:pt x="151" y="78"/>
                    </a:lnTo>
                    <a:lnTo>
                      <a:pt x="0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221240" y="2871360"/>
                <a:ext cx="207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2001600" y="3530520"/>
              <a:ext cx="172800" cy="137520"/>
              <a:chOff x="2001600" y="3530520"/>
              <a:chExt cx="172800" cy="137520"/>
            </a:xfrm>
          </p:grpSpPr>
          <p:sp>
            <p:nvSpPr>
              <p:cNvPr id="508" name=""/>
              <p:cNvSpPr/>
              <p:nvPr/>
            </p:nvSpPr>
            <p:spPr>
              <a:xfrm>
                <a:off x="2001600" y="3530520"/>
                <a:ext cx="17280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2044080" y="3555360"/>
                <a:ext cx="7920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535200" y="3530520"/>
              <a:ext cx="174240" cy="137520"/>
              <a:chOff x="3535200" y="3530520"/>
              <a:chExt cx="174240" cy="137520"/>
            </a:xfrm>
          </p:grpSpPr>
          <p:sp>
            <p:nvSpPr>
              <p:cNvPr id="511" name=""/>
              <p:cNvSpPr/>
              <p:nvPr/>
            </p:nvSpPr>
            <p:spPr>
              <a:xfrm>
                <a:off x="3535200" y="3530520"/>
                <a:ext cx="17424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3579480" y="3555360"/>
                <a:ext cx="7884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768480" y="3530520"/>
              <a:ext cx="199800" cy="137520"/>
              <a:chOff x="3768480" y="3530520"/>
              <a:chExt cx="199800" cy="137520"/>
            </a:xfrm>
          </p:grpSpPr>
          <p:sp>
            <p:nvSpPr>
              <p:cNvPr id="514" name=""/>
              <p:cNvSpPr/>
              <p:nvPr/>
            </p:nvSpPr>
            <p:spPr>
              <a:xfrm>
                <a:off x="3768480" y="3530520"/>
                <a:ext cx="19980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3837960" y="3555360"/>
                <a:ext cx="7596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5303880" y="3530520"/>
              <a:ext cx="199440" cy="137520"/>
              <a:chOff x="5303880" y="3530520"/>
              <a:chExt cx="199440" cy="137520"/>
            </a:xfrm>
          </p:grpSpPr>
          <p:sp>
            <p:nvSpPr>
              <p:cNvPr id="517" name=""/>
              <p:cNvSpPr/>
              <p:nvPr/>
            </p:nvSpPr>
            <p:spPr>
              <a:xfrm>
                <a:off x="5303880" y="3530520"/>
                <a:ext cx="19944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5373360" y="3555360"/>
                <a:ext cx="7560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002120" y="3530520"/>
              <a:ext cx="201240" cy="137520"/>
              <a:chOff x="4002120" y="3530520"/>
              <a:chExt cx="201240" cy="137520"/>
            </a:xfrm>
          </p:grpSpPr>
          <p:sp>
            <p:nvSpPr>
              <p:cNvPr id="520" name=""/>
              <p:cNvSpPr/>
              <p:nvPr/>
            </p:nvSpPr>
            <p:spPr>
              <a:xfrm>
                <a:off x="4002120" y="3530520"/>
                <a:ext cx="20124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4071600" y="3555360"/>
                <a:ext cx="8064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537160" y="3530520"/>
              <a:ext cx="201240" cy="137520"/>
              <a:chOff x="5537160" y="3530520"/>
              <a:chExt cx="201240" cy="137520"/>
            </a:xfrm>
          </p:grpSpPr>
          <p:sp>
            <p:nvSpPr>
              <p:cNvPr id="523" name=""/>
              <p:cNvSpPr/>
              <p:nvPr/>
            </p:nvSpPr>
            <p:spPr>
              <a:xfrm>
                <a:off x="5537160" y="3530520"/>
                <a:ext cx="20124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606640" y="3555360"/>
                <a:ext cx="8064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6343560" y="3530520"/>
              <a:ext cx="201240" cy="137520"/>
              <a:chOff x="6343560" y="3530520"/>
              <a:chExt cx="201240" cy="137520"/>
            </a:xfrm>
          </p:grpSpPr>
          <p:sp>
            <p:nvSpPr>
              <p:cNvPr id="526" name=""/>
              <p:cNvSpPr/>
              <p:nvPr/>
            </p:nvSpPr>
            <p:spPr>
              <a:xfrm>
                <a:off x="6343560" y="3530520"/>
                <a:ext cx="20124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6414480" y="3555360"/>
                <a:ext cx="7596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605640" y="3530520"/>
              <a:ext cx="172440" cy="137520"/>
              <a:chOff x="6605640" y="3530520"/>
              <a:chExt cx="172440" cy="137520"/>
            </a:xfrm>
          </p:grpSpPr>
          <p:sp>
            <p:nvSpPr>
              <p:cNvPr id="529" name=""/>
              <p:cNvSpPr/>
              <p:nvPr/>
            </p:nvSpPr>
            <p:spPr>
              <a:xfrm>
                <a:off x="6605640" y="3530520"/>
                <a:ext cx="17244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675120" y="3555360"/>
                <a:ext cx="5184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97760" y="3530520"/>
              <a:ext cx="172440" cy="137520"/>
              <a:chOff x="7097760" y="3530520"/>
              <a:chExt cx="172440" cy="137520"/>
            </a:xfrm>
          </p:grpSpPr>
          <p:sp>
            <p:nvSpPr>
              <p:cNvPr id="532" name=""/>
              <p:cNvSpPr/>
              <p:nvPr/>
            </p:nvSpPr>
            <p:spPr>
              <a:xfrm>
                <a:off x="7097760" y="3530520"/>
                <a:ext cx="17244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7140240" y="3555360"/>
                <a:ext cx="8064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1290600" y="2898720"/>
              <a:ext cx="315000" cy="113760"/>
              <a:chOff x="1290600" y="2898720"/>
              <a:chExt cx="315000" cy="113760"/>
            </a:xfrm>
          </p:grpSpPr>
          <p:sp>
            <p:nvSpPr>
              <p:cNvPr id="535" name=""/>
              <p:cNvSpPr/>
              <p:nvPr/>
            </p:nvSpPr>
            <p:spPr>
              <a:xfrm>
                <a:off x="1523520" y="2898720"/>
                <a:ext cx="82080" cy="11376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51" y="36"/>
                    </a:moveTo>
                    <a:lnTo>
                      <a:pt x="34" y="54"/>
                    </a:lnTo>
                    <a:lnTo>
                      <a:pt x="0" y="71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4" y="19"/>
                    </a:lnTo>
                    <a:lnTo>
                      <a:pt x="51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290600" y="2955240"/>
                <a:ext cx="23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2798640" y="2898720"/>
              <a:ext cx="364320" cy="113760"/>
              <a:chOff x="2798640" y="2898720"/>
              <a:chExt cx="364320" cy="113760"/>
            </a:xfrm>
          </p:grpSpPr>
          <p:sp>
            <p:nvSpPr>
              <p:cNvPr id="538" name=""/>
              <p:cNvSpPr/>
              <p:nvPr/>
            </p:nvSpPr>
            <p:spPr>
              <a:xfrm>
                <a:off x="3031560" y="2898720"/>
                <a:ext cx="131400" cy="113760"/>
              </a:xfrm>
              <a:custGeom>
                <a:avLst/>
                <a:gdLst/>
                <a:ahLst/>
                <a:rect l="l" t="t" r="r" b="b"/>
                <a:pathLst>
                  <a:path w="83" h="72">
                    <a:moveTo>
                      <a:pt x="82" y="36"/>
                    </a:moveTo>
                    <a:lnTo>
                      <a:pt x="34" y="54"/>
                    </a:lnTo>
                    <a:lnTo>
                      <a:pt x="0" y="71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4" y="19"/>
                    </a:lnTo>
                    <a:lnTo>
                      <a:pt x="82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798640" y="2955240"/>
                <a:ext cx="25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359240" y="2898720"/>
              <a:ext cx="338760" cy="113760"/>
              <a:chOff x="4359240" y="2898720"/>
              <a:chExt cx="338760" cy="113760"/>
            </a:xfrm>
          </p:grpSpPr>
          <p:sp>
            <p:nvSpPr>
              <p:cNvPr id="541" name=""/>
              <p:cNvSpPr/>
              <p:nvPr/>
            </p:nvSpPr>
            <p:spPr>
              <a:xfrm>
                <a:off x="4566600" y="2898720"/>
                <a:ext cx="131400" cy="113760"/>
              </a:xfrm>
              <a:custGeom>
                <a:avLst/>
                <a:gdLst/>
                <a:ahLst/>
                <a:rect l="l" t="t" r="r" b="b"/>
                <a:pathLst>
                  <a:path w="83" h="72">
                    <a:moveTo>
                      <a:pt x="82" y="36"/>
                    </a:moveTo>
                    <a:lnTo>
                      <a:pt x="34" y="54"/>
                    </a:lnTo>
                    <a:lnTo>
                      <a:pt x="0" y="71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4" y="19"/>
                    </a:lnTo>
                    <a:lnTo>
                      <a:pt x="82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59240" y="2955240"/>
                <a:ext cx="23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5894280" y="2898720"/>
              <a:ext cx="339120" cy="113760"/>
              <a:chOff x="5894280" y="2898720"/>
              <a:chExt cx="339120" cy="113760"/>
            </a:xfrm>
          </p:grpSpPr>
          <p:sp>
            <p:nvSpPr>
              <p:cNvPr id="544" name=""/>
              <p:cNvSpPr/>
              <p:nvPr/>
            </p:nvSpPr>
            <p:spPr>
              <a:xfrm>
                <a:off x="6100200" y="2898720"/>
                <a:ext cx="133200" cy="113760"/>
              </a:xfrm>
              <a:custGeom>
                <a:avLst/>
                <a:gdLst/>
                <a:ahLst/>
                <a:rect l="l" t="t" r="r" b="b"/>
                <a:pathLst>
                  <a:path w="84" h="72">
                    <a:moveTo>
                      <a:pt x="83" y="36"/>
                    </a:moveTo>
                    <a:lnTo>
                      <a:pt x="34" y="54"/>
                    </a:lnTo>
                    <a:lnTo>
                      <a:pt x="0" y="71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4" y="19"/>
                    </a:lnTo>
                    <a:lnTo>
                      <a:pt x="83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94280" y="2955240"/>
                <a:ext cx="23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7429320" y="2898720"/>
              <a:ext cx="335880" cy="113760"/>
              <a:chOff x="7429320" y="2898720"/>
              <a:chExt cx="335880" cy="113760"/>
            </a:xfrm>
          </p:grpSpPr>
          <p:sp>
            <p:nvSpPr>
              <p:cNvPr id="547" name=""/>
              <p:cNvSpPr/>
              <p:nvPr/>
            </p:nvSpPr>
            <p:spPr>
              <a:xfrm>
                <a:off x="7635240" y="2898720"/>
                <a:ext cx="129960" cy="113760"/>
              </a:xfrm>
              <a:custGeom>
                <a:avLst/>
                <a:gdLst/>
                <a:ahLst/>
                <a:rect l="l" t="t" r="r" b="b"/>
                <a:pathLst>
                  <a:path w="82" h="72">
                    <a:moveTo>
                      <a:pt x="81" y="36"/>
                    </a:moveTo>
                    <a:lnTo>
                      <a:pt x="50" y="54"/>
                    </a:lnTo>
                    <a:lnTo>
                      <a:pt x="0" y="71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0" y="19"/>
                    </a:lnTo>
                    <a:lnTo>
                      <a:pt x="81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429320" y="2955240"/>
                <a:ext cx="23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1296720" y="3211200"/>
              <a:ext cx="6441480" cy="656640"/>
              <a:chOff x="1296720" y="3211200"/>
              <a:chExt cx="6441480" cy="656640"/>
            </a:xfrm>
          </p:grpSpPr>
          <p:sp>
            <p:nvSpPr>
              <p:cNvPr id="550" name=""/>
              <p:cNvSpPr/>
              <p:nvPr/>
            </p:nvSpPr>
            <p:spPr>
              <a:xfrm>
                <a:off x="1604520" y="3750840"/>
                <a:ext cx="5925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1296720" y="3211200"/>
                <a:ext cx="331560" cy="656640"/>
                <a:chOff x="1296720" y="3211200"/>
                <a:chExt cx="331560" cy="656640"/>
              </a:xfrm>
            </p:grpSpPr>
            <p:grpSp>
              <p:nvGrpSpPr>
                <p:cNvPr id="552" name=""/>
                <p:cNvGrpSpPr/>
                <p:nvPr/>
              </p:nvGrpSpPr>
              <p:grpSpPr>
                <a:xfrm>
                  <a:off x="1296720" y="3644280"/>
                  <a:ext cx="331560" cy="223560"/>
                  <a:chOff x="1296720" y="3644280"/>
                  <a:chExt cx="331560" cy="22356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1296720" y="3644280"/>
                    <a:ext cx="331560" cy="223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>
                    <a:off x="1447200" y="3693240"/>
                    <a:ext cx="102960" cy="56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1422000" y="3211200"/>
                  <a:ext cx="102600" cy="396360"/>
                  <a:chOff x="1422000" y="3211200"/>
                  <a:chExt cx="102600" cy="39636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>
                    <a:off x="1422000" y="3211200"/>
                    <a:ext cx="10260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73">
                        <a:moveTo>
                          <a:pt x="33" y="0"/>
                        </a:moveTo>
                        <a:lnTo>
                          <a:pt x="47" y="36"/>
                        </a:lnTo>
                        <a:lnTo>
                          <a:pt x="64" y="72"/>
                        </a:lnTo>
                        <a:lnTo>
                          <a:pt x="47" y="72"/>
                        </a:lnTo>
                        <a:lnTo>
                          <a:pt x="33" y="72"/>
                        </a:lnTo>
                        <a:lnTo>
                          <a:pt x="17" y="72"/>
                        </a:lnTo>
                        <a:lnTo>
                          <a:pt x="0" y="72"/>
                        </a:lnTo>
                        <a:lnTo>
                          <a:pt x="17" y="36"/>
                        </a:lnTo>
                        <a:lnTo>
                          <a:pt x="33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V="1">
                    <a:off x="1473840" y="3325320"/>
                    <a:ext cx="0" cy="282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8" name=""/>
              <p:cNvGrpSpPr/>
              <p:nvPr/>
            </p:nvGrpSpPr>
            <p:grpSpPr>
              <a:xfrm>
                <a:off x="2804760" y="3211200"/>
                <a:ext cx="356760" cy="656640"/>
                <a:chOff x="2804760" y="3211200"/>
                <a:chExt cx="356760" cy="656640"/>
              </a:xfrm>
            </p:grpSpPr>
            <p:grpSp>
              <p:nvGrpSpPr>
                <p:cNvPr id="559" name=""/>
                <p:cNvGrpSpPr/>
                <p:nvPr/>
              </p:nvGrpSpPr>
              <p:grpSpPr>
                <a:xfrm>
                  <a:off x="2804760" y="3644280"/>
                  <a:ext cx="356760" cy="223560"/>
                  <a:chOff x="2804760" y="3644280"/>
                  <a:chExt cx="356760" cy="22356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>
                    <a:off x="2804760" y="3644280"/>
                    <a:ext cx="356760" cy="223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>
                    <a:off x="2955240" y="3693240"/>
                    <a:ext cx="102600" cy="56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2929680" y="3211200"/>
                  <a:ext cx="79200" cy="396360"/>
                  <a:chOff x="2929680" y="3211200"/>
                  <a:chExt cx="79200" cy="39636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>
                    <a:off x="2929680" y="3211200"/>
                    <a:ext cx="7920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73">
                        <a:moveTo>
                          <a:pt x="33" y="0"/>
                        </a:moveTo>
                        <a:lnTo>
                          <a:pt x="33" y="36"/>
                        </a:lnTo>
                        <a:lnTo>
                          <a:pt x="49" y="72"/>
                        </a:lnTo>
                        <a:lnTo>
                          <a:pt x="33" y="72"/>
                        </a:lnTo>
                        <a:lnTo>
                          <a:pt x="16" y="72"/>
                        </a:lnTo>
                        <a:lnTo>
                          <a:pt x="0" y="72"/>
                        </a:lnTo>
                        <a:lnTo>
                          <a:pt x="16" y="36"/>
                        </a:lnTo>
                        <a:lnTo>
                          <a:pt x="33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V="1">
                    <a:off x="2981880" y="3325320"/>
                    <a:ext cx="0" cy="282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5" name=""/>
              <p:cNvGrpSpPr/>
              <p:nvPr/>
            </p:nvGrpSpPr>
            <p:grpSpPr>
              <a:xfrm>
                <a:off x="4365000" y="3211200"/>
                <a:ext cx="331560" cy="656640"/>
                <a:chOff x="4365000" y="3211200"/>
                <a:chExt cx="331560" cy="656640"/>
              </a:xfrm>
            </p:grpSpPr>
            <p:grpSp>
              <p:nvGrpSpPr>
                <p:cNvPr id="566" name=""/>
                <p:cNvGrpSpPr/>
                <p:nvPr/>
              </p:nvGrpSpPr>
              <p:grpSpPr>
                <a:xfrm>
                  <a:off x="4365000" y="3644280"/>
                  <a:ext cx="331560" cy="223560"/>
                  <a:chOff x="4365000" y="3644280"/>
                  <a:chExt cx="331560" cy="22356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4365000" y="3644280"/>
                    <a:ext cx="331560" cy="223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V="1">
                    <a:off x="4490280" y="3693240"/>
                    <a:ext cx="101160" cy="56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4461480" y="3211200"/>
                  <a:ext cx="82440" cy="396360"/>
                  <a:chOff x="4461480" y="3211200"/>
                  <a:chExt cx="82440" cy="39636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4461480" y="3211200"/>
                    <a:ext cx="8244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73">
                        <a:moveTo>
                          <a:pt x="34" y="0"/>
                        </a:moveTo>
                        <a:lnTo>
                          <a:pt x="51" y="36"/>
                        </a:lnTo>
                        <a:lnTo>
                          <a:pt x="51" y="72"/>
                        </a:lnTo>
                        <a:lnTo>
                          <a:pt x="34" y="72"/>
                        </a:lnTo>
                        <a:lnTo>
                          <a:pt x="17" y="72"/>
                        </a:lnTo>
                        <a:lnTo>
                          <a:pt x="0" y="72"/>
                        </a:lnTo>
                        <a:lnTo>
                          <a:pt x="17" y="36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V="1">
                    <a:off x="4515120" y="3325320"/>
                    <a:ext cx="0" cy="282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2" name=""/>
              <p:cNvGrpSpPr/>
              <p:nvPr/>
            </p:nvGrpSpPr>
            <p:grpSpPr>
              <a:xfrm>
                <a:off x="5900400" y="3211200"/>
                <a:ext cx="329760" cy="656640"/>
                <a:chOff x="5900400" y="3211200"/>
                <a:chExt cx="329760" cy="656640"/>
              </a:xfrm>
            </p:grpSpPr>
            <p:grpSp>
              <p:nvGrpSpPr>
                <p:cNvPr id="573" name=""/>
                <p:cNvGrpSpPr/>
                <p:nvPr/>
              </p:nvGrpSpPr>
              <p:grpSpPr>
                <a:xfrm>
                  <a:off x="5900400" y="3644280"/>
                  <a:ext cx="329760" cy="223560"/>
                  <a:chOff x="5900400" y="3644280"/>
                  <a:chExt cx="329760" cy="2235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5900400" y="3644280"/>
                    <a:ext cx="329760" cy="223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V="1">
                    <a:off x="6023880" y="3693240"/>
                    <a:ext cx="102600" cy="56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5996880" y="3211200"/>
                  <a:ext cx="82080" cy="396360"/>
                  <a:chOff x="5996880" y="3211200"/>
                  <a:chExt cx="82080" cy="3963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5996880" y="3211200"/>
                    <a:ext cx="8208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73">
                        <a:moveTo>
                          <a:pt x="34" y="0"/>
                        </a:moveTo>
                        <a:lnTo>
                          <a:pt x="51" y="36"/>
                        </a:lnTo>
                        <a:lnTo>
                          <a:pt x="51" y="72"/>
                        </a:lnTo>
                        <a:lnTo>
                          <a:pt x="34" y="72"/>
                        </a:lnTo>
                        <a:lnTo>
                          <a:pt x="17" y="72"/>
                        </a:lnTo>
                        <a:lnTo>
                          <a:pt x="0" y="72"/>
                        </a:lnTo>
                        <a:lnTo>
                          <a:pt x="17" y="36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V="1">
                    <a:off x="6050520" y="3325320"/>
                    <a:ext cx="0" cy="282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9" name=""/>
              <p:cNvGrpSpPr/>
              <p:nvPr/>
            </p:nvGrpSpPr>
            <p:grpSpPr>
              <a:xfrm>
                <a:off x="7408440" y="3211200"/>
                <a:ext cx="329760" cy="656640"/>
                <a:chOff x="7408440" y="3211200"/>
                <a:chExt cx="329760" cy="656640"/>
              </a:xfrm>
            </p:grpSpPr>
            <p:grpSp>
              <p:nvGrpSpPr>
                <p:cNvPr id="580" name=""/>
                <p:cNvGrpSpPr/>
                <p:nvPr/>
              </p:nvGrpSpPr>
              <p:grpSpPr>
                <a:xfrm>
                  <a:off x="7408440" y="3644280"/>
                  <a:ext cx="329760" cy="223560"/>
                  <a:chOff x="7408440" y="3644280"/>
                  <a:chExt cx="329760" cy="22356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7408440" y="3644280"/>
                    <a:ext cx="329760" cy="223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V="1">
                    <a:off x="7535160" y="3697560"/>
                    <a:ext cx="99360" cy="52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7504920" y="3211200"/>
                  <a:ext cx="107640" cy="396360"/>
                  <a:chOff x="7504920" y="3211200"/>
                  <a:chExt cx="107640" cy="39636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7504920" y="3211200"/>
                    <a:ext cx="10764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3">
                        <a:moveTo>
                          <a:pt x="34" y="0"/>
                        </a:moveTo>
                        <a:lnTo>
                          <a:pt x="50" y="36"/>
                        </a:lnTo>
                        <a:lnTo>
                          <a:pt x="67" y="72"/>
                        </a:lnTo>
                        <a:lnTo>
                          <a:pt x="50" y="72"/>
                        </a:lnTo>
                        <a:lnTo>
                          <a:pt x="34" y="72"/>
                        </a:lnTo>
                        <a:lnTo>
                          <a:pt x="17" y="72"/>
                        </a:lnTo>
                        <a:lnTo>
                          <a:pt x="0" y="72"/>
                        </a:lnTo>
                        <a:lnTo>
                          <a:pt x="17" y="36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V="1">
                    <a:off x="7558560" y="3325320"/>
                    <a:ext cx="0" cy="282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86" name=""/>
          <p:cNvSpPr/>
          <p:nvPr/>
        </p:nvSpPr>
        <p:spPr>
          <a:xfrm>
            <a:off x="430200" y="4545000"/>
            <a:ext cx="83898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e nível é construído sobre os fundamentos do gerenciamento de projeto de softw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 controlar um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ces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ele deve se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finido, documentado e entendid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saídas de uma tarefa fluem uniformemente para as entradas da próxima taref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009800" y="838080"/>
            <a:ext cx="7448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ff"/>
                </a:solidFill>
                <a:latin typeface="Century Schoolbook"/>
              </a:rPr>
              <a:t>Capability Matur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9072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22720" y="5546880"/>
            <a:ext cx="698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48000" y="5737320"/>
            <a:ext cx="401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89200" y="4684680"/>
            <a:ext cx="11829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56760" y="4873680"/>
            <a:ext cx="235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65800" y="3719520"/>
            <a:ext cx="885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81440" y="3909960"/>
            <a:ext cx="401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04320" y="2944800"/>
            <a:ext cx="235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2280" y="5699160"/>
            <a:ext cx="2158920" cy="542880"/>
          </a:xfrm>
          <a:prstGeom prst="roundRect">
            <a:avLst>
              <a:gd name="adj" fmla="val 1555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414440" y="4684680"/>
            <a:ext cx="2162160" cy="614520"/>
            <a:chOff x="1414440" y="4684680"/>
            <a:chExt cx="2162160" cy="614520"/>
          </a:xfrm>
        </p:grpSpPr>
        <p:sp>
          <p:nvSpPr>
            <p:cNvPr id="598" name=""/>
            <p:cNvSpPr/>
            <p:nvPr/>
          </p:nvSpPr>
          <p:spPr>
            <a:xfrm>
              <a:off x="1515960" y="4684680"/>
              <a:ext cx="2060640" cy="541440"/>
            </a:xfrm>
            <a:prstGeom prst="roundRect">
              <a:avLst>
                <a:gd name="adj" fmla="val 15593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14440" y="4759200"/>
              <a:ext cx="2033640" cy="540000"/>
            </a:xfrm>
            <a:prstGeom prst="roundRect">
              <a:avLst>
                <a:gd name="adj" fmla="val 1559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403360" y="3730680"/>
            <a:ext cx="2165400" cy="628560"/>
            <a:chOff x="2403360" y="3730680"/>
            <a:chExt cx="2165400" cy="628560"/>
          </a:xfrm>
        </p:grpSpPr>
        <p:sp>
          <p:nvSpPr>
            <p:cNvPr id="601" name=""/>
            <p:cNvSpPr/>
            <p:nvPr/>
          </p:nvSpPr>
          <p:spPr>
            <a:xfrm>
              <a:off x="2506680" y="3730680"/>
              <a:ext cx="2062080" cy="555480"/>
            </a:xfrm>
            <a:prstGeom prst="roundRect">
              <a:avLst>
                <a:gd name="adj" fmla="val 15208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03360" y="3803760"/>
              <a:ext cx="2038320" cy="555480"/>
            </a:xfrm>
            <a:prstGeom prst="roundRect">
              <a:avLst>
                <a:gd name="adj" fmla="val 1520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3471840" y="2789280"/>
            <a:ext cx="2158920" cy="615960"/>
            <a:chOff x="3471840" y="2789280"/>
            <a:chExt cx="2158920" cy="615960"/>
          </a:xfrm>
        </p:grpSpPr>
        <p:sp>
          <p:nvSpPr>
            <p:cNvPr id="604" name=""/>
            <p:cNvSpPr/>
            <p:nvPr/>
          </p:nvSpPr>
          <p:spPr>
            <a:xfrm>
              <a:off x="3573360" y="2789280"/>
              <a:ext cx="2057400" cy="541440"/>
            </a:xfrm>
            <a:prstGeom prst="roundRect">
              <a:avLst>
                <a:gd name="adj" fmla="val 1559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71840" y="2863800"/>
              <a:ext cx="2030400" cy="541440"/>
            </a:xfrm>
            <a:prstGeom prst="roundRect">
              <a:avLst>
                <a:gd name="adj" fmla="val 1559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759280" y="1828800"/>
            <a:ext cx="1152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915840" y="4938840"/>
            <a:ext cx="612360" cy="1199160"/>
            <a:chOff x="915840" y="4938840"/>
            <a:chExt cx="612360" cy="1199160"/>
          </a:xfrm>
        </p:grpSpPr>
        <p:sp>
          <p:nvSpPr>
            <p:cNvPr id="608" name=""/>
            <p:cNvSpPr/>
            <p:nvPr/>
          </p:nvSpPr>
          <p:spPr>
            <a:xfrm>
              <a:off x="915840" y="4992840"/>
              <a:ext cx="612360" cy="114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0"/>
                  </a:moveTo>
                  <a:arcTo wR="10800" hR="10800" stAng="-10790515" swAng="5319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0"/>
                  </a:moveTo>
                  <a:arcTo wR="10800" hR="10800" stAng="-10790515" swAng="5319190"/>
                </a:path>
              </a:pathLst>
            </a:custGeom>
            <a:noFill/>
            <a:ln cap="rnd"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1168560" y="4938840"/>
              <a:ext cx="218880" cy="106200"/>
              <a:chOff x="1168560" y="4938840"/>
              <a:chExt cx="218880" cy="106200"/>
            </a:xfrm>
          </p:grpSpPr>
          <p:sp>
            <p:nvSpPr>
              <p:cNvPr id="610" name=""/>
              <p:cNvSpPr/>
              <p:nvPr/>
            </p:nvSpPr>
            <p:spPr>
              <a:xfrm>
                <a:off x="1181160" y="4938840"/>
                <a:ext cx="206280" cy="106200"/>
              </a:xfrm>
              <a:custGeom>
                <a:avLst/>
                <a:gdLst/>
                <a:ahLst/>
                <a:rect l="l" t="t" r="r" b="b"/>
                <a:pathLst>
                  <a:path w="130" h="67">
                    <a:moveTo>
                      <a:pt x="129" y="37"/>
                    </a:moveTo>
                    <a:lnTo>
                      <a:pt x="0" y="66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29" y="37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168560" y="4989600"/>
                <a:ext cx="6660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41" y="0"/>
                    </a:lnTo>
                    <a:lnTo>
                      <a:pt x="41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1906560" y="3821040"/>
            <a:ext cx="558360" cy="1446120"/>
            <a:chOff x="1906560" y="3821040"/>
            <a:chExt cx="558360" cy="1446120"/>
          </a:xfrm>
        </p:grpSpPr>
        <p:sp>
          <p:nvSpPr>
            <p:cNvPr id="613" name=""/>
            <p:cNvSpPr/>
            <p:nvPr/>
          </p:nvSpPr>
          <p:spPr>
            <a:xfrm>
              <a:off x="1906560" y="3882960"/>
              <a:ext cx="558360" cy="13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5"/>
                  </a:moveTo>
                  <a:arcTo wR="10800" hR="10800" stAng="-10792106" swAng="5372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5"/>
                  </a:moveTo>
                  <a:arcTo wR="10800" hR="10800" stAng="-10792106" swAng="5372596"/>
                </a:path>
              </a:pathLst>
            </a:custGeom>
            <a:noFill/>
            <a:ln cap="rnd"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143080" y="3821040"/>
              <a:ext cx="196920" cy="127080"/>
              <a:chOff x="2143080" y="3821040"/>
              <a:chExt cx="196920" cy="127080"/>
            </a:xfrm>
          </p:grpSpPr>
          <p:sp>
            <p:nvSpPr>
              <p:cNvPr id="615" name=""/>
              <p:cNvSpPr/>
              <p:nvPr/>
            </p:nvSpPr>
            <p:spPr>
              <a:xfrm>
                <a:off x="2154240" y="3821040"/>
                <a:ext cx="185760" cy="127080"/>
              </a:xfrm>
              <a:custGeom>
                <a:avLst/>
                <a:gdLst/>
                <a:ahLst/>
                <a:rect l="l" t="t" r="r" b="b"/>
                <a:pathLst>
                  <a:path w="117" h="80">
                    <a:moveTo>
                      <a:pt x="116" y="44"/>
                    </a:moveTo>
                    <a:lnTo>
                      <a:pt x="0" y="79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116" y="44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43080" y="3881520"/>
                <a:ext cx="61920" cy="2700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0" y="0"/>
                    </a:moveTo>
                    <a:lnTo>
                      <a:pt x="38" y="0"/>
                    </a:lnTo>
                    <a:lnTo>
                      <a:pt x="3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2641680" y="2895480"/>
            <a:ext cx="923400" cy="1146240"/>
            <a:chOff x="2641680" y="2895480"/>
            <a:chExt cx="923400" cy="1146240"/>
          </a:xfrm>
        </p:grpSpPr>
        <p:sp>
          <p:nvSpPr>
            <p:cNvPr id="618" name=""/>
            <p:cNvSpPr/>
            <p:nvPr/>
          </p:nvSpPr>
          <p:spPr>
            <a:xfrm>
              <a:off x="2641680" y="2946240"/>
              <a:ext cx="923400" cy="10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2912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29129"/>
                </a:path>
              </a:pathLst>
            </a:custGeom>
            <a:noFill/>
            <a:ln cap="rnd"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3024360" y="2895480"/>
              <a:ext cx="330120" cy="88920"/>
              <a:chOff x="3024360" y="2895480"/>
              <a:chExt cx="330120" cy="88920"/>
            </a:xfrm>
          </p:grpSpPr>
          <p:sp>
            <p:nvSpPr>
              <p:cNvPr id="620" name=""/>
              <p:cNvSpPr/>
              <p:nvPr/>
            </p:nvSpPr>
            <p:spPr>
              <a:xfrm>
                <a:off x="3041640" y="2895480"/>
                <a:ext cx="312840" cy="889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196" y="41"/>
                    </a:moveTo>
                    <a:lnTo>
                      <a:pt x="0" y="55"/>
                    </a:lnTo>
                    <a:lnTo>
                      <a:pt x="0" y="28"/>
                    </a:lnTo>
                    <a:lnTo>
                      <a:pt x="12" y="0"/>
                    </a:lnTo>
                    <a:lnTo>
                      <a:pt x="196" y="41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24360" y="2932200"/>
                <a:ext cx="99720" cy="28440"/>
              </a:xfrm>
              <a:custGeom>
                <a:avLst/>
                <a:gdLst/>
                <a:ahLst/>
                <a:rect l="l" t="t" r="r" b="b"/>
                <a:pathLst>
                  <a:path w="63" h="18">
                    <a:moveTo>
                      <a:pt x="0" y="0"/>
                    </a:moveTo>
                    <a:lnTo>
                      <a:pt x="21" y="0"/>
                    </a:lnTo>
                    <a:lnTo>
                      <a:pt x="62" y="6"/>
                    </a:lnTo>
                    <a:lnTo>
                      <a:pt x="62" y="17"/>
                    </a:lnTo>
                    <a:lnTo>
                      <a:pt x="41" y="1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2" name=""/>
          <p:cNvSpPr/>
          <p:nvPr/>
        </p:nvSpPr>
        <p:spPr>
          <a:xfrm>
            <a:off x="34920" y="4443480"/>
            <a:ext cx="1290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iplin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8440" y="5394240"/>
            <a:ext cx="766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6000" y="3538440"/>
            <a:ext cx="2241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 Padrã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92080" y="3892680"/>
            <a:ext cx="1414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(3) Defin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87600" y="4113360"/>
            <a:ext cx="866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13840" y="2637000"/>
            <a:ext cx="1250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s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780000" y="2868480"/>
            <a:ext cx="866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56080" y="5691240"/>
            <a:ext cx="467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mprevisível e Insatisfatoriamente contro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628880" y="4700520"/>
            <a:ext cx="25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cesso em taref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viamente dom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775480" y="3751200"/>
            <a:ext cx="2225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 processo está  caracterizado e bem enten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763680" y="2795760"/>
            <a:ext cx="192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cesso m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 contro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59436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733920" y="4952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64832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791320" y="3048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203480" y="5732640"/>
            <a:ext cx="108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22520" y="4863960"/>
            <a:ext cx="1476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(2) Repet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81160" y="5778360"/>
            <a:ext cx="1171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(1) Inic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99640" y="2959200"/>
            <a:ext cx="17427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Century Schoolbook"/>
              </a:rPr>
              <a:t>(</a:t>
            </a: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4) Gerenci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333360" y="1166760"/>
            <a:ext cx="8354880" cy="1197000"/>
            <a:chOff x="333360" y="1166760"/>
            <a:chExt cx="8354880" cy="1197000"/>
          </a:xfrm>
        </p:grpSpPr>
        <p:sp>
          <p:nvSpPr>
            <p:cNvPr id="642" name=""/>
            <p:cNvSpPr/>
            <p:nvPr/>
          </p:nvSpPr>
          <p:spPr>
            <a:xfrm>
              <a:off x="336600" y="1176480"/>
              <a:ext cx="8343720" cy="36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76520" y="117144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682120" y="117144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3360" y="116676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3360" y="2362320"/>
              <a:ext cx="8354880" cy="1440"/>
            </a:xfrm>
            <a:custGeom>
              <a:avLst/>
              <a:gdLst/>
              <a:ahLst/>
              <a:rect l="l" t="t" r="r" b="b"/>
              <a:pathLst>
                <a:path w="5263" h="1">
                  <a:moveTo>
                    <a:pt x="0" y="0"/>
                  </a:moveTo>
                  <a:lnTo>
                    <a:pt x="526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863640" y="838080"/>
            <a:ext cx="7670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76240" y="1828800"/>
            <a:ext cx="74678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0280" y="1200240"/>
            <a:ext cx="7610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N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93920" y="1185840"/>
            <a:ext cx="43498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Características do  Gerenci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725400" y="1693800"/>
            <a:ext cx="461880" cy="574560"/>
            <a:chOff x="725400" y="1693800"/>
            <a:chExt cx="461880" cy="574560"/>
          </a:xfrm>
        </p:grpSpPr>
        <p:sp>
          <p:nvSpPr>
            <p:cNvPr id="652" name=""/>
            <p:cNvSpPr/>
            <p:nvPr/>
          </p:nvSpPr>
          <p:spPr>
            <a:xfrm>
              <a:off x="725400" y="1693800"/>
              <a:ext cx="461880" cy="574560"/>
            </a:xfrm>
            <a:custGeom>
              <a:avLst/>
              <a:gdLst/>
              <a:ahLst/>
              <a:rect l="l" t="t" r="r" b="b"/>
              <a:pathLst>
                <a:path w="291" h="362">
                  <a:moveTo>
                    <a:pt x="115" y="361"/>
                  </a:moveTo>
                  <a:lnTo>
                    <a:pt x="260" y="361"/>
                  </a:lnTo>
                  <a:lnTo>
                    <a:pt x="260" y="344"/>
                  </a:lnTo>
                  <a:lnTo>
                    <a:pt x="237" y="335"/>
                  </a:lnTo>
                  <a:lnTo>
                    <a:pt x="221" y="335"/>
                  </a:lnTo>
                  <a:lnTo>
                    <a:pt x="214" y="328"/>
                  </a:lnTo>
                  <a:lnTo>
                    <a:pt x="207" y="311"/>
                  </a:lnTo>
                  <a:lnTo>
                    <a:pt x="207" y="261"/>
                  </a:lnTo>
                  <a:lnTo>
                    <a:pt x="275" y="261"/>
                  </a:lnTo>
                  <a:lnTo>
                    <a:pt x="290" y="235"/>
                  </a:lnTo>
                  <a:lnTo>
                    <a:pt x="207" y="235"/>
                  </a:lnTo>
                  <a:lnTo>
                    <a:pt x="207" y="0"/>
                  </a:lnTo>
                  <a:lnTo>
                    <a:pt x="169" y="0"/>
                  </a:lnTo>
                  <a:lnTo>
                    <a:pt x="130" y="59"/>
                  </a:lnTo>
                  <a:lnTo>
                    <a:pt x="84" y="118"/>
                  </a:lnTo>
                  <a:lnTo>
                    <a:pt x="38" y="185"/>
                  </a:lnTo>
                  <a:lnTo>
                    <a:pt x="0" y="244"/>
                  </a:lnTo>
                  <a:lnTo>
                    <a:pt x="8" y="261"/>
                  </a:lnTo>
                  <a:lnTo>
                    <a:pt x="161" y="261"/>
                  </a:lnTo>
                  <a:lnTo>
                    <a:pt x="161" y="311"/>
                  </a:lnTo>
                  <a:lnTo>
                    <a:pt x="161" y="328"/>
                  </a:lnTo>
                  <a:lnTo>
                    <a:pt x="153" y="335"/>
                  </a:lnTo>
                  <a:lnTo>
                    <a:pt x="137" y="335"/>
                  </a:lnTo>
                  <a:lnTo>
                    <a:pt x="115" y="344"/>
                  </a:lnTo>
                  <a:lnTo>
                    <a:pt x="115" y="361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5400" y="1693800"/>
              <a:ext cx="461880" cy="574560"/>
            </a:xfrm>
            <a:custGeom>
              <a:avLst/>
              <a:gdLst/>
              <a:ahLst/>
              <a:rect l="l" t="t" r="r" b="b"/>
              <a:pathLst>
                <a:path w="291" h="362">
                  <a:moveTo>
                    <a:pt x="115" y="361"/>
                  </a:moveTo>
                  <a:lnTo>
                    <a:pt x="260" y="361"/>
                  </a:lnTo>
                  <a:lnTo>
                    <a:pt x="260" y="344"/>
                  </a:lnTo>
                  <a:lnTo>
                    <a:pt x="237" y="335"/>
                  </a:lnTo>
                  <a:lnTo>
                    <a:pt x="221" y="335"/>
                  </a:lnTo>
                  <a:lnTo>
                    <a:pt x="214" y="328"/>
                  </a:lnTo>
                  <a:lnTo>
                    <a:pt x="207" y="311"/>
                  </a:lnTo>
                  <a:lnTo>
                    <a:pt x="207" y="261"/>
                  </a:lnTo>
                  <a:lnTo>
                    <a:pt x="275" y="261"/>
                  </a:lnTo>
                  <a:lnTo>
                    <a:pt x="290" y="235"/>
                  </a:lnTo>
                  <a:lnTo>
                    <a:pt x="207" y="235"/>
                  </a:lnTo>
                  <a:lnTo>
                    <a:pt x="207" y="0"/>
                  </a:lnTo>
                  <a:lnTo>
                    <a:pt x="169" y="0"/>
                  </a:lnTo>
                  <a:lnTo>
                    <a:pt x="130" y="59"/>
                  </a:lnTo>
                  <a:lnTo>
                    <a:pt x="84" y="118"/>
                  </a:lnTo>
                  <a:lnTo>
                    <a:pt x="38" y="185"/>
                  </a:lnTo>
                  <a:lnTo>
                    <a:pt x="0" y="244"/>
                  </a:lnTo>
                  <a:lnTo>
                    <a:pt x="8" y="261"/>
                  </a:lnTo>
                  <a:lnTo>
                    <a:pt x="161" y="261"/>
                  </a:lnTo>
                  <a:lnTo>
                    <a:pt x="161" y="311"/>
                  </a:lnTo>
                  <a:lnTo>
                    <a:pt x="161" y="328"/>
                  </a:lnTo>
                  <a:lnTo>
                    <a:pt x="153" y="335"/>
                  </a:lnTo>
                  <a:lnTo>
                    <a:pt x="137" y="335"/>
                  </a:lnTo>
                  <a:lnTo>
                    <a:pt x="115" y="344"/>
                  </a:lnTo>
                  <a:lnTo>
                    <a:pt x="115" y="361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7320" y="1762200"/>
              <a:ext cx="190440" cy="303120"/>
            </a:xfrm>
            <a:custGeom>
              <a:avLst/>
              <a:gdLst/>
              <a:ahLst/>
              <a:rect l="l" t="t" r="r" b="b"/>
              <a:pathLst>
                <a:path w="120" h="191">
                  <a:moveTo>
                    <a:pt x="119" y="190"/>
                  </a:moveTo>
                  <a:lnTo>
                    <a:pt x="0" y="190"/>
                  </a:lnTo>
                  <a:lnTo>
                    <a:pt x="22" y="148"/>
                  </a:lnTo>
                  <a:lnTo>
                    <a:pt x="52" y="99"/>
                  </a:lnTo>
                  <a:lnTo>
                    <a:pt x="82" y="66"/>
                  </a:lnTo>
                  <a:lnTo>
                    <a:pt x="104" y="33"/>
                  </a:lnTo>
                  <a:lnTo>
                    <a:pt x="119" y="0"/>
                  </a:lnTo>
                  <a:lnTo>
                    <a:pt x="119" y="19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87320" y="1762200"/>
              <a:ext cx="190440" cy="303120"/>
            </a:xfrm>
            <a:custGeom>
              <a:avLst/>
              <a:gdLst/>
              <a:ahLst/>
              <a:rect l="l" t="t" r="r" b="b"/>
              <a:pathLst>
                <a:path w="120" h="191">
                  <a:moveTo>
                    <a:pt x="119" y="190"/>
                  </a:moveTo>
                  <a:lnTo>
                    <a:pt x="0" y="190"/>
                  </a:lnTo>
                  <a:lnTo>
                    <a:pt x="22" y="148"/>
                  </a:lnTo>
                  <a:lnTo>
                    <a:pt x="52" y="99"/>
                  </a:lnTo>
                  <a:lnTo>
                    <a:pt x="82" y="66"/>
                  </a:lnTo>
                  <a:lnTo>
                    <a:pt x="104" y="33"/>
                  </a:lnTo>
                  <a:lnTo>
                    <a:pt x="119" y="0"/>
                  </a:lnTo>
                  <a:lnTo>
                    <a:pt x="119" y="19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232920" y="1805040"/>
            <a:ext cx="1512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renci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660680" y="1825560"/>
            <a:ext cx="6949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duto e processo são quantitativamente gerenci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823680" y="2565360"/>
            <a:ext cx="7416360" cy="1369800"/>
            <a:chOff x="823680" y="2565360"/>
            <a:chExt cx="7416360" cy="1369800"/>
          </a:xfrm>
        </p:grpSpPr>
        <p:grpSp>
          <p:nvGrpSpPr>
            <p:cNvPr id="659" name=""/>
            <p:cNvGrpSpPr/>
            <p:nvPr/>
          </p:nvGrpSpPr>
          <p:grpSpPr>
            <a:xfrm>
              <a:off x="2100240" y="3128760"/>
              <a:ext cx="295200" cy="468360"/>
              <a:chOff x="2100240" y="3128760"/>
              <a:chExt cx="295200" cy="46836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2100240" y="3128760"/>
                <a:ext cx="101520" cy="468360"/>
                <a:chOff x="2100240" y="3128760"/>
                <a:chExt cx="101520" cy="46836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2100240" y="3463920"/>
                  <a:ext cx="101520" cy="133200"/>
                </a:xfrm>
                <a:custGeom>
                  <a:avLst/>
                  <a:gdLst/>
                  <a:ahLst/>
                  <a:rect l="l" t="t" r="r" b="b"/>
                  <a:pathLst>
                    <a:path w="64" h="84">
                      <a:moveTo>
                        <a:pt x="32" y="83"/>
                      </a:moveTo>
                      <a:lnTo>
                        <a:pt x="16" y="42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47" y="0"/>
                      </a:lnTo>
                      <a:lnTo>
                        <a:pt x="63" y="0"/>
                      </a:lnTo>
                      <a:lnTo>
                        <a:pt x="47" y="42"/>
                      </a:lnTo>
                      <a:lnTo>
                        <a:pt x="32" y="8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151000" y="3128760"/>
                  <a:ext cx="0" cy="33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2320920" y="3128760"/>
                <a:ext cx="74520" cy="466920"/>
                <a:chOff x="2320920" y="3128760"/>
                <a:chExt cx="74520" cy="46692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2320920" y="3128760"/>
                  <a:ext cx="74520" cy="166680"/>
                </a:xfrm>
                <a:custGeom>
                  <a:avLst/>
                  <a:gdLst/>
                  <a:ahLst/>
                  <a:rect l="l" t="t" r="r" b="b"/>
                  <a:pathLst>
                    <a:path w="47" h="105">
                      <a:moveTo>
                        <a:pt x="14" y="0"/>
                      </a:moveTo>
                      <a:lnTo>
                        <a:pt x="30" y="42"/>
                      </a:lnTo>
                      <a:lnTo>
                        <a:pt x="46" y="104"/>
                      </a:lnTo>
                      <a:lnTo>
                        <a:pt x="30" y="104"/>
                      </a:lnTo>
                      <a:lnTo>
                        <a:pt x="14" y="104"/>
                      </a:lnTo>
                      <a:lnTo>
                        <a:pt x="0" y="104"/>
                      </a:lnTo>
                      <a:lnTo>
                        <a:pt x="0" y="42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V="1">
                  <a:off x="2343240" y="3262320"/>
                  <a:ext cx="0" cy="33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6" name=""/>
            <p:cNvGrpSpPr/>
            <p:nvPr/>
          </p:nvGrpSpPr>
          <p:grpSpPr>
            <a:xfrm>
              <a:off x="1843200" y="2565360"/>
              <a:ext cx="5317920" cy="565200"/>
              <a:chOff x="1843200" y="2565360"/>
              <a:chExt cx="5317920" cy="565200"/>
            </a:xfrm>
          </p:grpSpPr>
          <p:sp>
            <p:nvSpPr>
              <p:cNvPr id="667" name=""/>
              <p:cNvSpPr/>
              <p:nvPr/>
            </p:nvSpPr>
            <p:spPr>
              <a:xfrm>
                <a:off x="1843200" y="2565360"/>
                <a:ext cx="1055520" cy="565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271680" y="2565360"/>
                <a:ext cx="1054080" cy="565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99080" y="2565360"/>
                <a:ext cx="1035000" cy="565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103800" y="2565360"/>
                <a:ext cx="1057320" cy="565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823680" y="2681280"/>
              <a:ext cx="33120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771680" y="2681280"/>
              <a:ext cx="46836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1836720" y="2625480"/>
              <a:ext cx="1087560" cy="446040"/>
              <a:chOff x="1836720" y="2625480"/>
              <a:chExt cx="1087560" cy="446040"/>
            </a:xfrm>
          </p:grpSpPr>
          <p:sp>
            <p:nvSpPr>
              <p:cNvPr id="674" name=""/>
              <p:cNvSpPr/>
              <p:nvPr/>
            </p:nvSpPr>
            <p:spPr>
              <a:xfrm>
                <a:off x="2054160" y="2625480"/>
                <a:ext cx="250920" cy="146160"/>
              </a:xfrm>
              <a:custGeom>
                <a:avLst/>
                <a:gdLst/>
                <a:ahLst/>
                <a:rect l="l" t="t" r="r" b="b"/>
                <a:pathLst>
                  <a:path w="158" h="92">
                    <a:moveTo>
                      <a:pt x="0" y="0"/>
                    </a:moveTo>
                    <a:lnTo>
                      <a:pt x="157" y="0"/>
                    </a:lnTo>
                    <a:lnTo>
                      <a:pt x="157" y="91"/>
                    </a:lnTo>
                    <a:lnTo>
                      <a:pt x="0" y="9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36720" y="2693880"/>
                <a:ext cx="243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151000" y="2724120"/>
                <a:ext cx="0" cy="168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297160" y="2724120"/>
                <a:ext cx="263520" cy="23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60760" y="2759040"/>
                <a:ext cx="0" cy="201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054160" y="2892240"/>
                <a:ext cx="225360" cy="146160"/>
              </a:xfrm>
              <a:custGeom>
                <a:avLst/>
                <a:gdLst/>
                <a:ahLst/>
                <a:rect l="l" t="t" r="r" b="b"/>
                <a:pathLst>
                  <a:path w="142" h="92">
                    <a:moveTo>
                      <a:pt x="0" y="0"/>
                    </a:moveTo>
                    <a:lnTo>
                      <a:pt x="141" y="0"/>
                    </a:lnTo>
                    <a:lnTo>
                      <a:pt x="141" y="91"/>
                    </a:lnTo>
                    <a:lnTo>
                      <a:pt x="0" y="9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89040" y="2657520"/>
                <a:ext cx="225720" cy="147600"/>
              </a:xfrm>
              <a:custGeom>
                <a:avLst/>
                <a:gdLst/>
                <a:ahLst/>
                <a:rect l="l" t="t" r="r" b="b"/>
                <a:pathLst>
                  <a:path w="142" h="93">
                    <a:moveTo>
                      <a:pt x="0" y="0"/>
                    </a:moveTo>
                    <a:lnTo>
                      <a:pt x="141" y="0"/>
                    </a:lnTo>
                    <a:lnTo>
                      <a:pt x="141" y="92"/>
                    </a:lnTo>
                    <a:lnTo>
                      <a:pt x="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40160" y="2927160"/>
                <a:ext cx="225360" cy="144360"/>
              </a:xfrm>
              <a:custGeom>
                <a:avLst/>
                <a:gdLst/>
                <a:ahLst/>
                <a:rect l="l" t="t" r="r" b="b"/>
                <a:pathLst>
                  <a:path w="142" h="91">
                    <a:moveTo>
                      <a:pt x="0" y="0"/>
                    </a:moveTo>
                    <a:lnTo>
                      <a:pt x="141" y="0"/>
                    </a:lnTo>
                    <a:lnTo>
                      <a:pt x="141" y="90"/>
                    </a:lnTo>
                    <a:lnTo>
                      <a:pt x="0" y="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30600" y="2724120"/>
                <a:ext cx="193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3241800" y="2625480"/>
              <a:ext cx="1110960" cy="446040"/>
              <a:chOff x="3241800" y="2625480"/>
              <a:chExt cx="1110960" cy="446040"/>
            </a:xfrm>
          </p:grpSpPr>
          <p:sp>
            <p:nvSpPr>
              <p:cNvPr id="684" name=""/>
              <p:cNvSpPr/>
              <p:nvPr/>
            </p:nvSpPr>
            <p:spPr>
              <a:xfrm>
                <a:off x="3484440" y="2625480"/>
                <a:ext cx="223920" cy="146160"/>
              </a:xfrm>
              <a:custGeom>
                <a:avLst/>
                <a:gdLst/>
                <a:ahLst/>
                <a:rect l="l" t="t" r="r" b="b"/>
                <a:pathLst>
                  <a:path w="141" h="92">
                    <a:moveTo>
                      <a:pt x="0" y="0"/>
                    </a:moveTo>
                    <a:lnTo>
                      <a:pt x="140" y="0"/>
                    </a:lnTo>
                    <a:lnTo>
                      <a:pt x="140" y="91"/>
                    </a:lnTo>
                    <a:lnTo>
                      <a:pt x="0" y="9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241800" y="2693880"/>
                <a:ext cx="242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578400" y="2724120"/>
                <a:ext cx="0" cy="168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700440" y="2724120"/>
                <a:ext cx="266760" cy="23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64040" y="2759040"/>
                <a:ext cx="0" cy="201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433680" y="2892240"/>
                <a:ext cx="249480" cy="146160"/>
              </a:xfrm>
              <a:custGeom>
                <a:avLst/>
                <a:gdLst/>
                <a:ahLst/>
                <a:rect l="l" t="t" r="r" b="b"/>
                <a:pathLst>
                  <a:path w="157" h="92">
                    <a:moveTo>
                      <a:pt x="0" y="0"/>
                    </a:moveTo>
                    <a:lnTo>
                      <a:pt x="156" y="0"/>
                    </a:lnTo>
                    <a:lnTo>
                      <a:pt x="156" y="91"/>
                    </a:lnTo>
                    <a:lnTo>
                      <a:pt x="0" y="9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917880" y="2657520"/>
                <a:ext cx="225360" cy="147600"/>
              </a:xfrm>
              <a:custGeom>
                <a:avLst/>
                <a:gdLst/>
                <a:ahLst/>
                <a:rect l="l" t="t" r="r" b="b"/>
                <a:pathLst>
                  <a:path w="142" h="93">
                    <a:moveTo>
                      <a:pt x="0" y="0"/>
                    </a:moveTo>
                    <a:lnTo>
                      <a:pt x="141" y="0"/>
                    </a:lnTo>
                    <a:lnTo>
                      <a:pt x="141" y="92"/>
                    </a:lnTo>
                    <a:lnTo>
                      <a:pt x="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967200" y="2927160"/>
                <a:ext cx="225360" cy="144360"/>
              </a:xfrm>
              <a:custGeom>
                <a:avLst/>
                <a:gdLst/>
                <a:ahLst/>
                <a:rect l="l" t="t" r="r" b="b"/>
                <a:pathLst>
                  <a:path w="142" h="91">
                    <a:moveTo>
                      <a:pt x="0" y="0"/>
                    </a:moveTo>
                    <a:lnTo>
                      <a:pt x="141" y="0"/>
                    </a:lnTo>
                    <a:lnTo>
                      <a:pt x="141" y="90"/>
                    </a:lnTo>
                    <a:lnTo>
                      <a:pt x="0" y="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135320" y="2724120"/>
                <a:ext cx="217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4668840" y="2625480"/>
              <a:ext cx="1090440" cy="446040"/>
              <a:chOff x="4668840" y="2625480"/>
              <a:chExt cx="1090440" cy="446040"/>
            </a:xfrm>
          </p:grpSpPr>
          <p:sp>
            <p:nvSpPr>
              <p:cNvPr id="694" name=""/>
              <p:cNvSpPr/>
              <p:nvPr/>
            </p:nvSpPr>
            <p:spPr>
              <a:xfrm>
                <a:off x="4911840" y="2625480"/>
                <a:ext cx="225360" cy="146160"/>
              </a:xfrm>
              <a:custGeom>
                <a:avLst/>
                <a:gdLst/>
                <a:ahLst/>
                <a:rect l="l" t="t" r="r" b="b"/>
                <a:pathLst>
                  <a:path w="142" h="92">
                    <a:moveTo>
                      <a:pt x="0" y="0"/>
                    </a:moveTo>
                    <a:lnTo>
                      <a:pt x="141" y="0"/>
                    </a:lnTo>
                    <a:lnTo>
                      <a:pt x="141" y="91"/>
                    </a:lnTo>
                    <a:lnTo>
                      <a:pt x="0" y="9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668840" y="2693880"/>
                <a:ext cx="243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006880" y="2724120"/>
                <a:ext cx="0" cy="168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103720" y="2724120"/>
                <a:ext cx="266760" cy="23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92880" y="2759040"/>
                <a:ext cx="0" cy="201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862520" y="2892240"/>
                <a:ext cx="223920" cy="146160"/>
              </a:xfrm>
              <a:custGeom>
                <a:avLst/>
                <a:gdLst/>
                <a:ahLst/>
                <a:rect l="l" t="t" r="r" b="b"/>
                <a:pathLst>
                  <a:path w="141" h="92">
                    <a:moveTo>
                      <a:pt x="0" y="0"/>
                    </a:moveTo>
                    <a:lnTo>
                      <a:pt x="140" y="0"/>
                    </a:lnTo>
                    <a:lnTo>
                      <a:pt x="140" y="91"/>
                    </a:lnTo>
                    <a:lnTo>
                      <a:pt x="0" y="9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346720" y="2657520"/>
                <a:ext cx="223920" cy="147600"/>
              </a:xfrm>
              <a:custGeom>
                <a:avLst/>
                <a:gdLst/>
                <a:ahLst/>
                <a:rect l="l" t="t" r="r" b="b"/>
                <a:pathLst>
                  <a:path w="141" h="93">
                    <a:moveTo>
                      <a:pt x="0" y="0"/>
                    </a:moveTo>
                    <a:lnTo>
                      <a:pt x="140" y="0"/>
                    </a:lnTo>
                    <a:lnTo>
                      <a:pt x="140" y="92"/>
                    </a:lnTo>
                    <a:lnTo>
                      <a:pt x="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370480" y="2927160"/>
                <a:ext cx="250920" cy="144360"/>
              </a:xfrm>
              <a:custGeom>
                <a:avLst/>
                <a:gdLst/>
                <a:ahLst/>
                <a:rect l="l" t="t" r="r" b="b"/>
                <a:pathLst>
                  <a:path w="158" h="91">
                    <a:moveTo>
                      <a:pt x="0" y="0"/>
                    </a:moveTo>
                    <a:lnTo>
                      <a:pt x="157" y="0"/>
                    </a:lnTo>
                    <a:lnTo>
                      <a:pt x="157" y="90"/>
                    </a:lnTo>
                    <a:lnTo>
                      <a:pt x="0" y="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562720" y="2724120"/>
                <a:ext cx="196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097680" y="2625480"/>
              <a:ext cx="1089000" cy="446040"/>
              <a:chOff x="6097680" y="2625480"/>
              <a:chExt cx="1089000" cy="446040"/>
            </a:xfrm>
          </p:grpSpPr>
          <p:sp>
            <p:nvSpPr>
              <p:cNvPr id="704" name=""/>
              <p:cNvSpPr/>
              <p:nvPr/>
            </p:nvSpPr>
            <p:spPr>
              <a:xfrm>
                <a:off x="6340320" y="2625480"/>
                <a:ext cx="223920" cy="146160"/>
              </a:xfrm>
              <a:custGeom>
                <a:avLst/>
                <a:gdLst/>
                <a:ahLst/>
                <a:rect l="l" t="t" r="r" b="b"/>
                <a:pathLst>
                  <a:path w="141" h="92">
                    <a:moveTo>
                      <a:pt x="0" y="0"/>
                    </a:moveTo>
                    <a:lnTo>
                      <a:pt x="140" y="0"/>
                    </a:lnTo>
                    <a:lnTo>
                      <a:pt x="140" y="91"/>
                    </a:lnTo>
                    <a:lnTo>
                      <a:pt x="0" y="9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097680" y="2693880"/>
                <a:ext cx="266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410160" y="2724120"/>
                <a:ext cx="0" cy="168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56320" y="2724120"/>
                <a:ext cx="268200" cy="23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919920" y="2759040"/>
                <a:ext cx="0" cy="201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13320" y="2892240"/>
                <a:ext cx="225720" cy="146160"/>
              </a:xfrm>
              <a:custGeom>
                <a:avLst/>
                <a:gdLst/>
                <a:ahLst/>
                <a:rect l="l" t="t" r="r" b="b"/>
                <a:pathLst>
                  <a:path w="142" h="92">
                    <a:moveTo>
                      <a:pt x="0" y="0"/>
                    </a:moveTo>
                    <a:lnTo>
                      <a:pt x="141" y="0"/>
                    </a:lnTo>
                    <a:lnTo>
                      <a:pt x="141" y="91"/>
                    </a:lnTo>
                    <a:lnTo>
                      <a:pt x="0" y="9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748560" y="2657520"/>
                <a:ext cx="250560" cy="147600"/>
              </a:xfrm>
              <a:custGeom>
                <a:avLst/>
                <a:gdLst/>
                <a:ahLst/>
                <a:rect l="l" t="t" r="r" b="b"/>
                <a:pathLst>
                  <a:path w="158" h="93">
                    <a:moveTo>
                      <a:pt x="0" y="0"/>
                    </a:moveTo>
                    <a:lnTo>
                      <a:pt x="157" y="0"/>
                    </a:lnTo>
                    <a:lnTo>
                      <a:pt x="157" y="92"/>
                    </a:lnTo>
                    <a:lnTo>
                      <a:pt x="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797520" y="2927160"/>
                <a:ext cx="225720" cy="144360"/>
              </a:xfrm>
              <a:custGeom>
                <a:avLst/>
                <a:gdLst/>
                <a:ahLst/>
                <a:rect l="l" t="t" r="r" b="b"/>
                <a:pathLst>
                  <a:path w="142" h="91">
                    <a:moveTo>
                      <a:pt x="0" y="0"/>
                    </a:moveTo>
                    <a:lnTo>
                      <a:pt x="141" y="0"/>
                    </a:lnTo>
                    <a:lnTo>
                      <a:pt x="141" y="90"/>
                    </a:lnTo>
                    <a:lnTo>
                      <a:pt x="0" y="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15320" y="2724120"/>
                <a:ext cx="171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2157480" y="3535200"/>
              <a:ext cx="185760" cy="163440"/>
              <a:chOff x="2157480" y="3535200"/>
              <a:chExt cx="185760" cy="163440"/>
            </a:xfrm>
          </p:grpSpPr>
          <p:sp>
            <p:nvSpPr>
              <p:cNvPr id="714" name=""/>
              <p:cNvSpPr/>
              <p:nvPr/>
            </p:nvSpPr>
            <p:spPr>
              <a:xfrm>
                <a:off x="2157480" y="3535200"/>
                <a:ext cx="185760" cy="163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2228760" y="3565440"/>
                <a:ext cx="684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3584520" y="3535200"/>
              <a:ext cx="162000" cy="163440"/>
              <a:chOff x="3584520" y="3535200"/>
              <a:chExt cx="162000" cy="163440"/>
            </a:xfrm>
          </p:grpSpPr>
          <p:sp>
            <p:nvSpPr>
              <p:cNvPr id="717" name=""/>
              <p:cNvSpPr/>
              <p:nvPr/>
            </p:nvSpPr>
            <p:spPr>
              <a:xfrm>
                <a:off x="3584520" y="3535200"/>
                <a:ext cx="162000" cy="163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657600" y="3565440"/>
                <a:ext cx="666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4044960" y="3535200"/>
              <a:ext cx="160200" cy="163440"/>
              <a:chOff x="4044960" y="3535200"/>
              <a:chExt cx="160200" cy="163440"/>
            </a:xfrm>
          </p:grpSpPr>
          <p:sp>
            <p:nvSpPr>
              <p:cNvPr id="720" name=""/>
              <p:cNvSpPr/>
              <p:nvPr/>
            </p:nvSpPr>
            <p:spPr>
              <a:xfrm>
                <a:off x="4044960" y="3535200"/>
                <a:ext cx="160200" cy="163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94280" y="3568320"/>
                <a:ext cx="6480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5013360" y="3535200"/>
              <a:ext cx="162000" cy="163440"/>
              <a:chOff x="5013360" y="3535200"/>
              <a:chExt cx="162000" cy="163440"/>
            </a:xfrm>
          </p:grpSpPr>
          <p:sp>
            <p:nvSpPr>
              <p:cNvPr id="723" name=""/>
              <p:cNvSpPr/>
              <p:nvPr/>
            </p:nvSpPr>
            <p:spPr>
              <a:xfrm>
                <a:off x="5013360" y="3535200"/>
                <a:ext cx="162000" cy="163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062680" y="3568320"/>
                <a:ext cx="6660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6416640" y="3535200"/>
              <a:ext cx="187200" cy="163440"/>
              <a:chOff x="6416640" y="3535200"/>
              <a:chExt cx="187200" cy="163440"/>
            </a:xfrm>
          </p:grpSpPr>
          <p:sp>
            <p:nvSpPr>
              <p:cNvPr id="726" name=""/>
              <p:cNvSpPr/>
              <p:nvPr/>
            </p:nvSpPr>
            <p:spPr>
              <a:xfrm>
                <a:off x="6416640" y="3535200"/>
                <a:ext cx="187200" cy="163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6491160" y="3568320"/>
                <a:ext cx="6516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6877080" y="3535200"/>
              <a:ext cx="163440" cy="163440"/>
              <a:chOff x="6877080" y="3535200"/>
              <a:chExt cx="163440" cy="163440"/>
            </a:xfrm>
          </p:grpSpPr>
          <p:sp>
            <p:nvSpPr>
              <p:cNvPr id="729" name=""/>
              <p:cNvSpPr/>
              <p:nvPr/>
            </p:nvSpPr>
            <p:spPr>
              <a:xfrm>
                <a:off x="6877080" y="3535200"/>
                <a:ext cx="163440" cy="163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6951600" y="3568320"/>
                <a:ext cx="6372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1521000" y="2759040"/>
              <a:ext cx="293400" cy="135000"/>
              <a:chOff x="1521000" y="2759040"/>
              <a:chExt cx="293400" cy="135000"/>
            </a:xfrm>
          </p:grpSpPr>
          <p:sp>
            <p:nvSpPr>
              <p:cNvPr id="732" name=""/>
              <p:cNvSpPr/>
              <p:nvPr/>
            </p:nvSpPr>
            <p:spPr>
              <a:xfrm>
                <a:off x="1716120" y="2759040"/>
                <a:ext cx="98280" cy="135000"/>
              </a:xfrm>
              <a:custGeom>
                <a:avLst/>
                <a:gdLst/>
                <a:ahLst/>
                <a:rect l="l" t="t" r="r" b="b"/>
                <a:pathLst>
                  <a:path w="62" h="85">
                    <a:moveTo>
                      <a:pt x="61" y="42"/>
                    </a:moveTo>
                    <a:lnTo>
                      <a:pt x="30" y="64"/>
                    </a:lnTo>
                    <a:lnTo>
                      <a:pt x="0" y="84"/>
                    </a:lnTo>
                    <a:lnTo>
                      <a:pt x="0" y="64"/>
                    </a:lnTo>
                    <a:lnTo>
                      <a:pt x="0" y="4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30" y="22"/>
                    </a:lnTo>
                    <a:lnTo>
                      <a:pt x="61" y="4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521000" y="2825640"/>
                <a:ext cx="19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2924280" y="2759040"/>
              <a:ext cx="318960" cy="135000"/>
              <a:chOff x="2924280" y="2759040"/>
              <a:chExt cx="318960" cy="135000"/>
            </a:xfrm>
          </p:grpSpPr>
          <p:sp>
            <p:nvSpPr>
              <p:cNvPr id="735" name=""/>
              <p:cNvSpPr/>
              <p:nvPr/>
            </p:nvSpPr>
            <p:spPr>
              <a:xfrm>
                <a:off x="3121200" y="2759040"/>
                <a:ext cx="122040" cy="135000"/>
              </a:xfrm>
              <a:custGeom>
                <a:avLst/>
                <a:gdLst/>
                <a:ahLst/>
                <a:rect l="l" t="t" r="r" b="b"/>
                <a:pathLst>
                  <a:path w="77" h="85">
                    <a:moveTo>
                      <a:pt x="76" y="42"/>
                    </a:moveTo>
                    <a:lnTo>
                      <a:pt x="45" y="64"/>
                    </a:lnTo>
                    <a:lnTo>
                      <a:pt x="0" y="84"/>
                    </a:lnTo>
                    <a:lnTo>
                      <a:pt x="0" y="64"/>
                    </a:lnTo>
                    <a:lnTo>
                      <a:pt x="0" y="4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45" y="22"/>
                    </a:lnTo>
                    <a:lnTo>
                      <a:pt x="76" y="4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924280" y="2825640"/>
                <a:ext cx="22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4352760" y="2759040"/>
              <a:ext cx="317520" cy="135000"/>
              <a:chOff x="4352760" y="2759040"/>
              <a:chExt cx="317520" cy="135000"/>
            </a:xfrm>
          </p:grpSpPr>
          <p:sp>
            <p:nvSpPr>
              <p:cNvPr id="738" name=""/>
              <p:cNvSpPr/>
              <p:nvPr/>
            </p:nvSpPr>
            <p:spPr>
              <a:xfrm>
                <a:off x="4548240" y="2759040"/>
                <a:ext cx="122040" cy="135000"/>
              </a:xfrm>
              <a:custGeom>
                <a:avLst/>
                <a:gdLst/>
                <a:ahLst/>
                <a:rect l="l" t="t" r="r" b="b"/>
                <a:pathLst>
                  <a:path w="77" h="85">
                    <a:moveTo>
                      <a:pt x="76" y="42"/>
                    </a:moveTo>
                    <a:lnTo>
                      <a:pt x="29" y="64"/>
                    </a:lnTo>
                    <a:lnTo>
                      <a:pt x="0" y="84"/>
                    </a:lnTo>
                    <a:lnTo>
                      <a:pt x="0" y="64"/>
                    </a:lnTo>
                    <a:lnTo>
                      <a:pt x="0" y="4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9" y="22"/>
                    </a:lnTo>
                    <a:lnTo>
                      <a:pt x="76" y="4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352760" y="2825640"/>
                <a:ext cx="21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5759280" y="2759040"/>
              <a:ext cx="314640" cy="135000"/>
              <a:chOff x="5759280" y="2759040"/>
              <a:chExt cx="314640" cy="135000"/>
            </a:xfrm>
          </p:grpSpPr>
          <p:sp>
            <p:nvSpPr>
              <p:cNvPr id="741" name=""/>
              <p:cNvSpPr/>
              <p:nvPr/>
            </p:nvSpPr>
            <p:spPr>
              <a:xfrm>
                <a:off x="5977080" y="2759040"/>
                <a:ext cx="96840" cy="13500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60" y="42"/>
                    </a:moveTo>
                    <a:lnTo>
                      <a:pt x="29" y="64"/>
                    </a:lnTo>
                    <a:lnTo>
                      <a:pt x="0" y="84"/>
                    </a:lnTo>
                    <a:lnTo>
                      <a:pt x="0" y="64"/>
                    </a:lnTo>
                    <a:lnTo>
                      <a:pt x="0" y="4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9" y="22"/>
                    </a:lnTo>
                    <a:lnTo>
                      <a:pt x="60" y="4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759280" y="2825640"/>
                <a:ext cx="24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7186680" y="2759040"/>
              <a:ext cx="315720" cy="135000"/>
              <a:chOff x="7186680" y="2759040"/>
              <a:chExt cx="315720" cy="135000"/>
            </a:xfrm>
          </p:grpSpPr>
          <p:sp>
            <p:nvSpPr>
              <p:cNvPr id="744" name=""/>
              <p:cNvSpPr/>
              <p:nvPr/>
            </p:nvSpPr>
            <p:spPr>
              <a:xfrm>
                <a:off x="7378560" y="2759040"/>
                <a:ext cx="123840" cy="135000"/>
              </a:xfrm>
              <a:custGeom>
                <a:avLst/>
                <a:gdLst/>
                <a:ahLst/>
                <a:rect l="l" t="t" r="r" b="b"/>
                <a:pathLst>
                  <a:path w="78" h="85">
                    <a:moveTo>
                      <a:pt x="77" y="42"/>
                    </a:moveTo>
                    <a:lnTo>
                      <a:pt x="45" y="64"/>
                    </a:lnTo>
                    <a:lnTo>
                      <a:pt x="0" y="84"/>
                    </a:lnTo>
                    <a:lnTo>
                      <a:pt x="0" y="64"/>
                    </a:lnTo>
                    <a:lnTo>
                      <a:pt x="0" y="4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45" y="22"/>
                    </a:lnTo>
                    <a:lnTo>
                      <a:pt x="77" y="4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186680" y="2825640"/>
                <a:ext cx="21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1527120" y="3159000"/>
              <a:ext cx="5948280" cy="776160"/>
              <a:chOff x="1527120" y="3159000"/>
              <a:chExt cx="5948280" cy="776160"/>
            </a:xfrm>
          </p:grpSpPr>
          <p:sp>
            <p:nvSpPr>
              <p:cNvPr id="747" name=""/>
              <p:cNvSpPr/>
              <p:nvPr/>
            </p:nvSpPr>
            <p:spPr>
              <a:xfrm>
                <a:off x="1787400" y="3797280"/>
                <a:ext cx="551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8" name=""/>
              <p:cNvGrpSpPr/>
              <p:nvPr/>
            </p:nvGrpSpPr>
            <p:grpSpPr>
              <a:xfrm>
                <a:off x="1527120" y="3159000"/>
                <a:ext cx="306360" cy="776160"/>
                <a:chOff x="1527120" y="3159000"/>
                <a:chExt cx="306360" cy="776160"/>
              </a:xfrm>
            </p:grpSpPr>
            <p:grpSp>
              <p:nvGrpSpPr>
                <p:cNvPr id="749" name=""/>
                <p:cNvGrpSpPr/>
                <p:nvPr/>
              </p:nvGrpSpPr>
              <p:grpSpPr>
                <a:xfrm>
                  <a:off x="1527120" y="3668760"/>
                  <a:ext cx="306360" cy="266400"/>
                  <a:chOff x="1527120" y="3668760"/>
                  <a:chExt cx="306360" cy="26640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>
                    <a:off x="1527120" y="3668760"/>
                    <a:ext cx="306360" cy="26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V="1">
                    <a:off x="1670040" y="3733200"/>
                    <a:ext cx="68400" cy="63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2" name=""/>
                <p:cNvGrpSpPr/>
                <p:nvPr/>
              </p:nvGrpSpPr>
              <p:grpSpPr>
                <a:xfrm>
                  <a:off x="1643040" y="3159000"/>
                  <a:ext cx="74520" cy="436680"/>
                  <a:chOff x="1643040" y="3159000"/>
                  <a:chExt cx="74520" cy="43668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1643040" y="3159000"/>
                    <a:ext cx="745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6">
                        <a:moveTo>
                          <a:pt x="31" y="0"/>
                        </a:moveTo>
                        <a:lnTo>
                          <a:pt x="46" y="43"/>
                        </a:lnTo>
                        <a:lnTo>
                          <a:pt x="46" y="85"/>
                        </a:lnTo>
                        <a:lnTo>
                          <a:pt x="31" y="85"/>
                        </a:lnTo>
                        <a:lnTo>
                          <a:pt x="15" y="85"/>
                        </a:lnTo>
                        <a:lnTo>
                          <a:pt x="0" y="85"/>
                        </a:lnTo>
                        <a:lnTo>
                          <a:pt x="15" y="43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 flipV="1">
                    <a:off x="1692360" y="3262320"/>
                    <a:ext cx="0" cy="33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5" name=""/>
              <p:cNvGrpSpPr/>
              <p:nvPr/>
            </p:nvGrpSpPr>
            <p:grpSpPr>
              <a:xfrm>
                <a:off x="2930400" y="3159000"/>
                <a:ext cx="311400" cy="776160"/>
                <a:chOff x="2930400" y="3159000"/>
                <a:chExt cx="311400" cy="776160"/>
              </a:xfrm>
            </p:grpSpPr>
            <p:grpSp>
              <p:nvGrpSpPr>
                <p:cNvPr id="756" name=""/>
                <p:cNvGrpSpPr/>
                <p:nvPr/>
              </p:nvGrpSpPr>
              <p:grpSpPr>
                <a:xfrm>
                  <a:off x="2930400" y="3668760"/>
                  <a:ext cx="311400" cy="266400"/>
                  <a:chOff x="2930400" y="3668760"/>
                  <a:chExt cx="311400" cy="266400"/>
                </a:xfrm>
              </p:grpSpPr>
              <p:sp>
                <p:nvSpPr>
                  <p:cNvPr id="757" name=""/>
                  <p:cNvSpPr/>
                  <p:nvPr/>
                </p:nvSpPr>
                <p:spPr>
                  <a:xfrm>
                    <a:off x="2930400" y="3668760"/>
                    <a:ext cx="311400" cy="26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V="1">
                    <a:off x="3048120" y="3733200"/>
                    <a:ext cx="96840" cy="63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9" name=""/>
                <p:cNvGrpSpPr/>
                <p:nvPr/>
              </p:nvGrpSpPr>
              <p:grpSpPr>
                <a:xfrm>
                  <a:off x="3044880" y="3159000"/>
                  <a:ext cx="50760" cy="436680"/>
                  <a:chOff x="3044880" y="3159000"/>
                  <a:chExt cx="50760" cy="43668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3044880" y="3159000"/>
                    <a:ext cx="507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86">
                        <a:moveTo>
                          <a:pt x="16" y="0"/>
                        </a:moveTo>
                        <a:lnTo>
                          <a:pt x="31" y="43"/>
                        </a:lnTo>
                        <a:lnTo>
                          <a:pt x="31" y="85"/>
                        </a:lnTo>
                        <a:lnTo>
                          <a:pt x="16" y="85"/>
                        </a:lnTo>
                        <a:lnTo>
                          <a:pt x="0" y="85"/>
                        </a:lnTo>
                        <a:lnTo>
                          <a:pt x="0" y="43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V="1">
                    <a:off x="3070080" y="3262320"/>
                    <a:ext cx="0" cy="33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2" name=""/>
              <p:cNvGrpSpPr/>
              <p:nvPr/>
            </p:nvGrpSpPr>
            <p:grpSpPr>
              <a:xfrm>
                <a:off x="4359240" y="3159000"/>
                <a:ext cx="309600" cy="776160"/>
                <a:chOff x="4359240" y="3159000"/>
                <a:chExt cx="309600" cy="776160"/>
              </a:xfrm>
            </p:grpSpPr>
            <p:grpSp>
              <p:nvGrpSpPr>
                <p:cNvPr id="763" name=""/>
                <p:cNvGrpSpPr/>
                <p:nvPr/>
              </p:nvGrpSpPr>
              <p:grpSpPr>
                <a:xfrm>
                  <a:off x="4359240" y="3668760"/>
                  <a:ext cx="309600" cy="266400"/>
                  <a:chOff x="4359240" y="3668760"/>
                  <a:chExt cx="309600" cy="26640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4359240" y="3668760"/>
                    <a:ext cx="309600" cy="26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V="1">
                    <a:off x="4476600" y="3733200"/>
                    <a:ext cx="95400" cy="63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6" name=""/>
                <p:cNvGrpSpPr/>
                <p:nvPr/>
              </p:nvGrpSpPr>
              <p:grpSpPr>
                <a:xfrm>
                  <a:off x="4451400" y="3159000"/>
                  <a:ext cx="73080" cy="436680"/>
                  <a:chOff x="4451400" y="3159000"/>
                  <a:chExt cx="73080" cy="436680"/>
                </a:xfrm>
              </p:grpSpPr>
              <p:sp>
                <p:nvSpPr>
                  <p:cNvPr id="767" name=""/>
                  <p:cNvSpPr/>
                  <p:nvPr/>
                </p:nvSpPr>
                <p:spPr>
                  <a:xfrm>
                    <a:off x="4451400" y="3159000"/>
                    <a:ext cx="730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6">
                        <a:moveTo>
                          <a:pt x="29" y="0"/>
                        </a:moveTo>
                        <a:lnTo>
                          <a:pt x="45" y="43"/>
                        </a:lnTo>
                        <a:lnTo>
                          <a:pt x="45" y="85"/>
                        </a:lnTo>
                        <a:lnTo>
                          <a:pt x="29" y="85"/>
                        </a:lnTo>
                        <a:lnTo>
                          <a:pt x="14" y="85"/>
                        </a:lnTo>
                        <a:lnTo>
                          <a:pt x="0" y="85"/>
                        </a:lnTo>
                        <a:lnTo>
                          <a:pt x="14" y="43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V="1">
                    <a:off x="4498920" y="3262320"/>
                    <a:ext cx="0" cy="33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9" name=""/>
              <p:cNvGrpSpPr/>
              <p:nvPr/>
            </p:nvGrpSpPr>
            <p:grpSpPr>
              <a:xfrm>
                <a:off x="5765760" y="3159000"/>
                <a:ext cx="304920" cy="776160"/>
                <a:chOff x="5765760" y="3159000"/>
                <a:chExt cx="304920" cy="776160"/>
              </a:xfrm>
            </p:grpSpPr>
            <p:grpSp>
              <p:nvGrpSpPr>
                <p:cNvPr id="770" name=""/>
                <p:cNvGrpSpPr/>
                <p:nvPr/>
              </p:nvGrpSpPr>
              <p:grpSpPr>
                <a:xfrm>
                  <a:off x="5765760" y="3668760"/>
                  <a:ext cx="304920" cy="266400"/>
                  <a:chOff x="5765760" y="3668760"/>
                  <a:chExt cx="304920" cy="26640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>
                    <a:off x="5765760" y="3668760"/>
                    <a:ext cx="304920" cy="26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V="1">
                    <a:off x="5904000" y="3733200"/>
                    <a:ext cx="96840" cy="63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5880240" y="3159000"/>
                  <a:ext cx="71280" cy="436680"/>
                  <a:chOff x="5880240" y="3159000"/>
                  <a:chExt cx="71280" cy="43668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>
                    <a:off x="5880240" y="3159000"/>
                    <a:ext cx="712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6">
                        <a:moveTo>
                          <a:pt x="29" y="0"/>
                        </a:moveTo>
                        <a:lnTo>
                          <a:pt x="29" y="43"/>
                        </a:lnTo>
                        <a:lnTo>
                          <a:pt x="44" y="85"/>
                        </a:lnTo>
                        <a:lnTo>
                          <a:pt x="29" y="85"/>
                        </a:lnTo>
                        <a:lnTo>
                          <a:pt x="13" y="85"/>
                        </a:lnTo>
                        <a:lnTo>
                          <a:pt x="0" y="85"/>
                        </a:lnTo>
                        <a:lnTo>
                          <a:pt x="13" y="43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V="1">
                    <a:off x="5925960" y="3262320"/>
                    <a:ext cx="0" cy="33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6" name=""/>
              <p:cNvGrpSpPr/>
              <p:nvPr/>
            </p:nvGrpSpPr>
            <p:grpSpPr>
              <a:xfrm>
                <a:off x="7167600" y="3159000"/>
                <a:ext cx="307800" cy="776160"/>
                <a:chOff x="7167600" y="3159000"/>
                <a:chExt cx="307800" cy="776160"/>
              </a:xfrm>
            </p:grpSpPr>
            <p:grpSp>
              <p:nvGrpSpPr>
                <p:cNvPr id="777" name=""/>
                <p:cNvGrpSpPr/>
                <p:nvPr/>
              </p:nvGrpSpPr>
              <p:grpSpPr>
                <a:xfrm>
                  <a:off x="7167600" y="3668760"/>
                  <a:ext cx="307800" cy="266400"/>
                  <a:chOff x="7167600" y="3668760"/>
                  <a:chExt cx="307800" cy="26640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>
                    <a:off x="7167600" y="3668760"/>
                    <a:ext cx="307800" cy="26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V="1">
                    <a:off x="7307280" y="3733200"/>
                    <a:ext cx="71280" cy="63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0" name=""/>
                <p:cNvGrpSpPr/>
                <p:nvPr/>
              </p:nvGrpSpPr>
              <p:grpSpPr>
                <a:xfrm>
                  <a:off x="7281720" y="3159000"/>
                  <a:ext cx="74880" cy="436680"/>
                  <a:chOff x="7281720" y="3159000"/>
                  <a:chExt cx="74880" cy="43668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>
                    <a:off x="7281720" y="3159000"/>
                    <a:ext cx="748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6">
                        <a:moveTo>
                          <a:pt x="30" y="0"/>
                        </a:moveTo>
                        <a:lnTo>
                          <a:pt x="46" y="43"/>
                        </a:lnTo>
                        <a:lnTo>
                          <a:pt x="46" y="85"/>
                        </a:lnTo>
                        <a:lnTo>
                          <a:pt x="30" y="85"/>
                        </a:lnTo>
                        <a:lnTo>
                          <a:pt x="16" y="85"/>
                        </a:lnTo>
                        <a:lnTo>
                          <a:pt x="0" y="85"/>
                        </a:lnTo>
                        <a:lnTo>
                          <a:pt x="16" y="43"/>
                        </a:lnTo>
                        <a:lnTo>
                          <a:pt x="3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V="1">
                    <a:off x="7329600" y="3262320"/>
                    <a:ext cx="0" cy="33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83" name=""/>
            <p:cNvGrpSpPr/>
            <p:nvPr/>
          </p:nvGrpSpPr>
          <p:grpSpPr>
            <a:xfrm>
              <a:off x="3529080" y="3128760"/>
              <a:ext cx="268200" cy="468360"/>
              <a:chOff x="3529080" y="3128760"/>
              <a:chExt cx="268200" cy="46836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3529080" y="3128760"/>
                <a:ext cx="75960" cy="468360"/>
                <a:chOff x="3529080" y="3128760"/>
                <a:chExt cx="75960" cy="46836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3529080" y="3463920"/>
                  <a:ext cx="75960" cy="133200"/>
                </a:xfrm>
                <a:custGeom>
                  <a:avLst/>
                  <a:gdLst/>
                  <a:ahLst/>
                  <a:rect l="l" t="t" r="r" b="b"/>
                  <a:pathLst>
                    <a:path w="48" h="84">
                      <a:moveTo>
                        <a:pt x="16" y="83"/>
                      </a:moveTo>
                      <a:lnTo>
                        <a:pt x="16" y="42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31" y="0"/>
                      </a:lnTo>
                      <a:lnTo>
                        <a:pt x="47" y="0"/>
                      </a:lnTo>
                      <a:lnTo>
                        <a:pt x="31" y="42"/>
                      </a:lnTo>
                      <a:lnTo>
                        <a:pt x="16" y="8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578400" y="3128760"/>
                  <a:ext cx="0" cy="33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3724200" y="3128760"/>
                <a:ext cx="73080" cy="466920"/>
                <a:chOff x="3724200" y="3128760"/>
                <a:chExt cx="73080" cy="4669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3724200" y="3128760"/>
                  <a:ext cx="73080" cy="166680"/>
                </a:xfrm>
                <a:custGeom>
                  <a:avLst/>
                  <a:gdLst/>
                  <a:ahLst/>
                  <a:rect l="l" t="t" r="r" b="b"/>
                  <a:pathLst>
                    <a:path w="46" h="105">
                      <a:moveTo>
                        <a:pt x="16" y="0"/>
                      </a:moveTo>
                      <a:lnTo>
                        <a:pt x="29" y="42"/>
                      </a:lnTo>
                      <a:lnTo>
                        <a:pt x="45" y="104"/>
                      </a:lnTo>
                      <a:lnTo>
                        <a:pt x="29" y="104"/>
                      </a:lnTo>
                      <a:lnTo>
                        <a:pt x="16" y="104"/>
                      </a:lnTo>
                      <a:lnTo>
                        <a:pt x="0" y="104"/>
                      </a:lnTo>
                      <a:lnTo>
                        <a:pt x="0" y="42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V="1">
                  <a:off x="3751200" y="3262320"/>
                  <a:ext cx="0" cy="33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0" name=""/>
            <p:cNvGrpSpPr/>
            <p:nvPr/>
          </p:nvGrpSpPr>
          <p:grpSpPr>
            <a:xfrm>
              <a:off x="3989520" y="3128760"/>
              <a:ext cx="268200" cy="468360"/>
              <a:chOff x="3989520" y="3128760"/>
              <a:chExt cx="268200" cy="468360"/>
            </a:xfrm>
          </p:grpSpPr>
          <p:grpSp>
            <p:nvGrpSpPr>
              <p:cNvPr id="791" name=""/>
              <p:cNvGrpSpPr/>
              <p:nvPr/>
            </p:nvGrpSpPr>
            <p:grpSpPr>
              <a:xfrm>
                <a:off x="3989520" y="3128760"/>
                <a:ext cx="75960" cy="468360"/>
                <a:chOff x="3989520" y="3128760"/>
                <a:chExt cx="75960" cy="46836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3989520" y="3463920"/>
                  <a:ext cx="75960" cy="133200"/>
                </a:xfrm>
                <a:custGeom>
                  <a:avLst/>
                  <a:gdLst/>
                  <a:ahLst/>
                  <a:rect l="l" t="t" r="r" b="b"/>
                  <a:pathLst>
                    <a:path w="48" h="84">
                      <a:moveTo>
                        <a:pt x="31" y="83"/>
                      </a:moveTo>
                      <a:lnTo>
                        <a:pt x="16" y="42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31" y="0"/>
                      </a:lnTo>
                      <a:lnTo>
                        <a:pt x="47" y="0"/>
                      </a:lnTo>
                      <a:lnTo>
                        <a:pt x="31" y="42"/>
                      </a:lnTo>
                      <a:lnTo>
                        <a:pt x="31" y="8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038480" y="3128760"/>
                  <a:ext cx="0" cy="33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4184640" y="3128760"/>
                <a:ext cx="73080" cy="466920"/>
                <a:chOff x="4184640" y="3128760"/>
                <a:chExt cx="73080" cy="46692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184640" y="3128760"/>
                  <a:ext cx="73080" cy="166680"/>
                </a:xfrm>
                <a:custGeom>
                  <a:avLst/>
                  <a:gdLst/>
                  <a:ahLst/>
                  <a:rect l="l" t="t" r="r" b="b"/>
                  <a:pathLst>
                    <a:path w="46" h="105">
                      <a:moveTo>
                        <a:pt x="16" y="0"/>
                      </a:moveTo>
                      <a:lnTo>
                        <a:pt x="29" y="42"/>
                      </a:lnTo>
                      <a:lnTo>
                        <a:pt x="45" y="104"/>
                      </a:lnTo>
                      <a:lnTo>
                        <a:pt x="29" y="104"/>
                      </a:lnTo>
                      <a:lnTo>
                        <a:pt x="16" y="104"/>
                      </a:lnTo>
                      <a:lnTo>
                        <a:pt x="0" y="104"/>
                      </a:lnTo>
                      <a:lnTo>
                        <a:pt x="16" y="42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V="1">
                  <a:off x="4208400" y="3262320"/>
                  <a:ext cx="0" cy="33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7" name=""/>
            <p:cNvGrpSpPr/>
            <p:nvPr/>
          </p:nvGrpSpPr>
          <p:grpSpPr>
            <a:xfrm>
              <a:off x="4957920" y="3128760"/>
              <a:ext cx="269640" cy="468360"/>
              <a:chOff x="4957920" y="3128760"/>
              <a:chExt cx="269640" cy="468360"/>
            </a:xfrm>
          </p:grpSpPr>
          <p:grpSp>
            <p:nvGrpSpPr>
              <p:cNvPr id="798" name=""/>
              <p:cNvGrpSpPr/>
              <p:nvPr/>
            </p:nvGrpSpPr>
            <p:grpSpPr>
              <a:xfrm>
                <a:off x="4957920" y="3128760"/>
                <a:ext cx="75960" cy="468360"/>
                <a:chOff x="4957920" y="3128760"/>
                <a:chExt cx="75960" cy="46836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4957920" y="3463920"/>
                  <a:ext cx="75960" cy="133200"/>
                </a:xfrm>
                <a:custGeom>
                  <a:avLst/>
                  <a:gdLst/>
                  <a:ahLst/>
                  <a:rect l="l" t="t" r="r" b="b"/>
                  <a:pathLst>
                    <a:path w="48" h="84">
                      <a:moveTo>
                        <a:pt x="16" y="83"/>
                      </a:moveTo>
                      <a:lnTo>
                        <a:pt x="0" y="42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31" y="0"/>
                      </a:lnTo>
                      <a:lnTo>
                        <a:pt x="47" y="0"/>
                      </a:lnTo>
                      <a:lnTo>
                        <a:pt x="31" y="42"/>
                      </a:lnTo>
                      <a:lnTo>
                        <a:pt x="16" y="8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006880" y="3128760"/>
                  <a:ext cx="0" cy="33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5129280" y="3128760"/>
                <a:ext cx="98280" cy="466920"/>
                <a:chOff x="5129280" y="3128760"/>
                <a:chExt cx="98280" cy="4669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5129280" y="3128760"/>
                  <a:ext cx="98280" cy="166680"/>
                </a:xfrm>
                <a:custGeom>
                  <a:avLst/>
                  <a:gdLst/>
                  <a:ahLst/>
                  <a:rect l="l" t="t" r="r" b="b"/>
                  <a:pathLst>
                    <a:path w="62" h="105">
                      <a:moveTo>
                        <a:pt x="30" y="0"/>
                      </a:moveTo>
                      <a:lnTo>
                        <a:pt x="45" y="42"/>
                      </a:lnTo>
                      <a:lnTo>
                        <a:pt x="61" y="104"/>
                      </a:lnTo>
                      <a:lnTo>
                        <a:pt x="45" y="104"/>
                      </a:lnTo>
                      <a:lnTo>
                        <a:pt x="30" y="104"/>
                      </a:lnTo>
                      <a:lnTo>
                        <a:pt x="16" y="104"/>
                      </a:lnTo>
                      <a:lnTo>
                        <a:pt x="0" y="104"/>
                      </a:lnTo>
                      <a:lnTo>
                        <a:pt x="16" y="42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V="1">
                  <a:off x="5175360" y="3262320"/>
                  <a:ext cx="0" cy="33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6364440" y="3128760"/>
              <a:ext cx="290520" cy="468360"/>
              <a:chOff x="6364440" y="3128760"/>
              <a:chExt cx="290520" cy="468360"/>
            </a:xfrm>
          </p:grpSpPr>
          <p:grpSp>
            <p:nvGrpSpPr>
              <p:cNvPr id="805" name=""/>
              <p:cNvGrpSpPr/>
              <p:nvPr/>
            </p:nvGrpSpPr>
            <p:grpSpPr>
              <a:xfrm>
                <a:off x="6364440" y="3128760"/>
                <a:ext cx="71280" cy="468360"/>
                <a:chOff x="6364440" y="3128760"/>
                <a:chExt cx="71280" cy="46836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364440" y="3463920"/>
                  <a:ext cx="71280" cy="133200"/>
                </a:xfrm>
                <a:custGeom>
                  <a:avLst/>
                  <a:gdLst/>
                  <a:ahLst/>
                  <a:rect l="l" t="t" r="r" b="b"/>
                  <a:pathLst>
                    <a:path w="45" h="84">
                      <a:moveTo>
                        <a:pt x="13" y="83"/>
                      </a:moveTo>
                      <a:lnTo>
                        <a:pt x="13" y="42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29" y="0"/>
                      </a:lnTo>
                      <a:lnTo>
                        <a:pt x="44" y="0"/>
                      </a:lnTo>
                      <a:lnTo>
                        <a:pt x="29" y="42"/>
                      </a:lnTo>
                      <a:lnTo>
                        <a:pt x="13" y="8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410160" y="3128760"/>
                  <a:ext cx="0" cy="33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6556320" y="3128760"/>
                <a:ext cx="98640" cy="466920"/>
                <a:chOff x="6556320" y="3128760"/>
                <a:chExt cx="98640" cy="4669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6556320" y="3128760"/>
                  <a:ext cx="98640" cy="166680"/>
                </a:xfrm>
                <a:custGeom>
                  <a:avLst/>
                  <a:gdLst/>
                  <a:ahLst/>
                  <a:rect l="l" t="t" r="r" b="b"/>
                  <a:pathLst>
                    <a:path w="62" h="105">
                      <a:moveTo>
                        <a:pt x="30" y="0"/>
                      </a:moveTo>
                      <a:lnTo>
                        <a:pt x="45" y="42"/>
                      </a:lnTo>
                      <a:lnTo>
                        <a:pt x="61" y="104"/>
                      </a:lnTo>
                      <a:lnTo>
                        <a:pt x="45" y="104"/>
                      </a:lnTo>
                      <a:lnTo>
                        <a:pt x="30" y="104"/>
                      </a:lnTo>
                      <a:lnTo>
                        <a:pt x="16" y="104"/>
                      </a:lnTo>
                      <a:lnTo>
                        <a:pt x="0" y="104"/>
                      </a:lnTo>
                      <a:lnTo>
                        <a:pt x="16" y="42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V="1">
                  <a:off x="6603840" y="3262320"/>
                  <a:ext cx="0" cy="33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1" name=""/>
            <p:cNvGrpSpPr/>
            <p:nvPr/>
          </p:nvGrpSpPr>
          <p:grpSpPr>
            <a:xfrm>
              <a:off x="6824520" y="3128760"/>
              <a:ext cx="265320" cy="468360"/>
              <a:chOff x="6824520" y="3128760"/>
              <a:chExt cx="265320" cy="46836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6824520" y="3128760"/>
                <a:ext cx="96840" cy="468360"/>
                <a:chOff x="6824520" y="3128760"/>
                <a:chExt cx="96840" cy="46836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6824520" y="3463920"/>
                  <a:ext cx="96840" cy="133200"/>
                </a:xfrm>
                <a:custGeom>
                  <a:avLst/>
                  <a:gdLst/>
                  <a:ahLst/>
                  <a:rect l="l" t="t" r="r" b="b"/>
                  <a:pathLst>
                    <a:path w="61" h="84">
                      <a:moveTo>
                        <a:pt x="29" y="83"/>
                      </a:moveTo>
                      <a:lnTo>
                        <a:pt x="14" y="42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9" y="0"/>
                      </a:lnTo>
                      <a:lnTo>
                        <a:pt x="45" y="0"/>
                      </a:lnTo>
                      <a:lnTo>
                        <a:pt x="60" y="0"/>
                      </a:lnTo>
                      <a:lnTo>
                        <a:pt x="45" y="42"/>
                      </a:lnTo>
                      <a:lnTo>
                        <a:pt x="29" y="8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870600" y="3128760"/>
                  <a:ext cx="0" cy="33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7040520" y="3128760"/>
                <a:ext cx="49320" cy="466920"/>
                <a:chOff x="7040520" y="3128760"/>
                <a:chExt cx="49320" cy="46692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7040520" y="3128760"/>
                  <a:ext cx="49320" cy="166680"/>
                </a:xfrm>
                <a:custGeom>
                  <a:avLst/>
                  <a:gdLst/>
                  <a:ahLst/>
                  <a:rect l="l" t="t" r="r" b="b"/>
                  <a:pathLst>
                    <a:path w="31" h="105">
                      <a:moveTo>
                        <a:pt x="0" y="0"/>
                      </a:moveTo>
                      <a:lnTo>
                        <a:pt x="16" y="42"/>
                      </a:lnTo>
                      <a:lnTo>
                        <a:pt x="30" y="104"/>
                      </a:lnTo>
                      <a:lnTo>
                        <a:pt x="16" y="104"/>
                      </a:lnTo>
                      <a:lnTo>
                        <a:pt x="0" y="104"/>
                      </a:lnTo>
                      <a:lnTo>
                        <a:pt x="0" y="4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V="1">
                  <a:off x="7040520" y="3262320"/>
                  <a:ext cx="0" cy="33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18" name=""/>
          <p:cNvSpPr/>
          <p:nvPr/>
        </p:nvSpPr>
        <p:spPr>
          <a:xfrm>
            <a:off x="54360" y="6515280"/>
            <a:ext cx="6925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</a:rPr>
              <a:t>Fonte - The Capability Maturity Model - Guidelines for improving the Software Process - CMU/S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49160" y="4653000"/>
            <a:ext cx="8286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cação de princípios 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role estatístico de proces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009800" y="692280"/>
            <a:ext cx="7448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ff"/>
                </a:solidFill>
                <a:latin typeface="Century Schoolbook"/>
              </a:rPr>
              <a:t>Capability Matur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99072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222720" y="5546880"/>
            <a:ext cx="698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348000" y="5737320"/>
            <a:ext cx="401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589200" y="4684680"/>
            <a:ext cx="11829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956760" y="4873680"/>
            <a:ext cx="235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65800" y="3719520"/>
            <a:ext cx="885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81440" y="3909960"/>
            <a:ext cx="401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404320" y="2944800"/>
            <a:ext cx="235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92280" y="5699160"/>
            <a:ext cx="2158920" cy="542880"/>
          </a:xfrm>
          <a:prstGeom prst="roundRect">
            <a:avLst>
              <a:gd name="adj" fmla="val 1555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414440" y="4684680"/>
            <a:ext cx="2162160" cy="614520"/>
            <a:chOff x="1414440" y="4684680"/>
            <a:chExt cx="2162160" cy="614520"/>
          </a:xfrm>
        </p:grpSpPr>
        <p:sp>
          <p:nvSpPr>
            <p:cNvPr id="831" name=""/>
            <p:cNvSpPr/>
            <p:nvPr/>
          </p:nvSpPr>
          <p:spPr>
            <a:xfrm>
              <a:off x="1515960" y="4684680"/>
              <a:ext cx="2060640" cy="541440"/>
            </a:xfrm>
            <a:prstGeom prst="roundRect">
              <a:avLst>
                <a:gd name="adj" fmla="val 15593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414440" y="4759200"/>
              <a:ext cx="2033640" cy="540000"/>
            </a:xfrm>
            <a:prstGeom prst="roundRect">
              <a:avLst>
                <a:gd name="adj" fmla="val 1559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2403360" y="3730680"/>
            <a:ext cx="2165400" cy="628560"/>
            <a:chOff x="2403360" y="3730680"/>
            <a:chExt cx="2165400" cy="628560"/>
          </a:xfrm>
        </p:grpSpPr>
        <p:sp>
          <p:nvSpPr>
            <p:cNvPr id="834" name=""/>
            <p:cNvSpPr/>
            <p:nvPr/>
          </p:nvSpPr>
          <p:spPr>
            <a:xfrm>
              <a:off x="2506680" y="3730680"/>
              <a:ext cx="2062080" cy="555480"/>
            </a:xfrm>
            <a:prstGeom prst="roundRect">
              <a:avLst>
                <a:gd name="adj" fmla="val 15208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403360" y="3803760"/>
              <a:ext cx="2038320" cy="555480"/>
            </a:xfrm>
            <a:prstGeom prst="roundRect">
              <a:avLst>
                <a:gd name="adj" fmla="val 1520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471840" y="2789280"/>
            <a:ext cx="2158920" cy="615960"/>
            <a:chOff x="3471840" y="2789280"/>
            <a:chExt cx="2158920" cy="615960"/>
          </a:xfrm>
        </p:grpSpPr>
        <p:sp>
          <p:nvSpPr>
            <p:cNvPr id="837" name=""/>
            <p:cNvSpPr/>
            <p:nvPr/>
          </p:nvSpPr>
          <p:spPr>
            <a:xfrm>
              <a:off x="3573360" y="2789280"/>
              <a:ext cx="2057400" cy="541440"/>
            </a:xfrm>
            <a:prstGeom prst="roundRect">
              <a:avLst>
                <a:gd name="adj" fmla="val 1559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71840" y="2863800"/>
              <a:ext cx="2030400" cy="541440"/>
            </a:xfrm>
            <a:prstGeom prst="roundRect">
              <a:avLst>
                <a:gd name="adj" fmla="val 1559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4303800" y="1758960"/>
            <a:ext cx="2471760" cy="631800"/>
            <a:chOff x="4303800" y="1758960"/>
            <a:chExt cx="2471760" cy="631800"/>
          </a:xfrm>
        </p:grpSpPr>
        <p:sp>
          <p:nvSpPr>
            <p:cNvPr id="840" name=""/>
            <p:cNvSpPr/>
            <p:nvPr/>
          </p:nvSpPr>
          <p:spPr>
            <a:xfrm>
              <a:off x="4449600" y="1758960"/>
              <a:ext cx="2325960" cy="555480"/>
            </a:xfrm>
            <a:prstGeom prst="roundRect">
              <a:avLst>
                <a:gd name="adj" fmla="val 15208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03800" y="1847880"/>
              <a:ext cx="2324160" cy="542880"/>
            </a:xfrm>
            <a:prstGeom prst="roundRect">
              <a:avLst>
                <a:gd name="adj" fmla="val 1555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5759280" y="1828800"/>
            <a:ext cx="1152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915840" y="4938840"/>
            <a:ext cx="612360" cy="1199160"/>
            <a:chOff x="915840" y="4938840"/>
            <a:chExt cx="612360" cy="1199160"/>
          </a:xfrm>
        </p:grpSpPr>
        <p:sp>
          <p:nvSpPr>
            <p:cNvPr id="844" name=""/>
            <p:cNvSpPr/>
            <p:nvPr/>
          </p:nvSpPr>
          <p:spPr>
            <a:xfrm>
              <a:off x="915840" y="4992840"/>
              <a:ext cx="612360" cy="114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0"/>
                  </a:moveTo>
                  <a:arcTo wR="10800" hR="10800" stAng="-10790515" swAng="5319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0"/>
                  </a:moveTo>
                  <a:arcTo wR="10800" hR="10800" stAng="-10790515" swAng="5319190"/>
                </a:path>
              </a:pathLst>
            </a:custGeom>
            <a:noFill/>
            <a:ln cap="rnd"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1168560" y="4938840"/>
              <a:ext cx="218880" cy="106200"/>
              <a:chOff x="1168560" y="4938840"/>
              <a:chExt cx="218880" cy="106200"/>
            </a:xfrm>
          </p:grpSpPr>
          <p:sp>
            <p:nvSpPr>
              <p:cNvPr id="846" name=""/>
              <p:cNvSpPr/>
              <p:nvPr/>
            </p:nvSpPr>
            <p:spPr>
              <a:xfrm>
                <a:off x="1181160" y="4938840"/>
                <a:ext cx="206280" cy="106200"/>
              </a:xfrm>
              <a:custGeom>
                <a:avLst/>
                <a:gdLst/>
                <a:ahLst/>
                <a:rect l="l" t="t" r="r" b="b"/>
                <a:pathLst>
                  <a:path w="130" h="67">
                    <a:moveTo>
                      <a:pt x="129" y="37"/>
                    </a:moveTo>
                    <a:lnTo>
                      <a:pt x="0" y="66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29" y="37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168560" y="4989600"/>
                <a:ext cx="6660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41" y="0"/>
                    </a:lnTo>
                    <a:lnTo>
                      <a:pt x="41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"/>
          <p:cNvGrpSpPr/>
          <p:nvPr/>
        </p:nvGrpSpPr>
        <p:grpSpPr>
          <a:xfrm>
            <a:off x="1906560" y="3821040"/>
            <a:ext cx="558360" cy="1446120"/>
            <a:chOff x="1906560" y="3821040"/>
            <a:chExt cx="558360" cy="1446120"/>
          </a:xfrm>
        </p:grpSpPr>
        <p:sp>
          <p:nvSpPr>
            <p:cNvPr id="849" name=""/>
            <p:cNvSpPr/>
            <p:nvPr/>
          </p:nvSpPr>
          <p:spPr>
            <a:xfrm>
              <a:off x="1906560" y="3882960"/>
              <a:ext cx="558360" cy="13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5"/>
                  </a:moveTo>
                  <a:arcTo wR="10800" hR="10800" stAng="-10792106" swAng="5372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5"/>
                  </a:moveTo>
                  <a:arcTo wR="10800" hR="10800" stAng="-10792106" swAng="5372596"/>
                </a:path>
              </a:pathLst>
            </a:custGeom>
            <a:noFill/>
            <a:ln cap="rnd"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2143080" y="3821040"/>
              <a:ext cx="196920" cy="127080"/>
              <a:chOff x="2143080" y="3821040"/>
              <a:chExt cx="196920" cy="127080"/>
            </a:xfrm>
          </p:grpSpPr>
          <p:sp>
            <p:nvSpPr>
              <p:cNvPr id="851" name=""/>
              <p:cNvSpPr/>
              <p:nvPr/>
            </p:nvSpPr>
            <p:spPr>
              <a:xfrm>
                <a:off x="2154240" y="3821040"/>
                <a:ext cx="185760" cy="127080"/>
              </a:xfrm>
              <a:custGeom>
                <a:avLst/>
                <a:gdLst/>
                <a:ahLst/>
                <a:rect l="l" t="t" r="r" b="b"/>
                <a:pathLst>
                  <a:path w="117" h="80">
                    <a:moveTo>
                      <a:pt x="116" y="44"/>
                    </a:moveTo>
                    <a:lnTo>
                      <a:pt x="0" y="79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116" y="44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143080" y="3881520"/>
                <a:ext cx="61920" cy="2700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0" y="0"/>
                    </a:moveTo>
                    <a:lnTo>
                      <a:pt x="38" y="0"/>
                    </a:lnTo>
                    <a:lnTo>
                      <a:pt x="3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3" name=""/>
          <p:cNvGrpSpPr/>
          <p:nvPr/>
        </p:nvGrpSpPr>
        <p:grpSpPr>
          <a:xfrm>
            <a:off x="2641680" y="2895480"/>
            <a:ext cx="923400" cy="1146240"/>
            <a:chOff x="2641680" y="2895480"/>
            <a:chExt cx="923400" cy="1146240"/>
          </a:xfrm>
        </p:grpSpPr>
        <p:sp>
          <p:nvSpPr>
            <p:cNvPr id="854" name=""/>
            <p:cNvSpPr/>
            <p:nvPr/>
          </p:nvSpPr>
          <p:spPr>
            <a:xfrm>
              <a:off x="2641680" y="2946240"/>
              <a:ext cx="923400" cy="10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2912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29129"/>
                </a:path>
              </a:pathLst>
            </a:custGeom>
            <a:noFill/>
            <a:ln cap="rnd"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3024360" y="2895480"/>
              <a:ext cx="330120" cy="88920"/>
              <a:chOff x="3024360" y="2895480"/>
              <a:chExt cx="330120" cy="88920"/>
            </a:xfrm>
          </p:grpSpPr>
          <p:sp>
            <p:nvSpPr>
              <p:cNvPr id="856" name=""/>
              <p:cNvSpPr/>
              <p:nvPr/>
            </p:nvSpPr>
            <p:spPr>
              <a:xfrm>
                <a:off x="3041640" y="2895480"/>
                <a:ext cx="312840" cy="889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196" y="41"/>
                    </a:moveTo>
                    <a:lnTo>
                      <a:pt x="0" y="55"/>
                    </a:lnTo>
                    <a:lnTo>
                      <a:pt x="0" y="28"/>
                    </a:lnTo>
                    <a:lnTo>
                      <a:pt x="12" y="0"/>
                    </a:lnTo>
                    <a:lnTo>
                      <a:pt x="196" y="41"/>
                    </a:ln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024360" y="2932200"/>
                <a:ext cx="99720" cy="28440"/>
              </a:xfrm>
              <a:custGeom>
                <a:avLst/>
                <a:gdLst/>
                <a:ahLst/>
                <a:rect l="l" t="t" r="r" b="b"/>
                <a:pathLst>
                  <a:path w="63" h="18">
                    <a:moveTo>
                      <a:pt x="0" y="0"/>
                    </a:moveTo>
                    <a:lnTo>
                      <a:pt x="21" y="0"/>
                    </a:lnTo>
                    <a:lnTo>
                      <a:pt x="62" y="6"/>
                    </a:lnTo>
                    <a:lnTo>
                      <a:pt x="62" y="17"/>
                    </a:lnTo>
                    <a:lnTo>
                      <a:pt x="41" y="1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3505320" y="2133720"/>
            <a:ext cx="990360" cy="1026360"/>
            <a:chOff x="3505320" y="2133720"/>
            <a:chExt cx="990360" cy="1026360"/>
          </a:xfrm>
        </p:grpSpPr>
        <p:sp>
          <p:nvSpPr>
            <p:cNvPr id="859" name=""/>
            <p:cNvSpPr/>
            <p:nvPr/>
          </p:nvSpPr>
          <p:spPr>
            <a:xfrm>
              <a:off x="3505320" y="2179800"/>
              <a:ext cx="990360" cy="98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65"/>
                  </a:moveTo>
                  <a:arcTo wR="10800" hR="10800" stAng="-10788856" swAng="537785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65"/>
                  </a:moveTo>
                  <a:arcTo wR="10800" hR="10800" stAng="-10788856" swAng="5377855"/>
                </a:path>
              </a:pathLst>
            </a:custGeom>
            <a:noFill/>
            <a:ln cap="rnd"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3914640" y="2133720"/>
              <a:ext cx="354240" cy="90360"/>
              <a:chOff x="3914640" y="2133720"/>
              <a:chExt cx="354240" cy="90360"/>
            </a:xfrm>
          </p:grpSpPr>
          <p:sp>
            <p:nvSpPr>
              <p:cNvPr id="861" name=""/>
              <p:cNvSpPr/>
              <p:nvPr/>
            </p:nvSpPr>
            <p:spPr>
              <a:xfrm>
                <a:off x="3935520" y="2133720"/>
                <a:ext cx="333360" cy="90360"/>
              </a:xfrm>
              <a:custGeom>
                <a:avLst/>
                <a:gdLst/>
                <a:ahLst/>
                <a:rect l="l" t="t" r="r" b="b"/>
                <a:pathLst>
                  <a:path w="210" h="57">
                    <a:moveTo>
                      <a:pt x="209" y="31"/>
                    </a:moveTo>
                    <a:lnTo>
                      <a:pt x="0" y="56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209" y="31"/>
                    </a:ln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914640" y="2178000"/>
                <a:ext cx="109800" cy="2700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8" y="0"/>
                    </a:lnTo>
                    <a:lnTo>
                      <a:pt x="6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3" name=""/>
          <p:cNvSpPr/>
          <p:nvPr/>
        </p:nvSpPr>
        <p:spPr>
          <a:xfrm>
            <a:off x="34920" y="4437000"/>
            <a:ext cx="12906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ciplin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8440" y="5394240"/>
            <a:ext cx="766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90960" y="3645000"/>
            <a:ext cx="17899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 Padrão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692080" y="3892680"/>
            <a:ext cx="1414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(3) Defin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387600" y="4113360"/>
            <a:ext cx="866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04400" y="2637000"/>
            <a:ext cx="10202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isí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780000" y="2868480"/>
            <a:ext cx="866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481480" y="1557360"/>
            <a:ext cx="147888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nu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hora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565440" y="5691240"/>
            <a:ext cx="2951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mprevisível e Insatisfatoriamente contro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628880" y="4700520"/>
            <a:ext cx="25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cesso em taref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viamente dom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75480" y="3645000"/>
            <a:ext cx="2225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 processo está  caracterizado e bem enten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63680" y="2795760"/>
            <a:ext cx="192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cesso m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 contro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067520" y="1728720"/>
            <a:ext cx="214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lhoria contínua 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m “modo de vid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95480" y="59436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733920" y="4952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64832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816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791320" y="3048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03480" y="5732640"/>
            <a:ext cx="108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22520" y="4863960"/>
            <a:ext cx="1476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(2) Repet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181160" y="5778360"/>
            <a:ext cx="1171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(1) Inic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99640" y="2959200"/>
            <a:ext cx="17427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Century Schoolbook"/>
              </a:rPr>
              <a:t>(</a:t>
            </a: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4) Gerenci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663440" y="1968480"/>
            <a:ext cx="17348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 Black"/>
              </a:rPr>
              <a:t>(5) Otimiz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"/>
          <p:cNvGrpSpPr/>
          <p:nvPr/>
        </p:nvGrpSpPr>
        <p:grpSpPr>
          <a:xfrm>
            <a:off x="333360" y="1166760"/>
            <a:ext cx="8354880" cy="1197000"/>
            <a:chOff x="333360" y="1166760"/>
            <a:chExt cx="8354880" cy="1197000"/>
          </a:xfrm>
        </p:grpSpPr>
        <p:sp>
          <p:nvSpPr>
            <p:cNvPr id="887" name=""/>
            <p:cNvSpPr/>
            <p:nvPr/>
          </p:nvSpPr>
          <p:spPr>
            <a:xfrm>
              <a:off x="336600" y="1176480"/>
              <a:ext cx="8343720" cy="36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6520" y="117144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682120" y="117144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33360" y="1166760"/>
              <a:ext cx="1440" cy="119232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3360" y="2362320"/>
              <a:ext cx="8354880" cy="1440"/>
            </a:xfrm>
            <a:custGeom>
              <a:avLst/>
              <a:gdLst/>
              <a:ahLst/>
              <a:rect l="l" t="t" r="r" b="b"/>
              <a:pathLst>
                <a:path w="5263" h="1">
                  <a:moveTo>
                    <a:pt x="0" y="0"/>
                  </a:moveTo>
                  <a:lnTo>
                    <a:pt x="526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863640" y="838080"/>
            <a:ext cx="7670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76240" y="1828800"/>
            <a:ext cx="74678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2800" y="1612800"/>
            <a:ext cx="425520" cy="614520"/>
          </a:xfrm>
          <a:custGeom>
            <a:avLst/>
            <a:gdLst/>
            <a:ahLst/>
            <a:rect l="l" t="t" r="r" b="b"/>
            <a:pathLst>
              <a:path w="268" h="387">
                <a:moveTo>
                  <a:pt x="46" y="168"/>
                </a:moveTo>
                <a:lnTo>
                  <a:pt x="54" y="152"/>
                </a:lnTo>
                <a:lnTo>
                  <a:pt x="54" y="126"/>
                </a:lnTo>
                <a:lnTo>
                  <a:pt x="54" y="109"/>
                </a:lnTo>
                <a:lnTo>
                  <a:pt x="54" y="93"/>
                </a:lnTo>
                <a:lnTo>
                  <a:pt x="54" y="59"/>
                </a:lnTo>
                <a:lnTo>
                  <a:pt x="221" y="59"/>
                </a:lnTo>
                <a:lnTo>
                  <a:pt x="229" y="0"/>
                </a:lnTo>
                <a:lnTo>
                  <a:pt x="214" y="0"/>
                </a:lnTo>
                <a:lnTo>
                  <a:pt x="206" y="9"/>
                </a:lnTo>
                <a:lnTo>
                  <a:pt x="199" y="17"/>
                </a:lnTo>
                <a:lnTo>
                  <a:pt x="183" y="17"/>
                </a:lnTo>
                <a:lnTo>
                  <a:pt x="168" y="17"/>
                </a:lnTo>
                <a:lnTo>
                  <a:pt x="30" y="17"/>
                </a:lnTo>
                <a:lnTo>
                  <a:pt x="30" y="85"/>
                </a:lnTo>
                <a:lnTo>
                  <a:pt x="30" y="109"/>
                </a:lnTo>
                <a:lnTo>
                  <a:pt x="23" y="152"/>
                </a:lnTo>
                <a:lnTo>
                  <a:pt x="23" y="176"/>
                </a:lnTo>
                <a:lnTo>
                  <a:pt x="23" y="210"/>
                </a:lnTo>
                <a:lnTo>
                  <a:pt x="38" y="219"/>
                </a:lnTo>
                <a:lnTo>
                  <a:pt x="54" y="193"/>
                </a:lnTo>
                <a:lnTo>
                  <a:pt x="76" y="176"/>
                </a:lnTo>
                <a:lnTo>
                  <a:pt x="100" y="168"/>
                </a:lnTo>
                <a:lnTo>
                  <a:pt x="122" y="160"/>
                </a:lnTo>
                <a:lnTo>
                  <a:pt x="160" y="168"/>
                </a:lnTo>
                <a:lnTo>
                  <a:pt x="176" y="193"/>
                </a:lnTo>
                <a:lnTo>
                  <a:pt x="199" y="226"/>
                </a:lnTo>
                <a:lnTo>
                  <a:pt x="206" y="261"/>
                </a:lnTo>
                <a:lnTo>
                  <a:pt x="199" y="302"/>
                </a:lnTo>
                <a:lnTo>
                  <a:pt x="176" y="336"/>
                </a:lnTo>
                <a:lnTo>
                  <a:pt x="153" y="361"/>
                </a:lnTo>
                <a:lnTo>
                  <a:pt x="114" y="369"/>
                </a:lnTo>
                <a:lnTo>
                  <a:pt x="92" y="361"/>
                </a:lnTo>
                <a:lnTo>
                  <a:pt x="68" y="353"/>
                </a:lnTo>
                <a:lnTo>
                  <a:pt x="62" y="345"/>
                </a:lnTo>
                <a:lnTo>
                  <a:pt x="54" y="328"/>
                </a:lnTo>
                <a:lnTo>
                  <a:pt x="54" y="319"/>
                </a:lnTo>
                <a:lnTo>
                  <a:pt x="62" y="311"/>
                </a:lnTo>
                <a:lnTo>
                  <a:pt x="62" y="302"/>
                </a:lnTo>
                <a:lnTo>
                  <a:pt x="54" y="294"/>
                </a:lnTo>
                <a:lnTo>
                  <a:pt x="54" y="286"/>
                </a:lnTo>
                <a:lnTo>
                  <a:pt x="38" y="278"/>
                </a:lnTo>
                <a:lnTo>
                  <a:pt x="30" y="278"/>
                </a:lnTo>
                <a:lnTo>
                  <a:pt x="23" y="278"/>
                </a:lnTo>
                <a:lnTo>
                  <a:pt x="8" y="286"/>
                </a:lnTo>
                <a:lnTo>
                  <a:pt x="8" y="302"/>
                </a:lnTo>
                <a:lnTo>
                  <a:pt x="0" y="311"/>
                </a:lnTo>
                <a:lnTo>
                  <a:pt x="8" y="336"/>
                </a:lnTo>
                <a:lnTo>
                  <a:pt x="30" y="369"/>
                </a:lnTo>
                <a:lnTo>
                  <a:pt x="68" y="378"/>
                </a:lnTo>
                <a:lnTo>
                  <a:pt x="122" y="386"/>
                </a:lnTo>
                <a:lnTo>
                  <a:pt x="176" y="378"/>
                </a:lnTo>
                <a:lnTo>
                  <a:pt x="221" y="353"/>
                </a:lnTo>
                <a:lnTo>
                  <a:pt x="259" y="302"/>
                </a:lnTo>
                <a:lnTo>
                  <a:pt x="267" y="252"/>
                </a:lnTo>
                <a:lnTo>
                  <a:pt x="259" y="210"/>
                </a:lnTo>
                <a:lnTo>
                  <a:pt x="229" y="168"/>
                </a:lnTo>
                <a:lnTo>
                  <a:pt x="183" y="152"/>
                </a:lnTo>
                <a:lnTo>
                  <a:pt x="145" y="135"/>
                </a:lnTo>
                <a:lnTo>
                  <a:pt x="114" y="143"/>
                </a:lnTo>
                <a:lnTo>
                  <a:pt x="92" y="143"/>
                </a:lnTo>
                <a:lnTo>
                  <a:pt x="68" y="160"/>
                </a:lnTo>
                <a:lnTo>
                  <a:pt x="46" y="1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0280" y="1736640"/>
            <a:ext cx="14713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timiz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673280" y="1757520"/>
            <a:ext cx="686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co gerencial em melhoria contínua de process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20280" y="1200240"/>
            <a:ext cx="7610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N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193920" y="1185840"/>
            <a:ext cx="43498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Características do  Gerenci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1547640" y="2492280"/>
            <a:ext cx="5991480" cy="2355480"/>
            <a:chOff x="1547640" y="2492280"/>
            <a:chExt cx="5991480" cy="2355480"/>
          </a:xfrm>
        </p:grpSpPr>
        <p:sp>
          <p:nvSpPr>
            <p:cNvPr id="900" name=""/>
            <p:cNvSpPr/>
            <p:nvPr/>
          </p:nvSpPr>
          <p:spPr>
            <a:xfrm>
              <a:off x="4626360" y="2643840"/>
              <a:ext cx="843120" cy="517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747040" y="2643840"/>
              <a:ext cx="841680" cy="517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47640" y="2776680"/>
              <a:ext cx="33120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70760" y="2776680"/>
              <a:ext cx="46836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4603320" y="2713680"/>
              <a:ext cx="887040" cy="387000"/>
              <a:chOff x="4603320" y="2713680"/>
              <a:chExt cx="887040" cy="387000"/>
            </a:xfrm>
          </p:grpSpPr>
          <p:sp>
            <p:nvSpPr>
              <p:cNvPr id="905" name=""/>
              <p:cNvSpPr/>
              <p:nvPr/>
            </p:nvSpPr>
            <p:spPr>
              <a:xfrm>
                <a:off x="4795200" y="2713680"/>
                <a:ext cx="177480" cy="115200"/>
              </a:xfrm>
              <a:custGeom>
                <a:avLst/>
                <a:gdLst/>
                <a:ahLst/>
                <a:rect l="l" t="t" r="r" b="b"/>
                <a:pathLst>
                  <a:path w="125" h="86">
                    <a:moveTo>
                      <a:pt x="0" y="0"/>
                    </a:moveTo>
                    <a:lnTo>
                      <a:pt x="124" y="0"/>
                    </a:lnTo>
                    <a:lnTo>
                      <a:pt x="124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603320" y="2780280"/>
                <a:ext cx="191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872240" y="2815200"/>
                <a:ext cx="0" cy="135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70160" y="2815200"/>
                <a:ext cx="21024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58880" y="2815200"/>
                <a:ext cx="0" cy="202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57040" y="2950560"/>
                <a:ext cx="198720" cy="113760"/>
              </a:xfrm>
              <a:custGeom>
                <a:avLst/>
                <a:gdLst/>
                <a:ahLst/>
                <a:rect l="l" t="t" r="r" b="b"/>
                <a:pathLst>
                  <a:path w="140" h="85">
                    <a:moveTo>
                      <a:pt x="0" y="0"/>
                    </a:moveTo>
                    <a:lnTo>
                      <a:pt x="139" y="0"/>
                    </a:lnTo>
                    <a:lnTo>
                      <a:pt x="139" y="84"/>
                    </a:lnTo>
                    <a:lnTo>
                      <a:pt x="0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143680" y="2745720"/>
                <a:ext cx="179280" cy="112320"/>
              </a:xfrm>
              <a:custGeom>
                <a:avLst/>
                <a:gdLst/>
                <a:ahLst/>
                <a:rect l="l" t="t" r="r" b="b"/>
                <a:pathLst>
                  <a:path w="126" h="84">
                    <a:moveTo>
                      <a:pt x="0" y="0"/>
                    </a:moveTo>
                    <a:lnTo>
                      <a:pt x="125" y="0"/>
                    </a:lnTo>
                    <a:lnTo>
                      <a:pt x="125" y="83"/>
                    </a:lnTo>
                    <a:lnTo>
                      <a:pt x="0" y="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180760" y="2986920"/>
                <a:ext cx="180360" cy="113760"/>
              </a:xfrm>
              <a:custGeom>
                <a:avLst/>
                <a:gdLst/>
                <a:ahLst/>
                <a:rect l="l" t="t" r="r" b="b"/>
                <a:pathLst>
                  <a:path w="127" h="85">
                    <a:moveTo>
                      <a:pt x="0" y="0"/>
                    </a:moveTo>
                    <a:lnTo>
                      <a:pt x="126" y="0"/>
                    </a:lnTo>
                    <a:lnTo>
                      <a:pt x="126" y="84"/>
                    </a:lnTo>
                    <a:lnTo>
                      <a:pt x="0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318640" y="2815200"/>
                <a:ext cx="1717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5741280" y="2713680"/>
              <a:ext cx="868680" cy="387000"/>
              <a:chOff x="5741280" y="2713680"/>
              <a:chExt cx="868680" cy="387000"/>
            </a:xfrm>
          </p:grpSpPr>
          <p:sp>
            <p:nvSpPr>
              <p:cNvPr id="915" name=""/>
              <p:cNvSpPr/>
              <p:nvPr/>
            </p:nvSpPr>
            <p:spPr>
              <a:xfrm>
                <a:off x="5934600" y="2713680"/>
                <a:ext cx="179280" cy="115200"/>
              </a:xfrm>
              <a:custGeom>
                <a:avLst/>
                <a:gdLst/>
                <a:ahLst/>
                <a:rect l="l" t="t" r="r" b="b"/>
                <a:pathLst>
                  <a:path w="126" h="86">
                    <a:moveTo>
                      <a:pt x="0" y="0"/>
                    </a:moveTo>
                    <a:lnTo>
                      <a:pt x="125" y="0"/>
                    </a:lnTo>
                    <a:lnTo>
                      <a:pt x="125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41280" y="2780280"/>
                <a:ext cx="2134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992920" y="2815200"/>
                <a:ext cx="0" cy="135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09200" y="2815200"/>
                <a:ext cx="2091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396840" y="2815200"/>
                <a:ext cx="0" cy="202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914440" y="2950560"/>
                <a:ext cx="183240" cy="113760"/>
              </a:xfrm>
              <a:custGeom>
                <a:avLst/>
                <a:gdLst/>
                <a:ahLst/>
                <a:rect l="l" t="t" r="r" b="b"/>
                <a:pathLst>
                  <a:path w="129" h="85">
                    <a:moveTo>
                      <a:pt x="0" y="0"/>
                    </a:moveTo>
                    <a:lnTo>
                      <a:pt x="128" y="0"/>
                    </a:lnTo>
                    <a:lnTo>
                      <a:pt x="128" y="84"/>
                    </a:lnTo>
                    <a:lnTo>
                      <a:pt x="0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264360" y="2745720"/>
                <a:ext cx="198720" cy="112320"/>
              </a:xfrm>
              <a:custGeom>
                <a:avLst/>
                <a:gdLst/>
                <a:ahLst/>
                <a:rect l="l" t="t" r="r" b="b"/>
                <a:pathLst>
                  <a:path w="140" h="84">
                    <a:moveTo>
                      <a:pt x="0" y="0"/>
                    </a:moveTo>
                    <a:lnTo>
                      <a:pt x="139" y="0"/>
                    </a:lnTo>
                    <a:lnTo>
                      <a:pt x="139" y="83"/>
                    </a:lnTo>
                    <a:lnTo>
                      <a:pt x="0" y="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300000" y="2986920"/>
                <a:ext cx="200520" cy="113760"/>
              </a:xfrm>
              <a:custGeom>
                <a:avLst/>
                <a:gdLst/>
                <a:ahLst/>
                <a:rect l="l" t="t" r="r" b="b"/>
                <a:pathLst>
                  <a:path w="141" h="85">
                    <a:moveTo>
                      <a:pt x="0" y="0"/>
                    </a:moveTo>
                    <a:lnTo>
                      <a:pt x="140" y="0"/>
                    </a:lnTo>
                    <a:lnTo>
                      <a:pt x="140" y="84"/>
                    </a:lnTo>
                    <a:lnTo>
                      <a:pt x="0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476400" y="2815200"/>
                <a:ext cx="133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4878360" y="3507480"/>
              <a:ext cx="127440" cy="135360"/>
              <a:chOff x="4878360" y="3507480"/>
              <a:chExt cx="127440" cy="135360"/>
            </a:xfrm>
          </p:grpSpPr>
          <p:sp>
            <p:nvSpPr>
              <p:cNvPr id="925" name=""/>
              <p:cNvSpPr/>
              <p:nvPr/>
            </p:nvSpPr>
            <p:spPr>
              <a:xfrm>
                <a:off x="4878360" y="3507480"/>
                <a:ext cx="127440" cy="135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4930560" y="3539160"/>
                <a:ext cx="3924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5998680" y="3507480"/>
              <a:ext cx="147960" cy="135360"/>
              <a:chOff x="5998680" y="3507480"/>
              <a:chExt cx="147960" cy="135360"/>
            </a:xfrm>
          </p:grpSpPr>
          <p:sp>
            <p:nvSpPr>
              <p:cNvPr id="928" name=""/>
              <p:cNvSpPr/>
              <p:nvPr/>
            </p:nvSpPr>
            <p:spPr>
              <a:xfrm>
                <a:off x="5998680" y="3507480"/>
                <a:ext cx="147960" cy="135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>
                <a:off x="6049800" y="3539160"/>
                <a:ext cx="5940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6365520" y="3507480"/>
              <a:ext cx="146160" cy="135360"/>
              <a:chOff x="6365520" y="3507480"/>
              <a:chExt cx="146160" cy="135360"/>
            </a:xfrm>
          </p:grpSpPr>
          <p:sp>
            <p:nvSpPr>
              <p:cNvPr id="931" name=""/>
              <p:cNvSpPr/>
              <p:nvPr/>
            </p:nvSpPr>
            <p:spPr>
              <a:xfrm>
                <a:off x="6365520" y="3507480"/>
                <a:ext cx="146160" cy="135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6414840" y="3539160"/>
                <a:ext cx="6084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5470920" y="2850480"/>
              <a:ext cx="271440" cy="101880"/>
              <a:chOff x="5470920" y="2850480"/>
              <a:chExt cx="271440" cy="101880"/>
            </a:xfrm>
          </p:grpSpPr>
          <p:sp>
            <p:nvSpPr>
              <p:cNvPr id="934" name=""/>
              <p:cNvSpPr/>
              <p:nvPr/>
            </p:nvSpPr>
            <p:spPr>
              <a:xfrm>
                <a:off x="5644080" y="2850480"/>
                <a:ext cx="98280" cy="101880"/>
              </a:xfrm>
              <a:custGeom>
                <a:avLst/>
                <a:gdLst/>
                <a:ahLst/>
                <a:rect l="l" t="t" r="r" b="b"/>
                <a:pathLst>
                  <a:path w="69" h="76">
                    <a:moveTo>
                      <a:pt x="68" y="24"/>
                    </a:moveTo>
                    <a:lnTo>
                      <a:pt x="28" y="51"/>
                    </a:lnTo>
                    <a:lnTo>
                      <a:pt x="0" y="75"/>
                    </a:lnTo>
                    <a:lnTo>
                      <a:pt x="0" y="51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68" y="2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470920" y="2881080"/>
                <a:ext cx="19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6610320" y="2850480"/>
              <a:ext cx="253800" cy="101880"/>
              <a:chOff x="6610320" y="2850480"/>
              <a:chExt cx="253800" cy="101880"/>
            </a:xfrm>
          </p:grpSpPr>
          <p:sp>
            <p:nvSpPr>
              <p:cNvPr id="937" name=""/>
              <p:cNvSpPr/>
              <p:nvPr/>
            </p:nvSpPr>
            <p:spPr>
              <a:xfrm>
                <a:off x="6764760" y="2850480"/>
                <a:ext cx="99360" cy="101880"/>
              </a:xfrm>
              <a:custGeom>
                <a:avLst/>
                <a:gdLst/>
                <a:ahLst/>
                <a:rect l="l" t="t" r="r" b="b"/>
                <a:pathLst>
                  <a:path w="70" h="76">
                    <a:moveTo>
                      <a:pt x="69" y="24"/>
                    </a:moveTo>
                    <a:lnTo>
                      <a:pt x="41" y="51"/>
                    </a:lnTo>
                    <a:lnTo>
                      <a:pt x="0" y="75"/>
                    </a:lnTo>
                    <a:lnTo>
                      <a:pt x="0" y="51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69" y="2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610320" y="2881080"/>
                <a:ext cx="1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2119320" y="4157280"/>
              <a:ext cx="4720680" cy="690480"/>
              <a:chOff x="2119320" y="4157280"/>
              <a:chExt cx="4720680" cy="690480"/>
            </a:xfrm>
          </p:grpSpPr>
          <p:sp>
            <p:nvSpPr>
              <p:cNvPr id="940" name=""/>
              <p:cNvSpPr/>
              <p:nvPr/>
            </p:nvSpPr>
            <p:spPr>
              <a:xfrm>
                <a:off x="2323800" y="4704480"/>
                <a:ext cx="438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"/>
              <p:cNvGrpSpPr/>
              <p:nvPr/>
            </p:nvGrpSpPr>
            <p:grpSpPr>
              <a:xfrm>
                <a:off x="2119320" y="4157280"/>
                <a:ext cx="241200" cy="690480"/>
                <a:chOff x="2119320" y="4157280"/>
                <a:chExt cx="241200" cy="690480"/>
              </a:xfrm>
            </p:grpSpPr>
            <p:grpSp>
              <p:nvGrpSpPr>
                <p:cNvPr id="942" name=""/>
                <p:cNvGrpSpPr/>
                <p:nvPr/>
              </p:nvGrpSpPr>
              <p:grpSpPr>
                <a:xfrm>
                  <a:off x="2119320" y="4603680"/>
                  <a:ext cx="241200" cy="244080"/>
                  <a:chOff x="2119320" y="4603680"/>
                  <a:chExt cx="241200" cy="24408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>
                    <a:off x="2119320" y="4603680"/>
                    <a:ext cx="241200" cy="244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V="1">
                    <a:off x="2210040" y="4638600"/>
                    <a:ext cx="75240" cy="65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5" name=""/>
                <p:cNvGrpSpPr/>
                <p:nvPr/>
              </p:nvGrpSpPr>
              <p:grpSpPr>
                <a:xfrm>
                  <a:off x="2189880" y="4157280"/>
                  <a:ext cx="79200" cy="374760"/>
                  <a:chOff x="2189880" y="4157280"/>
                  <a:chExt cx="79200" cy="37476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>
                    <a:off x="2189880" y="4157280"/>
                    <a:ext cx="7920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6">
                        <a:moveTo>
                          <a:pt x="27" y="0"/>
                        </a:moveTo>
                        <a:lnTo>
                          <a:pt x="41" y="51"/>
                        </a:lnTo>
                        <a:lnTo>
                          <a:pt x="55" y="75"/>
                        </a:lnTo>
                        <a:lnTo>
                          <a:pt x="41" y="75"/>
                        </a:lnTo>
                        <a:lnTo>
                          <a:pt x="27" y="75"/>
                        </a:lnTo>
                        <a:lnTo>
                          <a:pt x="14" y="75"/>
                        </a:lnTo>
                        <a:lnTo>
                          <a:pt x="0" y="75"/>
                        </a:lnTo>
                        <a:lnTo>
                          <a:pt x="14" y="51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V="1">
                    <a:off x="2228040" y="4223880"/>
                    <a:ext cx="0" cy="30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8" name=""/>
              <p:cNvGrpSpPr/>
              <p:nvPr/>
            </p:nvGrpSpPr>
            <p:grpSpPr>
              <a:xfrm>
                <a:off x="4357440" y="4157280"/>
                <a:ext cx="243000" cy="690480"/>
                <a:chOff x="4357440" y="4157280"/>
                <a:chExt cx="243000" cy="690480"/>
              </a:xfrm>
            </p:grpSpPr>
            <p:grpSp>
              <p:nvGrpSpPr>
                <p:cNvPr id="949" name=""/>
                <p:cNvGrpSpPr/>
                <p:nvPr/>
              </p:nvGrpSpPr>
              <p:grpSpPr>
                <a:xfrm>
                  <a:off x="4357440" y="4603680"/>
                  <a:ext cx="243000" cy="244080"/>
                  <a:chOff x="4357440" y="4603680"/>
                  <a:chExt cx="243000" cy="24408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4357440" y="4603680"/>
                    <a:ext cx="243000" cy="244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flipV="1">
                    <a:off x="4446720" y="4634280"/>
                    <a:ext cx="78120" cy="69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2" name=""/>
                <p:cNvGrpSpPr/>
                <p:nvPr/>
              </p:nvGrpSpPr>
              <p:grpSpPr>
                <a:xfrm>
                  <a:off x="4446720" y="4157280"/>
                  <a:ext cx="41040" cy="374760"/>
                  <a:chOff x="4446720" y="4157280"/>
                  <a:chExt cx="41040" cy="37476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4446720" y="4157280"/>
                    <a:ext cx="410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6">
                        <a:moveTo>
                          <a:pt x="14" y="0"/>
                        </a:moveTo>
                        <a:lnTo>
                          <a:pt x="28" y="51"/>
                        </a:lnTo>
                        <a:lnTo>
                          <a:pt x="28" y="75"/>
                        </a:lnTo>
                        <a:lnTo>
                          <a:pt x="14" y="75"/>
                        </a:lnTo>
                        <a:lnTo>
                          <a:pt x="0" y="75"/>
                        </a:lnTo>
                        <a:lnTo>
                          <a:pt x="0" y="5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V="1">
                    <a:off x="4466520" y="4223880"/>
                    <a:ext cx="0" cy="30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5" name=""/>
              <p:cNvGrpSpPr/>
              <p:nvPr/>
            </p:nvGrpSpPr>
            <p:grpSpPr>
              <a:xfrm>
                <a:off x="5476320" y="4157280"/>
                <a:ext cx="264240" cy="690480"/>
                <a:chOff x="5476320" y="4157280"/>
                <a:chExt cx="264240" cy="690480"/>
              </a:xfrm>
            </p:grpSpPr>
            <p:grpSp>
              <p:nvGrpSpPr>
                <p:cNvPr id="956" name=""/>
                <p:cNvGrpSpPr/>
                <p:nvPr/>
              </p:nvGrpSpPr>
              <p:grpSpPr>
                <a:xfrm>
                  <a:off x="5476320" y="4603680"/>
                  <a:ext cx="264240" cy="244080"/>
                  <a:chOff x="5476320" y="4603680"/>
                  <a:chExt cx="264240" cy="24408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>
                    <a:off x="5476320" y="4603680"/>
                    <a:ext cx="264240" cy="244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V="1">
                    <a:off x="5585760" y="4634280"/>
                    <a:ext cx="77760" cy="69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9" name=""/>
                <p:cNvGrpSpPr/>
                <p:nvPr/>
              </p:nvGrpSpPr>
              <p:grpSpPr>
                <a:xfrm>
                  <a:off x="5568480" y="4157280"/>
                  <a:ext cx="59400" cy="374760"/>
                  <a:chOff x="5568480" y="4157280"/>
                  <a:chExt cx="59400" cy="37476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>
                    <a:off x="5568480" y="4157280"/>
                    <a:ext cx="5940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76">
                        <a:moveTo>
                          <a:pt x="27" y="0"/>
                        </a:moveTo>
                        <a:lnTo>
                          <a:pt x="27" y="51"/>
                        </a:lnTo>
                        <a:lnTo>
                          <a:pt x="41" y="75"/>
                        </a:lnTo>
                        <a:lnTo>
                          <a:pt x="27" y="75"/>
                        </a:lnTo>
                        <a:lnTo>
                          <a:pt x="14" y="75"/>
                        </a:lnTo>
                        <a:lnTo>
                          <a:pt x="0" y="75"/>
                        </a:lnTo>
                        <a:lnTo>
                          <a:pt x="14" y="51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V="1">
                    <a:off x="5603760" y="4223880"/>
                    <a:ext cx="0" cy="30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2" name=""/>
              <p:cNvGrpSpPr/>
              <p:nvPr/>
            </p:nvGrpSpPr>
            <p:grpSpPr>
              <a:xfrm>
                <a:off x="6595560" y="4157280"/>
                <a:ext cx="244440" cy="690480"/>
                <a:chOff x="6595560" y="4157280"/>
                <a:chExt cx="244440" cy="690480"/>
              </a:xfrm>
            </p:grpSpPr>
            <p:grpSp>
              <p:nvGrpSpPr>
                <p:cNvPr id="963" name=""/>
                <p:cNvGrpSpPr/>
                <p:nvPr/>
              </p:nvGrpSpPr>
              <p:grpSpPr>
                <a:xfrm>
                  <a:off x="6595560" y="4603680"/>
                  <a:ext cx="244440" cy="244080"/>
                  <a:chOff x="6595560" y="4603680"/>
                  <a:chExt cx="244440" cy="244080"/>
                </a:xfrm>
              </p:grpSpPr>
              <p:sp>
                <p:nvSpPr>
                  <p:cNvPr id="964" name=""/>
                  <p:cNvSpPr/>
                  <p:nvPr/>
                </p:nvSpPr>
                <p:spPr>
                  <a:xfrm>
                    <a:off x="6595560" y="4603680"/>
                    <a:ext cx="244440" cy="244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 flipV="1">
                    <a:off x="6707880" y="4638600"/>
                    <a:ext cx="56520" cy="65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6" name=""/>
                <p:cNvGrpSpPr/>
                <p:nvPr/>
              </p:nvGrpSpPr>
              <p:grpSpPr>
                <a:xfrm>
                  <a:off x="6687720" y="4157280"/>
                  <a:ext cx="78120" cy="374760"/>
                  <a:chOff x="6687720" y="4157280"/>
                  <a:chExt cx="78120" cy="37476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6687720" y="4157280"/>
                    <a:ext cx="781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76">
                        <a:moveTo>
                          <a:pt x="27" y="0"/>
                        </a:moveTo>
                        <a:lnTo>
                          <a:pt x="41" y="51"/>
                        </a:lnTo>
                        <a:lnTo>
                          <a:pt x="54" y="75"/>
                        </a:lnTo>
                        <a:lnTo>
                          <a:pt x="41" y="75"/>
                        </a:lnTo>
                        <a:lnTo>
                          <a:pt x="27" y="75"/>
                        </a:lnTo>
                        <a:lnTo>
                          <a:pt x="14" y="75"/>
                        </a:lnTo>
                        <a:lnTo>
                          <a:pt x="0" y="75"/>
                        </a:lnTo>
                        <a:lnTo>
                          <a:pt x="14" y="51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 flipV="1">
                    <a:off x="6723000" y="4223880"/>
                    <a:ext cx="0" cy="30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69" name=""/>
            <p:cNvGrpSpPr/>
            <p:nvPr/>
          </p:nvGrpSpPr>
          <p:grpSpPr>
            <a:xfrm>
              <a:off x="2363760" y="2638440"/>
              <a:ext cx="1973520" cy="1004400"/>
              <a:chOff x="2363760" y="2638440"/>
              <a:chExt cx="1973520" cy="1004400"/>
            </a:xfrm>
          </p:grpSpPr>
          <p:grpSp>
            <p:nvGrpSpPr>
              <p:cNvPr id="970" name=""/>
              <p:cNvGrpSpPr/>
              <p:nvPr/>
            </p:nvGrpSpPr>
            <p:grpSpPr>
              <a:xfrm>
                <a:off x="2617920" y="3507480"/>
                <a:ext cx="130680" cy="135360"/>
                <a:chOff x="2617920" y="3507480"/>
                <a:chExt cx="130680" cy="13536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2617920" y="3507480"/>
                  <a:ext cx="130680" cy="13536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651760" y="3534480"/>
                  <a:ext cx="65160" cy="46440"/>
                </a:xfrm>
                <a:custGeom>
                  <a:avLst/>
                  <a:gdLst/>
                  <a:ahLst/>
                  <a:rect l="l" t="t" r="r" b="b"/>
                  <a:pathLst>
                    <a:path w="46" h="35">
                      <a:moveTo>
                        <a:pt x="0" y="18"/>
                      </a:moveTo>
                      <a:lnTo>
                        <a:pt x="33" y="0"/>
                      </a:lnTo>
                      <a:lnTo>
                        <a:pt x="45" y="0"/>
                      </a:lnTo>
                      <a:lnTo>
                        <a:pt x="45" y="18"/>
                      </a:lnTo>
                      <a:lnTo>
                        <a:pt x="12" y="34"/>
                      </a:lnTo>
                      <a:lnTo>
                        <a:pt x="0" y="34"/>
                      </a:lnTo>
                      <a:lnTo>
                        <a:pt x="0" y="18"/>
                      </a:lnTo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2363760" y="2638440"/>
                <a:ext cx="1973520" cy="1004400"/>
                <a:chOff x="2363760" y="2638440"/>
                <a:chExt cx="1973520" cy="1004400"/>
              </a:xfrm>
            </p:grpSpPr>
            <p:grpSp>
              <p:nvGrpSpPr>
                <p:cNvPr id="974" name=""/>
                <p:cNvGrpSpPr/>
                <p:nvPr/>
              </p:nvGrpSpPr>
              <p:grpSpPr>
                <a:xfrm>
                  <a:off x="2577240" y="3154680"/>
                  <a:ext cx="211680" cy="425880"/>
                  <a:chOff x="2577240" y="3154680"/>
                  <a:chExt cx="211680" cy="425880"/>
                </a:xfrm>
              </p:grpSpPr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2577240" y="3154680"/>
                    <a:ext cx="59040" cy="417600"/>
                    <a:chOff x="2577240" y="3154680"/>
                    <a:chExt cx="59040" cy="41760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2577240" y="3433320"/>
                      <a:ext cx="5760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104">
                          <a:moveTo>
                            <a:pt x="26" y="103"/>
                          </a:moveTo>
                          <a:lnTo>
                            <a:pt x="14" y="52"/>
                          </a:lnTo>
                          <a:lnTo>
                            <a:pt x="0" y="0"/>
                          </a:lnTo>
                          <a:lnTo>
                            <a:pt x="14" y="0"/>
                          </a:lnTo>
                          <a:lnTo>
                            <a:pt x="26" y="0"/>
                          </a:lnTo>
                          <a:lnTo>
                            <a:pt x="40" y="0"/>
                          </a:lnTo>
                          <a:lnTo>
                            <a:pt x="40" y="52"/>
                          </a:lnTo>
                          <a:lnTo>
                            <a:pt x="26" y="103"/>
                          </a:lnTo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2612520" y="3154680"/>
                      <a:ext cx="2376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16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215"/>
                          </a:lnTo>
                          <a:lnTo>
                            <a:pt x="0" y="21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2730600" y="3154680"/>
                    <a:ext cx="58320" cy="425880"/>
                    <a:chOff x="2730600" y="3154680"/>
                    <a:chExt cx="58320" cy="42588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2730600" y="3154680"/>
                      <a:ext cx="5832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104">
                          <a:moveTo>
                            <a:pt x="13" y="0"/>
                          </a:moveTo>
                          <a:lnTo>
                            <a:pt x="27" y="52"/>
                          </a:lnTo>
                          <a:lnTo>
                            <a:pt x="40" y="103"/>
                          </a:lnTo>
                          <a:lnTo>
                            <a:pt x="27" y="103"/>
                          </a:lnTo>
                          <a:lnTo>
                            <a:pt x="13" y="103"/>
                          </a:lnTo>
                          <a:lnTo>
                            <a:pt x="0" y="103"/>
                          </a:lnTo>
                          <a:lnTo>
                            <a:pt x="13" y="52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2748960" y="3261600"/>
                      <a:ext cx="24120" cy="31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38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237"/>
                          </a:lnTo>
                          <a:lnTo>
                            <a:pt x="0" y="2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81" name=""/>
                <p:cNvSpPr/>
                <p:nvPr/>
              </p:nvSpPr>
              <p:spPr>
                <a:xfrm>
                  <a:off x="2363760" y="2638440"/>
                  <a:ext cx="835920" cy="529920"/>
                </a:xfrm>
                <a:custGeom>
                  <a:avLst/>
                  <a:gdLst/>
                  <a:ahLst/>
                  <a:rect l="l" t="t" r="r" b="b"/>
                  <a:pathLst>
                    <a:path w="588" h="395">
                      <a:moveTo>
                        <a:pt x="0" y="0"/>
                      </a:moveTo>
                      <a:lnTo>
                        <a:pt x="587" y="0"/>
                      </a:lnTo>
                      <a:lnTo>
                        <a:pt x="587" y="394"/>
                      </a:lnTo>
                      <a:lnTo>
                        <a:pt x="0" y="394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363760" y="2638440"/>
                  <a:ext cx="835920" cy="529920"/>
                </a:xfrm>
                <a:custGeom>
                  <a:avLst/>
                  <a:gdLst/>
                  <a:ahLst/>
                  <a:rect l="l" t="t" r="r" b="b"/>
                  <a:pathLst>
                    <a:path w="588" h="395">
                      <a:moveTo>
                        <a:pt x="0" y="0"/>
                      </a:moveTo>
                      <a:lnTo>
                        <a:pt x="587" y="0"/>
                      </a:lnTo>
                      <a:lnTo>
                        <a:pt x="587" y="394"/>
                      </a:lnTo>
                      <a:lnTo>
                        <a:pt x="0" y="394"/>
                      </a:lnTo>
                      <a:lnTo>
                        <a:pt x="0" y="0"/>
                      </a:lnTo>
                      <a:lnTo>
                        <a:pt x="14" y="26"/>
                      </a:lnTo>
                      <a:lnTo>
                        <a:pt x="573" y="26"/>
                      </a:lnTo>
                      <a:lnTo>
                        <a:pt x="573" y="368"/>
                      </a:lnTo>
                      <a:lnTo>
                        <a:pt x="14" y="368"/>
                      </a:lnTo>
                      <a:lnTo>
                        <a:pt x="14" y="2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3483000" y="2638440"/>
                  <a:ext cx="854280" cy="529920"/>
                </a:xfrm>
                <a:custGeom>
                  <a:avLst/>
                  <a:gdLst/>
                  <a:ahLst/>
                  <a:rect l="l" t="t" r="r" b="b"/>
                  <a:pathLst>
                    <a:path w="601" h="395">
                      <a:moveTo>
                        <a:pt x="0" y="0"/>
                      </a:moveTo>
                      <a:lnTo>
                        <a:pt x="600" y="0"/>
                      </a:lnTo>
                      <a:lnTo>
                        <a:pt x="600" y="394"/>
                      </a:lnTo>
                      <a:lnTo>
                        <a:pt x="0" y="394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3483000" y="2638440"/>
                  <a:ext cx="854280" cy="529920"/>
                </a:xfrm>
                <a:custGeom>
                  <a:avLst/>
                  <a:gdLst/>
                  <a:ahLst/>
                  <a:rect l="l" t="t" r="r" b="b"/>
                  <a:pathLst>
                    <a:path w="601" h="395">
                      <a:moveTo>
                        <a:pt x="0" y="0"/>
                      </a:moveTo>
                      <a:lnTo>
                        <a:pt x="600" y="0"/>
                      </a:lnTo>
                      <a:lnTo>
                        <a:pt x="600" y="394"/>
                      </a:lnTo>
                      <a:lnTo>
                        <a:pt x="0" y="394"/>
                      </a:lnTo>
                      <a:lnTo>
                        <a:pt x="0" y="0"/>
                      </a:lnTo>
                      <a:lnTo>
                        <a:pt x="14" y="26"/>
                      </a:lnTo>
                      <a:lnTo>
                        <a:pt x="586" y="26"/>
                      </a:lnTo>
                      <a:lnTo>
                        <a:pt x="586" y="368"/>
                      </a:lnTo>
                      <a:lnTo>
                        <a:pt x="14" y="368"/>
                      </a:lnTo>
                      <a:lnTo>
                        <a:pt x="14" y="2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5" name=""/>
                <p:cNvGrpSpPr/>
                <p:nvPr/>
              </p:nvGrpSpPr>
              <p:grpSpPr>
                <a:xfrm>
                  <a:off x="2363760" y="2713320"/>
                  <a:ext cx="835560" cy="387000"/>
                  <a:chOff x="2363760" y="2713320"/>
                  <a:chExt cx="835560" cy="38700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2536920" y="2713320"/>
                    <a:ext cx="18036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08">
                        <a:moveTo>
                          <a:pt x="0" y="0"/>
                        </a:moveTo>
                        <a:lnTo>
                          <a:pt x="126" y="0"/>
                        </a:lnTo>
                        <a:lnTo>
                          <a:pt x="126" y="107"/>
                        </a:lnTo>
                        <a:lnTo>
                          <a:pt x="0" y="107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36920" y="2713320"/>
                    <a:ext cx="18036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08">
                        <a:moveTo>
                          <a:pt x="0" y="0"/>
                        </a:moveTo>
                        <a:lnTo>
                          <a:pt x="126" y="0"/>
                        </a:lnTo>
                        <a:lnTo>
                          <a:pt x="126" y="107"/>
                        </a:lnTo>
                        <a:lnTo>
                          <a:pt x="0" y="107"/>
                        </a:lnTo>
                        <a:lnTo>
                          <a:pt x="0" y="0"/>
                        </a:lnTo>
                        <a:lnTo>
                          <a:pt x="13" y="20"/>
                        </a:lnTo>
                        <a:lnTo>
                          <a:pt x="113" y="20"/>
                        </a:lnTo>
                        <a:lnTo>
                          <a:pt x="113" y="87"/>
                        </a:lnTo>
                        <a:lnTo>
                          <a:pt x="13" y="87"/>
                        </a:lnTo>
                        <a:lnTo>
                          <a:pt x="13" y="20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2363760" y="2745360"/>
                    <a:ext cx="178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32">
                        <a:moveTo>
                          <a:pt x="0" y="0"/>
                        </a:moveTo>
                        <a:lnTo>
                          <a:pt x="125" y="0"/>
                        </a:lnTo>
                        <a:lnTo>
                          <a:pt x="125" y="31"/>
                        </a:lnTo>
                        <a:lnTo>
                          <a:pt x="0" y="31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2595240" y="2814840"/>
                    <a:ext cx="2412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4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83"/>
                        </a:lnTo>
                        <a:lnTo>
                          <a:pt x="0" y="83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707560" y="2814840"/>
                    <a:ext cx="22176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61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55" y="136"/>
                        </a:lnTo>
                        <a:lnTo>
                          <a:pt x="155" y="160"/>
                        </a:lnTo>
                        <a:lnTo>
                          <a:pt x="142" y="160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1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2977560" y="2814840"/>
                    <a:ext cx="2556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35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17" y="134"/>
                        </a:lnTo>
                        <a:lnTo>
                          <a:pt x="0" y="134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1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517120" y="2950200"/>
                    <a:ext cx="17784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85">
                        <a:moveTo>
                          <a:pt x="0" y="0"/>
                        </a:moveTo>
                        <a:lnTo>
                          <a:pt x="124" y="0"/>
                        </a:lnTo>
                        <a:lnTo>
                          <a:pt x="124" y="84"/>
                        </a:lnTo>
                        <a:lnTo>
                          <a:pt x="0" y="84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517120" y="2950200"/>
                    <a:ext cx="17784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85">
                        <a:moveTo>
                          <a:pt x="0" y="0"/>
                        </a:moveTo>
                        <a:lnTo>
                          <a:pt x="124" y="0"/>
                        </a:lnTo>
                        <a:lnTo>
                          <a:pt x="124" y="84"/>
                        </a:ln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3" y="22"/>
                        </a:lnTo>
                        <a:lnTo>
                          <a:pt x="113" y="22"/>
                        </a:lnTo>
                        <a:lnTo>
                          <a:pt x="113" y="64"/>
                        </a:lnTo>
                        <a:lnTo>
                          <a:pt x="13" y="64"/>
                        </a:lnTo>
                        <a:lnTo>
                          <a:pt x="13" y="22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2882520" y="2745360"/>
                    <a:ext cx="17892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84">
                        <a:moveTo>
                          <a:pt x="0" y="0"/>
                        </a:moveTo>
                        <a:lnTo>
                          <a:pt x="125" y="0"/>
                        </a:lnTo>
                        <a:lnTo>
                          <a:pt x="125" y="83"/>
                        </a:lnTo>
                        <a:lnTo>
                          <a:pt x="0" y="83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2882520" y="2745360"/>
                    <a:ext cx="17892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84">
                        <a:moveTo>
                          <a:pt x="0" y="0"/>
                        </a:moveTo>
                        <a:lnTo>
                          <a:pt x="125" y="0"/>
                        </a:lnTo>
                        <a:lnTo>
                          <a:pt x="125" y="83"/>
                        </a:lnTo>
                        <a:lnTo>
                          <a:pt x="0" y="83"/>
                        </a:lnTo>
                        <a:lnTo>
                          <a:pt x="0" y="0"/>
                        </a:lnTo>
                        <a:lnTo>
                          <a:pt x="13" y="22"/>
                        </a:lnTo>
                        <a:lnTo>
                          <a:pt x="114" y="22"/>
                        </a:lnTo>
                        <a:lnTo>
                          <a:pt x="114" y="63"/>
                        </a:lnTo>
                        <a:lnTo>
                          <a:pt x="13" y="63"/>
                        </a:lnTo>
                        <a:lnTo>
                          <a:pt x="13" y="22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2902320" y="2986560"/>
                    <a:ext cx="1972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85">
                        <a:moveTo>
                          <a:pt x="0" y="0"/>
                        </a:moveTo>
                        <a:lnTo>
                          <a:pt x="138" y="0"/>
                        </a:lnTo>
                        <a:lnTo>
                          <a:pt x="138" y="84"/>
                        </a:lnTo>
                        <a:lnTo>
                          <a:pt x="0" y="84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2902320" y="2986560"/>
                    <a:ext cx="1972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85">
                        <a:moveTo>
                          <a:pt x="0" y="0"/>
                        </a:moveTo>
                        <a:lnTo>
                          <a:pt x="138" y="0"/>
                        </a:lnTo>
                        <a:lnTo>
                          <a:pt x="138" y="84"/>
                        </a:ln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3" y="20"/>
                        </a:lnTo>
                        <a:lnTo>
                          <a:pt x="125" y="20"/>
                        </a:lnTo>
                        <a:lnTo>
                          <a:pt x="125" y="62"/>
                        </a:lnTo>
                        <a:lnTo>
                          <a:pt x="13" y="62"/>
                        </a:lnTo>
                        <a:lnTo>
                          <a:pt x="13" y="20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3077280" y="2779920"/>
                    <a:ext cx="12204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6">
                        <a:moveTo>
                          <a:pt x="0" y="0"/>
                        </a:moveTo>
                        <a:lnTo>
                          <a:pt x="85" y="0"/>
                        </a:lnTo>
                        <a:lnTo>
                          <a:pt x="85" y="35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9" name=""/>
                <p:cNvGrpSpPr/>
                <p:nvPr/>
              </p:nvGrpSpPr>
              <p:grpSpPr>
                <a:xfrm>
                  <a:off x="3461400" y="2713320"/>
                  <a:ext cx="875520" cy="387000"/>
                  <a:chOff x="3461400" y="2713320"/>
                  <a:chExt cx="875520" cy="38700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3674520" y="2713320"/>
                    <a:ext cx="18036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08">
                        <a:moveTo>
                          <a:pt x="0" y="0"/>
                        </a:moveTo>
                        <a:lnTo>
                          <a:pt x="126" y="0"/>
                        </a:lnTo>
                        <a:lnTo>
                          <a:pt x="126" y="107"/>
                        </a:lnTo>
                        <a:lnTo>
                          <a:pt x="0" y="107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674520" y="2713320"/>
                    <a:ext cx="18036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08">
                        <a:moveTo>
                          <a:pt x="0" y="0"/>
                        </a:moveTo>
                        <a:lnTo>
                          <a:pt x="126" y="0"/>
                        </a:lnTo>
                        <a:lnTo>
                          <a:pt x="126" y="107"/>
                        </a:lnTo>
                        <a:lnTo>
                          <a:pt x="0" y="107"/>
                        </a:lnTo>
                        <a:lnTo>
                          <a:pt x="0" y="0"/>
                        </a:lnTo>
                        <a:lnTo>
                          <a:pt x="13" y="20"/>
                        </a:lnTo>
                        <a:lnTo>
                          <a:pt x="113" y="20"/>
                        </a:lnTo>
                        <a:lnTo>
                          <a:pt x="113" y="87"/>
                        </a:lnTo>
                        <a:lnTo>
                          <a:pt x="13" y="87"/>
                        </a:lnTo>
                        <a:lnTo>
                          <a:pt x="13" y="20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461400" y="2745360"/>
                    <a:ext cx="2005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32">
                        <a:moveTo>
                          <a:pt x="0" y="0"/>
                        </a:moveTo>
                        <a:lnTo>
                          <a:pt x="140" y="0"/>
                        </a:lnTo>
                        <a:lnTo>
                          <a:pt x="140" y="31"/>
                        </a:lnTo>
                        <a:lnTo>
                          <a:pt x="0" y="31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14120" y="2814840"/>
                    <a:ext cx="2412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4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83"/>
                        </a:lnTo>
                        <a:lnTo>
                          <a:pt x="0" y="83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831120" y="2814840"/>
                    <a:ext cx="21744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161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152" y="136"/>
                        </a:lnTo>
                        <a:lnTo>
                          <a:pt x="152" y="160"/>
                        </a:lnTo>
                        <a:lnTo>
                          <a:pt x="139" y="160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3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9480" y="2814840"/>
                    <a:ext cx="2700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35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34"/>
                        </a:lnTo>
                        <a:lnTo>
                          <a:pt x="0" y="134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3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637440" y="2950200"/>
                    <a:ext cx="18180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85">
                        <a:moveTo>
                          <a:pt x="0" y="0"/>
                        </a:moveTo>
                        <a:lnTo>
                          <a:pt x="127" y="0"/>
                        </a:lnTo>
                        <a:lnTo>
                          <a:pt x="127" y="84"/>
                        </a:lnTo>
                        <a:lnTo>
                          <a:pt x="0" y="84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3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637440" y="2950200"/>
                    <a:ext cx="18180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85">
                        <a:moveTo>
                          <a:pt x="0" y="0"/>
                        </a:moveTo>
                        <a:lnTo>
                          <a:pt x="127" y="0"/>
                        </a:lnTo>
                        <a:lnTo>
                          <a:pt x="127" y="84"/>
                        </a:ln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1" y="22"/>
                        </a:lnTo>
                        <a:lnTo>
                          <a:pt x="114" y="22"/>
                        </a:lnTo>
                        <a:lnTo>
                          <a:pt x="114" y="64"/>
                        </a:lnTo>
                        <a:lnTo>
                          <a:pt x="11" y="64"/>
                        </a:lnTo>
                        <a:lnTo>
                          <a:pt x="11" y="22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3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4003200" y="2745360"/>
                    <a:ext cx="18180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84">
                        <a:moveTo>
                          <a:pt x="0" y="0"/>
                        </a:moveTo>
                        <a:lnTo>
                          <a:pt x="127" y="0"/>
                        </a:lnTo>
                        <a:lnTo>
                          <a:pt x="127" y="83"/>
                        </a:lnTo>
                        <a:lnTo>
                          <a:pt x="0" y="83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3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4003200" y="2745360"/>
                    <a:ext cx="18180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84">
                        <a:moveTo>
                          <a:pt x="0" y="0"/>
                        </a:moveTo>
                        <a:lnTo>
                          <a:pt x="127" y="0"/>
                        </a:lnTo>
                        <a:lnTo>
                          <a:pt x="127" y="83"/>
                        </a:lnTo>
                        <a:lnTo>
                          <a:pt x="0" y="83"/>
                        </a:lnTo>
                        <a:lnTo>
                          <a:pt x="0" y="0"/>
                        </a:lnTo>
                        <a:lnTo>
                          <a:pt x="11" y="22"/>
                        </a:lnTo>
                        <a:lnTo>
                          <a:pt x="114" y="22"/>
                        </a:lnTo>
                        <a:lnTo>
                          <a:pt x="114" y="63"/>
                        </a:lnTo>
                        <a:lnTo>
                          <a:pt x="11" y="63"/>
                        </a:lnTo>
                        <a:lnTo>
                          <a:pt x="11" y="22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3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4041360" y="2986560"/>
                    <a:ext cx="1774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85">
                        <a:moveTo>
                          <a:pt x="0" y="0"/>
                        </a:moveTo>
                        <a:lnTo>
                          <a:pt x="124" y="0"/>
                        </a:lnTo>
                        <a:lnTo>
                          <a:pt x="124" y="84"/>
                        </a:lnTo>
                        <a:lnTo>
                          <a:pt x="0" y="84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3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4041360" y="2986560"/>
                    <a:ext cx="1774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85">
                        <a:moveTo>
                          <a:pt x="0" y="0"/>
                        </a:moveTo>
                        <a:lnTo>
                          <a:pt x="124" y="0"/>
                        </a:lnTo>
                        <a:lnTo>
                          <a:pt x="124" y="84"/>
                        </a:ln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3" y="20"/>
                        </a:lnTo>
                        <a:lnTo>
                          <a:pt x="111" y="20"/>
                        </a:lnTo>
                        <a:lnTo>
                          <a:pt x="111" y="62"/>
                        </a:lnTo>
                        <a:lnTo>
                          <a:pt x="13" y="62"/>
                        </a:lnTo>
                        <a:lnTo>
                          <a:pt x="13" y="20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3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4177800" y="2779920"/>
                    <a:ext cx="1591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6">
                        <a:moveTo>
                          <a:pt x="0" y="0"/>
                        </a:moveTo>
                        <a:lnTo>
                          <a:pt x="111" y="0"/>
                        </a:lnTo>
                        <a:lnTo>
                          <a:pt x="111" y="35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3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3738600" y="3507480"/>
                  <a:ext cx="147960" cy="135360"/>
                  <a:chOff x="3738600" y="3507480"/>
                  <a:chExt cx="147960" cy="13536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>
                    <a:off x="3738600" y="3507480"/>
                    <a:ext cx="147960" cy="135360"/>
                  </a:xfrm>
                  <a:prstGeom prst="ellipse">
                    <a:avLst/>
                  </a:prstGeom>
                  <a:blipFill rotWithShape="0">
                    <a:blip r:embed="rId39"/>
                    <a:srcRect/>
                    <a:tile tx="0" ty="0" sx="100000" sy="100000" algn="ctr"/>
                  </a:blipFill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3792600" y="3534480"/>
                    <a:ext cx="6228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5">
                        <a:moveTo>
                          <a:pt x="0" y="18"/>
                        </a:moveTo>
                        <a:lnTo>
                          <a:pt x="32" y="0"/>
                        </a:lnTo>
                        <a:lnTo>
                          <a:pt x="43" y="0"/>
                        </a:lnTo>
                        <a:lnTo>
                          <a:pt x="43" y="18"/>
                        </a:lnTo>
                        <a:lnTo>
                          <a:pt x="11" y="34"/>
                        </a:lnTo>
                        <a:lnTo>
                          <a:pt x="0" y="34"/>
                        </a:lnTo>
                        <a:lnTo>
                          <a:pt x="0" y="18"/>
                        </a:lnTo>
                      </a:path>
                    </a:pathLst>
                  </a:custGeom>
                  <a:blipFill rotWithShape="0">
                    <a:blip r:embed="rId4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4108680" y="3507480"/>
                  <a:ext cx="124920" cy="135360"/>
                  <a:chOff x="4108680" y="3507480"/>
                  <a:chExt cx="124920" cy="13536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4108680" y="3507480"/>
                    <a:ext cx="124920" cy="135360"/>
                  </a:xfrm>
                  <a:prstGeom prst="ellipse">
                    <a:avLst/>
                  </a:prstGeom>
                  <a:blipFill rotWithShape="0">
                    <a:blip r:embed="rId41"/>
                    <a:srcRect/>
                    <a:tile tx="0" ty="0" sx="100000" sy="100000" algn="ctr"/>
                  </a:blipFill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156920" y="3534480"/>
                    <a:ext cx="43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5">
                        <a:moveTo>
                          <a:pt x="0" y="18"/>
                        </a:moveTo>
                        <a:lnTo>
                          <a:pt x="21" y="0"/>
                        </a:lnTo>
                        <a:lnTo>
                          <a:pt x="30" y="0"/>
                        </a:lnTo>
                        <a:lnTo>
                          <a:pt x="30" y="18"/>
                        </a:lnTo>
                        <a:lnTo>
                          <a:pt x="10" y="34"/>
                        </a:lnTo>
                        <a:lnTo>
                          <a:pt x="0" y="34"/>
                        </a:lnTo>
                        <a:lnTo>
                          <a:pt x="0" y="18"/>
                        </a:lnTo>
                      </a:path>
                    </a:pathLst>
                  </a:custGeom>
                  <a:blipFill rotWithShape="0">
                    <a:blip r:embed="rId4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3211200" y="2850120"/>
                  <a:ext cx="251280" cy="101880"/>
                  <a:chOff x="3211200" y="2850120"/>
                  <a:chExt cx="251280" cy="10188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3387240" y="2850120"/>
                    <a:ext cx="75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76">
                        <a:moveTo>
                          <a:pt x="52" y="24"/>
                        </a:moveTo>
                        <a:lnTo>
                          <a:pt x="27" y="51"/>
                        </a:lnTo>
                        <a:lnTo>
                          <a:pt x="0" y="75"/>
                        </a:lnTo>
                        <a:lnTo>
                          <a:pt x="0" y="51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  <a:lnTo>
                          <a:pt x="27" y="0"/>
                        </a:lnTo>
                        <a:lnTo>
                          <a:pt x="52" y="24"/>
                        </a:lnTo>
                      </a:path>
                    </a:pathLst>
                  </a:custGeom>
                  <a:blipFill rotWithShape="0">
                    <a:blip r:embed="rId43"/>
                    <a:srcRect/>
                    <a:tile tx="0" ty="0" sx="100000" sy="100000" algn="ctr"/>
                  </a:blipFill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3211200" y="2880720"/>
                    <a:ext cx="19908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17">
                        <a:moveTo>
                          <a:pt x="0" y="0"/>
                        </a:moveTo>
                        <a:lnTo>
                          <a:pt x="139" y="0"/>
                        </a:lnTo>
                        <a:lnTo>
                          <a:pt x="139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4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3693240" y="3154680"/>
                  <a:ext cx="234360" cy="425880"/>
                  <a:chOff x="3693240" y="3154680"/>
                  <a:chExt cx="234360" cy="425880"/>
                </a:xfrm>
              </p:grpSpPr>
              <p:grpSp>
                <p:nvGrpSpPr>
                  <p:cNvPr id="1023" name=""/>
                  <p:cNvGrpSpPr/>
                  <p:nvPr/>
                </p:nvGrpSpPr>
                <p:grpSpPr>
                  <a:xfrm>
                    <a:off x="3693240" y="3154680"/>
                    <a:ext cx="63720" cy="417600"/>
                    <a:chOff x="3693240" y="3154680"/>
                    <a:chExt cx="63720" cy="417600"/>
                  </a:xfrm>
                </p:grpSpPr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3693240" y="3433320"/>
                      <a:ext cx="5940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104">
                          <a:moveTo>
                            <a:pt x="14" y="103"/>
                          </a:moveTo>
                          <a:lnTo>
                            <a:pt x="14" y="52"/>
                          </a:lnTo>
                          <a:lnTo>
                            <a:pt x="0" y="0"/>
                          </a:lnTo>
                          <a:lnTo>
                            <a:pt x="14" y="0"/>
                          </a:lnTo>
                          <a:lnTo>
                            <a:pt x="29" y="0"/>
                          </a:lnTo>
                          <a:lnTo>
                            <a:pt x="41" y="0"/>
                          </a:lnTo>
                          <a:lnTo>
                            <a:pt x="29" y="52"/>
                          </a:lnTo>
                          <a:lnTo>
                            <a:pt x="14" y="103"/>
                          </a:lnTo>
                        </a:path>
                      </a:pathLst>
                    </a:cu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3732840" y="3154680"/>
                      <a:ext cx="2412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16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215"/>
                          </a:lnTo>
                          <a:lnTo>
                            <a:pt x="0" y="21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3848040" y="3154680"/>
                    <a:ext cx="79560" cy="425880"/>
                    <a:chOff x="3848040" y="3154680"/>
                    <a:chExt cx="79560" cy="42588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3848040" y="3154680"/>
                      <a:ext cx="7956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104">
                          <a:moveTo>
                            <a:pt x="28" y="0"/>
                          </a:moveTo>
                          <a:lnTo>
                            <a:pt x="41" y="52"/>
                          </a:lnTo>
                          <a:lnTo>
                            <a:pt x="55" y="103"/>
                          </a:lnTo>
                          <a:lnTo>
                            <a:pt x="41" y="103"/>
                          </a:lnTo>
                          <a:lnTo>
                            <a:pt x="28" y="103"/>
                          </a:lnTo>
                          <a:lnTo>
                            <a:pt x="14" y="103"/>
                          </a:lnTo>
                          <a:lnTo>
                            <a:pt x="0" y="103"/>
                          </a:lnTo>
                          <a:lnTo>
                            <a:pt x="14" y="52"/>
                          </a:lnTo>
                          <a:lnTo>
                            <a:pt x="28" y="0"/>
                          </a:lnTo>
                        </a:path>
                      </a:pathLst>
                    </a:cu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3889080" y="3261600"/>
                      <a:ext cx="24120" cy="31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38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237"/>
                          </a:lnTo>
                          <a:lnTo>
                            <a:pt x="0" y="2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29" name=""/>
                <p:cNvGrpSpPr/>
                <p:nvPr/>
              </p:nvGrpSpPr>
              <p:grpSpPr>
                <a:xfrm>
                  <a:off x="4062960" y="3154680"/>
                  <a:ext cx="214200" cy="425880"/>
                  <a:chOff x="4062960" y="3154680"/>
                  <a:chExt cx="214200" cy="425880"/>
                </a:xfrm>
              </p:grpSpPr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4062960" y="3154680"/>
                    <a:ext cx="74880" cy="417600"/>
                    <a:chOff x="4062960" y="3154680"/>
                    <a:chExt cx="74880" cy="41760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4062960" y="3433320"/>
                      <a:ext cx="7488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04">
                          <a:moveTo>
                            <a:pt x="27" y="103"/>
                          </a:moveTo>
                          <a:lnTo>
                            <a:pt x="13" y="52"/>
                          </a:lnTo>
                          <a:lnTo>
                            <a:pt x="0" y="0"/>
                          </a:lnTo>
                          <a:lnTo>
                            <a:pt x="13" y="0"/>
                          </a:lnTo>
                          <a:lnTo>
                            <a:pt x="27" y="0"/>
                          </a:lnTo>
                          <a:lnTo>
                            <a:pt x="39" y="0"/>
                          </a:lnTo>
                          <a:lnTo>
                            <a:pt x="52" y="0"/>
                          </a:lnTo>
                          <a:lnTo>
                            <a:pt x="39" y="52"/>
                          </a:lnTo>
                          <a:lnTo>
                            <a:pt x="27" y="103"/>
                          </a:lnTo>
                        </a:path>
                      </a:pathLst>
                    </a:cu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4102200" y="3154680"/>
                      <a:ext cx="2376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16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215"/>
                          </a:lnTo>
                          <a:lnTo>
                            <a:pt x="0" y="21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4214880" y="3154680"/>
                    <a:ext cx="62280" cy="425880"/>
                    <a:chOff x="4214880" y="3154680"/>
                    <a:chExt cx="62280" cy="42588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4214880" y="3154680"/>
                      <a:ext cx="6228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104">
                          <a:moveTo>
                            <a:pt x="14" y="0"/>
                          </a:moveTo>
                          <a:lnTo>
                            <a:pt x="29" y="52"/>
                          </a:lnTo>
                          <a:lnTo>
                            <a:pt x="43" y="103"/>
                          </a:lnTo>
                          <a:lnTo>
                            <a:pt x="29" y="103"/>
                          </a:lnTo>
                          <a:lnTo>
                            <a:pt x="14" y="103"/>
                          </a:lnTo>
                          <a:lnTo>
                            <a:pt x="0" y="103"/>
                          </a:lnTo>
                          <a:lnTo>
                            <a:pt x="14" y="52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234320" y="3261600"/>
                      <a:ext cx="23760" cy="31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38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237"/>
                          </a:lnTo>
                          <a:lnTo>
                            <a:pt x="0" y="2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blipFill rotWithShape="0">
                      <a:blip r:embed="rId5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36" name=""/>
            <p:cNvGrpSpPr/>
            <p:nvPr/>
          </p:nvGrpSpPr>
          <p:grpSpPr>
            <a:xfrm>
              <a:off x="4835160" y="3155040"/>
              <a:ext cx="213120" cy="417600"/>
              <a:chOff x="4835160" y="3155040"/>
              <a:chExt cx="213120" cy="417600"/>
            </a:xfrm>
          </p:grpSpPr>
          <p:grpSp>
            <p:nvGrpSpPr>
              <p:cNvPr id="1037" name=""/>
              <p:cNvGrpSpPr/>
              <p:nvPr/>
            </p:nvGrpSpPr>
            <p:grpSpPr>
              <a:xfrm>
                <a:off x="4835160" y="3155040"/>
                <a:ext cx="55440" cy="417600"/>
                <a:chOff x="4835160" y="3155040"/>
                <a:chExt cx="55440" cy="41760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4835160" y="3433680"/>
                  <a:ext cx="55440" cy="138960"/>
                </a:xfrm>
                <a:custGeom>
                  <a:avLst/>
                  <a:gdLst/>
                  <a:ahLst/>
                  <a:rect l="l" t="t" r="r" b="b"/>
                  <a:pathLst>
                    <a:path w="39" h="104">
                      <a:moveTo>
                        <a:pt x="13" y="103"/>
                      </a:move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26" y="0"/>
                      </a:lnTo>
                      <a:lnTo>
                        <a:pt x="38" y="0"/>
                      </a:lnTo>
                      <a:lnTo>
                        <a:pt x="26" y="52"/>
                      </a:lnTo>
                      <a:lnTo>
                        <a:pt x="13" y="10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872240" y="3155040"/>
                  <a:ext cx="0" cy="27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4970160" y="3155040"/>
                <a:ext cx="78120" cy="416520"/>
                <a:chOff x="4970160" y="3155040"/>
                <a:chExt cx="78120" cy="41652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4970160" y="3155040"/>
                  <a:ext cx="78120" cy="138960"/>
                </a:xfrm>
                <a:custGeom>
                  <a:avLst/>
                  <a:gdLst/>
                  <a:ahLst/>
                  <a:rect l="l" t="t" r="r" b="b"/>
                  <a:pathLst>
                    <a:path w="55" h="104">
                      <a:moveTo>
                        <a:pt x="26" y="0"/>
                      </a:moveTo>
                      <a:lnTo>
                        <a:pt x="40" y="52"/>
                      </a:lnTo>
                      <a:lnTo>
                        <a:pt x="54" y="103"/>
                      </a:lnTo>
                      <a:lnTo>
                        <a:pt x="40" y="103"/>
                      </a:lnTo>
                      <a:lnTo>
                        <a:pt x="26" y="103"/>
                      </a:lnTo>
                      <a:lnTo>
                        <a:pt x="12" y="103"/>
                      </a:lnTo>
                      <a:lnTo>
                        <a:pt x="0" y="103"/>
                      </a:lnTo>
                      <a:lnTo>
                        <a:pt x="12" y="52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V="1">
                  <a:off x="5008320" y="3261960"/>
                  <a:ext cx="0" cy="30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3" name=""/>
            <p:cNvGrpSpPr/>
            <p:nvPr/>
          </p:nvGrpSpPr>
          <p:grpSpPr>
            <a:xfrm>
              <a:off x="5974200" y="3155040"/>
              <a:ext cx="213120" cy="417600"/>
              <a:chOff x="5974200" y="3155040"/>
              <a:chExt cx="213120" cy="417600"/>
            </a:xfrm>
          </p:grpSpPr>
          <p:grpSp>
            <p:nvGrpSpPr>
              <p:cNvPr id="1044" name=""/>
              <p:cNvGrpSpPr/>
              <p:nvPr/>
            </p:nvGrpSpPr>
            <p:grpSpPr>
              <a:xfrm>
                <a:off x="5974200" y="3155040"/>
                <a:ext cx="42840" cy="417600"/>
                <a:chOff x="5974200" y="3155040"/>
                <a:chExt cx="42840" cy="417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974200" y="3433680"/>
                  <a:ext cx="42840" cy="138960"/>
                </a:xfrm>
                <a:custGeom>
                  <a:avLst/>
                  <a:gdLst/>
                  <a:ahLst/>
                  <a:rect l="l" t="t" r="r" b="b"/>
                  <a:pathLst>
                    <a:path w="30" h="104">
                      <a:moveTo>
                        <a:pt x="15" y="103"/>
                      </a:move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29" y="0"/>
                      </a:lnTo>
                      <a:lnTo>
                        <a:pt x="15" y="52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992560" y="3155040"/>
                  <a:ext cx="0" cy="27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6109200" y="3155040"/>
                <a:ext cx="78120" cy="416520"/>
                <a:chOff x="6109200" y="3155040"/>
                <a:chExt cx="78120" cy="41652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6109200" y="3155040"/>
                  <a:ext cx="78120" cy="138960"/>
                </a:xfrm>
                <a:custGeom>
                  <a:avLst/>
                  <a:gdLst/>
                  <a:ahLst/>
                  <a:rect l="l" t="t" r="r" b="b"/>
                  <a:pathLst>
                    <a:path w="55" h="104">
                      <a:moveTo>
                        <a:pt x="26" y="0"/>
                      </a:moveTo>
                      <a:lnTo>
                        <a:pt x="40" y="52"/>
                      </a:lnTo>
                      <a:lnTo>
                        <a:pt x="54" y="103"/>
                      </a:lnTo>
                      <a:lnTo>
                        <a:pt x="40" y="103"/>
                      </a:lnTo>
                      <a:lnTo>
                        <a:pt x="26" y="103"/>
                      </a:lnTo>
                      <a:lnTo>
                        <a:pt x="12" y="103"/>
                      </a:lnTo>
                      <a:lnTo>
                        <a:pt x="0" y="103"/>
                      </a:lnTo>
                      <a:lnTo>
                        <a:pt x="12" y="52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6145920" y="3261960"/>
                  <a:ext cx="0" cy="30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0" name=""/>
            <p:cNvGrpSpPr/>
            <p:nvPr/>
          </p:nvGrpSpPr>
          <p:grpSpPr>
            <a:xfrm>
              <a:off x="6318720" y="3155040"/>
              <a:ext cx="213840" cy="417600"/>
              <a:chOff x="6318720" y="3155040"/>
              <a:chExt cx="213840" cy="4176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6318720" y="3155040"/>
                <a:ext cx="79560" cy="417600"/>
                <a:chOff x="6318720" y="3155040"/>
                <a:chExt cx="79560" cy="4176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6318720" y="3433680"/>
                  <a:ext cx="79560" cy="138960"/>
                </a:xfrm>
                <a:custGeom>
                  <a:avLst/>
                  <a:gdLst/>
                  <a:ahLst/>
                  <a:rect l="l" t="t" r="r" b="b"/>
                  <a:pathLst>
                    <a:path w="56" h="104">
                      <a:moveTo>
                        <a:pt x="28" y="103"/>
                      </a:moveTo>
                      <a:lnTo>
                        <a:pt x="14" y="52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43" y="0"/>
                      </a:lnTo>
                      <a:lnTo>
                        <a:pt x="55" y="0"/>
                      </a:lnTo>
                      <a:lnTo>
                        <a:pt x="43" y="52"/>
                      </a:lnTo>
                      <a:lnTo>
                        <a:pt x="28" y="10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359400" y="3155040"/>
                  <a:ext cx="0" cy="27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6491880" y="3155040"/>
                <a:ext cx="40680" cy="416520"/>
                <a:chOff x="6491880" y="3155040"/>
                <a:chExt cx="40680" cy="41652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6491880" y="3155040"/>
                  <a:ext cx="40680" cy="138960"/>
                </a:xfrm>
                <a:custGeom>
                  <a:avLst/>
                  <a:gdLst/>
                  <a:ahLst/>
                  <a:rect l="l" t="t" r="r" b="b"/>
                  <a:pathLst>
                    <a:path w="29" h="104">
                      <a:moveTo>
                        <a:pt x="14" y="0"/>
                      </a:moveTo>
                      <a:lnTo>
                        <a:pt x="14" y="52"/>
                      </a:lnTo>
                      <a:lnTo>
                        <a:pt x="28" y="103"/>
                      </a:lnTo>
                      <a:lnTo>
                        <a:pt x="14" y="103"/>
                      </a:lnTo>
                      <a:lnTo>
                        <a:pt x="0" y="103"/>
                      </a:lnTo>
                      <a:lnTo>
                        <a:pt x="0" y="52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6512760" y="3261960"/>
                  <a:ext cx="0" cy="30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7" name=""/>
            <p:cNvGrpSpPr/>
            <p:nvPr/>
          </p:nvGrpSpPr>
          <p:grpSpPr>
            <a:xfrm>
              <a:off x="2865960" y="3646080"/>
              <a:ext cx="885240" cy="993240"/>
              <a:chOff x="2865960" y="3646080"/>
              <a:chExt cx="885240" cy="99324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3114360" y="4156920"/>
                <a:ext cx="214560" cy="411120"/>
                <a:chOff x="3114360" y="4156920"/>
                <a:chExt cx="214560" cy="41112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3114360" y="4156920"/>
                  <a:ext cx="61200" cy="411120"/>
                  <a:chOff x="3114360" y="4156920"/>
                  <a:chExt cx="61200" cy="4111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114360" y="4429080"/>
                    <a:ext cx="6120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4">
                        <a:moveTo>
                          <a:pt x="29" y="103"/>
                        </a:moveTo>
                        <a:lnTo>
                          <a:pt x="15" y="52"/>
                        </a:lnTo>
                        <a:lnTo>
                          <a:pt x="0" y="0"/>
                        </a:lnTo>
                        <a:lnTo>
                          <a:pt x="15" y="0"/>
                        </a:lnTo>
                        <a:lnTo>
                          <a:pt x="29" y="0"/>
                        </a:lnTo>
                        <a:lnTo>
                          <a:pt x="42" y="0"/>
                        </a:lnTo>
                        <a:lnTo>
                          <a:pt x="29" y="52"/>
                        </a:lnTo>
                        <a:lnTo>
                          <a:pt x="29" y="10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155400" y="4156920"/>
                    <a:ext cx="0" cy="27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3252240" y="4156920"/>
                  <a:ext cx="76680" cy="409680"/>
                  <a:chOff x="3252240" y="4156920"/>
                  <a:chExt cx="76680" cy="40968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>
                    <a:off x="3252240" y="4156920"/>
                    <a:ext cx="766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76">
                        <a:moveTo>
                          <a:pt x="26" y="0"/>
                        </a:moveTo>
                        <a:lnTo>
                          <a:pt x="39" y="51"/>
                        </a:lnTo>
                        <a:lnTo>
                          <a:pt x="53" y="75"/>
                        </a:lnTo>
                        <a:lnTo>
                          <a:pt x="39" y="75"/>
                        </a:lnTo>
                        <a:lnTo>
                          <a:pt x="26" y="75"/>
                        </a:lnTo>
                        <a:lnTo>
                          <a:pt x="12" y="75"/>
                        </a:lnTo>
                        <a:lnTo>
                          <a:pt x="0" y="75"/>
                        </a:lnTo>
                        <a:lnTo>
                          <a:pt x="12" y="51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 flipV="1">
                    <a:off x="3287520" y="4257000"/>
                    <a:ext cx="0" cy="30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65" name=""/>
              <p:cNvSpPr/>
              <p:nvPr/>
            </p:nvSpPr>
            <p:spPr>
              <a:xfrm>
                <a:off x="2888280" y="3646080"/>
                <a:ext cx="842760" cy="478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2865960" y="3672720"/>
                <a:ext cx="885240" cy="424800"/>
                <a:chOff x="2865960" y="3672720"/>
                <a:chExt cx="885240" cy="42480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3077640" y="3672720"/>
                  <a:ext cx="177480" cy="150120"/>
                </a:xfrm>
                <a:custGeom>
                  <a:avLst/>
                  <a:gdLst/>
                  <a:ahLst/>
                  <a:rect l="l" t="t" r="r" b="b"/>
                  <a:pathLst>
                    <a:path w="125" h="112">
                      <a:moveTo>
                        <a:pt x="0" y="0"/>
                      </a:moveTo>
                      <a:lnTo>
                        <a:pt x="124" y="0"/>
                      </a:lnTo>
                      <a:lnTo>
                        <a:pt x="124" y="111"/>
                      </a:lnTo>
                      <a:lnTo>
                        <a:pt x="0" y="1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2865960" y="3741120"/>
                  <a:ext cx="211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155760" y="3777120"/>
                  <a:ext cx="0" cy="135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3252240" y="3809520"/>
                  <a:ext cx="193320" cy="20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542400" y="3809520"/>
                  <a:ext cx="0" cy="2102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039120" y="3912480"/>
                  <a:ext cx="180360" cy="115200"/>
                </a:xfrm>
                <a:custGeom>
                  <a:avLst/>
                  <a:gdLst/>
                  <a:ahLst/>
                  <a:rect l="l" t="t" r="r" b="b"/>
                  <a:pathLst>
                    <a:path w="127" h="86">
                      <a:moveTo>
                        <a:pt x="0" y="0"/>
                      </a:moveTo>
                      <a:lnTo>
                        <a:pt x="126" y="0"/>
                      </a:lnTo>
                      <a:lnTo>
                        <a:pt x="126" y="85"/>
                      </a:lnTo>
                      <a:lnTo>
                        <a:pt x="0" y="8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405960" y="3708720"/>
                  <a:ext cx="199080" cy="11376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0" y="0"/>
                      </a:moveTo>
                      <a:lnTo>
                        <a:pt x="139" y="0"/>
                      </a:lnTo>
                      <a:lnTo>
                        <a:pt x="139" y="84"/>
                      </a:lnTo>
                      <a:lnTo>
                        <a:pt x="0" y="8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445920" y="3980880"/>
                  <a:ext cx="195840" cy="116640"/>
                </a:xfrm>
                <a:custGeom>
                  <a:avLst/>
                  <a:gdLst/>
                  <a:ahLst/>
                  <a:rect l="l" t="t" r="r" b="b"/>
                  <a:pathLst>
                    <a:path w="138" h="87">
                      <a:moveTo>
                        <a:pt x="0" y="0"/>
                      </a:moveTo>
                      <a:lnTo>
                        <a:pt x="137" y="0"/>
                      </a:lnTo>
                      <a:lnTo>
                        <a:pt x="137" y="86"/>
                      </a:lnTo>
                      <a:lnTo>
                        <a:pt x="0" y="8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597840" y="3809520"/>
                  <a:ext cx="15336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3161520" y="4466520"/>
                <a:ext cx="126360" cy="172800"/>
                <a:chOff x="3161520" y="4466520"/>
                <a:chExt cx="126360" cy="17280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3161520" y="4466520"/>
                  <a:ext cx="126360" cy="172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V="1">
                  <a:off x="3191400" y="4495320"/>
                  <a:ext cx="40680" cy="70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9" name=""/>
            <p:cNvGrpSpPr/>
            <p:nvPr/>
          </p:nvGrpSpPr>
          <p:grpSpPr>
            <a:xfrm>
              <a:off x="2365200" y="2492280"/>
              <a:ext cx="1947960" cy="897120"/>
              <a:chOff x="2365200" y="2492280"/>
              <a:chExt cx="1947960" cy="897120"/>
            </a:xfrm>
          </p:grpSpPr>
          <p:sp>
            <p:nvSpPr>
              <p:cNvPr id="1080" name=""/>
              <p:cNvSpPr/>
              <p:nvPr/>
            </p:nvSpPr>
            <p:spPr>
              <a:xfrm>
                <a:off x="2365200" y="2492280"/>
                <a:ext cx="1947960" cy="89712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595240" y="2697480"/>
                <a:ext cx="1619640" cy="429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3737520" y="2850480"/>
              <a:ext cx="866880" cy="1096560"/>
              <a:chOff x="3737520" y="2850480"/>
              <a:chExt cx="866880" cy="1096560"/>
            </a:xfrm>
          </p:grpSpPr>
          <p:sp>
            <p:nvSpPr>
              <p:cNvPr id="1083" name=""/>
              <p:cNvSpPr/>
              <p:nvPr/>
            </p:nvSpPr>
            <p:spPr>
              <a:xfrm>
                <a:off x="4524840" y="2850480"/>
                <a:ext cx="79560" cy="137880"/>
              </a:xfrm>
              <a:custGeom>
                <a:avLst/>
                <a:gdLst/>
                <a:ahLst/>
                <a:rect l="l" t="t" r="r" b="b"/>
                <a:pathLst>
                  <a:path w="56" h="103">
                    <a:moveTo>
                      <a:pt x="55" y="0"/>
                    </a:moveTo>
                    <a:lnTo>
                      <a:pt x="43" y="51"/>
                    </a:lnTo>
                    <a:lnTo>
                      <a:pt x="28" y="102"/>
                    </a:lnTo>
                    <a:lnTo>
                      <a:pt x="28" y="75"/>
                    </a:lnTo>
                    <a:lnTo>
                      <a:pt x="14" y="75"/>
                    </a:lnTo>
                    <a:lnTo>
                      <a:pt x="0" y="51"/>
                    </a:lnTo>
                    <a:lnTo>
                      <a:pt x="28" y="24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V="1">
                <a:off x="3737520" y="2953080"/>
                <a:ext cx="807480" cy="9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2113560" y="3018240"/>
              <a:ext cx="753120" cy="930240"/>
              <a:chOff x="2113560" y="3018240"/>
              <a:chExt cx="753120" cy="930240"/>
            </a:xfrm>
          </p:grpSpPr>
          <p:sp>
            <p:nvSpPr>
              <p:cNvPr id="1086" name=""/>
              <p:cNvSpPr/>
              <p:nvPr/>
            </p:nvSpPr>
            <p:spPr>
              <a:xfrm>
                <a:off x="2787120" y="3809520"/>
                <a:ext cx="79560" cy="13896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55" y="103"/>
                    </a:moveTo>
                    <a:lnTo>
                      <a:pt x="27" y="79"/>
                    </a:lnTo>
                    <a:lnTo>
                      <a:pt x="0" y="52"/>
                    </a:lnTo>
                    <a:lnTo>
                      <a:pt x="12" y="27"/>
                    </a:lnTo>
                    <a:lnTo>
                      <a:pt x="27" y="27"/>
                    </a:lnTo>
                    <a:lnTo>
                      <a:pt x="41" y="0"/>
                    </a:lnTo>
                    <a:lnTo>
                      <a:pt x="41" y="52"/>
                    </a:lnTo>
                    <a:lnTo>
                      <a:pt x="55" y="10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113560" y="3018240"/>
                <a:ext cx="713520" cy="82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8" name=""/>
          <p:cNvSpPr/>
          <p:nvPr/>
        </p:nvSpPr>
        <p:spPr>
          <a:xfrm>
            <a:off x="54360" y="6515280"/>
            <a:ext cx="6925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</a:rPr>
              <a:t>Fonte - The Capability Maturity Model - Guidelines for improving the Software Process - CMU/S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952560" y="5477040"/>
            <a:ext cx="7448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dança contínu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é um modo de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863640" y="838080"/>
            <a:ext cx="7670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76240" y="1828800"/>
            <a:ext cx="74678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6600" y="1023840"/>
            <a:ext cx="8343720" cy="33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85960" y="5810400"/>
            <a:ext cx="277560" cy="572760"/>
          </a:xfrm>
          <a:custGeom>
            <a:avLst/>
            <a:gdLst/>
            <a:ahLst/>
            <a:rect l="l" t="t" r="r" b="b"/>
            <a:pathLst>
              <a:path w="175" h="361">
                <a:moveTo>
                  <a:pt x="0" y="360"/>
                </a:moveTo>
                <a:lnTo>
                  <a:pt x="174" y="360"/>
                </a:lnTo>
                <a:lnTo>
                  <a:pt x="174" y="335"/>
                </a:lnTo>
                <a:lnTo>
                  <a:pt x="144" y="335"/>
                </a:lnTo>
                <a:lnTo>
                  <a:pt x="121" y="327"/>
                </a:lnTo>
                <a:lnTo>
                  <a:pt x="113" y="319"/>
                </a:lnTo>
                <a:lnTo>
                  <a:pt x="113" y="310"/>
                </a:lnTo>
                <a:lnTo>
                  <a:pt x="113" y="0"/>
                </a:lnTo>
                <a:lnTo>
                  <a:pt x="99" y="0"/>
                </a:lnTo>
                <a:lnTo>
                  <a:pt x="75" y="0"/>
                </a:lnTo>
                <a:lnTo>
                  <a:pt x="45" y="8"/>
                </a:lnTo>
                <a:lnTo>
                  <a:pt x="23" y="17"/>
                </a:lnTo>
                <a:lnTo>
                  <a:pt x="0" y="17"/>
                </a:lnTo>
                <a:lnTo>
                  <a:pt x="0" y="25"/>
                </a:lnTo>
                <a:lnTo>
                  <a:pt x="8" y="25"/>
                </a:lnTo>
                <a:lnTo>
                  <a:pt x="15" y="25"/>
                </a:lnTo>
                <a:lnTo>
                  <a:pt x="38" y="33"/>
                </a:lnTo>
                <a:lnTo>
                  <a:pt x="53" y="41"/>
                </a:lnTo>
                <a:lnTo>
                  <a:pt x="61" y="50"/>
                </a:lnTo>
                <a:lnTo>
                  <a:pt x="61" y="75"/>
                </a:lnTo>
                <a:lnTo>
                  <a:pt x="61" y="310"/>
                </a:lnTo>
                <a:lnTo>
                  <a:pt x="61" y="319"/>
                </a:lnTo>
                <a:lnTo>
                  <a:pt x="45" y="327"/>
                </a:lnTo>
                <a:lnTo>
                  <a:pt x="31" y="335"/>
                </a:lnTo>
                <a:lnTo>
                  <a:pt x="0" y="335"/>
                </a:lnTo>
                <a:lnTo>
                  <a:pt x="0" y="36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5640" y="5810400"/>
            <a:ext cx="277920" cy="572760"/>
          </a:xfrm>
          <a:custGeom>
            <a:avLst/>
            <a:gdLst/>
            <a:ahLst/>
            <a:rect l="l" t="t" r="r" b="b"/>
            <a:pathLst>
              <a:path w="175" h="361">
                <a:moveTo>
                  <a:pt x="0" y="360"/>
                </a:moveTo>
                <a:lnTo>
                  <a:pt x="174" y="360"/>
                </a:lnTo>
                <a:lnTo>
                  <a:pt x="174" y="335"/>
                </a:lnTo>
                <a:lnTo>
                  <a:pt x="144" y="335"/>
                </a:lnTo>
                <a:lnTo>
                  <a:pt x="121" y="327"/>
                </a:lnTo>
                <a:lnTo>
                  <a:pt x="113" y="319"/>
                </a:lnTo>
                <a:lnTo>
                  <a:pt x="113" y="310"/>
                </a:lnTo>
                <a:lnTo>
                  <a:pt x="113" y="0"/>
                </a:lnTo>
                <a:lnTo>
                  <a:pt x="99" y="0"/>
                </a:lnTo>
                <a:lnTo>
                  <a:pt x="75" y="0"/>
                </a:lnTo>
                <a:lnTo>
                  <a:pt x="45" y="8"/>
                </a:lnTo>
                <a:lnTo>
                  <a:pt x="23" y="17"/>
                </a:lnTo>
                <a:lnTo>
                  <a:pt x="0" y="17"/>
                </a:lnTo>
                <a:lnTo>
                  <a:pt x="0" y="25"/>
                </a:lnTo>
                <a:lnTo>
                  <a:pt x="8" y="25"/>
                </a:lnTo>
                <a:lnTo>
                  <a:pt x="15" y="25"/>
                </a:lnTo>
                <a:lnTo>
                  <a:pt x="38" y="33"/>
                </a:lnTo>
                <a:lnTo>
                  <a:pt x="53" y="41"/>
                </a:lnTo>
                <a:lnTo>
                  <a:pt x="61" y="50"/>
                </a:lnTo>
                <a:lnTo>
                  <a:pt x="61" y="75"/>
                </a:lnTo>
                <a:lnTo>
                  <a:pt x="61" y="310"/>
                </a:lnTo>
                <a:lnTo>
                  <a:pt x="61" y="319"/>
                </a:lnTo>
                <a:lnTo>
                  <a:pt x="45" y="327"/>
                </a:lnTo>
                <a:lnTo>
                  <a:pt x="31" y="335"/>
                </a:lnTo>
                <a:lnTo>
                  <a:pt x="0" y="335"/>
                </a:lnTo>
                <a:lnTo>
                  <a:pt x="0" y="3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68000" y="5919840"/>
            <a:ext cx="8694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25400" y="4794120"/>
            <a:ext cx="425520" cy="587520"/>
          </a:xfrm>
          <a:custGeom>
            <a:avLst/>
            <a:gdLst/>
            <a:ahLst/>
            <a:rect l="l" t="t" r="r" b="b"/>
            <a:pathLst>
              <a:path w="268" h="370">
                <a:moveTo>
                  <a:pt x="8" y="369"/>
                </a:moveTo>
                <a:lnTo>
                  <a:pt x="245" y="369"/>
                </a:lnTo>
                <a:lnTo>
                  <a:pt x="267" y="277"/>
                </a:lnTo>
                <a:lnTo>
                  <a:pt x="245" y="269"/>
                </a:lnTo>
                <a:lnTo>
                  <a:pt x="237" y="294"/>
                </a:lnTo>
                <a:lnTo>
                  <a:pt x="221" y="319"/>
                </a:lnTo>
                <a:lnTo>
                  <a:pt x="199" y="328"/>
                </a:lnTo>
                <a:lnTo>
                  <a:pt x="160" y="336"/>
                </a:lnTo>
                <a:lnTo>
                  <a:pt x="54" y="336"/>
                </a:lnTo>
                <a:lnTo>
                  <a:pt x="68" y="319"/>
                </a:lnTo>
                <a:lnTo>
                  <a:pt x="107" y="285"/>
                </a:lnTo>
                <a:lnTo>
                  <a:pt x="153" y="260"/>
                </a:lnTo>
                <a:lnTo>
                  <a:pt x="175" y="226"/>
                </a:lnTo>
                <a:lnTo>
                  <a:pt x="199" y="202"/>
                </a:lnTo>
                <a:lnTo>
                  <a:pt x="221" y="176"/>
                </a:lnTo>
                <a:lnTo>
                  <a:pt x="237" y="143"/>
                </a:lnTo>
                <a:lnTo>
                  <a:pt x="245" y="126"/>
                </a:lnTo>
                <a:lnTo>
                  <a:pt x="245" y="100"/>
                </a:lnTo>
                <a:lnTo>
                  <a:pt x="237" y="59"/>
                </a:lnTo>
                <a:lnTo>
                  <a:pt x="213" y="33"/>
                </a:lnTo>
                <a:lnTo>
                  <a:pt x="168" y="9"/>
                </a:lnTo>
                <a:lnTo>
                  <a:pt x="130" y="0"/>
                </a:lnTo>
                <a:lnTo>
                  <a:pt x="76" y="9"/>
                </a:lnTo>
                <a:lnTo>
                  <a:pt x="38" y="33"/>
                </a:lnTo>
                <a:lnTo>
                  <a:pt x="16" y="59"/>
                </a:lnTo>
                <a:lnTo>
                  <a:pt x="8" y="100"/>
                </a:lnTo>
                <a:lnTo>
                  <a:pt x="8" y="126"/>
                </a:lnTo>
                <a:lnTo>
                  <a:pt x="16" y="135"/>
                </a:lnTo>
                <a:lnTo>
                  <a:pt x="22" y="143"/>
                </a:lnTo>
                <a:lnTo>
                  <a:pt x="30" y="143"/>
                </a:lnTo>
                <a:lnTo>
                  <a:pt x="46" y="143"/>
                </a:lnTo>
                <a:lnTo>
                  <a:pt x="54" y="135"/>
                </a:lnTo>
                <a:lnTo>
                  <a:pt x="61" y="135"/>
                </a:lnTo>
                <a:lnTo>
                  <a:pt x="61" y="117"/>
                </a:lnTo>
                <a:lnTo>
                  <a:pt x="61" y="109"/>
                </a:lnTo>
                <a:lnTo>
                  <a:pt x="54" y="100"/>
                </a:lnTo>
                <a:lnTo>
                  <a:pt x="46" y="84"/>
                </a:lnTo>
                <a:lnTo>
                  <a:pt x="46" y="76"/>
                </a:lnTo>
                <a:lnTo>
                  <a:pt x="54" y="59"/>
                </a:lnTo>
                <a:lnTo>
                  <a:pt x="68" y="42"/>
                </a:lnTo>
                <a:lnTo>
                  <a:pt x="92" y="33"/>
                </a:lnTo>
                <a:lnTo>
                  <a:pt x="114" y="33"/>
                </a:lnTo>
                <a:lnTo>
                  <a:pt x="153" y="33"/>
                </a:lnTo>
                <a:lnTo>
                  <a:pt x="168" y="50"/>
                </a:lnTo>
                <a:lnTo>
                  <a:pt x="183" y="67"/>
                </a:lnTo>
                <a:lnTo>
                  <a:pt x="183" y="100"/>
                </a:lnTo>
                <a:lnTo>
                  <a:pt x="183" y="126"/>
                </a:lnTo>
                <a:lnTo>
                  <a:pt x="175" y="152"/>
                </a:lnTo>
                <a:lnTo>
                  <a:pt x="160" y="176"/>
                </a:lnTo>
                <a:lnTo>
                  <a:pt x="145" y="210"/>
                </a:lnTo>
                <a:lnTo>
                  <a:pt x="122" y="235"/>
                </a:lnTo>
                <a:lnTo>
                  <a:pt x="84" y="269"/>
                </a:lnTo>
                <a:lnTo>
                  <a:pt x="46" y="294"/>
                </a:lnTo>
                <a:lnTo>
                  <a:pt x="0" y="336"/>
                </a:lnTo>
                <a:lnTo>
                  <a:pt x="8" y="369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25400" y="4794120"/>
            <a:ext cx="425520" cy="587520"/>
          </a:xfrm>
          <a:custGeom>
            <a:avLst/>
            <a:gdLst/>
            <a:ahLst/>
            <a:rect l="l" t="t" r="r" b="b"/>
            <a:pathLst>
              <a:path w="268" h="370">
                <a:moveTo>
                  <a:pt x="8" y="369"/>
                </a:moveTo>
                <a:lnTo>
                  <a:pt x="245" y="369"/>
                </a:lnTo>
                <a:lnTo>
                  <a:pt x="267" y="277"/>
                </a:lnTo>
                <a:lnTo>
                  <a:pt x="245" y="269"/>
                </a:lnTo>
                <a:lnTo>
                  <a:pt x="237" y="294"/>
                </a:lnTo>
                <a:lnTo>
                  <a:pt x="221" y="319"/>
                </a:lnTo>
                <a:lnTo>
                  <a:pt x="199" y="328"/>
                </a:lnTo>
                <a:lnTo>
                  <a:pt x="160" y="336"/>
                </a:lnTo>
                <a:lnTo>
                  <a:pt x="54" y="336"/>
                </a:lnTo>
                <a:lnTo>
                  <a:pt x="68" y="319"/>
                </a:lnTo>
                <a:lnTo>
                  <a:pt x="107" y="285"/>
                </a:lnTo>
                <a:lnTo>
                  <a:pt x="153" y="260"/>
                </a:lnTo>
                <a:lnTo>
                  <a:pt x="175" y="226"/>
                </a:lnTo>
                <a:lnTo>
                  <a:pt x="199" y="202"/>
                </a:lnTo>
                <a:lnTo>
                  <a:pt x="221" y="176"/>
                </a:lnTo>
                <a:lnTo>
                  <a:pt x="237" y="143"/>
                </a:lnTo>
                <a:lnTo>
                  <a:pt x="245" y="126"/>
                </a:lnTo>
                <a:lnTo>
                  <a:pt x="245" y="100"/>
                </a:lnTo>
                <a:lnTo>
                  <a:pt x="237" y="59"/>
                </a:lnTo>
                <a:lnTo>
                  <a:pt x="213" y="33"/>
                </a:lnTo>
                <a:lnTo>
                  <a:pt x="168" y="9"/>
                </a:lnTo>
                <a:lnTo>
                  <a:pt x="130" y="0"/>
                </a:lnTo>
                <a:lnTo>
                  <a:pt x="76" y="9"/>
                </a:lnTo>
                <a:lnTo>
                  <a:pt x="38" y="33"/>
                </a:lnTo>
                <a:lnTo>
                  <a:pt x="16" y="59"/>
                </a:lnTo>
                <a:lnTo>
                  <a:pt x="8" y="100"/>
                </a:lnTo>
                <a:lnTo>
                  <a:pt x="8" y="126"/>
                </a:lnTo>
                <a:lnTo>
                  <a:pt x="16" y="135"/>
                </a:lnTo>
                <a:lnTo>
                  <a:pt x="22" y="143"/>
                </a:lnTo>
                <a:lnTo>
                  <a:pt x="30" y="143"/>
                </a:lnTo>
                <a:lnTo>
                  <a:pt x="46" y="143"/>
                </a:lnTo>
                <a:lnTo>
                  <a:pt x="54" y="135"/>
                </a:lnTo>
                <a:lnTo>
                  <a:pt x="61" y="135"/>
                </a:lnTo>
                <a:lnTo>
                  <a:pt x="61" y="117"/>
                </a:lnTo>
                <a:lnTo>
                  <a:pt x="61" y="109"/>
                </a:lnTo>
                <a:lnTo>
                  <a:pt x="54" y="100"/>
                </a:lnTo>
                <a:lnTo>
                  <a:pt x="46" y="84"/>
                </a:lnTo>
                <a:lnTo>
                  <a:pt x="46" y="76"/>
                </a:lnTo>
                <a:lnTo>
                  <a:pt x="54" y="59"/>
                </a:lnTo>
                <a:lnTo>
                  <a:pt x="68" y="42"/>
                </a:lnTo>
                <a:lnTo>
                  <a:pt x="92" y="33"/>
                </a:lnTo>
                <a:lnTo>
                  <a:pt x="114" y="33"/>
                </a:lnTo>
                <a:lnTo>
                  <a:pt x="153" y="33"/>
                </a:lnTo>
                <a:lnTo>
                  <a:pt x="168" y="50"/>
                </a:lnTo>
                <a:lnTo>
                  <a:pt x="183" y="67"/>
                </a:lnTo>
                <a:lnTo>
                  <a:pt x="183" y="100"/>
                </a:lnTo>
                <a:lnTo>
                  <a:pt x="183" y="126"/>
                </a:lnTo>
                <a:lnTo>
                  <a:pt x="175" y="152"/>
                </a:lnTo>
                <a:lnTo>
                  <a:pt x="160" y="176"/>
                </a:lnTo>
                <a:lnTo>
                  <a:pt x="145" y="210"/>
                </a:lnTo>
                <a:lnTo>
                  <a:pt x="122" y="235"/>
                </a:lnTo>
                <a:lnTo>
                  <a:pt x="84" y="269"/>
                </a:lnTo>
                <a:lnTo>
                  <a:pt x="46" y="294"/>
                </a:lnTo>
                <a:lnTo>
                  <a:pt x="0" y="336"/>
                </a:lnTo>
                <a:lnTo>
                  <a:pt x="8" y="369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8760" y="4917960"/>
            <a:ext cx="12578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et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25400" y="3780000"/>
            <a:ext cx="425520" cy="599760"/>
          </a:xfrm>
          <a:custGeom>
            <a:avLst/>
            <a:gdLst/>
            <a:ahLst/>
            <a:rect l="l" t="t" r="r" b="b"/>
            <a:pathLst>
              <a:path w="268" h="378">
                <a:moveTo>
                  <a:pt x="168" y="167"/>
                </a:moveTo>
                <a:lnTo>
                  <a:pt x="199" y="151"/>
                </a:lnTo>
                <a:lnTo>
                  <a:pt x="229" y="134"/>
                </a:lnTo>
                <a:lnTo>
                  <a:pt x="245" y="117"/>
                </a:lnTo>
                <a:lnTo>
                  <a:pt x="251" y="92"/>
                </a:lnTo>
                <a:lnTo>
                  <a:pt x="237" y="50"/>
                </a:lnTo>
                <a:lnTo>
                  <a:pt x="213" y="25"/>
                </a:lnTo>
                <a:lnTo>
                  <a:pt x="175" y="0"/>
                </a:lnTo>
                <a:lnTo>
                  <a:pt x="137" y="0"/>
                </a:lnTo>
                <a:lnTo>
                  <a:pt x="84" y="8"/>
                </a:lnTo>
                <a:lnTo>
                  <a:pt x="46" y="25"/>
                </a:lnTo>
                <a:lnTo>
                  <a:pt x="30" y="50"/>
                </a:lnTo>
                <a:lnTo>
                  <a:pt x="22" y="84"/>
                </a:lnTo>
                <a:lnTo>
                  <a:pt x="22" y="100"/>
                </a:lnTo>
                <a:lnTo>
                  <a:pt x="30" y="117"/>
                </a:lnTo>
                <a:lnTo>
                  <a:pt x="46" y="117"/>
                </a:lnTo>
                <a:lnTo>
                  <a:pt x="54" y="117"/>
                </a:lnTo>
                <a:lnTo>
                  <a:pt x="61" y="117"/>
                </a:lnTo>
                <a:lnTo>
                  <a:pt x="68" y="108"/>
                </a:lnTo>
                <a:lnTo>
                  <a:pt x="68" y="92"/>
                </a:lnTo>
                <a:lnTo>
                  <a:pt x="68" y="84"/>
                </a:lnTo>
                <a:lnTo>
                  <a:pt x="68" y="75"/>
                </a:lnTo>
                <a:lnTo>
                  <a:pt x="61" y="67"/>
                </a:lnTo>
                <a:lnTo>
                  <a:pt x="61" y="58"/>
                </a:lnTo>
                <a:lnTo>
                  <a:pt x="68" y="50"/>
                </a:lnTo>
                <a:lnTo>
                  <a:pt x="84" y="33"/>
                </a:lnTo>
                <a:lnTo>
                  <a:pt x="107" y="25"/>
                </a:lnTo>
                <a:lnTo>
                  <a:pt x="130" y="25"/>
                </a:lnTo>
                <a:lnTo>
                  <a:pt x="160" y="25"/>
                </a:lnTo>
                <a:lnTo>
                  <a:pt x="168" y="41"/>
                </a:lnTo>
                <a:lnTo>
                  <a:pt x="183" y="58"/>
                </a:lnTo>
                <a:lnTo>
                  <a:pt x="191" y="92"/>
                </a:lnTo>
                <a:lnTo>
                  <a:pt x="183" y="117"/>
                </a:lnTo>
                <a:lnTo>
                  <a:pt x="168" y="134"/>
                </a:lnTo>
                <a:lnTo>
                  <a:pt x="145" y="151"/>
                </a:lnTo>
                <a:lnTo>
                  <a:pt x="114" y="159"/>
                </a:lnTo>
                <a:lnTo>
                  <a:pt x="107" y="159"/>
                </a:lnTo>
                <a:lnTo>
                  <a:pt x="99" y="159"/>
                </a:lnTo>
                <a:lnTo>
                  <a:pt x="92" y="159"/>
                </a:lnTo>
                <a:lnTo>
                  <a:pt x="92" y="184"/>
                </a:lnTo>
                <a:lnTo>
                  <a:pt x="99" y="184"/>
                </a:lnTo>
                <a:lnTo>
                  <a:pt x="107" y="184"/>
                </a:lnTo>
                <a:lnTo>
                  <a:pt x="114" y="184"/>
                </a:lnTo>
                <a:lnTo>
                  <a:pt x="160" y="184"/>
                </a:lnTo>
                <a:lnTo>
                  <a:pt x="183" y="193"/>
                </a:lnTo>
                <a:lnTo>
                  <a:pt x="199" y="226"/>
                </a:lnTo>
                <a:lnTo>
                  <a:pt x="206" y="268"/>
                </a:lnTo>
                <a:lnTo>
                  <a:pt x="199" y="302"/>
                </a:lnTo>
                <a:lnTo>
                  <a:pt x="183" y="327"/>
                </a:lnTo>
                <a:lnTo>
                  <a:pt x="160" y="344"/>
                </a:lnTo>
                <a:lnTo>
                  <a:pt x="130" y="344"/>
                </a:lnTo>
                <a:lnTo>
                  <a:pt x="99" y="344"/>
                </a:lnTo>
                <a:lnTo>
                  <a:pt x="76" y="336"/>
                </a:lnTo>
                <a:lnTo>
                  <a:pt x="54" y="327"/>
                </a:lnTo>
                <a:lnTo>
                  <a:pt x="54" y="310"/>
                </a:lnTo>
                <a:lnTo>
                  <a:pt x="54" y="302"/>
                </a:lnTo>
                <a:lnTo>
                  <a:pt x="54" y="293"/>
                </a:lnTo>
                <a:lnTo>
                  <a:pt x="54" y="285"/>
                </a:lnTo>
                <a:lnTo>
                  <a:pt x="54" y="268"/>
                </a:lnTo>
                <a:lnTo>
                  <a:pt x="46" y="268"/>
                </a:lnTo>
                <a:lnTo>
                  <a:pt x="38" y="260"/>
                </a:lnTo>
                <a:lnTo>
                  <a:pt x="30" y="260"/>
                </a:lnTo>
                <a:lnTo>
                  <a:pt x="22" y="260"/>
                </a:lnTo>
                <a:lnTo>
                  <a:pt x="8" y="268"/>
                </a:lnTo>
                <a:lnTo>
                  <a:pt x="0" y="277"/>
                </a:lnTo>
                <a:lnTo>
                  <a:pt x="0" y="293"/>
                </a:lnTo>
                <a:lnTo>
                  <a:pt x="8" y="327"/>
                </a:lnTo>
                <a:lnTo>
                  <a:pt x="30" y="344"/>
                </a:lnTo>
                <a:lnTo>
                  <a:pt x="68" y="369"/>
                </a:lnTo>
                <a:lnTo>
                  <a:pt x="122" y="377"/>
                </a:lnTo>
                <a:lnTo>
                  <a:pt x="175" y="369"/>
                </a:lnTo>
                <a:lnTo>
                  <a:pt x="221" y="344"/>
                </a:lnTo>
                <a:lnTo>
                  <a:pt x="259" y="310"/>
                </a:lnTo>
                <a:lnTo>
                  <a:pt x="267" y="268"/>
                </a:lnTo>
                <a:lnTo>
                  <a:pt x="259" y="226"/>
                </a:lnTo>
                <a:lnTo>
                  <a:pt x="245" y="193"/>
                </a:lnTo>
                <a:lnTo>
                  <a:pt x="213" y="184"/>
                </a:lnTo>
                <a:lnTo>
                  <a:pt x="168" y="167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25400" y="3780000"/>
            <a:ext cx="425520" cy="599760"/>
          </a:xfrm>
          <a:custGeom>
            <a:avLst/>
            <a:gdLst/>
            <a:ahLst/>
            <a:rect l="l" t="t" r="r" b="b"/>
            <a:pathLst>
              <a:path w="268" h="378">
                <a:moveTo>
                  <a:pt x="168" y="167"/>
                </a:moveTo>
                <a:lnTo>
                  <a:pt x="199" y="151"/>
                </a:lnTo>
                <a:lnTo>
                  <a:pt x="229" y="134"/>
                </a:lnTo>
                <a:lnTo>
                  <a:pt x="245" y="117"/>
                </a:lnTo>
                <a:lnTo>
                  <a:pt x="251" y="92"/>
                </a:lnTo>
                <a:lnTo>
                  <a:pt x="237" y="50"/>
                </a:lnTo>
                <a:lnTo>
                  <a:pt x="213" y="25"/>
                </a:lnTo>
                <a:lnTo>
                  <a:pt x="175" y="0"/>
                </a:lnTo>
                <a:lnTo>
                  <a:pt x="137" y="0"/>
                </a:lnTo>
                <a:lnTo>
                  <a:pt x="84" y="8"/>
                </a:lnTo>
                <a:lnTo>
                  <a:pt x="46" y="25"/>
                </a:lnTo>
                <a:lnTo>
                  <a:pt x="30" y="50"/>
                </a:lnTo>
                <a:lnTo>
                  <a:pt x="22" y="84"/>
                </a:lnTo>
                <a:lnTo>
                  <a:pt x="22" y="100"/>
                </a:lnTo>
                <a:lnTo>
                  <a:pt x="30" y="117"/>
                </a:lnTo>
                <a:lnTo>
                  <a:pt x="46" y="117"/>
                </a:lnTo>
                <a:lnTo>
                  <a:pt x="54" y="117"/>
                </a:lnTo>
                <a:lnTo>
                  <a:pt x="61" y="117"/>
                </a:lnTo>
                <a:lnTo>
                  <a:pt x="68" y="108"/>
                </a:lnTo>
                <a:lnTo>
                  <a:pt x="68" y="92"/>
                </a:lnTo>
                <a:lnTo>
                  <a:pt x="68" y="84"/>
                </a:lnTo>
                <a:lnTo>
                  <a:pt x="68" y="75"/>
                </a:lnTo>
                <a:lnTo>
                  <a:pt x="61" y="67"/>
                </a:lnTo>
                <a:lnTo>
                  <a:pt x="61" y="58"/>
                </a:lnTo>
                <a:lnTo>
                  <a:pt x="68" y="50"/>
                </a:lnTo>
                <a:lnTo>
                  <a:pt x="84" y="33"/>
                </a:lnTo>
                <a:lnTo>
                  <a:pt x="107" y="25"/>
                </a:lnTo>
                <a:lnTo>
                  <a:pt x="130" y="25"/>
                </a:lnTo>
                <a:lnTo>
                  <a:pt x="160" y="25"/>
                </a:lnTo>
                <a:lnTo>
                  <a:pt x="168" y="41"/>
                </a:lnTo>
                <a:lnTo>
                  <a:pt x="183" y="58"/>
                </a:lnTo>
                <a:lnTo>
                  <a:pt x="191" y="92"/>
                </a:lnTo>
                <a:lnTo>
                  <a:pt x="183" y="117"/>
                </a:lnTo>
                <a:lnTo>
                  <a:pt x="168" y="134"/>
                </a:lnTo>
                <a:lnTo>
                  <a:pt x="145" y="151"/>
                </a:lnTo>
                <a:lnTo>
                  <a:pt x="114" y="159"/>
                </a:lnTo>
                <a:lnTo>
                  <a:pt x="107" y="159"/>
                </a:lnTo>
                <a:lnTo>
                  <a:pt x="99" y="159"/>
                </a:lnTo>
                <a:lnTo>
                  <a:pt x="92" y="159"/>
                </a:lnTo>
                <a:lnTo>
                  <a:pt x="92" y="184"/>
                </a:lnTo>
                <a:lnTo>
                  <a:pt x="99" y="184"/>
                </a:lnTo>
                <a:lnTo>
                  <a:pt x="107" y="184"/>
                </a:lnTo>
                <a:lnTo>
                  <a:pt x="114" y="184"/>
                </a:lnTo>
                <a:lnTo>
                  <a:pt x="160" y="184"/>
                </a:lnTo>
                <a:lnTo>
                  <a:pt x="183" y="193"/>
                </a:lnTo>
                <a:lnTo>
                  <a:pt x="199" y="226"/>
                </a:lnTo>
                <a:lnTo>
                  <a:pt x="206" y="268"/>
                </a:lnTo>
                <a:lnTo>
                  <a:pt x="199" y="302"/>
                </a:lnTo>
                <a:lnTo>
                  <a:pt x="183" y="327"/>
                </a:lnTo>
                <a:lnTo>
                  <a:pt x="160" y="344"/>
                </a:lnTo>
                <a:lnTo>
                  <a:pt x="130" y="344"/>
                </a:lnTo>
                <a:lnTo>
                  <a:pt x="99" y="344"/>
                </a:lnTo>
                <a:lnTo>
                  <a:pt x="76" y="336"/>
                </a:lnTo>
                <a:lnTo>
                  <a:pt x="54" y="327"/>
                </a:lnTo>
                <a:lnTo>
                  <a:pt x="54" y="310"/>
                </a:lnTo>
                <a:lnTo>
                  <a:pt x="54" y="302"/>
                </a:lnTo>
                <a:lnTo>
                  <a:pt x="54" y="293"/>
                </a:lnTo>
                <a:lnTo>
                  <a:pt x="54" y="285"/>
                </a:lnTo>
                <a:lnTo>
                  <a:pt x="54" y="268"/>
                </a:lnTo>
                <a:lnTo>
                  <a:pt x="46" y="268"/>
                </a:lnTo>
                <a:lnTo>
                  <a:pt x="38" y="260"/>
                </a:lnTo>
                <a:lnTo>
                  <a:pt x="30" y="260"/>
                </a:lnTo>
                <a:lnTo>
                  <a:pt x="22" y="260"/>
                </a:lnTo>
                <a:lnTo>
                  <a:pt x="8" y="268"/>
                </a:lnTo>
                <a:lnTo>
                  <a:pt x="0" y="277"/>
                </a:lnTo>
                <a:lnTo>
                  <a:pt x="0" y="293"/>
                </a:lnTo>
                <a:lnTo>
                  <a:pt x="8" y="327"/>
                </a:lnTo>
                <a:lnTo>
                  <a:pt x="30" y="344"/>
                </a:lnTo>
                <a:lnTo>
                  <a:pt x="68" y="369"/>
                </a:lnTo>
                <a:lnTo>
                  <a:pt x="122" y="377"/>
                </a:lnTo>
                <a:lnTo>
                  <a:pt x="175" y="369"/>
                </a:lnTo>
                <a:lnTo>
                  <a:pt x="221" y="344"/>
                </a:lnTo>
                <a:lnTo>
                  <a:pt x="259" y="310"/>
                </a:lnTo>
                <a:lnTo>
                  <a:pt x="267" y="268"/>
                </a:lnTo>
                <a:lnTo>
                  <a:pt x="259" y="226"/>
                </a:lnTo>
                <a:lnTo>
                  <a:pt x="245" y="193"/>
                </a:lnTo>
                <a:lnTo>
                  <a:pt x="213" y="184"/>
                </a:lnTo>
                <a:lnTo>
                  <a:pt x="168" y="167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32360" y="3903840"/>
            <a:ext cx="1151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fin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725400" y="2614680"/>
            <a:ext cx="461880" cy="574560"/>
            <a:chOff x="725400" y="2614680"/>
            <a:chExt cx="461880" cy="574560"/>
          </a:xfrm>
        </p:grpSpPr>
        <p:sp>
          <p:nvSpPr>
            <p:cNvPr id="1103" name=""/>
            <p:cNvSpPr/>
            <p:nvPr/>
          </p:nvSpPr>
          <p:spPr>
            <a:xfrm>
              <a:off x="725400" y="2614680"/>
              <a:ext cx="461880" cy="574560"/>
            </a:xfrm>
            <a:custGeom>
              <a:avLst/>
              <a:gdLst/>
              <a:ahLst/>
              <a:rect l="l" t="t" r="r" b="b"/>
              <a:pathLst>
                <a:path w="291" h="362">
                  <a:moveTo>
                    <a:pt x="115" y="361"/>
                  </a:moveTo>
                  <a:lnTo>
                    <a:pt x="260" y="361"/>
                  </a:lnTo>
                  <a:lnTo>
                    <a:pt x="260" y="344"/>
                  </a:lnTo>
                  <a:lnTo>
                    <a:pt x="237" y="335"/>
                  </a:lnTo>
                  <a:lnTo>
                    <a:pt x="221" y="335"/>
                  </a:lnTo>
                  <a:lnTo>
                    <a:pt x="214" y="328"/>
                  </a:lnTo>
                  <a:lnTo>
                    <a:pt x="207" y="311"/>
                  </a:lnTo>
                  <a:lnTo>
                    <a:pt x="207" y="261"/>
                  </a:lnTo>
                  <a:lnTo>
                    <a:pt x="275" y="261"/>
                  </a:lnTo>
                  <a:lnTo>
                    <a:pt x="290" y="235"/>
                  </a:lnTo>
                  <a:lnTo>
                    <a:pt x="207" y="235"/>
                  </a:lnTo>
                  <a:lnTo>
                    <a:pt x="207" y="0"/>
                  </a:lnTo>
                  <a:lnTo>
                    <a:pt x="169" y="0"/>
                  </a:lnTo>
                  <a:lnTo>
                    <a:pt x="130" y="59"/>
                  </a:lnTo>
                  <a:lnTo>
                    <a:pt x="84" y="118"/>
                  </a:lnTo>
                  <a:lnTo>
                    <a:pt x="38" y="185"/>
                  </a:lnTo>
                  <a:lnTo>
                    <a:pt x="0" y="244"/>
                  </a:lnTo>
                  <a:lnTo>
                    <a:pt x="8" y="261"/>
                  </a:lnTo>
                  <a:lnTo>
                    <a:pt x="161" y="261"/>
                  </a:lnTo>
                  <a:lnTo>
                    <a:pt x="161" y="311"/>
                  </a:lnTo>
                  <a:lnTo>
                    <a:pt x="161" y="328"/>
                  </a:lnTo>
                  <a:lnTo>
                    <a:pt x="153" y="335"/>
                  </a:lnTo>
                  <a:lnTo>
                    <a:pt x="137" y="335"/>
                  </a:lnTo>
                  <a:lnTo>
                    <a:pt x="115" y="344"/>
                  </a:lnTo>
                  <a:lnTo>
                    <a:pt x="115" y="36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25400" y="2614680"/>
              <a:ext cx="461880" cy="574560"/>
            </a:xfrm>
            <a:custGeom>
              <a:avLst/>
              <a:gdLst/>
              <a:ahLst/>
              <a:rect l="l" t="t" r="r" b="b"/>
              <a:pathLst>
                <a:path w="291" h="362">
                  <a:moveTo>
                    <a:pt x="115" y="361"/>
                  </a:moveTo>
                  <a:lnTo>
                    <a:pt x="260" y="361"/>
                  </a:lnTo>
                  <a:lnTo>
                    <a:pt x="260" y="344"/>
                  </a:lnTo>
                  <a:lnTo>
                    <a:pt x="237" y="335"/>
                  </a:lnTo>
                  <a:lnTo>
                    <a:pt x="221" y="335"/>
                  </a:lnTo>
                  <a:lnTo>
                    <a:pt x="214" y="328"/>
                  </a:lnTo>
                  <a:lnTo>
                    <a:pt x="207" y="311"/>
                  </a:lnTo>
                  <a:lnTo>
                    <a:pt x="207" y="261"/>
                  </a:lnTo>
                  <a:lnTo>
                    <a:pt x="275" y="261"/>
                  </a:lnTo>
                  <a:lnTo>
                    <a:pt x="290" y="235"/>
                  </a:lnTo>
                  <a:lnTo>
                    <a:pt x="207" y="235"/>
                  </a:lnTo>
                  <a:lnTo>
                    <a:pt x="207" y="0"/>
                  </a:lnTo>
                  <a:lnTo>
                    <a:pt x="169" y="0"/>
                  </a:lnTo>
                  <a:lnTo>
                    <a:pt x="130" y="59"/>
                  </a:lnTo>
                  <a:lnTo>
                    <a:pt x="84" y="118"/>
                  </a:lnTo>
                  <a:lnTo>
                    <a:pt x="38" y="185"/>
                  </a:lnTo>
                  <a:lnTo>
                    <a:pt x="0" y="244"/>
                  </a:lnTo>
                  <a:lnTo>
                    <a:pt x="8" y="261"/>
                  </a:lnTo>
                  <a:lnTo>
                    <a:pt x="161" y="261"/>
                  </a:lnTo>
                  <a:lnTo>
                    <a:pt x="161" y="311"/>
                  </a:lnTo>
                  <a:lnTo>
                    <a:pt x="161" y="328"/>
                  </a:lnTo>
                  <a:lnTo>
                    <a:pt x="153" y="335"/>
                  </a:lnTo>
                  <a:lnTo>
                    <a:pt x="137" y="335"/>
                  </a:lnTo>
                  <a:lnTo>
                    <a:pt x="115" y="344"/>
                  </a:lnTo>
                  <a:lnTo>
                    <a:pt x="115" y="36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87320" y="2682720"/>
              <a:ext cx="190440" cy="303480"/>
            </a:xfrm>
            <a:custGeom>
              <a:avLst/>
              <a:gdLst/>
              <a:ahLst/>
              <a:rect l="l" t="t" r="r" b="b"/>
              <a:pathLst>
                <a:path w="120" h="191">
                  <a:moveTo>
                    <a:pt x="119" y="190"/>
                  </a:moveTo>
                  <a:lnTo>
                    <a:pt x="0" y="190"/>
                  </a:lnTo>
                  <a:lnTo>
                    <a:pt x="22" y="148"/>
                  </a:lnTo>
                  <a:lnTo>
                    <a:pt x="52" y="99"/>
                  </a:lnTo>
                  <a:lnTo>
                    <a:pt x="82" y="66"/>
                  </a:lnTo>
                  <a:lnTo>
                    <a:pt x="104" y="33"/>
                  </a:lnTo>
                  <a:lnTo>
                    <a:pt x="119" y="0"/>
                  </a:lnTo>
                  <a:lnTo>
                    <a:pt x="119" y="19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87320" y="2682720"/>
              <a:ext cx="190440" cy="303480"/>
            </a:xfrm>
            <a:custGeom>
              <a:avLst/>
              <a:gdLst/>
              <a:ahLst/>
              <a:rect l="l" t="t" r="r" b="b"/>
              <a:pathLst>
                <a:path w="120" h="191">
                  <a:moveTo>
                    <a:pt x="119" y="190"/>
                  </a:moveTo>
                  <a:lnTo>
                    <a:pt x="0" y="190"/>
                  </a:lnTo>
                  <a:lnTo>
                    <a:pt x="22" y="148"/>
                  </a:lnTo>
                  <a:lnTo>
                    <a:pt x="52" y="99"/>
                  </a:lnTo>
                  <a:lnTo>
                    <a:pt x="82" y="66"/>
                  </a:lnTo>
                  <a:lnTo>
                    <a:pt x="104" y="33"/>
                  </a:lnTo>
                  <a:lnTo>
                    <a:pt x="119" y="0"/>
                  </a:lnTo>
                  <a:lnTo>
                    <a:pt x="119" y="19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231480" y="2725560"/>
            <a:ext cx="1512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renci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12800" y="1612800"/>
            <a:ext cx="425520" cy="614520"/>
          </a:xfrm>
          <a:custGeom>
            <a:avLst/>
            <a:gdLst/>
            <a:ahLst/>
            <a:rect l="l" t="t" r="r" b="b"/>
            <a:pathLst>
              <a:path w="268" h="387">
                <a:moveTo>
                  <a:pt x="46" y="168"/>
                </a:moveTo>
                <a:lnTo>
                  <a:pt x="54" y="152"/>
                </a:lnTo>
                <a:lnTo>
                  <a:pt x="54" y="126"/>
                </a:lnTo>
                <a:lnTo>
                  <a:pt x="54" y="109"/>
                </a:lnTo>
                <a:lnTo>
                  <a:pt x="54" y="93"/>
                </a:lnTo>
                <a:lnTo>
                  <a:pt x="54" y="59"/>
                </a:lnTo>
                <a:lnTo>
                  <a:pt x="221" y="59"/>
                </a:lnTo>
                <a:lnTo>
                  <a:pt x="229" y="0"/>
                </a:lnTo>
                <a:lnTo>
                  <a:pt x="214" y="0"/>
                </a:lnTo>
                <a:lnTo>
                  <a:pt x="206" y="9"/>
                </a:lnTo>
                <a:lnTo>
                  <a:pt x="199" y="17"/>
                </a:lnTo>
                <a:lnTo>
                  <a:pt x="183" y="17"/>
                </a:lnTo>
                <a:lnTo>
                  <a:pt x="168" y="17"/>
                </a:lnTo>
                <a:lnTo>
                  <a:pt x="30" y="17"/>
                </a:lnTo>
                <a:lnTo>
                  <a:pt x="30" y="85"/>
                </a:lnTo>
                <a:lnTo>
                  <a:pt x="30" y="109"/>
                </a:lnTo>
                <a:lnTo>
                  <a:pt x="23" y="152"/>
                </a:lnTo>
                <a:lnTo>
                  <a:pt x="23" y="176"/>
                </a:lnTo>
                <a:lnTo>
                  <a:pt x="23" y="210"/>
                </a:lnTo>
                <a:lnTo>
                  <a:pt x="38" y="219"/>
                </a:lnTo>
                <a:lnTo>
                  <a:pt x="54" y="193"/>
                </a:lnTo>
                <a:lnTo>
                  <a:pt x="76" y="176"/>
                </a:lnTo>
                <a:lnTo>
                  <a:pt x="100" y="168"/>
                </a:lnTo>
                <a:lnTo>
                  <a:pt x="122" y="160"/>
                </a:lnTo>
                <a:lnTo>
                  <a:pt x="160" y="168"/>
                </a:lnTo>
                <a:lnTo>
                  <a:pt x="176" y="193"/>
                </a:lnTo>
                <a:lnTo>
                  <a:pt x="199" y="226"/>
                </a:lnTo>
                <a:lnTo>
                  <a:pt x="206" y="261"/>
                </a:lnTo>
                <a:lnTo>
                  <a:pt x="199" y="302"/>
                </a:lnTo>
                <a:lnTo>
                  <a:pt x="176" y="336"/>
                </a:lnTo>
                <a:lnTo>
                  <a:pt x="153" y="361"/>
                </a:lnTo>
                <a:lnTo>
                  <a:pt x="114" y="369"/>
                </a:lnTo>
                <a:lnTo>
                  <a:pt x="92" y="361"/>
                </a:lnTo>
                <a:lnTo>
                  <a:pt x="68" y="353"/>
                </a:lnTo>
                <a:lnTo>
                  <a:pt x="62" y="345"/>
                </a:lnTo>
                <a:lnTo>
                  <a:pt x="54" y="328"/>
                </a:lnTo>
                <a:lnTo>
                  <a:pt x="54" y="319"/>
                </a:lnTo>
                <a:lnTo>
                  <a:pt x="62" y="311"/>
                </a:lnTo>
                <a:lnTo>
                  <a:pt x="62" y="302"/>
                </a:lnTo>
                <a:lnTo>
                  <a:pt x="54" y="294"/>
                </a:lnTo>
                <a:lnTo>
                  <a:pt x="54" y="286"/>
                </a:lnTo>
                <a:lnTo>
                  <a:pt x="38" y="278"/>
                </a:lnTo>
                <a:lnTo>
                  <a:pt x="30" y="278"/>
                </a:lnTo>
                <a:lnTo>
                  <a:pt x="23" y="278"/>
                </a:lnTo>
                <a:lnTo>
                  <a:pt x="8" y="286"/>
                </a:lnTo>
                <a:lnTo>
                  <a:pt x="8" y="302"/>
                </a:lnTo>
                <a:lnTo>
                  <a:pt x="0" y="311"/>
                </a:lnTo>
                <a:lnTo>
                  <a:pt x="8" y="336"/>
                </a:lnTo>
                <a:lnTo>
                  <a:pt x="30" y="369"/>
                </a:lnTo>
                <a:lnTo>
                  <a:pt x="68" y="378"/>
                </a:lnTo>
                <a:lnTo>
                  <a:pt x="122" y="386"/>
                </a:lnTo>
                <a:lnTo>
                  <a:pt x="176" y="378"/>
                </a:lnTo>
                <a:lnTo>
                  <a:pt x="221" y="353"/>
                </a:lnTo>
                <a:lnTo>
                  <a:pt x="259" y="302"/>
                </a:lnTo>
                <a:lnTo>
                  <a:pt x="267" y="252"/>
                </a:lnTo>
                <a:lnTo>
                  <a:pt x="259" y="210"/>
                </a:lnTo>
                <a:lnTo>
                  <a:pt x="229" y="168"/>
                </a:lnTo>
                <a:lnTo>
                  <a:pt x="183" y="152"/>
                </a:lnTo>
                <a:lnTo>
                  <a:pt x="145" y="135"/>
                </a:lnTo>
                <a:lnTo>
                  <a:pt x="114" y="143"/>
                </a:lnTo>
                <a:lnTo>
                  <a:pt x="92" y="143"/>
                </a:lnTo>
                <a:lnTo>
                  <a:pt x="68" y="160"/>
                </a:lnTo>
                <a:lnTo>
                  <a:pt x="46" y="168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12800" y="1612800"/>
            <a:ext cx="425520" cy="614520"/>
          </a:xfrm>
          <a:custGeom>
            <a:avLst/>
            <a:gdLst/>
            <a:ahLst/>
            <a:rect l="l" t="t" r="r" b="b"/>
            <a:pathLst>
              <a:path w="268" h="387">
                <a:moveTo>
                  <a:pt x="46" y="168"/>
                </a:moveTo>
                <a:lnTo>
                  <a:pt x="54" y="152"/>
                </a:lnTo>
                <a:lnTo>
                  <a:pt x="54" y="126"/>
                </a:lnTo>
                <a:lnTo>
                  <a:pt x="54" y="109"/>
                </a:lnTo>
                <a:lnTo>
                  <a:pt x="54" y="93"/>
                </a:lnTo>
                <a:lnTo>
                  <a:pt x="54" y="59"/>
                </a:lnTo>
                <a:lnTo>
                  <a:pt x="221" y="59"/>
                </a:lnTo>
                <a:lnTo>
                  <a:pt x="229" y="0"/>
                </a:lnTo>
                <a:lnTo>
                  <a:pt x="214" y="0"/>
                </a:lnTo>
                <a:lnTo>
                  <a:pt x="206" y="9"/>
                </a:lnTo>
                <a:lnTo>
                  <a:pt x="199" y="17"/>
                </a:lnTo>
                <a:lnTo>
                  <a:pt x="183" y="17"/>
                </a:lnTo>
                <a:lnTo>
                  <a:pt x="168" y="17"/>
                </a:lnTo>
                <a:lnTo>
                  <a:pt x="30" y="17"/>
                </a:lnTo>
                <a:lnTo>
                  <a:pt x="30" y="85"/>
                </a:lnTo>
                <a:lnTo>
                  <a:pt x="30" y="109"/>
                </a:lnTo>
                <a:lnTo>
                  <a:pt x="23" y="152"/>
                </a:lnTo>
                <a:lnTo>
                  <a:pt x="23" y="176"/>
                </a:lnTo>
                <a:lnTo>
                  <a:pt x="23" y="210"/>
                </a:lnTo>
                <a:lnTo>
                  <a:pt x="38" y="219"/>
                </a:lnTo>
                <a:lnTo>
                  <a:pt x="54" y="193"/>
                </a:lnTo>
                <a:lnTo>
                  <a:pt x="76" y="176"/>
                </a:lnTo>
                <a:lnTo>
                  <a:pt x="100" y="168"/>
                </a:lnTo>
                <a:lnTo>
                  <a:pt x="122" y="160"/>
                </a:lnTo>
                <a:lnTo>
                  <a:pt x="160" y="168"/>
                </a:lnTo>
                <a:lnTo>
                  <a:pt x="176" y="193"/>
                </a:lnTo>
                <a:lnTo>
                  <a:pt x="199" y="226"/>
                </a:lnTo>
                <a:lnTo>
                  <a:pt x="206" y="261"/>
                </a:lnTo>
                <a:lnTo>
                  <a:pt x="199" y="302"/>
                </a:lnTo>
                <a:lnTo>
                  <a:pt x="176" y="336"/>
                </a:lnTo>
                <a:lnTo>
                  <a:pt x="153" y="361"/>
                </a:lnTo>
                <a:lnTo>
                  <a:pt x="114" y="369"/>
                </a:lnTo>
                <a:lnTo>
                  <a:pt x="92" y="361"/>
                </a:lnTo>
                <a:lnTo>
                  <a:pt x="68" y="353"/>
                </a:lnTo>
                <a:lnTo>
                  <a:pt x="62" y="345"/>
                </a:lnTo>
                <a:lnTo>
                  <a:pt x="54" y="328"/>
                </a:lnTo>
                <a:lnTo>
                  <a:pt x="54" y="319"/>
                </a:lnTo>
                <a:lnTo>
                  <a:pt x="62" y="311"/>
                </a:lnTo>
                <a:lnTo>
                  <a:pt x="62" y="302"/>
                </a:lnTo>
                <a:lnTo>
                  <a:pt x="54" y="294"/>
                </a:lnTo>
                <a:lnTo>
                  <a:pt x="54" y="286"/>
                </a:lnTo>
                <a:lnTo>
                  <a:pt x="38" y="278"/>
                </a:lnTo>
                <a:lnTo>
                  <a:pt x="30" y="278"/>
                </a:lnTo>
                <a:lnTo>
                  <a:pt x="23" y="278"/>
                </a:lnTo>
                <a:lnTo>
                  <a:pt x="8" y="286"/>
                </a:lnTo>
                <a:lnTo>
                  <a:pt x="8" y="302"/>
                </a:lnTo>
                <a:lnTo>
                  <a:pt x="0" y="311"/>
                </a:lnTo>
                <a:lnTo>
                  <a:pt x="8" y="336"/>
                </a:lnTo>
                <a:lnTo>
                  <a:pt x="30" y="369"/>
                </a:lnTo>
                <a:lnTo>
                  <a:pt x="68" y="378"/>
                </a:lnTo>
                <a:lnTo>
                  <a:pt x="122" y="386"/>
                </a:lnTo>
                <a:lnTo>
                  <a:pt x="176" y="378"/>
                </a:lnTo>
                <a:lnTo>
                  <a:pt x="221" y="353"/>
                </a:lnTo>
                <a:lnTo>
                  <a:pt x="259" y="302"/>
                </a:lnTo>
                <a:lnTo>
                  <a:pt x="267" y="252"/>
                </a:lnTo>
                <a:lnTo>
                  <a:pt x="259" y="210"/>
                </a:lnTo>
                <a:lnTo>
                  <a:pt x="229" y="168"/>
                </a:lnTo>
                <a:lnTo>
                  <a:pt x="183" y="152"/>
                </a:lnTo>
                <a:lnTo>
                  <a:pt x="145" y="135"/>
                </a:lnTo>
                <a:lnTo>
                  <a:pt x="114" y="143"/>
                </a:lnTo>
                <a:lnTo>
                  <a:pt x="92" y="143"/>
                </a:lnTo>
                <a:lnTo>
                  <a:pt x="68" y="160"/>
                </a:lnTo>
                <a:lnTo>
                  <a:pt x="46" y="168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60280" y="1736640"/>
            <a:ext cx="14713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timiz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30120" y="2384280"/>
            <a:ext cx="8353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0120" y="3522600"/>
            <a:ext cx="8353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0120" y="4659480"/>
            <a:ext cx="8353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30120" y="5688000"/>
            <a:ext cx="8353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654200" y="1017720"/>
            <a:ext cx="0" cy="5454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62120" y="5749920"/>
            <a:ext cx="2382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 gerenciamento 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oftware é uma caix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e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60680" y="6068880"/>
            <a:ext cx="1377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19280" y="4630680"/>
            <a:ext cx="30560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m sistema de gerenciamento de projet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xiste. Pobre em visibilidade do process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660680" y="5027760"/>
            <a:ext cx="29732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60680" y="5270400"/>
            <a:ext cx="26510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692360" y="3500280"/>
            <a:ext cx="29113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renciamento é fei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 acordo com um process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em definid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60680" y="3862440"/>
            <a:ext cx="3066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59960" y="2519280"/>
            <a:ext cx="2468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to e process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ão quantitativam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rencia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660680" y="2914560"/>
            <a:ext cx="28652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672920" y="1452600"/>
            <a:ext cx="2359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co gerencial 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elhoria contínua 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cess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673280" y="1697040"/>
            <a:ext cx="25430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673280" y="1940040"/>
            <a:ext cx="17668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513320" y="1017720"/>
            <a:ext cx="0" cy="5454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20280" y="1047600"/>
            <a:ext cx="7610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N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676880" y="1033560"/>
            <a:ext cx="2824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Caract. Gerenci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436360" y="1033560"/>
            <a:ext cx="19940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Visão Gerenc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84840" y="1469880"/>
            <a:ext cx="534960" cy="195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402680" y="1469880"/>
            <a:ext cx="534960" cy="195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68480" y="1486080"/>
            <a:ext cx="33120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209800" y="1486080"/>
            <a:ext cx="46836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6665760" y="1492200"/>
            <a:ext cx="570240" cy="154080"/>
            <a:chOff x="6665760" y="1492200"/>
            <a:chExt cx="570240" cy="154080"/>
          </a:xfrm>
        </p:grpSpPr>
        <p:sp>
          <p:nvSpPr>
            <p:cNvPr id="1137" name=""/>
            <p:cNvSpPr/>
            <p:nvPr/>
          </p:nvSpPr>
          <p:spPr>
            <a:xfrm>
              <a:off x="6789600" y="1492200"/>
              <a:ext cx="115920" cy="4608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0"/>
                  </a:moveTo>
                  <a:lnTo>
                    <a:pt x="72" y="0"/>
                  </a:lnTo>
                  <a:lnTo>
                    <a:pt x="72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65760" y="1519200"/>
              <a:ext cx="123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40360" y="1531800"/>
              <a:ext cx="0" cy="54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902280" y="1531800"/>
              <a:ext cx="13500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086600" y="1531800"/>
              <a:ext cx="0" cy="8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765840" y="1585800"/>
              <a:ext cx="128520" cy="4608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0"/>
                  </a:moveTo>
                  <a:lnTo>
                    <a:pt x="80" y="0"/>
                  </a:lnTo>
                  <a:lnTo>
                    <a:pt x="80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013520" y="1504800"/>
              <a:ext cx="115920" cy="4608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0"/>
                  </a:moveTo>
                  <a:lnTo>
                    <a:pt x="72" y="0"/>
                  </a:lnTo>
                  <a:lnTo>
                    <a:pt x="72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037280" y="1600200"/>
              <a:ext cx="115920" cy="4608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0"/>
                  </a:moveTo>
                  <a:lnTo>
                    <a:pt x="72" y="0"/>
                  </a:lnTo>
                  <a:lnTo>
                    <a:pt x="72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124760" y="1531800"/>
              <a:ext cx="11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7396200" y="1492200"/>
            <a:ext cx="557280" cy="154080"/>
            <a:chOff x="7396200" y="1492200"/>
            <a:chExt cx="557280" cy="154080"/>
          </a:xfrm>
        </p:grpSpPr>
        <p:sp>
          <p:nvSpPr>
            <p:cNvPr id="1147" name=""/>
            <p:cNvSpPr/>
            <p:nvPr/>
          </p:nvSpPr>
          <p:spPr>
            <a:xfrm>
              <a:off x="7520040" y="1492200"/>
              <a:ext cx="115920" cy="4608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0"/>
                  </a:moveTo>
                  <a:lnTo>
                    <a:pt x="72" y="0"/>
                  </a:lnTo>
                  <a:lnTo>
                    <a:pt x="72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96200" y="1519200"/>
              <a:ext cx="136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558200" y="1531800"/>
              <a:ext cx="0" cy="54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32720" y="1531800"/>
              <a:ext cx="13500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816680" y="1531800"/>
              <a:ext cx="0" cy="8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508880" y="1585800"/>
              <a:ext cx="115920" cy="4608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0"/>
                  </a:moveTo>
                  <a:lnTo>
                    <a:pt x="72" y="0"/>
                  </a:lnTo>
                  <a:lnTo>
                    <a:pt x="72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31000" y="1504800"/>
              <a:ext cx="128880" cy="4608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0"/>
                  </a:moveTo>
                  <a:lnTo>
                    <a:pt x="80" y="0"/>
                  </a:lnTo>
                  <a:lnTo>
                    <a:pt x="80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754760" y="1600200"/>
              <a:ext cx="128880" cy="4608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0"/>
                  </a:moveTo>
                  <a:lnTo>
                    <a:pt x="80" y="0"/>
                  </a:lnTo>
                  <a:lnTo>
                    <a:pt x="80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67800" y="1531800"/>
              <a:ext cx="85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6846840" y="1809720"/>
            <a:ext cx="76320" cy="44640"/>
            <a:chOff x="6846840" y="1809720"/>
            <a:chExt cx="76320" cy="44640"/>
          </a:xfrm>
        </p:grpSpPr>
        <p:sp>
          <p:nvSpPr>
            <p:cNvPr id="1157" name=""/>
            <p:cNvSpPr/>
            <p:nvPr/>
          </p:nvSpPr>
          <p:spPr>
            <a:xfrm>
              <a:off x="6846840" y="1809720"/>
              <a:ext cx="7632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6877080" y="1817280"/>
              <a:ext cx="252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7564320" y="1809720"/>
            <a:ext cx="88920" cy="44640"/>
            <a:chOff x="7564320" y="1809720"/>
            <a:chExt cx="88920" cy="44640"/>
          </a:xfrm>
        </p:grpSpPr>
        <p:sp>
          <p:nvSpPr>
            <p:cNvPr id="1160" name=""/>
            <p:cNvSpPr/>
            <p:nvPr/>
          </p:nvSpPr>
          <p:spPr>
            <a:xfrm>
              <a:off x="7564320" y="1809720"/>
              <a:ext cx="8892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594560" y="1817280"/>
              <a:ext cx="38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7799400" y="1809720"/>
            <a:ext cx="88920" cy="44640"/>
            <a:chOff x="7799400" y="1809720"/>
            <a:chExt cx="88920" cy="44640"/>
          </a:xfrm>
        </p:grpSpPr>
        <p:sp>
          <p:nvSpPr>
            <p:cNvPr id="1163" name=""/>
            <p:cNvSpPr/>
            <p:nvPr/>
          </p:nvSpPr>
          <p:spPr>
            <a:xfrm>
              <a:off x="7799400" y="1809720"/>
              <a:ext cx="8892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7829640" y="1817280"/>
              <a:ext cx="38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7223040" y="1546200"/>
            <a:ext cx="174600" cy="41400"/>
            <a:chOff x="7223040" y="1546200"/>
            <a:chExt cx="174600" cy="41400"/>
          </a:xfrm>
        </p:grpSpPr>
        <p:sp>
          <p:nvSpPr>
            <p:cNvPr id="1166" name=""/>
            <p:cNvSpPr/>
            <p:nvPr/>
          </p:nvSpPr>
          <p:spPr>
            <a:xfrm>
              <a:off x="7334280" y="1546200"/>
              <a:ext cx="6336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39" y="8"/>
                  </a:moveTo>
                  <a:lnTo>
                    <a:pt x="16" y="17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223040" y="155880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7953480" y="1546200"/>
            <a:ext cx="163440" cy="41400"/>
            <a:chOff x="7953480" y="1546200"/>
            <a:chExt cx="163440" cy="41400"/>
          </a:xfrm>
        </p:grpSpPr>
        <p:sp>
          <p:nvSpPr>
            <p:cNvPr id="1169" name=""/>
            <p:cNvSpPr/>
            <p:nvPr/>
          </p:nvSpPr>
          <p:spPr>
            <a:xfrm>
              <a:off x="8053560" y="1546200"/>
              <a:ext cx="6336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39" y="8"/>
                  </a:moveTo>
                  <a:lnTo>
                    <a:pt x="23" y="17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953480" y="1558800"/>
              <a:ext cx="11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5076720" y="2060640"/>
            <a:ext cx="3022560" cy="268200"/>
            <a:chOff x="5076720" y="2060640"/>
            <a:chExt cx="3022560" cy="268200"/>
          </a:xfrm>
        </p:grpSpPr>
        <p:sp>
          <p:nvSpPr>
            <p:cNvPr id="1172" name=""/>
            <p:cNvSpPr/>
            <p:nvPr/>
          </p:nvSpPr>
          <p:spPr>
            <a:xfrm>
              <a:off x="5205240" y="2276640"/>
              <a:ext cx="28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5076720" y="2060640"/>
              <a:ext cx="150840" cy="268200"/>
              <a:chOff x="5076720" y="2060640"/>
              <a:chExt cx="150840" cy="268200"/>
            </a:xfrm>
          </p:grpSpPr>
          <p:grpSp>
            <p:nvGrpSpPr>
              <p:cNvPr id="1174" name=""/>
              <p:cNvGrpSpPr/>
              <p:nvPr/>
            </p:nvGrpSpPr>
            <p:grpSpPr>
              <a:xfrm>
                <a:off x="5076720" y="2241720"/>
                <a:ext cx="150840" cy="87120"/>
                <a:chOff x="5076720" y="2241720"/>
                <a:chExt cx="150840" cy="8712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5076720" y="2241720"/>
                  <a:ext cx="15084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flipV="1">
                  <a:off x="5132520" y="2250720"/>
                  <a:ext cx="48960" cy="2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7" name=""/>
              <p:cNvGrpSpPr/>
              <p:nvPr/>
            </p:nvGrpSpPr>
            <p:grpSpPr>
              <a:xfrm>
                <a:off x="5119560" y="2060640"/>
                <a:ext cx="50760" cy="147240"/>
                <a:chOff x="5119560" y="2060640"/>
                <a:chExt cx="50760" cy="14724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5119560" y="206064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5" y="0"/>
                      </a:moveTo>
                      <a:lnTo>
                        <a:pt x="23" y="17"/>
                      </a:lnTo>
                      <a:lnTo>
                        <a:pt x="31" y="25"/>
                      </a:lnTo>
                      <a:lnTo>
                        <a:pt x="23" y="25"/>
                      </a:lnTo>
                      <a:lnTo>
                        <a:pt x="15" y="25"/>
                      </a:lnTo>
                      <a:lnTo>
                        <a:pt x="8" y="25"/>
                      </a:lnTo>
                      <a:lnTo>
                        <a:pt x="0" y="25"/>
                      </a:lnTo>
                      <a:lnTo>
                        <a:pt x="8" y="17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flipV="1">
                  <a:off x="5143680" y="2087280"/>
                  <a:ext cx="0" cy="12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0" name=""/>
            <p:cNvGrpSpPr/>
            <p:nvPr/>
          </p:nvGrpSpPr>
          <p:grpSpPr>
            <a:xfrm>
              <a:off x="6512040" y="2060640"/>
              <a:ext cx="150840" cy="268200"/>
              <a:chOff x="6512040" y="2060640"/>
              <a:chExt cx="150840" cy="26820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6512040" y="2241720"/>
                <a:ext cx="150840" cy="87120"/>
                <a:chOff x="6512040" y="2241720"/>
                <a:chExt cx="150840" cy="8712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6512040" y="2241720"/>
                  <a:ext cx="15084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V="1">
                  <a:off x="6567480" y="2249280"/>
                  <a:ext cx="4932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6567480" y="2060640"/>
                <a:ext cx="27000" cy="147240"/>
                <a:chOff x="6567480" y="2060640"/>
                <a:chExt cx="27000" cy="14724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6567480" y="2060640"/>
                  <a:ext cx="27000" cy="4104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16" y="17"/>
                      </a:lnTo>
                      <a:lnTo>
                        <a:pt x="16" y="25"/>
                      </a:lnTo>
                      <a:lnTo>
                        <a:pt x="8" y="25"/>
                      </a:ln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flipV="1">
                  <a:off x="6580080" y="2087280"/>
                  <a:ext cx="0" cy="12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7" name=""/>
            <p:cNvGrpSpPr/>
            <p:nvPr/>
          </p:nvGrpSpPr>
          <p:grpSpPr>
            <a:xfrm>
              <a:off x="7229520" y="2060640"/>
              <a:ext cx="163440" cy="268200"/>
              <a:chOff x="7229520" y="2060640"/>
              <a:chExt cx="163440" cy="268200"/>
            </a:xfrm>
          </p:grpSpPr>
          <p:grpSp>
            <p:nvGrpSpPr>
              <p:cNvPr id="1188" name=""/>
              <p:cNvGrpSpPr/>
              <p:nvPr/>
            </p:nvGrpSpPr>
            <p:grpSpPr>
              <a:xfrm>
                <a:off x="7229520" y="2241720"/>
                <a:ext cx="163440" cy="87120"/>
                <a:chOff x="7229520" y="2241720"/>
                <a:chExt cx="163440" cy="8712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7229520" y="2241720"/>
                  <a:ext cx="16344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V="1">
                  <a:off x="7297560" y="2249280"/>
                  <a:ext cx="4932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284960" y="2060640"/>
                <a:ext cx="39600" cy="147240"/>
                <a:chOff x="7284960" y="2060640"/>
                <a:chExt cx="39600" cy="14724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7284960" y="2060640"/>
                  <a:ext cx="39600" cy="41040"/>
                </a:xfrm>
                <a:custGeom>
                  <a:avLst/>
                  <a:gdLst/>
                  <a:ahLst/>
                  <a:rect l="l" t="t" r="r" b="b"/>
                  <a:pathLst>
                    <a:path w="25" h="26">
                      <a:moveTo>
                        <a:pt x="16" y="0"/>
                      </a:moveTo>
                      <a:lnTo>
                        <a:pt x="16" y="17"/>
                      </a:lnTo>
                      <a:lnTo>
                        <a:pt x="24" y="25"/>
                      </a:lnTo>
                      <a:lnTo>
                        <a:pt x="16" y="25"/>
                      </a:lnTo>
                      <a:lnTo>
                        <a:pt x="8" y="25"/>
                      </a:lnTo>
                      <a:lnTo>
                        <a:pt x="0" y="25"/>
                      </a:lnTo>
                      <a:lnTo>
                        <a:pt x="8" y="17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V="1">
                  <a:off x="7310520" y="2087280"/>
                  <a:ext cx="0" cy="12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4" name=""/>
            <p:cNvGrpSpPr/>
            <p:nvPr/>
          </p:nvGrpSpPr>
          <p:grpSpPr>
            <a:xfrm>
              <a:off x="7947000" y="2060640"/>
              <a:ext cx="152280" cy="268200"/>
              <a:chOff x="7947000" y="2060640"/>
              <a:chExt cx="152280" cy="268200"/>
            </a:xfrm>
          </p:grpSpPr>
          <p:grpSp>
            <p:nvGrpSpPr>
              <p:cNvPr id="1195" name=""/>
              <p:cNvGrpSpPr/>
              <p:nvPr/>
            </p:nvGrpSpPr>
            <p:grpSpPr>
              <a:xfrm>
                <a:off x="7947000" y="2241720"/>
                <a:ext cx="152280" cy="87120"/>
                <a:chOff x="7947000" y="2241720"/>
                <a:chExt cx="152280" cy="8712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7947000" y="2241720"/>
                  <a:ext cx="15228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flipV="1">
                  <a:off x="8016840" y="2250720"/>
                  <a:ext cx="36720" cy="2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8002440" y="2060640"/>
                <a:ext cx="52560" cy="147240"/>
                <a:chOff x="8002440" y="2060640"/>
                <a:chExt cx="52560" cy="1472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8002440" y="206064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6" y="0"/>
                      </a:moveTo>
                      <a:lnTo>
                        <a:pt x="24" y="17"/>
                      </a:lnTo>
                      <a:lnTo>
                        <a:pt x="32" y="25"/>
                      </a:lnTo>
                      <a:lnTo>
                        <a:pt x="24" y="25"/>
                      </a:lnTo>
                      <a:lnTo>
                        <a:pt x="16" y="25"/>
                      </a:lnTo>
                      <a:lnTo>
                        <a:pt x="8" y="25"/>
                      </a:lnTo>
                      <a:lnTo>
                        <a:pt x="0" y="25"/>
                      </a:lnTo>
                      <a:lnTo>
                        <a:pt x="8" y="17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V="1">
                  <a:off x="8028000" y="2087280"/>
                  <a:ext cx="0" cy="12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01" name=""/>
          <p:cNvGrpSpPr/>
          <p:nvPr/>
        </p:nvGrpSpPr>
        <p:grpSpPr>
          <a:xfrm>
            <a:off x="5230800" y="1463760"/>
            <a:ext cx="1266840" cy="390600"/>
            <a:chOff x="5230800" y="1463760"/>
            <a:chExt cx="1266840" cy="390600"/>
          </a:xfrm>
        </p:grpSpPr>
        <p:grpSp>
          <p:nvGrpSpPr>
            <p:cNvPr id="1202" name=""/>
            <p:cNvGrpSpPr/>
            <p:nvPr/>
          </p:nvGrpSpPr>
          <p:grpSpPr>
            <a:xfrm>
              <a:off x="5397480" y="1809720"/>
              <a:ext cx="77760" cy="44640"/>
              <a:chOff x="5397480" y="1809720"/>
              <a:chExt cx="77760" cy="44640"/>
            </a:xfrm>
          </p:grpSpPr>
          <p:sp>
            <p:nvSpPr>
              <p:cNvPr id="1203" name=""/>
              <p:cNvSpPr/>
              <p:nvPr/>
            </p:nvSpPr>
            <p:spPr>
              <a:xfrm>
                <a:off x="5397480" y="1809720"/>
                <a:ext cx="77760" cy="4464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416560" y="181620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0" y="8"/>
                    </a:moveTo>
                    <a:lnTo>
                      <a:pt x="19" y="0"/>
                    </a:lnTo>
                    <a:lnTo>
                      <a:pt x="25" y="0"/>
                    </a:lnTo>
                    <a:lnTo>
                      <a:pt x="25" y="8"/>
                    </a:lnTo>
                    <a:lnTo>
                      <a:pt x="6" y="16"/>
                    </a:lnTo>
                    <a:lnTo>
                      <a:pt x="0" y="16"/>
                    </a:lnTo>
                    <a:lnTo>
                      <a:pt x="0" y="8"/>
                    </a:lnTo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5230800" y="1463760"/>
              <a:ext cx="1266840" cy="390600"/>
              <a:chOff x="5230800" y="1463760"/>
              <a:chExt cx="1266840" cy="390600"/>
            </a:xfrm>
          </p:grpSpPr>
          <p:grpSp>
            <p:nvGrpSpPr>
              <p:cNvPr id="1206" name=""/>
              <p:cNvGrpSpPr/>
              <p:nvPr/>
            </p:nvGrpSpPr>
            <p:grpSpPr>
              <a:xfrm>
                <a:off x="5367240" y="1666800"/>
                <a:ext cx="138240" cy="168480"/>
                <a:chOff x="5367240" y="1666800"/>
                <a:chExt cx="138240" cy="168480"/>
              </a:xfrm>
            </p:grpSpPr>
            <p:grpSp>
              <p:nvGrpSpPr>
                <p:cNvPr id="1207" name=""/>
                <p:cNvGrpSpPr/>
                <p:nvPr/>
              </p:nvGrpSpPr>
              <p:grpSpPr>
                <a:xfrm>
                  <a:off x="5367240" y="1666800"/>
                  <a:ext cx="50760" cy="165240"/>
                  <a:chOff x="5367240" y="1666800"/>
                  <a:chExt cx="50760" cy="165240"/>
                </a:xfrm>
              </p:grpSpPr>
              <p:sp>
                <p:nvSpPr>
                  <p:cNvPr id="1208" name=""/>
                  <p:cNvSpPr/>
                  <p:nvPr/>
                </p:nvSpPr>
                <p:spPr>
                  <a:xfrm>
                    <a:off x="5367240" y="1776240"/>
                    <a:ext cx="381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5">
                        <a:moveTo>
                          <a:pt x="15" y="34"/>
                        </a:moveTo>
                        <a:lnTo>
                          <a:pt x="8" y="17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lnTo>
                          <a:pt x="23" y="17"/>
                        </a:lnTo>
                        <a:lnTo>
                          <a:pt x="15" y="34"/>
                        </a:lnTo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5391000" y="1666800"/>
                    <a:ext cx="270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2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0" name=""/>
                <p:cNvGrpSpPr/>
                <p:nvPr/>
              </p:nvGrpSpPr>
              <p:grpSpPr>
                <a:xfrm>
                  <a:off x="5465880" y="1666800"/>
                  <a:ext cx="39600" cy="168480"/>
                  <a:chOff x="5465880" y="1666800"/>
                  <a:chExt cx="39600" cy="168480"/>
                </a:xfrm>
              </p:grpSpPr>
              <p:sp>
                <p:nvSpPr>
                  <p:cNvPr id="1211" name=""/>
                  <p:cNvSpPr/>
                  <p:nvPr/>
                </p:nvSpPr>
                <p:spPr>
                  <a:xfrm>
                    <a:off x="5465880" y="1666800"/>
                    <a:ext cx="39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5">
                        <a:moveTo>
                          <a:pt x="8" y="0"/>
                        </a:moveTo>
                        <a:lnTo>
                          <a:pt x="16" y="17"/>
                        </a:lnTo>
                        <a:lnTo>
                          <a:pt x="24" y="34"/>
                        </a:lnTo>
                        <a:lnTo>
                          <a:pt x="16" y="34"/>
                        </a:lnTo>
                        <a:lnTo>
                          <a:pt x="8" y="34"/>
                        </a:lnTo>
                        <a:lnTo>
                          <a:pt x="0" y="34"/>
                        </a:lnTo>
                        <a:lnTo>
                          <a:pt x="8" y="17"/>
                        </a:lnTo>
                        <a:lnTo>
                          <a:pt x="8" y="0"/>
                        </a:lnTo>
                      </a:path>
                    </a:pathLst>
                  </a:custGeom>
                  <a:blipFill rotWithShape="0">
                    <a:blip r:embed="rId16"/>
                    <a:srcRect/>
                    <a:tile tx="0" ty="0" sx="100000" sy="100000" algn="ctr"/>
                  </a:blipFill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5478480" y="1708200"/>
                    <a:ext cx="270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0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9"/>
                        </a:lnTo>
                        <a:lnTo>
                          <a:pt x="0" y="79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1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3" name=""/>
              <p:cNvSpPr/>
              <p:nvPr/>
            </p:nvSpPr>
            <p:spPr>
              <a:xfrm>
                <a:off x="5230800" y="1463760"/>
                <a:ext cx="536760" cy="209520"/>
              </a:xfrm>
              <a:custGeom>
                <a:avLst/>
                <a:gdLst/>
                <a:ahLst/>
                <a:rect l="l" t="t" r="r" b="b"/>
                <a:pathLst>
                  <a:path w="338" h="132">
                    <a:moveTo>
                      <a:pt x="0" y="0"/>
                    </a:moveTo>
                    <a:lnTo>
                      <a:pt x="337" y="0"/>
                    </a:lnTo>
                    <a:lnTo>
                      <a:pt x="337" y="131"/>
                    </a:lnTo>
                    <a:lnTo>
                      <a:pt x="0" y="131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230800" y="1463760"/>
                <a:ext cx="536760" cy="209520"/>
              </a:xfrm>
              <a:custGeom>
                <a:avLst/>
                <a:gdLst/>
                <a:ahLst/>
                <a:rect l="l" t="t" r="r" b="b"/>
                <a:pathLst>
                  <a:path w="338" h="132">
                    <a:moveTo>
                      <a:pt x="0" y="0"/>
                    </a:moveTo>
                    <a:lnTo>
                      <a:pt x="337" y="0"/>
                    </a:lnTo>
                    <a:lnTo>
                      <a:pt x="337" y="131"/>
                    </a:lnTo>
                    <a:lnTo>
                      <a:pt x="0" y="131"/>
                    </a:lnTo>
                    <a:lnTo>
                      <a:pt x="0" y="0"/>
                    </a:lnTo>
                    <a:lnTo>
                      <a:pt x="8" y="9"/>
                    </a:lnTo>
                    <a:lnTo>
                      <a:pt x="329" y="9"/>
                    </a:lnTo>
                    <a:lnTo>
                      <a:pt x="329" y="122"/>
                    </a:lnTo>
                    <a:lnTo>
                      <a:pt x="8" y="122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948280" y="1463760"/>
                <a:ext cx="549360" cy="209520"/>
              </a:xfrm>
              <a:custGeom>
                <a:avLst/>
                <a:gdLst/>
                <a:ahLst/>
                <a:rect l="l" t="t" r="r" b="b"/>
                <a:pathLst>
                  <a:path w="346" h="132">
                    <a:moveTo>
                      <a:pt x="0" y="0"/>
                    </a:moveTo>
                    <a:lnTo>
                      <a:pt x="345" y="0"/>
                    </a:lnTo>
                    <a:lnTo>
                      <a:pt x="345" y="131"/>
                    </a:lnTo>
                    <a:lnTo>
                      <a:pt x="0" y="131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948280" y="1463760"/>
                <a:ext cx="549360" cy="209520"/>
              </a:xfrm>
              <a:custGeom>
                <a:avLst/>
                <a:gdLst/>
                <a:ahLst/>
                <a:rect l="l" t="t" r="r" b="b"/>
                <a:pathLst>
                  <a:path w="346" h="132">
                    <a:moveTo>
                      <a:pt x="0" y="0"/>
                    </a:moveTo>
                    <a:lnTo>
                      <a:pt x="345" y="0"/>
                    </a:lnTo>
                    <a:lnTo>
                      <a:pt x="345" y="131"/>
                    </a:lnTo>
                    <a:lnTo>
                      <a:pt x="0" y="131"/>
                    </a:lnTo>
                    <a:lnTo>
                      <a:pt x="0" y="0"/>
                    </a:lnTo>
                    <a:lnTo>
                      <a:pt x="8" y="9"/>
                    </a:lnTo>
                    <a:lnTo>
                      <a:pt x="337" y="9"/>
                    </a:lnTo>
                    <a:lnTo>
                      <a:pt x="337" y="122"/>
                    </a:lnTo>
                    <a:lnTo>
                      <a:pt x="8" y="122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7" name=""/>
              <p:cNvGrpSpPr/>
              <p:nvPr/>
            </p:nvGrpSpPr>
            <p:grpSpPr>
              <a:xfrm>
                <a:off x="5230800" y="1492200"/>
                <a:ext cx="536760" cy="154080"/>
                <a:chOff x="5230800" y="1492200"/>
                <a:chExt cx="536760" cy="15408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5342040" y="1492200"/>
                  <a:ext cx="11592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342040" y="1492200"/>
                  <a:ext cx="11592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65" y="7"/>
                      </a:lnTo>
                      <a:lnTo>
                        <a:pt x="65" y="29"/>
                      </a:lnTo>
                      <a:lnTo>
                        <a:pt x="7" y="29"/>
                      </a:ln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230800" y="150480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380200" y="153180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7" h="29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28"/>
                      </a:lnTo>
                      <a:lnTo>
                        <a:pt x="0" y="28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452920" y="1531800"/>
                  <a:ext cx="141480" cy="87480"/>
                </a:xfrm>
                <a:custGeom>
                  <a:avLst/>
                  <a:gdLst/>
                  <a:ahLst/>
                  <a:rect l="l" t="t" r="r" b="b"/>
                  <a:pathLst>
                    <a:path w="89" h="55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8" y="46"/>
                      </a:lnTo>
                      <a:lnTo>
                        <a:pt x="88" y="54"/>
                      </a:lnTo>
                      <a:lnTo>
                        <a:pt x="81" y="54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626080" y="1531800"/>
                  <a:ext cx="27000" cy="73080"/>
                </a:xfrm>
                <a:custGeom>
                  <a:avLst/>
                  <a:gdLst/>
                  <a:ahLst/>
                  <a:rect l="l" t="t" r="r" b="b"/>
                  <a:pathLst>
                    <a:path w="17" h="46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45"/>
                      </a:lnTo>
                      <a:lnTo>
                        <a:pt x="0" y="4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329080" y="1585800"/>
                  <a:ext cx="115920" cy="46080"/>
                </a:xfrm>
                <a:custGeom>
                  <a:avLst/>
                  <a:gdLst/>
                  <a:ahLst/>
                  <a:rect l="l" t="t" r="r" b="b"/>
                  <a:pathLst>
                    <a:path w="73" h="29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28"/>
                      </a:lnTo>
                      <a:lnTo>
                        <a:pt x="0" y="28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5329080" y="1585800"/>
                  <a:ext cx="115920" cy="46080"/>
                </a:xfrm>
                <a:custGeom>
                  <a:avLst/>
                  <a:gdLst/>
                  <a:ahLst/>
                  <a:rect l="l" t="t" r="r" b="b"/>
                  <a:pathLst>
                    <a:path w="73" h="29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66" y="7"/>
                      </a:lnTo>
                      <a:lnTo>
                        <a:pt x="66" y="21"/>
                      </a:lnTo>
                      <a:lnTo>
                        <a:pt x="7" y="21"/>
                      </a:ln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5564160" y="1504800"/>
                  <a:ext cx="115920" cy="46080"/>
                </a:xfrm>
                <a:custGeom>
                  <a:avLst/>
                  <a:gdLst/>
                  <a:ahLst/>
                  <a:rect l="l" t="t" r="r" b="b"/>
                  <a:pathLst>
                    <a:path w="73" h="29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28"/>
                      </a:lnTo>
                      <a:lnTo>
                        <a:pt x="0" y="28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5564160" y="1504800"/>
                  <a:ext cx="115920" cy="46080"/>
                </a:xfrm>
                <a:custGeom>
                  <a:avLst/>
                  <a:gdLst/>
                  <a:ahLst/>
                  <a:rect l="l" t="t" r="r" b="b"/>
                  <a:pathLst>
                    <a:path w="73" h="29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66" y="7"/>
                      </a:lnTo>
                      <a:lnTo>
                        <a:pt x="66" y="21"/>
                      </a:lnTo>
                      <a:lnTo>
                        <a:pt x="7" y="21"/>
                      </a:ln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576760" y="1600200"/>
                  <a:ext cx="128880" cy="46080"/>
                </a:xfrm>
                <a:custGeom>
                  <a:avLst/>
                  <a:gdLst/>
                  <a:ahLst/>
                  <a:rect l="l" t="t" r="r" b="b"/>
                  <a:pathLst>
                    <a:path w="81" h="29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0" y="28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3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5576760" y="1600200"/>
                  <a:ext cx="128880" cy="46080"/>
                </a:xfrm>
                <a:custGeom>
                  <a:avLst/>
                  <a:gdLst/>
                  <a:ahLst/>
                  <a:rect l="l" t="t" r="r" b="b"/>
                  <a:pathLst>
                    <a:path w="81" h="29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73" y="7"/>
                      </a:lnTo>
                      <a:lnTo>
                        <a:pt x="73" y="21"/>
                      </a:lnTo>
                      <a:lnTo>
                        <a:pt x="7" y="21"/>
                      </a:ln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3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5688000" y="1519200"/>
                  <a:ext cx="79560" cy="270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49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3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5935680" y="1492200"/>
                <a:ext cx="561960" cy="154080"/>
                <a:chOff x="5935680" y="1492200"/>
                <a:chExt cx="561960" cy="15408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6072120" y="1492200"/>
                  <a:ext cx="11592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3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072120" y="1492200"/>
                  <a:ext cx="11592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65" y="7"/>
                      </a:lnTo>
                      <a:lnTo>
                        <a:pt x="65" y="29"/>
                      </a:lnTo>
                      <a:lnTo>
                        <a:pt x="7" y="29"/>
                      </a:ln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3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5935680" y="1504800"/>
                  <a:ext cx="128520" cy="27000"/>
                </a:xfrm>
                <a:custGeom>
                  <a:avLst/>
                  <a:gdLst/>
                  <a:ahLst/>
                  <a:rect l="l" t="t" r="r" b="b"/>
                  <a:pathLst>
                    <a:path w="81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3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097680" y="153180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7" h="29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28"/>
                      </a:lnTo>
                      <a:lnTo>
                        <a:pt x="0" y="28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3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172200" y="1531800"/>
                  <a:ext cx="139680" cy="87480"/>
                </a:xfrm>
                <a:custGeom>
                  <a:avLst/>
                  <a:gdLst/>
                  <a:ahLst/>
                  <a:rect l="l" t="t" r="r" b="b"/>
                  <a:pathLst>
                    <a:path w="88" h="55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7" y="46"/>
                      </a:lnTo>
                      <a:lnTo>
                        <a:pt x="87" y="54"/>
                      </a:lnTo>
                      <a:lnTo>
                        <a:pt x="80" y="54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3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356520" y="1531800"/>
                  <a:ext cx="26640" cy="73080"/>
                </a:xfrm>
                <a:custGeom>
                  <a:avLst/>
                  <a:gdLst/>
                  <a:ahLst/>
                  <a:rect l="l" t="t" r="r" b="b"/>
                  <a:pathLst>
                    <a:path w="17" h="46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45"/>
                      </a:lnTo>
                      <a:lnTo>
                        <a:pt x="0" y="4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4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048360" y="1585800"/>
                  <a:ext cx="115920" cy="46080"/>
                </a:xfrm>
                <a:custGeom>
                  <a:avLst/>
                  <a:gdLst/>
                  <a:ahLst/>
                  <a:rect l="l" t="t" r="r" b="b"/>
                  <a:pathLst>
                    <a:path w="73" h="29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28"/>
                      </a:lnTo>
                      <a:lnTo>
                        <a:pt x="0" y="28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4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048360" y="1585800"/>
                  <a:ext cx="115920" cy="46080"/>
                </a:xfrm>
                <a:custGeom>
                  <a:avLst/>
                  <a:gdLst/>
                  <a:ahLst/>
                  <a:rect l="l" t="t" r="r" b="b"/>
                  <a:pathLst>
                    <a:path w="73" h="29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6" y="7"/>
                      </a:lnTo>
                      <a:lnTo>
                        <a:pt x="65" y="7"/>
                      </a:lnTo>
                      <a:lnTo>
                        <a:pt x="65" y="21"/>
                      </a:lnTo>
                      <a:lnTo>
                        <a:pt x="6" y="21"/>
                      </a:lnTo>
                      <a:lnTo>
                        <a:pt x="6" y="7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4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283440" y="1504800"/>
                  <a:ext cx="115920" cy="46080"/>
                </a:xfrm>
                <a:custGeom>
                  <a:avLst/>
                  <a:gdLst/>
                  <a:ahLst/>
                  <a:rect l="l" t="t" r="r" b="b"/>
                  <a:pathLst>
                    <a:path w="73" h="29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28"/>
                      </a:lnTo>
                      <a:lnTo>
                        <a:pt x="0" y="28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4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283440" y="1504800"/>
                  <a:ext cx="115920" cy="46080"/>
                </a:xfrm>
                <a:custGeom>
                  <a:avLst/>
                  <a:gdLst/>
                  <a:ahLst/>
                  <a:rect l="l" t="t" r="r" b="b"/>
                  <a:pathLst>
                    <a:path w="73" h="29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6" y="7"/>
                      </a:lnTo>
                      <a:lnTo>
                        <a:pt x="65" y="7"/>
                      </a:lnTo>
                      <a:lnTo>
                        <a:pt x="65" y="21"/>
                      </a:lnTo>
                      <a:lnTo>
                        <a:pt x="6" y="21"/>
                      </a:lnTo>
                      <a:lnTo>
                        <a:pt x="6" y="7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4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307200" y="1600200"/>
                  <a:ext cx="115920" cy="46080"/>
                </a:xfrm>
                <a:custGeom>
                  <a:avLst/>
                  <a:gdLst/>
                  <a:ahLst/>
                  <a:rect l="l" t="t" r="r" b="b"/>
                  <a:pathLst>
                    <a:path w="73" h="29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28"/>
                      </a:lnTo>
                      <a:lnTo>
                        <a:pt x="0" y="28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4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307200" y="1600200"/>
                  <a:ext cx="115920" cy="46080"/>
                </a:xfrm>
                <a:custGeom>
                  <a:avLst/>
                  <a:gdLst/>
                  <a:ahLst/>
                  <a:rect l="l" t="t" r="r" b="b"/>
                  <a:pathLst>
                    <a:path w="73" h="29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65" y="7"/>
                      </a:lnTo>
                      <a:lnTo>
                        <a:pt x="65" y="21"/>
                      </a:lnTo>
                      <a:lnTo>
                        <a:pt x="7" y="21"/>
                      </a:ln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4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6394320" y="1519200"/>
                  <a:ext cx="103320" cy="27000"/>
                </a:xfrm>
                <a:custGeom>
                  <a:avLst/>
                  <a:gdLst/>
                  <a:ahLst/>
                  <a:rect l="l" t="t" r="r" b="b"/>
                  <a:pathLst>
                    <a:path w="65" h="17">
                      <a:moveTo>
                        <a:pt x="0" y="0"/>
                      </a:moveTo>
                      <a:lnTo>
                        <a:pt x="64" y="0"/>
                      </a:lnTo>
                      <a:lnTo>
                        <a:pt x="64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4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6116760" y="1809720"/>
                <a:ext cx="88920" cy="44640"/>
                <a:chOff x="6116760" y="1809720"/>
                <a:chExt cx="88920" cy="4464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6116760" y="1809720"/>
                  <a:ext cx="88920" cy="44640"/>
                </a:xfrm>
                <a:prstGeom prst="ellipse">
                  <a:avLst/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146640" y="1816200"/>
                  <a:ext cx="41400" cy="2700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8"/>
                      </a:move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5" y="8"/>
                      </a:lnTo>
                      <a:lnTo>
                        <a:pt x="6" y="16"/>
                      </a:lnTo>
                      <a:lnTo>
                        <a:pt x="0" y="16"/>
                      </a:lnTo>
                      <a:lnTo>
                        <a:pt x="0" y="8"/>
                      </a:lnTo>
                    </a:path>
                  </a:pathLst>
                </a:custGeom>
                <a:blipFill rotWithShape="0">
                  <a:blip r:embed="rId4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6351480" y="1809720"/>
                <a:ext cx="76320" cy="44640"/>
                <a:chOff x="6351480" y="1809720"/>
                <a:chExt cx="76320" cy="4464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6351480" y="1809720"/>
                  <a:ext cx="76320" cy="44640"/>
                </a:xfrm>
                <a:prstGeom prst="ellipse">
                  <a:avLst/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381720" y="181620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0" y="8"/>
                      </a:moveTo>
                      <a:lnTo>
                        <a:pt x="12" y="0"/>
                      </a:lnTo>
                      <a:lnTo>
                        <a:pt x="17" y="0"/>
                      </a:lnTo>
                      <a:lnTo>
                        <a:pt x="17" y="8"/>
                      </a:lnTo>
                      <a:lnTo>
                        <a:pt x="6" y="16"/>
                      </a:lnTo>
                      <a:lnTo>
                        <a:pt x="0" y="16"/>
                      </a:lnTo>
                      <a:lnTo>
                        <a:pt x="0" y="8"/>
                      </a:lnTo>
                    </a:path>
                  </a:pathLst>
                </a:custGeom>
                <a:blipFill rotWithShape="0">
                  <a:blip r:embed="rId5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5775480" y="1546200"/>
                <a:ext cx="161640" cy="41400"/>
                <a:chOff x="5775480" y="1546200"/>
                <a:chExt cx="161640" cy="4140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5886360" y="154620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31" y="8"/>
                      </a:moveTo>
                      <a:lnTo>
                        <a:pt x="16" y="17"/>
                      </a:ln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31" y="8"/>
                      </a:lnTo>
                    </a:path>
                  </a:pathLst>
                </a:custGeom>
                <a:blipFill rotWithShape="0">
                  <a:blip r:embed="rId52"/>
                  <a:srcRect/>
                  <a:tile tx="0" ty="0" sx="100000" sy="100000" algn="ctr"/>
                </a:blipFill>
                <a:ln cap="rnd" w="12600">
                  <a:solidFill>
                    <a:srgbClr val="3f3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775480" y="1558800"/>
                  <a:ext cx="128520" cy="27000"/>
                </a:xfrm>
                <a:custGeom>
                  <a:avLst/>
                  <a:gdLst/>
                  <a:ahLst/>
                  <a:rect l="l" t="t" r="r" b="b"/>
                  <a:pathLst>
                    <a:path w="81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5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6084720" y="1666800"/>
                <a:ext cx="150840" cy="168480"/>
                <a:chOff x="6084720" y="1666800"/>
                <a:chExt cx="150840" cy="168480"/>
              </a:xfrm>
            </p:grpSpPr>
            <p:grpSp>
              <p:nvGrpSpPr>
                <p:cNvPr id="1255" name=""/>
                <p:cNvGrpSpPr/>
                <p:nvPr/>
              </p:nvGrpSpPr>
              <p:grpSpPr>
                <a:xfrm>
                  <a:off x="6084720" y="1666800"/>
                  <a:ext cx="52560" cy="165240"/>
                  <a:chOff x="6084720" y="1666800"/>
                  <a:chExt cx="52560" cy="16524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>
                    <a:off x="6084720" y="1776240"/>
                    <a:ext cx="381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5">
                        <a:moveTo>
                          <a:pt x="8" y="34"/>
                        </a:moveTo>
                        <a:lnTo>
                          <a:pt x="8" y="17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23" y="0"/>
                        </a:lnTo>
                        <a:lnTo>
                          <a:pt x="16" y="17"/>
                        </a:lnTo>
                        <a:lnTo>
                          <a:pt x="8" y="34"/>
                        </a:lnTo>
                      </a:path>
                    </a:pathLst>
                  </a:custGeom>
                  <a:blipFill rotWithShape="0">
                    <a:blip r:embed="rId54"/>
                    <a:srcRect/>
                    <a:tile tx="0" ty="0" sx="100000" sy="100000" algn="ctr"/>
                  </a:blipFill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6110280" y="1666800"/>
                    <a:ext cx="270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2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5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8" name=""/>
                <p:cNvGrpSpPr/>
                <p:nvPr/>
              </p:nvGrpSpPr>
              <p:grpSpPr>
                <a:xfrm>
                  <a:off x="6183360" y="1666800"/>
                  <a:ext cx="52200" cy="168480"/>
                  <a:chOff x="6183360" y="1666800"/>
                  <a:chExt cx="52200" cy="16848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6183360" y="1666800"/>
                    <a:ext cx="522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5">
                        <a:moveTo>
                          <a:pt x="16" y="0"/>
                        </a:moveTo>
                        <a:lnTo>
                          <a:pt x="24" y="17"/>
                        </a:lnTo>
                        <a:lnTo>
                          <a:pt x="32" y="34"/>
                        </a:lnTo>
                        <a:lnTo>
                          <a:pt x="24" y="34"/>
                        </a:lnTo>
                        <a:lnTo>
                          <a:pt x="16" y="34"/>
                        </a:lnTo>
                        <a:lnTo>
                          <a:pt x="8" y="34"/>
                        </a:lnTo>
                        <a:lnTo>
                          <a:pt x="0" y="34"/>
                        </a:lnTo>
                        <a:lnTo>
                          <a:pt x="8" y="17"/>
                        </a:lnTo>
                        <a:lnTo>
                          <a:pt x="16" y="0"/>
                        </a:lnTo>
                      </a:path>
                    </a:pathLst>
                  </a:custGeom>
                  <a:blipFill rotWithShape="0">
                    <a:blip r:embed="rId56"/>
                    <a:srcRect/>
                    <a:tile tx="0" ty="0" sx="100000" sy="100000" algn="ctr"/>
                  </a:blipFill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6208560" y="1708200"/>
                    <a:ext cx="270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0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9"/>
                        </a:lnTo>
                        <a:lnTo>
                          <a:pt x="0" y="79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5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1" name=""/>
              <p:cNvGrpSpPr/>
              <p:nvPr/>
            </p:nvGrpSpPr>
            <p:grpSpPr>
              <a:xfrm>
                <a:off x="6319800" y="1666800"/>
                <a:ext cx="138240" cy="168480"/>
                <a:chOff x="6319800" y="1666800"/>
                <a:chExt cx="138240" cy="168480"/>
              </a:xfrm>
            </p:grpSpPr>
            <p:grpSp>
              <p:nvGrpSpPr>
                <p:cNvPr id="1262" name=""/>
                <p:cNvGrpSpPr/>
                <p:nvPr/>
              </p:nvGrpSpPr>
              <p:grpSpPr>
                <a:xfrm>
                  <a:off x="6319800" y="1666800"/>
                  <a:ext cx="52560" cy="165240"/>
                  <a:chOff x="6319800" y="1666800"/>
                  <a:chExt cx="52560" cy="165240"/>
                </a:xfrm>
              </p:grpSpPr>
              <p:sp>
                <p:nvSpPr>
                  <p:cNvPr id="1263" name=""/>
                  <p:cNvSpPr/>
                  <p:nvPr/>
                </p:nvSpPr>
                <p:spPr>
                  <a:xfrm>
                    <a:off x="6319800" y="1776240"/>
                    <a:ext cx="507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5">
                        <a:moveTo>
                          <a:pt x="16" y="34"/>
                        </a:moveTo>
                        <a:lnTo>
                          <a:pt x="8" y="17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23" y="0"/>
                        </a:lnTo>
                        <a:lnTo>
                          <a:pt x="31" y="0"/>
                        </a:lnTo>
                        <a:lnTo>
                          <a:pt x="23" y="17"/>
                        </a:lnTo>
                        <a:lnTo>
                          <a:pt x="16" y="34"/>
                        </a:lnTo>
                      </a:path>
                    </a:pathLst>
                  </a:custGeom>
                  <a:blipFill rotWithShape="0">
                    <a:blip r:embed="rId58"/>
                    <a:srcRect/>
                    <a:tile tx="0" ty="0" sx="100000" sy="100000" algn="ctr"/>
                  </a:blipFill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6345360" y="1666800"/>
                    <a:ext cx="270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2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5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5" name=""/>
                <p:cNvGrpSpPr/>
                <p:nvPr/>
              </p:nvGrpSpPr>
              <p:grpSpPr>
                <a:xfrm>
                  <a:off x="6418440" y="1666800"/>
                  <a:ext cx="39600" cy="168480"/>
                  <a:chOff x="6418440" y="1666800"/>
                  <a:chExt cx="39600" cy="168480"/>
                </a:xfrm>
              </p:grpSpPr>
              <p:sp>
                <p:nvSpPr>
                  <p:cNvPr id="1266" name=""/>
                  <p:cNvSpPr/>
                  <p:nvPr/>
                </p:nvSpPr>
                <p:spPr>
                  <a:xfrm>
                    <a:off x="6418440" y="1666800"/>
                    <a:ext cx="39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5">
                        <a:moveTo>
                          <a:pt x="8" y="0"/>
                        </a:moveTo>
                        <a:lnTo>
                          <a:pt x="16" y="17"/>
                        </a:lnTo>
                        <a:lnTo>
                          <a:pt x="24" y="34"/>
                        </a:lnTo>
                        <a:lnTo>
                          <a:pt x="16" y="34"/>
                        </a:lnTo>
                        <a:lnTo>
                          <a:pt x="8" y="34"/>
                        </a:lnTo>
                        <a:lnTo>
                          <a:pt x="0" y="34"/>
                        </a:lnTo>
                        <a:lnTo>
                          <a:pt x="8" y="17"/>
                        </a:lnTo>
                        <a:lnTo>
                          <a:pt x="8" y="0"/>
                        </a:lnTo>
                      </a:path>
                    </a:pathLst>
                  </a:custGeom>
                  <a:blipFill rotWithShape="0">
                    <a:blip r:embed="rId60"/>
                    <a:srcRect/>
                    <a:tile tx="0" ty="0" sx="100000" sy="100000" algn="ctr"/>
                  </a:blipFill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6431040" y="1708200"/>
                    <a:ext cx="270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0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9"/>
                        </a:lnTo>
                        <a:lnTo>
                          <a:pt x="0" y="79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6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68" name=""/>
          <p:cNvGrpSpPr/>
          <p:nvPr/>
        </p:nvGrpSpPr>
        <p:grpSpPr>
          <a:xfrm>
            <a:off x="6815160" y="1666800"/>
            <a:ext cx="138240" cy="165240"/>
            <a:chOff x="6815160" y="1666800"/>
            <a:chExt cx="138240" cy="165240"/>
          </a:xfrm>
        </p:grpSpPr>
        <p:grpSp>
          <p:nvGrpSpPr>
            <p:cNvPr id="1269" name=""/>
            <p:cNvGrpSpPr/>
            <p:nvPr/>
          </p:nvGrpSpPr>
          <p:grpSpPr>
            <a:xfrm>
              <a:off x="6815160" y="1666800"/>
              <a:ext cx="38160" cy="165240"/>
              <a:chOff x="6815160" y="1666800"/>
              <a:chExt cx="38160" cy="165240"/>
            </a:xfrm>
          </p:grpSpPr>
          <p:sp>
            <p:nvSpPr>
              <p:cNvPr id="1270" name=""/>
              <p:cNvSpPr/>
              <p:nvPr/>
            </p:nvSpPr>
            <p:spPr>
              <a:xfrm>
                <a:off x="6815160" y="1776240"/>
                <a:ext cx="38160" cy="55800"/>
              </a:xfrm>
              <a:custGeom>
                <a:avLst/>
                <a:gdLst/>
                <a:ahLst/>
                <a:rect l="l" t="t" r="r" b="b"/>
                <a:pathLst>
                  <a:path w="24" h="35">
                    <a:moveTo>
                      <a:pt x="8" y="34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16" y="17"/>
                    </a:lnTo>
                    <a:lnTo>
                      <a:pt x="8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840360" y="16668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6902280" y="1666800"/>
              <a:ext cx="51120" cy="163080"/>
              <a:chOff x="6902280" y="1666800"/>
              <a:chExt cx="51120" cy="163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6902280" y="1666800"/>
                <a:ext cx="51120" cy="558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15" y="0"/>
                    </a:moveTo>
                    <a:lnTo>
                      <a:pt x="23" y="17"/>
                    </a:lnTo>
                    <a:lnTo>
                      <a:pt x="31" y="34"/>
                    </a:lnTo>
                    <a:lnTo>
                      <a:pt x="23" y="34"/>
                    </a:lnTo>
                    <a:lnTo>
                      <a:pt x="15" y="34"/>
                    </a:lnTo>
                    <a:lnTo>
                      <a:pt x="7" y="34"/>
                    </a:lnTo>
                    <a:lnTo>
                      <a:pt x="0" y="34"/>
                    </a:lnTo>
                    <a:lnTo>
                      <a:pt x="7" y="17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6926400" y="1707840"/>
                <a:ext cx="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5" name=""/>
          <p:cNvGrpSpPr/>
          <p:nvPr/>
        </p:nvGrpSpPr>
        <p:grpSpPr>
          <a:xfrm>
            <a:off x="7545240" y="1666800"/>
            <a:ext cx="138240" cy="165240"/>
            <a:chOff x="7545240" y="1666800"/>
            <a:chExt cx="138240" cy="165240"/>
          </a:xfrm>
        </p:grpSpPr>
        <p:grpSp>
          <p:nvGrpSpPr>
            <p:cNvPr id="1276" name=""/>
            <p:cNvGrpSpPr/>
            <p:nvPr/>
          </p:nvGrpSpPr>
          <p:grpSpPr>
            <a:xfrm>
              <a:off x="7545240" y="1666800"/>
              <a:ext cx="27000" cy="165240"/>
              <a:chOff x="7545240" y="1666800"/>
              <a:chExt cx="27000" cy="165240"/>
            </a:xfrm>
          </p:grpSpPr>
          <p:sp>
            <p:nvSpPr>
              <p:cNvPr id="1277" name=""/>
              <p:cNvSpPr/>
              <p:nvPr/>
            </p:nvSpPr>
            <p:spPr>
              <a:xfrm>
                <a:off x="7545240" y="177624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8" y="34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8" y="17"/>
                    </a:lnTo>
                    <a:lnTo>
                      <a:pt x="8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558200" y="16668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7632720" y="1666800"/>
              <a:ext cx="50760" cy="163080"/>
              <a:chOff x="7632720" y="1666800"/>
              <a:chExt cx="50760" cy="163080"/>
            </a:xfrm>
          </p:grpSpPr>
          <p:sp>
            <p:nvSpPr>
              <p:cNvPr id="1280" name=""/>
              <p:cNvSpPr/>
              <p:nvPr/>
            </p:nvSpPr>
            <p:spPr>
              <a:xfrm>
                <a:off x="7632720" y="1666800"/>
                <a:ext cx="50760" cy="558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15" y="0"/>
                    </a:moveTo>
                    <a:lnTo>
                      <a:pt x="23" y="17"/>
                    </a:lnTo>
                    <a:lnTo>
                      <a:pt x="31" y="34"/>
                    </a:lnTo>
                    <a:lnTo>
                      <a:pt x="23" y="34"/>
                    </a:lnTo>
                    <a:lnTo>
                      <a:pt x="15" y="34"/>
                    </a:lnTo>
                    <a:lnTo>
                      <a:pt x="7" y="34"/>
                    </a:lnTo>
                    <a:lnTo>
                      <a:pt x="0" y="34"/>
                    </a:lnTo>
                    <a:lnTo>
                      <a:pt x="7" y="17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7656480" y="1707840"/>
                <a:ext cx="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2" name=""/>
          <p:cNvGrpSpPr/>
          <p:nvPr/>
        </p:nvGrpSpPr>
        <p:grpSpPr>
          <a:xfrm>
            <a:off x="7767720" y="1666800"/>
            <a:ext cx="137880" cy="165240"/>
            <a:chOff x="7767720" y="1666800"/>
            <a:chExt cx="137880" cy="165240"/>
          </a:xfrm>
        </p:grpSpPr>
        <p:grpSp>
          <p:nvGrpSpPr>
            <p:cNvPr id="1283" name=""/>
            <p:cNvGrpSpPr/>
            <p:nvPr/>
          </p:nvGrpSpPr>
          <p:grpSpPr>
            <a:xfrm>
              <a:off x="7767720" y="1666800"/>
              <a:ext cx="50760" cy="165240"/>
              <a:chOff x="7767720" y="1666800"/>
              <a:chExt cx="50760" cy="165240"/>
            </a:xfrm>
          </p:grpSpPr>
          <p:sp>
            <p:nvSpPr>
              <p:cNvPr id="1284" name=""/>
              <p:cNvSpPr/>
              <p:nvPr/>
            </p:nvSpPr>
            <p:spPr>
              <a:xfrm>
                <a:off x="7767720" y="1776240"/>
                <a:ext cx="50760" cy="558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16" y="34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24" y="17"/>
                    </a:lnTo>
                    <a:lnTo>
                      <a:pt x="16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792920" y="16668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7878600" y="1666800"/>
              <a:ext cx="27000" cy="163080"/>
              <a:chOff x="7878600" y="1666800"/>
              <a:chExt cx="27000" cy="163080"/>
            </a:xfrm>
          </p:grpSpPr>
          <p:sp>
            <p:nvSpPr>
              <p:cNvPr id="1287" name=""/>
              <p:cNvSpPr/>
              <p:nvPr/>
            </p:nvSpPr>
            <p:spPr>
              <a:xfrm>
                <a:off x="7878600" y="166680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8" y="0"/>
                    </a:moveTo>
                    <a:lnTo>
                      <a:pt x="8" y="17"/>
                    </a:lnTo>
                    <a:lnTo>
                      <a:pt x="16" y="34"/>
                    </a:lnTo>
                    <a:lnTo>
                      <a:pt x="8" y="34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7891560" y="1707840"/>
                <a:ext cx="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9" name=""/>
          <p:cNvGrpSpPr/>
          <p:nvPr/>
        </p:nvGrpSpPr>
        <p:grpSpPr>
          <a:xfrm>
            <a:off x="5553000" y="1863720"/>
            <a:ext cx="568440" cy="384120"/>
            <a:chOff x="5553000" y="1863720"/>
            <a:chExt cx="568440" cy="384120"/>
          </a:xfrm>
        </p:grpSpPr>
        <p:grpSp>
          <p:nvGrpSpPr>
            <p:cNvPr id="1290" name=""/>
            <p:cNvGrpSpPr/>
            <p:nvPr/>
          </p:nvGrpSpPr>
          <p:grpSpPr>
            <a:xfrm>
              <a:off x="5713560" y="2060640"/>
              <a:ext cx="137880" cy="163440"/>
              <a:chOff x="5713560" y="2060640"/>
              <a:chExt cx="137880" cy="163440"/>
            </a:xfrm>
          </p:grpSpPr>
          <p:grpSp>
            <p:nvGrpSpPr>
              <p:cNvPr id="1291" name=""/>
              <p:cNvGrpSpPr/>
              <p:nvPr/>
            </p:nvGrpSpPr>
            <p:grpSpPr>
              <a:xfrm>
                <a:off x="5713560" y="2060640"/>
                <a:ext cx="37800" cy="163440"/>
                <a:chOff x="5713560" y="2060640"/>
                <a:chExt cx="37800" cy="16344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5713560" y="2168640"/>
                  <a:ext cx="37800" cy="55440"/>
                </a:xfrm>
                <a:custGeom>
                  <a:avLst/>
                  <a:gdLst/>
                  <a:ahLst/>
                  <a:rect l="l" t="t" r="r" b="b"/>
                  <a:pathLst>
                    <a:path w="24" h="35">
                      <a:moveTo>
                        <a:pt x="16" y="34"/>
                      </a:moveTo>
                      <a:lnTo>
                        <a:pt x="8" y="17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3" y="0"/>
                      </a:lnTo>
                      <a:lnTo>
                        <a:pt x="16" y="17"/>
                      </a:lnTo>
                      <a:lnTo>
                        <a:pt x="16" y="3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738760" y="2060640"/>
                  <a:ext cx="0" cy="10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5800680" y="2060640"/>
                <a:ext cx="50760" cy="162000"/>
                <a:chOff x="5800680" y="2060640"/>
                <a:chExt cx="50760" cy="16200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5800680" y="206064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5" y="0"/>
                      </a:moveTo>
                      <a:lnTo>
                        <a:pt x="23" y="17"/>
                      </a:lnTo>
                      <a:lnTo>
                        <a:pt x="31" y="25"/>
                      </a:lnTo>
                      <a:lnTo>
                        <a:pt x="23" y="25"/>
                      </a:lnTo>
                      <a:lnTo>
                        <a:pt x="15" y="25"/>
                      </a:lnTo>
                      <a:lnTo>
                        <a:pt x="7" y="25"/>
                      </a:lnTo>
                      <a:lnTo>
                        <a:pt x="0" y="25"/>
                      </a:lnTo>
                      <a:lnTo>
                        <a:pt x="7" y="17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V="1">
                  <a:off x="5824440" y="2100240"/>
                  <a:ext cx="0" cy="12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7" name=""/>
            <p:cNvSpPr/>
            <p:nvPr/>
          </p:nvSpPr>
          <p:spPr>
            <a:xfrm>
              <a:off x="5570640" y="1863720"/>
              <a:ext cx="534960" cy="181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5553000" y="1870200"/>
              <a:ext cx="568440" cy="168120"/>
              <a:chOff x="5553000" y="1870200"/>
              <a:chExt cx="568440" cy="168120"/>
            </a:xfrm>
          </p:grpSpPr>
          <p:sp>
            <p:nvSpPr>
              <p:cNvPr id="1299" name=""/>
              <p:cNvSpPr/>
              <p:nvPr/>
            </p:nvSpPr>
            <p:spPr>
              <a:xfrm>
                <a:off x="5688000" y="1870200"/>
                <a:ext cx="115920" cy="60120"/>
              </a:xfrm>
              <a:custGeom>
                <a:avLst/>
                <a:gdLst/>
                <a:ahLst/>
                <a:rect l="l" t="t" r="r" b="b"/>
                <a:pathLst>
                  <a:path w="73" h="38">
                    <a:moveTo>
                      <a:pt x="0" y="0"/>
                    </a:moveTo>
                    <a:lnTo>
                      <a:pt x="72" y="0"/>
                    </a:lnTo>
                    <a:lnTo>
                      <a:pt x="72" y="37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553000" y="1897200"/>
                <a:ext cx="135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738760" y="1911240"/>
                <a:ext cx="0" cy="5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00680" y="1924200"/>
                <a:ext cx="123840" cy="8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86440" y="1924200"/>
                <a:ext cx="0" cy="82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664240" y="1965240"/>
                <a:ext cx="115920" cy="46080"/>
              </a:xfrm>
              <a:custGeom>
                <a:avLst/>
                <a:gdLst/>
                <a:ahLst/>
                <a:rect l="l" t="t" r="r" b="b"/>
                <a:pathLst>
                  <a:path w="73" h="29">
                    <a:moveTo>
                      <a:pt x="0" y="0"/>
                    </a:moveTo>
                    <a:lnTo>
                      <a:pt x="72" y="0"/>
                    </a:lnTo>
                    <a:lnTo>
                      <a:pt x="72" y="28"/>
                    </a:lnTo>
                    <a:lnTo>
                      <a:pt x="0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99320" y="1884240"/>
                <a:ext cx="128520" cy="46080"/>
              </a:xfrm>
              <a:custGeom>
                <a:avLst/>
                <a:gdLst/>
                <a:ahLst/>
                <a:rect l="l" t="t" r="r" b="b"/>
                <a:pathLst>
                  <a:path w="81" h="29">
                    <a:moveTo>
                      <a:pt x="0" y="0"/>
                    </a:moveTo>
                    <a:lnTo>
                      <a:pt x="80" y="0"/>
                    </a:lnTo>
                    <a:lnTo>
                      <a:pt x="80" y="28"/>
                    </a:lnTo>
                    <a:lnTo>
                      <a:pt x="0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24520" y="1992240"/>
                <a:ext cx="127080" cy="46080"/>
              </a:xfrm>
              <a:custGeom>
                <a:avLst/>
                <a:gdLst/>
                <a:ahLst/>
                <a:rect l="l" t="t" r="r" b="b"/>
                <a:pathLst>
                  <a:path w="80" h="29">
                    <a:moveTo>
                      <a:pt x="0" y="0"/>
                    </a:moveTo>
                    <a:lnTo>
                      <a:pt x="79" y="0"/>
                    </a:lnTo>
                    <a:lnTo>
                      <a:pt x="79" y="28"/>
                    </a:lnTo>
                    <a:lnTo>
                      <a:pt x="0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022800" y="1924200"/>
                <a:ext cx="98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5745240" y="2187720"/>
              <a:ext cx="75960" cy="60120"/>
              <a:chOff x="5745240" y="2187720"/>
              <a:chExt cx="75960" cy="60120"/>
            </a:xfrm>
          </p:grpSpPr>
          <p:sp>
            <p:nvSpPr>
              <p:cNvPr id="1309" name=""/>
              <p:cNvSpPr/>
              <p:nvPr/>
            </p:nvSpPr>
            <p:spPr>
              <a:xfrm>
                <a:off x="5745240" y="2187720"/>
                <a:ext cx="75960" cy="60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5762520" y="2195280"/>
                <a:ext cx="2556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1" name=""/>
          <p:cNvGrpSpPr/>
          <p:nvPr/>
        </p:nvGrpSpPr>
        <p:grpSpPr>
          <a:xfrm>
            <a:off x="5243400" y="1422360"/>
            <a:ext cx="1227240" cy="318960"/>
            <a:chOff x="5243400" y="1422360"/>
            <a:chExt cx="1227240" cy="318960"/>
          </a:xfrm>
        </p:grpSpPr>
        <p:sp>
          <p:nvSpPr>
            <p:cNvPr id="1312" name=""/>
            <p:cNvSpPr/>
            <p:nvPr/>
          </p:nvSpPr>
          <p:spPr>
            <a:xfrm>
              <a:off x="5243400" y="1422360"/>
              <a:ext cx="1227240" cy="3189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380200" y="1486080"/>
              <a:ext cx="1038240" cy="169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111720" y="1546200"/>
            <a:ext cx="555840" cy="431640"/>
            <a:chOff x="6111720" y="1546200"/>
            <a:chExt cx="555840" cy="431640"/>
          </a:xfrm>
        </p:grpSpPr>
        <p:sp>
          <p:nvSpPr>
            <p:cNvPr id="1315" name=""/>
            <p:cNvSpPr/>
            <p:nvPr/>
          </p:nvSpPr>
          <p:spPr>
            <a:xfrm>
              <a:off x="6616800" y="1546200"/>
              <a:ext cx="50760" cy="554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31" y="0"/>
                  </a:moveTo>
                  <a:lnTo>
                    <a:pt x="24" y="17"/>
                  </a:lnTo>
                  <a:lnTo>
                    <a:pt x="16" y="34"/>
                  </a:lnTo>
                  <a:lnTo>
                    <a:pt x="16" y="25"/>
                  </a:lnTo>
                  <a:lnTo>
                    <a:pt x="8" y="25"/>
                  </a:lnTo>
                  <a:lnTo>
                    <a:pt x="0" y="17"/>
                  </a:lnTo>
                  <a:lnTo>
                    <a:pt x="16" y="8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6111720" y="1587240"/>
              <a:ext cx="517680" cy="3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070600" y="1612800"/>
            <a:ext cx="484200" cy="366840"/>
            <a:chOff x="5070600" y="1612800"/>
            <a:chExt cx="484200" cy="366840"/>
          </a:xfrm>
        </p:grpSpPr>
        <p:sp>
          <p:nvSpPr>
            <p:cNvPr id="1318" name=""/>
            <p:cNvSpPr/>
            <p:nvPr/>
          </p:nvSpPr>
          <p:spPr>
            <a:xfrm>
              <a:off x="5504040" y="1924200"/>
              <a:ext cx="50760" cy="554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31" y="34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23" y="17"/>
                  </a:lnTo>
                  <a:lnTo>
                    <a:pt x="31" y="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0600" y="1612800"/>
              <a:ext cx="45720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5391000" y="2886120"/>
            <a:ext cx="150840" cy="190440"/>
            <a:chOff x="5391000" y="2886120"/>
            <a:chExt cx="150840" cy="190440"/>
          </a:xfrm>
        </p:grpSpPr>
        <p:grpSp>
          <p:nvGrpSpPr>
            <p:cNvPr id="1321" name=""/>
            <p:cNvGrpSpPr/>
            <p:nvPr/>
          </p:nvGrpSpPr>
          <p:grpSpPr>
            <a:xfrm>
              <a:off x="5391000" y="2886120"/>
              <a:ext cx="52560" cy="190440"/>
              <a:chOff x="5391000" y="2886120"/>
              <a:chExt cx="52560" cy="190440"/>
            </a:xfrm>
          </p:grpSpPr>
          <p:sp>
            <p:nvSpPr>
              <p:cNvPr id="1322" name=""/>
              <p:cNvSpPr/>
              <p:nvPr/>
            </p:nvSpPr>
            <p:spPr>
              <a:xfrm>
                <a:off x="5391000" y="302112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6" y="34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24" y="17"/>
                    </a:lnTo>
                    <a:lnTo>
                      <a:pt x="16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416560" y="28861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5504040" y="2886120"/>
              <a:ext cx="37800" cy="188640"/>
              <a:chOff x="5504040" y="2886120"/>
              <a:chExt cx="37800" cy="188640"/>
            </a:xfrm>
          </p:grpSpPr>
          <p:sp>
            <p:nvSpPr>
              <p:cNvPr id="1325" name=""/>
              <p:cNvSpPr/>
              <p:nvPr/>
            </p:nvSpPr>
            <p:spPr>
              <a:xfrm>
                <a:off x="5504040" y="2886120"/>
                <a:ext cx="37800" cy="68040"/>
              </a:xfrm>
              <a:custGeom>
                <a:avLst/>
                <a:gdLst/>
                <a:ahLst/>
                <a:rect l="l" t="t" r="r" b="b"/>
                <a:pathLst>
                  <a:path w="24" h="43">
                    <a:moveTo>
                      <a:pt x="7" y="0"/>
                    </a:moveTo>
                    <a:lnTo>
                      <a:pt x="15" y="17"/>
                    </a:lnTo>
                    <a:lnTo>
                      <a:pt x="23" y="42"/>
                    </a:lnTo>
                    <a:lnTo>
                      <a:pt x="15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17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5514840" y="29397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7" name=""/>
          <p:cNvGrpSpPr/>
          <p:nvPr/>
        </p:nvGrpSpPr>
        <p:grpSpPr>
          <a:xfrm>
            <a:off x="5262480" y="2662200"/>
            <a:ext cx="2712960" cy="220680"/>
            <a:chOff x="5262480" y="2662200"/>
            <a:chExt cx="2712960" cy="220680"/>
          </a:xfrm>
        </p:grpSpPr>
        <p:sp>
          <p:nvSpPr>
            <p:cNvPr id="1328" name=""/>
            <p:cNvSpPr/>
            <p:nvPr/>
          </p:nvSpPr>
          <p:spPr>
            <a:xfrm>
              <a:off x="5262480" y="2662200"/>
              <a:ext cx="53352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992920" y="2662200"/>
              <a:ext cx="53316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723000" y="2662200"/>
              <a:ext cx="52236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440480" y="2662200"/>
              <a:ext cx="53496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4692240" y="2678040"/>
            <a:ext cx="33120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246160" y="2678040"/>
            <a:ext cx="46836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5256360" y="2682720"/>
            <a:ext cx="555480" cy="181080"/>
            <a:chOff x="5256360" y="2682720"/>
            <a:chExt cx="555480" cy="181080"/>
          </a:xfrm>
        </p:grpSpPr>
        <p:sp>
          <p:nvSpPr>
            <p:cNvPr id="1335" name=""/>
            <p:cNvSpPr/>
            <p:nvPr/>
          </p:nvSpPr>
          <p:spPr>
            <a:xfrm>
              <a:off x="5367240" y="2682720"/>
              <a:ext cx="128520" cy="60480"/>
            </a:xfrm>
            <a:custGeom>
              <a:avLst/>
              <a:gdLst/>
              <a:ahLst/>
              <a:rect l="l" t="t" r="r" b="b"/>
              <a:pathLst>
                <a:path w="81" h="38">
                  <a:moveTo>
                    <a:pt x="0" y="0"/>
                  </a:moveTo>
                  <a:lnTo>
                    <a:pt x="80" y="0"/>
                  </a:lnTo>
                  <a:lnTo>
                    <a:pt x="80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256360" y="2709720"/>
              <a:ext cx="123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416560" y="2722680"/>
              <a:ext cx="0" cy="68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491080" y="2722680"/>
              <a:ext cx="135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676840" y="2736720"/>
              <a:ext cx="0" cy="8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67240" y="2790720"/>
              <a:ext cx="115920" cy="60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89720" y="2695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614920" y="280512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713560" y="2722680"/>
              <a:ext cx="98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5973840" y="2682720"/>
            <a:ext cx="568080" cy="181080"/>
            <a:chOff x="5973840" y="2682720"/>
            <a:chExt cx="568080" cy="181080"/>
          </a:xfrm>
        </p:grpSpPr>
        <p:sp>
          <p:nvSpPr>
            <p:cNvPr id="1345" name=""/>
            <p:cNvSpPr/>
            <p:nvPr/>
          </p:nvSpPr>
          <p:spPr>
            <a:xfrm>
              <a:off x="6097680" y="2682720"/>
              <a:ext cx="115920" cy="60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973840" y="2709720"/>
              <a:ext cx="123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146640" y="2722680"/>
              <a:ext cx="0" cy="68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208560" y="2722680"/>
              <a:ext cx="1368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94320" y="2736720"/>
              <a:ext cx="0" cy="8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072120" y="2790720"/>
              <a:ext cx="128520" cy="60480"/>
            </a:xfrm>
            <a:custGeom>
              <a:avLst/>
              <a:gdLst/>
              <a:ahLst/>
              <a:rect l="l" t="t" r="r" b="b"/>
              <a:pathLst>
                <a:path w="81" h="38">
                  <a:moveTo>
                    <a:pt x="0" y="0"/>
                  </a:moveTo>
                  <a:lnTo>
                    <a:pt x="80" y="0"/>
                  </a:lnTo>
                  <a:lnTo>
                    <a:pt x="80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19800" y="2695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45360" y="280512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431040" y="2722680"/>
              <a:ext cx="11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6703920" y="2682720"/>
            <a:ext cx="557280" cy="181080"/>
            <a:chOff x="6703920" y="2682720"/>
            <a:chExt cx="557280" cy="181080"/>
          </a:xfrm>
        </p:grpSpPr>
        <p:sp>
          <p:nvSpPr>
            <p:cNvPr id="1355" name=""/>
            <p:cNvSpPr/>
            <p:nvPr/>
          </p:nvSpPr>
          <p:spPr>
            <a:xfrm>
              <a:off x="6827760" y="2682720"/>
              <a:ext cx="115920" cy="60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03920" y="2709720"/>
              <a:ext cx="123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877080" y="2722680"/>
              <a:ext cx="0" cy="68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926400" y="2722680"/>
              <a:ext cx="13644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124760" y="2736720"/>
              <a:ext cx="0" cy="8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802560" y="2790720"/>
              <a:ext cx="115920" cy="60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50240" y="2695680"/>
              <a:ext cx="115560" cy="6012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62840" y="2805120"/>
              <a:ext cx="128520" cy="58680"/>
            </a:xfrm>
            <a:custGeom>
              <a:avLst/>
              <a:gdLst/>
              <a:ahLst/>
              <a:rect l="l" t="t" r="r" b="b"/>
              <a:pathLst>
                <a:path w="81" h="37">
                  <a:moveTo>
                    <a:pt x="0" y="0"/>
                  </a:moveTo>
                  <a:lnTo>
                    <a:pt x="80" y="0"/>
                  </a:lnTo>
                  <a:lnTo>
                    <a:pt x="80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161120" y="2722680"/>
              <a:ext cx="100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7434360" y="2682720"/>
            <a:ext cx="557280" cy="181080"/>
            <a:chOff x="7434360" y="2682720"/>
            <a:chExt cx="557280" cy="181080"/>
          </a:xfrm>
        </p:grpSpPr>
        <p:sp>
          <p:nvSpPr>
            <p:cNvPr id="1365" name=""/>
            <p:cNvSpPr/>
            <p:nvPr/>
          </p:nvSpPr>
          <p:spPr>
            <a:xfrm>
              <a:off x="7558200" y="2682720"/>
              <a:ext cx="115920" cy="60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434360" y="2709720"/>
              <a:ext cx="136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94560" y="2722680"/>
              <a:ext cx="0" cy="68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669080" y="2722680"/>
              <a:ext cx="1368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854840" y="2736720"/>
              <a:ext cx="0" cy="8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545240" y="2790720"/>
              <a:ext cx="115920" cy="60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767720" y="2695680"/>
              <a:ext cx="128520" cy="60120"/>
            </a:xfrm>
            <a:custGeom>
              <a:avLst/>
              <a:gdLst/>
              <a:ahLst/>
              <a:rect l="l" t="t" r="r" b="b"/>
              <a:pathLst>
                <a:path w="81" h="38">
                  <a:moveTo>
                    <a:pt x="0" y="0"/>
                  </a:moveTo>
                  <a:lnTo>
                    <a:pt x="80" y="0"/>
                  </a:lnTo>
                  <a:lnTo>
                    <a:pt x="80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792920" y="280512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904160" y="2722680"/>
              <a:ext cx="87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5423040" y="3054240"/>
            <a:ext cx="88920" cy="58680"/>
            <a:chOff x="5423040" y="3054240"/>
            <a:chExt cx="88920" cy="58680"/>
          </a:xfrm>
        </p:grpSpPr>
        <p:sp>
          <p:nvSpPr>
            <p:cNvPr id="1375" name=""/>
            <p:cNvSpPr/>
            <p:nvPr/>
          </p:nvSpPr>
          <p:spPr>
            <a:xfrm>
              <a:off x="5423040" y="3054240"/>
              <a:ext cx="889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5456160" y="3062160"/>
              <a:ext cx="349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6153120" y="3054240"/>
            <a:ext cx="76320" cy="58680"/>
            <a:chOff x="6153120" y="3054240"/>
            <a:chExt cx="76320" cy="58680"/>
          </a:xfrm>
        </p:grpSpPr>
        <p:sp>
          <p:nvSpPr>
            <p:cNvPr id="1378" name=""/>
            <p:cNvSpPr/>
            <p:nvPr/>
          </p:nvSpPr>
          <p:spPr>
            <a:xfrm>
              <a:off x="6153120" y="3054240"/>
              <a:ext cx="763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6186600" y="3062160"/>
              <a:ext cx="349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6388200" y="3054240"/>
            <a:ext cx="75960" cy="58680"/>
            <a:chOff x="6388200" y="3054240"/>
            <a:chExt cx="75960" cy="58680"/>
          </a:xfrm>
        </p:grpSpPr>
        <p:sp>
          <p:nvSpPr>
            <p:cNvPr id="1381" name=""/>
            <p:cNvSpPr/>
            <p:nvPr/>
          </p:nvSpPr>
          <p:spPr>
            <a:xfrm>
              <a:off x="6388200" y="3054240"/>
              <a:ext cx="7596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6410160" y="3063600"/>
              <a:ext cx="334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6883560" y="3054240"/>
            <a:ext cx="75960" cy="58680"/>
            <a:chOff x="6883560" y="3054240"/>
            <a:chExt cx="75960" cy="58680"/>
          </a:xfrm>
        </p:grpSpPr>
        <p:sp>
          <p:nvSpPr>
            <p:cNvPr id="1384" name=""/>
            <p:cNvSpPr/>
            <p:nvPr/>
          </p:nvSpPr>
          <p:spPr>
            <a:xfrm>
              <a:off x="6883560" y="3054240"/>
              <a:ext cx="7596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6905520" y="3063600"/>
              <a:ext cx="334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7601040" y="3054240"/>
            <a:ext cx="88920" cy="58680"/>
            <a:chOff x="7601040" y="3054240"/>
            <a:chExt cx="88920" cy="58680"/>
          </a:xfrm>
        </p:grpSpPr>
        <p:sp>
          <p:nvSpPr>
            <p:cNvPr id="1387" name=""/>
            <p:cNvSpPr/>
            <p:nvPr/>
          </p:nvSpPr>
          <p:spPr>
            <a:xfrm>
              <a:off x="7601040" y="3054240"/>
              <a:ext cx="889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7635960" y="3063600"/>
              <a:ext cx="331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7835760" y="3054240"/>
            <a:ext cx="77760" cy="58680"/>
            <a:chOff x="7835760" y="3054240"/>
            <a:chExt cx="77760" cy="58680"/>
          </a:xfrm>
        </p:grpSpPr>
        <p:sp>
          <p:nvSpPr>
            <p:cNvPr id="1390" name=""/>
            <p:cNvSpPr/>
            <p:nvPr/>
          </p:nvSpPr>
          <p:spPr>
            <a:xfrm>
              <a:off x="7835760" y="3054240"/>
              <a:ext cx="7776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7870680" y="3063600"/>
              <a:ext cx="334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5094360" y="2736720"/>
            <a:ext cx="150840" cy="55800"/>
            <a:chOff x="5094360" y="2736720"/>
            <a:chExt cx="150840" cy="55800"/>
          </a:xfrm>
        </p:grpSpPr>
        <p:sp>
          <p:nvSpPr>
            <p:cNvPr id="1393" name=""/>
            <p:cNvSpPr/>
            <p:nvPr/>
          </p:nvSpPr>
          <p:spPr>
            <a:xfrm>
              <a:off x="5194440" y="2736720"/>
              <a:ext cx="50760" cy="55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31" y="17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15" y="9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094360" y="2763720"/>
              <a:ext cx="10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11840" y="2736720"/>
            <a:ext cx="163440" cy="55800"/>
            <a:chOff x="5811840" y="2736720"/>
            <a:chExt cx="163440" cy="55800"/>
          </a:xfrm>
        </p:grpSpPr>
        <p:sp>
          <p:nvSpPr>
            <p:cNvPr id="1396" name=""/>
            <p:cNvSpPr/>
            <p:nvPr/>
          </p:nvSpPr>
          <p:spPr>
            <a:xfrm>
              <a:off x="5911920" y="2736720"/>
              <a:ext cx="63360" cy="5580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9" y="17"/>
                  </a:moveTo>
                  <a:lnTo>
                    <a:pt x="23" y="2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23" y="9"/>
                  </a:lnTo>
                  <a:lnTo>
                    <a:pt x="3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11840" y="27637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6541920" y="2736720"/>
            <a:ext cx="163800" cy="55800"/>
            <a:chOff x="6541920" y="2736720"/>
            <a:chExt cx="163800" cy="55800"/>
          </a:xfrm>
        </p:grpSpPr>
        <p:sp>
          <p:nvSpPr>
            <p:cNvPr id="1399" name=""/>
            <p:cNvSpPr/>
            <p:nvPr/>
          </p:nvSpPr>
          <p:spPr>
            <a:xfrm>
              <a:off x="6642000" y="2736720"/>
              <a:ext cx="63720" cy="5580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9" y="17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15" y="9"/>
                  </a:lnTo>
                  <a:lnTo>
                    <a:pt x="3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541920" y="276372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7261200" y="2736720"/>
            <a:ext cx="162000" cy="55800"/>
            <a:chOff x="7261200" y="2736720"/>
            <a:chExt cx="162000" cy="55800"/>
          </a:xfrm>
        </p:grpSpPr>
        <p:sp>
          <p:nvSpPr>
            <p:cNvPr id="1402" name=""/>
            <p:cNvSpPr/>
            <p:nvPr/>
          </p:nvSpPr>
          <p:spPr>
            <a:xfrm>
              <a:off x="7372440" y="2736720"/>
              <a:ext cx="50760" cy="55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31" y="17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15" y="9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261200" y="276372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991640" y="2736720"/>
            <a:ext cx="161640" cy="55800"/>
            <a:chOff x="7991640" y="2736720"/>
            <a:chExt cx="161640" cy="55800"/>
          </a:xfrm>
        </p:grpSpPr>
        <p:sp>
          <p:nvSpPr>
            <p:cNvPr id="1405" name=""/>
            <p:cNvSpPr/>
            <p:nvPr/>
          </p:nvSpPr>
          <p:spPr>
            <a:xfrm>
              <a:off x="8089920" y="2736720"/>
              <a:ext cx="63360" cy="5580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9" y="17"/>
                  </a:moveTo>
                  <a:lnTo>
                    <a:pt x="23" y="2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23" y="9"/>
                  </a:lnTo>
                  <a:lnTo>
                    <a:pt x="3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991640" y="2763720"/>
              <a:ext cx="11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5100480" y="2898720"/>
            <a:ext cx="3035520" cy="309600"/>
            <a:chOff x="5100480" y="2898720"/>
            <a:chExt cx="3035520" cy="309600"/>
          </a:xfrm>
        </p:grpSpPr>
        <p:sp>
          <p:nvSpPr>
            <p:cNvPr id="1408" name=""/>
            <p:cNvSpPr/>
            <p:nvPr/>
          </p:nvSpPr>
          <p:spPr>
            <a:xfrm>
              <a:off x="5230800" y="3156120"/>
              <a:ext cx="282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9" name=""/>
            <p:cNvGrpSpPr/>
            <p:nvPr/>
          </p:nvGrpSpPr>
          <p:grpSpPr>
            <a:xfrm>
              <a:off x="5100480" y="2898720"/>
              <a:ext cx="150840" cy="309600"/>
              <a:chOff x="5100480" y="2898720"/>
              <a:chExt cx="150840" cy="309600"/>
            </a:xfrm>
          </p:grpSpPr>
          <p:grpSp>
            <p:nvGrpSpPr>
              <p:cNvPr id="1410" name=""/>
              <p:cNvGrpSpPr/>
              <p:nvPr/>
            </p:nvGrpSpPr>
            <p:grpSpPr>
              <a:xfrm>
                <a:off x="5100480" y="3108240"/>
                <a:ext cx="150840" cy="100080"/>
                <a:chOff x="5100480" y="3108240"/>
                <a:chExt cx="150840" cy="10008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5100480" y="3108240"/>
                  <a:ext cx="150840" cy="100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5170320" y="3130200"/>
                  <a:ext cx="34920" cy="2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3" name=""/>
              <p:cNvGrpSpPr/>
              <p:nvPr/>
            </p:nvGrpSpPr>
            <p:grpSpPr>
              <a:xfrm>
                <a:off x="5156280" y="2898720"/>
                <a:ext cx="39600" cy="176040"/>
                <a:chOff x="5156280" y="2898720"/>
                <a:chExt cx="39600" cy="176040"/>
              </a:xfrm>
            </p:grpSpPr>
            <p:sp>
              <p:nvSpPr>
                <p:cNvPr id="1414" name=""/>
                <p:cNvSpPr/>
                <p:nvPr/>
              </p:nvSpPr>
              <p:spPr>
                <a:xfrm>
                  <a:off x="5156280" y="2898720"/>
                  <a:ext cx="39600" cy="55440"/>
                </a:xfrm>
                <a:custGeom>
                  <a:avLst/>
                  <a:gdLst/>
                  <a:ahLst/>
                  <a:rect l="l" t="t" r="r" b="b"/>
                  <a:pathLst>
                    <a:path w="25" h="35">
                      <a:moveTo>
                        <a:pt x="16" y="0"/>
                      </a:moveTo>
                      <a:lnTo>
                        <a:pt x="24" y="17"/>
                      </a:lnTo>
                      <a:lnTo>
                        <a:pt x="24" y="34"/>
                      </a:lnTo>
                      <a:lnTo>
                        <a:pt x="16" y="34"/>
                      </a:lnTo>
                      <a:lnTo>
                        <a:pt x="8" y="34"/>
                      </a:lnTo>
                      <a:lnTo>
                        <a:pt x="0" y="34"/>
                      </a:lnTo>
                      <a:lnTo>
                        <a:pt x="8" y="17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V="1">
                  <a:off x="5181480" y="2939760"/>
                  <a:ext cx="0" cy="13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6" name=""/>
            <p:cNvGrpSpPr/>
            <p:nvPr/>
          </p:nvGrpSpPr>
          <p:grpSpPr>
            <a:xfrm>
              <a:off x="5818320" y="2898720"/>
              <a:ext cx="152280" cy="309600"/>
              <a:chOff x="5818320" y="2898720"/>
              <a:chExt cx="152280" cy="309600"/>
            </a:xfrm>
          </p:grpSpPr>
          <p:grpSp>
            <p:nvGrpSpPr>
              <p:cNvPr id="1417" name=""/>
              <p:cNvGrpSpPr/>
              <p:nvPr/>
            </p:nvGrpSpPr>
            <p:grpSpPr>
              <a:xfrm>
                <a:off x="5818320" y="3108240"/>
                <a:ext cx="152280" cy="100080"/>
                <a:chOff x="5818320" y="3108240"/>
                <a:chExt cx="152280" cy="10008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5818320" y="3108240"/>
                  <a:ext cx="152280" cy="100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V="1">
                  <a:off x="5875200" y="3130200"/>
                  <a:ext cx="49320" cy="2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5873760" y="2898720"/>
                <a:ext cx="27000" cy="176040"/>
                <a:chOff x="5873760" y="2898720"/>
                <a:chExt cx="27000" cy="17604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5873760" y="2898720"/>
                  <a:ext cx="27000" cy="55440"/>
                </a:xfrm>
                <a:custGeom>
                  <a:avLst/>
                  <a:gdLst/>
                  <a:ahLst/>
                  <a:rect l="l" t="t" r="r" b="b"/>
                  <a:pathLst>
                    <a:path w="17" h="35">
                      <a:moveTo>
                        <a:pt x="8" y="0"/>
                      </a:moveTo>
                      <a:lnTo>
                        <a:pt x="16" y="17"/>
                      </a:lnTo>
                      <a:lnTo>
                        <a:pt x="16" y="34"/>
                      </a:lnTo>
                      <a:lnTo>
                        <a:pt x="8" y="34"/>
                      </a:lnTo>
                      <a:lnTo>
                        <a:pt x="0" y="34"/>
                      </a:lnTo>
                      <a:lnTo>
                        <a:pt x="0" y="17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V="1">
                  <a:off x="5886360" y="2939760"/>
                  <a:ext cx="0" cy="13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3" name=""/>
            <p:cNvGrpSpPr/>
            <p:nvPr/>
          </p:nvGrpSpPr>
          <p:grpSpPr>
            <a:xfrm>
              <a:off x="6548400" y="2898720"/>
              <a:ext cx="152280" cy="309600"/>
              <a:chOff x="6548400" y="2898720"/>
              <a:chExt cx="152280" cy="309600"/>
            </a:xfrm>
          </p:grpSpPr>
          <p:grpSp>
            <p:nvGrpSpPr>
              <p:cNvPr id="1424" name=""/>
              <p:cNvGrpSpPr/>
              <p:nvPr/>
            </p:nvGrpSpPr>
            <p:grpSpPr>
              <a:xfrm>
                <a:off x="6548400" y="3108240"/>
                <a:ext cx="152280" cy="100080"/>
                <a:chOff x="6548400" y="3108240"/>
                <a:chExt cx="152280" cy="10008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6548400" y="3108240"/>
                  <a:ext cx="152280" cy="100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flipV="1">
                  <a:off x="6605640" y="3130200"/>
                  <a:ext cx="49320" cy="2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6593040" y="2898720"/>
                <a:ext cx="37800" cy="176040"/>
                <a:chOff x="6593040" y="2898720"/>
                <a:chExt cx="37800" cy="17604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6593040" y="2898720"/>
                  <a:ext cx="37800" cy="55440"/>
                </a:xfrm>
                <a:custGeom>
                  <a:avLst/>
                  <a:gdLst/>
                  <a:ahLst/>
                  <a:rect l="l" t="t" r="r" b="b"/>
                  <a:pathLst>
                    <a:path w="24" h="35">
                      <a:moveTo>
                        <a:pt x="15" y="0"/>
                      </a:moveTo>
                      <a:lnTo>
                        <a:pt x="23" y="17"/>
                      </a:lnTo>
                      <a:lnTo>
                        <a:pt x="23" y="34"/>
                      </a:lnTo>
                      <a:lnTo>
                        <a:pt x="15" y="34"/>
                      </a:lnTo>
                      <a:lnTo>
                        <a:pt x="7" y="34"/>
                      </a:lnTo>
                      <a:lnTo>
                        <a:pt x="0" y="34"/>
                      </a:lnTo>
                      <a:lnTo>
                        <a:pt x="7" y="17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V="1">
                  <a:off x="6616800" y="2939760"/>
                  <a:ext cx="0" cy="13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0" name=""/>
            <p:cNvGrpSpPr/>
            <p:nvPr/>
          </p:nvGrpSpPr>
          <p:grpSpPr>
            <a:xfrm>
              <a:off x="7267680" y="2898720"/>
              <a:ext cx="150840" cy="309600"/>
              <a:chOff x="7267680" y="2898720"/>
              <a:chExt cx="150840" cy="309600"/>
            </a:xfrm>
          </p:grpSpPr>
          <p:grpSp>
            <p:nvGrpSpPr>
              <p:cNvPr id="1431" name=""/>
              <p:cNvGrpSpPr/>
              <p:nvPr/>
            </p:nvGrpSpPr>
            <p:grpSpPr>
              <a:xfrm>
                <a:off x="7267680" y="3108240"/>
                <a:ext cx="150840" cy="100080"/>
                <a:chOff x="7267680" y="3108240"/>
                <a:chExt cx="150840" cy="10008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7267680" y="3108240"/>
                  <a:ext cx="150840" cy="100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V="1">
                  <a:off x="7335720" y="3130200"/>
                  <a:ext cx="49320" cy="2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7323120" y="2898720"/>
                <a:ext cx="38160" cy="176040"/>
                <a:chOff x="7323120" y="2898720"/>
                <a:chExt cx="38160" cy="17604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7323120" y="2898720"/>
                  <a:ext cx="38160" cy="55440"/>
                </a:xfrm>
                <a:custGeom>
                  <a:avLst/>
                  <a:gdLst/>
                  <a:ahLst/>
                  <a:rect l="l" t="t" r="r" b="b"/>
                  <a:pathLst>
                    <a:path w="24" h="35">
                      <a:moveTo>
                        <a:pt x="15" y="0"/>
                      </a:moveTo>
                      <a:lnTo>
                        <a:pt x="15" y="17"/>
                      </a:lnTo>
                      <a:lnTo>
                        <a:pt x="23" y="34"/>
                      </a:lnTo>
                      <a:lnTo>
                        <a:pt x="15" y="34"/>
                      </a:lnTo>
                      <a:lnTo>
                        <a:pt x="7" y="34"/>
                      </a:lnTo>
                      <a:lnTo>
                        <a:pt x="0" y="34"/>
                      </a:lnTo>
                      <a:lnTo>
                        <a:pt x="7" y="17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V="1">
                  <a:off x="7346880" y="2939760"/>
                  <a:ext cx="0" cy="13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7" name=""/>
            <p:cNvGrpSpPr/>
            <p:nvPr/>
          </p:nvGrpSpPr>
          <p:grpSpPr>
            <a:xfrm>
              <a:off x="7985160" y="2898720"/>
              <a:ext cx="150840" cy="309600"/>
              <a:chOff x="7985160" y="2898720"/>
              <a:chExt cx="150840" cy="309600"/>
            </a:xfrm>
          </p:grpSpPr>
          <p:grpSp>
            <p:nvGrpSpPr>
              <p:cNvPr id="1438" name=""/>
              <p:cNvGrpSpPr/>
              <p:nvPr/>
            </p:nvGrpSpPr>
            <p:grpSpPr>
              <a:xfrm>
                <a:off x="7985160" y="3108240"/>
                <a:ext cx="150840" cy="100080"/>
                <a:chOff x="7985160" y="3108240"/>
                <a:chExt cx="150840" cy="10008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7985160" y="3108240"/>
                  <a:ext cx="150840" cy="100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V="1">
                  <a:off x="8053560" y="3130200"/>
                  <a:ext cx="36360" cy="2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8040600" y="2898720"/>
                <a:ext cx="38160" cy="176040"/>
                <a:chOff x="8040600" y="2898720"/>
                <a:chExt cx="38160" cy="17604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8040600" y="2898720"/>
                  <a:ext cx="38160" cy="55440"/>
                </a:xfrm>
                <a:custGeom>
                  <a:avLst/>
                  <a:gdLst/>
                  <a:ahLst/>
                  <a:rect l="l" t="t" r="r" b="b"/>
                  <a:pathLst>
                    <a:path w="24" h="35">
                      <a:moveTo>
                        <a:pt x="15" y="0"/>
                      </a:moveTo>
                      <a:lnTo>
                        <a:pt x="23" y="17"/>
                      </a:lnTo>
                      <a:lnTo>
                        <a:pt x="23" y="34"/>
                      </a:lnTo>
                      <a:lnTo>
                        <a:pt x="15" y="34"/>
                      </a:lnTo>
                      <a:lnTo>
                        <a:pt x="8" y="34"/>
                      </a:lnTo>
                      <a:lnTo>
                        <a:pt x="0" y="34"/>
                      </a:lnTo>
                      <a:lnTo>
                        <a:pt x="8" y="17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V="1">
                  <a:off x="8064360" y="2939760"/>
                  <a:ext cx="0" cy="13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44" name=""/>
          <p:cNvGrpSpPr/>
          <p:nvPr/>
        </p:nvGrpSpPr>
        <p:grpSpPr>
          <a:xfrm>
            <a:off x="6121440" y="2886120"/>
            <a:ext cx="138240" cy="190440"/>
            <a:chOff x="6121440" y="2886120"/>
            <a:chExt cx="138240" cy="190440"/>
          </a:xfrm>
        </p:grpSpPr>
        <p:grpSp>
          <p:nvGrpSpPr>
            <p:cNvPr id="1445" name=""/>
            <p:cNvGrpSpPr/>
            <p:nvPr/>
          </p:nvGrpSpPr>
          <p:grpSpPr>
            <a:xfrm>
              <a:off x="6121440" y="2886120"/>
              <a:ext cx="39600" cy="190440"/>
              <a:chOff x="6121440" y="2886120"/>
              <a:chExt cx="39600" cy="190440"/>
            </a:xfrm>
          </p:grpSpPr>
          <p:sp>
            <p:nvSpPr>
              <p:cNvPr id="1446" name=""/>
              <p:cNvSpPr/>
              <p:nvPr/>
            </p:nvSpPr>
            <p:spPr>
              <a:xfrm>
                <a:off x="6121440" y="3021120"/>
                <a:ext cx="39600" cy="5544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8" y="34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16" y="17"/>
                    </a:lnTo>
                    <a:lnTo>
                      <a:pt x="8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146640" y="28861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6221520" y="2886120"/>
              <a:ext cx="38160" cy="188640"/>
              <a:chOff x="6221520" y="2886120"/>
              <a:chExt cx="38160" cy="188640"/>
            </a:xfrm>
          </p:grpSpPr>
          <p:sp>
            <p:nvSpPr>
              <p:cNvPr id="1449" name=""/>
              <p:cNvSpPr/>
              <p:nvPr/>
            </p:nvSpPr>
            <p:spPr>
              <a:xfrm>
                <a:off x="6221520" y="2886120"/>
                <a:ext cx="38160" cy="68040"/>
              </a:xfrm>
              <a:custGeom>
                <a:avLst/>
                <a:gdLst/>
                <a:ahLst/>
                <a:rect l="l" t="t" r="r" b="b"/>
                <a:pathLst>
                  <a:path w="24" h="43">
                    <a:moveTo>
                      <a:pt x="8" y="0"/>
                    </a:moveTo>
                    <a:lnTo>
                      <a:pt x="15" y="17"/>
                    </a:lnTo>
                    <a:lnTo>
                      <a:pt x="23" y="42"/>
                    </a:lnTo>
                    <a:lnTo>
                      <a:pt x="15" y="42"/>
                    </a:lnTo>
                    <a:lnTo>
                      <a:pt x="8" y="42"/>
                    </a:lnTo>
                    <a:lnTo>
                      <a:pt x="0" y="42"/>
                    </a:lnTo>
                    <a:lnTo>
                      <a:pt x="0" y="17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V="1">
                <a:off x="6234120" y="29397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1" name=""/>
          <p:cNvGrpSpPr/>
          <p:nvPr/>
        </p:nvGrpSpPr>
        <p:grpSpPr>
          <a:xfrm>
            <a:off x="6356520" y="2886120"/>
            <a:ext cx="137880" cy="190440"/>
            <a:chOff x="6356520" y="2886120"/>
            <a:chExt cx="137880" cy="190440"/>
          </a:xfrm>
        </p:grpSpPr>
        <p:grpSp>
          <p:nvGrpSpPr>
            <p:cNvPr id="1452" name=""/>
            <p:cNvGrpSpPr/>
            <p:nvPr/>
          </p:nvGrpSpPr>
          <p:grpSpPr>
            <a:xfrm>
              <a:off x="6356520" y="2886120"/>
              <a:ext cx="39600" cy="190440"/>
              <a:chOff x="6356520" y="2886120"/>
              <a:chExt cx="39600" cy="190440"/>
            </a:xfrm>
          </p:grpSpPr>
          <p:sp>
            <p:nvSpPr>
              <p:cNvPr id="1453" name=""/>
              <p:cNvSpPr/>
              <p:nvPr/>
            </p:nvSpPr>
            <p:spPr>
              <a:xfrm>
                <a:off x="6356520" y="3021120"/>
                <a:ext cx="39600" cy="5544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16" y="34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16" y="17"/>
                    </a:lnTo>
                    <a:lnTo>
                      <a:pt x="16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381720" y="28861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6456240" y="2886120"/>
              <a:ext cx="38160" cy="188640"/>
              <a:chOff x="6456240" y="2886120"/>
              <a:chExt cx="38160" cy="188640"/>
            </a:xfrm>
          </p:grpSpPr>
          <p:sp>
            <p:nvSpPr>
              <p:cNvPr id="1456" name=""/>
              <p:cNvSpPr/>
              <p:nvPr/>
            </p:nvSpPr>
            <p:spPr>
              <a:xfrm>
                <a:off x="6456240" y="2886120"/>
                <a:ext cx="38160" cy="68040"/>
              </a:xfrm>
              <a:custGeom>
                <a:avLst/>
                <a:gdLst/>
                <a:ahLst/>
                <a:rect l="l" t="t" r="r" b="b"/>
                <a:pathLst>
                  <a:path w="24" h="43">
                    <a:moveTo>
                      <a:pt x="8" y="0"/>
                    </a:moveTo>
                    <a:lnTo>
                      <a:pt x="15" y="17"/>
                    </a:lnTo>
                    <a:lnTo>
                      <a:pt x="23" y="42"/>
                    </a:lnTo>
                    <a:lnTo>
                      <a:pt x="15" y="42"/>
                    </a:lnTo>
                    <a:lnTo>
                      <a:pt x="8" y="42"/>
                    </a:lnTo>
                    <a:lnTo>
                      <a:pt x="0" y="42"/>
                    </a:lnTo>
                    <a:lnTo>
                      <a:pt x="8" y="17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V="1">
                <a:off x="6469200" y="29397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8" name=""/>
          <p:cNvGrpSpPr/>
          <p:nvPr/>
        </p:nvGrpSpPr>
        <p:grpSpPr>
          <a:xfrm>
            <a:off x="6851520" y="2886120"/>
            <a:ext cx="138240" cy="190440"/>
            <a:chOff x="6851520" y="2886120"/>
            <a:chExt cx="138240" cy="190440"/>
          </a:xfrm>
        </p:grpSpPr>
        <p:grpSp>
          <p:nvGrpSpPr>
            <p:cNvPr id="1459" name=""/>
            <p:cNvGrpSpPr/>
            <p:nvPr/>
          </p:nvGrpSpPr>
          <p:grpSpPr>
            <a:xfrm>
              <a:off x="6851520" y="2886120"/>
              <a:ext cx="39960" cy="190440"/>
              <a:chOff x="6851520" y="2886120"/>
              <a:chExt cx="39960" cy="190440"/>
            </a:xfrm>
          </p:grpSpPr>
          <p:sp>
            <p:nvSpPr>
              <p:cNvPr id="1460" name=""/>
              <p:cNvSpPr/>
              <p:nvPr/>
            </p:nvSpPr>
            <p:spPr>
              <a:xfrm>
                <a:off x="6851520" y="3021120"/>
                <a:ext cx="39960" cy="5544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8" y="34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16" y="17"/>
                    </a:lnTo>
                    <a:lnTo>
                      <a:pt x="8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877080" y="28861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6939000" y="2886120"/>
              <a:ext cx="50760" cy="188640"/>
              <a:chOff x="6939000" y="2886120"/>
              <a:chExt cx="50760" cy="188640"/>
            </a:xfrm>
          </p:grpSpPr>
          <p:sp>
            <p:nvSpPr>
              <p:cNvPr id="1463" name=""/>
              <p:cNvSpPr/>
              <p:nvPr/>
            </p:nvSpPr>
            <p:spPr>
              <a:xfrm>
                <a:off x="6939000" y="2886120"/>
                <a:ext cx="50760" cy="6804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5" y="0"/>
                    </a:moveTo>
                    <a:lnTo>
                      <a:pt x="23" y="17"/>
                    </a:lnTo>
                    <a:lnTo>
                      <a:pt x="31" y="42"/>
                    </a:lnTo>
                    <a:lnTo>
                      <a:pt x="23" y="42"/>
                    </a:lnTo>
                    <a:lnTo>
                      <a:pt x="15" y="42"/>
                    </a:lnTo>
                    <a:lnTo>
                      <a:pt x="8" y="42"/>
                    </a:lnTo>
                    <a:lnTo>
                      <a:pt x="0" y="42"/>
                    </a:lnTo>
                    <a:lnTo>
                      <a:pt x="8" y="17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V="1">
                <a:off x="6962760" y="29397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5" name=""/>
          <p:cNvGrpSpPr/>
          <p:nvPr/>
        </p:nvGrpSpPr>
        <p:grpSpPr>
          <a:xfrm>
            <a:off x="7570800" y="2886120"/>
            <a:ext cx="149040" cy="190440"/>
            <a:chOff x="7570800" y="2886120"/>
            <a:chExt cx="149040" cy="190440"/>
          </a:xfrm>
        </p:grpSpPr>
        <p:grpSp>
          <p:nvGrpSpPr>
            <p:cNvPr id="1466" name=""/>
            <p:cNvGrpSpPr/>
            <p:nvPr/>
          </p:nvGrpSpPr>
          <p:grpSpPr>
            <a:xfrm>
              <a:off x="7570800" y="2886120"/>
              <a:ext cx="38160" cy="190440"/>
              <a:chOff x="7570800" y="2886120"/>
              <a:chExt cx="38160" cy="190440"/>
            </a:xfrm>
          </p:grpSpPr>
          <p:sp>
            <p:nvSpPr>
              <p:cNvPr id="1467" name=""/>
              <p:cNvSpPr/>
              <p:nvPr/>
            </p:nvSpPr>
            <p:spPr>
              <a:xfrm>
                <a:off x="7570800" y="302112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24" h="35">
                    <a:moveTo>
                      <a:pt x="7" y="34"/>
                    </a:moveTo>
                    <a:lnTo>
                      <a:pt x="7" y="1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15" y="17"/>
                    </a:lnTo>
                    <a:lnTo>
                      <a:pt x="7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594560" y="28861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7669080" y="2886120"/>
              <a:ext cx="50760" cy="188640"/>
              <a:chOff x="7669080" y="2886120"/>
              <a:chExt cx="50760" cy="188640"/>
            </a:xfrm>
          </p:grpSpPr>
          <p:sp>
            <p:nvSpPr>
              <p:cNvPr id="1470" name=""/>
              <p:cNvSpPr/>
              <p:nvPr/>
            </p:nvSpPr>
            <p:spPr>
              <a:xfrm>
                <a:off x="7669080" y="2886120"/>
                <a:ext cx="50760" cy="6804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5" y="0"/>
                    </a:moveTo>
                    <a:lnTo>
                      <a:pt x="23" y="17"/>
                    </a:lnTo>
                    <a:lnTo>
                      <a:pt x="31" y="42"/>
                    </a:lnTo>
                    <a:lnTo>
                      <a:pt x="23" y="42"/>
                    </a:lnTo>
                    <a:lnTo>
                      <a:pt x="15" y="42"/>
                    </a:lnTo>
                    <a:lnTo>
                      <a:pt x="8" y="42"/>
                    </a:lnTo>
                    <a:lnTo>
                      <a:pt x="0" y="42"/>
                    </a:lnTo>
                    <a:lnTo>
                      <a:pt x="8" y="17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V="1">
                <a:off x="7693200" y="29397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2" name=""/>
          <p:cNvGrpSpPr/>
          <p:nvPr/>
        </p:nvGrpSpPr>
        <p:grpSpPr>
          <a:xfrm>
            <a:off x="7805880" y="2886120"/>
            <a:ext cx="137880" cy="190440"/>
            <a:chOff x="7805880" y="2886120"/>
            <a:chExt cx="137880" cy="190440"/>
          </a:xfrm>
        </p:grpSpPr>
        <p:grpSp>
          <p:nvGrpSpPr>
            <p:cNvPr id="1473" name=""/>
            <p:cNvGrpSpPr/>
            <p:nvPr/>
          </p:nvGrpSpPr>
          <p:grpSpPr>
            <a:xfrm>
              <a:off x="7805880" y="2886120"/>
              <a:ext cx="50760" cy="190440"/>
              <a:chOff x="7805880" y="2886120"/>
              <a:chExt cx="50760" cy="190440"/>
            </a:xfrm>
          </p:grpSpPr>
          <p:sp>
            <p:nvSpPr>
              <p:cNvPr id="1474" name=""/>
              <p:cNvSpPr/>
              <p:nvPr/>
            </p:nvSpPr>
            <p:spPr>
              <a:xfrm>
                <a:off x="7805880" y="3021120"/>
                <a:ext cx="5076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15" y="34"/>
                    </a:moveTo>
                    <a:lnTo>
                      <a:pt x="7" y="1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23" y="17"/>
                    </a:lnTo>
                    <a:lnTo>
                      <a:pt x="15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829640" y="28861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7916760" y="2886120"/>
              <a:ext cx="27000" cy="188640"/>
              <a:chOff x="7916760" y="2886120"/>
              <a:chExt cx="27000" cy="188640"/>
            </a:xfrm>
          </p:grpSpPr>
          <p:sp>
            <p:nvSpPr>
              <p:cNvPr id="1477" name=""/>
              <p:cNvSpPr/>
              <p:nvPr/>
            </p:nvSpPr>
            <p:spPr>
              <a:xfrm>
                <a:off x="7916760" y="2886120"/>
                <a:ext cx="27000" cy="68040"/>
              </a:xfrm>
              <a:custGeom>
                <a:avLst/>
                <a:gdLst/>
                <a:ahLst/>
                <a:rect l="l" t="t" r="r" b="b"/>
                <a:pathLst>
                  <a:path w="17" h="43">
                    <a:moveTo>
                      <a:pt x="0" y="0"/>
                    </a:moveTo>
                    <a:lnTo>
                      <a:pt x="8" y="17"/>
                    </a:lnTo>
                    <a:lnTo>
                      <a:pt x="16" y="42"/>
                    </a:lnTo>
                    <a:lnTo>
                      <a:pt x="8" y="42"/>
                    </a:lnTo>
                    <a:lnTo>
                      <a:pt x="0" y="42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V="1">
                <a:off x="7916760" y="29397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9" name=""/>
          <p:cNvGrpSpPr/>
          <p:nvPr/>
        </p:nvGrpSpPr>
        <p:grpSpPr>
          <a:xfrm>
            <a:off x="5211720" y="3786120"/>
            <a:ext cx="2738520" cy="220680"/>
            <a:chOff x="5211720" y="3786120"/>
            <a:chExt cx="2738520" cy="220680"/>
          </a:xfrm>
        </p:grpSpPr>
        <p:sp>
          <p:nvSpPr>
            <p:cNvPr id="1480" name=""/>
            <p:cNvSpPr/>
            <p:nvPr/>
          </p:nvSpPr>
          <p:spPr>
            <a:xfrm>
              <a:off x="5211720" y="3786120"/>
              <a:ext cx="53496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42160" y="3786120"/>
              <a:ext cx="54756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684840" y="3786120"/>
              <a:ext cx="53496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415280" y="3786120"/>
              <a:ext cx="53496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4642920" y="3800520"/>
            <a:ext cx="33120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8220960" y="3800520"/>
            <a:ext cx="46836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5205240" y="3807000"/>
            <a:ext cx="557280" cy="195120"/>
            <a:chOff x="5205240" y="3807000"/>
            <a:chExt cx="557280" cy="195120"/>
          </a:xfrm>
        </p:grpSpPr>
        <p:sp>
          <p:nvSpPr>
            <p:cNvPr id="1487" name=""/>
            <p:cNvSpPr/>
            <p:nvPr/>
          </p:nvSpPr>
          <p:spPr>
            <a:xfrm>
              <a:off x="5329080" y="380700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205240" y="3833640"/>
              <a:ext cx="136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380200" y="3846600"/>
              <a:ext cx="0" cy="68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443560" y="3860640"/>
              <a:ext cx="1332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26080" y="3873600"/>
              <a:ext cx="0" cy="8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318280" y="3914640"/>
              <a:ext cx="115560" cy="5904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553000" y="381960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564160" y="3941640"/>
              <a:ext cx="128520" cy="60480"/>
            </a:xfrm>
            <a:custGeom>
              <a:avLst/>
              <a:gdLst/>
              <a:ahLst/>
              <a:rect l="l" t="t" r="r" b="b"/>
              <a:pathLst>
                <a:path w="81" h="38">
                  <a:moveTo>
                    <a:pt x="0" y="0"/>
                  </a:moveTo>
                  <a:lnTo>
                    <a:pt x="80" y="0"/>
                  </a:lnTo>
                  <a:lnTo>
                    <a:pt x="80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676840" y="3860640"/>
              <a:ext cx="85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5924520" y="3807000"/>
            <a:ext cx="581040" cy="195120"/>
            <a:chOff x="5924520" y="3807000"/>
            <a:chExt cx="581040" cy="195120"/>
          </a:xfrm>
        </p:grpSpPr>
        <p:sp>
          <p:nvSpPr>
            <p:cNvPr id="1497" name=""/>
            <p:cNvSpPr/>
            <p:nvPr/>
          </p:nvSpPr>
          <p:spPr>
            <a:xfrm>
              <a:off x="6059520" y="380700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924520" y="3833640"/>
              <a:ext cx="135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110280" y="3846600"/>
              <a:ext cx="0" cy="68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61040" y="3860640"/>
              <a:ext cx="146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56520" y="3873600"/>
              <a:ext cx="0" cy="8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35760" y="3914640"/>
              <a:ext cx="115920" cy="5904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283440" y="381960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07200" y="3941640"/>
              <a:ext cx="115920" cy="60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94320" y="3860640"/>
              <a:ext cx="11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665760" y="3807000"/>
            <a:ext cx="570240" cy="195120"/>
            <a:chOff x="6665760" y="3807000"/>
            <a:chExt cx="570240" cy="195120"/>
          </a:xfrm>
        </p:grpSpPr>
        <p:sp>
          <p:nvSpPr>
            <p:cNvPr id="1507" name=""/>
            <p:cNvSpPr/>
            <p:nvPr/>
          </p:nvSpPr>
          <p:spPr>
            <a:xfrm>
              <a:off x="6789600" y="380700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65760" y="3833640"/>
              <a:ext cx="123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840360" y="3846600"/>
              <a:ext cx="0" cy="68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91480" y="3860640"/>
              <a:ext cx="1458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086600" y="3873600"/>
              <a:ext cx="0" cy="8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765840" y="3914640"/>
              <a:ext cx="115920" cy="5904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013520" y="381960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037280" y="3941640"/>
              <a:ext cx="115920" cy="60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124760" y="3860640"/>
              <a:ext cx="11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7408800" y="3807000"/>
            <a:ext cx="557280" cy="195120"/>
            <a:chOff x="7408800" y="3807000"/>
            <a:chExt cx="557280" cy="195120"/>
          </a:xfrm>
        </p:grpSpPr>
        <p:sp>
          <p:nvSpPr>
            <p:cNvPr id="1517" name=""/>
            <p:cNvSpPr/>
            <p:nvPr/>
          </p:nvSpPr>
          <p:spPr>
            <a:xfrm>
              <a:off x="7520040" y="380700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408800" y="3833640"/>
              <a:ext cx="123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570800" y="3846600"/>
              <a:ext cx="0" cy="68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634160" y="3860640"/>
              <a:ext cx="146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816680" y="3873600"/>
              <a:ext cx="0" cy="8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508880" y="3914640"/>
              <a:ext cx="115920" cy="5904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743960" y="381960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767720" y="3941640"/>
              <a:ext cx="115920" cy="60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2" y="0"/>
                  </a:lnTo>
                  <a:lnTo>
                    <a:pt x="72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867800" y="3860640"/>
              <a:ext cx="98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5386320" y="4178160"/>
            <a:ext cx="76320" cy="59040"/>
            <a:chOff x="5386320" y="4178160"/>
            <a:chExt cx="76320" cy="59040"/>
          </a:xfrm>
        </p:grpSpPr>
        <p:sp>
          <p:nvSpPr>
            <p:cNvPr id="1527" name=""/>
            <p:cNvSpPr/>
            <p:nvPr/>
          </p:nvSpPr>
          <p:spPr>
            <a:xfrm>
              <a:off x="5386320" y="4178160"/>
              <a:ext cx="7632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5403960" y="418608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6116760" y="4178160"/>
            <a:ext cx="75960" cy="59040"/>
            <a:chOff x="6116760" y="4178160"/>
            <a:chExt cx="75960" cy="59040"/>
          </a:xfrm>
        </p:grpSpPr>
        <p:sp>
          <p:nvSpPr>
            <p:cNvPr id="1530" name=""/>
            <p:cNvSpPr/>
            <p:nvPr/>
          </p:nvSpPr>
          <p:spPr>
            <a:xfrm>
              <a:off x="6116760" y="4178160"/>
              <a:ext cx="7596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6134040" y="418608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6227640" y="4178160"/>
            <a:ext cx="88920" cy="59040"/>
            <a:chOff x="6227640" y="4178160"/>
            <a:chExt cx="88920" cy="59040"/>
          </a:xfrm>
        </p:grpSpPr>
        <p:sp>
          <p:nvSpPr>
            <p:cNvPr id="1533" name=""/>
            <p:cNvSpPr/>
            <p:nvPr/>
          </p:nvSpPr>
          <p:spPr>
            <a:xfrm>
              <a:off x="6227640" y="4178160"/>
              <a:ext cx="8892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6257880" y="4186080"/>
              <a:ext cx="367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6958080" y="4178160"/>
            <a:ext cx="88920" cy="59040"/>
            <a:chOff x="6958080" y="4178160"/>
            <a:chExt cx="88920" cy="59040"/>
          </a:xfrm>
        </p:grpSpPr>
        <p:sp>
          <p:nvSpPr>
            <p:cNvPr id="1536" name=""/>
            <p:cNvSpPr/>
            <p:nvPr/>
          </p:nvSpPr>
          <p:spPr>
            <a:xfrm>
              <a:off x="6958080" y="4178160"/>
              <a:ext cx="8892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6988320" y="4186080"/>
              <a:ext cx="363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6338880" y="4178160"/>
            <a:ext cx="88920" cy="59040"/>
            <a:chOff x="6338880" y="4178160"/>
            <a:chExt cx="88920" cy="59040"/>
          </a:xfrm>
        </p:grpSpPr>
        <p:sp>
          <p:nvSpPr>
            <p:cNvPr id="1539" name=""/>
            <p:cNvSpPr/>
            <p:nvPr/>
          </p:nvSpPr>
          <p:spPr>
            <a:xfrm>
              <a:off x="6338880" y="4178160"/>
              <a:ext cx="8892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6369120" y="418608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7068960" y="4178160"/>
            <a:ext cx="88920" cy="59040"/>
            <a:chOff x="7068960" y="4178160"/>
            <a:chExt cx="88920" cy="59040"/>
          </a:xfrm>
        </p:grpSpPr>
        <p:sp>
          <p:nvSpPr>
            <p:cNvPr id="1542" name=""/>
            <p:cNvSpPr/>
            <p:nvPr/>
          </p:nvSpPr>
          <p:spPr>
            <a:xfrm>
              <a:off x="7068960" y="4178160"/>
              <a:ext cx="8892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7099200" y="418608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7453440" y="4178160"/>
            <a:ext cx="88920" cy="59040"/>
            <a:chOff x="7453440" y="4178160"/>
            <a:chExt cx="88920" cy="59040"/>
          </a:xfrm>
        </p:grpSpPr>
        <p:sp>
          <p:nvSpPr>
            <p:cNvPr id="1545" name=""/>
            <p:cNvSpPr/>
            <p:nvPr/>
          </p:nvSpPr>
          <p:spPr>
            <a:xfrm>
              <a:off x="7453440" y="4178160"/>
              <a:ext cx="8892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7483320" y="4186080"/>
              <a:ext cx="367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7577280" y="4178160"/>
            <a:ext cx="75960" cy="59040"/>
            <a:chOff x="7577280" y="4178160"/>
            <a:chExt cx="75960" cy="59040"/>
          </a:xfrm>
        </p:grpSpPr>
        <p:sp>
          <p:nvSpPr>
            <p:cNvPr id="1548" name=""/>
            <p:cNvSpPr/>
            <p:nvPr/>
          </p:nvSpPr>
          <p:spPr>
            <a:xfrm>
              <a:off x="7577280" y="4178160"/>
              <a:ext cx="7596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7607160" y="4186080"/>
              <a:ext cx="255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0" name=""/>
          <p:cNvGrpSpPr/>
          <p:nvPr/>
        </p:nvGrpSpPr>
        <p:grpSpPr>
          <a:xfrm>
            <a:off x="7812000" y="4178160"/>
            <a:ext cx="76320" cy="59040"/>
            <a:chOff x="7812000" y="4178160"/>
            <a:chExt cx="76320" cy="59040"/>
          </a:xfrm>
        </p:grpSpPr>
        <p:sp>
          <p:nvSpPr>
            <p:cNvPr id="1551" name=""/>
            <p:cNvSpPr/>
            <p:nvPr/>
          </p:nvSpPr>
          <p:spPr>
            <a:xfrm>
              <a:off x="7812000" y="4178160"/>
              <a:ext cx="7632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7829640" y="418608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5045040" y="3873600"/>
            <a:ext cx="150840" cy="55440"/>
            <a:chOff x="5045040" y="3873600"/>
            <a:chExt cx="150840" cy="55440"/>
          </a:xfrm>
        </p:grpSpPr>
        <p:sp>
          <p:nvSpPr>
            <p:cNvPr id="1554" name=""/>
            <p:cNvSpPr/>
            <p:nvPr/>
          </p:nvSpPr>
          <p:spPr>
            <a:xfrm>
              <a:off x="5156280" y="3873600"/>
              <a:ext cx="39600" cy="5544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4" y="17"/>
                  </a:moveTo>
                  <a:lnTo>
                    <a:pt x="16" y="2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24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045040" y="3900600"/>
              <a:ext cx="11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5762520" y="3873600"/>
            <a:ext cx="174600" cy="55440"/>
            <a:chOff x="5762520" y="3873600"/>
            <a:chExt cx="174600" cy="55440"/>
          </a:xfrm>
        </p:grpSpPr>
        <p:sp>
          <p:nvSpPr>
            <p:cNvPr id="1557" name=""/>
            <p:cNvSpPr/>
            <p:nvPr/>
          </p:nvSpPr>
          <p:spPr>
            <a:xfrm>
              <a:off x="5873760" y="387360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9" y="17"/>
                  </a:moveTo>
                  <a:lnTo>
                    <a:pt x="16" y="2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3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762520" y="390060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6505560" y="3873600"/>
            <a:ext cx="162000" cy="55440"/>
            <a:chOff x="6505560" y="3873600"/>
            <a:chExt cx="162000" cy="55440"/>
          </a:xfrm>
        </p:grpSpPr>
        <p:sp>
          <p:nvSpPr>
            <p:cNvPr id="1560" name=""/>
            <p:cNvSpPr/>
            <p:nvPr/>
          </p:nvSpPr>
          <p:spPr>
            <a:xfrm>
              <a:off x="6603840" y="387360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9" y="17"/>
                  </a:moveTo>
                  <a:lnTo>
                    <a:pt x="16" y="2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3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505560" y="3900600"/>
              <a:ext cx="11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2" name=""/>
          <p:cNvGrpSpPr/>
          <p:nvPr/>
        </p:nvGrpSpPr>
        <p:grpSpPr>
          <a:xfrm>
            <a:off x="7236000" y="3873600"/>
            <a:ext cx="161640" cy="55440"/>
            <a:chOff x="7236000" y="3873600"/>
            <a:chExt cx="161640" cy="55440"/>
          </a:xfrm>
        </p:grpSpPr>
        <p:sp>
          <p:nvSpPr>
            <p:cNvPr id="1563" name=""/>
            <p:cNvSpPr/>
            <p:nvPr/>
          </p:nvSpPr>
          <p:spPr>
            <a:xfrm>
              <a:off x="7334280" y="387360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9" y="17"/>
                  </a:moveTo>
                  <a:lnTo>
                    <a:pt x="16" y="2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3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236000" y="3900600"/>
              <a:ext cx="11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7966080" y="3873600"/>
            <a:ext cx="162000" cy="55440"/>
            <a:chOff x="7966080" y="3873600"/>
            <a:chExt cx="162000" cy="55440"/>
          </a:xfrm>
        </p:grpSpPr>
        <p:sp>
          <p:nvSpPr>
            <p:cNvPr id="1566" name=""/>
            <p:cNvSpPr/>
            <p:nvPr/>
          </p:nvSpPr>
          <p:spPr>
            <a:xfrm>
              <a:off x="8064360" y="387360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9" y="17"/>
                  </a:moveTo>
                  <a:lnTo>
                    <a:pt x="24" y="2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24" y="9"/>
                  </a:lnTo>
                  <a:lnTo>
                    <a:pt x="3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966080" y="3900600"/>
              <a:ext cx="11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5051520" y="4022640"/>
            <a:ext cx="3058920" cy="309600"/>
            <a:chOff x="5051520" y="4022640"/>
            <a:chExt cx="3058920" cy="309600"/>
          </a:xfrm>
        </p:grpSpPr>
        <p:sp>
          <p:nvSpPr>
            <p:cNvPr id="1569" name=""/>
            <p:cNvSpPr/>
            <p:nvPr/>
          </p:nvSpPr>
          <p:spPr>
            <a:xfrm>
              <a:off x="5194440" y="4280040"/>
              <a:ext cx="28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0" name=""/>
            <p:cNvGrpSpPr/>
            <p:nvPr/>
          </p:nvGrpSpPr>
          <p:grpSpPr>
            <a:xfrm>
              <a:off x="5051520" y="4022640"/>
              <a:ext cx="150840" cy="309600"/>
              <a:chOff x="5051520" y="4022640"/>
              <a:chExt cx="150840" cy="309600"/>
            </a:xfrm>
          </p:grpSpPr>
          <p:grpSp>
            <p:nvGrpSpPr>
              <p:cNvPr id="1571" name=""/>
              <p:cNvGrpSpPr/>
              <p:nvPr/>
            </p:nvGrpSpPr>
            <p:grpSpPr>
              <a:xfrm>
                <a:off x="5051520" y="4232160"/>
                <a:ext cx="150840" cy="100080"/>
                <a:chOff x="5051520" y="4232160"/>
                <a:chExt cx="150840" cy="100080"/>
              </a:xfrm>
            </p:grpSpPr>
            <p:sp>
              <p:nvSpPr>
                <p:cNvPr id="1572" name=""/>
                <p:cNvSpPr/>
                <p:nvPr/>
              </p:nvSpPr>
              <p:spPr>
                <a:xfrm>
                  <a:off x="5051520" y="4232160"/>
                  <a:ext cx="150840" cy="100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V="1">
                  <a:off x="5119560" y="4252680"/>
                  <a:ext cx="4932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5106960" y="4022640"/>
                <a:ext cx="50760" cy="188640"/>
                <a:chOff x="5106960" y="4022640"/>
                <a:chExt cx="50760" cy="18864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5106960" y="4022640"/>
                  <a:ext cx="50760" cy="5580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16" y="0"/>
                      </a:moveTo>
                      <a:lnTo>
                        <a:pt x="23" y="17"/>
                      </a:lnTo>
                      <a:lnTo>
                        <a:pt x="31" y="34"/>
                      </a:lnTo>
                      <a:lnTo>
                        <a:pt x="23" y="34"/>
                      </a:lnTo>
                      <a:lnTo>
                        <a:pt x="16" y="34"/>
                      </a:lnTo>
                      <a:lnTo>
                        <a:pt x="8" y="34"/>
                      </a:lnTo>
                      <a:lnTo>
                        <a:pt x="0" y="34"/>
                      </a:lnTo>
                      <a:lnTo>
                        <a:pt x="8" y="17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V="1">
                  <a:off x="5132520" y="4076280"/>
                  <a:ext cx="0" cy="13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7" name=""/>
            <p:cNvGrpSpPr/>
            <p:nvPr/>
          </p:nvGrpSpPr>
          <p:grpSpPr>
            <a:xfrm>
              <a:off x="5769000" y="4022640"/>
              <a:ext cx="163440" cy="309600"/>
              <a:chOff x="5769000" y="4022640"/>
              <a:chExt cx="163440" cy="309600"/>
            </a:xfrm>
          </p:grpSpPr>
          <p:grpSp>
            <p:nvGrpSpPr>
              <p:cNvPr id="1578" name=""/>
              <p:cNvGrpSpPr/>
              <p:nvPr/>
            </p:nvGrpSpPr>
            <p:grpSpPr>
              <a:xfrm>
                <a:off x="5769000" y="4232160"/>
                <a:ext cx="163440" cy="100080"/>
                <a:chOff x="5769000" y="4232160"/>
                <a:chExt cx="163440" cy="10008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5769000" y="4232160"/>
                  <a:ext cx="163440" cy="100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V="1">
                  <a:off x="5837400" y="4252680"/>
                  <a:ext cx="4896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5824440" y="4022640"/>
                <a:ext cx="39960" cy="188640"/>
                <a:chOff x="5824440" y="4022640"/>
                <a:chExt cx="39960" cy="18864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5824440" y="4022640"/>
                  <a:ext cx="39960" cy="55800"/>
                </a:xfrm>
                <a:custGeom>
                  <a:avLst/>
                  <a:gdLst/>
                  <a:ahLst/>
                  <a:rect l="l" t="t" r="r" b="b"/>
                  <a:pathLst>
                    <a:path w="25" h="35">
                      <a:moveTo>
                        <a:pt x="16" y="0"/>
                      </a:moveTo>
                      <a:lnTo>
                        <a:pt x="16" y="17"/>
                      </a:lnTo>
                      <a:lnTo>
                        <a:pt x="24" y="34"/>
                      </a:lnTo>
                      <a:lnTo>
                        <a:pt x="16" y="34"/>
                      </a:lnTo>
                      <a:lnTo>
                        <a:pt x="8" y="34"/>
                      </a:lnTo>
                      <a:lnTo>
                        <a:pt x="0" y="34"/>
                      </a:lnTo>
                      <a:lnTo>
                        <a:pt x="8" y="17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V="1">
                  <a:off x="5850000" y="4076280"/>
                  <a:ext cx="0" cy="13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4" name=""/>
            <p:cNvGrpSpPr/>
            <p:nvPr/>
          </p:nvGrpSpPr>
          <p:grpSpPr>
            <a:xfrm>
              <a:off x="6512040" y="4022640"/>
              <a:ext cx="150840" cy="309600"/>
              <a:chOff x="6512040" y="4022640"/>
              <a:chExt cx="150840" cy="309600"/>
            </a:xfrm>
          </p:grpSpPr>
          <p:grpSp>
            <p:nvGrpSpPr>
              <p:cNvPr id="1585" name=""/>
              <p:cNvGrpSpPr/>
              <p:nvPr/>
            </p:nvGrpSpPr>
            <p:grpSpPr>
              <a:xfrm>
                <a:off x="6512040" y="4232160"/>
                <a:ext cx="150840" cy="100080"/>
                <a:chOff x="6512040" y="4232160"/>
                <a:chExt cx="150840" cy="100080"/>
              </a:xfrm>
            </p:grpSpPr>
            <p:sp>
              <p:nvSpPr>
                <p:cNvPr id="1586" name=""/>
                <p:cNvSpPr/>
                <p:nvPr/>
              </p:nvSpPr>
              <p:spPr>
                <a:xfrm>
                  <a:off x="6512040" y="4232160"/>
                  <a:ext cx="150840" cy="100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6567480" y="4252680"/>
                  <a:ext cx="4932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8" name=""/>
              <p:cNvGrpSpPr/>
              <p:nvPr/>
            </p:nvGrpSpPr>
            <p:grpSpPr>
              <a:xfrm>
                <a:off x="6554880" y="4022640"/>
                <a:ext cx="39600" cy="188640"/>
                <a:chOff x="6554880" y="4022640"/>
                <a:chExt cx="39600" cy="18864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6554880" y="4022640"/>
                  <a:ext cx="39600" cy="55800"/>
                </a:xfrm>
                <a:custGeom>
                  <a:avLst/>
                  <a:gdLst/>
                  <a:ahLst/>
                  <a:rect l="l" t="t" r="r" b="b"/>
                  <a:pathLst>
                    <a:path w="25" h="35">
                      <a:moveTo>
                        <a:pt x="16" y="0"/>
                      </a:moveTo>
                      <a:lnTo>
                        <a:pt x="24" y="17"/>
                      </a:lnTo>
                      <a:lnTo>
                        <a:pt x="24" y="34"/>
                      </a:lnTo>
                      <a:lnTo>
                        <a:pt x="16" y="34"/>
                      </a:lnTo>
                      <a:lnTo>
                        <a:pt x="8" y="34"/>
                      </a:lnTo>
                      <a:lnTo>
                        <a:pt x="0" y="34"/>
                      </a:lnTo>
                      <a:lnTo>
                        <a:pt x="8" y="17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V="1">
                  <a:off x="6580080" y="4076280"/>
                  <a:ext cx="0" cy="13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1" name=""/>
            <p:cNvGrpSpPr/>
            <p:nvPr/>
          </p:nvGrpSpPr>
          <p:grpSpPr>
            <a:xfrm>
              <a:off x="7242120" y="4022640"/>
              <a:ext cx="150840" cy="309600"/>
              <a:chOff x="7242120" y="4022640"/>
              <a:chExt cx="150840" cy="309600"/>
            </a:xfrm>
          </p:grpSpPr>
          <p:grpSp>
            <p:nvGrpSpPr>
              <p:cNvPr id="1592" name=""/>
              <p:cNvGrpSpPr/>
              <p:nvPr/>
            </p:nvGrpSpPr>
            <p:grpSpPr>
              <a:xfrm>
                <a:off x="7242120" y="4232160"/>
                <a:ext cx="150840" cy="100080"/>
                <a:chOff x="7242120" y="4232160"/>
                <a:chExt cx="150840" cy="10008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7242120" y="4232160"/>
                  <a:ext cx="150840" cy="100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V="1">
                  <a:off x="7297560" y="4252680"/>
                  <a:ext cx="4932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5" name=""/>
              <p:cNvGrpSpPr/>
              <p:nvPr/>
            </p:nvGrpSpPr>
            <p:grpSpPr>
              <a:xfrm>
                <a:off x="7284960" y="4022640"/>
                <a:ext cx="39600" cy="188640"/>
                <a:chOff x="7284960" y="4022640"/>
                <a:chExt cx="39600" cy="188640"/>
              </a:xfrm>
            </p:grpSpPr>
            <p:sp>
              <p:nvSpPr>
                <p:cNvPr id="1596" name=""/>
                <p:cNvSpPr/>
                <p:nvPr/>
              </p:nvSpPr>
              <p:spPr>
                <a:xfrm>
                  <a:off x="7284960" y="4022640"/>
                  <a:ext cx="39600" cy="55800"/>
                </a:xfrm>
                <a:custGeom>
                  <a:avLst/>
                  <a:gdLst/>
                  <a:ahLst/>
                  <a:rect l="l" t="t" r="r" b="b"/>
                  <a:pathLst>
                    <a:path w="25" h="35">
                      <a:moveTo>
                        <a:pt x="16" y="0"/>
                      </a:moveTo>
                      <a:lnTo>
                        <a:pt x="24" y="17"/>
                      </a:lnTo>
                      <a:lnTo>
                        <a:pt x="24" y="34"/>
                      </a:lnTo>
                      <a:lnTo>
                        <a:pt x="16" y="34"/>
                      </a:lnTo>
                      <a:lnTo>
                        <a:pt x="8" y="34"/>
                      </a:lnTo>
                      <a:lnTo>
                        <a:pt x="0" y="34"/>
                      </a:lnTo>
                      <a:lnTo>
                        <a:pt x="8" y="17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V="1">
                  <a:off x="7310520" y="4076280"/>
                  <a:ext cx="0" cy="13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8" name=""/>
            <p:cNvGrpSpPr/>
            <p:nvPr/>
          </p:nvGrpSpPr>
          <p:grpSpPr>
            <a:xfrm>
              <a:off x="7959600" y="4022640"/>
              <a:ext cx="150840" cy="309600"/>
              <a:chOff x="7959600" y="4022640"/>
              <a:chExt cx="150840" cy="309600"/>
            </a:xfrm>
          </p:grpSpPr>
          <p:grpSp>
            <p:nvGrpSpPr>
              <p:cNvPr id="1599" name=""/>
              <p:cNvGrpSpPr/>
              <p:nvPr/>
            </p:nvGrpSpPr>
            <p:grpSpPr>
              <a:xfrm>
                <a:off x="7959600" y="4232160"/>
                <a:ext cx="150840" cy="100080"/>
                <a:chOff x="7959600" y="4232160"/>
                <a:chExt cx="150840" cy="10008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7959600" y="4232160"/>
                  <a:ext cx="150840" cy="100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V="1">
                  <a:off x="8016840" y="4254120"/>
                  <a:ext cx="47520" cy="2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8002440" y="4022640"/>
                <a:ext cx="52560" cy="188640"/>
                <a:chOff x="8002440" y="4022640"/>
                <a:chExt cx="52560" cy="18864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8002440" y="4022640"/>
                  <a:ext cx="52560" cy="55800"/>
                </a:xfrm>
                <a:custGeom>
                  <a:avLst/>
                  <a:gdLst/>
                  <a:ahLst/>
                  <a:rect l="l" t="t" r="r" b="b"/>
                  <a:pathLst>
                    <a:path w="33" h="35">
                      <a:moveTo>
                        <a:pt x="16" y="0"/>
                      </a:moveTo>
                      <a:lnTo>
                        <a:pt x="24" y="17"/>
                      </a:lnTo>
                      <a:lnTo>
                        <a:pt x="32" y="34"/>
                      </a:lnTo>
                      <a:lnTo>
                        <a:pt x="24" y="34"/>
                      </a:lnTo>
                      <a:lnTo>
                        <a:pt x="16" y="34"/>
                      </a:lnTo>
                      <a:lnTo>
                        <a:pt x="8" y="34"/>
                      </a:lnTo>
                      <a:lnTo>
                        <a:pt x="0" y="34"/>
                      </a:lnTo>
                      <a:lnTo>
                        <a:pt x="8" y="17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V="1">
                  <a:off x="8028000" y="4076280"/>
                  <a:ext cx="0" cy="13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05" name=""/>
          <p:cNvSpPr/>
          <p:nvPr/>
        </p:nvSpPr>
        <p:spPr>
          <a:xfrm>
            <a:off x="5237280" y="4881600"/>
            <a:ext cx="534960" cy="22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967360" y="4881600"/>
            <a:ext cx="534960" cy="22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97800" y="4881600"/>
            <a:ext cx="534960" cy="22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427880" y="4881600"/>
            <a:ext cx="534960" cy="22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668480" y="4897440"/>
            <a:ext cx="33120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233560" y="4897440"/>
            <a:ext cx="46836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168880" y="4970520"/>
            <a:ext cx="50760" cy="55440"/>
          </a:xfrm>
          <a:custGeom>
            <a:avLst/>
            <a:gdLst/>
            <a:ahLst/>
            <a:rect l="l" t="t" r="r" b="b"/>
            <a:pathLst>
              <a:path w="32" h="35">
                <a:moveTo>
                  <a:pt x="31" y="17"/>
                </a:moveTo>
                <a:lnTo>
                  <a:pt x="16" y="26"/>
                </a:lnTo>
                <a:lnTo>
                  <a:pt x="0" y="34"/>
                </a:lnTo>
                <a:lnTo>
                  <a:pt x="0" y="26"/>
                </a:lnTo>
                <a:lnTo>
                  <a:pt x="0" y="17"/>
                </a:lnTo>
                <a:lnTo>
                  <a:pt x="0" y="8"/>
                </a:lnTo>
                <a:lnTo>
                  <a:pt x="0" y="0"/>
                </a:lnTo>
                <a:lnTo>
                  <a:pt x="16" y="8"/>
                </a:lnTo>
                <a:lnTo>
                  <a:pt x="31" y="1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070600" y="499752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86360" y="4970520"/>
            <a:ext cx="63720" cy="55440"/>
          </a:xfrm>
          <a:custGeom>
            <a:avLst/>
            <a:gdLst/>
            <a:ahLst/>
            <a:rect l="l" t="t" r="r" b="b"/>
            <a:pathLst>
              <a:path w="40" h="35">
                <a:moveTo>
                  <a:pt x="39" y="17"/>
                </a:moveTo>
                <a:lnTo>
                  <a:pt x="24" y="26"/>
                </a:lnTo>
                <a:lnTo>
                  <a:pt x="0" y="34"/>
                </a:lnTo>
                <a:lnTo>
                  <a:pt x="0" y="26"/>
                </a:lnTo>
                <a:lnTo>
                  <a:pt x="0" y="17"/>
                </a:lnTo>
                <a:lnTo>
                  <a:pt x="0" y="8"/>
                </a:lnTo>
                <a:lnTo>
                  <a:pt x="0" y="0"/>
                </a:lnTo>
                <a:lnTo>
                  <a:pt x="24" y="8"/>
                </a:lnTo>
                <a:lnTo>
                  <a:pt x="39" y="1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788080" y="499752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16800" y="4970520"/>
            <a:ext cx="63360" cy="55440"/>
          </a:xfrm>
          <a:custGeom>
            <a:avLst/>
            <a:gdLst/>
            <a:ahLst/>
            <a:rect l="l" t="t" r="r" b="b"/>
            <a:pathLst>
              <a:path w="40" h="35">
                <a:moveTo>
                  <a:pt x="39" y="17"/>
                </a:moveTo>
                <a:lnTo>
                  <a:pt x="24" y="26"/>
                </a:lnTo>
                <a:lnTo>
                  <a:pt x="0" y="34"/>
                </a:lnTo>
                <a:lnTo>
                  <a:pt x="0" y="26"/>
                </a:lnTo>
                <a:lnTo>
                  <a:pt x="0" y="17"/>
                </a:lnTo>
                <a:lnTo>
                  <a:pt x="0" y="8"/>
                </a:lnTo>
                <a:lnTo>
                  <a:pt x="0" y="0"/>
                </a:lnTo>
                <a:lnTo>
                  <a:pt x="24" y="8"/>
                </a:lnTo>
                <a:lnTo>
                  <a:pt x="39" y="1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518160" y="499752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359480" y="4970520"/>
            <a:ext cx="51120" cy="55440"/>
          </a:xfrm>
          <a:custGeom>
            <a:avLst/>
            <a:gdLst/>
            <a:ahLst/>
            <a:rect l="l" t="t" r="r" b="b"/>
            <a:pathLst>
              <a:path w="32" h="35">
                <a:moveTo>
                  <a:pt x="31" y="17"/>
                </a:moveTo>
                <a:lnTo>
                  <a:pt x="16" y="26"/>
                </a:lnTo>
                <a:lnTo>
                  <a:pt x="0" y="34"/>
                </a:lnTo>
                <a:lnTo>
                  <a:pt x="0" y="26"/>
                </a:lnTo>
                <a:lnTo>
                  <a:pt x="0" y="17"/>
                </a:lnTo>
                <a:lnTo>
                  <a:pt x="0" y="8"/>
                </a:lnTo>
                <a:lnTo>
                  <a:pt x="0" y="0"/>
                </a:lnTo>
                <a:lnTo>
                  <a:pt x="16" y="8"/>
                </a:lnTo>
                <a:lnTo>
                  <a:pt x="31" y="1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248600" y="499752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8089920" y="4970520"/>
            <a:ext cx="50760" cy="55440"/>
          </a:xfrm>
          <a:custGeom>
            <a:avLst/>
            <a:gdLst/>
            <a:ahLst/>
            <a:rect l="l" t="t" r="r" b="b"/>
            <a:pathLst>
              <a:path w="32" h="35">
                <a:moveTo>
                  <a:pt x="31" y="17"/>
                </a:moveTo>
                <a:lnTo>
                  <a:pt x="16" y="26"/>
                </a:lnTo>
                <a:lnTo>
                  <a:pt x="0" y="34"/>
                </a:lnTo>
                <a:lnTo>
                  <a:pt x="0" y="26"/>
                </a:lnTo>
                <a:lnTo>
                  <a:pt x="0" y="17"/>
                </a:lnTo>
                <a:lnTo>
                  <a:pt x="0" y="8"/>
                </a:lnTo>
                <a:lnTo>
                  <a:pt x="0" y="0"/>
                </a:lnTo>
                <a:lnTo>
                  <a:pt x="16" y="8"/>
                </a:lnTo>
                <a:lnTo>
                  <a:pt x="31" y="1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978680" y="499752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205240" y="5376960"/>
            <a:ext cx="283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2" name=""/>
          <p:cNvGrpSpPr/>
          <p:nvPr/>
        </p:nvGrpSpPr>
        <p:grpSpPr>
          <a:xfrm>
            <a:off x="5076720" y="5329080"/>
            <a:ext cx="150840" cy="113040"/>
            <a:chOff x="5076720" y="5329080"/>
            <a:chExt cx="150840" cy="113040"/>
          </a:xfrm>
        </p:grpSpPr>
        <p:sp>
          <p:nvSpPr>
            <p:cNvPr id="1623" name=""/>
            <p:cNvSpPr/>
            <p:nvPr/>
          </p:nvSpPr>
          <p:spPr>
            <a:xfrm>
              <a:off x="5076720" y="5329080"/>
              <a:ext cx="15084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5132520" y="5351040"/>
              <a:ext cx="489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5119560" y="5119560"/>
            <a:ext cx="50760" cy="188640"/>
            <a:chOff x="5119560" y="5119560"/>
            <a:chExt cx="50760" cy="188640"/>
          </a:xfrm>
        </p:grpSpPr>
        <p:sp>
          <p:nvSpPr>
            <p:cNvPr id="1626" name=""/>
            <p:cNvSpPr/>
            <p:nvPr/>
          </p:nvSpPr>
          <p:spPr>
            <a:xfrm>
              <a:off x="5119560" y="5119560"/>
              <a:ext cx="50760" cy="55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15" y="0"/>
                  </a:moveTo>
                  <a:lnTo>
                    <a:pt x="23" y="17"/>
                  </a:lnTo>
                  <a:lnTo>
                    <a:pt x="31" y="34"/>
                  </a:lnTo>
                  <a:lnTo>
                    <a:pt x="23" y="34"/>
                  </a:lnTo>
                  <a:lnTo>
                    <a:pt x="15" y="34"/>
                  </a:lnTo>
                  <a:lnTo>
                    <a:pt x="8" y="34"/>
                  </a:lnTo>
                  <a:lnTo>
                    <a:pt x="0" y="34"/>
                  </a:lnTo>
                  <a:lnTo>
                    <a:pt x="8" y="17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5143680" y="517320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5794200" y="5329080"/>
            <a:ext cx="150840" cy="113040"/>
            <a:chOff x="5794200" y="5329080"/>
            <a:chExt cx="150840" cy="113040"/>
          </a:xfrm>
        </p:grpSpPr>
        <p:sp>
          <p:nvSpPr>
            <p:cNvPr id="1629" name=""/>
            <p:cNvSpPr/>
            <p:nvPr/>
          </p:nvSpPr>
          <p:spPr>
            <a:xfrm>
              <a:off x="5794200" y="5329080"/>
              <a:ext cx="15084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5862600" y="5351040"/>
              <a:ext cx="3672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5850000" y="5119560"/>
            <a:ext cx="27000" cy="188640"/>
            <a:chOff x="5850000" y="5119560"/>
            <a:chExt cx="27000" cy="188640"/>
          </a:xfrm>
        </p:grpSpPr>
        <p:sp>
          <p:nvSpPr>
            <p:cNvPr id="1632" name=""/>
            <p:cNvSpPr/>
            <p:nvPr/>
          </p:nvSpPr>
          <p:spPr>
            <a:xfrm>
              <a:off x="5850000" y="5119560"/>
              <a:ext cx="27000" cy="5580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8" y="0"/>
                  </a:moveTo>
                  <a:lnTo>
                    <a:pt x="16" y="17"/>
                  </a:lnTo>
                  <a:lnTo>
                    <a:pt x="16" y="34"/>
                  </a:lnTo>
                  <a:lnTo>
                    <a:pt x="8" y="34"/>
                  </a:lnTo>
                  <a:lnTo>
                    <a:pt x="0" y="34"/>
                  </a:lnTo>
                  <a:lnTo>
                    <a:pt x="8" y="17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5862600" y="517320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4" name=""/>
          <p:cNvGrpSpPr/>
          <p:nvPr/>
        </p:nvGrpSpPr>
        <p:grpSpPr>
          <a:xfrm>
            <a:off x="6524640" y="5329080"/>
            <a:ext cx="150840" cy="113040"/>
            <a:chOff x="6524640" y="5329080"/>
            <a:chExt cx="150840" cy="113040"/>
          </a:xfrm>
        </p:grpSpPr>
        <p:sp>
          <p:nvSpPr>
            <p:cNvPr id="1635" name=""/>
            <p:cNvSpPr/>
            <p:nvPr/>
          </p:nvSpPr>
          <p:spPr>
            <a:xfrm>
              <a:off x="6524640" y="5329080"/>
              <a:ext cx="15084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6593040" y="5351040"/>
              <a:ext cx="363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7" name=""/>
          <p:cNvGrpSpPr/>
          <p:nvPr/>
        </p:nvGrpSpPr>
        <p:grpSpPr>
          <a:xfrm>
            <a:off x="6580080" y="5119560"/>
            <a:ext cx="38160" cy="188640"/>
            <a:chOff x="6580080" y="5119560"/>
            <a:chExt cx="38160" cy="188640"/>
          </a:xfrm>
        </p:grpSpPr>
        <p:sp>
          <p:nvSpPr>
            <p:cNvPr id="1638" name=""/>
            <p:cNvSpPr/>
            <p:nvPr/>
          </p:nvSpPr>
          <p:spPr>
            <a:xfrm>
              <a:off x="6580080" y="5119560"/>
              <a:ext cx="38160" cy="558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15" y="0"/>
                  </a:moveTo>
                  <a:lnTo>
                    <a:pt x="15" y="17"/>
                  </a:lnTo>
                  <a:lnTo>
                    <a:pt x="23" y="34"/>
                  </a:lnTo>
                  <a:lnTo>
                    <a:pt x="15" y="34"/>
                  </a:lnTo>
                  <a:lnTo>
                    <a:pt x="8" y="34"/>
                  </a:lnTo>
                  <a:lnTo>
                    <a:pt x="0" y="34"/>
                  </a:lnTo>
                  <a:lnTo>
                    <a:pt x="8" y="17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6603840" y="517320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0" name=""/>
          <p:cNvGrpSpPr/>
          <p:nvPr/>
        </p:nvGrpSpPr>
        <p:grpSpPr>
          <a:xfrm>
            <a:off x="7254720" y="5329080"/>
            <a:ext cx="150840" cy="113040"/>
            <a:chOff x="7254720" y="5329080"/>
            <a:chExt cx="150840" cy="113040"/>
          </a:xfrm>
        </p:grpSpPr>
        <p:sp>
          <p:nvSpPr>
            <p:cNvPr id="1641" name=""/>
            <p:cNvSpPr/>
            <p:nvPr/>
          </p:nvSpPr>
          <p:spPr>
            <a:xfrm>
              <a:off x="7254720" y="5329080"/>
              <a:ext cx="15084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7323120" y="5351040"/>
              <a:ext cx="4932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7310520" y="5119560"/>
            <a:ext cx="38160" cy="188640"/>
            <a:chOff x="7310520" y="5119560"/>
            <a:chExt cx="38160" cy="188640"/>
          </a:xfrm>
        </p:grpSpPr>
        <p:sp>
          <p:nvSpPr>
            <p:cNvPr id="1644" name=""/>
            <p:cNvSpPr/>
            <p:nvPr/>
          </p:nvSpPr>
          <p:spPr>
            <a:xfrm>
              <a:off x="7310520" y="5119560"/>
              <a:ext cx="38160" cy="558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15" y="0"/>
                  </a:moveTo>
                  <a:lnTo>
                    <a:pt x="15" y="17"/>
                  </a:lnTo>
                  <a:lnTo>
                    <a:pt x="23" y="34"/>
                  </a:lnTo>
                  <a:lnTo>
                    <a:pt x="15" y="34"/>
                  </a:lnTo>
                  <a:lnTo>
                    <a:pt x="8" y="34"/>
                  </a:lnTo>
                  <a:lnTo>
                    <a:pt x="0" y="34"/>
                  </a:lnTo>
                  <a:lnTo>
                    <a:pt x="8" y="17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7334280" y="517320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7972560" y="5329080"/>
            <a:ext cx="150840" cy="113040"/>
            <a:chOff x="7972560" y="5329080"/>
            <a:chExt cx="150840" cy="113040"/>
          </a:xfrm>
        </p:grpSpPr>
        <p:sp>
          <p:nvSpPr>
            <p:cNvPr id="1647" name=""/>
            <p:cNvSpPr/>
            <p:nvPr/>
          </p:nvSpPr>
          <p:spPr>
            <a:xfrm>
              <a:off x="7972560" y="5329080"/>
              <a:ext cx="15084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8040600" y="5349600"/>
              <a:ext cx="493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8028000" y="5119560"/>
            <a:ext cx="50760" cy="188640"/>
            <a:chOff x="8028000" y="5119560"/>
            <a:chExt cx="50760" cy="188640"/>
          </a:xfrm>
        </p:grpSpPr>
        <p:sp>
          <p:nvSpPr>
            <p:cNvPr id="1650" name=""/>
            <p:cNvSpPr/>
            <p:nvPr/>
          </p:nvSpPr>
          <p:spPr>
            <a:xfrm>
              <a:off x="8028000" y="5119560"/>
              <a:ext cx="50760" cy="55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16" y="0"/>
                  </a:moveTo>
                  <a:lnTo>
                    <a:pt x="23" y="17"/>
                  </a:lnTo>
                  <a:lnTo>
                    <a:pt x="31" y="34"/>
                  </a:lnTo>
                  <a:lnTo>
                    <a:pt x="23" y="34"/>
                  </a:lnTo>
                  <a:lnTo>
                    <a:pt x="16" y="34"/>
                  </a:lnTo>
                  <a:lnTo>
                    <a:pt x="8" y="34"/>
                  </a:lnTo>
                  <a:lnTo>
                    <a:pt x="0" y="34"/>
                  </a:lnTo>
                  <a:lnTo>
                    <a:pt x="8" y="17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8053560" y="517320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8246160" y="5925960"/>
            <a:ext cx="46836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205240" y="5823000"/>
            <a:ext cx="2752920" cy="371520"/>
          </a:xfrm>
          <a:custGeom>
            <a:avLst/>
            <a:gdLst/>
            <a:ahLst/>
            <a:rect l="l" t="t" r="r" b="b"/>
            <a:pathLst>
              <a:path w="1734" h="234">
                <a:moveTo>
                  <a:pt x="0" y="83"/>
                </a:moveTo>
                <a:lnTo>
                  <a:pt x="0" y="92"/>
                </a:lnTo>
                <a:lnTo>
                  <a:pt x="0" y="108"/>
                </a:lnTo>
                <a:lnTo>
                  <a:pt x="8" y="134"/>
                </a:lnTo>
                <a:lnTo>
                  <a:pt x="8" y="141"/>
                </a:lnTo>
                <a:lnTo>
                  <a:pt x="16" y="158"/>
                </a:lnTo>
                <a:lnTo>
                  <a:pt x="24" y="175"/>
                </a:lnTo>
                <a:lnTo>
                  <a:pt x="32" y="175"/>
                </a:lnTo>
                <a:lnTo>
                  <a:pt x="39" y="183"/>
                </a:lnTo>
                <a:lnTo>
                  <a:pt x="47" y="183"/>
                </a:lnTo>
                <a:lnTo>
                  <a:pt x="71" y="183"/>
                </a:lnTo>
                <a:lnTo>
                  <a:pt x="94" y="183"/>
                </a:lnTo>
                <a:lnTo>
                  <a:pt x="110" y="175"/>
                </a:lnTo>
                <a:lnTo>
                  <a:pt x="125" y="175"/>
                </a:lnTo>
                <a:lnTo>
                  <a:pt x="155" y="167"/>
                </a:lnTo>
                <a:lnTo>
                  <a:pt x="179" y="158"/>
                </a:lnTo>
                <a:lnTo>
                  <a:pt x="194" y="158"/>
                </a:lnTo>
                <a:lnTo>
                  <a:pt x="202" y="150"/>
                </a:lnTo>
                <a:lnTo>
                  <a:pt x="218" y="141"/>
                </a:lnTo>
                <a:lnTo>
                  <a:pt x="233" y="141"/>
                </a:lnTo>
                <a:lnTo>
                  <a:pt x="249" y="150"/>
                </a:lnTo>
                <a:lnTo>
                  <a:pt x="272" y="167"/>
                </a:lnTo>
                <a:lnTo>
                  <a:pt x="296" y="167"/>
                </a:lnTo>
                <a:lnTo>
                  <a:pt x="311" y="175"/>
                </a:lnTo>
                <a:lnTo>
                  <a:pt x="327" y="175"/>
                </a:lnTo>
                <a:lnTo>
                  <a:pt x="350" y="175"/>
                </a:lnTo>
                <a:lnTo>
                  <a:pt x="358" y="175"/>
                </a:lnTo>
                <a:lnTo>
                  <a:pt x="413" y="175"/>
                </a:lnTo>
                <a:lnTo>
                  <a:pt x="451" y="175"/>
                </a:lnTo>
                <a:lnTo>
                  <a:pt x="474" y="175"/>
                </a:lnTo>
                <a:lnTo>
                  <a:pt x="521" y="175"/>
                </a:lnTo>
                <a:lnTo>
                  <a:pt x="544" y="175"/>
                </a:lnTo>
                <a:lnTo>
                  <a:pt x="568" y="175"/>
                </a:lnTo>
                <a:lnTo>
                  <a:pt x="607" y="183"/>
                </a:lnTo>
                <a:lnTo>
                  <a:pt x="622" y="183"/>
                </a:lnTo>
                <a:lnTo>
                  <a:pt x="638" y="191"/>
                </a:lnTo>
                <a:lnTo>
                  <a:pt x="661" y="191"/>
                </a:lnTo>
                <a:lnTo>
                  <a:pt x="684" y="191"/>
                </a:lnTo>
                <a:lnTo>
                  <a:pt x="730" y="183"/>
                </a:lnTo>
                <a:lnTo>
                  <a:pt x="754" y="175"/>
                </a:lnTo>
                <a:lnTo>
                  <a:pt x="761" y="175"/>
                </a:lnTo>
                <a:lnTo>
                  <a:pt x="785" y="167"/>
                </a:lnTo>
                <a:lnTo>
                  <a:pt x="816" y="158"/>
                </a:lnTo>
                <a:lnTo>
                  <a:pt x="824" y="158"/>
                </a:lnTo>
                <a:lnTo>
                  <a:pt x="847" y="150"/>
                </a:lnTo>
                <a:lnTo>
                  <a:pt x="863" y="150"/>
                </a:lnTo>
                <a:lnTo>
                  <a:pt x="878" y="158"/>
                </a:lnTo>
                <a:lnTo>
                  <a:pt x="894" y="175"/>
                </a:lnTo>
                <a:lnTo>
                  <a:pt x="917" y="183"/>
                </a:lnTo>
                <a:lnTo>
                  <a:pt x="933" y="191"/>
                </a:lnTo>
                <a:lnTo>
                  <a:pt x="949" y="200"/>
                </a:lnTo>
                <a:lnTo>
                  <a:pt x="956" y="216"/>
                </a:lnTo>
                <a:lnTo>
                  <a:pt x="972" y="224"/>
                </a:lnTo>
                <a:lnTo>
                  <a:pt x="980" y="233"/>
                </a:lnTo>
                <a:lnTo>
                  <a:pt x="995" y="233"/>
                </a:lnTo>
                <a:lnTo>
                  <a:pt x="1011" y="224"/>
                </a:lnTo>
                <a:lnTo>
                  <a:pt x="1041" y="216"/>
                </a:lnTo>
                <a:lnTo>
                  <a:pt x="1072" y="208"/>
                </a:lnTo>
                <a:lnTo>
                  <a:pt x="1088" y="208"/>
                </a:lnTo>
                <a:lnTo>
                  <a:pt x="1111" y="208"/>
                </a:lnTo>
                <a:lnTo>
                  <a:pt x="1119" y="208"/>
                </a:lnTo>
                <a:lnTo>
                  <a:pt x="1142" y="208"/>
                </a:lnTo>
                <a:lnTo>
                  <a:pt x="1158" y="200"/>
                </a:lnTo>
                <a:lnTo>
                  <a:pt x="1166" y="191"/>
                </a:lnTo>
                <a:lnTo>
                  <a:pt x="1174" y="183"/>
                </a:lnTo>
                <a:lnTo>
                  <a:pt x="1181" y="175"/>
                </a:lnTo>
                <a:lnTo>
                  <a:pt x="1189" y="167"/>
                </a:lnTo>
                <a:lnTo>
                  <a:pt x="1197" y="167"/>
                </a:lnTo>
                <a:lnTo>
                  <a:pt x="1197" y="158"/>
                </a:lnTo>
                <a:lnTo>
                  <a:pt x="1213" y="150"/>
                </a:lnTo>
                <a:lnTo>
                  <a:pt x="1220" y="150"/>
                </a:lnTo>
                <a:lnTo>
                  <a:pt x="1244" y="141"/>
                </a:lnTo>
                <a:lnTo>
                  <a:pt x="1252" y="141"/>
                </a:lnTo>
                <a:lnTo>
                  <a:pt x="1259" y="141"/>
                </a:lnTo>
                <a:lnTo>
                  <a:pt x="1275" y="141"/>
                </a:lnTo>
                <a:lnTo>
                  <a:pt x="1291" y="134"/>
                </a:lnTo>
                <a:lnTo>
                  <a:pt x="1305" y="134"/>
                </a:lnTo>
                <a:lnTo>
                  <a:pt x="1321" y="134"/>
                </a:lnTo>
                <a:lnTo>
                  <a:pt x="1329" y="134"/>
                </a:lnTo>
                <a:lnTo>
                  <a:pt x="1368" y="125"/>
                </a:lnTo>
                <a:lnTo>
                  <a:pt x="1407" y="125"/>
                </a:lnTo>
                <a:lnTo>
                  <a:pt x="1414" y="125"/>
                </a:lnTo>
                <a:lnTo>
                  <a:pt x="1430" y="125"/>
                </a:lnTo>
                <a:lnTo>
                  <a:pt x="1446" y="125"/>
                </a:lnTo>
                <a:lnTo>
                  <a:pt x="1453" y="134"/>
                </a:lnTo>
                <a:lnTo>
                  <a:pt x="1461" y="141"/>
                </a:lnTo>
                <a:lnTo>
                  <a:pt x="1461" y="150"/>
                </a:lnTo>
                <a:lnTo>
                  <a:pt x="1469" y="167"/>
                </a:lnTo>
                <a:lnTo>
                  <a:pt x="1477" y="175"/>
                </a:lnTo>
                <a:lnTo>
                  <a:pt x="1492" y="183"/>
                </a:lnTo>
                <a:lnTo>
                  <a:pt x="1500" y="191"/>
                </a:lnTo>
                <a:lnTo>
                  <a:pt x="1516" y="191"/>
                </a:lnTo>
                <a:lnTo>
                  <a:pt x="1547" y="200"/>
                </a:lnTo>
                <a:lnTo>
                  <a:pt x="1562" y="200"/>
                </a:lnTo>
                <a:lnTo>
                  <a:pt x="1578" y="200"/>
                </a:lnTo>
                <a:lnTo>
                  <a:pt x="1608" y="200"/>
                </a:lnTo>
                <a:lnTo>
                  <a:pt x="1655" y="191"/>
                </a:lnTo>
                <a:lnTo>
                  <a:pt x="1671" y="183"/>
                </a:lnTo>
                <a:lnTo>
                  <a:pt x="1678" y="183"/>
                </a:lnTo>
                <a:lnTo>
                  <a:pt x="1702" y="175"/>
                </a:lnTo>
                <a:lnTo>
                  <a:pt x="1717" y="167"/>
                </a:lnTo>
                <a:lnTo>
                  <a:pt x="1717" y="158"/>
                </a:lnTo>
                <a:lnTo>
                  <a:pt x="1717" y="150"/>
                </a:lnTo>
                <a:lnTo>
                  <a:pt x="1710" y="134"/>
                </a:lnTo>
                <a:lnTo>
                  <a:pt x="1702" y="125"/>
                </a:lnTo>
                <a:lnTo>
                  <a:pt x="1702" y="117"/>
                </a:lnTo>
                <a:lnTo>
                  <a:pt x="1694" y="108"/>
                </a:lnTo>
                <a:lnTo>
                  <a:pt x="1694" y="99"/>
                </a:lnTo>
                <a:lnTo>
                  <a:pt x="1694" y="92"/>
                </a:lnTo>
                <a:lnTo>
                  <a:pt x="1702" y="83"/>
                </a:lnTo>
                <a:lnTo>
                  <a:pt x="1710" y="75"/>
                </a:lnTo>
                <a:lnTo>
                  <a:pt x="1717" y="66"/>
                </a:lnTo>
                <a:lnTo>
                  <a:pt x="1733" y="58"/>
                </a:lnTo>
                <a:lnTo>
                  <a:pt x="1725" y="58"/>
                </a:lnTo>
                <a:lnTo>
                  <a:pt x="1725" y="42"/>
                </a:lnTo>
                <a:lnTo>
                  <a:pt x="1710" y="33"/>
                </a:lnTo>
                <a:lnTo>
                  <a:pt x="1694" y="25"/>
                </a:lnTo>
                <a:lnTo>
                  <a:pt x="1678" y="25"/>
                </a:lnTo>
                <a:lnTo>
                  <a:pt x="1663" y="17"/>
                </a:lnTo>
                <a:lnTo>
                  <a:pt x="1639" y="9"/>
                </a:lnTo>
                <a:lnTo>
                  <a:pt x="1600" y="0"/>
                </a:lnTo>
                <a:lnTo>
                  <a:pt x="1586" y="0"/>
                </a:lnTo>
                <a:lnTo>
                  <a:pt x="1570" y="9"/>
                </a:lnTo>
                <a:lnTo>
                  <a:pt x="1539" y="17"/>
                </a:lnTo>
                <a:lnTo>
                  <a:pt x="1524" y="25"/>
                </a:lnTo>
                <a:lnTo>
                  <a:pt x="1508" y="33"/>
                </a:lnTo>
                <a:lnTo>
                  <a:pt x="1492" y="33"/>
                </a:lnTo>
                <a:lnTo>
                  <a:pt x="1453" y="42"/>
                </a:lnTo>
                <a:lnTo>
                  <a:pt x="1430" y="42"/>
                </a:lnTo>
                <a:lnTo>
                  <a:pt x="1407" y="42"/>
                </a:lnTo>
                <a:lnTo>
                  <a:pt x="1391" y="42"/>
                </a:lnTo>
                <a:lnTo>
                  <a:pt x="1352" y="50"/>
                </a:lnTo>
                <a:lnTo>
                  <a:pt x="1329" y="58"/>
                </a:lnTo>
                <a:lnTo>
                  <a:pt x="1305" y="66"/>
                </a:lnTo>
                <a:lnTo>
                  <a:pt x="1298" y="66"/>
                </a:lnTo>
                <a:lnTo>
                  <a:pt x="1283" y="75"/>
                </a:lnTo>
                <a:lnTo>
                  <a:pt x="1244" y="92"/>
                </a:lnTo>
                <a:lnTo>
                  <a:pt x="1236" y="92"/>
                </a:lnTo>
                <a:lnTo>
                  <a:pt x="1228" y="92"/>
                </a:lnTo>
                <a:lnTo>
                  <a:pt x="1220" y="92"/>
                </a:lnTo>
                <a:lnTo>
                  <a:pt x="1213" y="83"/>
                </a:lnTo>
                <a:lnTo>
                  <a:pt x="1197" y="75"/>
                </a:lnTo>
                <a:lnTo>
                  <a:pt x="1189" y="66"/>
                </a:lnTo>
                <a:lnTo>
                  <a:pt x="1174" y="58"/>
                </a:lnTo>
                <a:lnTo>
                  <a:pt x="1158" y="50"/>
                </a:lnTo>
                <a:lnTo>
                  <a:pt x="1135" y="42"/>
                </a:lnTo>
                <a:lnTo>
                  <a:pt x="1119" y="33"/>
                </a:lnTo>
                <a:lnTo>
                  <a:pt x="1111" y="33"/>
                </a:lnTo>
                <a:lnTo>
                  <a:pt x="1080" y="25"/>
                </a:lnTo>
                <a:lnTo>
                  <a:pt x="1057" y="25"/>
                </a:lnTo>
                <a:lnTo>
                  <a:pt x="1026" y="25"/>
                </a:lnTo>
                <a:lnTo>
                  <a:pt x="1011" y="25"/>
                </a:lnTo>
                <a:lnTo>
                  <a:pt x="980" y="25"/>
                </a:lnTo>
                <a:lnTo>
                  <a:pt x="925" y="25"/>
                </a:lnTo>
                <a:lnTo>
                  <a:pt x="894" y="17"/>
                </a:lnTo>
                <a:lnTo>
                  <a:pt x="878" y="17"/>
                </a:lnTo>
                <a:lnTo>
                  <a:pt x="855" y="17"/>
                </a:lnTo>
                <a:lnTo>
                  <a:pt x="816" y="17"/>
                </a:lnTo>
                <a:lnTo>
                  <a:pt x="785" y="25"/>
                </a:lnTo>
                <a:lnTo>
                  <a:pt x="777" y="25"/>
                </a:lnTo>
                <a:lnTo>
                  <a:pt x="761" y="33"/>
                </a:lnTo>
                <a:lnTo>
                  <a:pt x="738" y="42"/>
                </a:lnTo>
                <a:lnTo>
                  <a:pt x="722" y="50"/>
                </a:lnTo>
                <a:lnTo>
                  <a:pt x="708" y="58"/>
                </a:lnTo>
                <a:lnTo>
                  <a:pt x="700" y="66"/>
                </a:lnTo>
                <a:lnTo>
                  <a:pt x="684" y="75"/>
                </a:lnTo>
                <a:lnTo>
                  <a:pt x="669" y="83"/>
                </a:lnTo>
                <a:lnTo>
                  <a:pt x="653" y="83"/>
                </a:lnTo>
                <a:lnTo>
                  <a:pt x="646" y="83"/>
                </a:lnTo>
                <a:lnTo>
                  <a:pt x="630" y="83"/>
                </a:lnTo>
                <a:lnTo>
                  <a:pt x="591" y="75"/>
                </a:lnTo>
                <a:lnTo>
                  <a:pt x="575" y="66"/>
                </a:lnTo>
                <a:lnTo>
                  <a:pt x="568" y="66"/>
                </a:lnTo>
                <a:lnTo>
                  <a:pt x="544" y="58"/>
                </a:lnTo>
                <a:lnTo>
                  <a:pt x="513" y="50"/>
                </a:lnTo>
                <a:lnTo>
                  <a:pt x="474" y="50"/>
                </a:lnTo>
                <a:lnTo>
                  <a:pt x="451" y="50"/>
                </a:lnTo>
                <a:lnTo>
                  <a:pt x="428" y="50"/>
                </a:lnTo>
                <a:lnTo>
                  <a:pt x="389" y="50"/>
                </a:lnTo>
                <a:lnTo>
                  <a:pt x="358" y="42"/>
                </a:lnTo>
                <a:lnTo>
                  <a:pt x="335" y="42"/>
                </a:lnTo>
                <a:lnTo>
                  <a:pt x="327" y="33"/>
                </a:lnTo>
                <a:lnTo>
                  <a:pt x="319" y="33"/>
                </a:lnTo>
                <a:lnTo>
                  <a:pt x="296" y="25"/>
                </a:lnTo>
                <a:lnTo>
                  <a:pt x="280" y="25"/>
                </a:lnTo>
                <a:lnTo>
                  <a:pt x="249" y="17"/>
                </a:lnTo>
                <a:lnTo>
                  <a:pt x="233" y="17"/>
                </a:lnTo>
                <a:lnTo>
                  <a:pt x="210" y="17"/>
                </a:lnTo>
                <a:lnTo>
                  <a:pt x="155" y="25"/>
                </a:lnTo>
                <a:lnTo>
                  <a:pt x="141" y="25"/>
                </a:lnTo>
                <a:lnTo>
                  <a:pt x="102" y="42"/>
                </a:lnTo>
                <a:lnTo>
                  <a:pt x="71" y="50"/>
                </a:lnTo>
                <a:lnTo>
                  <a:pt x="63" y="50"/>
                </a:lnTo>
                <a:lnTo>
                  <a:pt x="39" y="58"/>
                </a:lnTo>
                <a:lnTo>
                  <a:pt x="24" y="66"/>
                </a:lnTo>
                <a:lnTo>
                  <a:pt x="16" y="75"/>
                </a:lnTo>
                <a:lnTo>
                  <a:pt x="0" y="83"/>
                </a:lnTo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655880" y="5940360"/>
            <a:ext cx="33120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5045040" y="5864400"/>
            <a:ext cx="150840" cy="325440"/>
            <a:chOff x="5045040" y="5864400"/>
            <a:chExt cx="150840" cy="325440"/>
          </a:xfrm>
        </p:grpSpPr>
        <p:grpSp>
          <p:nvGrpSpPr>
            <p:cNvPr id="1656" name=""/>
            <p:cNvGrpSpPr/>
            <p:nvPr/>
          </p:nvGrpSpPr>
          <p:grpSpPr>
            <a:xfrm>
              <a:off x="5045040" y="5864400"/>
              <a:ext cx="150840" cy="55440"/>
              <a:chOff x="5045040" y="5864400"/>
              <a:chExt cx="150840" cy="55440"/>
            </a:xfrm>
          </p:grpSpPr>
          <p:sp>
            <p:nvSpPr>
              <p:cNvPr id="1657" name=""/>
              <p:cNvSpPr/>
              <p:nvPr/>
            </p:nvSpPr>
            <p:spPr>
              <a:xfrm>
                <a:off x="5143680" y="586440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32" y="17"/>
                    </a:moveTo>
                    <a:lnTo>
                      <a:pt x="16" y="25"/>
                    </a:lnTo>
                    <a:lnTo>
                      <a:pt x="0" y="34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32" y="1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045040" y="5891040"/>
                <a:ext cx="11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5045040" y="6148440"/>
              <a:ext cx="150840" cy="41400"/>
              <a:chOff x="5045040" y="6148440"/>
              <a:chExt cx="150840" cy="41400"/>
            </a:xfrm>
          </p:grpSpPr>
          <p:sp>
            <p:nvSpPr>
              <p:cNvPr id="1660" name=""/>
              <p:cNvSpPr/>
              <p:nvPr/>
            </p:nvSpPr>
            <p:spPr>
              <a:xfrm>
                <a:off x="5143680" y="6148440"/>
                <a:ext cx="5220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2" y="17"/>
                    </a:moveTo>
                    <a:lnTo>
                      <a:pt x="16" y="17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32" y="1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045040" y="6161040"/>
                <a:ext cx="11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5045040" y="6040440"/>
              <a:ext cx="150840" cy="68400"/>
              <a:chOff x="5045040" y="6040440"/>
              <a:chExt cx="150840" cy="68400"/>
            </a:xfrm>
          </p:grpSpPr>
          <p:sp>
            <p:nvSpPr>
              <p:cNvPr id="1663" name=""/>
              <p:cNvSpPr/>
              <p:nvPr/>
            </p:nvSpPr>
            <p:spPr>
              <a:xfrm>
                <a:off x="5143680" y="6040440"/>
                <a:ext cx="52200" cy="6840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32" y="25"/>
                    </a:moveTo>
                    <a:lnTo>
                      <a:pt x="16" y="34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5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32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045040" y="6080040"/>
                <a:ext cx="11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5045040" y="5958000"/>
              <a:ext cx="150840" cy="42840"/>
              <a:chOff x="5045040" y="5958000"/>
              <a:chExt cx="150840" cy="42840"/>
            </a:xfrm>
          </p:grpSpPr>
          <p:sp>
            <p:nvSpPr>
              <p:cNvPr id="1666" name=""/>
              <p:cNvSpPr/>
              <p:nvPr/>
            </p:nvSpPr>
            <p:spPr>
              <a:xfrm>
                <a:off x="5143680" y="5958000"/>
                <a:ext cx="52200" cy="4284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32" y="17"/>
                    </a:moveTo>
                    <a:lnTo>
                      <a:pt x="16" y="26"/>
                    </a:lnTo>
                    <a:lnTo>
                      <a:pt x="0" y="26"/>
                    </a:lnTo>
                    <a:lnTo>
                      <a:pt x="0" y="17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32" y="1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045040" y="5972040"/>
                <a:ext cx="11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8" name=""/>
          <p:cNvGrpSpPr/>
          <p:nvPr/>
        </p:nvGrpSpPr>
        <p:grpSpPr>
          <a:xfrm>
            <a:off x="7966080" y="6040440"/>
            <a:ext cx="162000" cy="68400"/>
            <a:chOff x="7966080" y="6040440"/>
            <a:chExt cx="162000" cy="68400"/>
          </a:xfrm>
        </p:grpSpPr>
        <p:sp>
          <p:nvSpPr>
            <p:cNvPr id="1669" name=""/>
            <p:cNvSpPr/>
            <p:nvPr/>
          </p:nvSpPr>
          <p:spPr>
            <a:xfrm>
              <a:off x="8077320" y="6040440"/>
              <a:ext cx="50760" cy="684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25"/>
                  </a:moveTo>
                  <a:lnTo>
                    <a:pt x="16" y="34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31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966080" y="60800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7966080" y="5958000"/>
            <a:ext cx="162000" cy="42840"/>
            <a:chOff x="7966080" y="5958000"/>
            <a:chExt cx="162000" cy="42840"/>
          </a:xfrm>
        </p:grpSpPr>
        <p:sp>
          <p:nvSpPr>
            <p:cNvPr id="1672" name=""/>
            <p:cNvSpPr/>
            <p:nvPr/>
          </p:nvSpPr>
          <p:spPr>
            <a:xfrm>
              <a:off x="8077320" y="595800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1" y="17"/>
                  </a:moveTo>
                  <a:lnTo>
                    <a:pt x="16" y="26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966080" y="59720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835280" y="71280"/>
            <a:ext cx="7308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volução da Capacidade do Process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5" name=""/>
          <p:cNvSpPr/>
          <p:nvPr/>
        </p:nvSpPr>
        <p:spPr>
          <a:xfrm>
            <a:off x="1620360" y="6094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647360" y="5008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593360" y="399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586880" y="2901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532880" y="177336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2486160" y="5805360"/>
            <a:ext cx="1861560" cy="936360"/>
            <a:chOff x="2486160" y="5805360"/>
            <a:chExt cx="1861560" cy="936360"/>
          </a:xfrm>
        </p:grpSpPr>
        <p:sp>
          <p:nvSpPr>
            <p:cNvPr id="1681" name=""/>
            <p:cNvSpPr/>
            <p:nvPr/>
          </p:nvSpPr>
          <p:spPr>
            <a:xfrm>
              <a:off x="3228120" y="6462360"/>
              <a:ext cx="1119600" cy="117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072240" y="6182280"/>
              <a:ext cx="1258920" cy="376920"/>
            </a:xfrm>
            <a:custGeom>
              <a:avLst/>
              <a:gdLst/>
              <a:ahLst/>
              <a:rect l="l" t="t" r="r" b="b"/>
              <a:pathLst>
                <a:path w="3060" h="622">
                  <a:moveTo>
                    <a:pt x="0" y="622"/>
                  </a:moveTo>
                  <a:lnTo>
                    <a:pt x="80" y="586"/>
                  </a:lnTo>
                  <a:lnTo>
                    <a:pt x="220" y="533"/>
                  </a:lnTo>
                  <a:lnTo>
                    <a:pt x="340" y="480"/>
                  </a:lnTo>
                  <a:lnTo>
                    <a:pt x="420" y="444"/>
                  </a:lnTo>
                  <a:lnTo>
                    <a:pt x="540" y="391"/>
                  </a:lnTo>
                  <a:lnTo>
                    <a:pt x="600" y="355"/>
                  </a:lnTo>
                  <a:lnTo>
                    <a:pt x="660" y="320"/>
                  </a:lnTo>
                  <a:lnTo>
                    <a:pt x="700" y="284"/>
                  </a:lnTo>
                  <a:lnTo>
                    <a:pt x="720" y="267"/>
                  </a:lnTo>
                  <a:lnTo>
                    <a:pt x="780" y="213"/>
                  </a:lnTo>
                  <a:lnTo>
                    <a:pt x="920" y="125"/>
                  </a:lnTo>
                  <a:lnTo>
                    <a:pt x="1000" y="89"/>
                  </a:lnTo>
                  <a:lnTo>
                    <a:pt x="1040" y="71"/>
                  </a:lnTo>
                  <a:lnTo>
                    <a:pt x="1120" y="36"/>
                  </a:lnTo>
                  <a:lnTo>
                    <a:pt x="1200" y="18"/>
                  </a:lnTo>
                  <a:lnTo>
                    <a:pt x="1280" y="0"/>
                  </a:lnTo>
                  <a:lnTo>
                    <a:pt x="1300" y="0"/>
                  </a:lnTo>
                  <a:lnTo>
                    <a:pt x="1320" y="0"/>
                  </a:lnTo>
                  <a:lnTo>
                    <a:pt x="1380" y="0"/>
                  </a:lnTo>
                  <a:lnTo>
                    <a:pt x="1460" y="0"/>
                  </a:lnTo>
                  <a:lnTo>
                    <a:pt x="1540" y="18"/>
                  </a:lnTo>
                  <a:lnTo>
                    <a:pt x="1560" y="18"/>
                  </a:lnTo>
                  <a:lnTo>
                    <a:pt x="1640" y="36"/>
                  </a:lnTo>
                  <a:lnTo>
                    <a:pt x="1780" y="71"/>
                  </a:lnTo>
                  <a:lnTo>
                    <a:pt x="1840" y="89"/>
                  </a:lnTo>
                  <a:lnTo>
                    <a:pt x="1880" y="107"/>
                  </a:lnTo>
                  <a:lnTo>
                    <a:pt x="1960" y="125"/>
                  </a:lnTo>
                  <a:lnTo>
                    <a:pt x="2060" y="178"/>
                  </a:lnTo>
                  <a:lnTo>
                    <a:pt x="2180" y="249"/>
                  </a:lnTo>
                  <a:lnTo>
                    <a:pt x="2240" y="284"/>
                  </a:lnTo>
                  <a:lnTo>
                    <a:pt x="2260" y="302"/>
                  </a:lnTo>
                  <a:lnTo>
                    <a:pt x="2340" y="338"/>
                  </a:lnTo>
                  <a:lnTo>
                    <a:pt x="2440" y="373"/>
                  </a:lnTo>
                  <a:lnTo>
                    <a:pt x="2500" y="391"/>
                  </a:lnTo>
                  <a:lnTo>
                    <a:pt x="2620" y="426"/>
                  </a:lnTo>
                  <a:lnTo>
                    <a:pt x="2740" y="444"/>
                  </a:lnTo>
                  <a:lnTo>
                    <a:pt x="2840" y="444"/>
                  </a:lnTo>
                  <a:lnTo>
                    <a:pt x="3000" y="462"/>
                  </a:lnTo>
                  <a:lnTo>
                    <a:pt x="3060" y="462"/>
                  </a:lnTo>
                  <a:lnTo>
                    <a:pt x="0" y="62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072240" y="6182280"/>
              <a:ext cx="1258920" cy="376920"/>
            </a:xfrm>
            <a:custGeom>
              <a:avLst/>
              <a:gdLst/>
              <a:ahLst/>
              <a:rect l="l" t="t" r="r" b="b"/>
              <a:pathLst>
                <a:path w="3060" h="622">
                  <a:moveTo>
                    <a:pt x="0" y="622"/>
                  </a:moveTo>
                  <a:lnTo>
                    <a:pt x="80" y="586"/>
                  </a:lnTo>
                  <a:lnTo>
                    <a:pt x="220" y="533"/>
                  </a:lnTo>
                  <a:lnTo>
                    <a:pt x="340" y="480"/>
                  </a:lnTo>
                  <a:lnTo>
                    <a:pt x="420" y="444"/>
                  </a:lnTo>
                  <a:lnTo>
                    <a:pt x="540" y="391"/>
                  </a:lnTo>
                  <a:lnTo>
                    <a:pt x="600" y="355"/>
                  </a:lnTo>
                  <a:lnTo>
                    <a:pt x="660" y="320"/>
                  </a:lnTo>
                  <a:lnTo>
                    <a:pt x="700" y="284"/>
                  </a:lnTo>
                  <a:lnTo>
                    <a:pt x="720" y="267"/>
                  </a:lnTo>
                  <a:lnTo>
                    <a:pt x="780" y="213"/>
                  </a:lnTo>
                  <a:lnTo>
                    <a:pt x="920" y="125"/>
                  </a:lnTo>
                  <a:lnTo>
                    <a:pt x="1000" y="89"/>
                  </a:lnTo>
                  <a:lnTo>
                    <a:pt x="1040" y="71"/>
                  </a:lnTo>
                  <a:lnTo>
                    <a:pt x="1120" y="36"/>
                  </a:lnTo>
                  <a:lnTo>
                    <a:pt x="1200" y="18"/>
                  </a:lnTo>
                  <a:lnTo>
                    <a:pt x="1280" y="0"/>
                  </a:lnTo>
                  <a:lnTo>
                    <a:pt x="1300" y="0"/>
                  </a:lnTo>
                  <a:lnTo>
                    <a:pt x="1320" y="0"/>
                  </a:lnTo>
                  <a:lnTo>
                    <a:pt x="1380" y="0"/>
                  </a:lnTo>
                  <a:lnTo>
                    <a:pt x="1460" y="0"/>
                  </a:lnTo>
                  <a:lnTo>
                    <a:pt x="1540" y="18"/>
                  </a:lnTo>
                  <a:lnTo>
                    <a:pt x="1560" y="18"/>
                  </a:lnTo>
                  <a:lnTo>
                    <a:pt x="1640" y="36"/>
                  </a:lnTo>
                  <a:lnTo>
                    <a:pt x="1780" y="71"/>
                  </a:lnTo>
                  <a:lnTo>
                    <a:pt x="1840" y="89"/>
                  </a:lnTo>
                  <a:lnTo>
                    <a:pt x="1880" y="107"/>
                  </a:lnTo>
                  <a:lnTo>
                    <a:pt x="1960" y="125"/>
                  </a:lnTo>
                  <a:lnTo>
                    <a:pt x="2060" y="178"/>
                  </a:lnTo>
                  <a:lnTo>
                    <a:pt x="2180" y="249"/>
                  </a:lnTo>
                  <a:lnTo>
                    <a:pt x="2240" y="284"/>
                  </a:lnTo>
                  <a:lnTo>
                    <a:pt x="2260" y="302"/>
                  </a:lnTo>
                  <a:lnTo>
                    <a:pt x="2340" y="338"/>
                  </a:lnTo>
                  <a:lnTo>
                    <a:pt x="2440" y="373"/>
                  </a:lnTo>
                  <a:lnTo>
                    <a:pt x="2500" y="391"/>
                  </a:lnTo>
                  <a:lnTo>
                    <a:pt x="2620" y="426"/>
                  </a:lnTo>
                  <a:lnTo>
                    <a:pt x="2740" y="444"/>
                  </a:lnTo>
                  <a:lnTo>
                    <a:pt x="2840" y="444"/>
                  </a:lnTo>
                  <a:lnTo>
                    <a:pt x="3000" y="462"/>
                  </a:lnTo>
                  <a:lnTo>
                    <a:pt x="3060" y="4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20080" y="5805360"/>
              <a:ext cx="0" cy="76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620080" y="6570720"/>
              <a:ext cx="171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319560" y="6129360"/>
              <a:ext cx="0" cy="61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rot="16200000">
              <a:off x="2311920" y="6292800"/>
              <a:ext cx="45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babil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720520" y="6598440"/>
              <a:ext cx="37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ime/$/..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352680" y="6117840"/>
              <a:ext cx="89640" cy="40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rot="16200000">
              <a:off x="3229920" y="622872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arget 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709720" y="5902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2484360" y="4797360"/>
            <a:ext cx="1871280" cy="936000"/>
            <a:chOff x="2484360" y="4797360"/>
            <a:chExt cx="1871280" cy="936000"/>
          </a:xfrm>
        </p:grpSpPr>
        <p:sp>
          <p:nvSpPr>
            <p:cNvPr id="1693" name=""/>
            <p:cNvSpPr/>
            <p:nvPr/>
          </p:nvSpPr>
          <p:spPr>
            <a:xfrm>
              <a:off x="2712240" y="483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008520" y="5488200"/>
              <a:ext cx="1347120" cy="75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917800" y="5095080"/>
              <a:ext cx="1420920" cy="458280"/>
            </a:xfrm>
            <a:custGeom>
              <a:avLst/>
              <a:gdLst/>
              <a:ahLst/>
              <a:rect l="l" t="t" r="r" b="b"/>
              <a:pathLst>
                <a:path w="3440" h="764">
                  <a:moveTo>
                    <a:pt x="0" y="764"/>
                  </a:moveTo>
                  <a:lnTo>
                    <a:pt x="60" y="728"/>
                  </a:lnTo>
                  <a:lnTo>
                    <a:pt x="200" y="657"/>
                  </a:lnTo>
                  <a:lnTo>
                    <a:pt x="280" y="604"/>
                  </a:lnTo>
                  <a:lnTo>
                    <a:pt x="360" y="551"/>
                  </a:lnTo>
                  <a:lnTo>
                    <a:pt x="440" y="497"/>
                  </a:lnTo>
                  <a:lnTo>
                    <a:pt x="500" y="444"/>
                  </a:lnTo>
                  <a:lnTo>
                    <a:pt x="580" y="391"/>
                  </a:lnTo>
                  <a:lnTo>
                    <a:pt x="600" y="355"/>
                  </a:lnTo>
                  <a:lnTo>
                    <a:pt x="620" y="338"/>
                  </a:lnTo>
                  <a:lnTo>
                    <a:pt x="680" y="284"/>
                  </a:lnTo>
                  <a:lnTo>
                    <a:pt x="800" y="178"/>
                  </a:lnTo>
                  <a:lnTo>
                    <a:pt x="860" y="125"/>
                  </a:lnTo>
                  <a:lnTo>
                    <a:pt x="880" y="107"/>
                  </a:lnTo>
                  <a:lnTo>
                    <a:pt x="960" y="71"/>
                  </a:lnTo>
                  <a:lnTo>
                    <a:pt x="1020" y="36"/>
                  </a:lnTo>
                  <a:lnTo>
                    <a:pt x="1080" y="18"/>
                  </a:lnTo>
                  <a:lnTo>
                    <a:pt x="1120" y="0"/>
                  </a:lnTo>
                  <a:lnTo>
                    <a:pt x="1140" y="0"/>
                  </a:lnTo>
                  <a:lnTo>
                    <a:pt x="1200" y="0"/>
                  </a:lnTo>
                  <a:lnTo>
                    <a:pt x="1280" y="0"/>
                  </a:lnTo>
                  <a:lnTo>
                    <a:pt x="1340" y="18"/>
                  </a:lnTo>
                  <a:lnTo>
                    <a:pt x="1360" y="18"/>
                  </a:lnTo>
                  <a:lnTo>
                    <a:pt x="1400" y="36"/>
                  </a:lnTo>
                  <a:lnTo>
                    <a:pt x="1440" y="54"/>
                  </a:lnTo>
                  <a:lnTo>
                    <a:pt x="1500" y="89"/>
                  </a:lnTo>
                  <a:lnTo>
                    <a:pt x="1560" y="125"/>
                  </a:lnTo>
                  <a:lnTo>
                    <a:pt x="1580" y="142"/>
                  </a:lnTo>
                  <a:lnTo>
                    <a:pt x="1600" y="160"/>
                  </a:lnTo>
                  <a:lnTo>
                    <a:pt x="1660" y="213"/>
                  </a:lnTo>
                  <a:lnTo>
                    <a:pt x="1740" y="284"/>
                  </a:lnTo>
                  <a:lnTo>
                    <a:pt x="1860" y="373"/>
                  </a:lnTo>
                  <a:lnTo>
                    <a:pt x="1900" y="409"/>
                  </a:lnTo>
                  <a:lnTo>
                    <a:pt x="1920" y="426"/>
                  </a:lnTo>
                  <a:lnTo>
                    <a:pt x="1960" y="444"/>
                  </a:lnTo>
                  <a:lnTo>
                    <a:pt x="2000" y="462"/>
                  </a:lnTo>
                  <a:lnTo>
                    <a:pt x="2060" y="480"/>
                  </a:lnTo>
                  <a:lnTo>
                    <a:pt x="2120" y="497"/>
                  </a:lnTo>
                  <a:lnTo>
                    <a:pt x="2200" y="515"/>
                  </a:lnTo>
                  <a:lnTo>
                    <a:pt x="2260" y="533"/>
                  </a:lnTo>
                  <a:lnTo>
                    <a:pt x="2360" y="551"/>
                  </a:lnTo>
                  <a:lnTo>
                    <a:pt x="2460" y="568"/>
                  </a:lnTo>
                  <a:lnTo>
                    <a:pt x="2560" y="586"/>
                  </a:lnTo>
                  <a:lnTo>
                    <a:pt x="2680" y="604"/>
                  </a:lnTo>
                  <a:lnTo>
                    <a:pt x="2780" y="604"/>
                  </a:lnTo>
                  <a:lnTo>
                    <a:pt x="2900" y="622"/>
                  </a:lnTo>
                  <a:lnTo>
                    <a:pt x="3040" y="639"/>
                  </a:lnTo>
                  <a:lnTo>
                    <a:pt x="3220" y="657"/>
                  </a:lnTo>
                  <a:lnTo>
                    <a:pt x="3360" y="675"/>
                  </a:lnTo>
                  <a:lnTo>
                    <a:pt x="3440" y="675"/>
                  </a:lnTo>
                  <a:lnTo>
                    <a:pt x="0" y="76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917800" y="5095080"/>
              <a:ext cx="1420920" cy="458280"/>
            </a:xfrm>
            <a:custGeom>
              <a:avLst/>
              <a:gdLst/>
              <a:ahLst/>
              <a:rect l="l" t="t" r="r" b="b"/>
              <a:pathLst>
                <a:path w="3440" h="764">
                  <a:moveTo>
                    <a:pt x="0" y="764"/>
                  </a:moveTo>
                  <a:lnTo>
                    <a:pt x="60" y="728"/>
                  </a:lnTo>
                  <a:lnTo>
                    <a:pt x="200" y="657"/>
                  </a:lnTo>
                  <a:lnTo>
                    <a:pt x="280" y="604"/>
                  </a:lnTo>
                  <a:lnTo>
                    <a:pt x="360" y="551"/>
                  </a:lnTo>
                  <a:lnTo>
                    <a:pt x="440" y="497"/>
                  </a:lnTo>
                  <a:lnTo>
                    <a:pt x="500" y="444"/>
                  </a:lnTo>
                  <a:lnTo>
                    <a:pt x="580" y="391"/>
                  </a:lnTo>
                  <a:lnTo>
                    <a:pt x="600" y="355"/>
                  </a:lnTo>
                  <a:lnTo>
                    <a:pt x="620" y="338"/>
                  </a:lnTo>
                  <a:lnTo>
                    <a:pt x="680" y="284"/>
                  </a:lnTo>
                  <a:lnTo>
                    <a:pt x="800" y="178"/>
                  </a:lnTo>
                  <a:lnTo>
                    <a:pt x="860" y="125"/>
                  </a:lnTo>
                  <a:lnTo>
                    <a:pt x="880" y="107"/>
                  </a:lnTo>
                  <a:lnTo>
                    <a:pt x="960" y="71"/>
                  </a:lnTo>
                  <a:lnTo>
                    <a:pt x="1020" y="36"/>
                  </a:lnTo>
                  <a:lnTo>
                    <a:pt x="1080" y="18"/>
                  </a:lnTo>
                  <a:lnTo>
                    <a:pt x="1120" y="0"/>
                  </a:lnTo>
                  <a:lnTo>
                    <a:pt x="1140" y="0"/>
                  </a:lnTo>
                  <a:lnTo>
                    <a:pt x="1200" y="0"/>
                  </a:lnTo>
                  <a:lnTo>
                    <a:pt x="1280" y="0"/>
                  </a:lnTo>
                  <a:lnTo>
                    <a:pt x="1340" y="18"/>
                  </a:lnTo>
                  <a:lnTo>
                    <a:pt x="1360" y="18"/>
                  </a:lnTo>
                  <a:lnTo>
                    <a:pt x="1400" y="36"/>
                  </a:lnTo>
                  <a:lnTo>
                    <a:pt x="1440" y="54"/>
                  </a:lnTo>
                  <a:lnTo>
                    <a:pt x="1500" y="89"/>
                  </a:lnTo>
                  <a:lnTo>
                    <a:pt x="1560" y="125"/>
                  </a:lnTo>
                  <a:lnTo>
                    <a:pt x="1580" y="142"/>
                  </a:lnTo>
                  <a:lnTo>
                    <a:pt x="1600" y="160"/>
                  </a:lnTo>
                  <a:lnTo>
                    <a:pt x="1660" y="213"/>
                  </a:lnTo>
                  <a:lnTo>
                    <a:pt x="1740" y="284"/>
                  </a:lnTo>
                  <a:lnTo>
                    <a:pt x="1860" y="373"/>
                  </a:lnTo>
                  <a:lnTo>
                    <a:pt x="1900" y="409"/>
                  </a:lnTo>
                  <a:lnTo>
                    <a:pt x="1920" y="426"/>
                  </a:lnTo>
                  <a:lnTo>
                    <a:pt x="1960" y="444"/>
                  </a:lnTo>
                  <a:lnTo>
                    <a:pt x="2000" y="462"/>
                  </a:lnTo>
                  <a:lnTo>
                    <a:pt x="2060" y="480"/>
                  </a:lnTo>
                  <a:lnTo>
                    <a:pt x="2120" y="497"/>
                  </a:lnTo>
                  <a:lnTo>
                    <a:pt x="2200" y="515"/>
                  </a:lnTo>
                  <a:lnTo>
                    <a:pt x="2260" y="533"/>
                  </a:lnTo>
                  <a:lnTo>
                    <a:pt x="2360" y="551"/>
                  </a:lnTo>
                  <a:lnTo>
                    <a:pt x="2460" y="568"/>
                  </a:lnTo>
                  <a:lnTo>
                    <a:pt x="2560" y="586"/>
                  </a:lnTo>
                  <a:lnTo>
                    <a:pt x="2680" y="604"/>
                  </a:lnTo>
                  <a:lnTo>
                    <a:pt x="2780" y="604"/>
                  </a:lnTo>
                  <a:lnTo>
                    <a:pt x="2900" y="622"/>
                  </a:lnTo>
                  <a:lnTo>
                    <a:pt x="3040" y="639"/>
                  </a:lnTo>
                  <a:lnTo>
                    <a:pt x="3220" y="657"/>
                  </a:lnTo>
                  <a:lnTo>
                    <a:pt x="3360" y="675"/>
                  </a:lnTo>
                  <a:lnTo>
                    <a:pt x="3440" y="6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620440" y="4797360"/>
              <a:ext cx="0" cy="75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620440" y="5553360"/>
              <a:ext cx="172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396600" y="5127840"/>
              <a:ext cx="1440" cy="60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rot="16200000">
              <a:off x="2310120" y="5273280"/>
              <a:ext cx="45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babil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720520" y="5583600"/>
              <a:ext cx="37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ime/$/..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422160" y="5010120"/>
              <a:ext cx="90360" cy="51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rot="16200000">
              <a:off x="3247920" y="5188680"/>
              <a:ext cx="45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arget N+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2484360" y="3789360"/>
            <a:ext cx="1815840" cy="859680"/>
            <a:chOff x="2484360" y="3789360"/>
            <a:chExt cx="1815840" cy="859680"/>
          </a:xfrm>
        </p:grpSpPr>
        <p:sp>
          <p:nvSpPr>
            <p:cNvPr id="1705" name=""/>
            <p:cNvSpPr/>
            <p:nvPr/>
          </p:nvSpPr>
          <p:spPr>
            <a:xfrm>
              <a:off x="2696400" y="3857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879280" y="4470480"/>
              <a:ext cx="1420920" cy="63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31040" y="4014720"/>
              <a:ext cx="1452600" cy="498240"/>
            </a:xfrm>
            <a:custGeom>
              <a:avLst/>
              <a:gdLst/>
              <a:ahLst/>
              <a:rect l="l" t="t" r="r" b="b"/>
              <a:pathLst>
                <a:path w="3620" h="870">
                  <a:moveTo>
                    <a:pt x="0" y="870"/>
                  </a:moveTo>
                  <a:lnTo>
                    <a:pt x="40" y="835"/>
                  </a:lnTo>
                  <a:lnTo>
                    <a:pt x="160" y="746"/>
                  </a:lnTo>
                  <a:lnTo>
                    <a:pt x="240" y="675"/>
                  </a:lnTo>
                  <a:lnTo>
                    <a:pt x="300" y="622"/>
                  </a:lnTo>
                  <a:lnTo>
                    <a:pt x="360" y="568"/>
                  </a:lnTo>
                  <a:lnTo>
                    <a:pt x="420" y="497"/>
                  </a:lnTo>
                  <a:lnTo>
                    <a:pt x="460" y="444"/>
                  </a:lnTo>
                  <a:lnTo>
                    <a:pt x="500" y="409"/>
                  </a:lnTo>
                  <a:lnTo>
                    <a:pt x="500" y="391"/>
                  </a:lnTo>
                  <a:lnTo>
                    <a:pt x="520" y="355"/>
                  </a:lnTo>
                  <a:lnTo>
                    <a:pt x="560" y="284"/>
                  </a:lnTo>
                  <a:lnTo>
                    <a:pt x="620" y="213"/>
                  </a:lnTo>
                  <a:lnTo>
                    <a:pt x="680" y="160"/>
                  </a:lnTo>
                  <a:lnTo>
                    <a:pt x="700" y="142"/>
                  </a:lnTo>
                  <a:lnTo>
                    <a:pt x="720" y="124"/>
                  </a:lnTo>
                  <a:lnTo>
                    <a:pt x="780" y="71"/>
                  </a:lnTo>
                  <a:lnTo>
                    <a:pt x="820" y="36"/>
                  </a:lnTo>
                  <a:lnTo>
                    <a:pt x="860" y="18"/>
                  </a:lnTo>
                  <a:lnTo>
                    <a:pt x="900" y="0"/>
                  </a:lnTo>
                  <a:lnTo>
                    <a:pt x="920" y="0"/>
                  </a:lnTo>
                  <a:lnTo>
                    <a:pt x="960" y="0"/>
                  </a:lnTo>
                  <a:lnTo>
                    <a:pt x="1020" y="0"/>
                  </a:lnTo>
                  <a:lnTo>
                    <a:pt x="1060" y="18"/>
                  </a:lnTo>
                  <a:lnTo>
                    <a:pt x="1080" y="18"/>
                  </a:lnTo>
                  <a:lnTo>
                    <a:pt x="1120" y="36"/>
                  </a:lnTo>
                  <a:lnTo>
                    <a:pt x="1160" y="71"/>
                  </a:lnTo>
                  <a:lnTo>
                    <a:pt x="1200" y="124"/>
                  </a:lnTo>
                  <a:lnTo>
                    <a:pt x="1240" y="195"/>
                  </a:lnTo>
                  <a:lnTo>
                    <a:pt x="1260" y="231"/>
                  </a:lnTo>
                  <a:lnTo>
                    <a:pt x="1280" y="266"/>
                  </a:lnTo>
                  <a:lnTo>
                    <a:pt x="1340" y="355"/>
                  </a:lnTo>
                  <a:lnTo>
                    <a:pt x="1420" y="444"/>
                  </a:lnTo>
                  <a:lnTo>
                    <a:pt x="1500" y="515"/>
                  </a:lnTo>
                  <a:lnTo>
                    <a:pt x="1540" y="551"/>
                  </a:lnTo>
                  <a:lnTo>
                    <a:pt x="1560" y="568"/>
                  </a:lnTo>
                  <a:lnTo>
                    <a:pt x="1600" y="586"/>
                  </a:lnTo>
                  <a:lnTo>
                    <a:pt x="1640" y="604"/>
                  </a:lnTo>
                  <a:lnTo>
                    <a:pt x="1700" y="622"/>
                  </a:lnTo>
                  <a:lnTo>
                    <a:pt x="1780" y="639"/>
                  </a:lnTo>
                  <a:lnTo>
                    <a:pt x="1860" y="657"/>
                  </a:lnTo>
                  <a:lnTo>
                    <a:pt x="1960" y="675"/>
                  </a:lnTo>
                  <a:lnTo>
                    <a:pt x="2080" y="693"/>
                  </a:lnTo>
                  <a:lnTo>
                    <a:pt x="2200" y="693"/>
                  </a:lnTo>
                  <a:lnTo>
                    <a:pt x="2340" y="710"/>
                  </a:lnTo>
                  <a:lnTo>
                    <a:pt x="2500" y="728"/>
                  </a:lnTo>
                  <a:lnTo>
                    <a:pt x="2680" y="746"/>
                  </a:lnTo>
                  <a:lnTo>
                    <a:pt x="2880" y="764"/>
                  </a:lnTo>
                  <a:lnTo>
                    <a:pt x="3060" y="764"/>
                  </a:lnTo>
                  <a:lnTo>
                    <a:pt x="3260" y="781"/>
                  </a:lnTo>
                  <a:lnTo>
                    <a:pt x="3500" y="799"/>
                  </a:lnTo>
                  <a:lnTo>
                    <a:pt x="3620" y="799"/>
                  </a:lnTo>
                  <a:lnTo>
                    <a:pt x="0" y="87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31040" y="4014720"/>
              <a:ext cx="1452600" cy="498240"/>
            </a:xfrm>
            <a:custGeom>
              <a:avLst/>
              <a:gdLst/>
              <a:ahLst/>
              <a:rect l="l" t="t" r="r" b="b"/>
              <a:pathLst>
                <a:path w="3620" h="870">
                  <a:moveTo>
                    <a:pt x="0" y="870"/>
                  </a:moveTo>
                  <a:lnTo>
                    <a:pt x="40" y="835"/>
                  </a:lnTo>
                  <a:lnTo>
                    <a:pt x="160" y="746"/>
                  </a:lnTo>
                  <a:lnTo>
                    <a:pt x="240" y="675"/>
                  </a:lnTo>
                  <a:lnTo>
                    <a:pt x="300" y="622"/>
                  </a:lnTo>
                  <a:lnTo>
                    <a:pt x="360" y="568"/>
                  </a:lnTo>
                  <a:lnTo>
                    <a:pt x="420" y="497"/>
                  </a:lnTo>
                  <a:lnTo>
                    <a:pt x="460" y="444"/>
                  </a:lnTo>
                  <a:lnTo>
                    <a:pt x="500" y="409"/>
                  </a:lnTo>
                  <a:lnTo>
                    <a:pt x="500" y="391"/>
                  </a:lnTo>
                  <a:lnTo>
                    <a:pt x="520" y="355"/>
                  </a:lnTo>
                  <a:lnTo>
                    <a:pt x="560" y="284"/>
                  </a:lnTo>
                  <a:lnTo>
                    <a:pt x="620" y="213"/>
                  </a:lnTo>
                  <a:lnTo>
                    <a:pt x="680" y="160"/>
                  </a:lnTo>
                  <a:lnTo>
                    <a:pt x="700" y="142"/>
                  </a:lnTo>
                  <a:lnTo>
                    <a:pt x="720" y="124"/>
                  </a:lnTo>
                  <a:lnTo>
                    <a:pt x="780" y="71"/>
                  </a:lnTo>
                  <a:lnTo>
                    <a:pt x="820" y="36"/>
                  </a:lnTo>
                  <a:lnTo>
                    <a:pt x="860" y="18"/>
                  </a:lnTo>
                  <a:lnTo>
                    <a:pt x="900" y="0"/>
                  </a:lnTo>
                  <a:lnTo>
                    <a:pt x="920" y="0"/>
                  </a:lnTo>
                  <a:lnTo>
                    <a:pt x="960" y="0"/>
                  </a:lnTo>
                  <a:lnTo>
                    <a:pt x="1020" y="0"/>
                  </a:lnTo>
                  <a:lnTo>
                    <a:pt x="1060" y="18"/>
                  </a:lnTo>
                  <a:lnTo>
                    <a:pt x="1080" y="18"/>
                  </a:lnTo>
                  <a:lnTo>
                    <a:pt x="1120" y="36"/>
                  </a:lnTo>
                  <a:lnTo>
                    <a:pt x="1160" y="71"/>
                  </a:lnTo>
                  <a:lnTo>
                    <a:pt x="1200" y="124"/>
                  </a:lnTo>
                  <a:lnTo>
                    <a:pt x="1240" y="195"/>
                  </a:lnTo>
                  <a:lnTo>
                    <a:pt x="1260" y="231"/>
                  </a:lnTo>
                  <a:lnTo>
                    <a:pt x="1280" y="266"/>
                  </a:lnTo>
                  <a:lnTo>
                    <a:pt x="1340" y="355"/>
                  </a:lnTo>
                  <a:lnTo>
                    <a:pt x="1420" y="444"/>
                  </a:lnTo>
                  <a:lnTo>
                    <a:pt x="1500" y="515"/>
                  </a:lnTo>
                  <a:lnTo>
                    <a:pt x="1540" y="551"/>
                  </a:lnTo>
                  <a:lnTo>
                    <a:pt x="1560" y="568"/>
                  </a:lnTo>
                  <a:lnTo>
                    <a:pt x="1600" y="586"/>
                  </a:lnTo>
                  <a:lnTo>
                    <a:pt x="1640" y="604"/>
                  </a:lnTo>
                  <a:lnTo>
                    <a:pt x="1700" y="622"/>
                  </a:lnTo>
                  <a:lnTo>
                    <a:pt x="1780" y="639"/>
                  </a:lnTo>
                  <a:lnTo>
                    <a:pt x="1860" y="657"/>
                  </a:lnTo>
                  <a:lnTo>
                    <a:pt x="1960" y="675"/>
                  </a:lnTo>
                  <a:lnTo>
                    <a:pt x="2080" y="693"/>
                  </a:lnTo>
                  <a:lnTo>
                    <a:pt x="2200" y="693"/>
                  </a:lnTo>
                  <a:lnTo>
                    <a:pt x="2340" y="710"/>
                  </a:lnTo>
                  <a:lnTo>
                    <a:pt x="2500" y="728"/>
                  </a:lnTo>
                  <a:lnTo>
                    <a:pt x="2680" y="746"/>
                  </a:lnTo>
                  <a:lnTo>
                    <a:pt x="2880" y="764"/>
                  </a:lnTo>
                  <a:lnTo>
                    <a:pt x="3060" y="764"/>
                  </a:lnTo>
                  <a:lnTo>
                    <a:pt x="3260" y="781"/>
                  </a:lnTo>
                  <a:lnTo>
                    <a:pt x="3500" y="799"/>
                  </a:lnTo>
                  <a:lnTo>
                    <a:pt x="3620" y="7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14680" y="3789360"/>
              <a:ext cx="0" cy="72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614680" y="4513320"/>
              <a:ext cx="167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216960" y="4064760"/>
              <a:ext cx="0" cy="58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rot="16200000">
              <a:off x="2310120" y="4232520"/>
              <a:ext cx="45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babil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712600" y="4542120"/>
              <a:ext cx="405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ime/$/..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256560" y="4014720"/>
              <a:ext cx="88200" cy="4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rot="16200000">
              <a:off x="3090960" y="4157280"/>
              <a:ext cx="43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arget N-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2484360" y="2709720"/>
            <a:ext cx="1800360" cy="965520"/>
            <a:chOff x="2484360" y="2709720"/>
            <a:chExt cx="1800360" cy="965520"/>
          </a:xfrm>
        </p:grpSpPr>
        <p:sp>
          <p:nvSpPr>
            <p:cNvPr id="1717" name=""/>
            <p:cNvSpPr/>
            <p:nvPr/>
          </p:nvSpPr>
          <p:spPr>
            <a:xfrm>
              <a:off x="2673000" y="27784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841120" y="3484800"/>
              <a:ext cx="1443600" cy="58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800800" y="2871360"/>
              <a:ext cx="1467000" cy="650160"/>
            </a:xfrm>
            <a:custGeom>
              <a:avLst/>
              <a:gdLst/>
              <a:ahLst/>
              <a:rect l="l" t="t" r="r" b="b"/>
              <a:pathLst>
                <a:path w="3620" h="994">
                  <a:moveTo>
                    <a:pt x="0" y="994"/>
                  </a:moveTo>
                  <a:lnTo>
                    <a:pt x="40" y="958"/>
                  </a:lnTo>
                  <a:lnTo>
                    <a:pt x="140" y="852"/>
                  </a:lnTo>
                  <a:lnTo>
                    <a:pt x="220" y="781"/>
                  </a:lnTo>
                  <a:lnTo>
                    <a:pt x="280" y="728"/>
                  </a:lnTo>
                  <a:lnTo>
                    <a:pt x="340" y="657"/>
                  </a:lnTo>
                  <a:lnTo>
                    <a:pt x="400" y="586"/>
                  </a:lnTo>
                  <a:lnTo>
                    <a:pt x="420" y="550"/>
                  </a:lnTo>
                  <a:lnTo>
                    <a:pt x="460" y="497"/>
                  </a:lnTo>
                  <a:lnTo>
                    <a:pt x="460" y="479"/>
                  </a:lnTo>
                  <a:lnTo>
                    <a:pt x="500" y="408"/>
                  </a:lnTo>
                  <a:lnTo>
                    <a:pt x="580" y="248"/>
                  </a:lnTo>
                  <a:lnTo>
                    <a:pt x="600" y="177"/>
                  </a:lnTo>
                  <a:lnTo>
                    <a:pt x="620" y="142"/>
                  </a:lnTo>
                  <a:lnTo>
                    <a:pt x="640" y="89"/>
                  </a:lnTo>
                  <a:lnTo>
                    <a:pt x="680" y="35"/>
                  </a:lnTo>
                  <a:lnTo>
                    <a:pt x="720" y="18"/>
                  </a:lnTo>
                  <a:lnTo>
                    <a:pt x="720" y="18"/>
                  </a:lnTo>
                  <a:lnTo>
                    <a:pt x="740" y="18"/>
                  </a:lnTo>
                  <a:lnTo>
                    <a:pt x="780" y="0"/>
                  </a:lnTo>
                  <a:lnTo>
                    <a:pt x="820" y="0"/>
                  </a:lnTo>
                  <a:lnTo>
                    <a:pt x="860" y="18"/>
                  </a:lnTo>
                  <a:lnTo>
                    <a:pt x="880" y="18"/>
                  </a:lnTo>
                  <a:lnTo>
                    <a:pt x="880" y="18"/>
                  </a:lnTo>
                  <a:lnTo>
                    <a:pt x="900" y="35"/>
                  </a:lnTo>
                  <a:lnTo>
                    <a:pt x="920" y="53"/>
                  </a:lnTo>
                  <a:lnTo>
                    <a:pt x="940" y="89"/>
                  </a:lnTo>
                  <a:lnTo>
                    <a:pt x="960" y="142"/>
                  </a:lnTo>
                  <a:lnTo>
                    <a:pt x="980" y="177"/>
                  </a:lnTo>
                  <a:lnTo>
                    <a:pt x="980" y="195"/>
                  </a:lnTo>
                  <a:lnTo>
                    <a:pt x="1000" y="266"/>
                  </a:lnTo>
                  <a:lnTo>
                    <a:pt x="1000" y="284"/>
                  </a:lnTo>
                  <a:lnTo>
                    <a:pt x="1020" y="337"/>
                  </a:lnTo>
                  <a:lnTo>
                    <a:pt x="1060" y="444"/>
                  </a:lnTo>
                  <a:lnTo>
                    <a:pt x="1120" y="550"/>
                  </a:lnTo>
                  <a:lnTo>
                    <a:pt x="1180" y="639"/>
                  </a:lnTo>
                  <a:lnTo>
                    <a:pt x="1220" y="674"/>
                  </a:lnTo>
                  <a:lnTo>
                    <a:pt x="1240" y="692"/>
                  </a:lnTo>
                  <a:lnTo>
                    <a:pt x="1280" y="710"/>
                  </a:lnTo>
                  <a:lnTo>
                    <a:pt x="1300" y="728"/>
                  </a:lnTo>
                  <a:lnTo>
                    <a:pt x="1380" y="745"/>
                  </a:lnTo>
                  <a:lnTo>
                    <a:pt x="1460" y="763"/>
                  </a:lnTo>
                  <a:lnTo>
                    <a:pt x="1560" y="781"/>
                  </a:lnTo>
                  <a:lnTo>
                    <a:pt x="1680" y="799"/>
                  </a:lnTo>
                  <a:lnTo>
                    <a:pt x="1820" y="816"/>
                  </a:lnTo>
                  <a:lnTo>
                    <a:pt x="1960" y="834"/>
                  </a:lnTo>
                  <a:lnTo>
                    <a:pt x="2140" y="852"/>
                  </a:lnTo>
                  <a:lnTo>
                    <a:pt x="2340" y="870"/>
                  </a:lnTo>
                  <a:lnTo>
                    <a:pt x="2540" y="887"/>
                  </a:lnTo>
                  <a:lnTo>
                    <a:pt x="2740" y="905"/>
                  </a:lnTo>
                  <a:lnTo>
                    <a:pt x="2960" y="905"/>
                  </a:lnTo>
                  <a:lnTo>
                    <a:pt x="3200" y="923"/>
                  </a:lnTo>
                  <a:lnTo>
                    <a:pt x="3480" y="941"/>
                  </a:lnTo>
                  <a:lnTo>
                    <a:pt x="3620" y="941"/>
                  </a:lnTo>
                  <a:lnTo>
                    <a:pt x="0" y="99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800800" y="2871360"/>
              <a:ext cx="1467000" cy="650160"/>
            </a:xfrm>
            <a:custGeom>
              <a:avLst/>
              <a:gdLst/>
              <a:ahLst/>
              <a:rect l="l" t="t" r="r" b="b"/>
              <a:pathLst>
                <a:path w="3620" h="994">
                  <a:moveTo>
                    <a:pt x="0" y="994"/>
                  </a:moveTo>
                  <a:lnTo>
                    <a:pt x="40" y="958"/>
                  </a:lnTo>
                  <a:lnTo>
                    <a:pt x="140" y="852"/>
                  </a:lnTo>
                  <a:lnTo>
                    <a:pt x="220" y="781"/>
                  </a:lnTo>
                  <a:lnTo>
                    <a:pt x="280" y="728"/>
                  </a:lnTo>
                  <a:lnTo>
                    <a:pt x="340" y="657"/>
                  </a:lnTo>
                  <a:lnTo>
                    <a:pt x="400" y="586"/>
                  </a:lnTo>
                  <a:lnTo>
                    <a:pt x="420" y="550"/>
                  </a:lnTo>
                  <a:lnTo>
                    <a:pt x="460" y="497"/>
                  </a:lnTo>
                  <a:lnTo>
                    <a:pt x="460" y="479"/>
                  </a:lnTo>
                  <a:lnTo>
                    <a:pt x="500" y="408"/>
                  </a:lnTo>
                  <a:lnTo>
                    <a:pt x="580" y="248"/>
                  </a:lnTo>
                  <a:lnTo>
                    <a:pt x="600" y="177"/>
                  </a:lnTo>
                  <a:lnTo>
                    <a:pt x="620" y="142"/>
                  </a:lnTo>
                  <a:lnTo>
                    <a:pt x="640" y="89"/>
                  </a:lnTo>
                  <a:lnTo>
                    <a:pt x="680" y="35"/>
                  </a:lnTo>
                  <a:lnTo>
                    <a:pt x="720" y="18"/>
                  </a:lnTo>
                  <a:lnTo>
                    <a:pt x="740" y="18"/>
                  </a:lnTo>
                  <a:lnTo>
                    <a:pt x="780" y="0"/>
                  </a:lnTo>
                  <a:lnTo>
                    <a:pt x="820" y="0"/>
                  </a:lnTo>
                  <a:lnTo>
                    <a:pt x="860" y="18"/>
                  </a:lnTo>
                  <a:lnTo>
                    <a:pt x="880" y="18"/>
                  </a:lnTo>
                  <a:lnTo>
                    <a:pt x="900" y="35"/>
                  </a:lnTo>
                  <a:lnTo>
                    <a:pt x="920" y="53"/>
                  </a:lnTo>
                  <a:lnTo>
                    <a:pt x="940" y="89"/>
                  </a:lnTo>
                  <a:lnTo>
                    <a:pt x="960" y="142"/>
                  </a:lnTo>
                  <a:lnTo>
                    <a:pt x="980" y="177"/>
                  </a:lnTo>
                  <a:lnTo>
                    <a:pt x="980" y="195"/>
                  </a:lnTo>
                  <a:lnTo>
                    <a:pt x="1000" y="266"/>
                  </a:lnTo>
                  <a:lnTo>
                    <a:pt x="1000" y="284"/>
                  </a:lnTo>
                  <a:lnTo>
                    <a:pt x="1020" y="337"/>
                  </a:lnTo>
                  <a:lnTo>
                    <a:pt x="1060" y="444"/>
                  </a:lnTo>
                  <a:lnTo>
                    <a:pt x="1120" y="550"/>
                  </a:lnTo>
                  <a:lnTo>
                    <a:pt x="1180" y="639"/>
                  </a:lnTo>
                  <a:lnTo>
                    <a:pt x="1220" y="674"/>
                  </a:lnTo>
                  <a:lnTo>
                    <a:pt x="1240" y="692"/>
                  </a:lnTo>
                  <a:lnTo>
                    <a:pt x="1280" y="710"/>
                  </a:lnTo>
                  <a:lnTo>
                    <a:pt x="1300" y="728"/>
                  </a:lnTo>
                  <a:lnTo>
                    <a:pt x="1380" y="745"/>
                  </a:lnTo>
                  <a:lnTo>
                    <a:pt x="1460" y="763"/>
                  </a:lnTo>
                  <a:lnTo>
                    <a:pt x="1560" y="781"/>
                  </a:lnTo>
                  <a:lnTo>
                    <a:pt x="1680" y="799"/>
                  </a:lnTo>
                  <a:lnTo>
                    <a:pt x="1820" y="816"/>
                  </a:lnTo>
                  <a:lnTo>
                    <a:pt x="1960" y="834"/>
                  </a:lnTo>
                  <a:lnTo>
                    <a:pt x="2140" y="852"/>
                  </a:lnTo>
                  <a:lnTo>
                    <a:pt x="2340" y="870"/>
                  </a:lnTo>
                  <a:lnTo>
                    <a:pt x="2540" y="887"/>
                  </a:lnTo>
                  <a:lnTo>
                    <a:pt x="2740" y="905"/>
                  </a:lnTo>
                  <a:lnTo>
                    <a:pt x="2960" y="905"/>
                  </a:lnTo>
                  <a:lnTo>
                    <a:pt x="3200" y="923"/>
                  </a:lnTo>
                  <a:lnTo>
                    <a:pt x="3480" y="941"/>
                  </a:lnTo>
                  <a:lnTo>
                    <a:pt x="3620" y="9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591640" y="2709720"/>
              <a:ext cx="0" cy="82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591640" y="3531600"/>
              <a:ext cx="1692720" cy="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134160" y="2999520"/>
              <a:ext cx="0" cy="65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rot="16200000">
              <a:off x="2151360" y="3076560"/>
              <a:ext cx="77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babil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691720" y="3568320"/>
              <a:ext cx="37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ime/$/..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174120" y="2952720"/>
              <a:ext cx="87840" cy="53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rot="16200000">
              <a:off x="3055680" y="3057120"/>
              <a:ext cx="43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arget N-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8" name=""/>
          <p:cNvGrpSpPr/>
          <p:nvPr/>
        </p:nvGrpSpPr>
        <p:grpSpPr>
          <a:xfrm>
            <a:off x="2484360" y="1679400"/>
            <a:ext cx="1800000" cy="876600"/>
            <a:chOff x="2484360" y="1679400"/>
            <a:chExt cx="1800000" cy="876600"/>
          </a:xfrm>
        </p:grpSpPr>
        <p:sp>
          <p:nvSpPr>
            <p:cNvPr id="1729" name=""/>
            <p:cNvSpPr/>
            <p:nvPr/>
          </p:nvSpPr>
          <p:spPr>
            <a:xfrm>
              <a:off x="2706840" y="1730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792160" y="2388960"/>
              <a:ext cx="1492200" cy="51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768760" y="1783080"/>
              <a:ext cx="1499040" cy="647640"/>
            </a:xfrm>
            <a:custGeom>
              <a:avLst/>
              <a:gdLst/>
              <a:ahLst/>
              <a:rect l="l" t="t" r="r" b="b"/>
              <a:pathLst>
                <a:path w="3740" h="1100">
                  <a:moveTo>
                    <a:pt x="0" y="1100"/>
                  </a:moveTo>
                  <a:lnTo>
                    <a:pt x="40" y="1065"/>
                  </a:lnTo>
                  <a:lnTo>
                    <a:pt x="120" y="958"/>
                  </a:lnTo>
                  <a:lnTo>
                    <a:pt x="200" y="852"/>
                  </a:lnTo>
                  <a:lnTo>
                    <a:pt x="260" y="781"/>
                  </a:lnTo>
                  <a:lnTo>
                    <a:pt x="320" y="692"/>
                  </a:lnTo>
                  <a:lnTo>
                    <a:pt x="360" y="639"/>
                  </a:lnTo>
                  <a:lnTo>
                    <a:pt x="380" y="585"/>
                  </a:lnTo>
                  <a:lnTo>
                    <a:pt x="420" y="514"/>
                  </a:lnTo>
                  <a:lnTo>
                    <a:pt x="420" y="497"/>
                  </a:lnTo>
                  <a:lnTo>
                    <a:pt x="440" y="408"/>
                  </a:lnTo>
                  <a:lnTo>
                    <a:pt x="480" y="248"/>
                  </a:lnTo>
                  <a:lnTo>
                    <a:pt x="500" y="177"/>
                  </a:lnTo>
                  <a:lnTo>
                    <a:pt x="520" y="142"/>
                  </a:lnTo>
                  <a:lnTo>
                    <a:pt x="540" y="88"/>
                  </a:lnTo>
                  <a:lnTo>
                    <a:pt x="560" y="53"/>
                  </a:lnTo>
                  <a:lnTo>
                    <a:pt x="580" y="35"/>
                  </a:lnTo>
                  <a:lnTo>
                    <a:pt x="600" y="17"/>
                  </a:lnTo>
                  <a:lnTo>
                    <a:pt x="620" y="17"/>
                  </a:lnTo>
                  <a:lnTo>
                    <a:pt x="660" y="0"/>
                  </a:lnTo>
                  <a:lnTo>
                    <a:pt x="680" y="0"/>
                  </a:lnTo>
                  <a:lnTo>
                    <a:pt x="700" y="17"/>
                  </a:lnTo>
                  <a:lnTo>
                    <a:pt x="720" y="35"/>
                  </a:lnTo>
                  <a:lnTo>
                    <a:pt x="720" y="35"/>
                  </a:lnTo>
                  <a:lnTo>
                    <a:pt x="740" y="71"/>
                  </a:lnTo>
                  <a:lnTo>
                    <a:pt x="740" y="88"/>
                  </a:lnTo>
                  <a:lnTo>
                    <a:pt x="760" y="142"/>
                  </a:lnTo>
                  <a:lnTo>
                    <a:pt x="780" y="177"/>
                  </a:lnTo>
                  <a:lnTo>
                    <a:pt x="780" y="213"/>
                  </a:lnTo>
                  <a:lnTo>
                    <a:pt x="800" y="301"/>
                  </a:lnTo>
                  <a:lnTo>
                    <a:pt x="820" y="355"/>
                  </a:lnTo>
                  <a:lnTo>
                    <a:pt x="820" y="390"/>
                  </a:lnTo>
                  <a:lnTo>
                    <a:pt x="820" y="426"/>
                  </a:lnTo>
                  <a:lnTo>
                    <a:pt x="840" y="497"/>
                  </a:lnTo>
                  <a:lnTo>
                    <a:pt x="860" y="550"/>
                  </a:lnTo>
                  <a:lnTo>
                    <a:pt x="880" y="621"/>
                  </a:lnTo>
                  <a:lnTo>
                    <a:pt x="920" y="692"/>
                  </a:lnTo>
                  <a:lnTo>
                    <a:pt x="940" y="727"/>
                  </a:lnTo>
                  <a:lnTo>
                    <a:pt x="980" y="781"/>
                  </a:lnTo>
                  <a:lnTo>
                    <a:pt x="1000" y="816"/>
                  </a:lnTo>
                  <a:lnTo>
                    <a:pt x="1020" y="834"/>
                  </a:lnTo>
                  <a:lnTo>
                    <a:pt x="1020" y="834"/>
                  </a:lnTo>
                  <a:lnTo>
                    <a:pt x="1060" y="852"/>
                  </a:lnTo>
                  <a:lnTo>
                    <a:pt x="1120" y="869"/>
                  </a:lnTo>
                  <a:lnTo>
                    <a:pt x="1180" y="887"/>
                  </a:lnTo>
                  <a:lnTo>
                    <a:pt x="1280" y="905"/>
                  </a:lnTo>
                  <a:lnTo>
                    <a:pt x="1400" y="923"/>
                  </a:lnTo>
                  <a:lnTo>
                    <a:pt x="1540" y="940"/>
                  </a:lnTo>
                  <a:lnTo>
                    <a:pt x="1700" y="958"/>
                  </a:lnTo>
                  <a:lnTo>
                    <a:pt x="1840" y="958"/>
                  </a:lnTo>
                  <a:lnTo>
                    <a:pt x="2040" y="976"/>
                  </a:lnTo>
                  <a:lnTo>
                    <a:pt x="2260" y="994"/>
                  </a:lnTo>
                  <a:lnTo>
                    <a:pt x="2460" y="994"/>
                  </a:lnTo>
                  <a:lnTo>
                    <a:pt x="2720" y="1011"/>
                  </a:lnTo>
                  <a:lnTo>
                    <a:pt x="3000" y="1029"/>
                  </a:lnTo>
                  <a:lnTo>
                    <a:pt x="3260" y="1029"/>
                  </a:lnTo>
                  <a:lnTo>
                    <a:pt x="3580" y="1047"/>
                  </a:lnTo>
                  <a:lnTo>
                    <a:pt x="3740" y="1047"/>
                  </a:lnTo>
                  <a:lnTo>
                    <a:pt x="0" y="110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768760" y="1783080"/>
              <a:ext cx="1499040" cy="647640"/>
            </a:xfrm>
            <a:custGeom>
              <a:avLst/>
              <a:gdLst/>
              <a:ahLst/>
              <a:rect l="l" t="t" r="r" b="b"/>
              <a:pathLst>
                <a:path w="3740" h="1100">
                  <a:moveTo>
                    <a:pt x="0" y="1100"/>
                  </a:moveTo>
                  <a:lnTo>
                    <a:pt x="40" y="1065"/>
                  </a:lnTo>
                  <a:lnTo>
                    <a:pt x="120" y="958"/>
                  </a:lnTo>
                  <a:lnTo>
                    <a:pt x="200" y="852"/>
                  </a:lnTo>
                  <a:lnTo>
                    <a:pt x="260" y="781"/>
                  </a:lnTo>
                  <a:lnTo>
                    <a:pt x="320" y="692"/>
                  </a:lnTo>
                  <a:lnTo>
                    <a:pt x="360" y="639"/>
                  </a:lnTo>
                  <a:lnTo>
                    <a:pt x="380" y="585"/>
                  </a:lnTo>
                  <a:lnTo>
                    <a:pt x="420" y="514"/>
                  </a:lnTo>
                  <a:lnTo>
                    <a:pt x="420" y="497"/>
                  </a:lnTo>
                  <a:lnTo>
                    <a:pt x="440" y="408"/>
                  </a:lnTo>
                  <a:lnTo>
                    <a:pt x="480" y="248"/>
                  </a:lnTo>
                  <a:lnTo>
                    <a:pt x="500" y="177"/>
                  </a:lnTo>
                  <a:lnTo>
                    <a:pt x="520" y="142"/>
                  </a:lnTo>
                  <a:lnTo>
                    <a:pt x="540" y="88"/>
                  </a:lnTo>
                  <a:lnTo>
                    <a:pt x="560" y="53"/>
                  </a:lnTo>
                  <a:lnTo>
                    <a:pt x="580" y="35"/>
                  </a:lnTo>
                  <a:lnTo>
                    <a:pt x="600" y="17"/>
                  </a:lnTo>
                  <a:lnTo>
                    <a:pt x="620" y="17"/>
                  </a:lnTo>
                  <a:lnTo>
                    <a:pt x="660" y="0"/>
                  </a:lnTo>
                  <a:lnTo>
                    <a:pt x="680" y="0"/>
                  </a:lnTo>
                  <a:lnTo>
                    <a:pt x="700" y="17"/>
                  </a:lnTo>
                  <a:lnTo>
                    <a:pt x="720" y="35"/>
                  </a:lnTo>
                  <a:lnTo>
                    <a:pt x="740" y="71"/>
                  </a:lnTo>
                  <a:lnTo>
                    <a:pt x="740" y="88"/>
                  </a:lnTo>
                  <a:lnTo>
                    <a:pt x="760" y="142"/>
                  </a:lnTo>
                  <a:lnTo>
                    <a:pt x="780" y="177"/>
                  </a:lnTo>
                  <a:lnTo>
                    <a:pt x="780" y="213"/>
                  </a:lnTo>
                  <a:lnTo>
                    <a:pt x="800" y="301"/>
                  </a:lnTo>
                  <a:lnTo>
                    <a:pt x="820" y="355"/>
                  </a:lnTo>
                  <a:lnTo>
                    <a:pt x="820" y="390"/>
                  </a:lnTo>
                  <a:lnTo>
                    <a:pt x="820" y="426"/>
                  </a:lnTo>
                  <a:lnTo>
                    <a:pt x="840" y="497"/>
                  </a:lnTo>
                  <a:lnTo>
                    <a:pt x="860" y="550"/>
                  </a:lnTo>
                  <a:lnTo>
                    <a:pt x="880" y="621"/>
                  </a:lnTo>
                  <a:lnTo>
                    <a:pt x="920" y="692"/>
                  </a:lnTo>
                  <a:lnTo>
                    <a:pt x="940" y="727"/>
                  </a:lnTo>
                  <a:lnTo>
                    <a:pt x="980" y="781"/>
                  </a:lnTo>
                  <a:lnTo>
                    <a:pt x="1000" y="816"/>
                  </a:lnTo>
                  <a:lnTo>
                    <a:pt x="1020" y="834"/>
                  </a:lnTo>
                  <a:lnTo>
                    <a:pt x="1060" y="852"/>
                  </a:lnTo>
                  <a:lnTo>
                    <a:pt x="1120" y="869"/>
                  </a:lnTo>
                  <a:lnTo>
                    <a:pt x="1180" y="887"/>
                  </a:lnTo>
                  <a:lnTo>
                    <a:pt x="1280" y="905"/>
                  </a:lnTo>
                  <a:lnTo>
                    <a:pt x="1400" y="923"/>
                  </a:lnTo>
                  <a:lnTo>
                    <a:pt x="1540" y="940"/>
                  </a:lnTo>
                  <a:lnTo>
                    <a:pt x="1700" y="958"/>
                  </a:lnTo>
                  <a:lnTo>
                    <a:pt x="1840" y="958"/>
                  </a:lnTo>
                  <a:lnTo>
                    <a:pt x="2040" y="976"/>
                  </a:lnTo>
                  <a:lnTo>
                    <a:pt x="2260" y="994"/>
                  </a:lnTo>
                  <a:lnTo>
                    <a:pt x="2460" y="994"/>
                  </a:lnTo>
                  <a:lnTo>
                    <a:pt x="2720" y="1011"/>
                  </a:lnTo>
                  <a:lnTo>
                    <a:pt x="3000" y="1029"/>
                  </a:lnTo>
                  <a:lnTo>
                    <a:pt x="3260" y="1029"/>
                  </a:lnTo>
                  <a:lnTo>
                    <a:pt x="3580" y="1047"/>
                  </a:lnTo>
                  <a:lnTo>
                    <a:pt x="3740" y="104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609280" y="1679400"/>
              <a:ext cx="0" cy="73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601000" y="2430720"/>
              <a:ext cx="167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025440" y="1951920"/>
              <a:ext cx="0" cy="59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6200000">
              <a:off x="2310120" y="2122200"/>
              <a:ext cx="45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babil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660040" y="2449080"/>
              <a:ext cx="37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ime/$/..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065760" y="1919520"/>
              <a:ext cx="87480" cy="46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rot="16200000">
              <a:off x="2985840" y="191304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arget N-z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0" name=""/>
          <p:cNvSpPr/>
          <p:nvPr/>
        </p:nvSpPr>
        <p:spPr>
          <a:xfrm>
            <a:off x="2195640" y="909720"/>
            <a:ext cx="0" cy="569916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971640" y="1486080"/>
            <a:ext cx="6941880" cy="936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971640" y="2637000"/>
            <a:ext cx="693252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971640" y="3714480"/>
            <a:ext cx="6941880" cy="32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971640" y="4722480"/>
            <a:ext cx="6941880" cy="32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971640" y="5734080"/>
            <a:ext cx="693252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044720" y="936720"/>
            <a:ext cx="839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í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836720" y="981000"/>
            <a:ext cx="410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Desempenho Previ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508720" y="909720"/>
            <a:ext cx="0" cy="576108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329120" y="631044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Arial"/>
              </a:rPr>
              <a:t>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185840" y="42051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Arial"/>
              </a:rPr>
              <a:t>Defin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097640" y="19558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Otimiz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041480" y="3200400"/>
            <a:ext cx="1171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Arial"/>
              </a:rPr>
              <a:t>Gerenci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157400" y="5289480"/>
            <a:ext cx="983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Arial"/>
              </a:rPr>
              <a:t>Repetí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435640" y="5805360"/>
            <a:ext cx="25210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s de cronograma e custos tipicamente não são atingidas por organizações Nível 1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670720" y="4800600"/>
            <a:ext cx="221436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os baseados nos desempenhos anteriores são mais realísticos nas organizações Ní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472000" y="3840120"/>
            <a:ext cx="27003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 processos bem-definidos, há melhoria de desempenho nas organizações Nível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653080" y="2471760"/>
            <a:ext cx="230364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ada no entendimento quantitativo do processo e produto, o desempenho continua a melhorar nas organizações Nível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012000" y="1486080"/>
            <a:ext cx="165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desempenho melhora continuamente nas organizações Nível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580000" y="981000"/>
            <a:ext cx="23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Caracterís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/>
          <p:nvPr/>
        </p:nvSpPr>
        <p:spPr>
          <a:xfrm>
            <a:off x="2021040" y="4297320"/>
            <a:ext cx="333360" cy="463680"/>
          </a:xfrm>
          <a:custGeom>
            <a:avLst/>
            <a:gdLst/>
            <a:ahLst/>
            <a:rect l="l" t="t" r="r" b="b"/>
            <a:pathLst>
              <a:path w="210" h="292">
                <a:moveTo>
                  <a:pt x="132" y="129"/>
                </a:moveTo>
                <a:lnTo>
                  <a:pt x="155" y="116"/>
                </a:lnTo>
                <a:lnTo>
                  <a:pt x="179" y="103"/>
                </a:lnTo>
                <a:lnTo>
                  <a:pt x="191" y="90"/>
                </a:lnTo>
                <a:lnTo>
                  <a:pt x="197" y="71"/>
                </a:lnTo>
                <a:lnTo>
                  <a:pt x="185" y="39"/>
                </a:lnTo>
                <a:lnTo>
                  <a:pt x="167" y="19"/>
                </a:lnTo>
                <a:lnTo>
                  <a:pt x="137" y="0"/>
                </a:lnTo>
                <a:lnTo>
                  <a:pt x="107" y="0"/>
                </a:lnTo>
                <a:lnTo>
                  <a:pt x="66" y="6"/>
                </a:lnTo>
                <a:lnTo>
                  <a:pt x="36" y="19"/>
                </a:lnTo>
                <a:lnTo>
                  <a:pt x="24" y="39"/>
                </a:lnTo>
                <a:lnTo>
                  <a:pt x="18" y="65"/>
                </a:lnTo>
                <a:lnTo>
                  <a:pt x="18" y="77"/>
                </a:lnTo>
                <a:lnTo>
                  <a:pt x="24" y="90"/>
                </a:lnTo>
                <a:lnTo>
                  <a:pt x="36" y="90"/>
                </a:lnTo>
                <a:lnTo>
                  <a:pt x="42" y="90"/>
                </a:lnTo>
                <a:lnTo>
                  <a:pt x="47" y="90"/>
                </a:lnTo>
                <a:lnTo>
                  <a:pt x="54" y="84"/>
                </a:lnTo>
                <a:lnTo>
                  <a:pt x="54" y="71"/>
                </a:lnTo>
                <a:lnTo>
                  <a:pt x="54" y="65"/>
                </a:lnTo>
                <a:lnTo>
                  <a:pt x="54" y="58"/>
                </a:lnTo>
                <a:lnTo>
                  <a:pt x="47" y="52"/>
                </a:lnTo>
                <a:lnTo>
                  <a:pt x="47" y="45"/>
                </a:lnTo>
                <a:lnTo>
                  <a:pt x="54" y="39"/>
                </a:lnTo>
                <a:lnTo>
                  <a:pt x="66" y="26"/>
                </a:lnTo>
                <a:lnTo>
                  <a:pt x="83" y="19"/>
                </a:lnTo>
                <a:lnTo>
                  <a:pt x="102" y="19"/>
                </a:lnTo>
                <a:lnTo>
                  <a:pt x="126" y="19"/>
                </a:lnTo>
                <a:lnTo>
                  <a:pt x="132" y="32"/>
                </a:lnTo>
                <a:lnTo>
                  <a:pt x="143" y="45"/>
                </a:lnTo>
                <a:lnTo>
                  <a:pt x="149" y="71"/>
                </a:lnTo>
                <a:lnTo>
                  <a:pt x="143" y="90"/>
                </a:lnTo>
                <a:lnTo>
                  <a:pt x="132" y="103"/>
                </a:lnTo>
                <a:lnTo>
                  <a:pt x="113" y="116"/>
                </a:lnTo>
                <a:lnTo>
                  <a:pt x="90" y="123"/>
                </a:lnTo>
                <a:lnTo>
                  <a:pt x="83" y="123"/>
                </a:lnTo>
                <a:lnTo>
                  <a:pt x="77" y="123"/>
                </a:lnTo>
                <a:lnTo>
                  <a:pt x="72" y="123"/>
                </a:lnTo>
                <a:lnTo>
                  <a:pt x="72" y="142"/>
                </a:lnTo>
                <a:lnTo>
                  <a:pt x="77" y="142"/>
                </a:lnTo>
                <a:lnTo>
                  <a:pt x="83" y="142"/>
                </a:lnTo>
                <a:lnTo>
                  <a:pt x="90" y="142"/>
                </a:lnTo>
                <a:lnTo>
                  <a:pt x="126" y="142"/>
                </a:lnTo>
                <a:lnTo>
                  <a:pt x="143" y="149"/>
                </a:lnTo>
                <a:lnTo>
                  <a:pt x="155" y="175"/>
                </a:lnTo>
                <a:lnTo>
                  <a:pt x="162" y="207"/>
                </a:lnTo>
                <a:lnTo>
                  <a:pt x="155" y="233"/>
                </a:lnTo>
                <a:lnTo>
                  <a:pt x="143" y="252"/>
                </a:lnTo>
                <a:lnTo>
                  <a:pt x="126" y="265"/>
                </a:lnTo>
                <a:lnTo>
                  <a:pt x="102" y="265"/>
                </a:lnTo>
                <a:lnTo>
                  <a:pt x="77" y="265"/>
                </a:lnTo>
                <a:lnTo>
                  <a:pt x="60" y="259"/>
                </a:lnTo>
                <a:lnTo>
                  <a:pt x="42" y="252"/>
                </a:lnTo>
                <a:lnTo>
                  <a:pt x="42" y="239"/>
                </a:lnTo>
                <a:lnTo>
                  <a:pt x="42" y="233"/>
                </a:lnTo>
                <a:lnTo>
                  <a:pt x="42" y="226"/>
                </a:lnTo>
                <a:lnTo>
                  <a:pt x="42" y="220"/>
                </a:lnTo>
                <a:lnTo>
                  <a:pt x="42" y="207"/>
                </a:lnTo>
                <a:lnTo>
                  <a:pt x="36" y="207"/>
                </a:lnTo>
                <a:lnTo>
                  <a:pt x="30" y="201"/>
                </a:lnTo>
                <a:lnTo>
                  <a:pt x="24" y="201"/>
                </a:lnTo>
                <a:lnTo>
                  <a:pt x="18" y="201"/>
                </a:lnTo>
                <a:lnTo>
                  <a:pt x="6" y="207"/>
                </a:lnTo>
                <a:lnTo>
                  <a:pt x="0" y="214"/>
                </a:lnTo>
                <a:lnTo>
                  <a:pt x="0" y="226"/>
                </a:lnTo>
                <a:lnTo>
                  <a:pt x="6" y="252"/>
                </a:lnTo>
                <a:lnTo>
                  <a:pt x="24" y="265"/>
                </a:lnTo>
                <a:lnTo>
                  <a:pt x="54" y="285"/>
                </a:lnTo>
                <a:lnTo>
                  <a:pt x="96" y="291"/>
                </a:lnTo>
                <a:lnTo>
                  <a:pt x="137" y="285"/>
                </a:lnTo>
                <a:lnTo>
                  <a:pt x="173" y="265"/>
                </a:lnTo>
                <a:lnTo>
                  <a:pt x="203" y="239"/>
                </a:lnTo>
                <a:lnTo>
                  <a:pt x="209" y="207"/>
                </a:lnTo>
                <a:lnTo>
                  <a:pt x="203" y="175"/>
                </a:lnTo>
                <a:lnTo>
                  <a:pt x="191" y="149"/>
                </a:lnTo>
                <a:lnTo>
                  <a:pt x="167" y="142"/>
                </a:lnTo>
                <a:lnTo>
                  <a:pt x="132" y="12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152800" y="5757840"/>
            <a:ext cx="333360" cy="453960"/>
          </a:xfrm>
          <a:custGeom>
            <a:avLst/>
            <a:gdLst/>
            <a:ahLst/>
            <a:rect l="l" t="t" r="r" b="b"/>
            <a:pathLst>
              <a:path w="210" h="286">
                <a:moveTo>
                  <a:pt x="6" y="285"/>
                </a:moveTo>
                <a:lnTo>
                  <a:pt x="191" y="285"/>
                </a:lnTo>
                <a:lnTo>
                  <a:pt x="209" y="214"/>
                </a:lnTo>
                <a:lnTo>
                  <a:pt x="191" y="207"/>
                </a:lnTo>
                <a:lnTo>
                  <a:pt x="185" y="227"/>
                </a:lnTo>
                <a:lnTo>
                  <a:pt x="173" y="246"/>
                </a:lnTo>
                <a:lnTo>
                  <a:pt x="155" y="253"/>
                </a:lnTo>
                <a:lnTo>
                  <a:pt x="126" y="259"/>
                </a:lnTo>
                <a:lnTo>
                  <a:pt x="42" y="259"/>
                </a:lnTo>
                <a:lnTo>
                  <a:pt x="54" y="246"/>
                </a:lnTo>
                <a:lnTo>
                  <a:pt x="83" y="220"/>
                </a:lnTo>
                <a:lnTo>
                  <a:pt x="119" y="201"/>
                </a:lnTo>
                <a:lnTo>
                  <a:pt x="137" y="175"/>
                </a:lnTo>
                <a:lnTo>
                  <a:pt x="155" y="156"/>
                </a:lnTo>
                <a:lnTo>
                  <a:pt x="173" y="136"/>
                </a:lnTo>
                <a:lnTo>
                  <a:pt x="185" y="110"/>
                </a:lnTo>
                <a:lnTo>
                  <a:pt x="191" y="97"/>
                </a:lnTo>
                <a:lnTo>
                  <a:pt x="191" y="78"/>
                </a:lnTo>
                <a:lnTo>
                  <a:pt x="185" y="46"/>
                </a:lnTo>
                <a:lnTo>
                  <a:pt x="167" y="26"/>
                </a:lnTo>
                <a:lnTo>
                  <a:pt x="132" y="7"/>
                </a:lnTo>
                <a:lnTo>
                  <a:pt x="102" y="0"/>
                </a:lnTo>
                <a:lnTo>
                  <a:pt x="60" y="7"/>
                </a:lnTo>
                <a:lnTo>
                  <a:pt x="30" y="26"/>
                </a:lnTo>
                <a:lnTo>
                  <a:pt x="12" y="46"/>
                </a:lnTo>
                <a:lnTo>
                  <a:pt x="6" y="78"/>
                </a:lnTo>
                <a:lnTo>
                  <a:pt x="6" y="97"/>
                </a:lnTo>
                <a:lnTo>
                  <a:pt x="12" y="104"/>
                </a:lnTo>
                <a:lnTo>
                  <a:pt x="18" y="110"/>
                </a:lnTo>
                <a:lnTo>
                  <a:pt x="24" y="110"/>
                </a:lnTo>
                <a:lnTo>
                  <a:pt x="36" y="110"/>
                </a:lnTo>
                <a:lnTo>
                  <a:pt x="42" y="104"/>
                </a:lnTo>
                <a:lnTo>
                  <a:pt x="47" y="104"/>
                </a:lnTo>
                <a:lnTo>
                  <a:pt x="47" y="90"/>
                </a:lnTo>
                <a:lnTo>
                  <a:pt x="47" y="84"/>
                </a:lnTo>
                <a:lnTo>
                  <a:pt x="42" y="78"/>
                </a:lnTo>
                <a:lnTo>
                  <a:pt x="36" y="65"/>
                </a:lnTo>
                <a:lnTo>
                  <a:pt x="36" y="59"/>
                </a:lnTo>
                <a:lnTo>
                  <a:pt x="42" y="46"/>
                </a:lnTo>
                <a:lnTo>
                  <a:pt x="54" y="33"/>
                </a:lnTo>
                <a:lnTo>
                  <a:pt x="72" y="26"/>
                </a:lnTo>
                <a:lnTo>
                  <a:pt x="90" y="26"/>
                </a:lnTo>
                <a:lnTo>
                  <a:pt x="119" y="26"/>
                </a:lnTo>
                <a:lnTo>
                  <a:pt x="132" y="39"/>
                </a:lnTo>
                <a:lnTo>
                  <a:pt x="143" y="52"/>
                </a:lnTo>
                <a:lnTo>
                  <a:pt x="143" y="78"/>
                </a:lnTo>
                <a:lnTo>
                  <a:pt x="143" y="97"/>
                </a:lnTo>
                <a:lnTo>
                  <a:pt x="137" y="117"/>
                </a:lnTo>
                <a:lnTo>
                  <a:pt x="126" y="136"/>
                </a:lnTo>
                <a:lnTo>
                  <a:pt x="113" y="162"/>
                </a:lnTo>
                <a:lnTo>
                  <a:pt x="96" y="182"/>
                </a:lnTo>
                <a:lnTo>
                  <a:pt x="66" y="207"/>
                </a:lnTo>
                <a:lnTo>
                  <a:pt x="36" y="227"/>
                </a:lnTo>
                <a:lnTo>
                  <a:pt x="0" y="259"/>
                </a:lnTo>
                <a:lnTo>
                  <a:pt x="6" y="28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2077920" y="3097080"/>
            <a:ext cx="362160" cy="444600"/>
            <a:chOff x="2077920" y="3097080"/>
            <a:chExt cx="362160" cy="444600"/>
          </a:xfrm>
        </p:grpSpPr>
        <p:sp>
          <p:nvSpPr>
            <p:cNvPr id="1763" name=""/>
            <p:cNvSpPr/>
            <p:nvPr/>
          </p:nvSpPr>
          <p:spPr>
            <a:xfrm>
              <a:off x="2077920" y="3097080"/>
              <a:ext cx="362160" cy="444600"/>
            </a:xfrm>
            <a:custGeom>
              <a:avLst/>
              <a:gdLst/>
              <a:ahLst/>
              <a:rect l="l" t="t" r="r" b="b"/>
              <a:pathLst>
                <a:path w="228" h="280">
                  <a:moveTo>
                    <a:pt x="90" y="279"/>
                  </a:moveTo>
                  <a:lnTo>
                    <a:pt x="203" y="279"/>
                  </a:lnTo>
                  <a:lnTo>
                    <a:pt x="203" y="266"/>
                  </a:lnTo>
                  <a:lnTo>
                    <a:pt x="186" y="259"/>
                  </a:lnTo>
                  <a:lnTo>
                    <a:pt x="173" y="259"/>
                  </a:lnTo>
                  <a:lnTo>
                    <a:pt x="167" y="253"/>
                  </a:lnTo>
                  <a:lnTo>
                    <a:pt x="162" y="240"/>
                  </a:lnTo>
                  <a:lnTo>
                    <a:pt x="162" y="201"/>
                  </a:lnTo>
                  <a:lnTo>
                    <a:pt x="215" y="201"/>
                  </a:lnTo>
                  <a:lnTo>
                    <a:pt x="227" y="182"/>
                  </a:lnTo>
                  <a:lnTo>
                    <a:pt x="162" y="182"/>
                  </a:lnTo>
                  <a:lnTo>
                    <a:pt x="162" y="0"/>
                  </a:lnTo>
                  <a:lnTo>
                    <a:pt x="132" y="0"/>
                  </a:lnTo>
                  <a:lnTo>
                    <a:pt x="102" y="46"/>
                  </a:lnTo>
                  <a:lnTo>
                    <a:pt x="66" y="91"/>
                  </a:lnTo>
                  <a:lnTo>
                    <a:pt x="30" y="143"/>
                  </a:lnTo>
                  <a:lnTo>
                    <a:pt x="0" y="189"/>
                  </a:lnTo>
                  <a:lnTo>
                    <a:pt x="6" y="201"/>
                  </a:lnTo>
                  <a:lnTo>
                    <a:pt x="126" y="201"/>
                  </a:lnTo>
                  <a:lnTo>
                    <a:pt x="126" y="240"/>
                  </a:lnTo>
                  <a:lnTo>
                    <a:pt x="126" y="253"/>
                  </a:lnTo>
                  <a:lnTo>
                    <a:pt x="120" y="259"/>
                  </a:lnTo>
                  <a:lnTo>
                    <a:pt x="107" y="259"/>
                  </a:lnTo>
                  <a:lnTo>
                    <a:pt x="90" y="266"/>
                  </a:lnTo>
                  <a:lnTo>
                    <a:pt x="90" y="279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077920" y="3097080"/>
              <a:ext cx="362160" cy="444600"/>
            </a:xfrm>
            <a:custGeom>
              <a:avLst/>
              <a:gdLst/>
              <a:ahLst/>
              <a:rect l="l" t="t" r="r" b="b"/>
              <a:pathLst>
                <a:path w="228" h="280">
                  <a:moveTo>
                    <a:pt x="90" y="279"/>
                  </a:moveTo>
                  <a:lnTo>
                    <a:pt x="203" y="279"/>
                  </a:lnTo>
                  <a:lnTo>
                    <a:pt x="203" y="266"/>
                  </a:lnTo>
                  <a:lnTo>
                    <a:pt x="186" y="259"/>
                  </a:lnTo>
                  <a:lnTo>
                    <a:pt x="173" y="259"/>
                  </a:lnTo>
                  <a:lnTo>
                    <a:pt x="167" y="253"/>
                  </a:lnTo>
                  <a:lnTo>
                    <a:pt x="162" y="240"/>
                  </a:lnTo>
                  <a:lnTo>
                    <a:pt x="162" y="201"/>
                  </a:lnTo>
                  <a:lnTo>
                    <a:pt x="215" y="201"/>
                  </a:lnTo>
                  <a:lnTo>
                    <a:pt x="227" y="182"/>
                  </a:lnTo>
                  <a:lnTo>
                    <a:pt x="162" y="182"/>
                  </a:lnTo>
                  <a:lnTo>
                    <a:pt x="162" y="0"/>
                  </a:lnTo>
                  <a:lnTo>
                    <a:pt x="132" y="0"/>
                  </a:lnTo>
                  <a:lnTo>
                    <a:pt x="102" y="46"/>
                  </a:lnTo>
                  <a:lnTo>
                    <a:pt x="66" y="91"/>
                  </a:lnTo>
                  <a:lnTo>
                    <a:pt x="30" y="143"/>
                  </a:lnTo>
                  <a:lnTo>
                    <a:pt x="0" y="189"/>
                  </a:lnTo>
                  <a:lnTo>
                    <a:pt x="6" y="201"/>
                  </a:lnTo>
                  <a:lnTo>
                    <a:pt x="126" y="201"/>
                  </a:lnTo>
                  <a:lnTo>
                    <a:pt x="126" y="240"/>
                  </a:lnTo>
                  <a:lnTo>
                    <a:pt x="126" y="253"/>
                  </a:lnTo>
                  <a:lnTo>
                    <a:pt x="120" y="259"/>
                  </a:lnTo>
                  <a:lnTo>
                    <a:pt x="107" y="259"/>
                  </a:lnTo>
                  <a:lnTo>
                    <a:pt x="90" y="266"/>
                  </a:lnTo>
                  <a:lnTo>
                    <a:pt x="90" y="279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127240" y="3149640"/>
              <a:ext cx="149400" cy="235080"/>
            </a:xfrm>
            <a:custGeom>
              <a:avLst/>
              <a:gdLst/>
              <a:ahLst/>
              <a:rect l="l" t="t" r="r" b="b"/>
              <a:pathLst>
                <a:path w="94" h="148">
                  <a:moveTo>
                    <a:pt x="93" y="147"/>
                  </a:moveTo>
                  <a:lnTo>
                    <a:pt x="0" y="147"/>
                  </a:lnTo>
                  <a:lnTo>
                    <a:pt x="17" y="115"/>
                  </a:lnTo>
                  <a:lnTo>
                    <a:pt x="41" y="77"/>
                  </a:lnTo>
                  <a:lnTo>
                    <a:pt x="64" y="51"/>
                  </a:lnTo>
                  <a:lnTo>
                    <a:pt x="81" y="26"/>
                  </a:lnTo>
                  <a:lnTo>
                    <a:pt x="93" y="0"/>
                  </a:lnTo>
                  <a:lnTo>
                    <a:pt x="93" y="14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127240" y="3149640"/>
              <a:ext cx="149400" cy="235080"/>
            </a:xfrm>
            <a:custGeom>
              <a:avLst/>
              <a:gdLst/>
              <a:ahLst/>
              <a:rect l="l" t="t" r="r" b="b"/>
              <a:pathLst>
                <a:path w="94" h="148">
                  <a:moveTo>
                    <a:pt x="93" y="147"/>
                  </a:moveTo>
                  <a:lnTo>
                    <a:pt x="0" y="147"/>
                  </a:lnTo>
                  <a:lnTo>
                    <a:pt x="17" y="115"/>
                  </a:lnTo>
                  <a:lnTo>
                    <a:pt x="41" y="77"/>
                  </a:lnTo>
                  <a:lnTo>
                    <a:pt x="64" y="51"/>
                  </a:lnTo>
                  <a:lnTo>
                    <a:pt x="81" y="26"/>
                  </a:lnTo>
                  <a:lnTo>
                    <a:pt x="93" y="0"/>
                  </a:lnTo>
                  <a:lnTo>
                    <a:pt x="93" y="14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2084400" y="2419200"/>
            <a:ext cx="333360" cy="474840"/>
          </a:xfrm>
          <a:custGeom>
            <a:avLst/>
            <a:gdLst/>
            <a:ahLst/>
            <a:rect l="l" t="t" r="r" b="b"/>
            <a:pathLst>
              <a:path w="210" h="299">
                <a:moveTo>
                  <a:pt x="36" y="130"/>
                </a:moveTo>
                <a:lnTo>
                  <a:pt x="42" y="117"/>
                </a:lnTo>
                <a:lnTo>
                  <a:pt x="42" y="97"/>
                </a:lnTo>
                <a:lnTo>
                  <a:pt x="42" y="84"/>
                </a:lnTo>
                <a:lnTo>
                  <a:pt x="42" y="71"/>
                </a:lnTo>
                <a:lnTo>
                  <a:pt x="42" y="46"/>
                </a:lnTo>
                <a:lnTo>
                  <a:pt x="173" y="46"/>
                </a:lnTo>
                <a:lnTo>
                  <a:pt x="179" y="0"/>
                </a:lnTo>
                <a:lnTo>
                  <a:pt x="168" y="0"/>
                </a:lnTo>
                <a:lnTo>
                  <a:pt x="162" y="7"/>
                </a:lnTo>
                <a:lnTo>
                  <a:pt x="155" y="13"/>
                </a:lnTo>
                <a:lnTo>
                  <a:pt x="143" y="13"/>
                </a:lnTo>
                <a:lnTo>
                  <a:pt x="132" y="13"/>
                </a:lnTo>
                <a:lnTo>
                  <a:pt x="24" y="13"/>
                </a:lnTo>
                <a:lnTo>
                  <a:pt x="24" y="65"/>
                </a:lnTo>
                <a:lnTo>
                  <a:pt x="24" y="84"/>
                </a:lnTo>
                <a:lnTo>
                  <a:pt x="18" y="117"/>
                </a:lnTo>
                <a:lnTo>
                  <a:pt x="18" y="136"/>
                </a:lnTo>
                <a:lnTo>
                  <a:pt x="18" y="162"/>
                </a:lnTo>
                <a:lnTo>
                  <a:pt x="30" y="169"/>
                </a:lnTo>
                <a:lnTo>
                  <a:pt x="42" y="149"/>
                </a:lnTo>
                <a:lnTo>
                  <a:pt x="60" y="136"/>
                </a:lnTo>
                <a:lnTo>
                  <a:pt x="78" y="130"/>
                </a:lnTo>
                <a:lnTo>
                  <a:pt x="96" y="123"/>
                </a:lnTo>
                <a:lnTo>
                  <a:pt x="126" y="130"/>
                </a:lnTo>
                <a:lnTo>
                  <a:pt x="138" y="149"/>
                </a:lnTo>
                <a:lnTo>
                  <a:pt x="155" y="175"/>
                </a:lnTo>
                <a:lnTo>
                  <a:pt x="162" y="201"/>
                </a:lnTo>
                <a:lnTo>
                  <a:pt x="155" y="233"/>
                </a:lnTo>
                <a:lnTo>
                  <a:pt x="138" y="259"/>
                </a:lnTo>
                <a:lnTo>
                  <a:pt x="119" y="279"/>
                </a:lnTo>
                <a:lnTo>
                  <a:pt x="90" y="285"/>
                </a:lnTo>
                <a:lnTo>
                  <a:pt x="72" y="279"/>
                </a:lnTo>
                <a:lnTo>
                  <a:pt x="54" y="272"/>
                </a:lnTo>
                <a:lnTo>
                  <a:pt x="48" y="266"/>
                </a:lnTo>
                <a:lnTo>
                  <a:pt x="42" y="253"/>
                </a:lnTo>
                <a:lnTo>
                  <a:pt x="42" y="246"/>
                </a:lnTo>
                <a:lnTo>
                  <a:pt x="48" y="240"/>
                </a:lnTo>
                <a:lnTo>
                  <a:pt x="48" y="233"/>
                </a:lnTo>
                <a:lnTo>
                  <a:pt x="42" y="227"/>
                </a:lnTo>
                <a:lnTo>
                  <a:pt x="42" y="220"/>
                </a:lnTo>
                <a:lnTo>
                  <a:pt x="30" y="214"/>
                </a:lnTo>
                <a:lnTo>
                  <a:pt x="24" y="214"/>
                </a:lnTo>
                <a:lnTo>
                  <a:pt x="18" y="214"/>
                </a:lnTo>
                <a:lnTo>
                  <a:pt x="6" y="220"/>
                </a:lnTo>
                <a:lnTo>
                  <a:pt x="6" y="233"/>
                </a:lnTo>
                <a:lnTo>
                  <a:pt x="0" y="240"/>
                </a:lnTo>
                <a:lnTo>
                  <a:pt x="6" y="259"/>
                </a:lnTo>
                <a:lnTo>
                  <a:pt x="24" y="285"/>
                </a:lnTo>
                <a:lnTo>
                  <a:pt x="54" y="292"/>
                </a:lnTo>
                <a:lnTo>
                  <a:pt x="96" y="298"/>
                </a:lnTo>
                <a:lnTo>
                  <a:pt x="138" y="292"/>
                </a:lnTo>
                <a:lnTo>
                  <a:pt x="173" y="272"/>
                </a:lnTo>
                <a:lnTo>
                  <a:pt x="203" y="233"/>
                </a:lnTo>
                <a:lnTo>
                  <a:pt x="209" y="195"/>
                </a:lnTo>
                <a:lnTo>
                  <a:pt x="203" y="162"/>
                </a:lnTo>
                <a:lnTo>
                  <a:pt x="179" y="130"/>
                </a:lnTo>
                <a:lnTo>
                  <a:pt x="143" y="117"/>
                </a:lnTo>
                <a:lnTo>
                  <a:pt x="113" y="104"/>
                </a:lnTo>
                <a:lnTo>
                  <a:pt x="90" y="110"/>
                </a:lnTo>
                <a:lnTo>
                  <a:pt x="72" y="110"/>
                </a:lnTo>
                <a:lnTo>
                  <a:pt x="54" y="123"/>
                </a:lnTo>
                <a:lnTo>
                  <a:pt x="36" y="13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957240" y="965160"/>
            <a:ext cx="73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720360" y="1068480"/>
            <a:ext cx="6775560" cy="7714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entury Schoolbook"/>
              </a:rPr>
              <a:t>Áreas Chave Relativas aos Níveis de Maturidad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0" name=""/>
          <p:cNvSpPr/>
          <p:nvPr/>
        </p:nvSpPr>
        <p:spPr>
          <a:xfrm>
            <a:off x="1249200" y="3184560"/>
            <a:ext cx="2116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renci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249200" y="4284720"/>
            <a:ext cx="15876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efini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262160" y="5756400"/>
            <a:ext cx="1960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petí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249200" y="2484360"/>
            <a:ext cx="2057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timizaçã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278000" y="1841400"/>
            <a:ext cx="6559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Ní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1195560" y="1835280"/>
            <a:ext cx="7103880" cy="4889520"/>
            <a:chOff x="1195560" y="1835280"/>
            <a:chExt cx="7103880" cy="4889520"/>
          </a:xfrm>
        </p:grpSpPr>
        <p:sp>
          <p:nvSpPr>
            <p:cNvPr id="1776" name=""/>
            <p:cNvSpPr/>
            <p:nvPr/>
          </p:nvSpPr>
          <p:spPr>
            <a:xfrm>
              <a:off x="1214280" y="1835280"/>
              <a:ext cx="7078680" cy="4873320"/>
            </a:xfrm>
            <a:prstGeom prst="rect">
              <a:avLst/>
            </a:prstGeom>
            <a:noFill/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745080" y="1838160"/>
              <a:ext cx="0" cy="488664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208160" y="2317680"/>
              <a:ext cx="707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208160" y="3013200"/>
              <a:ext cx="706284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195560" y="3641760"/>
              <a:ext cx="710064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208160" y="5241960"/>
              <a:ext cx="70912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3803400" y="2314440"/>
            <a:ext cx="4420080" cy="744840"/>
            <a:chOff x="3803400" y="2314440"/>
            <a:chExt cx="4420080" cy="744840"/>
          </a:xfrm>
        </p:grpSpPr>
        <p:sp>
          <p:nvSpPr>
            <p:cNvPr id="1783" name=""/>
            <p:cNvSpPr/>
            <p:nvPr/>
          </p:nvSpPr>
          <p:spPr>
            <a:xfrm>
              <a:off x="3803400" y="2314440"/>
              <a:ext cx="442008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venção de Defei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renciamento de Mudanças Tecnológ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renciamento de Mudanças em Process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124160" y="2558880"/>
              <a:ext cx="315756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124160" y="2781360"/>
              <a:ext cx="3148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3683520" y="3665520"/>
            <a:ext cx="3993480" cy="1618200"/>
            <a:chOff x="3683520" y="3665520"/>
            <a:chExt cx="3993480" cy="1618200"/>
          </a:xfrm>
        </p:grpSpPr>
        <p:sp>
          <p:nvSpPr>
            <p:cNvPr id="1787" name=""/>
            <p:cNvSpPr/>
            <p:nvPr/>
          </p:nvSpPr>
          <p:spPr>
            <a:xfrm>
              <a:off x="3683520" y="3686040"/>
              <a:ext cx="2260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808800" y="3665520"/>
              <a:ext cx="386820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co no Processo Organiza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finição do Processo Organiza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renciamento Integrado de 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genharia de Produto de 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ordenação entre Grup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visões entre P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grama de Trein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683520" y="3900600"/>
              <a:ext cx="2260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803760" y="3900600"/>
              <a:ext cx="28717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683520" y="4114800"/>
              <a:ext cx="2260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803760" y="4114800"/>
              <a:ext cx="31687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683520" y="4329000"/>
              <a:ext cx="2260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798720" y="4329000"/>
              <a:ext cx="32515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683520" y="4543560"/>
              <a:ext cx="2260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803760" y="4543560"/>
              <a:ext cx="31575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683520" y="4757760"/>
              <a:ext cx="2260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803760" y="4757760"/>
              <a:ext cx="13208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683520" y="4971960"/>
              <a:ext cx="2260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803760" y="4971960"/>
              <a:ext cx="17064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3735360" y="5265720"/>
            <a:ext cx="4543200" cy="1399320"/>
            <a:chOff x="3735360" y="5265720"/>
            <a:chExt cx="4543200" cy="1399320"/>
          </a:xfrm>
        </p:grpSpPr>
        <p:sp>
          <p:nvSpPr>
            <p:cNvPr id="1802" name=""/>
            <p:cNvSpPr/>
            <p:nvPr/>
          </p:nvSpPr>
          <p:spPr>
            <a:xfrm>
              <a:off x="3771720" y="5265720"/>
              <a:ext cx="4506840" cy="13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renciamento de Requisi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nejamento do Projeto de 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ompanhamento e Supervisão do Proje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renciamento de Configuração de 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renciamento de Subcontrat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arantia da Qualidade de 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763800" y="5500800"/>
              <a:ext cx="33163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763800" y="5715000"/>
              <a:ext cx="37609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735360" y="5929200"/>
              <a:ext cx="397836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763800" y="6143760"/>
              <a:ext cx="25765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763800" y="6357960"/>
              <a:ext cx="3178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3794040" y="3067200"/>
            <a:ext cx="4198320" cy="531720"/>
            <a:chOff x="3794040" y="3067200"/>
            <a:chExt cx="4198320" cy="531720"/>
          </a:xfrm>
        </p:grpSpPr>
        <p:sp>
          <p:nvSpPr>
            <p:cNvPr id="1809" name=""/>
            <p:cNvSpPr/>
            <p:nvPr/>
          </p:nvSpPr>
          <p:spPr>
            <a:xfrm>
              <a:off x="3800880" y="3067200"/>
              <a:ext cx="41914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renciamento Quantitativo do Proces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renciamento da Qualidade do 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794040" y="3321000"/>
              <a:ext cx="315936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3714840" y="1886040"/>
            <a:ext cx="44402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Áreas Chave de Process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669080" y="1052640"/>
            <a:ext cx="124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Vol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4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1828800" cy="1692360"/>
          </a:xfrm>
          <a:prstGeom prst="rect">
            <a:avLst/>
          </a:prstGeom>
          <a:ln w="0">
            <a:noFill/>
          </a:ln>
        </p:spPr>
      </p:pic>
      <p:sp>
        <p:nvSpPr>
          <p:cNvPr id="1815" name=""/>
          <p:cNvSpPr/>
          <p:nvPr/>
        </p:nvSpPr>
        <p:spPr>
          <a:xfrm>
            <a:off x="2050920" y="990720"/>
            <a:ext cx="64818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Century Schoolbook"/>
              </a:rPr>
              <a:t>Área Chave de Processo – Nível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"/>
              </a:rPr>
              <a:t>Gerenciamento de 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2781360"/>
            <a:ext cx="8227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ropósito é estabelecer um entendimento comum entre o cliente e o projeto de software, definindo os requisitos do cliente que serão tratados pelo projeto de soft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ol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ocumentação e o controle dos requisitos d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utenção dos planos, produtos e atividades consistentes com os requi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050920" y="907920"/>
            <a:ext cx="6704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Área Chave de Processo  – Nível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Planejamento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1828800" cy="1692360"/>
          </a:xfrm>
          <a:prstGeom prst="rect">
            <a:avLst/>
          </a:prstGeom>
          <a:ln w="0">
            <a:noFill/>
          </a:ln>
        </p:spPr>
      </p:pic>
      <p:sp>
        <p:nvSpPr>
          <p:cNvPr id="1820" name=""/>
          <p:cNvSpPr/>
          <p:nvPr/>
        </p:nvSpPr>
        <p:spPr>
          <a:xfrm>
            <a:off x="611280" y="2852640"/>
            <a:ext cx="8227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ropósito é estabelecer planos para a execução da engenharia de software e para o gerenciamento do projeto de soft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ol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nvolvimento das estimativas do trabalho a ser execu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elecimento dos comprometimentos necess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ção do plano para executar o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17840" y="0"/>
            <a:ext cx="74912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lguns clientes da ISD-Brasil (no Brasil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484280"/>
            <a:ext cx="43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BN AMRO-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stom Transpor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tech Tecnologias Crí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ankbo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rade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ixa Econômica Fed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PROMAT – Centro de Processamento de Dados do Estado do Mato Gro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ESAR – Centro de Estudos e Sistemas Avançados do Rec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ITS – Centro Internacional de Tecnologia de Soft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Pq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redi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atas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1341360"/>
            <a:ext cx="3807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-Dab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&amp;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stituto de Pesquisas Eldo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K2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otor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lit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c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antander-Banes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efan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er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re ou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2044800" y="985680"/>
            <a:ext cx="69199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Century Schoolbook"/>
              </a:rPr>
              <a:t>Área Chave de Processo  – Nível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"/>
              </a:rPr>
              <a:t>Acompanhamento e Supervisão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1828800" cy="1692360"/>
          </a:xfrm>
          <a:prstGeom prst="rect">
            <a:avLst/>
          </a:prstGeom>
          <a:ln w="0">
            <a:noFill/>
          </a:ln>
        </p:spPr>
      </p:pic>
      <p:sp>
        <p:nvSpPr>
          <p:cNvPr id="1823" name="PlaceHolder 1"/>
          <p:cNvSpPr>
            <a:spLocks noGrp="1"/>
          </p:cNvSpPr>
          <p:nvPr>
            <p:ph/>
          </p:nvPr>
        </p:nvSpPr>
        <p:spPr>
          <a:xfrm>
            <a:off x="1042920" y="2742840"/>
            <a:ext cx="7467840" cy="36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ropósito é fornecer uma visibilidade adequada do progresso tal que o gerenciamento possa tomar ações efetivas quando o desempenho desvia significativamente do plan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olv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mento e a revisão das realizações e dos resultados em relação às estimativas, aos comprometimentos e aos planos document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juste dos planos baseado nas realizações e resultados atua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1828800" cy="1692360"/>
          </a:xfrm>
          <a:prstGeom prst="rect">
            <a:avLst/>
          </a:prstGeom>
          <a:ln w="0">
            <a:noFill/>
          </a:ln>
        </p:spPr>
      </p:pic>
      <p:sp>
        <p:nvSpPr>
          <p:cNvPr id="1825" name=""/>
          <p:cNvSpPr/>
          <p:nvPr/>
        </p:nvSpPr>
        <p:spPr>
          <a:xfrm>
            <a:off x="2044800" y="985680"/>
            <a:ext cx="691992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Century Schoolbook"/>
              </a:rPr>
              <a:t>Área Chave de Processo  – Nível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"/>
              </a:rPr>
              <a:t>Gerenciamento de Configu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30080" y="2806560"/>
            <a:ext cx="823464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ropósito é estabelecer e manter a integridade dos produtos do projeto de software através do seu ciclo de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ol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ção de itens/unidades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istemático das mudanç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tenção da integridade e rastreabilidade da configuração em todo o ciclo de vida do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7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1828800" cy="1692360"/>
          </a:xfrm>
          <a:prstGeom prst="rect">
            <a:avLst/>
          </a:prstGeom>
          <a:ln w="0">
            <a:noFill/>
          </a:ln>
        </p:spPr>
      </p:pic>
      <p:sp>
        <p:nvSpPr>
          <p:cNvPr id="1828" name=""/>
          <p:cNvSpPr/>
          <p:nvPr/>
        </p:nvSpPr>
        <p:spPr>
          <a:xfrm>
            <a:off x="2044800" y="1052640"/>
            <a:ext cx="691992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Century Schoolbook"/>
              </a:rPr>
              <a:t>Área Chave de Processo  – Nível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"/>
              </a:rPr>
              <a:t>Gerenciamento de Subcontra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684360" y="2852640"/>
            <a:ext cx="82278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ropósito é selecionar os fornecedores de software qualificados e gerenciá-los de forma efica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ol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ção de um fornecedor de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elecimento de comprometimentos com o fornec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mento e a revisão do desempenho e dos resultados do fornec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0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1828800" cy="1692360"/>
          </a:xfrm>
          <a:prstGeom prst="rect">
            <a:avLst/>
          </a:prstGeom>
          <a:ln w="0">
            <a:noFill/>
          </a:ln>
        </p:spPr>
      </p:pic>
      <p:sp>
        <p:nvSpPr>
          <p:cNvPr id="1831" name=""/>
          <p:cNvSpPr/>
          <p:nvPr/>
        </p:nvSpPr>
        <p:spPr>
          <a:xfrm>
            <a:off x="2044800" y="1052640"/>
            <a:ext cx="691992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Century Schoolbook"/>
              </a:rPr>
              <a:t>Área Chave de Processo  – Nível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Garantia da Qualidade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995400" y="2708280"/>
            <a:ext cx="732168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ropósito é fornecer gerenciamento com visibilidade adequada dentro do processo sendo utilizado e dos produtos sendo construí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ão e a auditoria dos produtos e atividades de software para garantir que eles estão de acordo com os procedimentos e padrões aplicáv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necimento ao projeto de software e outros gerentes apropriados os resultados daquelas revisões e audi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863640" y="762120"/>
            <a:ext cx="7670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Century Schoolbook"/>
              </a:rPr>
              <a:t>Estrutura do CMM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4" name=""/>
          <p:cNvSpPr/>
          <p:nvPr/>
        </p:nvSpPr>
        <p:spPr>
          <a:xfrm>
            <a:off x="-793800" y="1751040"/>
            <a:ext cx="4027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693080" y="1560600"/>
            <a:ext cx="592884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7c03"/>
                </a:solidFill>
                <a:latin typeface="Arial Black"/>
              </a:rPr>
              <a:t>- Evolutivo (5 nívei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7c03"/>
                </a:solidFill>
                <a:latin typeface="Arial Black"/>
              </a:rPr>
              <a:t>- Proporciona um ambiente para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7c03"/>
                </a:solidFill>
                <a:latin typeface="Arial Black"/>
              </a:rPr>
              <a:t>  </a:t>
            </a:r>
            <a:r>
              <a:rPr b="0" lang="en-US" sz="2900" spc="-1" strike="noStrike">
                <a:solidFill>
                  <a:srgbClr val="037c03"/>
                </a:solidFill>
                <a:latin typeface="Arial Black"/>
              </a:rPr>
              <a:t>melhorias imediat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 u="sng">
                <a:solidFill>
                  <a:srgbClr val="0000ff"/>
                </a:solidFill>
                <a:uFillTx/>
                <a:latin typeface="Arial Black"/>
              </a:rPr>
              <a:t>- Enfoca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7c03"/>
                </a:solidFill>
                <a:latin typeface="Arial Black"/>
              </a:rPr>
              <a:t>  </a:t>
            </a: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. Áreas (Processos) cha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. Objetiv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. Compromiss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. Habilidade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. Atividad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. Medições e análi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. Verificação da implementaçã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ff"/>
                </a:solidFill>
                <a:latin typeface="Century Schoolbook"/>
              </a:rPr>
              <a:t>               </a:t>
            </a:r>
            <a:r>
              <a:rPr b="1" lang="pt-BR" sz="2600" spc="-1" strike="noStrike">
                <a:solidFill>
                  <a:srgbClr val="0000ff"/>
                </a:solidFill>
                <a:latin typeface="Century Schoolbook"/>
              </a:rPr>
              <a:t>Estrutura do CMM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7" name=""/>
          <p:cNvSpPr/>
          <p:nvPr/>
        </p:nvSpPr>
        <p:spPr>
          <a:xfrm>
            <a:off x="1484280" y="4579920"/>
            <a:ext cx="2760840" cy="1585800"/>
          </a:xfrm>
          <a:custGeom>
            <a:avLst/>
            <a:gdLst/>
            <a:ahLst/>
            <a:rect l="l" t="t" r="r" b="b"/>
            <a:pathLst>
              <a:path w="1210" h="802">
                <a:moveTo>
                  <a:pt x="0" y="0"/>
                </a:moveTo>
                <a:lnTo>
                  <a:pt x="0" y="801"/>
                </a:lnTo>
                <a:lnTo>
                  <a:pt x="1209" y="801"/>
                </a:lnTo>
                <a:lnTo>
                  <a:pt x="1209" y="0"/>
                </a:lnTo>
                <a:lnTo>
                  <a:pt x="0" y="0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447920" y="4549680"/>
            <a:ext cx="2835000" cy="1646280"/>
          </a:xfrm>
          <a:custGeom>
            <a:avLst/>
            <a:gdLst/>
            <a:ahLst/>
            <a:rect l="l" t="t" r="r" b="b"/>
            <a:pathLst>
              <a:path w="1243" h="832">
                <a:moveTo>
                  <a:pt x="16" y="0"/>
                </a:moveTo>
                <a:lnTo>
                  <a:pt x="12" y="0"/>
                </a:lnTo>
                <a:lnTo>
                  <a:pt x="7" y="1"/>
                </a:lnTo>
                <a:lnTo>
                  <a:pt x="1" y="8"/>
                </a:lnTo>
                <a:lnTo>
                  <a:pt x="0" y="11"/>
                </a:lnTo>
                <a:lnTo>
                  <a:pt x="0" y="819"/>
                </a:lnTo>
                <a:lnTo>
                  <a:pt x="1" y="823"/>
                </a:lnTo>
                <a:lnTo>
                  <a:pt x="4" y="826"/>
                </a:lnTo>
                <a:lnTo>
                  <a:pt x="7" y="828"/>
                </a:lnTo>
                <a:lnTo>
                  <a:pt x="12" y="829"/>
                </a:lnTo>
                <a:lnTo>
                  <a:pt x="16" y="831"/>
                </a:lnTo>
                <a:lnTo>
                  <a:pt x="1225" y="831"/>
                </a:lnTo>
                <a:lnTo>
                  <a:pt x="1228" y="829"/>
                </a:lnTo>
                <a:lnTo>
                  <a:pt x="1233" y="828"/>
                </a:lnTo>
                <a:lnTo>
                  <a:pt x="1236" y="826"/>
                </a:lnTo>
                <a:lnTo>
                  <a:pt x="1239" y="823"/>
                </a:lnTo>
                <a:lnTo>
                  <a:pt x="1241" y="819"/>
                </a:lnTo>
                <a:lnTo>
                  <a:pt x="1242" y="816"/>
                </a:lnTo>
                <a:lnTo>
                  <a:pt x="1242" y="15"/>
                </a:lnTo>
                <a:lnTo>
                  <a:pt x="1241" y="11"/>
                </a:lnTo>
                <a:lnTo>
                  <a:pt x="1239" y="8"/>
                </a:lnTo>
                <a:lnTo>
                  <a:pt x="1233" y="1"/>
                </a:lnTo>
                <a:lnTo>
                  <a:pt x="1228" y="0"/>
                </a:lnTo>
                <a:lnTo>
                  <a:pt x="1225" y="0"/>
                </a:lnTo>
                <a:lnTo>
                  <a:pt x="16" y="0"/>
                </a:lnTo>
                <a:lnTo>
                  <a:pt x="16" y="31"/>
                </a:lnTo>
                <a:lnTo>
                  <a:pt x="1225" y="31"/>
                </a:lnTo>
                <a:lnTo>
                  <a:pt x="1208" y="15"/>
                </a:lnTo>
                <a:lnTo>
                  <a:pt x="1208" y="816"/>
                </a:lnTo>
                <a:lnTo>
                  <a:pt x="1225" y="800"/>
                </a:lnTo>
                <a:lnTo>
                  <a:pt x="16" y="800"/>
                </a:lnTo>
                <a:lnTo>
                  <a:pt x="33" y="816"/>
                </a:lnTo>
                <a:lnTo>
                  <a:pt x="33" y="15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255920" y="4579920"/>
            <a:ext cx="2760840" cy="1585800"/>
          </a:xfrm>
          <a:custGeom>
            <a:avLst/>
            <a:gdLst/>
            <a:ahLst/>
            <a:rect l="l" t="t" r="r" b="b"/>
            <a:pathLst>
              <a:path w="1210" h="802">
                <a:moveTo>
                  <a:pt x="0" y="0"/>
                </a:moveTo>
                <a:lnTo>
                  <a:pt x="0" y="801"/>
                </a:lnTo>
                <a:lnTo>
                  <a:pt x="1209" y="801"/>
                </a:lnTo>
                <a:lnTo>
                  <a:pt x="1209" y="0"/>
                </a:lnTo>
                <a:lnTo>
                  <a:pt x="0" y="0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216320" y="4549680"/>
            <a:ext cx="2838600" cy="1646280"/>
          </a:xfrm>
          <a:custGeom>
            <a:avLst/>
            <a:gdLst/>
            <a:ahLst/>
            <a:rect l="l" t="t" r="r" b="b"/>
            <a:pathLst>
              <a:path w="1244" h="832">
                <a:moveTo>
                  <a:pt x="17" y="0"/>
                </a:moveTo>
                <a:lnTo>
                  <a:pt x="13" y="0"/>
                </a:lnTo>
                <a:lnTo>
                  <a:pt x="8" y="1"/>
                </a:lnTo>
                <a:lnTo>
                  <a:pt x="2" y="8"/>
                </a:lnTo>
                <a:lnTo>
                  <a:pt x="0" y="11"/>
                </a:lnTo>
                <a:lnTo>
                  <a:pt x="0" y="819"/>
                </a:lnTo>
                <a:lnTo>
                  <a:pt x="2" y="823"/>
                </a:lnTo>
                <a:lnTo>
                  <a:pt x="5" y="826"/>
                </a:lnTo>
                <a:lnTo>
                  <a:pt x="8" y="828"/>
                </a:lnTo>
                <a:lnTo>
                  <a:pt x="13" y="829"/>
                </a:lnTo>
                <a:lnTo>
                  <a:pt x="17" y="831"/>
                </a:lnTo>
                <a:lnTo>
                  <a:pt x="1226" y="831"/>
                </a:lnTo>
                <a:lnTo>
                  <a:pt x="1229" y="829"/>
                </a:lnTo>
                <a:lnTo>
                  <a:pt x="1234" y="828"/>
                </a:lnTo>
                <a:lnTo>
                  <a:pt x="1237" y="826"/>
                </a:lnTo>
                <a:lnTo>
                  <a:pt x="1240" y="823"/>
                </a:lnTo>
                <a:lnTo>
                  <a:pt x="1242" y="819"/>
                </a:lnTo>
                <a:lnTo>
                  <a:pt x="1243" y="816"/>
                </a:lnTo>
                <a:lnTo>
                  <a:pt x="1243" y="15"/>
                </a:lnTo>
                <a:lnTo>
                  <a:pt x="1242" y="11"/>
                </a:lnTo>
                <a:lnTo>
                  <a:pt x="1240" y="8"/>
                </a:lnTo>
                <a:lnTo>
                  <a:pt x="1234" y="1"/>
                </a:lnTo>
                <a:lnTo>
                  <a:pt x="1229" y="0"/>
                </a:lnTo>
                <a:lnTo>
                  <a:pt x="1226" y="0"/>
                </a:lnTo>
                <a:lnTo>
                  <a:pt x="17" y="0"/>
                </a:lnTo>
                <a:lnTo>
                  <a:pt x="17" y="31"/>
                </a:lnTo>
                <a:lnTo>
                  <a:pt x="1226" y="31"/>
                </a:lnTo>
                <a:lnTo>
                  <a:pt x="1209" y="15"/>
                </a:lnTo>
                <a:lnTo>
                  <a:pt x="1209" y="816"/>
                </a:lnTo>
                <a:lnTo>
                  <a:pt x="1226" y="800"/>
                </a:lnTo>
                <a:lnTo>
                  <a:pt x="17" y="800"/>
                </a:lnTo>
                <a:lnTo>
                  <a:pt x="34" y="816"/>
                </a:lnTo>
                <a:lnTo>
                  <a:pt x="34" y="15"/>
                </a:lnTo>
                <a:lnTo>
                  <a:pt x="17" y="31"/>
                </a:lnTo>
                <a:lnTo>
                  <a:pt x="17" y="0"/>
                </a:lnTo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255920" y="2987640"/>
            <a:ext cx="2760840" cy="1581120"/>
          </a:xfrm>
          <a:custGeom>
            <a:avLst/>
            <a:gdLst/>
            <a:ahLst/>
            <a:rect l="l" t="t" r="r" b="b"/>
            <a:pathLst>
              <a:path w="1210" h="799">
                <a:moveTo>
                  <a:pt x="0" y="0"/>
                </a:moveTo>
                <a:lnTo>
                  <a:pt x="0" y="798"/>
                </a:lnTo>
                <a:lnTo>
                  <a:pt x="1209" y="798"/>
                </a:lnTo>
                <a:lnTo>
                  <a:pt x="1209" y="0"/>
                </a:lnTo>
                <a:lnTo>
                  <a:pt x="0" y="0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216320" y="2955960"/>
            <a:ext cx="2838600" cy="1644480"/>
          </a:xfrm>
          <a:custGeom>
            <a:avLst/>
            <a:gdLst/>
            <a:ahLst/>
            <a:rect l="l" t="t" r="r" b="b"/>
            <a:pathLst>
              <a:path w="1244" h="831">
                <a:moveTo>
                  <a:pt x="17" y="0"/>
                </a:moveTo>
                <a:lnTo>
                  <a:pt x="13" y="0"/>
                </a:lnTo>
                <a:lnTo>
                  <a:pt x="8" y="2"/>
                </a:lnTo>
                <a:lnTo>
                  <a:pt x="2" y="8"/>
                </a:lnTo>
                <a:lnTo>
                  <a:pt x="0" y="11"/>
                </a:lnTo>
                <a:lnTo>
                  <a:pt x="0" y="817"/>
                </a:lnTo>
                <a:lnTo>
                  <a:pt x="2" y="822"/>
                </a:lnTo>
                <a:lnTo>
                  <a:pt x="5" y="825"/>
                </a:lnTo>
                <a:lnTo>
                  <a:pt x="8" y="827"/>
                </a:lnTo>
                <a:lnTo>
                  <a:pt x="13" y="828"/>
                </a:lnTo>
                <a:lnTo>
                  <a:pt x="17" y="830"/>
                </a:lnTo>
                <a:lnTo>
                  <a:pt x="1226" y="830"/>
                </a:lnTo>
                <a:lnTo>
                  <a:pt x="1229" y="828"/>
                </a:lnTo>
                <a:lnTo>
                  <a:pt x="1234" y="827"/>
                </a:lnTo>
                <a:lnTo>
                  <a:pt x="1237" y="825"/>
                </a:lnTo>
                <a:lnTo>
                  <a:pt x="1240" y="822"/>
                </a:lnTo>
                <a:lnTo>
                  <a:pt x="1242" y="817"/>
                </a:lnTo>
                <a:lnTo>
                  <a:pt x="1243" y="814"/>
                </a:lnTo>
                <a:lnTo>
                  <a:pt x="1243" y="16"/>
                </a:lnTo>
                <a:lnTo>
                  <a:pt x="1242" y="11"/>
                </a:lnTo>
                <a:lnTo>
                  <a:pt x="1240" y="8"/>
                </a:lnTo>
                <a:lnTo>
                  <a:pt x="1234" y="2"/>
                </a:lnTo>
                <a:lnTo>
                  <a:pt x="1229" y="0"/>
                </a:lnTo>
                <a:lnTo>
                  <a:pt x="1226" y="0"/>
                </a:lnTo>
                <a:lnTo>
                  <a:pt x="17" y="0"/>
                </a:lnTo>
                <a:lnTo>
                  <a:pt x="17" y="31"/>
                </a:lnTo>
                <a:lnTo>
                  <a:pt x="1226" y="31"/>
                </a:lnTo>
                <a:lnTo>
                  <a:pt x="1209" y="16"/>
                </a:lnTo>
                <a:lnTo>
                  <a:pt x="1209" y="814"/>
                </a:lnTo>
                <a:lnTo>
                  <a:pt x="1226" y="799"/>
                </a:lnTo>
                <a:lnTo>
                  <a:pt x="17" y="799"/>
                </a:lnTo>
                <a:lnTo>
                  <a:pt x="34" y="814"/>
                </a:lnTo>
                <a:lnTo>
                  <a:pt x="34" y="16"/>
                </a:lnTo>
                <a:lnTo>
                  <a:pt x="17" y="31"/>
                </a:lnTo>
                <a:lnTo>
                  <a:pt x="17" y="0"/>
                </a:lnTo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484280" y="2987640"/>
            <a:ext cx="2760840" cy="1581120"/>
          </a:xfrm>
          <a:custGeom>
            <a:avLst/>
            <a:gdLst/>
            <a:ahLst/>
            <a:rect l="l" t="t" r="r" b="b"/>
            <a:pathLst>
              <a:path w="1210" h="799">
                <a:moveTo>
                  <a:pt x="0" y="0"/>
                </a:moveTo>
                <a:lnTo>
                  <a:pt x="0" y="798"/>
                </a:lnTo>
                <a:lnTo>
                  <a:pt x="1209" y="798"/>
                </a:lnTo>
                <a:lnTo>
                  <a:pt x="1209" y="0"/>
                </a:lnTo>
                <a:lnTo>
                  <a:pt x="0" y="0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447920" y="2955960"/>
            <a:ext cx="2835000" cy="1644480"/>
          </a:xfrm>
          <a:custGeom>
            <a:avLst/>
            <a:gdLst/>
            <a:ahLst/>
            <a:rect l="l" t="t" r="r" b="b"/>
            <a:pathLst>
              <a:path w="1243" h="831">
                <a:moveTo>
                  <a:pt x="16" y="0"/>
                </a:moveTo>
                <a:lnTo>
                  <a:pt x="12" y="0"/>
                </a:lnTo>
                <a:lnTo>
                  <a:pt x="7" y="2"/>
                </a:lnTo>
                <a:lnTo>
                  <a:pt x="1" y="8"/>
                </a:lnTo>
                <a:lnTo>
                  <a:pt x="0" y="11"/>
                </a:lnTo>
                <a:lnTo>
                  <a:pt x="0" y="817"/>
                </a:lnTo>
                <a:lnTo>
                  <a:pt x="1" y="822"/>
                </a:lnTo>
                <a:lnTo>
                  <a:pt x="4" y="825"/>
                </a:lnTo>
                <a:lnTo>
                  <a:pt x="7" y="827"/>
                </a:lnTo>
                <a:lnTo>
                  <a:pt x="12" y="828"/>
                </a:lnTo>
                <a:lnTo>
                  <a:pt x="16" y="830"/>
                </a:lnTo>
                <a:lnTo>
                  <a:pt x="1225" y="830"/>
                </a:lnTo>
                <a:lnTo>
                  <a:pt x="1228" y="828"/>
                </a:lnTo>
                <a:lnTo>
                  <a:pt x="1233" y="827"/>
                </a:lnTo>
                <a:lnTo>
                  <a:pt x="1236" y="825"/>
                </a:lnTo>
                <a:lnTo>
                  <a:pt x="1239" y="822"/>
                </a:lnTo>
                <a:lnTo>
                  <a:pt x="1241" y="817"/>
                </a:lnTo>
                <a:lnTo>
                  <a:pt x="1242" y="814"/>
                </a:lnTo>
                <a:lnTo>
                  <a:pt x="1242" y="16"/>
                </a:lnTo>
                <a:lnTo>
                  <a:pt x="1241" y="11"/>
                </a:lnTo>
                <a:lnTo>
                  <a:pt x="1239" y="8"/>
                </a:lnTo>
                <a:lnTo>
                  <a:pt x="1233" y="2"/>
                </a:lnTo>
                <a:lnTo>
                  <a:pt x="1228" y="0"/>
                </a:lnTo>
                <a:lnTo>
                  <a:pt x="1225" y="0"/>
                </a:lnTo>
                <a:lnTo>
                  <a:pt x="16" y="0"/>
                </a:lnTo>
                <a:lnTo>
                  <a:pt x="16" y="31"/>
                </a:lnTo>
                <a:lnTo>
                  <a:pt x="1225" y="31"/>
                </a:lnTo>
                <a:lnTo>
                  <a:pt x="1208" y="16"/>
                </a:lnTo>
                <a:lnTo>
                  <a:pt x="1208" y="814"/>
                </a:lnTo>
                <a:lnTo>
                  <a:pt x="1225" y="799"/>
                </a:lnTo>
                <a:lnTo>
                  <a:pt x="16" y="799"/>
                </a:lnTo>
                <a:lnTo>
                  <a:pt x="33" y="814"/>
                </a:lnTo>
                <a:lnTo>
                  <a:pt x="33" y="16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873520" y="3838680"/>
            <a:ext cx="2757240" cy="1585800"/>
          </a:xfrm>
          <a:custGeom>
            <a:avLst/>
            <a:gdLst/>
            <a:ahLst/>
            <a:rect l="l" t="t" r="r" b="b"/>
            <a:pathLst>
              <a:path w="1209" h="801">
                <a:moveTo>
                  <a:pt x="0" y="0"/>
                </a:moveTo>
                <a:lnTo>
                  <a:pt x="0" y="800"/>
                </a:lnTo>
                <a:lnTo>
                  <a:pt x="1208" y="800"/>
                </a:lnTo>
                <a:lnTo>
                  <a:pt x="1208" y="0"/>
                </a:lnTo>
                <a:lnTo>
                  <a:pt x="0" y="0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835360" y="3807000"/>
            <a:ext cx="2835360" cy="1647720"/>
          </a:xfrm>
          <a:custGeom>
            <a:avLst/>
            <a:gdLst/>
            <a:ahLst/>
            <a:rect l="l" t="t" r="r" b="b"/>
            <a:pathLst>
              <a:path w="1243" h="832">
                <a:moveTo>
                  <a:pt x="17" y="0"/>
                </a:moveTo>
                <a:lnTo>
                  <a:pt x="12" y="0"/>
                </a:lnTo>
                <a:lnTo>
                  <a:pt x="7" y="2"/>
                </a:lnTo>
                <a:lnTo>
                  <a:pt x="1" y="8"/>
                </a:lnTo>
                <a:lnTo>
                  <a:pt x="0" y="11"/>
                </a:lnTo>
                <a:lnTo>
                  <a:pt x="0" y="819"/>
                </a:lnTo>
                <a:lnTo>
                  <a:pt x="1" y="823"/>
                </a:lnTo>
                <a:lnTo>
                  <a:pt x="4" y="827"/>
                </a:lnTo>
                <a:lnTo>
                  <a:pt x="7" y="828"/>
                </a:lnTo>
                <a:lnTo>
                  <a:pt x="12" y="830"/>
                </a:lnTo>
                <a:lnTo>
                  <a:pt x="17" y="831"/>
                </a:lnTo>
                <a:lnTo>
                  <a:pt x="1225" y="831"/>
                </a:lnTo>
                <a:lnTo>
                  <a:pt x="1229" y="830"/>
                </a:lnTo>
                <a:lnTo>
                  <a:pt x="1233" y="828"/>
                </a:lnTo>
                <a:lnTo>
                  <a:pt x="1236" y="827"/>
                </a:lnTo>
                <a:lnTo>
                  <a:pt x="1239" y="823"/>
                </a:lnTo>
                <a:lnTo>
                  <a:pt x="1241" y="819"/>
                </a:lnTo>
                <a:lnTo>
                  <a:pt x="1242" y="816"/>
                </a:lnTo>
                <a:lnTo>
                  <a:pt x="1242" y="16"/>
                </a:lnTo>
                <a:lnTo>
                  <a:pt x="1241" y="11"/>
                </a:lnTo>
                <a:lnTo>
                  <a:pt x="1239" y="8"/>
                </a:lnTo>
                <a:lnTo>
                  <a:pt x="1233" y="2"/>
                </a:lnTo>
                <a:lnTo>
                  <a:pt x="1229" y="0"/>
                </a:lnTo>
                <a:lnTo>
                  <a:pt x="1225" y="0"/>
                </a:lnTo>
                <a:lnTo>
                  <a:pt x="17" y="0"/>
                </a:lnTo>
                <a:lnTo>
                  <a:pt x="17" y="31"/>
                </a:lnTo>
                <a:lnTo>
                  <a:pt x="1225" y="31"/>
                </a:lnTo>
                <a:lnTo>
                  <a:pt x="1209" y="16"/>
                </a:lnTo>
                <a:lnTo>
                  <a:pt x="1209" y="816"/>
                </a:lnTo>
                <a:lnTo>
                  <a:pt x="1225" y="800"/>
                </a:lnTo>
                <a:lnTo>
                  <a:pt x="17" y="800"/>
                </a:lnTo>
                <a:lnTo>
                  <a:pt x="34" y="816"/>
                </a:lnTo>
                <a:lnTo>
                  <a:pt x="34" y="16"/>
                </a:lnTo>
                <a:lnTo>
                  <a:pt x="17" y="31"/>
                </a:lnTo>
                <a:lnTo>
                  <a:pt x="17" y="0"/>
                </a:lnTo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017880" y="1827360"/>
            <a:ext cx="2463840" cy="666720"/>
          </a:xfrm>
          <a:custGeom>
            <a:avLst/>
            <a:gdLst/>
            <a:ahLst/>
            <a:rect l="l" t="t" r="r" b="b"/>
            <a:pathLst>
              <a:path w="1080" h="337">
                <a:moveTo>
                  <a:pt x="0" y="0"/>
                </a:moveTo>
                <a:lnTo>
                  <a:pt x="0" y="336"/>
                </a:lnTo>
                <a:lnTo>
                  <a:pt x="1079" y="336"/>
                </a:lnTo>
                <a:lnTo>
                  <a:pt x="1079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978280" y="1797120"/>
            <a:ext cx="2541600" cy="728640"/>
          </a:xfrm>
          <a:custGeom>
            <a:avLst/>
            <a:gdLst/>
            <a:ahLst/>
            <a:rect l="l" t="t" r="r" b="b"/>
            <a:pathLst>
              <a:path w="1114" h="368">
                <a:moveTo>
                  <a:pt x="17" y="0"/>
                </a:moveTo>
                <a:lnTo>
                  <a:pt x="12" y="0"/>
                </a:lnTo>
                <a:lnTo>
                  <a:pt x="7" y="1"/>
                </a:lnTo>
                <a:lnTo>
                  <a:pt x="1" y="7"/>
                </a:lnTo>
                <a:lnTo>
                  <a:pt x="0" y="10"/>
                </a:lnTo>
                <a:lnTo>
                  <a:pt x="0" y="354"/>
                </a:lnTo>
                <a:lnTo>
                  <a:pt x="1" y="359"/>
                </a:lnTo>
                <a:lnTo>
                  <a:pt x="4" y="362"/>
                </a:lnTo>
                <a:lnTo>
                  <a:pt x="7" y="364"/>
                </a:lnTo>
                <a:lnTo>
                  <a:pt x="12" y="365"/>
                </a:lnTo>
                <a:lnTo>
                  <a:pt x="17" y="367"/>
                </a:lnTo>
                <a:lnTo>
                  <a:pt x="1096" y="367"/>
                </a:lnTo>
                <a:lnTo>
                  <a:pt x="1100" y="365"/>
                </a:lnTo>
                <a:lnTo>
                  <a:pt x="1104" y="364"/>
                </a:lnTo>
                <a:lnTo>
                  <a:pt x="1107" y="362"/>
                </a:lnTo>
                <a:lnTo>
                  <a:pt x="1110" y="359"/>
                </a:lnTo>
                <a:lnTo>
                  <a:pt x="1112" y="354"/>
                </a:lnTo>
                <a:lnTo>
                  <a:pt x="1113" y="351"/>
                </a:lnTo>
                <a:lnTo>
                  <a:pt x="1113" y="15"/>
                </a:lnTo>
                <a:lnTo>
                  <a:pt x="1112" y="10"/>
                </a:lnTo>
                <a:lnTo>
                  <a:pt x="1110" y="7"/>
                </a:lnTo>
                <a:lnTo>
                  <a:pt x="1104" y="1"/>
                </a:lnTo>
                <a:lnTo>
                  <a:pt x="1100" y="0"/>
                </a:lnTo>
                <a:lnTo>
                  <a:pt x="1096" y="0"/>
                </a:lnTo>
                <a:lnTo>
                  <a:pt x="17" y="0"/>
                </a:lnTo>
                <a:lnTo>
                  <a:pt x="17" y="30"/>
                </a:lnTo>
                <a:lnTo>
                  <a:pt x="1096" y="30"/>
                </a:lnTo>
                <a:lnTo>
                  <a:pt x="1080" y="15"/>
                </a:lnTo>
                <a:lnTo>
                  <a:pt x="1080" y="351"/>
                </a:lnTo>
                <a:lnTo>
                  <a:pt x="1096" y="336"/>
                </a:lnTo>
                <a:lnTo>
                  <a:pt x="17" y="336"/>
                </a:lnTo>
                <a:lnTo>
                  <a:pt x="33" y="351"/>
                </a:lnTo>
                <a:lnTo>
                  <a:pt x="33" y="15"/>
                </a:lnTo>
                <a:lnTo>
                  <a:pt x="17" y="30"/>
                </a:lnTo>
                <a:lnTo>
                  <a:pt x="1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017880" y="1249200"/>
            <a:ext cx="2463840" cy="567000"/>
          </a:xfrm>
          <a:custGeom>
            <a:avLst/>
            <a:gdLst/>
            <a:ahLst/>
            <a:rect l="l" t="t" r="r" b="b"/>
            <a:pathLst>
              <a:path w="1080" h="287">
                <a:moveTo>
                  <a:pt x="0" y="0"/>
                </a:moveTo>
                <a:lnTo>
                  <a:pt x="0" y="286"/>
                </a:lnTo>
                <a:lnTo>
                  <a:pt x="1079" y="286"/>
                </a:lnTo>
                <a:lnTo>
                  <a:pt x="1079" y="0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2978280" y="1219320"/>
            <a:ext cx="2541600" cy="627120"/>
          </a:xfrm>
          <a:custGeom>
            <a:avLst/>
            <a:gdLst/>
            <a:ahLst/>
            <a:rect l="l" t="t" r="r" b="b"/>
            <a:pathLst>
              <a:path w="1114" h="317">
                <a:moveTo>
                  <a:pt x="17" y="0"/>
                </a:moveTo>
                <a:lnTo>
                  <a:pt x="12" y="0"/>
                </a:lnTo>
                <a:lnTo>
                  <a:pt x="7" y="1"/>
                </a:lnTo>
                <a:lnTo>
                  <a:pt x="1" y="7"/>
                </a:lnTo>
                <a:lnTo>
                  <a:pt x="0" y="11"/>
                </a:lnTo>
                <a:lnTo>
                  <a:pt x="0" y="304"/>
                </a:lnTo>
                <a:lnTo>
                  <a:pt x="1" y="309"/>
                </a:lnTo>
                <a:lnTo>
                  <a:pt x="4" y="312"/>
                </a:lnTo>
                <a:lnTo>
                  <a:pt x="7" y="313"/>
                </a:lnTo>
                <a:lnTo>
                  <a:pt x="12" y="315"/>
                </a:lnTo>
                <a:lnTo>
                  <a:pt x="17" y="316"/>
                </a:lnTo>
                <a:lnTo>
                  <a:pt x="1096" y="316"/>
                </a:lnTo>
                <a:lnTo>
                  <a:pt x="1100" y="315"/>
                </a:lnTo>
                <a:lnTo>
                  <a:pt x="1104" y="313"/>
                </a:lnTo>
                <a:lnTo>
                  <a:pt x="1107" y="312"/>
                </a:lnTo>
                <a:lnTo>
                  <a:pt x="1110" y="309"/>
                </a:lnTo>
                <a:lnTo>
                  <a:pt x="1112" y="304"/>
                </a:lnTo>
                <a:lnTo>
                  <a:pt x="1113" y="301"/>
                </a:lnTo>
                <a:lnTo>
                  <a:pt x="1113" y="15"/>
                </a:lnTo>
                <a:lnTo>
                  <a:pt x="1112" y="11"/>
                </a:lnTo>
                <a:lnTo>
                  <a:pt x="1110" y="7"/>
                </a:lnTo>
                <a:lnTo>
                  <a:pt x="1104" y="1"/>
                </a:lnTo>
                <a:lnTo>
                  <a:pt x="1100" y="0"/>
                </a:lnTo>
                <a:lnTo>
                  <a:pt x="1096" y="0"/>
                </a:lnTo>
                <a:lnTo>
                  <a:pt x="17" y="0"/>
                </a:lnTo>
                <a:lnTo>
                  <a:pt x="17" y="29"/>
                </a:lnTo>
                <a:lnTo>
                  <a:pt x="1096" y="29"/>
                </a:lnTo>
                <a:lnTo>
                  <a:pt x="1080" y="15"/>
                </a:lnTo>
                <a:lnTo>
                  <a:pt x="1080" y="301"/>
                </a:lnTo>
                <a:lnTo>
                  <a:pt x="1096" y="287"/>
                </a:lnTo>
                <a:lnTo>
                  <a:pt x="17" y="287"/>
                </a:lnTo>
                <a:lnTo>
                  <a:pt x="33" y="301"/>
                </a:lnTo>
                <a:lnTo>
                  <a:pt x="33" y="15"/>
                </a:lnTo>
                <a:lnTo>
                  <a:pt x="17" y="29"/>
                </a:lnTo>
                <a:lnTo>
                  <a:pt x="1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044160" y="1371600"/>
            <a:ext cx="248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ÁREAS CHAVE DE PROCES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114640" y="3166920"/>
            <a:ext cx="1485720" cy="471600"/>
          </a:xfrm>
          <a:custGeom>
            <a:avLst/>
            <a:gdLst/>
            <a:ahLst/>
            <a:rect l="l" t="t" r="r" b="b"/>
            <a:pathLst>
              <a:path w="652" h="239">
                <a:moveTo>
                  <a:pt x="0" y="0"/>
                </a:moveTo>
                <a:lnTo>
                  <a:pt x="0" y="238"/>
                </a:lnTo>
                <a:lnTo>
                  <a:pt x="651" y="238"/>
                </a:lnTo>
                <a:lnTo>
                  <a:pt x="651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037600" y="3105000"/>
            <a:ext cx="1204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ompromiss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037600" y="3348000"/>
            <a:ext cx="1158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ara execut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905360" y="3166920"/>
            <a:ext cx="1533600" cy="471600"/>
          </a:xfrm>
          <a:custGeom>
            <a:avLst/>
            <a:gdLst/>
            <a:ahLst/>
            <a:rect l="l" t="t" r="r" b="b"/>
            <a:pathLst>
              <a:path w="455" h="239">
                <a:moveTo>
                  <a:pt x="0" y="0"/>
                </a:moveTo>
                <a:lnTo>
                  <a:pt x="0" y="238"/>
                </a:lnTo>
                <a:lnTo>
                  <a:pt x="454" y="238"/>
                </a:lnTo>
                <a:lnTo>
                  <a:pt x="454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840920" y="3105000"/>
            <a:ext cx="1003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bilidad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840920" y="3348000"/>
            <a:ext cx="1199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ara executar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260440" y="5537160"/>
            <a:ext cx="1781280" cy="473040"/>
          </a:xfrm>
          <a:custGeom>
            <a:avLst/>
            <a:gdLst/>
            <a:ahLst/>
            <a:rect l="l" t="t" r="r" b="b"/>
            <a:pathLst>
              <a:path w="781" h="239">
                <a:moveTo>
                  <a:pt x="0" y="0"/>
                </a:moveTo>
                <a:lnTo>
                  <a:pt x="0" y="238"/>
                </a:lnTo>
                <a:lnTo>
                  <a:pt x="780" y="238"/>
                </a:lnTo>
                <a:lnTo>
                  <a:pt x="78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168640" y="5475240"/>
            <a:ext cx="1063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ediç</a:t>
            </a: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ões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169360" y="5719680"/>
            <a:ext cx="706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áli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722840" y="5537160"/>
            <a:ext cx="1830240" cy="473040"/>
          </a:xfrm>
          <a:custGeom>
            <a:avLst/>
            <a:gdLst/>
            <a:ahLst/>
            <a:rect l="l" t="t" r="r" b="b"/>
            <a:pathLst>
              <a:path w="802" h="239">
                <a:moveTo>
                  <a:pt x="0" y="0"/>
                </a:moveTo>
                <a:lnTo>
                  <a:pt x="0" y="238"/>
                </a:lnTo>
                <a:lnTo>
                  <a:pt x="801" y="238"/>
                </a:lnTo>
                <a:lnTo>
                  <a:pt x="801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692240" y="5475240"/>
            <a:ext cx="1245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rificação d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692600" y="5719680"/>
            <a:ext cx="1273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mplementaçã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683160" y="4327560"/>
            <a:ext cx="1234800" cy="473040"/>
          </a:xfrm>
          <a:custGeom>
            <a:avLst/>
            <a:gdLst/>
            <a:ahLst/>
            <a:rect l="l" t="t" r="r" b="b"/>
            <a:pathLst>
              <a:path w="541" h="239">
                <a:moveTo>
                  <a:pt x="0" y="0"/>
                </a:moveTo>
                <a:lnTo>
                  <a:pt x="0" y="238"/>
                </a:lnTo>
                <a:lnTo>
                  <a:pt x="540" y="238"/>
                </a:lnTo>
                <a:lnTo>
                  <a:pt x="54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763080" y="4267080"/>
            <a:ext cx="975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tividad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810960" y="4495680"/>
            <a:ext cx="953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executad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484280" y="2503440"/>
            <a:ext cx="5532480" cy="474840"/>
          </a:xfrm>
          <a:custGeom>
            <a:avLst/>
            <a:gdLst/>
            <a:ahLst/>
            <a:rect l="l" t="t" r="r" b="b"/>
            <a:pathLst>
              <a:path w="2425" h="240">
                <a:moveTo>
                  <a:pt x="0" y="0"/>
                </a:moveTo>
                <a:lnTo>
                  <a:pt x="0" y="239"/>
                </a:lnTo>
                <a:lnTo>
                  <a:pt x="2424" y="239"/>
                </a:lnTo>
                <a:lnTo>
                  <a:pt x="2424" y="0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447920" y="2473200"/>
            <a:ext cx="5607000" cy="534960"/>
          </a:xfrm>
          <a:custGeom>
            <a:avLst/>
            <a:gdLst/>
            <a:ahLst/>
            <a:rect l="l" t="t" r="r" b="b"/>
            <a:pathLst>
              <a:path w="2458" h="270">
                <a:moveTo>
                  <a:pt x="16" y="0"/>
                </a:moveTo>
                <a:lnTo>
                  <a:pt x="12" y="0"/>
                </a:lnTo>
                <a:lnTo>
                  <a:pt x="7" y="2"/>
                </a:lnTo>
                <a:lnTo>
                  <a:pt x="1" y="8"/>
                </a:lnTo>
                <a:lnTo>
                  <a:pt x="0" y="11"/>
                </a:lnTo>
                <a:lnTo>
                  <a:pt x="0" y="257"/>
                </a:lnTo>
                <a:lnTo>
                  <a:pt x="1" y="261"/>
                </a:lnTo>
                <a:lnTo>
                  <a:pt x="4" y="264"/>
                </a:lnTo>
                <a:lnTo>
                  <a:pt x="7" y="266"/>
                </a:lnTo>
                <a:lnTo>
                  <a:pt x="12" y="267"/>
                </a:lnTo>
                <a:lnTo>
                  <a:pt x="16" y="269"/>
                </a:lnTo>
                <a:lnTo>
                  <a:pt x="2440" y="269"/>
                </a:lnTo>
                <a:lnTo>
                  <a:pt x="2443" y="267"/>
                </a:lnTo>
                <a:lnTo>
                  <a:pt x="2448" y="266"/>
                </a:lnTo>
                <a:lnTo>
                  <a:pt x="2451" y="264"/>
                </a:lnTo>
                <a:lnTo>
                  <a:pt x="2454" y="261"/>
                </a:lnTo>
                <a:lnTo>
                  <a:pt x="2456" y="257"/>
                </a:lnTo>
                <a:lnTo>
                  <a:pt x="2457" y="254"/>
                </a:lnTo>
                <a:lnTo>
                  <a:pt x="2457" y="15"/>
                </a:lnTo>
                <a:lnTo>
                  <a:pt x="2456" y="11"/>
                </a:lnTo>
                <a:lnTo>
                  <a:pt x="2454" y="8"/>
                </a:lnTo>
                <a:lnTo>
                  <a:pt x="2448" y="2"/>
                </a:lnTo>
                <a:lnTo>
                  <a:pt x="2443" y="0"/>
                </a:lnTo>
                <a:lnTo>
                  <a:pt x="2440" y="0"/>
                </a:lnTo>
                <a:lnTo>
                  <a:pt x="16" y="0"/>
                </a:lnTo>
                <a:lnTo>
                  <a:pt x="16" y="30"/>
                </a:lnTo>
                <a:lnTo>
                  <a:pt x="2440" y="30"/>
                </a:lnTo>
                <a:lnTo>
                  <a:pt x="2423" y="15"/>
                </a:lnTo>
                <a:lnTo>
                  <a:pt x="2423" y="254"/>
                </a:lnTo>
                <a:lnTo>
                  <a:pt x="2440" y="239"/>
                </a:lnTo>
                <a:lnTo>
                  <a:pt x="16" y="239"/>
                </a:lnTo>
                <a:lnTo>
                  <a:pt x="33" y="254"/>
                </a:lnTo>
                <a:lnTo>
                  <a:pt x="33" y="15"/>
                </a:lnTo>
                <a:lnTo>
                  <a:pt x="16" y="30"/>
                </a:lnTo>
                <a:lnTo>
                  <a:pt x="16" y="0"/>
                </a:lnTo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1484280" y="1827360"/>
            <a:ext cx="5532480" cy="666720"/>
          </a:xfrm>
          <a:custGeom>
            <a:avLst/>
            <a:gdLst/>
            <a:ahLst/>
            <a:rect l="l" t="t" r="r" b="b"/>
            <a:pathLst>
              <a:path w="2425" h="337">
                <a:moveTo>
                  <a:pt x="0" y="336"/>
                </a:moveTo>
                <a:lnTo>
                  <a:pt x="671" y="0"/>
                </a:lnTo>
                <a:lnTo>
                  <a:pt x="1753" y="0"/>
                </a:lnTo>
                <a:lnTo>
                  <a:pt x="2424" y="336"/>
                </a:lnTo>
                <a:lnTo>
                  <a:pt x="0" y="33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447920" y="1797120"/>
            <a:ext cx="5607000" cy="728640"/>
          </a:xfrm>
          <a:custGeom>
            <a:avLst/>
            <a:gdLst/>
            <a:ahLst/>
            <a:rect l="l" t="t" r="r" b="b"/>
            <a:pathLst>
              <a:path w="2458" h="368">
                <a:moveTo>
                  <a:pt x="16" y="336"/>
                </a:moveTo>
                <a:lnTo>
                  <a:pt x="24" y="364"/>
                </a:lnTo>
                <a:lnTo>
                  <a:pt x="695" y="27"/>
                </a:lnTo>
                <a:lnTo>
                  <a:pt x="687" y="30"/>
                </a:lnTo>
                <a:lnTo>
                  <a:pt x="1769" y="30"/>
                </a:lnTo>
                <a:lnTo>
                  <a:pt x="1760" y="27"/>
                </a:lnTo>
                <a:lnTo>
                  <a:pt x="2431" y="364"/>
                </a:lnTo>
                <a:lnTo>
                  <a:pt x="2440" y="336"/>
                </a:lnTo>
                <a:lnTo>
                  <a:pt x="16" y="336"/>
                </a:lnTo>
                <a:lnTo>
                  <a:pt x="16" y="367"/>
                </a:lnTo>
                <a:lnTo>
                  <a:pt x="2440" y="367"/>
                </a:lnTo>
                <a:lnTo>
                  <a:pt x="2445" y="365"/>
                </a:lnTo>
                <a:lnTo>
                  <a:pt x="2448" y="364"/>
                </a:lnTo>
                <a:lnTo>
                  <a:pt x="2452" y="362"/>
                </a:lnTo>
                <a:lnTo>
                  <a:pt x="2454" y="359"/>
                </a:lnTo>
                <a:lnTo>
                  <a:pt x="2456" y="354"/>
                </a:lnTo>
                <a:lnTo>
                  <a:pt x="2457" y="350"/>
                </a:lnTo>
                <a:lnTo>
                  <a:pt x="2456" y="347"/>
                </a:lnTo>
                <a:lnTo>
                  <a:pt x="2454" y="344"/>
                </a:lnTo>
                <a:lnTo>
                  <a:pt x="2451" y="339"/>
                </a:lnTo>
                <a:lnTo>
                  <a:pt x="2448" y="338"/>
                </a:lnTo>
                <a:lnTo>
                  <a:pt x="1777" y="1"/>
                </a:lnTo>
                <a:lnTo>
                  <a:pt x="1773" y="0"/>
                </a:lnTo>
                <a:lnTo>
                  <a:pt x="683" y="0"/>
                </a:lnTo>
                <a:lnTo>
                  <a:pt x="678" y="1"/>
                </a:lnTo>
                <a:lnTo>
                  <a:pt x="7" y="338"/>
                </a:lnTo>
                <a:lnTo>
                  <a:pt x="1" y="344"/>
                </a:lnTo>
                <a:lnTo>
                  <a:pt x="0" y="347"/>
                </a:lnTo>
                <a:lnTo>
                  <a:pt x="0" y="354"/>
                </a:lnTo>
                <a:lnTo>
                  <a:pt x="1" y="359"/>
                </a:lnTo>
                <a:lnTo>
                  <a:pt x="4" y="362"/>
                </a:lnTo>
                <a:lnTo>
                  <a:pt x="7" y="364"/>
                </a:lnTo>
                <a:lnTo>
                  <a:pt x="12" y="365"/>
                </a:lnTo>
                <a:lnTo>
                  <a:pt x="16" y="367"/>
                </a:lnTo>
                <a:lnTo>
                  <a:pt x="16" y="33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868560" y="2066760"/>
            <a:ext cx="831960" cy="233640"/>
          </a:xfrm>
          <a:custGeom>
            <a:avLst/>
            <a:gdLst/>
            <a:ahLst/>
            <a:rect l="l" t="t" r="r" b="b"/>
            <a:pathLst>
              <a:path w="365" h="118">
                <a:moveTo>
                  <a:pt x="0" y="0"/>
                </a:moveTo>
                <a:lnTo>
                  <a:pt x="0" y="117"/>
                </a:lnTo>
                <a:lnTo>
                  <a:pt x="364" y="117"/>
                </a:lnTo>
                <a:lnTo>
                  <a:pt x="364" y="0"/>
                </a:lnTo>
                <a:lnTo>
                  <a:pt x="0" y="0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811320" y="1987560"/>
            <a:ext cx="770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ff"/>
                </a:solidFill>
                <a:latin typeface="Century Schoolbook"/>
              </a:rPr>
              <a:t>               </a:t>
            </a:r>
            <a:r>
              <a:rPr b="1" lang="pt-BR" sz="2600" spc="-1" strike="noStrike">
                <a:solidFill>
                  <a:srgbClr val="0000ff"/>
                </a:solidFill>
                <a:latin typeface="Century Schoolbook"/>
              </a:rPr>
              <a:t>Estrutura do CMM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4" name=""/>
          <p:cNvSpPr/>
          <p:nvPr/>
        </p:nvSpPr>
        <p:spPr>
          <a:xfrm>
            <a:off x="1484280" y="4579920"/>
            <a:ext cx="2760840" cy="1585800"/>
          </a:xfrm>
          <a:custGeom>
            <a:avLst/>
            <a:gdLst/>
            <a:ahLst/>
            <a:rect l="l" t="t" r="r" b="b"/>
            <a:pathLst>
              <a:path w="1210" h="802">
                <a:moveTo>
                  <a:pt x="0" y="0"/>
                </a:moveTo>
                <a:lnTo>
                  <a:pt x="0" y="801"/>
                </a:lnTo>
                <a:lnTo>
                  <a:pt x="1209" y="801"/>
                </a:lnTo>
                <a:lnTo>
                  <a:pt x="1209" y="0"/>
                </a:lnTo>
                <a:lnTo>
                  <a:pt x="0" y="0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447920" y="4549680"/>
            <a:ext cx="2835000" cy="1646280"/>
          </a:xfrm>
          <a:custGeom>
            <a:avLst/>
            <a:gdLst/>
            <a:ahLst/>
            <a:rect l="l" t="t" r="r" b="b"/>
            <a:pathLst>
              <a:path w="1243" h="832">
                <a:moveTo>
                  <a:pt x="16" y="0"/>
                </a:moveTo>
                <a:lnTo>
                  <a:pt x="12" y="0"/>
                </a:lnTo>
                <a:lnTo>
                  <a:pt x="7" y="1"/>
                </a:lnTo>
                <a:lnTo>
                  <a:pt x="1" y="8"/>
                </a:lnTo>
                <a:lnTo>
                  <a:pt x="0" y="11"/>
                </a:lnTo>
                <a:lnTo>
                  <a:pt x="0" y="819"/>
                </a:lnTo>
                <a:lnTo>
                  <a:pt x="1" y="823"/>
                </a:lnTo>
                <a:lnTo>
                  <a:pt x="4" y="826"/>
                </a:lnTo>
                <a:lnTo>
                  <a:pt x="7" y="828"/>
                </a:lnTo>
                <a:lnTo>
                  <a:pt x="12" y="829"/>
                </a:lnTo>
                <a:lnTo>
                  <a:pt x="16" y="831"/>
                </a:lnTo>
                <a:lnTo>
                  <a:pt x="1225" y="831"/>
                </a:lnTo>
                <a:lnTo>
                  <a:pt x="1228" y="829"/>
                </a:lnTo>
                <a:lnTo>
                  <a:pt x="1233" y="828"/>
                </a:lnTo>
                <a:lnTo>
                  <a:pt x="1236" y="826"/>
                </a:lnTo>
                <a:lnTo>
                  <a:pt x="1239" y="823"/>
                </a:lnTo>
                <a:lnTo>
                  <a:pt x="1241" y="819"/>
                </a:lnTo>
                <a:lnTo>
                  <a:pt x="1242" y="816"/>
                </a:lnTo>
                <a:lnTo>
                  <a:pt x="1242" y="15"/>
                </a:lnTo>
                <a:lnTo>
                  <a:pt x="1241" y="11"/>
                </a:lnTo>
                <a:lnTo>
                  <a:pt x="1239" y="8"/>
                </a:lnTo>
                <a:lnTo>
                  <a:pt x="1233" y="1"/>
                </a:lnTo>
                <a:lnTo>
                  <a:pt x="1228" y="0"/>
                </a:lnTo>
                <a:lnTo>
                  <a:pt x="1225" y="0"/>
                </a:lnTo>
                <a:lnTo>
                  <a:pt x="16" y="0"/>
                </a:lnTo>
                <a:lnTo>
                  <a:pt x="16" y="31"/>
                </a:lnTo>
                <a:lnTo>
                  <a:pt x="1225" y="31"/>
                </a:lnTo>
                <a:lnTo>
                  <a:pt x="1208" y="15"/>
                </a:lnTo>
                <a:lnTo>
                  <a:pt x="1208" y="816"/>
                </a:lnTo>
                <a:lnTo>
                  <a:pt x="1225" y="800"/>
                </a:lnTo>
                <a:lnTo>
                  <a:pt x="16" y="800"/>
                </a:lnTo>
                <a:lnTo>
                  <a:pt x="33" y="816"/>
                </a:lnTo>
                <a:lnTo>
                  <a:pt x="33" y="15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255920" y="4579920"/>
            <a:ext cx="2760840" cy="1585800"/>
          </a:xfrm>
          <a:custGeom>
            <a:avLst/>
            <a:gdLst/>
            <a:ahLst/>
            <a:rect l="l" t="t" r="r" b="b"/>
            <a:pathLst>
              <a:path w="1210" h="802">
                <a:moveTo>
                  <a:pt x="0" y="0"/>
                </a:moveTo>
                <a:lnTo>
                  <a:pt x="0" y="801"/>
                </a:lnTo>
                <a:lnTo>
                  <a:pt x="1209" y="801"/>
                </a:lnTo>
                <a:lnTo>
                  <a:pt x="1209" y="0"/>
                </a:lnTo>
                <a:lnTo>
                  <a:pt x="0" y="0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216320" y="4549680"/>
            <a:ext cx="2838600" cy="1646280"/>
          </a:xfrm>
          <a:custGeom>
            <a:avLst/>
            <a:gdLst/>
            <a:ahLst/>
            <a:rect l="l" t="t" r="r" b="b"/>
            <a:pathLst>
              <a:path w="1244" h="832">
                <a:moveTo>
                  <a:pt x="17" y="0"/>
                </a:moveTo>
                <a:lnTo>
                  <a:pt x="13" y="0"/>
                </a:lnTo>
                <a:lnTo>
                  <a:pt x="8" y="1"/>
                </a:lnTo>
                <a:lnTo>
                  <a:pt x="2" y="8"/>
                </a:lnTo>
                <a:lnTo>
                  <a:pt x="0" y="11"/>
                </a:lnTo>
                <a:lnTo>
                  <a:pt x="0" y="819"/>
                </a:lnTo>
                <a:lnTo>
                  <a:pt x="2" y="823"/>
                </a:lnTo>
                <a:lnTo>
                  <a:pt x="5" y="826"/>
                </a:lnTo>
                <a:lnTo>
                  <a:pt x="8" y="828"/>
                </a:lnTo>
                <a:lnTo>
                  <a:pt x="13" y="829"/>
                </a:lnTo>
                <a:lnTo>
                  <a:pt x="17" y="831"/>
                </a:lnTo>
                <a:lnTo>
                  <a:pt x="1226" y="831"/>
                </a:lnTo>
                <a:lnTo>
                  <a:pt x="1229" y="829"/>
                </a:lnTo>
                <a:lnTo>
                  <a:pt x="1234" y="828"/>
                </a:lnTo>
                <a:lnTo>
                  <a:pt x="1237" y="826"/>
                </a:lnTo>
                <a:lnTo>
                  <a:pt x="1240" y="823"/>
                </a:lnTo>
                <a:lnTo>
                  <a:pt x="1242" y="819"/>
                </a:lnTo>
                <a:lnTo>
                  <a:pt x="1243" y="816"/>
                </a:lnTo>
                <a:lnTo>
                  <a:pt x="1243" y="15"/>
                </a:lnTo>
                <a:lnTo>
                  <a:pt x="1242" y="11"/>
                </a:lnTo>
                <a:lnTo>
                  <a:pt x="1240" y="8"/>
                </a:lnTo>
                <a:lnTo>
                  <a:pt x="1234" y="1"/>
                </a:lnTo>
                <a:lnTo>
                  <a:pt x="1229" y="0"/>
                </a:lnTo>
                <a:lnTo>
                  <a:pt x="1226" y="0"/>
                </a:lnTo>
                <a:lnTo>
                  <a:pt x="17" y="0"/>
                </a:lnTo>
                <a:lnTo>
                  <a:pt x="17" y="31"/>
                </a:lnTo>
                <a:lnTo>
                  <a:pt x="1226" y="31"/>
                </a:lnTo>
                <a:lnTo>
                  <a:pt x="1209" y="15"/>
                </a:lnTo>
                <a:lnTo>
                  <a:pt x="1209" y="816"/>
                </a:lnTo>
                <a:lnTo>
                  <a:pt x="1226" y="800"/>
                </a:lnTo>
                <a:lnTo>
                  <a:pt x="17" y="800"/>
                </a:lnTo>
                <a:lnTo>
                  <a:pt x="34" y="816"/>
                </a:lnTo>
                <a:lnTo>
                  <a:pt x="34" y="15"/>
                </a:lnTo>
                <a:lnTo>
                  <a:pt x="17" y="31"/>
                </a:lnTo>
                <a:lnTo>
                  <a:pt x="17" y="0"/>
                </a:lnTo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255920" y="2987640"/>
            <a:ext cx="2760840" cy="1581120"/>
          </a:xfrm>
          <a:custGeom>
            <a:avLst/>
            <a:gdLst/>
            <a:ahLst/>
            <a:rect l="l" t="t" r="r" b="b"/>
            <a:pathLst>
              <a:path w="1210" h="799">
                <a:moveTo>
                  <a:pt x="0" y="0"/>
                </a:moveTo>
                <a:lnTo>
                  <a:pt x="0" y="798"/>
                </a:lnTo>
                <a:lnTo>
                  <a:pt x="1209" y="798"/>
                </a:lnTo>
                <a:lnTo>
                  <a:pt x="1209" y="0"/>
                </a:lnTo>
                <a:lnTo>
                  <a:pt x="0" y="0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216320" y="2955960"/>
            <a:ext cx="2838600" cy="1644480"/>
          </a:xfrm>
          <a:custGeom>
            <a:avLst/>
            <a:gdLst/>
            <a:ahLst/>
            <a:rect l="l" t="t" r="r" b="b"/>
            <a:pathLst>
              <a:path w="1244" h="831">
                <a:moveTo>
                  <a:pt x="17" y="0"/>
                </a:moveTo>
                <a:lnTo>
                  <a:pt x="13" y="0"/>
                </a:lnTo>
                <a:lnTo>
                  <a:pt x="8" y="2"/>
                </a:lnTo>
                <a:lnTo>
                  <a:pt x="2" y="8"/>
                </a:lnTo>
                <a:lnTo>
                  <a:pt x="0" y="11"/>
                </a:lnTo>
                <a:lnTo>
                  <a:pt x="0" y="817"/>
                </a:lnTo>
                <a:lnTo>
                  <a:pt x="2" y="822"/>
                </a:lnTo>
                <a:lnTo>
                  <a:pt x="5" y="825"/>
                </a:lnTo>
                <a:lnTo>
                  <a:pt x="8" y="827"/>
                </a:lnTo>
                <a:lnTo>
                  <a:pt x="13" y="828"/>
                </a:lnTo>
                <a:lnTo>
                  <a:pt x="17" y="830"/>
                </a:lnTo>
                <a:lnTo>
                  <a:pt x="1226" y="830"/>
                </a:lnTo>
                <a:lnTo>
                  <a:pt x="1229" y="828"/>
                </a:lnTo>
                <a:lnTo>
                  <a:pt x="1234" y="827"/>
                </a:lnTo>
                <a:lnTo>
                  <a:pt x="1237" y="825"/>
                </a:lnTo>
                <a:lnTo>
                  <a:pt x="1240" y="822"/>
                </a:lnTo>
                <a:lnTo>
                  <a:pt x="1242" y="817"/>
                </a:lnTo>
                <a:lnTo>
                  <a:pt x="1243" y="814"/>
                </a:lnTo>
                <a:lnTo>
                  <a:pt x="1243" y="16"/>
                </a:lnTo>
                <a:lnTo>
                  <a:pt x="1242" y="11"/>
                </a:lnTo>
                <a:lnTo>
                  <a:pt x="1240" y="8"/>
                </a:lnTo>
                <a:lnTo>
                  <a:pt x="1234" y="2"/>
                </a:lnTo>
                <a:lnTo>
                  <a:pt x="1229" y="0"/>
                </a:lnTo>
                <a:lnTo>
                  <a:pt x="1226" y="0"/>
                </a:lnTo>
                <a:lnTo>
                  <a:pt x="17" y="0"/>
                </a:lnTo>
                <a:lnTo>
                  <a:pt x="17" y="31"/>
                </a:lnTo>
                <a:lnTo>
                  <a:pt x="1226" y="31"/>
                </a:lnTo>
                <a:lnTo>
                  <a:pt x="1209" y="16"/>
                </a:lnTo>
                <a:lnTo>
                  <a:pt x="1209" y="814"/>
                </a:lnTo>
                <a:lnTo>
                  <a:pt x="1226" y="799"/>
                </a:lnTo>
                <a:lnTo>
                  <a:pt x="17" y="799"/>
                </a:lnTo>
                <a:lnTo>
                  <a:pt x="34" y="814"/>
                </a:lnTo>
                <a:lnTo>
                  <a:pt x="34" y="16"/>
                </a:lnTo>
                <a:lnTo>
                  <a:pt x="17" y="31"/>
                </a:lnTo>
                <a:lnTo>
                  <a:pt x="17" y="0"/>
                </a:lnTo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1484280" y="2987640"/>
            <a:ext cx="2760840" cy="1581120"/>
          </a:xfrm>
          <a:custGeom>
            <a:avLst/>
            <a:gdLst/>
            <a:ahLst/>
            <a:rect l="l" t="t" r="r" b="b"/>
            <a:pathLst>
              <a:path w="1210" h="799">
                <a:moveTo>
                  <a:pt x="0" y="0"/>
                </a:moveTo>
                <a:lnTo>
                  <a:pt x="0" y="798"/>
                </a:lnTo>
                <a:lnTo>
                  <a:pt x="1209" y="798"/>
                </a:lnTo>
                <a:lnTo>
                  <a:pt x="1209" y="0"/>
                </a:lnTo>
                <a:lnTo>
                  <a:pt x="0" y="0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447920" y="2955960"/>
            <a:ext cx="2835000" cy="1644480"/>
          </a:xfrm>
          <a:custGeom>
            <a:avLst/>
            <a:gdLst/>
            <a:ahLst/>
            <a:rect l="l" t="t" r="r" b="b"/>
            <a:pathLst>
              <a:path w="1243" h="831">
                <a:moveTo>
                  <a:pt x="16" y="0"/>
                </a:moveTo>
                <a:lnTo>
                  <a:pt x="12" y="0"/>
                </a:lnTo>
                <a:lnTo>
                  <a:pt x="7" y="2"/>
                </a:lnTo>
                <a:lnTo>
                  <a:pt x="1" y="8"/>
                </a:lnTo>
                <a:lnTo>
                  <a:pt x="0" y="11"/>
                </a:lnTo>
                <a:lnTo>
                  <a:pt x="0" y="817"/>
                </a:lnTo>
                <a:lnTo>
                  <a:pt x="1" y="822"/>
                </a:lnTo>
                <a:lnTo>
                  <a:pt x="4" y="825"/>
                </a:lnTo>
                <a:lnTo>
                  <a:pt x="7" y="827"/>
                </a:lnTo>
                <a:lnTo>
                  <a:pt x="12" y="828"/>
                </a:lnTo>
                <a:lnTo>
                  <a:pt x="16" y="830"/>
                </a:lnTo>
                <a:lnTo>
                  <a:pt x="1225" y="830"/>
                </a:lnTo>
                <a:lnTo>
                  <a:pt x="1228" y="828"/>
                </a:lnTo>
                <a:lnTo>
                  <a:pt x="1233" y="827"/>
                </a:lnTo>
                <a:lnTo>
                  <a:pt x="1236" y="825"/>
                </a:lnTo>
                <a:lnTo>
                  <a:pt x="1239" y="822"/>
                </a:lnTo>
                <a:lnTo>
                  <a:pt x="1241" y="817"/>
                </a:lnTo>
                <a:lnTo>
                  <a:pt x="1242" y="814"/>
                </a:lnTo>
                <a:lnTo>
                  <a:pt x="1242" y="16"/>
                </a:lnTo>
                <a:lnTo>
                  <a:pt x="1241" y="11"/>
                </a:lnTo>
                <a:lnTo>
                  <a:pt x="1239" y="8"/>
                </a:lnTo>
                <a:lnTo>
                  <a:pt x="1233" y="2"/>
                </a:lnTo>
                <a:lnTo>
                  <a:pt x="1228" y="0"/>
                </a:lnTo>
                <a:lnTo>
                  <a:pt x="1225" y="0"/>
                </a:lnTo>
                <a:lnTo>
                  <a:pt x="16" y="0"/>
                </a:lnTo>
                <a:lnTo>
                  <a:pt x="16" y="31"/>
                </a:lnTo>
                <a:lnTo>
                  <a:pt x="1225" y="31"/>
                </a:lnTo>
                <a:lnTo>
                  <a:pt x="1208" y="16"/>
                </a:lnTo>
                <a:lnTo>
                  <a:pt x="1208" y="814"/>
                </a:lnTo>
                <a:lnTo>
                  <a:pt x="1225" y="799"/>
                </a:lnTo>
                <a:lnTo>
                  <a:pt x="16" y="799"/>
                </a:lnTo>
                <a:lnTo>
                  <a:pt x="33" y="814"/>
                </a:lnTo>
                <a:lnTo>
                  <a:pt x="33" y="16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873520" y="3838680"/>
            <a:ext cx="2757240" cy="1585800"/>
          </a:xfrm>
          <a:custGeom>
            <a:avLst/>
            <a:gdLst/>
            <a:ahLst/>
            <a:rect l="l" t="t" r="r" b="b"/>
            <a:pathLst>
              <a:path w="1209" h="801">
                <a:moveTo>
                  <a:pt x="0" y="0"/>
                </a:moveTo>
                <a:lnTo>
                  <a:pt x="0" y="800"/>
                </a:lnTo>
                <a:lnTo>
                  <a:pt x="1208" y="800"/>
                </a:lnTo>
                <a:lnTo>
                  <a:pt x="1208" y="0"/>
                </a:lnTo>
                <a:lnTo>
                  <a:pt x="0" y="0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835360" y="3807000"/>
            <a:ext cx="2835360" cy="1647720"/>
          </a:xfrm>
          <a:custGeom>
            <a:avLst/>
            <a:gdLst/>
            <a:ahLst/>
            <a:rect l="l" t="t" r="r" b="b"/>
            <a:pathLst>
              <a:path w="1243" h="832">
                <a:moveTo>
                  <a:pt x="17" y="0"/>
                </a:moveTo>
                <a:lnTo>
                  <a:pt x="12" y="0"/>
                </a:lnTo>
                <a:lnTo>
                  <a:pt x="7" y="2"/>
                </a:lnTo>
                <a:lnTo>
                  <a:pt x="1" y="8"/>
                </a:lnTo>
                <a:lnTo>
                  <a:pt x="0" y="11"/>
                </a:lnTo>
                <a:lnTo>
                  <a:pt x="0" y="819"/>
                </a:lnTo>
                <a:lnTo>
                  <a:pt x="1" y="823"/>
                </a:lnTo>
                <a:lnTo>
                  <a:pt x="4" y="827"/>
                </a:lnTo>
                <a:lnTo>
                  <a:pt x="7" y="828"/>
                </a:lnTo>
                <a:lnTo>
                  <a:pt x="12" y="830"/>
                </a:lnTo>
                <a:lnTo>
                  <a:pt x="17" y="831"/>
                </a:lnTo>
                <a:lnTo>
                  <a:pt x="1225" y="831"/>
                </a:lnTo>
                <a:lnTo>
                  <a:pt x="1229" y="830"/>
                </a:lnTo>
                <a:lnTo>
                  <a:pt x="1233" y="828"/>
                </a:lnTo>
                <a:lnTo>
                  <a:pt x="1236" y="827"/>
                </a:lnTo>
                <a:lnTo>
                  <a:pt x="1239" y="823"/>
                </a:lnTo>
                <a:lnTo>
                  <a:pt x="1241" y="819"/>
                </a:lnTo>
                <a:lnTo>
                  <a:pt x="1242" y="816"/>
                </a:lnTo>
                <a:lnTo>
                  <a:pt x="1242" y="16"/>
                </a:lnTo>
                <a:lnTo>
                  <a:pt x="1241" y="11"/>
                </a:lnTo>
                <a:lnTo>
                  <a:pt x="1239" y="8"/>
                </a:lnTo>
                <a:lnTo>
                  <a:pt x="1233" y="2"/>
                </a:lnTo>
                <a:lnTo>
                  <a:pt x="1229" y="0"/>
                </a:lnTo>
                <a:lnTo>
                  <a:pt x="1225" y="0"/>
                </a:lnTo>
                <a:lnTo>
                  <a:pt x="17" y="0"/>
                </a:lnTo>
                <a:lnTo>
                  <a:pt x="17" y="31"/>
                </a:lnTo>
                <a:lnTo>
                  <a:pt x="1225" y="31"/>
                </a:lnTo>
                <a:lnTo>
                  <a:pt x="1209" y="16"/>
                </a:lnTo>
                <a:lnTo>
                  <a:pt x="1209" y="816"/>
                </a:lnTo>
                <a:lnTo>
                  <a:pt x="1225" y="800"/>
                </a:lnTo>
                <a:lnTo>
                  <a:pt x="17" y="800"/>
                </a:lnTo>
                <a:lnTo>
                  <a:pt x="34" y="816"/>
                </a:lnTo>
                <a:lnTo>
                  <a:pt x="34" y="16"/>
                </a:lnTo>
                <a:lnTo>
                  <a:pt x="17" y="31"/>
                </a:lnTo>
                <a:lnTo>
                  <a:pt x="17" y="0"/>
                </a:lnTo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017880" y="1827360"/>
            <a:ext cx="2463840" cy="666720"/>
          </a:xfrm>
          <a:custGeom>
            <a:avLst/>
            <a:gdLst/>
            <a:ahLst/>
            <a:rect l="l" t="t" r="r" b="b"/>
            <a:pathLst>
              <a:path w="1080" h="337">
                <a:moveTo>
                  <a:pt x="0" y="0"/>
                </a:moveTo>
                <a:lnTo>
                  <a:pt x="0" y="336"/>
                </a:lnTo>
                <a:lnTo>
                  <a:pt x="1079" y="336"/>
                </a:lnTo>
                <a:lnTo>
                  <a:pt x="1079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978280" y="1797120"/>
            <a:ext cx="2541600" cy="728640"/>
          </a:xfrm>
          <a:custGeom>
            <a:avLst/>
            <a:gdLst/>
            <a:ahLst/>
            <a:rect l="l" t="t" r="r" b="b"/>
            <a:pathLst>
              <a:path w="1114" h="368">
                <a:moveTo>
                  <a:pt x="17" y="0"/>
                </a:moveTo>
                <a:lnTo>
                  <a:pt x="12" y="0"/>
                </a:lnTo>
                <a:lnTo>
                  <a:pt x="7" y="1"/>
                </a:lnTo>
                <a:lnTo>
                  <a:pt x="1" y="7"/>
                </a:lnTo>
                <a:lnTo>
                  <a:pt x="0" y="10"/>
                </a:lnTo>
                <a:lnTo>
                  <a:pt x="0" y="354"/>
                </a:lnTo>
                <a:lnTo>
                  <a:pt x="1" y="359"/>
                </a:lnTo>
                <a:lnTo>
                  <a:pt x="4" y="362"/>
                </a:lnTo>
                <a:lnTo>
                  <a:pt x="7" y="364"/>
                </a:lnTo>
                <a:lnTo>
                  <a:pt x="12" y="365"/>
                </a:lnTo>
                <a:lnTo>
                  <a:pt x="17" y="367"/>
                </a:lnTo>
                <a:lnTo>
                  <a:pt x="1096" y="367"/>
                </a:lnTo>
                <a:lnTo>
                  <a:pt x="1100" y="365"/>
                </a:lnTo>
                <a:lnTo>
                  <a:pt x="1104" y="364"/>
                </a:lnTo>
                <a:lnTo>
                  <a:pt x="1107" y="362"/>
                </a:lnTo>
                <a:lnTo>
                  <a:pt x="1110" y="359"/>
                </a:lnTo>
                <a:lnTo>
                  <a:pt x="1112" y="354"/>
                </a:lnTo>
                <a:lnTo>
                  <a:pt x="1113" y="351"/>
                </a:lnTo>
                <a:lnTo>
                  <a:pt x="1113" y="15"/>
                </a:lnTo>
                <a:lnTo>
                  <a:pt x="1112" y="10"/>
                </a:lnTo>
                <a:lnTo>
                  <a:pt x="1110" y="7"/>
                </a:lnTo>
                <a:lnTo>
                  <a:pt x="1104" y="1"/>
                </a:lnTo>
                <a:lnTo>
                  <a:pt x="1100" y="0"/>
                </a:lnTo>
                <a:lnTo>
                  <a:pt x="1096" y="0"/>
                </a:lnTo>
                <a:lnTo>
                  <a:pt x="17" y="0"/>
                </a:lnTo>
                <a:lnTo>
                  <a:pt x="17" y="30"/>
                </a:lnTo>
                <a:lnTo>
                  <a:pt x="1096" y="30"/>
                </a:lnTo>
                <a:lnTo>
                  <a:pt x="1080" y="15"/>
                </a:lnTo>
                <a:lnTo>
                  <a:pt x="1080" y="351"/>
                </a:lnTo>
                <a:lnTo>
                  <a:pt x="1096" y="336"/>
                </a:lnTo>
                <a:lnTo>
                  <a:pt x="17" y="336"/>
                </a:lnTo>
                <a:lnTo>
                  <a:pt x="33" y="351"/>
                </a:lnTo>
                <a:lnTo>
                  <a:pt x="33" y="15"/>
                </a:lnTo>
                <a:lnTo>
                  <a:pt x="17" y="30"/>
                </a:lnTo>
                <a:lnTo>
                  <a:pt x="1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17880" y="1249200"/>
            <a:ext cx="2463840" cy="567000"/>
          </a:xfrm>
          <a:custGeom>
            <a:avLst/>
            <a:gdLst/>
            <a:ahLst/>
            <a:rect l="l" t="t" r="r" b="b"/>
            <a:pathLst>
              <a:path w="1080" h="287">
                <a:moveTo>
                  <a:pt x="0" y="0"/>
                </a:moveTo>
                <a:lnTo>
                  <a:pt x="0" y="286"/>
                </a:lnTo>
                <a:lnTo>
                  <a:pt x="1079" y="286"/>
                </a:lnTo>
                <a:lnTo>
                  <a:pt x="1079" y="0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978280" y="1219320"/>
            <a:ext cx="2541600" cy="627120"/>
          </a:xfrm>
          <a:custGeom>
            <a:avLst/>
            <a:gdLst/>
            <a:ahLst/>
            <a:rect l="l" t="t" r="r" b="b"/>
            <a:pathLst>
              <a:path w="1114" h="317">
                <a:moveTo>
                  <a:pt x="17" y="0"/>
                </a:moveTo>
                <a:lnTo>
                  <a:pt x="12" y="0"/>
                </a:lnTo>
                <a:lnTo>
                  <a:pt x="7" y="1"/>
                </a:lnTo>
                <a:lnTo>
                  <a:pt x="1" y="7"/>
                </a:lnTo>
                <a:lnTo>
                  <a:pt x="0" y="11"/>
                </a:lnTo>
                <a:lnTo>
                  <a:pt x="0" y="304"/>
                </a:lnTo>
                <a:lnTo>
                  <a:pt x="1" y="309"/>
                </a:lnTo>
                <a:lnTo>
                  <a:pt x="4" y="312"/>
                </a:lnTo>
                <a:lnTo>
                  <a:pt x="7" y="313"/>
                </a:lnTo>
                <a:lnTo>
                  <a:pt x="12" y="315"/>
                </a:lnTo>
                <a:lnTo>
                  <a:pt x="17" y="316"/>
                </a:lnTo>
                <a:lnTo>
                  <a:pt x="1096" y="316"/>
                </a:lnTo>
                <a:lnTo>
                  <a:pt x="1100" y="315"/>
                </a:lnTo>
                <a:lnTo>
                  <a:pt x="1104" y="313"/>
                </a:lnTo>
                <a:lnTo>
                  <a:pt x="1107" y="312"/>
                </a:lnTo>
                <a:lnTo>
                  <a:pt x="1110" y="309"/>
                </a:lnTo>
                <a:lnTo>
                  <a:pt x="1112" y="304"/>
                </a:lnTo>
                <a:lnTo>
                  <a:pt x="1113" y="301"/>
                </a:lnTo>
                <a:lnTo>
                  <a:pt x="1113" y="15"/>
                </a:lnTo>
                <a:lnTo>
                  <a:pt x="1112" y="11"/>
                </a:lnTo>
                <a:lnTo>
                  <a:pt x="1110" y="7"/>
                </a:lnTo>
                <a:lnTo>
                  <a:pt x="1104" y="1"/>
                </a:lnTo>
                <a:lnTo>
                  <a:pt x="1100" y="0"/>
                </a:lnTo>
                <a:lnTo>
                  <a:pt x="1096" y="0"/>
                </a:lnTo>
                <a:lnTo>
                  <a:pt x="17" y="0"/>
                </a:lnTo>
                <a:lnTo>
                  <a:pt x="17" y="29"/>
                </a:lnTo>
                <a:lnTo>
                  <a:pt x="1096" y="29"/>
                </a:lnTo>
                <a:lnTo>
                  <a:pt x="1080" y="15"/>
                </a:lnTo>
                <a:lnTo>
                  <a:pt x="1080" y="301"/>
                </a:lnTo>
                <a:lnTo>
                  <a:pt x="1096" y="287"/>
                </a:lnTo>
                <a:lnTo>
                  <a:pt x="17" y="287"/>
                </a:lnTo>
                <a:lnTo>
                  <a:pt x="33" y="301"/>
                </a:lnTo>
                <a:lnTo>
                  <a:pt x="33" y="15"/>
                </a:lnTo>
                <a:lnTo>
                  <a:pt x="17" y="29"/>
                </a:lnTo>
                <a:lnTo>
                  <a:pt x="1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049200" y="1371600"/>
            <a:ext cx="2320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Acomp. e Supervisão de Pro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676520" y="3124080"/>
            <a:ext cx="2361960" cy="609840"/>
          </a:xfrm>
          <a:custGeom>
            <a:avLst/>
            <a:gdLst/>
            <a:ahLst/>
            <a:rect l="l" t="t" r="r" b="b"/>
            <a:pathLst>
              <a:path w="652" h="239">
                <a:moveTo>
                  <a:pt x="0" y="0"/>
                </a:moveTo>
                <a:lnTo>
                  <a:pt x="0" y="238"/>
                </a:lnTo>
                <a:lnTo>
                  <a:pt x="651" y="238"/>
                </a:lnTo>
                <a:lnTo>
                  <a:pt x="651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678680" y="3048120"/>
            <a:ext cx="22334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Um gerente é designado pa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acompanhar as atividades 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Resultados do proj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600200" y="5486400"/>
            <a:ext cx="2514600" cy="609480"/>
          </a:xfrm>
          <a:custGeom>
            <a:avLst/>
            <a:gdLst/>
            <a:ahLst/>
            <a:rect l="l" t="t" r="r" b="b"/>
            <a:pathLst>
              <a:path w="781" h="239">
                <a:moveTo>
                  <a:pt x="0" y="0"/>
                </a:moveTo>
                <a:lnTo>
                  <a:pt x="0" y="238"/>
                </a:lnTo>
                <a:lnTo>
                  <a:pt x="780" y="238"/>
                </a:lnTo>
                <a:lnTo>
                  <a:pt x="78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523880" y="5486400"/>
            <a:ext cx="26672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Medições sobre a Ativ. De Acom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Do Projeto (ex: mudanças ocorridas nos planos)  exi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2997720" y="4114800"/>
            <a:ext cx="2443680" cy="990720"/>
            <a:chOff x="2997720" y="4114800"/>
            <a:chExt cx="2443680" cy="990720"/>
          </a:xfrm>
        </p:grpSpPr>
        <p:sp>
          <p:nvSpPr>
            <p:cNvPr id="1894" name=""/>
            <p:cNvSpPr/>
            <p:nvPr/>
          </p:nvSpPr>
          <p:spPr>
            <a:xfrm>
              <a:off x="3047760" y="4114800"/>
              <a:ext cx="2361960" cy="990720"/>
            </a:xfrm>
            <a:custGeom>
              <a:avLst/>
              <a:gdLst/>
              <a:ahLst/>
              <a:rect l="l" t="t" r="r" b="b"/>
              <a:pathLst>
                <a:path w="541" h="239">
                  <a:moveTo>
                    <a:pt x="0" y="0"/>
                  </a:moveTo>
                  <a:lnTo>
                    <a:pt x="0" y="238"/>
                  </a:lnTo>
                  <a:lnTo>
                    <a:pt x="540" y="238"/>
                  </a:lnTo>
                  <a:lnTo>
                    <a:pt x="54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97720" y="4267080"/>
              <a:ext cx="24436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0000"/>
                  </a:solidFill>
                  <a:latin typeface="Times New Roman"/>
                </a:rPr>
                <a:t>O plano é UTILIZADO para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0000"/>
                  </a:solidFill>
                  <a:latin typeface="Times New Roman"/>
                </a:rPr>
                <a:t>acompanhar as atividades 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0000"/>
                  </a:solidFill>
                  <a:latin typeface="Times New Roman"/>
                </a:rPr>
                <a:t>comunicar a situação do projet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6" name=""/>
          <p:cNvSpPr/>
          <p:nvPr/>
        </p:nvSpPr>
        <p:spPr>
          <a:xfrm>
            <a:off x="1484280" y="2503440"/>
            <a:ext cx="5532480" cy="474840"/>
          </a:xfrm>
          <a:custGeom>
            <a:avLst/>
            <a:gdLst/>
            <a:ahLst/>
            <a:rect l="l" t="t" r="r" b="b"/>
            <a:pathLst>
              <a:path w="2425" h="240">
                <a:moveTo>
                  <a:pt x="0" y="0"/>
                </a:moveTo>
                <a:lnTo>
                  <a:pt x="0" y="239"/>
                </a:lnTo>
                <a:lnTo>
                  <a:pt x="2424" y="239"/>
                </a:lnTo>
                <a:lnTo>
                  <a:pt x="2424" y="0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447920" y="2473200"/>
            <a:ext cx="5607000" cy="534960"/>
          </a:xfrm>
          <a:custGeom>
            <a:avLst/>
            <a:gdLst/>
            <a:ahLst/>
            <a:rect l="l" t="t" r="r" b="b"/>
            <a:pathLst>
              <a:path w="2458" h="270">
                <a:moveTo>
                  <a:pt x="16" y="0"/>
                </a:moveTo>
                <a:lnTo>
                  <a:pt x="12" y="0"/>
                </a:lnTo>
                <a:lnTo>
                  <a:pt x="7" y="2"/>
                </a:lnTo>
                <a:lnTo>
                  <a:pt x="1" y="8"/>
                </a:lnTo>
                <a:lnTo>
                  <a:pt x="0" y="11"/>
                </a:lnTo>
                <a:lnTo>
                  <a:pt x="0" y="257"/>
                </a:lnTo>
                <a:lnTo>
                  <a:pt x="1" y="261"/>
                </a:lnTo>
                <a:lnTo>
                  <a:pt x="4" y="264"/>
                </a:lnTo>
                <a:lnTo>
                  <a:pt x="7" y="266"/>
                </a:lnTo>
                <a:lnTo>
                  <a:pt x="12" y="267"/>
                </a:lnTo>
                <a:lnTo>
                  <a:pt x="16" y="269"/>
                </a:lnTo>
                <a:lnTo>
                  <a:pt x="2440" y="269"/>
                </a:lnTo>
                <a:lnTo>
                  <a:pt x="2443" y="267"/>
                </a:lnTo>
                <a:lnTo>
                  <a:pt x="2448" y="266"/>
                </a:lnTo>
                <a:lnTo>
                  <a:pt x="2451" y="264"/>
                </a:lnTo>
                <a:lnTo>
                  <a:pt x="2454" y="261"/>
                </a:lnTo>
                <a:lnTo>
                  <a:pt x="2456" y="257"/>
                </a:lnTo>
                <a:lnTo>
                  <a:pt x="2457" y="254"/>
                </a:lnTo>
                <a:lnTo>
                  <a:pt x="2457" y="15"/>
                </a:lnTo>
                <a:lnTo>
                  <a:pt x="2456" y="11"/>
                </a:lnTo>
                <a:lnTo>
                  <a:pt x="2454" y="8"/>
                </a:lnTo>
                <a:lnTo>
                  <a:pt x="2448" y="2"/>
                </a:lnTo>
                <a:lnTo>
                  <a:pt x="2443" y="0"/>
                </a:lnTo>
                <a:lnTo>
                  <a:pt x="2440" y="0"/>
                </a:lnTo>
                <a:lnTo>
                  <a:pt x="16" y="0"/>
                </a:lnTo>
                <a:lnTo>
                  <a:pt x="16" y="30"/>
                </a:lnTo>
                <a:lnTo>
                  <a:pt x="2440" y="30"/>
                </a:lnTo>
                <a:lnTo>
                  <a:pt x="2423" y="15"/>
                </a:lnTo>
                <a:lnTo>
                  <a:pt x="2423" y="254"/>
                </a:lnTo>
                <a:lnTo>
                  <a:pt x="2440" y="239"/>
                </a:lnTo>
                <a:lnTo>
                  <a:pt x="16" y="239"/>
                </a:lnTo>
                <a:lnTo>
                  <a:pt x="33" y="254"/>
                </a:lnTo>
                <a:lnTo>
                  <a:pt x="33" y="15"/>
                </a:lnTo>
                <a:lnTo>
                  <a:pt x="16" y="30"/>
                </a:lnTo>
                <a:lnTo>
                  <a:pt x="16" y="0"/>
                </a:lnTo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484280" y="1827360"/>
            <a:ext cx="5532480" cy="666720"/>
          </a:xfrm>
          <a:custGeom>
            <a:avLst/>
            <a:gdLst/>
            <a:ahLst/>
            <a:rect l="l" t="t" r="r" b="b"/>
            <a:pathLst>
              <a:path w="2425" h="337">
                <a:moveTo>
                  <a:pt x="0" y="336"/>
                </a:moveTo>
                <a:lnTo>
                  <a:pt x="671" y="0"/>
                </a:lnTo>
                <a:lnTo>
                  <a:pt x="1753" y="0"/>
                </a:lnTo>
                <a:lnTo>
                  <a:pt x="2424" y="336"/>
                </a:lnTo>
                <a:lnTo>
                  <a:pt x="0" y="33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447920" y="1797120"/>
            <a:ext cx="5607000" cy="728640"/>
          </a:xfrm>
          <a:custGeom>
            <a:avLst/>
            <a:gdLst/>
            <a:ahLst/>
            <a:rect l="l" t="t" r="r" b="b"/>
            <a:pathLst>
              <a:path w="2458" h="368">
                <a:moveTo>
                  <a:pt x="16" y="336"/>
                </a:moveTo>
                <a:lnTo>
                  <a:pt x="24" y="364"/>
                </a:lnTo>
                <a:lnTo>
                  <a:pt x="695" y="27"/>
                </a:lnTo>
                <a:lnTo>
                  <a:pt x="687" y="30"/>
                </a:lnTo>
                <a:lnTo>
                  <a:pt x="1769" y="30"/>
                </a:lnTo>
                <a:lnTo>
                  <a:pt x="1760" y="27"/>
                </a:lnTo>
                <a:lnTo>
                  <a:pt x="2431" y="364"/>
                </a:lnTo>
                <a:lnTo>
                  <a:pt x="2440" y="336"/>
                </a:lnTo>
                <a:lnTo>
                  <a:pt x="16" y="336"/>
                </a:lnTo>
                <a:lnTo>
                  <a:pt x="16" y="367"/>
                </a:lnTo>
                <a:lnTo>
                  <a:pt x="2440" y="367"/>
                </a:lnTo>
                <a:lnTo>
                  <a:pt x="2445" y="365"/>
                </a:lnTo>
                <a:lnTo>
                  <a:pt x="2448" y="364"/>
                </a:lnTo>
                <a:lnTo>
                  <a:pt x="2452" y="362"/>
                </a:lnTo>
                <a:lnTo>
                  <a:pt x="2454" y="359"/>
                </a:lnTo>
                <a:lnTo>
                  <a:pt x="2456" y="354"/>
                </a:lnTo>
                <a:lnTo>
                  <a:pt x="2457" y="350"/>
                </a:lnTo>
                <a:lnTo>
                  <a:pt x="2456" y="347"/>
                </a:lnTo>
                <a:lnTo>
                  <a:pt x="2454" y="344"/>
                </a:lnTo>
                <a:lnTo>
                  <a:pt x="2451" y="339"/>
                </a:lnTo>
                <a:lnTo>
                  <a:pt x="2448" y="338"/>
                </a:lnTo>
                <a:lnTo>
                  <a:pt x="1777" y="1"/>
                </a:lnTo>
                <a:lnTo>
                  <a:pt x="1773" y="0"/>
                </a:lnTo>
                <a:lnTo>
                  <a:pt x="683" y="0"/>
                </a:lnTo>
                <a:lnTo>
                  <a:pt x="678" y="1"/>
                </a:lnTo>
                <a:lnTo>
                  <a:pt x="7" y="338"/>
                </a:lnTo>
                <a:lnTo>
                  <a:pt x="1" y="344"/>
                </a:lnTo>
                <a:lnTo>
                  <a:pt x="0" y="347"/>
                </a:lnTo>
                <a:lnTo>
                  <a:pt x="0" y="354"/>
                </a:lnTo>
                <a:lnTo>
                  <a:pt x="1" y="359"/>
                </a:lnTo>
                <a:lnTo>
                  <a:pt x="4" y="362"/>
                </a:lnTo>
                <a:lnTo>
                  <a:pt x="7" y="364"/>
                </a:lnTo>
                <a:lnTo>
                  <a:pt x="12" y="365"/>
                </a:lnTo>
                <a:lnTo>
                  <a:pt x="16" y="367"/>
                </a:lnTo>
                <a:lnTo>
                  <a:pt x="16" y="33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672280" y="1981080"/>
            <a:ext cx="333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O desempenho do projeto é acompanhado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em relação ao que foi previamente planej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495680" y="3124080"/>
            <a:ext cx="2362320" cy="609840"/>
          </a:xfrm>
          <a:custGeom>
            <a:avLst/>
            <a:gdLst/>
            <a:ahLst/>
            <a:rect l="l" t="t" r="r" b="b"/>
            <a:pathLst>
              <a:path w="652" h="239">
                <a:moveTo>
                  <a:pt x="0" y="0"/>
                </a:moveTo>
                <a:lnTo>
                  <a:pt x="0" y="238"/>
                </a:lnTo>
                <a:lnTo>
                  <a:pt x="651" y="238"/>
                </a:lnTo>
                <a:lnTo>
                  <a:pt x="651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576320" y="3124080"/>
            <a:ext cx="2320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Existe um Plano document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e aprovado para o proj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4419720" y="5486400"/>
            <a:ext cx="2514600" cy="609480"/>
          </a:xfrm>
          <a:custGeom>
            <a:avLst/>
            <a:gdLst/>
            <a:ahLst/>
            <a:rect l="l" t="t" r="r" b="b"/>
            <a:pathLst>
              <a:path w="781" h="239">
                <a:moveTo>
                  <a:pt x="0" y="0"/>
                </a:moveTo>
                <a:lnTo>
                  <a:pt x="0" y="238"/>
                </a:lnTo>
                <a:lnTo>
                  <a:pt x="780" y="238"/>
                </a:lnTo>
                <a:lnTo>
                  <a:pt x="78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347000" y="5486400"/>
            <a:ext cx="26722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São realizadas reuniões periódic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E eventuais com a alta direção 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Com a gerência do projeto e equi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fffff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Aplicação do Modelo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/>
          </p:nvPr>
        </p:nvSpPr>
        <p:spPr>
          <a:xfrm>
            <a:off x="761760" y="213372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ermite selecionar fornecedores com base em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critérios objetivo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elecionar fornecedores com base em sua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performance passad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não é, muitas vezes, adequado. A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capacidad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de desenvolvimento de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projetos futuro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é um ponto crític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Incentiv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os fornecedores a melhorar continuamente (monitoramento de processos), e a adotar padrões internacionais de qualidad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57200" y="838080"/>
            <a:ext cx="8434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ff"/>
                </a:solidFill>
                <a:latin typeface="Century Schoolbook"/>
              </a:rPr>
              <a:t>1-Empresas/Grupos Contratantes (Seleção de Fornecedor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/>
          </p:nvPr>
        </p:nvSpPr>
        <p:spPr>
          <a:xfrm>
            <a:off x="761760" y="213372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evisibilidade e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visibilidade gerencial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são obtid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strução de ‘centros internacionais de excelência’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ssibilidade de se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comparar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divisões, grupos, equipes e até países diferentes – competição interna salut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enchmark interno –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troc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de melhores experiências ou experiências complementa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712080" y="1143000"/>
            <a:ext cx="7546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ff"/>
                </a:solidFill>
                <a:latin typeface="Century Schoolbook"/>
              </a:rPr>
              <a:t>2 - Melhoria Interna nas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fffff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5280" y="58320"/>
            <a:ext cx="73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7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istórico e princípios do CM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cinco níveis de maturida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áreas-chave de proces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estrutura do mode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 do model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lhoria interna da qualidade dos process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leção de forneced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nitoramento de forneced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tapas para implantação de um programa de melhori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/>
          </p:nvPr>
        </p:nvSpPr>
        <p:spPr>
          <a:xfrm>
            <a:off x="761760" y="213372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fetivo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‘diferencial competitivo’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Decisões de negócio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aceitar, recusar, renegociar) feitas com visibilidade gerencial crescen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bertura de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novos mercado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poio a marketing /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comercia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udanças estratégic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odos os benefícios da ‘melhoria interna’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571680" y="990720"/>
            <a:ext cx="80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ff"/>
                </a:solidFill>
                <a:latin typeface="Century Schoolbook"/>
              </a:rPr>
              <a:t>3- Empresas Prestadoras de Serviç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efefe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entury Schoolbook"/>
              </a:rPr>
              <a:t>Etapas da Implantação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/>
          </p:nvPr>
        </p:nvSpPr>
        <p:spPr>
          <a:xfrm>
            <a:off x="739440" y="1447920"/>
            <a:ext cx="8404200" cy="50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- Etapas da Implant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dentificar os reais objetivos de negóci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Treinamento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MM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iagnóstico -1 : situação at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laboração do plano de implement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nsultoria de acompanham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iagnóstico - 2: monitoramento do proces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laboração do plano de ajustes fina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Treinamento no método de avaliaçã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valiação for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1905120" y="152280"/>
            <a:ext cx="7772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ff"/>
                </a:solidFill>
                <a:latin typeface="Times New Roman"/>
              </a:rPr>
              <a:t>Implantação de um programa de qualidade com base no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CMM</a:t>
            </a:r>
            <a:r>
              <a:rPr b="1" i="1" lang="en-US" sz="20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9" name=""/>
          <p:cNvGraphicFramePr/>
          <p:nvPr/>
        </p:nvGraphicFramePr>
        <p:xfrm>
          <a:off x="3741840" y="1554120"/>
          <a:ext cx="5614920" cy="18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1554120"/>
                    <a:ext cx="561492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"/>
          <p:cNvSpPr/>
          <p:nvPr/>
        </p:nvSpPr>
        <p:spPr>
          <a:xfrm>
            <a:off x="457200" y="1335240"/>
            <a:ext cx="800100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Script"/>
              </a:rPr>
              <a:t>Melhorar continuamente não é necessário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Script"/>
              </a:rPr>
              <a:t>Afinal, sobreviver não é obrigatóri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i="1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i="1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i="1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i="1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i="1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i="1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i="1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i="1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i="1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0" i="1" lang="pt-BR" sz="2800" spc="-1" strike="noStrike">
                <a:solidFill>
                  <a:srgbClr val="0000ff"/>
                </a:solidFill>
                <a:latin typeface="Script"/>
              </a:rPr>
              <a:t>Edward D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Scrip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/>
          <p:nvPr/>
        </p:nvSpPr>
        <p:spPr>
          <a:xfrm>
            <a:off x="457200" y="2276640"/>
            <a:ext cx="8458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so de Modelos CMM e CMMI para Melhoria de Processos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3" name=""/>
          <p:cNvGraphicFramePr/>
          <p:nvPr/>
        </p:nvGraphicFramePr>
        <p:xfrm>
          <a:off x="2895480" y="3660840"/>
          <a:ext cx="335304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60840"/>
                    <a:ext cx="33530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5" name=""/>
          <p:cNvSpPr/>
          <p:nvPr/>
        </p:nvSpPr>
        <p:spPr>
          <a:xfrm>
            <a:off x="1835280" y="0"/>
            <a:ext cx="3743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4360" y="907920"/>
            <a:ext cx="48243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Conferenc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je, 15h-16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7" name=""/>
          <p:cNvGrpSpPr/>
          <p:nvPr/>
        </p:nvGrpSpPr>
        <p:grpSpPr>
          <a:xfrm>
            <a:off x="0" y="0"/>
            <a:ext cx="9142560" cy="76320"/>
            <a:chOff x="0" y="0"/>
            <a:chExt cx="9142560" cy="76320"/>
          </a:xfrm>
        </p:grpSpPr>
        <p:sp>
          <p:nvSpPr>
            <p:cNvPr id="1928" name=""/>
            <p:cNvSpPr/>
            <p:nvPr/>
          </p:nvSpPr>
          <p:spPr>
            <a:xfrm>
              <a:off x="0" y="76320"/>
              <a:ext cx="914256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0" y="0"/>
              <a:ext cx="91425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0" name=""/>
          <p:cNvGrpSpPr/>
          <p:nvPr/>
        </p:nvGrpSpPr>
        <p:grpSpPr>
          <a:xfrm>
            <a:off x="9067680" y="0"/>
            <a:ext cx="76320" cy="6858000"/>
            <a:chOff x="9067680" y="0"/>
            <a:chExt cx="76320" cy="6858000"/>
          </a:xfrm>
        </p:grpSpPr>
        <p:sp>
          <p:nvSpPr>
            <p:cNvPr id="1931" name=""/>
            <p:cNvSpPr/>
            <p:nvPr/>
          </p:nvSpPr>
          <p:spPr>
            <a:xfrm>
              <a:off x="9067680" y="0"/>
              <a:ext cx="0" cy="685800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0" y="0"/>
            <a:ext cx="76320" cy="6858000"/>
            <a:chOff x="0" y="0"/>
            <a:chExt cx="76320" cy="6858000"/>
          </a:xfrm>
        </p:grpSpPr>
        <p:sp>
          <p:nvSpPr>
            <p:cNvPr id="1934" name=""/>
            <p:cNvSpPr/>
            <p:nvPr/>
          </p:nvSpPr>
          <p:spPr>
            <a:xfrm>
              <a:off x="76320" y="0"/>
              <a:ext cx="0" cy="685800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6" name=""/>
          <p:cNvGrpSpPr/>
          <p:nvPr/>
        </p:nvGrpSpPr>
        <p:grpSpPr>
          <a:xfrm>
            <a:off x="1440" y="6781680"/>
            <a:ext cx="9142560" cy="76320"/>
            <a:chOff x="1440" y="6781680"/>
            <a:chExt cx="9142560" cy="76320"/>
          </a:xfrm>
        </p:grpSpPr>
        <p:sp>
          <p:nvSpPr>
            <p:cNvPr id="1937" name=""/>
            <p:cNvSpPr/>
            <p:nvPr/>
          </p:nvSpPr>
          <p:spPr>
            <a:xfrm>
              <a:off x="1440" y="6781680"/>
              <a:ext cx="914256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440" y="6858000"/>
              <a:ext cx="91425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9" name=""/>
          <p:cNvSpPr/>
          <p:nvPr/>
        </p:nvSpPr>
        <p:spPr>
          <a:xfrm>
            <a:off x="988560" y="1628640"/>
            <a:ext cx="73497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rimeira consultoria internacional, atuando na América do Su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cada exclusivamente em qualidade de processos com ênf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CMM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 credenciais do SEI – Software Engineering Institut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06400" y="2492280"/>
            <a:ext cx="2322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Times New Roman"/>
              </a:rPr>
              <a:t>www.isdbrasil.com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752480" y="5084640"/>
            <a:ext cx="54705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600"/>
                </a:solidFill>
                <a:latin typeface="Arial"/>
              </a:rPr>
              <a:t>SERVIÇOS PRINCIP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DEFINIÇÃO E ESTRATÉGICA DE PROGRAMAS DE MELH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TREIN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CONSULTORIA DE IMPLEMENT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AVALIAÇÕES OFICI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ff"/>
                </a:solidFill>
                <a:latin typeface="Arial"/>
              </a:rPr>
              <a:t>INFO@ISDBRASIL.COM.B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2" name=""/>
          <p:cNvGraphicFramePr/>
          <p:nvPr/>
        </p:nvGraphicFramePr>
        <p:xfrm>
          <a:off x="2743200" y="228600"/>
          <a:ext cx="327672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327672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4" name=""/>
          <p:cNvSpPr/>
          <p:nvPr/>
        </p:nvSpPr>
        <p:spPr>
          <a:xfrm>
            <a:off x="1042920" y="2997360"/>
            <a:ext cx="446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ão Pa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venida Cidade Jardim, 400 7o anda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difício Da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el: (11) 3818-8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tor Comercial Norte, Quadra 2, Bloco A, 5o a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difício  Corporate Financial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el: (61) 329-6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5076720" y="2997360"/>
            <a:ext cx="34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Integrated System Diagnostic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ssachussets Corporate Head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89, Shore 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casset, 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el: (508) 564-56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ff"/>
                </a:solidFill>
                <a:uFillTx/>
                <a:latin typeface="Arial"/>
              </a:rPr>
              <a:t>www.isd-inc.com</a:t>
            </a:r>
            <a:r>
              <a:rPr b="0" i="1" lang="pt-BR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fffff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Histórico e Princípio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14ffb"/>
                </a:solidFill>
                <a:latin typeface="Century Schoolbook"/>
              </a:rPr>
              <a:t>Histór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907920"/>
            <a:ext cx="8424720" cy="41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438e00"/>
                </a:solidFill>
                <a:uFillTx/>
                <a:latin typeface="Arial"/>
              </a:rPr>
              <a:t>O problema do governo americ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Uma revisão não publicada dos 17 maiores contratos de desenvolvimento de software do Departamento de defesa dos EUA (DOD) encontrara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en-US" sz="2200" spc="-1" strike="noStrike">
                <a:solidFill>
                  <a:srgbClr val="0000ff"/>
                </a:solidFill>
                <a:latin typeface="Arial Narrow"/>
              </a:rPr>
              <a:t>os prazos (de em média 28 meses) eram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ultrapassados </a:t>
            </a:r>
            <a:r>
              <a:rPr b="1" lang="en-US" sz="2200" spc="-1" strike="noStrike">
                <a:solidFill>
                  <a:srgbClr val="0000ff"/>
                </a:solidFill>
                <a:latin typeface="Arial Narrow"/>
              </a:rPr>
              <a:t>em 20 me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Narrow"/>
              </a:rPr>
              <a:t>- um projeto de 4 anos não foi entregue em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7</a:t>
            </a:r>
            <a:r>
              <a:rPr b="1" lang="en-US" sz="2200" spc="-1" strike="noStrike">
                <a:solidFill>
                  <a:srgbClr val="0000ff"/>
                </a:solidFill>
                <a:latin typeface="Arial Narrow"/>
              </a:rPr>
              <a:t> a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Narrow"/>
              </a:rPr>
              <a:t>-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nenhum</a:t>
            </a:r>
            <a:r>
              <a:rPr b="1" lang="en-US" sz="2200" spc="-1" strike="noStrike">
                <a:solidFill>
                  <a:srgbClr val="0000ff"/>
                </a:solidFill>
                <a:latin typeface="Arial Narrow"/>
              </a:rPr>
              <a:t> projeto estava no pra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Narrow"/>
              </a:rPr>
              <a:t>- o programa da aeronave A12, de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58 Bilhões </a:t>
            </a:r>
            <a:r>
              <a:rPr b="1" lang="en-US" sz="2200" spc="-1" strike="noStrike">
                <a:solidFill>
                  <a:srgbClr val="0000ff"/>
                </a:solidFill>
                <a:latin typeface="Arial Narrow"/>
              </a:rPr>
              <a:t>de dólares, foi cancelado em parte por problemas de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1066680"/>
            <a:ext cx="7402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 u="sng">
                <a:solidFill>
                  <a:srgbClr val="ff0000"/>
                </a:solidFill>
                <a:uFillTx/>
                <a:latin typeface="Century Schoolbook"/>
              </a:rPr>
              <a:t>Conclusões de um grupo de trabalho que investigou a ‘crise do software’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457360"/>
            <a:ext cx="741852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pt-BR" sz="2600" spc="-1" strike="noStrike">
                <a:solidFill>
                  <a:srgbClr val="000000"/>
                </a:solidFill>
                <a:latin typeface="Arial Narrow"/>
              </a:rPr>
              <a:t>Poucos campos do conhecimento têm uma lacuna t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 Narrow"/>
              </a:rPr>
              <a:t>grande entre as melhores práticas correntes e a méd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 Narrow"/>
              </a:rPr>
              <a:t>das práticas correntes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160880"/>
            <a:ext cx="8210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114ffb"/>
                </a:solidFill>
                <a:latin typeface="Arial Narrow"/>
              </a:rPr>
              <a:t>“</a:t>
            </a:r>
            <a:r>
              <a:rPr b="1" lang="pt-BR" sz="2600" spc="-1" strike="noStrike">
                <a:solidFill>
                  <a:srgbClr val="114ffb"/>
                </a:solidFill>
                <a:latin typeface="Arial Narrow"/>
              </a:rPr>
              <a:t>Os maiores problemas com o desenvolvimento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114ffb"/>
                </a:solidFill>
                <a:latin typeface="Arial Narrow"/>
              </a:rPr>
              <a:t>software não são técnicos, mas sim gerenciai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6600" y="6019920"/>
            <a:ext cx="27259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EUA Department of Defen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0"/>
            <a:ext cx="7380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14ffb"/>
                </a:solidFill>
                <a:latin typeface="Century Schoolbook"/>
              </a:rPr>
              <a:t>Histór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38080" y="990720"/>
          <a:ext cx="77724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7724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384600" y="2146320"/>
            <a:ext cx="1850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990720"/>
          <a:ext cx="7772400" cy="49528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990720"/>
                    <a:ext cx="77724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536880" y="2298600"/>
            <a:ext cx="1850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0"/>
            <a:ext cx="7380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14ffb"/>
                </a:solidFill>
                <a:latin typeface="Century Schoolbook"/>
              </a:rPr>
              <a:t>Histór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70120" y="1052640"/>
            <a:ext cx="694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onhecimento do Processo Cor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3880" y="2165400"/>
            <a:ext cx="763416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 efetivo programa de mudanças requer um entendimento do atual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status qu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vérbio Chinê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Se você não sabe onde está indo, nenhuma rodovia saberá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vérbio de W. Humphre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Se você não sabe onde está, um mapa não te ajudará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0"/>
            <a:ext cx="7380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14ffb"/>
                </a:solidFill>
                <a:latin typeface="Century Schoolbook"/>
              </a:rPr>
              <a:t>Princípi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9T14:28:08Z</dcterms:created>
  <dc:creator>ISD BRASIL - Caram</dc:creator>
  <dc:description/>
  <cp:keywords>SEI CMM SCE BENEFICIOS ESTATIST.</cp:keywords>
  <dc:language>en-US</dc:language>
  <cp:lastModifiedBy>Thayssa Águila da Rocha</cp:lastModifiedBy>
  <dcterms:modified xsi:type="dcterms:W3CDTF">2004-06-14T09:48:22Z</dcterms:modified>
  <cp:revision>113</cp:revision>
  <dc:subject>Apresentacao </dc:subject>
  <dc:title>Qualidade de Software com SW-CMM</dc:title>
</cp:coreProperties>
</file>