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B55B-08B9-48ED-9142-DB79D1AAC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9468-5832-4969-B6C6-A797AF0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8C87-7F29-4BBE-9292-181ABF3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932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2364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932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82364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F617-0EE5-4CC1-AE5D-2E4D14C79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761760"/>
            <a:ext cx="7086600" cy="15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CF6D-4295-4B03-A9D9-8955C5E0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5932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364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5932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82364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C47D-861F-4997-A424-259AB3B8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57CB-E48D-4D9F-8300-3522F06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97CD-B5FD-495E-A64E-4E20FCF7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761760"/>
            <a:ext cx="7086600" cy="15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B818-8076-413D-9DC8-17BD92C7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CC2B-4A16-44A0-8B73-B52D45F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AAD7-FA90-4846-9392-0DC0DCF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B521-685D-4F4E-9EF2-78F201A5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5B71-E140-441E-8C13-C13085B3EE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5821200"/>
          <a:ext cx="2590920" cy="9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21200"/>
                    <a:ext cx="259092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153280" y="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821C-F562-4462-99BE-998FEB91C7D7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077320" y="5880240"/>
            <a:ext cx="8506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410080"/>
          <a:ext cx="3733920" cy="13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37339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7315200" y="495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1A04-BEDF-418B-BF13-1A58F1CEC353}" type="datetime">
              <a:rPr b="0" lang="en-US" sz="1400" spc="-1" strike="noStrike">
                <a:solidFill>
                  <a:srgbClr val="b2b2b2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086600" y="54864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MMI_Seminario.ppt#3. Um pouco de CM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CMMI_Seminario.ppt#3. Um pouco de CMM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M – The Capability Maturit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 V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av@cin.ufpe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70DAF2-4B72-41D7-9875-0FCBAF6E04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é improvisado durante o curs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focados em resolver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s rotineiramente excedem cronogramas e custos porque não são baseados em estimativas re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á uma base objetiva para julgar a qualidade do produto ou solucionar problemas no produto ou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A67B-47C4-477B-948B-563BB642DF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7EDA1-C5ED-4E47-B64A-A5B84641F5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uco entendimento de como o processo afeta a qualidad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ividades de melhoria de qualidade (revisões, testes) frequentemente deixadas de lado quando o cronograma at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cliente tem pouca visibilidad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955E-A3CB-4083-9EF5-09EF0667EB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132EF-D7D1-465F-8F84-E458348A51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uem habilidade organizacional para gerenciar e manter o processo de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de software é conhecido e seguido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cessos são documentados e atualizados/adptados quando necess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péis e responsabilidades dentro do processo estão claros par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3529-EDBD-4AD4-BA3B-16839DDFF0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E815E-AB90-4D33-AE33-F321383E14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gerentes monitoram a qualidade dos produtos e proc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á uma base objetiva e quantitativa para julgar a qualidade e analisar problemas com o produto ou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nogramas e orçamentos são baseados em informações históricas e são re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resultados esperados são, normalmente, alcanç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5386-BE14-469A-82A8-9306F5817B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2ADD8-ED51-433D-A494-5598242D5D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i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madura segue um processo disciplinad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forma consistente por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articipantes entendem o valor de fazê-lo 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infra-estrutura necessária para suportar o processo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50880" y="5084640"/>
            <a:ext cx="124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ol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AD31-2483-4A52-86FD-3D6E2999E5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6BDA1-DE5F-4F72-982E-98C9650E1B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5334120" cy="41911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976120"/>
            <a:ext cx="2390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s com skills, treinamento e moti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68976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imentos e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3280680"/>
            <a:ext cx="2390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ramentas e 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7840" y="27082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4059-ACAB-42AE-8E3D-ABE77DDF29F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1EEE9-477A-4D0C-BEB6-76FB888B8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xTQ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14400"/>
            <a:ext cx="5029200" cy="4648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14300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523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981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819520"/>
            <a:ext cx="2667240" cy="24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X  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581280"/>
            <a:ext cx="152388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20574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120" y="8031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7960" y="2174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800600" y="152352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048120" y="2514600"/>
            <a:ext cx="358128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95480" y="4343400"/>
            <a:ext cx="3810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3653-514A-42DF-9B73-32F5588608A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8B1A6-DE17-49A2-A920-68DD518D00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75E9-3968-434E-B093-912E7E46CBB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30003-F2D7-4CC2-9171-F603DE42CA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175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0" y="48816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1760" y="39672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38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9625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Re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01960" y="30528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8480" y="2138400"/>
            <a:ext cx="212076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7510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2680" y="4876920"/>
            <a:ext cx="121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8160" y="30481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efi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8360" y="21337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240" y="449568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11480" y="35053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3960" y="25909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7840" y="167652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080" y="518148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caó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7080" y="4267080"/>
            <a:ext cx="281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iscipl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7280" y="3352680"/>
            <a:ext cx="281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adronizado e con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2438280"/>
            <a:ext cx="235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revis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8680" y="1147680"/>
            <a:ext cx="2120760" cy="978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9960" y="1447920"/>
            <a:ext cx="205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e melhoria contí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8560" y="1143000"/>
            <a:ext cx="205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Em oti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D0AE-673F-4CFB-B7FA-3B670B43890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AE62E-1B65-4272-BB31-3D3937C29E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1 -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ad hoc – imprevisível e quase sem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dependem de postura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limitada – somente as entradas e os produtos finais podem ser vistos com cla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é uma caixa preta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0C13-0BE2-401D-9181-46B208E6FA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71CCE-007D-4A57-A656-482F0F3939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04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M – Conc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maduras x ima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strutura do modelo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As de nível 2, 3, 4 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A Software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348E-4C60-4F16-82C8-27E8BBE491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C824A-EE18-4904-B4D7-DE87984B8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2 - Re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básicos de gerenciamento de projetos estabelecidos para fazer o “tracking” de custos, cronograma e fun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em determinados pontos –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ência de caixas pretas (taref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as para o gerenciamento de projetos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mento e gerência de novos projetos baseados em experiências adquiridas com projetos similares já re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4612-7D5F-4D72-9CAC-5E378FECE6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AC044-F1DB-441D-A5BE-CE9D490C4C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3 - Defi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documentado, padronizado e integrado em um processo de software padrão para 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rojetos usam uma versão adaptada e aprovada do processo padrão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ções e responsabilidades no processo são entendidas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tarefas não são mais caixas pr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BDF9-1398-4FF8-971F-C45F6BA68B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FB69D-F374-40E6-A628-D083833E8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4 - Gere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de software instrumentalizados e controlados quantita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avaliar quantitativamente o progresso do projeto e a ocorrência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 quantitativa para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prever tendências em processos e em qualidade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8622-008C-479A-8CA1-89A6653FD7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E9AEB-D5D1-40A8-8810-718A9F6DB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5 – Em otim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co na melhoria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estimar e acompanhar quantitativamente o impacto e a efetividade de alterações n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tem meios para identificar fraquezas e fortalecer o processo de forma pró-ativa, prevenindo a ocorrência de def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2578-C0CB-4D68-84D0-98FBF6A2D7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69377-CC10-43BE-83B5-8A32E48985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dade da Ger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3880" y="1424160"/>
            <a:ext cx="5729400" cy="42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7C27-AED9-4C07-8789-096B5A34DC0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0362C-E612-4A09-BAF6-608D511D19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mas informaçõ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a qualidade de software é o maior obstáculo para as organizações que querem atingir o nível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os processos é um dos maiores obstáculos das organizações que querem atingir o nível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organizações gastam em mé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5 meses para sair do nível 1 para o ní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2 meses para passar do nível 2 para 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,5 meses para passar do nível 3 para 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BA45-CE06-40FC-A72E-029488F8AF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9BB00-B1FC-40AB-863E-3975677482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strutura do Modelo C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7F7B-307A-4D5F-9C06-BE6FB325A7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C65C1-A49C-4F17-AE05-1AE79DD64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04920" y="138240"/>
            <a:ext cx="8761320" cy="6484680"/>
            <a:chOff x="304920" y="138240"/>
            <a:chExt cx="8761320" cy="6484680"/>
          </a:xfrm>
        </p:grpSpPr>
        <p:sp>
          <p:nvSpPr>
            <p:cNvPr id="180" name=""/>
            <p:cNvSpPr/>
            <p:nvPr/>
          </p:nvSpPr>
          <p:spPr>
            <a:xfrm>
              <a:off x="8159760" y="3873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3960" y="463680"/>
              <a:ext cx="67320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64480" y="539640"/>
              <a:ext cx="67284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1440" y="6159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0720" y="2057400"/>
              <a:ext cx="716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1828800"/>
              <a:ext cx="71629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2680" y="7635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urit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2680" y="1677960"/>
              <a:ext cx="2282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s (1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2680" y="28209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als (5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360" y="4116240"/>
              <a:ext cx="228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4876920"/>
              <a:ext cx="228276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43200" y="671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2200" y="519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5720" y="4428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91520" y="366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8080" y="13824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MM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82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70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5916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72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11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008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6212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76880" y="166212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14600" y="166212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767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2920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911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9120" y="2603520"/>
              <a:ext cx="6602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514600" y="2597040"/>
              <a:ext cx="685800" cy="596880"/>
              <a:chOff x="2514600" y="2597040"/>
              <a:chExt cx="685800" cy="596880"/>
            </a:xfrm>
          </p:grpSpPr>
          <p:sp>
            <p:nvSpPr>
              <p:cNvPr id="213" name=""/>
              <p:cNvSpPr/>
              <p:nvPr/>
            </p:nvSpPr>
            <p:spPr>
              <a:xfrm>
                <a:off x="2521080" y="259704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1460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460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352680" y="2597040"/>
              <a:ext cx="685800" cy="596880"/>
              <a:chOff x="3352680" y="2597040"/>
              <a:chExt cx="685800" cy="596880"/>
            </a:xfrm>
          </p:grpSpPr>
          <p:sp>
            <p:nvSpPr>
              <p:cNvPr id="218" name=""/>
              <p:cNvSpPr/>
              <p:nvPr/>
            </p:nvSpPr>
            <p:spPr>
              <a:xfrm>
                <a:off x="335916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5268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5268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5268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191120" y="2597040"/>
              <a:ext cx="685800" cy="596880"/>
              <a:chOff x="4191120" y="2597040"/>
              <a:chExt cx="685800" cy="596880"/>
            </a:xfrm>
          </p:grpSpPr>
          <p:sp>
            <p:nvSpPr>
              <p:cNvPr id="223" name=""/>
              <p:cNvSpPr/>
              <p:nvPr/>
            </p:nvSpPr>
            <p:spPr>
              <a:xfrm>
                <a:off x="419724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9112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9112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112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35680" y="25970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92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2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92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0080" y="2597040"/>
              <a:ext cx="67284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514600" y="2901960"/>
              <a:ext cx="685800" cy="596880"/>
              <a:chOff x="2514600" y="2901960"/>
              <a:chExt cx="68580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1080" y="290196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2004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4600" y="33526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943600" y="3200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72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itment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74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ility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56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ties 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40480" y="4116240"/>
              <a:ext cx="182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asurement and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6640" y="4116240"/>
              <a:ext cx="1749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fying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981080" y="1143000"/>
              <a:ext cx="1828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895480" y="1143000"/>
              <a:ext cx="914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7240" y="1143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9880" y="11430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9880" y="1143000"/>
              <a:ext cx="1676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1143000"/>
              <a:ext cx="2438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0196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2160" y="4121280"/>
              <a:ext cx="105408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0360" y="4121280"/>
              <a:ext cx="12063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2148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1680" y="4121280"/>
              <a:ext cx="16635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81080" y="30481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38098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4872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08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92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648320" y="5111640"/>
              <a:ext cx="685800" cy="596880"/>
              <a:chOff x="4648320" y="5111640"/>
              <a:chExt cx="685800" cy="596880"/>
            </a:xfrm>
          </p:grpSpPr>
          <p:sp>
            <p:nvSpPr>
              <p:cNvPr id="271" name=""/>
              <p:cNvSpPr/>
              <p:nvPr/>
            </p:nvSpPr>
            <p:spPr>
              <a:xfrm>
                <a:off x="465444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4832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4832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4832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550280" y="51116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438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43800" y="5410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6880" y="5111640"/>
              <a:ext cx="67284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004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752480" y="5111640"/>
              <a:ext cx="685800" cy="596880"/>
              <a:chOff x="1752480" y="5111640"/>
              <a:chExt cx="685800" cy="596880"/>
            </a:xfrm>
          </p:grpSpPr>
          <p:sp>
            <p:nvSpPr>
              <p:cNvPr id="281" name=""/>
              <p:cNvSpPr/>
              <p:nvPr/>
            </p:nvSpPr>
            <p:spPr>
              <a:xfrm>
                <a:off x="175896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5248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5248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752480" y="5721480"/>
              <a:ext cx="685800" cy="596880"/>
              <a:chOff x="1752480" y="5721480"/>
              <a:chExt cx="68580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1758960" y="572148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52480" y="58672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52480" y="60199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52480" y="6026040"/>
              <a:ext cx="685800" cy="596880"/>
              <a:chOff x="1752480" y="6026040"/>
              <a:chExt cx="685800" cy="596880"/>
            </a:xfrm>
          </p:grpSpPr>
          <p:sp>
            <p:nvSpPr>
              <p:cNvPr id="291" name=""/>
              <p:cNvSpPr/>
              <p:nvPr/>
            </p:nvSpPr>
            <p:spPr>
              <a:xfrm>
                <a:off x="1758960" y="6026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52480" y="6324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52480" y="6477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102360" y="5111640"/>
              <a:ext cx="673200" cy="13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51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290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87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324480" y="990720"/>
              <a:ext cx="2432160" cy="1371600"/>
              <a:chOff x="6324480" y="990720"/>
              <a:chExt cx="2432160" cy="1371600"/>
            </a:xfrm>
          </p:grpSpPr>
          <p:sp>
            <p:nvSpPr>
              <p:cNvPr id="302" name=""/>
              <p:cNvSpPr/>
              <p:nvPr/>
            </p:nvSpPr>
            <p:spPr>
              <a:xfrm>
                <a:off x="6324480" y="1222200"/>
                <a:ext cx="224640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4516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3244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7220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3572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21560" y="1123920"/>
                <a:ext cx="17928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8508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51640" y="1405080"/>
                <a:ext cx="190440" cy="99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39040" y="143352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39040" y="14763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9040" y="15177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802560" y="1398600"/>
                <a:ext cx="215640" cy="155520"/>
                <a:chOff x="6802560" y="1398600"/>
                <a:chExt cx="215640" cy="155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808680" y="139860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802560" y="143352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802560" y="14763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066080" y="1398600"/>
                <a:ext cx="214200" cy="155520"/>
                <a:chOff x="7066080" y="1398600"/>
                <a:chExt cx="214200" cy="155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07220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06608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06608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06608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329600" y="1398600"/>
                <a:ext cx="214200" cy="155520"/>
                <a:chOff x="7329600" y="1398600"/>
                <a:chExt cx="214200" cy="155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33572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2960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32960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32960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7597800" y="1398600"/>
                <a:ext cx="203040" cy="112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91320" y="143352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591320" y="14763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1320" y="15177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85080" y="1398600"/>
                <a:ext cx="201600" cy="19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78600" y="14335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78600" y="14763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78600" y="15177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6802560" y="1482840"/>
                <a:ext cx="215640" cy="155520"/>
                <a:chOff x="6802560" y="1482840"/>
                <a:chExt cx="215640" cy="1555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808680" y="148284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802560" y="156060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02560" y="160344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7878600" y="156060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635880" y="990720"/>
                <a:ext cx="5731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923160" y="990720"/>
                <a:ext cx="2858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160760" y="990720"/>
                <a:ext cx="4788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09000" y="990720"/>
                <a:ext cx="2156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209000" y="990720"/>
                <a:ext cx="5270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09000" y="990720"/>
                <a:ext cx="76500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3588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2316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11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2464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119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7400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929280" y="1819440"/>
                <a:ext cx="43992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431120" y="1819440"/>
                <a:ext cx="3207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99080" y="1819440"/>
                <a:ext cx="36828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1380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35880" y="1517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62800" y="1728720"/>
                <a:ext cx="19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475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0215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913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89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6280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472520" y="2095560"/>
                <a:ext cx="214200" cy="155520"/>
                <a:chOff x="7472520" y="2095560"/>
                <a:chExt cx="214200" cy="1555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478640" y="209556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472520" y="2130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72520" y="21733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72520" y="22129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8386920" y="2095560"/>
                <a:ext cx="20160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80440" y="213048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80440" y="217332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24680" y="2095560"/>
                <a:ext cx="20160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18200" y="213048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6562800" y="2095560"/>
                <a:ext cx="216000" cy="155520"/>
                <a:chOff x="6562800" y="2095560"/>
                <a:chExt cx="216000" cy="155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568920" y="209556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62800" y="213048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62800" y="21733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562800" y="22129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7932600" y="2095560"/>
                <a:ext cx="203400" cy="2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89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913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215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475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1528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45360" y="914400"/>
              <a:ext cx="1816200" cy="1289160"/>
              <a:chOff x="7245360" y="914400"/>
              <a:chExt cx="1816200" cy="1289160"/>
            </a:xfrm>
          </p:grpSpPr>
          <p:sp>
            <p:nvSpPr>
              <p:cNvPr id="389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05800" y="1050840"/>
                <a:ext cx="1429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18560" y="1050840"/>
                <a:ext cx="1411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7699320" y="1330200"/>
                <a:ext cx="173160" cy="160560"/>
                <a:chOff x="7699320" y="1330200"/>
                <a:chExt cx="173160" cy="160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70580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69932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69932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9932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7912080" y="1330200"/>
                <a:ext cx="173160" cy="160560"/>
                <a:chOff x="7912080" y="1330200"/>
                <a:chExt cx="173160" cy="1605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91856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1208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1208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1208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 flipH="1">
                <a:off x="7778520" y="914400"/>
                <a:ext cx="378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16680" y="914400"/>
                <a:ext cx="1731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7888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8984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91320" y="1760400"/>
                <a:ext cx="3510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96320" y="1760400"/>
                <a:ext cx="2570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45360" y="1760400"/>
                <a:ext cx="2952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304120" y="1760400"/>
                <a:ext cx="3542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791480" y="150984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96120" y="1670040"/>
                <a:ext cx="154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376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4726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34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198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9612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8026560" y="2043000"/>
                <a:ext cx="172800" cy="160560"/>
                <a:chOff x="8026560" y="2043000"/>
                <a:chExt cx="172800" cy="1605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8032680" y="2043000"/>
                  <a:ext cx="16056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26560" y="207792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026560" y="212076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026560" y="216540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8766000" y="2043000"/>
                <a:ext cx="158760" cy="11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75988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759880" y="212076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69080" y="2043000"/>
                <a:ext cx="158760" cy="7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6296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296120" y="2043000"/>
                <a:ext cx="173160" cy="160560"/>
                <a:chOff x="7296120" y="2043000"/>
                <a:chExt cx="173160" cy="160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302600" y="20430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96120" y="20779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296120" y="212076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96120" y="21654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8399520" y="2043000"/>
                <a:ext cx="160200" cy="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198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234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726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8376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709120" y="1760400"/>
                <a:ext cx="3524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8007480" y="914400"/>
              <a:ext cx="1054080" cy="907920"/>
              <a:chOff x="8007480" y="914400"/>
              <a:chExt cx="1054080" cy="907920"/>
            </a:xfrm>
          </p:grpSpPr>
          <p:sp>
            <p:nvSpPr>
              <p:cNvPr id="440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5680" y="1011240"/>
                <a:ext cx="7920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400960" y="1011240"/>
                <a:ext cx="7632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8269200" y="1211400"/>
                <a:ext cx="101520" cy="107640"/>
                <a:chOff x="8269200" y="1211400"/>
                <a:chExt cx="101520" cy="1076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75680" y="1211400"/>
                  <a:ext cx="889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69200" y="123336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269200" y="126540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269200" y="12938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394840" y="1211400"/>
                <a:ext cx="99720" cy="107640"/>
                <a:chOff x="8394840" y="1211400"/>
                <a:chExt cx="99720" cy="1076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8400960" y="1211400"/>
                  <a:ext cx="8748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394840" y="123336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94840" y="126540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394840" y="129384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H="1">
                <a:off x="8317080" y="914400"/>
                <a:ext cx="6480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381880" y="914400"/>
                <a:ext cx="572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1708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3912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09080" y="1514520"/>
                <a:ext cx="1998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45600" y="1514520"/>
                <a:ext cx="1443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07480" y="1514520"/>
                <a:ext cx="16668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624880" y="1514520"/>
                <a:ext cx="2016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3200" y="133524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34480" y="144792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3304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202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68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8216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0344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8461440" y="1712880"/>
                <a:ext cx="100080" cy="109440"/>
                <a:chOff x="8461440" y="1712880"/>
                <a:chExt cx="100080" cy="109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8467560" y="1712880"/>
                  <a:ext cx="8748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461440" y="17366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61440" y="176688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461440" y="179712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8894880" y="1712880"/>
                <a:ext cx="87120" cy="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888400" y="17366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888400" y="176688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53360" y="1712880"/>
                <a:ext cx="88920" cy="47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47240" y="1736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8034480" y="1712880"/>
                <a:ext cx="101520" cy="109440"/>
                <a:chOff x="8034480" y="1712880"/>
                <a:chExt cx="101520" cy="1094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8040600" y="1712880"/>
                  <a:ext cx="8892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34480" y="17366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034480" y="176688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034480" y="179712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8680320" y="1712880"/>
                <a:ext cx="88920" cy="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8216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168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7202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9330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861400" y="1514520"/>
                <a:ext cx="2001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9140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8547120" y="1211400"/>
                <a:ext cx="100080" cy="107640"/>
                <a:chOff x="8547120" y="1211400"/>
                <a:chExt cx="100080" cy="1076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8553600" y="1211400"/>
                  <a:ext cx="871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547120" y="123336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547120" y="126540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547120" y="12938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8553600" y="1011240"/>
                <a:ext cx="7596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381880" y="914400"/>
                <a:ext cx="2095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46A8-D10D-41F5-B87E-10FDDCD75847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5E91D-E9A3-49C0-A79C-0F8A9FC89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A – Key Process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 um grupo de atividades relacionadas que, quando executadas em conjunto, satisfazem um grupo de metas relevantes para a melhoria de capacitaçã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há KPAs para o níve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BB40-AAF5-4289-9E58-F297828A5D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8943A-FFDE-4CF9-9389-96987D6C7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em o escopo e limite de cada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dos para determinar se a organização efetivamente implantou a K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a avaliação de conformidade de uma organização com os requisitos de CMM, o mais importante é verificar se os goals da KPA foram ating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BB51-C257-48B5-B76E-66DA248BDF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C0179-08CB-4E50-ABDC-6CEA878BCE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ter proces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idade crescente -&gt; Necessidade de Sobrevivência -&gt; Satisfação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software é o elo fraco no desenvolvimento de produtos de alta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OS Report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tandishgroup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nas 28% dos projetos de TI são concluídos no prazo e orçamento previstos e com todas as funcionalidades inicialmente planejada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 fundamental é a inabilidade para gerenciar o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08C5-98EC-4206-9C08-9D972BEEFD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AC3E2-257D-49BF-892B-18FFF7AD73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m as atividades ou infra-estruturas que precisam estar em uso rotineiro para que os goals de uma determinada KPA sejam alcanç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m o que fazer sem estabelecer como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impõem o uso de tecnologi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ém, a tecnologia escolhida deve ser capaz de assegurar os requisitos estabelecidos pelo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9883-F34C-4D4B-AB69-20317F0D713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55CAE-00FE-4805-A06A-6B8F0999CA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m as práticas chaves de uma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ções que a organização deve tomar para assegurar que o processo estará estabelecido e irá perdu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-condições que devem existir no projeto ou organização para implementar adequadamente o process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imentos necessários para implementar uma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FCC2-5A16-4574-887E-D8CFBCE3B0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FCA21-E742-4176-918C-9D34D43225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ções a serem realizadas com relação à KPA e aos resultados das a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os para assegurar  que as atividades estão sendo executadas de acordo com o processo estabe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F405-A8D8-4C34-A6E6-54FBB4BB9F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D79F-3B7E-4F2B-B4EC-6088C87DE1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do Proje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mento e Supervis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Configuração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Sub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antia da Qualidade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DE43-E478-4107-952C-42DF6303BDA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28E4E-8B32-45D1-924A-4AEBE7E5F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Proces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Proces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Softw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duc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roup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62F1-6E1B-450A-8A6C-91317A36F6D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446DF-9059-4906-9F4A-19EE0CC2FC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Qual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AF52-E806-4CD1-AED3-D4BF8BF3865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BC6C3-4B87-4E59-971E-8A957A0352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79240" y="5084640"/>
            <a:ext cx="124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ol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FEB3-807E-407D-840C-BF2F49308C4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AD2B-E9EB-4230-9F51-594E442169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A479-F55C-4FA8-B6E2-ABC911758F0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B61A4-7916-4D3B-96F5-A93DBF537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as atividade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objetivamente a conformidade das atividades e artefatos com os padrões, procedimentos 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r aos grupos e pessoas envolvidas quanto às ativiades e resultado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r à gerencia senior todas as questões de não conformidades que não possam ser resolvidas no âmbito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0D35-92AF-4CD7-9036-1B98B117A20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6923F-5C43-4E97-97E2-EF4601CEEA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Commitment to perf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r uma política organizacional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ção de SQA inserida em todos os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de comunicação com a gerência 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hos e ouvidos” da gerência 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 não pode ser avaliado pelo gerente de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29F5-C8EE-497D-BF40-2C86D8CDFA1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E5D73-6DDE-42EC-910F-173AC199E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e a Mitr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ram o desenvolvimento de um framework de maturidade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: auxiliar as organizações a melhorar seu processo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ação do Govern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ódo para avaliar a capacidade dos seus fornecedores d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lançou uma descrição do framework de maturidade do processo de software [Humphrey87a] e um questionário de maturidade [Humphrey87b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C145-EBD1-4C8E-93CF-05259BECD0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B6475-33E5-4126-B4B9-AD3C8945C9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bility to perfor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um grup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recursos e fundos disponíveis para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membros do grupo de SQA treinados em suas a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membros do projeto orientados sobre o grup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8E0C-CCF0-42D3-A66D-0E18DEFCBCC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4280B-0222-4990-875C-5EA8D752BA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r atividades de acordo com o plan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consulta e realizar rev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de engenharia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r auditoria em artefatos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1CC4-A758-4DDC-9B99-2BB3681D919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72033-63C4-4D03-881B-9415CF836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ar resultados ao grupo de engenharia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e tratar 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do grupo de SQA com o SQA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F828-51D1-41CC-8FA8-829EF56A299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7B349-7862-4942-A4A1-B8673CD331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Measurement 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o custo e estado das atividade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ricas de S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0661-0D92-44A7-B2C1-468CDE577C8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4C44A-440C-462F-9D96-07A298FD1A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Verifying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s atividades de SQA – gerência se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s atividades de SQA – gerente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e artefatos de SQA – especialistas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4BDF-99A9-4B34-8953-B49A489814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4D58D-323E-4503-A6E1-CDAE6533BB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MM não garante que os produtos de software serão construídos com sucesso ou que todos os problemas de desenvolvimento de software serão resolvidos adeq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MM fornece uma estrutura conceitual para a melhoria da gestão e do desenvolvimento de produtos de software de uma forma consistente e discipl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866A-40A4-418A-BB5C-E6EA8FC3A6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0A667-C94D-4975-9210-EF78BF1725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M – The Capability Maturit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43647E-6FF8-4958-A185-96AAC26EA4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ts Humphrey lançou o livro “Managing the Software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1.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aulk, Weber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os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fo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2E67-63C1-47B7-BC64-5AA6A91C1C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E353E-4A1E-4442-B8ED-F0CA82F16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é o CM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que descreve os elementos chave de um processo de software ef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a as organizações para uma melhoria evolutiva de um processo de software ad hoc para um processo disciplin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ado em práticas reais e no feedback da indústria e gov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387F-8D13-45E5-AA3F-CCF17FDE83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E21E-BFF6-4990-869F-C9C64C1B6F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recomen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estabelecimento de políticas determinando “o que” e “qu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existência de recursos comprom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 processos/procedimentos docum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ssoal tre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idências objetivas de que os processos estão sendo seguidos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car melhoria contí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C458-CEB1-4F4F-8846-AA5D08EABE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082B4-7CE2-4472-B16B-2747EEAEF9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Benefícios poten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evisibilidad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 do planejamento 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ção de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qualidad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ão de gastos e retraba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obabilidade de sucess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0411-DF43-4FF1-A46D-CD64B40C8C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E2B76-50ED-4952-A04E-52A7251A55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M classifica as organizações em  níveis de maturidade, de 1 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to maior o nível, maior a maturidade da organização com relação ao seu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, o que é uma organização madura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CABC-9154-4785-B110-A2E1ACFAEA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C14DB-660C-4B86-953E-D6ECD14B7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2:05:28Z</dcterms:created>
  <dc:creator>Virginia Viana</dc:creator>
  <dc:description/>
  <dc:language>en-US</dc:language>
  <cp:lastModifiedBy>Thayssa Águila da Rocha</cp:lastModifiedBy>
  <dcterms:modified xsi:type="dcterms:W3CDTF">2004-06-14T09:53:25Z</dcterms:modified>
  <cp:revision>88</cp:revision>
  <dc:subject/>
  <dc:title>CMM – Capability Maturity Model</dc:title>
</cp:coreProperties>
</file>