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6667560" cy="9774360"/>
          </a:xfrm>
          <a:custGeom>
            <a:avLst/>
            <a:gdLst>
              <a:gd name="textAreaLeft" fmla="*/ 360 w 6667560"/>
              <a:gd name="textAreaRight" fmla="*/ 6667200 w 666756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1664">
                <a:moveTo>
                  <a:pt x="5" y="0"/>
                </a:moveTo>
                <a:arcTo wR="5" hR="5" stAng="16200000" swAng="-5400000"/>
                <a:lnTo>
                  <a:pt x="0" y="31659"/>
                </a:lnTo>
                <a:arcTo wR="5" hR="5" stAng="10800000" swAng="-5400000"/>
                <a:lnTo>
                  <a:pt x="21595" y="316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6665760" cy="9772560"/>
          </a:xfrm>
          <a:custGeom>
            <a:avLst/>
            <a:gdLst>
              <a:gd name="textAreaLeft" fmla="*/ 360 w 6665760"/>
              <a:gd name="textAreaRight" fmla="*/ 6665400 w 6665760"/>
              <a:gd name="textAreaTop" fmla="*/ 360 h 9772560"/>
              <a:gd name="textAreaBottom" fmla="*/ 9772200 h 9772560"/>
            </a:gdLst>
            <a:ahLst/>
            <a:rect l="textAreaLeft" t="textAreaTop" r="textAreaRight" b="textAreaBottom"/>
            <a:pathLst>
              <a:path w="21600" h="31667">
                <a:moveTo>
                  <a:pt x="5" y="0"/>
                </a:moveTo>
                <a:arcTo wR="5" hR="5" stAng="16200000" swAng="-5400000"/>
                <a:lnTo>
                  <a:pt x="0" y="31662"/>
                </a:lnTo>
                <a:arcTo wR="5" hR="5" stAng="10800000" swAng="-5400000"/>
                <a:lnTo>
                  <a:pt x="21595" y="3166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-11134800" y="242640"/>
            <a:ext cx="22269600" cy="167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51960" y="3460680"/>
            <a:ext cx="7589880" cy="32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0" y="32400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51960" y="3460320"/>
            <a:ext cx="7589880" cy="10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ponentes de cada representação participaram do time de desenvolvimento do produto CMM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scolher uma única abordagem para representação tornou-se “muito difícil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cou acordado que inicialmente seriam abordadas duas representações do modelo com conteúdos equivalen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73567-4FF3-47A2-8A24-6B60E92DB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3F4F0-BBFA-460D-9172-8598F412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C7F65-1016-4866-83C1-E0FE57E4E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25DB7-26A2-4DF0-AFF4-D1A3791C3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FC5D-40EC-49EE-83F1-F16F6346D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B56B-3013-4E20-BB3C-D10E7D9E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2FE5-BA1D-42E9-B63C-3725A247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F9C5-61FA-4CFE-80FE-8D8D00D1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81A3-4B41-4324-926E-ECF0508B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66D9-F919-4187-BD1B-28F156DC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F0A3-3B45-4C02-A577-47BE0FE4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A6425-AC4D-470F-A745-F34202CB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C480-05E6-44BE-B4EE-037BE28E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23F4-CF00-4346-AC81-1B2B7425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FF20B-BBDF-4EBB-A355-EF4D1D7D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1724-1CF0-42F0-BEEE-FDDFE33B4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6368-B1F8-48D0-B1C7-B37F0A852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E09B7-C115-4E41-A2DD-63AFB2B6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5E772-984C-4C6A-80BF-43791511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5F6EA-DAD6-4F11-A704-3F5054F7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4C77E-35E4-4B23-AA71-406CA8D1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1EB8C-C725-42AF-AB1B-307426D9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FFA9A-F66C-4A69-B1A5-741995F3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3BC9E-5777-4480-9532-8921B2E1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AE2D-290D-40D0-AFD8-7DCBFA6F355F}" type="slidenum">
              <a:rPr b="0" lang="en-US" sz="11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BF35-04C9-4CF1-909C-6E0604C5BDC1}" type="datetime">
              <a:rPr b="0" lang="en-US" sz="11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E995-71F1-477F-A8BB-83FC473E8D9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3C2F-CE0B-4971-8BBD-85113FE1AF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Qualidade%20de%20Software%20com%20SW-CMM_Conceitos_Plicacoes%20e%20Impla.ppt#6. Hist&#243;rico" TargetMode="External"/><Relationship Id="rId2" Type="http://schemas.openxmlformats.org/officeDocument/2006/relationships/hyperlink" Target="file:///CMM%20-%20The%20Capability%20Maturity%20Model%20v2.ppt#6. O que &#233; o CMM?" TargetMode="External"/><Relationship Id="rId3" Type="http://schemas.openxmlformats.org/officeDocument/2006/relationships/hyperlink" Target="file:///CMM%20-%20The%20Capability%20Maturity%20Model%20v2.ppt#6. O que &#233; o CMM?" TargetMode="External"/><Relationship Id="rId4" Type="http://schemas.openxmlformats.org/officeDocument/2006/relationships/hyperlink" Target="file:///CMM%20-%20The%20Capability%20Maturity%20Model%20v2.ppt#6. O que &#233; o CMM?" TargetMode="External"/><Relationship Id="rId5" Type="http://schemas.openxmlformats.org/officeDocument/2006/relationships/hyperlink" Target="file:///Qualidade%20de%20Software%20com%20SW-CMM_Conceitos_Plicacoes%20e%20Impla.ppt#15. Slide 15" TargetMode="External"/><Relationship Id="rId6" Type="http://schemas.openxmlformats.org/officeDocument/2006/relationships/hyperlink" Target="file:///Qualidade%20de%20Software%20com%20SW-CMM_Conceitos_Plicacoes%20e%20Impla.ppt#15. Slide 15" TargetMode="External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1449360"/>
            <a:ext cx="7767360" cy="144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MMI – Capability Maturity Model Integ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5756400" y="5950080"/>
            <a:ext cx="2804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Verdana"/>
              </a:rPr>
              <a:t>Thayssa Rocha – Jun.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7F228-C30F-44D9-A762-7BA9776C27B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51EC73-9A8C-4C49-9EA8-AB0A5927B6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MMI - Estrutura do Model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7d"/>
              </a:buClr>
              <a:buSzPct val="73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presentações disponíveis no CMM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99cc"/>
              </a:buClr>
              <a:buSzPct val="73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ntínu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99cc"/>
              </a:buClr>
              <a:buSzPct val="73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or Estág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7d"/>
              </a:buClr>
              <a:buSzPct val="73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or Estág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39"/>
              </a:spcBef>
              <a:buClr>
                <a:srgbClr val="9999cc"/>
              </a:buClr>
              <a:buSzPct val="57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íveis de Maturida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39"/>
              </a:spcBef>
              <a:buClr>
                <a:srgbClr val="9999cc"/>
              </a:buClr>
              <a:buSzPct val="57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grupamento de Áreas de Processo por Nível de Maturida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39"/>
              </a:spcBef>
              <a:buClr>
                <a:srgbClr val="9999cc"/>
              </a:buClr>
              <a:buSzPct val="57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valiação da maturidade da organização como um to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7d"/>
              </a:buClr>
              <a:buSzPct val="73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tínu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39"/>
              </a:spcBef>
              <a:buClr>
                <a:srgbClr val="9999cc"/>
              </a:buClr>
              <a:buSzPct val="57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íveis de Capacida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39"/>
              </a:spcBef>
              <a:buClr>
                <a:srgbClr val="9999cc"/>
              </a:buClr>
              <a:buSzPct val="57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grupamento das Áreas de Processo por Categor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39"/>
              </a:spcBef>
              <a:buClr>
                <a:srgbClr val="9999cc"/>
              </a:buClr>
              <a:buSzPct val="57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valiação da capacidade das Areas de Proc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B97F6-058D-4881-A44E-2AED22CAD25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3F2D2A-4F34-4F5A-8F00-78CC3836386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MMI - Estrutura do Modelo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rando as Representaçõ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573800" y="1557360"/>
            <a:ext cx="7446240" cy="4521600"/>
            <a:chOff x="4573800" y="1557360"/>
            <a:chExt cx="7446240" cy="4521600"/>
          </a:xfrm>
        </p:grpSpPr>
        <p:sp>
          <p:nvSpPr>
            <p:cNvPr id="193" name=""/>
            <p:cNvSpPr/>
            <p:nvPr/>
          </p:nvSpPr>
          <p:spPr>
            <a:xfrm>
              <a:off x="6311160" y="1557360"/>
              <a:ext cx="1257480" cy="4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600" rIns="102600" tIns="51480" bIns="51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ag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73800" y="4437720"/>
              <a:ext cx="84132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600" rIns="102600" tIns="51480" bIns="51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ML 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97440" y="3854520"/>
              <a:ext cx="76356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600" rIns="102600" tIns="51480" bIns="51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ML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21800" y="3403080"/>
              <a:ext cx="76356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600" rIns="102600" tIns="51480" bIns="51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ML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50840" y="2830680"/>
              <a:ext cx="76356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600" rIns="102600" tIns="51480" bIns="51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ML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847480" y="2298960"/>
              <a:ext cx="76356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600" rIns="102600" tIns="51480" bIns="51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ML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933080" y="5152680"/>
              <a:ext cx="708696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1480" bIns="51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. . .para um conjunto de áre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de processo pré-estabelecida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pela estrutra do model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0" name="" descr=""/>
            <p:cNvPicPr/>
            <p:nvPr/>
          </p:nvPicPr>
          <p:blipFill>
            <a:blip r:embed="rId1"/>
            <a:stretch/>
          </p:blipFill>
          <p:spPr>
            <a:xfrm>
              <a:off x="5302440" y="2077920"/>
              <a:ext cx="3661920" cy="291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1" name=""/>
          <p:cNvGrpSpPr/>
          <p:nvPr/>
        </p:nvGrpSpPr>
        <p:grpSpPr>
          <a:xfrm>
            <a:off x="539640" y="2133720"/>
            <a:ext cx="4089240" cy="3299040"/>
            <a:chOff x="539640" y="2133720"/>
            <a:chExt cx="4089240" cy="3299040"/>
          </a:xfrm>
        </p:grpSpPr>
        <p:sp>
          <p:nvSpPr>
            <p:cNvPr id="202" name=""/>
            <p:cNvSpPr/>
            <p:nvPr/>
          </p:nvSpPr>
          <p:spPr>
            <a:xfrm>
              <a:off x="1839600" y="4978440"/>
              <a:ext cx="2789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77200" y="5024520"/>
              <a:ext cx="532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798640" y="5024520"/>
              <a:ext cx="532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078640" y="2635920"/>
              <a:ext cx="334080" cy="232992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814840" y="3960000"/>
              <a:ext cx="334080" cy="1005840"/>
            </a:xfrm>
            <a:prstGeom prst="rect">
              <a:avLst/>
            </a:prstGeom>
            <a:solidFill>
              <a:srgbClr val="6666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20160" y="3507840"/>
              <a:ext cx="335520" cy="1458000"/>
            </a:xfrm>
            <a:prstGeom prst="rect">
              <a:avLst/>
            </a:prstGeom>
            <a:solidFill>
              <a:srgbClr val="99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37800" y="2133720"/>
              <a:ext cx="1440" cy="280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6200000">
              <a:off x="-222120" y="3080520"/>
              <a:ext cx="223740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1480" bIns="514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ss Area Capa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1800">
              <a:off x="245520" y="3480120"/>
              <a:ext cx="261540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600" rIns="102600" tIns="51480" bIns="51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0    1   2    3    4    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26920" y="5038920"/>
              <a:ext cx="532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1928880" y="1585800"/>
            <a:ext cx="195228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16480" y="5445000"/>
            <a:ext cx="34275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. . .para uma única áre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cesso ou um conjunt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áreas de proces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66754-4F48-4567-AD55-5262C7FDA7D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88AB2C-07F8-40BF-AFED-39FEE91907F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MMI - Estrutura do Modelo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146800" cy="4960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resentações - Vantage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r estági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rovê uma seqüência de melhoria pré-definida em um conjunto determinado de áreas de process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ada nível funciona como a fundação para o próximo nível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roporciona uma migração simplificada do modelo SW-CMM para o CMMI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tribui uma nota de classificação do nível de maturidade em que a organização se encontra através dos resultados das avaliaçõe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permitindo dessa forma a comparação de forma direta entre as organizaçõ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9A4DC-C546-478F-AD13-A1A0004B633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3080CC-197A-40CA-A87F-4AF6445E0F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500"/>
                            </p:stCondLst>
                            <p:childTnLst>
                              <p:par>
                                <p:cTn id="2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MMI - Estrutura do Model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776772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resentações – Vantagens (cont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ínu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ermite a seleção da ordem de melhoria dos processos que melhor se adequa aos objetivos de negócio da organizaçã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ermite a comparação de áreas de processo entre diferentes organizações ou através dos resultados apresentados de acordo com os estágios equivalente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roporciona uma migração simplificada do Eletronic Industries Alliance Ínterim Standard (EIA/IS) /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ECM)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o CMMI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strutura compatível com o padrão ISO/IEC 15504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trutura familiar para aqueles que estão migrando da comunidade de engenharia de sistem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9C607-01CE-4F94-A269-A546BFCBF0D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3B20BE-E85D-4D48-ADBF-2C0E8601629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50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500"/>
                            </p:stCondLst>
                            <p:childTnLst>
                              <p:par>
                                <p:cTn id="2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50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MMI - Estrutura do Modelo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lgumas organizações que iniciaram os esforços de migração para o CMMI relatam razões pela escolha de cada uma dela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ontínua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A habilidade de escolha da área de processo que se deseja melhorar com base nos objetivos e prioridades da organização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Quando a abordagem é focada na melhoria contínua da capacidade do processo e não no atendimento de um nível de maturidad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A liberdade de escolha das áreas de processo impacta positivamente no programa de melhoria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Permite também um caminho para a abordagem por estágios, pois as organizações ao longo de seu processo de melhoria podem selecionar as áreas de processo exatamente iguais aos níveis de maturidade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6891A-256C-4D10-AF0C-EC7983BE15B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8E06D8-A5A3-4A72-9935-A84B50939B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MMI - Estrutura do Modelo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lgumas organizações que iniciaram os esforços de migração para o CMMI relatam razões pela escolha de cada uma delas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or estágio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A gerência sênior das organizações e os clientes compreendem com mais facilidad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Uma pesquisa entre os clientes potenciais das organizações, e até mesmo com os contratantes governamentais apresentou a abordagem por estágios como a mais indicada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Aparentemente, baseado em pesquisas informais, não existe um mercado atual para a abordagem contínua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A primeira vista, a abordagem por estágios é a que mais se adequou às necessidades das organizaçõ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1056B-19CB-4B70-A9AE-7E07CE6309F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4C4283-FB10-4F7E-8254-FA8204D3F6F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MMI - Estrutura do Modelo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o entanto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dependente da abordagem usada e seja para a melhoria de processos ou para avaliações, o CMMI foi projetado para apresentar os resultados equivalent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ão existe um caminho mais fácil dependente da representação para um mesmo objetiv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xiste um mapeamento oficial que permite que avaliações usando o modelo na representação contínua sejam traduzidas “também” em níveis de maturida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6D11C-0BD7-4CD1-B3CE-B70075A645C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77F52E-55C5-45A6-82E4-368BD427AB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MMI - Estrutura do Model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2209680" y="1898640"/>
            <a:ext cx="1600200" cy="609480"/>
          </a:xfrm>
          <a:prstGeom prst="rect">
            <a:avLst/>
          </a:prstGeom>
          <a:solidFill>
            <a:srgbClr val="e9bb7d"/>
          </a:solidFill>
          <a:ln w="0">
            <a:noFill/>
          </a:ln>
          <a:effectLst>
            <a:outerShdw dist="17819" dir="2700000" blurRad="0" rotWithShape="0">
              <a:srgbClr val="8b6f4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Níveis de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Matur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3520" y="2889360"/>
            <a:ext cx="1904760" cy="761760"/>
          </a:xfrm>
          <a:prstGeom prst="ellipse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8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Narrow"/>
              </a:rPr>
              <a:t>Capacida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Narrow"/>
              </a:rPr>
              <a:t>do proce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581280" y="2813040"/>
            <a:ext cx="1600200" cy="609480"/>
          </a:xfrm>
          <a:prstGeom prst="rect">
            <a:avLst/>
          </a:prstGeom>
          <a:solidFill>
            <a:srgbClr val="e9bb7d"/>
          </a:solidFill>
          <a:ln w="0">
            <a:noFill/>
          </a:ln>
          <a:effectLst>
            <a:outerShdw dist="17819" dir="2700000" blurRad="0" rotWithShape="0">
              <a:srgbClr val="8b6f4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Áreas chaves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de proces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52880" y="3956040"/>
            <a:ext cx="1600200" cy="609480"/>
          </a:xfrm>
          <a:prstGeom prst="rect">
            <a:avLst/>
          </a:prstGeom>
          <a:solidFill>
            <a:srgbClr val="e9bb7d"/>
          </a:solidFill>
          <a:ln w="25560">
            <a:solidFill>
              <a:srgbClr val="ff6699"/>
            </a:solidFill>
            <a:miter/>
          </a:ln>
          <a:effectLst>
            <a:outerShdw dist="17819" dir="2700000" blurRad="0" rotWithShape="0">
              <a:srgbClr val="98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Características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comu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4870440"/>
            <a:ext cx="1600200" cy="609480"/>
          </a:xfrm>
          <a:prstGeom prst="rect">
            <a:avLst/>
          </a:prstGeom>
          <a:solidFill>
            <a:srgbClr val="e9bb7d"/>
          </a:solidFill>
          <a:ln w="25560">
            <a:solidFill>
              <a:srgbClr val="ff6699"/>
            </a:solidFill>
            <a:miter/>
          </a:ln>
          <a:effectLst>
            <a:outerShdw dist="17819" dir="2700000" blurRad="0" rotWithShape="0">
              <a:srgbClr val="98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Práticas 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ch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3803760"/>
            <a:ext cx="1676520" cy="609480"/>
          </a:xfrm>
          <a:prstGeom prst="ellipse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8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Narrow"/>
              </a:rPr>
              <a:t>M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09680" y="4794120"/>
            <a:ext cx="2819520" cy="91440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ff6699"/>
            </a:solidFill>
            <a:miter/>
          </a:ln>
          <a:effectLst>
            <a:outerShdw dist="17819" dir="2700000" blurRad="0" rotWithShape="0">
              <a:srgbClr val="98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Narrow"/>
              </a:rPr>
              <a:t>Implementação e</a:t>
            </a:r>
            <a:br>
              <a:rPr sz="2000"/>
            </a:br>
            <a:r>
              <a:rPr b="1" lang="pt-BR" sz="2000" spc="-1" strike="noStrike">
                <a:solidFill>
                  <a:srgbClr val="000099"/>
                </a:solidFill>
                <a:latin typeface="Arial Narrow"/>
              </a:rPr>
              <a:t>Institucionaliz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43400" y="5632560"/>
            <a:ext cx="2819520" cy="76176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ff6699"/>
            </a:solidFill>
            <a:miter/>
          </a:ln>
          <a:effectLst>
            <a:outerShdw dist="17819" dir="2700000" blurRad="0" rotWithShape="0">
              <a:srgbClr val="98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Narrow"/>
              </a:rPr>
              <a:t>Atividades ou </a:t>
            </a:r>
            <a:br>
              <a:rPr sz="2000"/>
            </a:br>
            <a:r>
              <a:rPr b="1" lang="pt-BR" sz="2000" spc="-1" strike="noStrike">
                <a:solidFill>
                  <a:srgbClr val="000099"/>
                </a:solidFill>
                <a:latin typeface="Arial Narrow"/>
              </a:rPr>
              <a:t>Infra-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9880" y="2203560"/>
            <a:ext cx="685800" cy="609480"/>
          </a:xfrm>
          <a:prstGeom prst="line">
            <a:avLst/>
          </a:prstGeom>
          <a:ln w="2556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81480" y="3193920"/>
            <a:ext cx="914400" cy="762120"/>
          </a:xfrm>
          <a:prstGeom prst="line">
            <a:avLst/>
          </a:prstGeom>
          <a:ln w="2556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553080" y="4260960"/>
            <a:ext cx="838440" cy="609480"/>
          </a:xfrm>
          <a:prstGeom prst="line">
            <a:avLst/>
          </a:prstGeom>
          <a:ln w="25560">
            <a:solidFill>
              <a:srgbClr val="ff66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2361960" y="2584440"/>
            <a:ext cx="533160" cy="380880"/>
          </a:xfrm>
          <a:prstGeom prst="line">
            <a:avLst/>
          </a:prstGeom>
          <a:ln w="2556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581280" y="3498840"/>
            <a:ext cx="533520" cy="457200"/>
          </a:xfrm>
          <a:prstGeom prst="line">
            <a:avLst/>
          </a:prstGeom>
          <a:ln w="2556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800240" y="4641840"/>
            <a:ext cx="609480" cy="304920"/>
          </a:xfrm>
          <a:prstGeom prst="line">
            <a:avLst/>
          </a:prstGeom>
          <a:ln w="25560">
            <a:solidFill>
              <a:srgbClr val="ff66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6858000" y="5556240"/>
            <a:ext cx="457200" cy="228600"/>
          </a:xfrm>
          <a:prstGeom prst="line">
            <a:avLst/>
          </a:prstGeom>
          <a:ln w="25560">
            <a:solidFill>
              <a:srgbClr val="ff66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23880" y="2508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990000"/>
                </a:solidFill>
                <a:latin typeface="Arial Narrow"/>
              </a:rPr>
              <a:t>IND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380376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990000"/>
                </a:solidFill>
                <a:latin typeface="Arial Narrow"/>
              </a:rPr>
              <a:t>REALI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29200" y="4794120"/>
            <a:ext cx="1143000" cy="337320"/>
          </a:xfrm>
          <a:prstGeom prst="rect">
            <a:avLst/>
          </a:prstGeom>
          <a:noFill/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990000"/>
                </a:solidFill>
                <a:latin typeface="Arial Narrow"/>
              </a:rPr>
              <a:t>ORI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162920" y="5632560"/>
            <a:ext cx="1143000" cy="337320"/>
          </a:xfrm>
          <a:prstGeom prst="rect">
            <a:avLst/>
          </a:prstGeom>
          <a:noFill/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990000"/>
                </a:solidFill>
                <a:latin typeface="Arial Narrow"/>
              </a:rPr>
              <a:t>DESCRE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553080" y="1974960"/>
            <a:ext cx="2133720" cy="1600200"/>
          </a:xfrm>
          <a:prstGeom prst="rect">
            <a:avLst/>
          </a:prstGeom>
          <a:noFill/>
          <a:ln w="1260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99"/>
                </a:solidFill>
                <a:latin typeface="Arial"/>
              </a:rPr>
              <a:t>Compromiss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99"/>
                </a:solidFill>
                <a:latin typeface="Arial"/>
              </a:rPr>
              <a:t>Habil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99"/>
                </a:solidFill>
                <a:latin typeface="Arial"/>
              </a:rPr>
              <a:t>Ativ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99"/>
                </a:solidFill>
                <a:latin typeface="Arial"/>
              </a:rPr>
              <a:t>Medição e Anál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99"/>
                </a:solidFill>
                <a:latin typeface="Arial"/>
              </a:rPr>
              <a:t>Verific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6553080" y="3650760"/>
            <a:ext cx="914400" cy="304920"/>
          </a:xfrm>
          <a:prstGeom prst="line">
            <a:avLst/>
          </a:prstGeom>
          <a:ln w="12600">
            <a:solidFill>
              <a:srgbClr val="ff66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086600" y="3727440"/>
            <a:ext cx="1447920" cy="337320"/>
          </a:xfrm>
          <a:prstGeom prst="rect">
            <a:avLst/>
          </a:prstGeom>
          <a:noFill/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990000"/>
                </a:solidFill>
                <a:latin typeface="Arial Narrow"/>
              </a:rPr>
              <a:t>COMPREEN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4000" y="126828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lembrando a estrutura do CMM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66224-6A81-41E2-A2A2-34DE55368D2D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154C92-5E12-4BA3-A3A2-61CB1F9858AE}" type="datetime1">
              <a:rPr lang="en-US"/>
              <a:t>07/31/26</a:t>
            </a:fld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MMI - Estrutura do Modelo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s componentes do modelo são os mesmos para a representação contínua e por estágio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São similares aos do CMM, porém com algumas alterações. São eles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áreas de processo, metas específicas, práticas específicas, metas genéricas, práticas genéricas, produtos de trabalho típicos, sub-práticas, amplificações de disciplinas, elaboração de praticas genéricas e  referência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resentação contínua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6 níveis de capacidad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resentação por estágio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5 níveis de maturidad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7E094-9582-4DE7-8A37-FDE76B14372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0BC5FD-5DB8-42CC-8CD3-E83690EBD22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MMI - Estrutura do Modelo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Nível de Capacidade: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lcance da melhoria de processo dentro de uma área de processo individual. Um nível de capacidade é definido pelas práticas especificas e genéricas da área de processo em questã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Nível de Maturidade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grau de melhoria de processo (maturidade de processo) através de um conjunto pré-definido de áreas de processo, no qual todas metas do conjunto devem ser satisfeita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s níveis superiores de maturidade e capacidade englobam os níveis anteri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14FA4-5F05-4E2F-8C7E-F7E2AC92992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20B5B5-1FC2-4755-BEE9-316C4547B0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teir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m pouco de C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MMI - Introdu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MMI - Estrutura do Model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resentação contínu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resentação por estág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MMI – Aréas chaves de process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MMI X C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derações Fina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34DD0-A9B8-4E84-998F-DED99B36A1B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74FE81-6F8C-4655-BF54-F5797A1D809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MMI – Estrutura do Modelo -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presentação contínu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tas e Práticas Específic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são aplicadas a uma área de processo e endereçam características que descrevem o que deve ser implementado para satisfazer a área de processo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plicam-se a uma área de processo particula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tas e Práticas Genéric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são únicas para cada nível de capacidade de uma área de processo e descrevem o nível de institucionalização que a organização deve alcançar no nível de capacidad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plicam-se a todas as áreas de process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 Metas e Práticas, Específicas e Genéricas, são as mesmas para ambas as representaçoe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40AA4-23F6-4EF0-AE73-6CF403FA9E3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A1D8E1-F012-4E33-92D4-0BEC8805898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MMI – Estrutura do Modelo -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presentação contínu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odutos de trabalho típ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rodutos de trabalho típicos provêm exemplos de artefatos de saídas das atividades descritas pelas práticas genéricas e específicas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ub-prátic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Sub-práticas são descrições detalhadas que fornecem informações adicionais para a interpretação das práticas genéricas e específica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mplificações de disciplin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mplificações de disciplina são informações relevantes para uma disciplina em particular e são associadas a práticas específicas. Exemplo: procurando informação adicional de uma determina prática referente à disciplina de engenharia de software, podemos encontrar no modelo as amplificações descritas da seguinte forma: </a:t>
            </a:r>
            <a:r>
              <a:rPr b="0" i="1" lang="pt-BR" sz="1800" spc="-1" strike="noStrike">
                <a:solidFill>
                  <a:srgbClr val="000000"/>
                </a:solidFill>
                <a:latin typeface="Verdana"/>
              </a:rPr>
              <a:t>“For Software Engineering ...”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1E5AC-59E1-40A0-BFCB-6AF30C8A078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A6E5E8-7A53-4A05-B2A5-0EA6CFC315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MMI – Estrutura do Modelo -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presentação contínu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laboração de práticas genéric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Elaboração de práticas genéricas são orientações de como as práticas genéricas devem ser unicamente aplicadas a uma determinada área de process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ferênci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Referências são informações adicionais ou mais detalhadas a respeito de áreas de processo relacionadas. Na descrição das áreas de processo existem referências para outras áreas de processo do modelo que se relacionam com as mesm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9FD64-A857-49C3-9437-199CF4851AB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083337-FCB6-4ABC-84C3-8CE987A2420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900000" y="1773360"/>
            <a:ext cx="7491600" cy="4903560"/>
            <a:chOff x="900000" y="1773360"/>
            <a:chExt cx="7491600" cy="4903560"/>
          </a:xfrm>
        </p:grpSpPr>
        <p:sp>
          <p:nvSpPr>
            <p:cNvPr id="259" name=""/>
            <p:cNvSpPr/>
            <p:nvPr/>
          </p:nvSpPr>
          <p:spPr>
            <a:xfrm>
              <a:off x="1069920" y="2135160"/>
              <a:ext cx="5815080" cy="106560"/>
            </a:xfrm>
            <a:custGeom>
              <a:avLst/>
              <a:gdLst/>
              <a:ahLst/>
              <a:rect l="l" t="t" r="r" b="b"/>
              <a:pathLst>
                <a:path w="3809" h="57">
                  <a:moveTo>
                    <a:pt x="0" y="56"/>
                  </a:moveTo>
                  <a:lnTo>
                    <a:pt x="0" y="0"/>
                  </a:lnTo>
                  <a:lnTo>
                    <a:pt x="380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69920" y="3049560"/>
              <a:ext cx="4943520" cy="123840"/>
            </a:xfrm>
            <a:custGeom>
              <a:avLst/>
              <a:gdLst/>
              <a:ahLst/>
              <a:rect l="l" t="t" r="r" b="b"/>
              <a:pathLst>
                <a:path w="3241" h="65">
                  <a:moveTo>
                    <a:pt x="0" y="64"/>
                  </a:moveTo>
                  <a:lnTo>
                    <a:pt x="0" y="0"/>
                  </a:lnTo>
                  <a:lnTo>
                    <a:pt x="324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58760" y="3941640"/>
              <a:ext cx="3959280" cy="135000"/>
            </a:xfrm>
            <a:custGeom>
              <a:avLst/>
              <a:gdLst/>
              <a:ahLst/>
              <a:rect l="l" t="t" r="r" b="b"/>
              <a:pathLst>
                <a:path w="2641" h="41">
                  <a:moveTo>
                    <a:pt x="0" y="40"/>
                  </a:moveTo>
                  <a:lnTo>
                    <a:pt x="0" y="0"/>
                  </a:lnTo>
                  <a:lnTo>
                    <a:pt x="264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12840" y="5780160"/>
              <a:ext cx="213516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85880"/>
                  <a:tab algn="l" pos="1571760"/>
                  <a:tab algn="l" pos="2357280"/>
                  <a:tab algn="l" pos="3143160"/>
                  <a:tab algn="l" pos="3929040"/>
                  <a:tab algn="l" pos="4714920"/>
                  <a:tab algn="l" pos="5500800"/>
                  <a:tab algn="l" pos="6286680"/>
                  <a:tab algn="l" pos="7072200"/>
                  <a:tab algn="l" pos="7858080"/>
                  <a:tab algn="l" pos="8643960"/>
                  <a:tab algn="l" pos="9429840"/>
                  <a:tab algn="l" pos="102157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Processo imprevisível, pouco controlad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85880"/>
                  <a:tab algn="l" pos="1571760"/>
                  <a:tab algn="l" pos="2357280"/>
                  <a:tab algn="l" pos="3143160"/>
                  <a:tab algn="l" pos="3929040"/>
                  <a:tab algn="l" pos="4714920"/>
                  <a:tab algn="l" pos="5500800"/>
                  <a:tab algn="l" pos="6286680"/>
                  <a:tab algn="l" pos="7072200"/>
                  <a:tab algn="l" pos="7858080"/>
                  <a:tab algn="l" pos="8643960"/>
                  <a:tab algn="l" pos="9429840"/>
                  <a:tab algn="l" pos="1021572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204920" y="4975200"/>
              <a:ext cx="2168640" cy="6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Processo definido para o nível de projetos e frequentemente reativ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204920" y="4038480"/>
              <a:ext cx="1952640" cy="6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Processo proativo e definido para a organizaçã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04920" y="3137040"/>
              <a:ext cx="206676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Processo medido e controlad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01680" y="2238480"/>
              <a:ext cx="227484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Foco na melhoria do process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076400" y="4913280"/>
              <a:ext cx="3073320" cy="93600"/>
            </a:xfrm>
            <a:custGeom>
              <a:avLst/>
              <a:gdLst/>
              <a:ahLst/>
              <a:rect l="l" t="t" r="r" b="b"/>
              <a:pathLst>
                <a:path w="2033" h="49">
                  <a:moveTo>
                    <a:pt x="0" y="48"/>
                  </a:moveTo>
                  <a:lnTo>
                    <a:pt x="0" y="0"/>
                  </a:lnTo>
                  <a:lnTo>
                    <a:pt x="203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063800" y="5700600"/>
              <a:ext cx="2144520" cy="92160"/>
            </a:xfrm>
            <a:custGeom>
              <a:avLst/>
              <a:gdLst/>
              <a:ahLst/>
              <a:rect l="l" t="t" r="r" b="b"/>
              <a:pathLst>
                <a:path w="1489" h="65">
                  <a:moveTo>
                    <a:pt x="0" y="64"/>
                  </a:moveTo>
                  <a:lnTo>
                    <a:pt x="0" y="0"/>
                  </a:lnTo>
                  <a:lnTo>
                    <a:pt x="148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303720" y="1773360"/>
              <a:ext cx="5087880" cy="4903560"/>
            </a:xfrm>
            <a:custGeom>
              <a:avLst/>
              <a:gdLst/>
              <a:ahLst/>
              <a:rect l="l" t="t" r="r" b="b"/>
              <a:pathLst>
                <a:path w="3205" h="3089">
                  <a:moveTo>
                    <a:pt x="0" y="3088"/>
                  </a:moveTo>
                  <a:lnTo>
                    <a:pt x="0" y="2292"/>
                  </a:lnTo>
                  <a:lnTo>
                    <a:pt x="592" y="2292"/>
                  </a:lnTo>
                  <a:lnTo>
                    <a:pt x="592" y="1696"/>
                  </a:lnTo>
                  <a:lnTo>
                    <a:pt x="1156" y="1696"/>
                  </a:lnTo>
                  <a:lnTo>
                    <a:pt x="1156" y="1140"/>
                  </a:lnTo>
                  <a:lnTo>
                    <a:pt x="1748" y="1140"/>
                  </a:lnTo>
                  <a:lnTo>
                    <a:pt x="1748" y="548"/>
                  </a:lnTo>
                  <a:lnTo>
                    <a:pt x="2316" y="548"/>
                  </a:lnTo>
                  <a:lnTo>
                    <a:pt x="2316" y="0"/>
                  </a:lnTo>
                  <a:lnTo>
                    <a:pt x="3204" y="0"/>
                  </a:lnTo>
                  <a:lnTo>
                    <a:pt x="3204" y="3076"/>
                  </a:lnTo>
                  <a:lnTo>
                    <a:pt x="0" y="3088"/>
                  </a:lnTo>
                </a:path>
              </a:pathLst>
            </a:custGeom>
            <a:solidFill>
              <a:srgbClr val="91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110280" y="2803680"/>
              <a:ext cx="174780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Quantitative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anag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55920" y="5445000"/>
              <a:ext cx="15462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erform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82920" y="4657680"/>
              <a:ext cx="15973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anag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184720" y="3706920"/>
              <a:ext cx="12924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efin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23760" y="5784840"/>
              <a:ext cx="292320" cy="291960"/>
            </a:xfrm>
            <a:prstGeom prst="ellipse">
              <a:avLst/>
            </a:prstGeom>
            <a:solidFill>
              <a:srgbClr val="91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11160" y="5743440"/>
              <a:ext cx="546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36720" y="4994280"/>
              <a:ext cx="291960" cy="291960"/>
            </a:xfrm>
            <a:prstGeom prst="ellipse">
              <a:avLst/>
            </a:prstGeom>
            <a:solidFill>
              <a:srgbClr val="91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25560" y="4948200"/>
              <a:ext cx="399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11160" y="4054320"/>
              <a:ext cx="292320" cy="292320"/>
            </a:xfrm>
            <a:prstGeom prst="ellipse">
              <a:avLst/>
            </a:prstGeom>
            <a:solidFill>
              <a:srgbClr val="91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00000" y="4008600"/>
              <a:ext cx="419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23760" y="3139920"/>
              <a:ext cx="292320" cy="292320"/>
            </a:xfrm>
            <a:prstGeom prst="ellipse">
              <a:avLst/>
            </a:prstGeom>
            <a:solidFill>
              <a:srgbClr val="91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06480" y="3094200"/>
              <a:ext cx="600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930240" y="2225520"/>
              <a:ext cx="291960" cy="292320"/>
            </a:xfrm>
            <a:prstGeom prst="ellipse">
              <a:avLst/>
            </a:prstGeom>
            <a:solidFill>
              <a:srgbClr val="91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22320" y="2179800"/>
              <a:ext cx="53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473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MMI – Estrutura do Modelo -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presentação por estágio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7013520" y="1876320"/>
            <a:ext cx="1393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timiz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56600" y="1555920"/>
            <a:ext cx="32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Níveis de Matur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5DFFD-1ACE-4A5A-AAE1-D6276BBE9B5F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2007D6-80DB-4EF2-A0AD-A7CDF8A3260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MMI - Estrutura do Modelo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rutura dos componentes - Representação por estág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95280" y="2133360"/>
            <a:ext cx="8277120" cy="3858840"/>
            <a:chOff x="395280" y="2133360"/>
            <a:chExt cx="8277120" cy="3858840"/>
          </a:xfrm>
        </p:grpSpPr>
        <p:sp>
          <p:nvSpPr>
            <p:cNvPr id="290" name=""/>
            <p:cNvSpPr/>
            <p:nvPr/>
          </p:nvSpPr>
          <p:spPr>
            <a:xfrm>
              <a:off x="3801600" y="2133360"/>
              <a:ext cx="141336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turity Lev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30320" y="2701800"/>
              <a:ext cx="135396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 Ar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830760" y="2701800"/>
              <a:ext cx="135396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 Ar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662880" y="2701800"/>
              <a:ext cx="135396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 Ar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4" name=""/>
            <p:cNvCxnSpPr>
              <a:stCxn id="290" idx="1"/>
              <a:endCxn id="291" idx="0"/>
            </p:cNvCxnSpPr>
            <p:nvPr/>
          </p:nvCxnSpPr>
          <p:spPr>
            <a:xfrm flipV="1" rot="10800000">
              <a:off x="1708200" y="2302200"/>
              <a:ext cx="2092680" cy="399240"/>
            </a:xfrm>
            <a:prstGeom prst="curvedConnector2">
              <a:avLst/>
            </a:prstGeom>
            <a:ln w="9360">
              <a:solidFill>
                <a:srgbClr val="00007d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0" idx="3"/>
              <a:endCxn id="293" idx="0"/>
            </p:cNvCxnSpPr>
            <p:nvPr/>
          </p:nvCxnSpPr>
          <p:spPr>
            <a:xfrm>
              <a:off x="5216040" y="2302920"/>
              <a:ext cx="2125080" cy="399240"/>
            </a:xfrm>
            <a:prstGeom prst="curvedConnector2">
              <a:avLst/>
            </a:prstGeom>
            <a:ln w="9360">
              <a:solidFill>
                <a:srgbClr val="00007d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2"/>
              <a:endCxn id="292" idx="0"/>
            </p:cNvCxnSpPr>
            <p:nvPr/>
          </p:nvCxnSpPr>
          <p:spPr>
            <a:xfrm>
              <a:off x="4508280" y="2472840"/>
              <a:ext cx="1080" cy="229320"/>
            </a:xfrm>
            <a:prstGeom prst="straightConnector1">
              <a:avLst/>
            </a:prstGeom>
            <a:ln w="9360">
              <a:solidFill>
                <a:srgbClr val="00007d"/>
              </a:solidFill>
              <a:miter/>
              <a:tailEnd len="med" type="triangle" w="med"/>
            </a:ln>
          </p:spPr>
        </p:cxnSp>
        <p:sp>
          <p:nvSpPr>
            <p:cNvPr id="297" name=""/>
            <p:cNvSpPr/>
            <p:nvPr/>
          </p:nvSpPr>
          <p:spPr>
            <a:xfrm>
              <a:off x="2192760" y="3253320"/>
              <a:ext cx="1965960" cy="433800"/>
            </a:xfrm>
            <a:prstGeom prst="ellipse">
              <a:avLst/>
            </a:prstGeom>
            <a:solidFill>
              <a:srgbClr val="cccce6"/>
            </a:solidFill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eneric Goa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350320" y="3253320"/>
              <a:ext cx="1994400" cy="433800"/>
            </a:xfrm>
            <a:prstGeom prst="ellipse">
              <a:avLst/>
            </a:prstGeom>
            <a:solidFill>
              <a:srgbClr val="cccce6"/>
            </a:solidFill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ecific Goa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9" name=""/>
            <p:cNvCxnSpPr>
              <a:stCxn id="292" idx="1"/>
              <a:endCxn id="297" idx="0"/>
            </p:cNvCxnSpPr>
            <p:nvPr/>
          </p:nvCxnSpPr>
          <p:spPr>
            <a:xfrm flipV="1" rot="10800000">
              <a:off x="3175920" y="2871360"/>
              <a:ext cx="653040" cy="397440"/>
            </a:xfrm>
            <a:prstGeom prst="curvedConnector2">
              <a:avLst/>
            </a:prstGeom>
            <a:ln w="9360">
              <a:solidFill>
                <a:srgbClr val="00007d"/>
              </a:solidFill>
              <a:miter/>
              <a:tailEnd len="med" type="triangle" w="med"/>
            </a:ln>
          </p:spPr>
        </p:cxnSp>
        <p:cxnSp>
          <p:nvCxnSpPr>
            <p:cNvPr id="300" name=""/>
            <p:cNvCxnSpPr>
              <a:stCxn id="292" idx="3"/>
              <a:endCxn id="298" idx="0"/>
            </p:cNvCxnSpPr>
            <p:nvPr/>
          </p:nvCxnSpPr>
          <p:spPr>
            <a:xfrm>
              <a:off x="5186520" y="2871720"/>
              <a:ext cx="1162440" cy="397440"/>
            </a:xfrm>
            <a:prstGeom prst="curvedConnector2">
              <a:avLst/>
            </a:prstGeom>
            <a:ln w="9360">
              <a:solidFill>
                <a:srgbClr val="00007d"/>
              </a:solidFill>
              <a:miter/>
              <a:tailEnd len="med" type="triangle" w="med"/>
            </a:ln>
          </p:spPr>
        </p:cxnSp>
        <p:sp>
          <p:nvSpPr>
            <p:cNvPr id="301" name=""/>
            <p:cNvSpPr/>
            <p:nvPr/>
          </p:nvSpPr>
          <p:spPr>
            <a:xfrm>
              <a:off x="395280" y="4273560"/>
              <a:ext cx="1478160" cy="534960"/>
            </a:xfrm>
            <a:prstGeom prst="roundRect">
              <a:avLst>
                <a:gd name="adj" fmla="val 16667"/>
              </a:avLst>
            </a:prstGeom>
            <a:solidFill>
              <a:srgbClr val="9191ff">
                <a:alpha val="97000"/>
              </a:srgbClr>
            </a:solidFill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7d"/>
                  </a:solidFill>
                  <a:latin typeface="Arial"/>
                </a:rPr>
                <a:t>Commitment to Perfo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960560" y="4273560"/>
              <a:ext cx="1147680" cy="534960"/>
            </a:xfrm>
            <a:prstGeom prst="roundRect">
              <a:avLst>
                <a:gd name="adj" fmla="val 16667"/>
              </a:avLst>
            </a:prstGeom>
            <a:solidFill>
              <a:srgbClr val="9191ff"/>
            </a:solidFill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7d"/>
                  </a:solidFill>
                  <a:latin typeface="Arial"/>
                </a:rPr>
                <a:t>Ability to Perfo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08320" y="4273560"/>
              <a:ext cx="1712880" cy="534960"/>
            </a:xfrm>
            <a:prstGeom prst="roundRect">
              <a:avLst>
                <a:gd name="adj" fmla="val 16667"/>
              </a:avLst>
            </a:prstGeom>
            <a:solidFill>
              <a:srgbClr val="9191ff"/>
            </a:solidFill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7d"/>
                  </a:solidFill>
                  <a:latin typeface="Arial"/>
                </a:rPr>
                <a:t>Directing Implemen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056200" y="4273560"/>
              <a:ext cx="1311120" cy="534960"/>
            </a:xfrm>
            <a:prstGeom prst="roundRect">
              <a:avLst>
                <a:gd name="adj" fmla="val 16667"/>
              </a:avLst>
            </a:prstGeom>
            <a:solidFill>
              <a:srgbClr val="9191ff"/>
            </a:solidFill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7d"/>
                  </a:solidFill>
                  <a:latin typeface="Arial"/>
                </a:rPr>
                <a:t>Verif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75000" y="3741840"/>
              <a:ext cx="1182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7d"/>
                  </a:solidFill>
                  <a:latin typeface="Arial"/>
                </a:rPr>
                <a:t>Common Feat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6" name=""/>
            <p:cNvCxnSpPr>
              <a:stCxn id="297" idx="4"/>
              <a:endCxn id="301" idx="0"/>
            </p:cNvCxnSpPr>
            <p:nvPr/>
          </p:nvCxnSpPr>
          <p:spPr>
            <a:xfrm rot="5400000">
              <a:off x="1854360" y="2951640"/>
              <a:ext cx="602280" cy="2042280"/>
            </a:xfrm>
            <a:prstGeom prst="bentConnector3">
              <a:avLst>
                <a:gd name="adj1" fmla="val 49820"/>
              </a:avLst>
            </a:prstGeom>
            <a:ln w="19080">
              <a:solidFill>
                <a:srgbClr val="00007d"/>
              </a:solidFill>
              <a:miter/>
              <a:tailEnd len="med" type="triangle" w="med"/>
            </a:ln>
          </p:spPr>
        </p:cxnSp>
        <p:cxnSp>
          <p:nvCxnSpPr>
            <p:cNvPr id="307" name=""/>
            <p:cNvCxnSpPr>
              <a:stCxn id="297" idx="4"/>
              <a:endCxn id="302" idx="0"/>
            </p:cNvCxnSpPr>
            <p:nvPr/>
          </p:nvCxnSpPr>
          <p:spPr>
            <a:xfrm rot="5400000">
              <a:off x="2554560" y="3651840"/>
              <a:ext cx="602280" cy="642240"/>
            </a:xfrm>
            <a:prstGeom prst="bentConnector3">
              <a:avLst>
                <a:gd name="adj1" fmla="val 49820"/>
              </a:avLst>
            </a:prstGeom>
            <a:ln w="19080">
              <a:solidFill>
                <a:srgbClr val="00007d"/>
              </a:solidFill>
              <a:miter/>
              <a:tailEnd len="med" type="triangle" w="med"/>
            </a:ln>
          </p:spPr>
        </p:cxnSp>
        <p:cxnSp>
          <p:nvCxnSpPr>
            <p:cNvPr id="308" name=""/>
            <p:cNvCxnSpPr>
              <a:stCxn id="297" idx="4"/>
              <a:endCxn id="303" idx="0"/>
            </p:cNvCxnSpPr>
            <p:nvPr/>
          </p:nvCxnSpPr>
          <p:spPr>
            <a:xfrm flipH="1" rot="16200000">
              <a:off x="3319200" y="3528000"/>
              <a:ext cx="602280" cy="889560"/>
            </a:xfrm>
            <a:prstGeom prst="bentConnector3">
              <a:avLst>
                <a:gd name="adj1" fmla="val 49820"/>
              </a:avLst>
            </a:prstGeom>
            <a:ln w="19080">
              <a:solidFill>
                <a:srgbClr val="00007d"/>
              </a:solidFill>
              <a:miter/>
              <a:tailEnd len="med" type="triangle" w="med"/>
            </a:ln>
          </p:spPr>
        </p:cxnSp>
        <p:cxnSp>
          <p:nvCxnSpPr>
            <p:cNvPr id="309" name=""/>
            <p:cNvCxnSpPr>
              <a:stCxn id="297" idx="4"/>
              <a:endCxn id="304" idx="0"/>
            </p:cNvCxnSpPr>
            <p:nvPr/>
          </p:nvCxnSpPr>
          <p:spPr>
            <a:xfrm flipH="1" rot="16200000">
              <a:off x="4143240" y="2704680"/>
              <a:ext cx="602280" cy="2535840"/>
            </a:xfrm>
            <a:prstGeom prst="bentConnector3">
              <a:avLst>
                <a:gd name="adj1" fmla="val 49820"/>
              </a:avLst>
            </a:prstGeom>
            <a:ln w="19080">
              <a:solidFill>
                <a:srgbClr val="00007d"/>
              </a:solidFill>
              <a:miter/>
              <a:tailEnd len="med" type="triangle" w="med"/>
            </a:ln>
          </p:spPr>
        </p:cxnSp>
        <p:sp>
          <p:nvSpPr>
            <p:cNvPr id="310" name=""/>
            <p:cNvSpPr/>
            <p:nvPr/>
          </p:nvSpPr>
          <p:spPr>
            <a:xfrm>
              <a:off x="2019240" y="5256720"/>
              <a:ext cx="2314800" cy="735480"/>
            </a:xfrm>
            <a:prstGeom prst="ellipse">
              <a:avLst/>
            </a:prstGeom>
            <a:solidFill>
              <a:srgbClr val="cccce6"/>
            </a:solidFill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eneric Pract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1" name=""/>
            <p:cNvCxnSpPr>
              <a:stCxn id="301" idx="2"/>
              <a:endCxn id="310" idx="0"/>
            </p:cNvCxnSpPr>
            <p:nvPr/>
          </p:nvCxnSpPr>
          <p:spPr>
            <a:xfrm flipH="1" rot="16200000">
              <a:off x="1847880" y="4094640"/>
              <a:ext cx="614880" cy="2042280"/>
            </a:xfrm>
            <a:prstGeom prst="bentConnector3">
              <a:avLst>
                <a:gd name="adj1" fmla="val 49853"/>
              </a:avLst>
            </a:prstGeom>
            <a:ln w="9360">
              <a:solidFill>
                <a:srgbClr val="00007d"/>
              </a:solidFill>
              <a:miter/>
              <a:tailEnd len="med" type="triangle" w="med"/>
            </a:ln>
          </p:spPr>
        </p:cxnSp>
        <p:cxnSp>
          <p:nvCxnSpPr>
            <p:cNvPr id="312" name=""/>
            <p:cNvCxnSpPr>
              <a:stCxn id="302" idx="2"/>
              <a:endCxn id="310" idx="0"/>
            </p:cNvCxnSpPr>
            <p:nvPr/>
          </p:nvCxnSpPr>
          <p:spPr>
            <a:xfrm flipH="1" rot="16200000">
              <a:off x="2548800" y="4794480"/>
              <a:ext cx="614880" cy="642240"/>
            </a:xfrm>
            <a:prstGeom prst="bentConnector3">
              <a:avLst>
                <a:gd name="adj1" fmla="val 49853"/>
              </a:avLst>
            </a:prstGeom>
            <a:ln w="9360">
              <a:solidFill>
                <a:srgbClr val="00007d"/>
              </a:solidFill>
              <a:miter/>
              <a:tailEnd len="med" type="triangle" w="med"/>
            </a:ln>
          </p:spPr>
        </p:cxnSp>
        <p:cxnSp>
          <p:nvCxnSpPr>
            <p:cNvPr id="313" name=""/>
            <p:cNvCxnSpPr>
              <a:stCxn id="303" idx="2"/>
              <a:endCxn id="310" idx="0"/>
            </p:cNvCxnSpPr>
            <p:nvPr/>
          </p:nvCxnSpPr>
          <p:spPr>
            <a:xfrm rot="5400000">
              <a:off x="3313080" y="4671000"/>
              <a:ext cx="614880" cy="889560"/>
            </a:xfrm>
            <a:prstGeom prst="bentConnector3">
              <a:avLst>
                <a:gd name="adj1" fmla="val 49853"/>
              </a:avLst>
            </a:prstGeom>
            <a:ln w="9360">
              <a:solidFill>
                <a:srgbClr val="00007d"/>
              </a:solidFill>
              <a:miter/>
              <a:tailEnd len="med" type="triangle" w="med"/>
            </a:ln>
          </p:spPr>
        </p:cxnSp>
        <p:cxnSp>
          <p:nvCxnSpPr>
            <p:cNvPr id="314" name=""/>
            <p:cNvCxnSpPr>
              <a:stCxn id="304" idx="2"/>
              <a:endCxn id="310" idx="0"/>
            </p:cNvCxnSpPr>
            <p:nvPr/>
          </p:nvCxnSpPr>
          <p:spPr>
            <a:xfrm rot="5400000">
              <a:off x="4136400" y="3848040"/>
              <a:ext cx="614880" cy="2535840"/>
            </a:xfrm>
            <a:prstGeom prst="bentConnector3">
              <a:avLst>
                <a:gd name="adj1" fmla="val 49853"/>
              </a:avLst>
            </a:prstGeom>
            <a:ln w="9360">
              <a:solidFill>
                <a:srgbClr val="00007d"/>
              </a:solidFill>
              <a:miter/>
              <a:tailEnd len="med" type="triangle" w="med"/>
            </a:ln>
          </p:spPr>
        </p:cxnSp>
        <p:sp>
          <p:nvSpPr>
            <p:cNvPr id="315" name=""/>
            <p:cNvSpPr/>
            <p:nvPr/>
          </p:nvSpPr>
          <p:spPr>
            <a:xfrm>
              <a:off x="6203880" y="5407560"/>
              <a:ext cx="2468520" cy="433800"/>
            </a:xfrm>
            <a:prstGeom prst="ellipse">
              <a:avLst/>
            </a:prstGeom>
            <a:solidFill>
              <a:srgbClr val="cccce6"/>
            </a:solidFill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ecific Pract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6" name=""/>
            <p:cNvCxnSpPr>
              <a:stCxn id="298" idx="6"/>
              <a:endCxn id="315" idx="0"/>
            </p:cNvCxnSpPr>
            <p:nvPr/>
          </p:nvCxnSpPr>
          <p:spPr>
            <a:xfrm>
              <a:off x="7308720" y="3470040"/>
              <a:ext cx="131040" cy="1953000"/>
            </a:xfrm>
            <a:prstGeom prst="bentConnector2">
              <a:avLst/>
            </a:prstGeom>
            <a:ln w="9360">
              <a:solidFill>
                <a:srgbClr val="00007d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7311B-8386-4055-A71B-83EDC258E01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F30FBD-8C8B-4158-9037-E6E9AC99A70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MMI – Estrutura do Modelo -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presentação por estági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empl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ta Específica (da AP Planejamento do Projet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G1 Realizar as Estimativas do Projet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88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áticas Específicas (da AP Planejamento do Projet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stimar o escopo do proje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alizar as estimativas para os produtos de trabalh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inir o ciclo de vida do proje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alizar as estimativas de esforço e cus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48C55-A066-48D9-B0F3-FE55F90327C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28EBD3-396F-4902-8FD8-2DB2BA17E7E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5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MMI – Estrutura do Modelo -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presentação por estági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9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empl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0640" indent="-2606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ta Genérica (do Nível de Maturidade 2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64480" indent="-217080">
              <a:lnSpc>
                <a:spcPct val="80000"/>
              </a:lnSpc>
              <a:spcBef>
                <a:spcPts val="612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titucionalizar um processo gerenciad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0640" indent="-2606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áticas Genéricas (do Nível de Maturidade 2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64480" indent="-217080">
              <a:lnSpc>
                <a:spcPct val="80000"/>
              </a:lnSpc>
              <a:spcBef>
                <a:spcPts val="612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stabelecer uma política organizacional (Commitment to perform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64480" indent="-217080">
              <a:lnSpc>
                <a:spcPct val="80000"/>
              </a:lnSpc>
              <a:spcBef>
                <a:spcPts val="612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anejar o processo (Hability to perform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64480" indent="-217080">
              <a:lnSpc>
                <a:spcPct val="80000"/>
              </a:lnSpc>
              <a:spcBef>
                <a:spcPts val="612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ver recursos (Hability to perform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64480" indent="-217080">
              <a:lnSpc>
                <a:spcPct val="80000"/>
              </a:lnSpc>
              <a:spcBef>
                <a:spcPts val="612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ribuir responsabilidades (Hability to perform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64480" indent="-217080">
              <a:lnSpc>
                <a:spcPct val="80000"/>
              </a:lnSpc>
              <a:spcBef>
                <a:spcPts val="612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reinar as pessoas (Hability to perform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64480" indent="-217080">
              <a:lnSpc>
                <a:spcPct val="80000"/>
              </a:lnSpc>
              <a:spcBef>
                <a:spcPts val="612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renciar a configuração (Direct Implementatio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64480" indent="-217080">
              <a:lnSpc>
                <a:spcPct val="80000"/>
              </a:lnSpc>
              <a:spcBef>
                <a:spcPts val="612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entificar e envolver os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takeholder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levantes (Direct Implementatio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64480" indent="-217080">
              <a:lnSpc>
                <a:spcPct val="80000"/>
              </a:lnSpc>
              <a:spcBef>
                <a:spcPts val="612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nitorar e controlar o processo (Direct Implementatio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64480" indent="-217080">
              <a:lnSpc>
                <a:spcPct val="80000"/>
              </a:lnSpc>
              <a:spcBef>
                <a:spcPts val="612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valiar objetivamente a aderência ao processo (Verifying Implementatio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64480" indent="-217080">
              <a:lnSpc>
                <a:spcPct val="80000"/>
              </a:lnSpc>
              <a:spcBef>
                <a:spcPts val="612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visar o status com a alta gerência (Verifying Implementatio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644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644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3009C-E293-46B6-83DE-B15BD0CC61BC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FFDF1B-2190-4F31-BDFB-8E3DE39F50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0" dur="500"/>
                                        <p:tgtEl>
                                          <p:spTgt spid="3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3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3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3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MMI - Estrutura do Modelo -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presentação contínua</a:t>
            </a: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ntificando a melh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610920" y="2521080"/>
            <a:ext cx="6104160" cy="4147920"/>
            <a:chOff x="610920" y="2521080"/>
            <a:chExt cx="6104160" cy="4147920"/>
          </a:xfrm>
        </p:grpSpPr>
        <p:grpSp>
          <p:nvGrpSpPr>
            <p:cNvPr id="324" name=""/>
            <p:cNvGrpSpPr/>
            <p:nvPr/>
          </p:nvGrpSpPr>
          <p:grpSpPr>
            <a:xfrm>
              <a:off x="617760" y="2968560"/>
              <a:ext cx="6097320" cy="3421800"/>
              <a:chOff x="617760" y="2968560"/>
              <a:chExt cx="6097320" cy="3421800"/>
            </a:xfrm>
          </p:grpSpPr>
          <p:sp>
            <p:nvSpPr>
              <p:cNvPr id="325" name=""/>
              <p:cNvSpPr/>
              <p:nvPr/>
            </p:nvSpPr>
            <p:spPr>
              <a:xfrm>
                <a:off x="5592600" y="5704920"/>
                <a:ext cx="690120" cy="685440"/>
              </a:xfrm>
              <a:prstGeom prst="rect">
                <a:avLst/>
              </a:prstGeom>
              <a:gradFill rotWithShape="0">
                <a:gsLst>
                  <a:gs pos="0">
                    <a:srgbClr val="d4a9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592600" y="2969640"/>
                <a:ext cx="684000" cy="685440"/>
              </a:xfrm>
              <a:prstGeom prst="rect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592600" y="3654000"/>
                <a:ext cx="684000" cy="69480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589360" y="4338000"/>
                <a:ext cx="690480" cy="6807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591160" y="5020920"/>
                <a:ext cx="690120" cy="691560"/>
              </a:xfrm>
              <a:prstGeom prst="rect">
                <a:avLst/>
              </a:prstGeom>
              <a:gradFill rotWithShape="0">
                <a:gsLst>
                  <a:gs pos="0">
                    <a:srgbClr val="9933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17760" y="6386040"/>
                <a:ext cx="6097320" cy="0"/>
              </a:xfrm>
              <a:prstGeom prst="line">
                <a:avLst/>
              </a:prstGeom>
              <a:ln w="201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17760" y="5701680"/>
                <a:ext cx="6097320" cy="0"/>
              </a:xfrm>
              <a:prstGeom prst="line">
                <a:avLst/>
              </a:prstGeom>
              <a:ln w="20160">
                <a:solidFill>
                  <a:srgbClr val="cc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17760" y="5019120"/>
                <a:ext cx="6097320" cy="0"/>
              </a:xfrm>
              <a:prstGeom prst="line">
                <a:avLst/>
              </a:prstGeom>
              <a:ln w="20160">
                <a:solidFill>
                  <a:srgbClr val="99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17760" y="4335120"/>
                <a:ext cx="6097320" cy="0"/>
              </a:xfrm>
              <a:prstGeom prst="line">
                <a:avLst/>
              </a:prstGeom>
              <a:ln w="201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17760" y="3652200"/>
                <a:ext cx="6097320" cy="0"/>
              </a:xfrm>
              <a:prstGeom prst="line">
                <a:avLst/>
              </a:prstGeom>
              <a:ln w="20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17760" y="2968560"/>
                <a:ext cx="6097320" cy="0"/>
              </a:xfrm>
              <a:prstGeom prst="line">
                <a:avLst/>
              </a:prstGeom>
              <a:ln w="20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" name="PlaceHolder 3"/>
            <p:cNvSpPr>
              <a:spLocks noGrp="1"/>
            </p:cNvSpPr>
            <p:nvPr>
              <p:ph/>
            </p:nvPr>
          </p:nvSpPr>
          <p:spPr>
            <a:xfrm>
              <a:off x="610920" y="2521080"/>
              <a:ext cx="5467320" cy="414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720" rIns="90720" tIns="44640" bIns="44640" anchor="t">
              <a:normAutofit/>
            </a:bodyPr>
            <a:p>
              <a:pPr marL="171360" indent="0">
                <a:lnSpc>
                  <a:spcPct val="40000"/>
                </a:lnSpc>
                <a:spcAft>
                  <a:spcPts val="88"/>
                </a:spcAft>
                <a:buNone/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0">
                <a:lnSpc>
                  <a:spcPct val="85000"/>
                </a:lnSpc>
                <a:spcAft>
                  <a:spcPts val="88"/>
                </a:spcAft>
                <a:buNone/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5  Optimizin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0">
                <a:spcBef>
                  <a:spcPts val="349"/>
                </a:spcBef>
                <a:buNone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0">
                <a:lnSpc>
                  <a:spcPct val="85000"/>
                </a:lnSpc>
                <a:spcBef>
                  <a:spcPts val="349"/>
                </a:spcBef>
                <a:buNone/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0">
                <a:lnSpc>
                  <a:spcPct val="85000"/>
                </a:lnSpc>
                <a:spcBef>
                  <a:spcPts val="349"/>
                </a:spcBef>
                <a:buNone/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6666ff"/>
                  </a:solidFill>
                  <a:latin typeface="Verdana"/>
                </a:rPr>
                <a:t>4  Quantitatively Managed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0">
                <a:lnSpc>
                  <a:spcPct val="85000"/>
                </a:lnSpc>
                <a:spcBef>
                  <a:spcPts val="349"/>
                </a:spcBef>
                <a:buNone/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0">
                <a:lnSpc>
                  <a:spcPct val="85000"/>
                </a:lnSpc>
                <a:buNone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0">
                <a:lnSpc>
                  <a:spcPct val="85000"/>
                </a:lnSpc>
                <a:spcBef>
                  <a:spcPts val="349"/>
                </a:spcBef>
                <a:buNone/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6699ff"/>
                  </a:solidFill>
                  <a:latin typeface="Verdana"/>
                </a:rPr>
                <a:t>3  Defined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0">
                <a:buNone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0">
                <a:buNone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0">
                <a:lnSpc>
                  <a:spcPct val="85000"/>
                </a:lnSpc>
                <a:spcBef>
                  <a:spcPts val="349"/>
                </a:spcBef>
                <a:buNone/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9966ff"/>
                  </a:solidFill>
                  <a:latin typeface="Verdana"/>
                </a:rPr>
                <a:t>2  Managed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0">
                <a:lnSpc>
                  <a:spcPct val="85000"/>
                </a:lnSpc>
                <a:spcBef>
                  <a:spcPts val="1312"/>
                </a:spcBef>
                <a:buNone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0">
                <a:lnSpc>
                  <a:spcPct val="85000"/>
                </a:lnSpc>
                <a:spcBef>
                  <a:spcPts val="349"/>
                </a:spcBef>
                <a:buNone/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0">
                <a:lnSpc>
                  <a:spcPct val="85000"/>
                </a:lnSpc>
                <a:spcBef>
                  <a:spcPts val="349"/>
                </a:spcBef>
                <a:buNone/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cc99ff"/>
                  </a:solidFill>
                  <a:latin typeface="Verdana"/>
                </a:rPr>
                <a:t>1  Performed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0">
                <a:buNone/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0">
                <a:lnSpc>
                  <a:spcPct val="85000"/>
                </a:lnSpc>
                <a:spcBef>
                  <a:spcPts val="349"/>
                </a:spcBef>
                <a:buNone/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0">
                <a:lnSpc>
                  <a:spcPct val="85000"/>
                </a:lnSpc>
                <a:spcBef>
                  <a:spcPts val="349"/>
                </a:spcBef>
                <a:buNone/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ff3399"/>
                  </a:solidFill>
                  <a:latin typeface="Verdana"/>
                </a:rPr>
                <a:t>0  Incomplet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720000" y="184464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ac"/>
                </a:solidFill>
                <a:latin typeface="Verdana"/>
              </a:rPr>
              <a:t>Níveis de Capac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68360" y="5877000"/>
            <a:ext cx="496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68360" y="5805360"/>
            <a:ext cx="66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7d"/>
                </a:solidFill>
                <a:latin typeface="Verdana"/>
              </a:rPr>
              <a:t>Um processo que não está sendo executado ainda, ou está sendo parcialmente executado. Uma ou mais metas específicas da área de processo não são satisfeit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340000" y="5157720"/>
            <a:ext cx="66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7d"/>
                </a:solidFill>
                <a:latin typeface="Verdana"/>
              </a:rPr>
              <a:t>Um processo executado é um processo que satisfaz todas as metas específicas de uma área de processo</a:t>
            </a:r>
            <a:r>
              <a:rPr b="0" lang="en-US" sz="1200" spc="-1" strike="noStrike">
                <a:solidFill>
                  <a:srgbClr val="00007d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340000" y="4437000"/>
            <a:ext cx="66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7d"/>
                </a:solidFill>
                <a:latin typeface="Verdana"/>
              </a:rPr>
              <a:t>Um processo gerenciado é planejado e sua execução é acompanhada através do planejamento inic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340000" y="3789360"/>
            <a:ext cx="66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7d"/>
                </a:solidFill>
                <a:latin typeface="Verdana"/>
              </a:rPr>
              <a:t>Um processo adaptado a partir do conjunto de processos padrões da organização de acordo com as diretrizes definidas pela organiza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32000" y="3141720"/>
            <a:ext cx="554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7d"/>
                </a:solidFill>
                <a:latin typeface="Verdana"/>
              </a:rPr>
              <a:t>Um processo definido e controlado através de técnicas estatísticas ou outras técnicas quantitativas.</a:t>
            </a:r>
            <a:r>
              <a:rPr b="0" lang="en-US" sz="12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411280" y="2421000"/>
            <a:ext cx="619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7d"/>
                </a:solidFill>
                <a:latin typeface="Verdana"/>
              </a:rPr>
              <a:t>Um processo gerenciado quantitativamente que é modificado e adaptado a fim de atingir objetivos organizacionais tanto atuais, como futuros.</a:t>
            </a:r>
            <a:r>
              <a:rPr b="0" lang="en-US" sz="18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13AEB-AF82-4D3B-A9B1-5CAAA33598E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DB4275-32A6-49A4-93BD-519D6E9E28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MMI - Estrutura do Modelo -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presentação contínu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6840" y="1919160"/>
            <a:ext cx="7427880" cy="417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ofiles de Capacida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Área de processo e níveis de capacidade selecionados para a melhoria de process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900000" y="2565360"/>
          <a:ext cx="7427880" cy="1919160"/>
        </p:xfrm>
        <a:graphic>
          <a:graphicData uri="http://schemas.openxmlformats.org/drawingml/2006/table">
            <a:tbl>
              <a:tblPr/>
              <a:tblGrid>
                <a:gridCol w="1238400"/>
                <a:gridCol w="1238040"/>
                <a:gridCol w="1238400"/>
                <a:gridCol w="1236600"/>
                <a:gridCol w="1238400"/>
                <a:gridCol w="1238040"/>
              </a:tblGrid>
              <a:tr h="406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íveis de Capacidade selecionados para o pro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947880" y="5157720"/>
          <a:ext cx="671400" cy="365040"/>
        </p:xfrm>
        <a:graphic>
          <a:graphicData uri="http://schemas.openxmlformats.org/drawingml/2006/table">
            <a:tbl>
              <a:tblPr/>
              <a:tblGrid>
                <a:gridCol w="671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43318-9D3D-46DA-85C0-255272F12A6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7DB6BB-B11A-4A9F-A927-ACBCF45BCA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MMI - Estrutura do Modelo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presentação contínu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971640" y="2719440"/>
            <a:ext cx="7200720" cy="347652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457200" y="19810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trutura dos compon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EC163-19EC-49CA-810D-A1FFB96A47FB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133077-052D-454C-B6F0-B4A166BAA7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m pouco de CM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02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Históric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latório relatando dificuldades em todos os grandes contratos de Software do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Verdana"/>
                <a:hlinkClick r:id="rId1"/>
              </a:rPr>
              <a:t>Do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(Apresentação ISD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991 – CMM 1.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992 – CMM 1.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3160" indent="-17316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oncei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Verdana"/>
                <a:hlinkClick r:id="rId2"/>
              </a:rPr>
              <a:t>O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Verdana"/>
                <a:hlinkClick r:id="rId3"/>
              </a:rPr>
              <a:t>que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Verdana"/>
                <a:hlinkClick r:id="rId4"/>
              </a:rPr>
              <a:t> é CMM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Apresentação CMM 2003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3160" indent="-17316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Níveis de Maturidade do CM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rganização do CMM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Verdana"/>
                <a:hlinkClick r:id="rId5"/>
              </a:rPr>
              <a:t>5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Verdana"/>
                <a:hlinkClick r:id="rId6"/>
              </a:rPr>
              <a:t>Nívei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(Apresentação ISD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6588000" y="4869000"/>
            <a:ext cx="1656000" cy="139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D4CE8-6C9E-49FF-9B2E-19CBCB3656E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BA5532-8906-4DDD-A2A9-8651BD6772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MMI - Áreas de Processo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74360" y="1413000"/>
            <a:ext cx="7767720" cy="410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presentação Por Estág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2050920" y="1989000"/>
            <a:ext cx="4537080" cy="4526280"/>
          </a:xfrm>
          <a:prstGeom prst="rect">
            <a:avLst/>
          </a:prstGeom>
          <a:ln w="0">
            <a:noFill/>
          </a:ln>
        </p:spPr>
      </p:pic>
      <p:grpSp>
        <p:nvGrpSpPr>
          <p:cNvPr id="355" name=""/>
          <p:cNvGrpSpPr/>
          <p:nvPr/>
        </p:nvGrpSpPr>
        <p:grpSpPr>
          <a:xfrm>
            <a:off x="395280" y="2421000"/>
            <a:ext cx="1584360" cy="3816360"/>
            <a:chOff x="395280" y="2421000"/>
            <a:chExt cx="1584360" cy="3816360"/>
          </a:xfrm>
        </p:grpSpPr>
        <p:sp>
          <p:nvSpPr>
            <p:cNvPr id="356" name=""/>
            <p:cNvSpPr/>
            <p:nvPr/>
          </p:nvSpPr>
          <p:spPr>
            <a:xfrm>
              <a:off x="395280" y="2421000"/>
              <a:ext cx="431640" cy="328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Á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826920" y="2781360"/>
              <a:ext cx="115272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26920" y="4005360"/>
              <a:ext cx="10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26920" y="4005360"/>
              <a:ext cx="115272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6920" y="4005360"/>
              <a:ext cx="1152720" cy="22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0DE78-DF98-4D5E-9A5B-78D04FDCA013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AABC62-9A22-4FA3-9B11-8D071935490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MI - Áreas de Proces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7767720" cy="35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presentação Contínu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2268360" y="1989000"/>
            <a:ext cx="4751640" cy="4561200"/>
          </a:xfrm>
          <a:prstGeom prst="rect">
            <a:avLst/>
          </a:prstGeom>
          <a:ln w="0">
            <a:noFill/>
          </a:ln>
        </p:spPr>
      </p:pic>
      <p:grpSp>
        <p:nvGrpSpPr>
          <p:cNvPr id="364" name=""/>
          <p:cNvGrpSpPr/>
          <p:nvPr/>
        </p:nvGrpSpPr>
        <p:grpSpPr>
          <a:xfrm>
            <a:off x="395280" y="2075040"/>
            <a:ext cx="1800360" cy="4123440"/>
            <a:chOff x="395280" y="2075040"/>
            <a:chExt cx="1800360" cy="4123440"/>
          </a:xfrm>
        </p:grpSpPr>
        <p:sp>
          <p:nvSpPr>
            <p:cNvPr id="365" name=""/>
            <p:cNvSpPr/>
            <p:nvPr/>
          </p:nvSpPr>
          <p:spPr>
            <a:xfrm>
              <a:off x="395280" y="2075040"/>
              <a:ext cx="431640" cy="412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826920" y="2565360"/>
              <a:ext cx="1368720" cy="14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6920" y="4005360"/>
              <a:ext cx="136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26920" y="4005360"/>
              <a:ext cx="136872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26920" y="4005360"/>
              <a:ext cx="136872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FF9EF-DC3E-4C10-A927-4BCAB533318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1DA670-214B-4A9D-8AE6-0FA1C15921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Áreas de Proces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3986280" cy="51120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5292720" y="595008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peamento Equival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6312E-CF79-46D8-AAF7-8BB972650AF6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B82359-6C9A-483F-9757-8FE03B2203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W-CMM v1.1 vs. CMM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vas áreas de processo foram acrescentada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lhores práticas de melhoria de processo foram adicionadas aos requisitos do CMMI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tilização dos conceitos de metas e práticas genéricas para suportar as representações </a:t>
            </a:r>
            <a:r>
              <a:rPr b="1" lang="en-US" sz="1800" spc="-1" strike="noStrike">
                <a:solidFill>
                  <a:srgbClr val="ff6699"/>
                </a:solidFill>
                <a:latin typeface="Verdana"/>
              </a:rPr>
              <a:t>contínu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 por estági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4CD22-6022-4B91-8612-E58BC590C9BD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02A099-AB65-4B97-A69C-829898EBCB2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2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W-CMM v1.1 vs. CMM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ível 2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das as práticas referentes a medição e análise foram removidas do CMMI e incorporadas em uma nova área de processo Medição e Análi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ível 3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área de processo SPE -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oftware Product Engineering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i substituída por três novas áreas no CMMI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senvolvimento dos requisito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senvolvimento da solução técnica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gração do produto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visão por pares -&gt; nova área de processo de Verificação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riação de uma nova área para o Gerenciamento de risco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 áreas de processo Gerenciamento de Projeto de Software e Coordenação entre grupos foram combinadas na área de Gerenciamento de Projeto Integrado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riação da nova área: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ecision Analysis and Resolu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79280" y="1484280"/>
            <a:ext cx="813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íveis de maturidades mais impactad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36D0A-D280-4A25-9B4A-8F375FE8D907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0BD7CA-A0EE-4C63-84EB-22D17A70832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2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3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6" dur="5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2" dur="500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5" dur="500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8" dur="500"/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1" dur="500"/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4" dur="500"/>
                                        <p:tgtEl>
                                          <p:spTgt spid="3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"/>
          <p:cNvGrpSpPr/>
          <p:nvPr/>
        </p:nvGrpSpPr>
        <p:grpSpPr>
          <a:xfrm>
            <a:off x="250920" y="1362240"/>
            <a:ext cx="8575560" cy="5473440"/>
            <a:chOff x="250920" y="1362240"/>
            <a:chExt cx="8575560" cy="5473440"/>
          </a:xfrm>
        </p:grpSpPr>
        <p:sp>
          <p:nvSpPr>
            <p:cNvPr id="379" name=""/>
            <p:cNvSpPr/>
            <p:nvPr/>
          </p:nvSpPr>
          <p:spPr>
            <a:xfrm>
              <a:off x="1428840" y="1362240"/>
              <a:ext cx="7397640" cy="54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3483000"/>
                  <a:tab algn="l" pos="4290840"/>
                  <a:tab algn="l" pos="5079960"/>
                  <a:tab algn="l" pos="5888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fect Preven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9999ff"/>
                  </a:solidFill>
                  <a:latin typeface="Arial"/>
                </a:rPr>
                <a:t>Causal Analysis and Resol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83000"/>
                  <a:tab algn="l" pos="4290840"/>
                  <a:tab algn="l" pos="5079960"/>
                  <a:tab algn="l" pos="5888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chnology Change Mgm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9999ff"/>
                  </a:solidFill>
                  <a:latin typeface="Arial"/>
                </a:rPr>
                <a:t>Organizational Innovation &amp; Deploy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83000"/>
                  <a:tab algn="l" pos="4290840"/>
                  <a:tab algn="l" pos="5079960"/>
                  <a:tab algn="l" pos="5888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cess Change 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83000"/>
                  <a:tab algn="l" pos="4290840"/>
                  <a:tab algn="l" pos="5079960"/>
                  <a:tab algn="l" pos="5888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83000"/>
                  <a:tab algn="l" pos="4290840"/>
                  <a:tab algn="l" pos="5079960"/>
                  <a:tab algn="l" pos="5888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antitative Process Mgm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9999ff"/>
                  </a:solidFill>
                  <a:latin typeface="Arial"/>
                </a:rPr>
                <a:t>Organizational Process Perform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83000"/>
                  <a:tab algn="l" pos="4290840"/>
                  <a:tab algn="l" pos="5079960"/>
                  <a:tab algn="l" pos="5888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ftware Quality Mgm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9999ff"/>
                  </a:solidFill>
                  <a:latin typeface="Arial"/>
                </a:rPr>
                <a:t>Quantitative Project 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83000"/>
                  <a:tab algn="l" pos="4290840"/>
                  <a:tab algn="l" pos="5079960"/>
                  <a:tab algn="l" pos="5888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83000"/>
                  <a:tab algn="l" pos="4290840"/>
                  <a:tab algn="l" pos="5079960"/>
                  <a:tab algn="l" pos="5888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rganization Process Focus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9999ff"/>
                  </a:solidFill>
                  <a:latin typeface="Arial"/>
                </a:rPr>
                <a:t>Organization Process Focus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83000"/>
                  <a:tab algn="l" pos="4290840"/>
                  <a:tab algn="l" pos="5079960"/>
                  <a:tab algn="l" pos="5888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rganization Process Definition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9999ff"/>
                  </a:solidFill>
                  <a:latin typeface="Arial"/>
                </a:rPr>
                <a:t>Organization Process Defin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83000"/>
                  <a:tab algn="l" pos="4290840"/>
                  <a:tab algn="l" pos="5079960"/>
                  <a:tab algn="l" pos="5888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raining Program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9999ff"/>
                  </a:solidFill>
                  <a:latin typeface="Arial"/>
                </a:rPr>
                <a:t>Organizational Trai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83000"/>
                  <a:tab algn="l" pos="4290840"/>
                  <a:tab algn="l" pos="5079960"/>
                  <a:tab algn="l" pos="5888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grated Software Mgm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9999ff"/>
                  </a:solidFill>
                  <a:latin typeface="Arial"/>
                </a:rPr>
                <a:t>Integrated Project 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83000"/>
                  <a:tab algn="l" pos="4290840"/>
                  <a:tab algn="l" pos="5079960"/>
                  <a:tab algn="l" pos="5888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99cc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7d"/>
                  </a:solidFill>
                  <a:latin typeface="Arial"/>
                </a:rPr>
                <a:t>Risk 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83000"/>
                  <a:tab algn="l" pos="4290840"/>
                  <a:tab algn="l" pos="5079960"/>
                  <a:tab algn="l" pos="5888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ftware Product Engr.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7d"/>
                  </a:solidFill>
                  <a:latin typeface="Arial"/>
                </a:rPr>
                <a:t>Requirements Develop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83000"/>
                  <a:tab algn="l" pos="4290840"/>
                  <a:tab algn="l" pos="5079960"/>
                  <a:tab algn="l" pos="5888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99cc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7d"/>
                  </a:solidFill>
                  <a:latin typeface="Arial"/>
                </a:rPr>
                <a:t>Technical Sol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83000"/>
                  <a:tab algn="l" pos="4290840"/>
                  <a:tab algn="l" pos="5079960"/>
                  <a:tab algn="l" pos="5888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99cc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7d"/>
                  </a:solidFill>
                  <a:latin typeface="Arial"/>
                </a:rPr>
                <a:t>Product Integ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83000"/>
                  <a:tab algn="l" pos="4290840"/>
                  <a:tab algn="l" pos="5079960"/>
                  <a:tab algn="l" pos="5888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group Coordination </a:t>
              </a:r>
              <a:r>
                <a:rPr b="0" lang="en-US" sz="1600" spc="-1" strike="noStrike">
                  <a:solidFill>
                    <a:srgbClr val="9999cc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7d"/>
                  </a:solidFill>
                  <a:latin typeface="Arial"/>
                </a:rPr>
                <a:t>Ver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83000"/>
                  <a:tab algn="l" pos="4290840"/>
                  <a:tab algn="l" pos="5079960"/>
                  <a:tab algn="l" pos="5888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eer Reviews</a:t>
              </a:r>
              <a:r>
                <a:rPr b="0" lang="en-US" sz="1600" spc="-1" strike="noStrike">
                  <a:solidFill>
                    <a:srgbClr val="9999cc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9999cc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7d"/>
                  </a:solidFill>
                  <a:latin typeface="Arial"/>
                </a:rPr>
                <a:t>Valid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83000"/>
                  <a:tab algn="l" pos="4290840"/>
                  <a:tab algn="l" pos="5079960"/>
                  <a:tab algn="l" pos="5888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7d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7d"/>
                  </a:solidFill>
                  <a:latin typeface="Arial"/>
                </a:rPr>
                <a:t>Decision Analysis and Resol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83000"/>
                  <a:tab algn="l" pos="4290840"/>
                  <a:tab algn="l" pos="5079960"/>
                  <a:tab algn="l" pos="5888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83000"/>
                  <a:tab algn="l" pos="4290840"/>
                  <a:tab algn="l" pos="5079960"/>
                  <a:tab algn="l" pos="5888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quirements Manag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9999ff"/>
                  </a:solidFill>
                  <a:latin typeface="Arial"/>
                </a:rPr>
                <a:t>Requirements Management</a:t>
              </a:r>
              <a:r>
                <a:rPr b="0" lang="en-US" sz="1600" spc="-1" strike="noStrike">
                  <a:solidFill>
                    <a:srgbClr val="9999ff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83000"/>
                  <a:tab algn="l" pos="4290840"/>
                  <a:tab algn="l" pos="5079960"/>
                  <a:tab algn="l" pos="5888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ftware Project Planning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9999ff"/>
                  </a:solidFill>
                  <a:latin typeface="Arial"/>
                </a:rPr>
                <a:t>Project Plan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83000"/>
                  <a:tab algn="l" pos="4290840"/>
                  <a:tab algn="l" pos="5079960"/>
                  <a:tab algn="l" pos="5888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ftware Project Tracking &amp; Oversigh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9999ff"/>
                  </a:solidFill>
                  <a:latin typeface="Arial"/>
                </a:rPr>
                <a:t>Project Monitoring and Control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83000"/>
                  <a:tab algn="l" pos="4290840"/>
                  <a:tab algn="l" pos="5079960"/>
                  <a:tab algn="l" pos="5888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ftware Subcontract Mgm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9999ff"/>
                  </a:solidFill>
                  <a:latin typeface="Arial"/>
                </a:rPr>
                <a:t>Supplier Agreement 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83000"/>
                  <a:tab algn="l" pos="4290840"/>
                  <a:tab algn="l" pos="5079960"/>
                  <a:tab algn="l" pos="5888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ftware Quality Assuran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9999ff"/>
                  </a:solidFill>
                  <a:latin typeface="Arial"/>
                </a:rPr>
                <a:t>Product &amp; Process Quality Assuran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83000"/>
                  <a:tab algn="l" pos="4290840"/>
                  <a:tab algn="l" pos="5079960"/>
                  <a:tab algn="l" pos="5888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ftware Configuration Mgm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9999ff"/>
                  </a:solidFill>
                  <a:latin typeface="Arial"/>
                </a:rPr>
                <a:t>Configuration 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83000"/>
                  <a:tab algn="l" pos="4290840"/>
                  <a:tab algn="l" pos="5079960"/>
                  <a:tab algn="l" pos="5888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7d"/>
                  </a:solidFill>
                  <a:latin typeface="Arial"/>
                </a:rPr>
                <a:t>Measurement and 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0000" y="2144520"/>
              <a:ext cx="1155600" cy="559080"/>
            </a:xfrm>
            <a:prstGeom prst="roundRect">
              <a:avLst>
                <a:gd name="adj" fmla="val 12495"/>
              </a:avLst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99ff"/>
                  </a:solidFill>
                  <a:latin typeface="Arial"/>
                </a:rPr>
                <a:t>LEVEL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9999ff"/>
                  </a:solidFill>
                  <a:latin typeface="Arial"/>
                </a:rPr>
                <a:t>MANAG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08160" y="4660920"/>
              <a:ext cx="1155600" cy="558720"/>
            </a:xfrm>
            <a:prstGeom prst="roundRect">
              <a:avLst>
                <a:gd name="adj" fmla="val 12495"/>
              </a:avLst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99ff"/>
                  </a:solidFill>
                  <a:latin typeface="Arial"/>
                </a:rPr>
                <a:t>LEVEL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9999ff"/>
                  </a:solidFill>
                  <a:latin typeface="Arial"/>
                </a:rPr>
                <a:t>DEFIN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50920" y="6259320"/>
              <a:ext cx="1155600" cy="559080"/>
            </a:xfrm>
            <a:prstGeom prst="roundRect">
              <a:avLst>
                <a:gd name="adj" fmla="val 12495"/>
              </a:avLst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99ff"/>
                  </a:solidFill>
                  <a:latin typeface="Arial"/>
                </a:rPr>
                <a:t>LEVEL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9999ff"/>
                  </a:solidFill>
                  <a:latin typeface="Arial"/>
                </a:rPr>
                <a:t>REPEAT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6960" y="2044800"/>
              <a:ext cx="8272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6960" y="2693880"/>
              <a:ext cx="8272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26960" y="5219640"/>
              <a:ext cx="8272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26960" y="6835680"/>
              <a:ext cx="8272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0920" y="331920"/>
            <a:ext cx="776772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W-CMM v1.1 vs. CMMI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270000" y="1484280"/>
            <a:ext cx="4697280" cy="3301920"/>
            <a:chOff x="270000" y="1484280"/>
            <a:chExt cx="4697280" cy="3301920"/>
          </a:xfrm>
        </p:grpSpPr>
        <p:sp>
          <p:nvSpPr>
            <p:cNvPr id="389" name=""/>
            <p:cNvSpPr/>
            <p:nvPr/>
          </p:nvSpPr>
          <p:spPr>
            <a:xfrm>
              <a:off x="270000" y="1484280"/>
              <a:ext cx="1155600" cy="558720"/>
            </a:xfrm>
            <a:prstGeom prst="roundRect">
              <a:avLst>
                <a:gd name="adj" fmla="val 12495"/>
              </a:avLst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99ff"/>
                  </a:solidFill>
                  <a:latin typeface="Arial"/>
                </a:rPr>
                <a:t>LEVEL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9999ff"/>
                  </a:solidFill>
                  <a:latin typeface="Arial"/>
                </a:rPr>
                <a:t>OPTIMIZ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2843280" y="4552920"/>
              <a:ext cx="2058840" cy="231840"/>
            </a:xfrm>
            <a:prstGeom prst="line">
              <a:avLst/>
            </a:prstGeom>
            <a:ln w="28440">
              <a:solidFill>
                <a:srgbClr val="9191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3670200" y="3552480"/>
              <a:ext cx="1192320" cy="1019160"/>
            </a:xfrm>
            <a:prstGeom prst="line">
              <a:avLst/>
            </a:prstGeom>
            <a:ln w="28440">
              <a:solidFill>
                <a:srgbClr val="9191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19440" y="3921120"/>
              <a:ext cx="1347840" cy="0"/>
            </a:xfrm>
            <a:prstGeom prst="line">
              <a:avLst/>
            </a:prstGeom>
            <a:ln w="28440">
              <a:solidFill>
                <a:srgbClr val="9191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619440" y="3921120"/>
              <a:ext cx="1328760" cy="480960"/>
            </a:xfrm>
            <a:prstGeom prst="line">
              <a:avLst/>
            </a:prstGeom>
            <a:ln w="28440">
              <a:solidFill>
                <a:srgbClr val="9191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19440" y="3940200"/>
              <a:ext cx="1347840" cy="654120"/>
            </a:xfrm>
            <a:prstGeom prst="line">
              <a:avLst/>
            </a:prstGeom>
            <a:ln w="28440">
              <a:solidFill>
                <a:srgbClr val="9191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19440" y="3978360"/>
              <a:ext cx="1347840" cy="807840"/>
            </a:xfrm>
            <a:prstGeom prst="line">
              <a:avLst/>
            </a:prstGeom>
            <a:ln w="28440">
              <a:solidFill>
                <a:srgbClr val="9191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19440" y="3940200"/>
              <a:ext cx="1290600" cy="210960"/>
            </a:xfrm>
            <a:prstGeom prst="line">
              <a:avLst/>
            </a:prstGeom>
            <a:ln w="28440">
              <a:solidFill>
                <a:srgbClr val="9191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881520" y="3533760"/>
              <a:ext cx="1058760" cy="244440"/>
            </a:xfrm>
            <a:prstGeom prst="line">
              <a:avLst/>
            </a:prstGeom>
            <a:ln w="28440">
              <a:solidFill>
                <a:srgbClr val="9191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00600" y="3533760"/>
              <a:ext cx="1000080" cy="0"/>
            </a:xfrm>
            <a:prstGeom prst="line">
              <a:avLst/>
            </a:prstGeom>
            <a:ln w="28440">
              <a:solidFill>
                <a:srgbClr val="9191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76560" y="1677960"/>
              <a:ext cx="981360" cy="0"/>
            </a:xfrm>
            <a:prstGeom prst="line">
              <a:avLst/>
            </a:prstGeom>
            <a:ln w="28440">
              <a:solidFill>
                <a:srgbClr val="9191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4341960" y="1774800"/>
              <a:ext cx="537840" cy="77760"/>
            </a:xfrm>
            <a:prstGeom prst="line">
              <a:avLst/>
            </a:prstGeom>
            <a:ln w="28440">
              <a:solidFill>
                <a:srgbClr val="9191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46480" y="1484280"/>
              <a:ext cx="1712880" cy="0"/>
            </a:xfrm>
            <a:prstGeom prst="line">
              <a:avLst/>
            </a:prstGeom>
            <a:ln w="28440">
              <a:solidFill>
                <a:srgbClr val="9191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3780000" y="2420640"/>
              <a:ext cx="1079280" cy="144360"/>
            </a:xfrm>
            <a:prstGeom prst="line">
              <a:avLst/>
            </a:prstGeom>
            <a:ln w="28440">
              <a:solidFill>
                <a:srgbClr val="99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995640" y="2276640"/>
              <a:ext cx="863640" cy="144360"/>
            </a:xfrm>
            <a:prstGeom prst="line">
              <a:avLst/>
            </a:prstGeom>
            <a:ln w="28440">
              <a:solidFill>
                <a:srgbClr val="99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BABF2-1BF3-4ED1-9A94-0CA5C971EFB0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D164F2-5424-41D4-BE2E-89A790B0C0F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0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46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nclusõ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767720" cy="432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 CMMI é considerado o futuro da melhoria de process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iversas pesquisas têm corroborado essa premiss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É mais abrangente, engloba diversas disciplinas em um único modelo, com uma única estrutura, metodologia comum, nomenclatura padrão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ode ser utilizado no desenvolvimento de produtos, serviços e manutençã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struído sobre a estrutra do CMM, o modelo de melhoria de processo mais difundido e utilizado na comunidade de softwar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une melhores práticas de outros model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0468C-B984-4A8C-863B-C77B68D347FF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63C2B2-4646-418B-9BB1-562B980482E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1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4" dur="5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7" dur="500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0" dur="500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3" dur="500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6" dur="500"/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746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nsiderações fina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767720" cy="432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isto que ainda está em uso há muito pouco tempo, ainda são poucas as experiências relatadas que desmonstram o  retorno no investimento realizado e benefícios quantificáveis do uso do CMM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 retorno de investimentos leva um certo tempo para ser caracterizad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entanto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s diversos benefícios relatados através da implantação do SW-CMM podem ser considerados para o CMMI, umas vez que praticamente todos os conceitos foram mantidos no projeto CMMI!!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AF792-7DA5-4A9A-B3E2-FE0B35F8B2E4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1A9B57-F27D-48C3-9305-B74CC7ADD0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0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3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6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1" dur="5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4" dur="50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720" y="1449360"/>
            <a:ext cx="7767360" cy="144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MMI – Capability Maturity Model Integrat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"/>
          <p:cNvSpPr/>
          <p:nvPr/>
        </p:nvSpPr>
        <p:spPr>
          <a:xfrm>
            <a:off x="5766120" y="6021360"/>
            <a:ext cx="2934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Cibele Ataide – Out.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80"/>
                </a:solidFill>
                <a:latin typeface="Verdana"/>
              </a:rPr>
              <a:t>Cibele.ataide@cesar.org.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2666880" y="3174840"/>
            <a:ext cx="3199320" cy="2990160"/>
            <a:chOff x="2666880" y="3174840"/>
            <a:chExt cx="3199320" cy="2990160"/>
          </a:xfrm>
        </p:grpSpPr>
        <p:pic>
          <p:nvPicPr>
            <p:cNvPr id="411" name="" descr=""/>
            <p:cNvPicPr/>
            <p:nvPr/>
          </p:nvPicPr>
          <p:blipFill>
            <a:blip r:embed="rId1"/>
            <a:stretch/>
          </p:blipFill>
          <p:spPr>
            <a:xfrm>
              <a:off x="2880360" y="3174840"/>
              <a:ext cx="2985840" cy="248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2666880" y="5708520"/>
              <a:ext cx="18216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C6E5D-FE86-4AEB-9595-34023C257479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71F978-5319-4D8E-812E-64B924990A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0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Referênci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rold Keefer, Hanna Lubecka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The CMMI in 45 Minutes,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Dec. 200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MMI Product Development Team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MMI for Systems Engineering and Software Engineering – Continuous Representation, Version 1.1.  </a:t>
            </a: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CMU/SEI-2002-TR-001, Dec. 2001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MMI Product Development Team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MMI for Systems Engineering and Software Engineering – Staged Representation, Version 1.1.  </a:t>
            </a: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CMU/SEI-2002-TR-001, Dec. 2001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nnis A. Ahern, Aaron Clouse, Richard Turner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MMI Distilled.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inson-Wesley, 2001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pgrading from SW-CMM to CMMI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ftware Engineering Institute, The Road to CMMI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ry Beth Chrissis, Mike Konrad, Sandy Shrum, CMMI Guidelines for Process Integration and Product Improvement, Addinson-Wesley, 2003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www.sucesues.org.br/eventos/57/cmm.pdf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www.process-strategies.com/105.ht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7BCAA-A7B8-4B79-82EC-7B0CFFE3DAB3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6A7EC2-E89B-4136-9980-C0A0B7C991B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MMI - Introdução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entenas de organizações do mundo inteiro estão migrando seus esforços de melhoria de processos para o modelo integrado CMMI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é o final de 2002 cerca de 7000 pessoas realizaram o curso de Introdução ao CMMI ministrado pelo SEI e pelos seus parceiros autorizado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Brasil foi autorizado a ministrar esse treinamento desde junho de 2003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m único instrutor Brasileiro é capaz de ministrar esse treinamento (cerca de 140 existem no mundo inteir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9FE08-C1F2-447F-AB28-45D85446A36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575CCC-B469-4595-BB77-A454621463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MMI - Introdução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étodo de avaliação utilizado: SCAMP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AMPI (Standard CMMISM Assessment Method for Process Improvement):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Desenvolvido pelo Software Engineering Institute (SEI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étodo que reune as melhores práticas do CBA-PI e S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étodos amplamente utilizados pelo SW-CMM e outros modelos de melhoria de process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istem cerca de 160 avaliadores SCAMPI no mund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utorizados pelo SEI a realizar avaliações do CMMI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 CMMI foi construido sobre a base de conheciment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W-CM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-CM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PD-CM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SO 1550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utros Modelos de Melhoria do Process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0772D-65E5-4052-86F8-99CA82023C7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A3A8BE-3681-46E8-987D-B5AC38754D2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MMI - Histórico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gosto 2000 – Versão 1.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rço 2002 – Versão 1.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posta de um modelo integrado que pode ser utilizado em várias disciplina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sui foco nas disciplinas d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senvolvimento integrado do produto e processo (usada junto com práticas de produção de um produto específico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senvolvimento de sistemas (desenvolvimento de sistemas como um todo, incluindo software ou não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senvolvimento de Softwar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bcontratação (aquisição de produtos de fornecedores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ED087-1918-4E15-BDC3-E355A828265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D4C3FE-8730-4BA2-BC0A-6B8090748F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MMI - Introdução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É um modelo que descreve orientações para a definição e implantação de process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O que” X “Como”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 modelo não descreve processo algum, são orientações definidas através das práticas especificada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975760" y="3700440"/>
            <a:ext cx="2386800" cy="1024200"/>
            <a:chOff x="2975760" y="3700440"/>
            <a:chExt cx="2386800" cy="1024200"/>
          </a:xfrm>
        </p:grpSpPr>
        <p:sp>
          <p:nvSpPr>
            <p:cNvPr id="126" name=""/>
            <p:cNvSpPr/>
            <p:nvPr/>
          </p:nvSpPr>
          <p:spPr>
            <a:xfrm>
              <a:off x="2975760" y="3998880"/>
              <a:ext cx="295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713040" y="3700440"/>
              <a:ext cx="29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15560" y="4221000"/>
              <a:ext cx="29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03880" y="399888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0" name=""/>
            <p:cNvCxnSpPr>
              <a:stCxn id="126" idx="3"/>
              <a:endCxn id="127" idx="1"/>
            </p:cNvCxnSpPr>
            <p:nvPr/>
          </p:nvCxnSpPr>
          <p:spPr>
            <a:xfrm flipV="1">
              <a:off x="3276360" y="3852000"/>
              <a:ext cx="432360" cy="29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6" idx="3"/>
              <a:endCxn id="128" idx="1"/>
            </p:cNvCxnSpPr>
            <p:nvPr/>
          </p:nvCxnSpPr>
          <p:spPr>
            <a:xfrm>
              <a:off x="3276360" y="4151160"/>
              <a:ext cx="43236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7" idx="3"/>
              <a:endCxn id="129" idx="1"/>
            </p:cNvCxnSpPr>
            <p:nvPr/>
          </p:nvCxnSpPr>
          <p:spPr>
            <a:xfrm>
              <a:off x="4014360" y="3852360"/>
              <a:ext cx="384840" cy="29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8" idx="3"/>
              <a:endCxn id="129" idx="1"/>
            </p:cNvCxnSpPr>
            <p:nvPr/>
          </p:nvCxnSpPr>
          <p:spPr>
            <a:xfrm flipV="1">
              <a:off x="4016520" y="4150800"/>
              <a:ext cx="38304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4" name=""/>
            <p:cNvSpPr/>
            <p:nvPr/>
          </p:nvSpPr>
          <p:spPr>
            <a:xfrm>
              <a:off x="4788000" y="4149720"/>
              <a:ext cx="57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17960" y="4724280"/>
              <a:ext cx="14540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26" idx="2"/>
              <a:endCxn id="135" idx="0"/>
            </p:cNvCxnSpPr>
            <p:nvPr/>
          </p:nvCxnSpPr>
          <p:spPr>
            <a:xfrm flipH="1">
              <a:off x="3117240" y="4303800"/>
              <a:ext cx="6840" cy="4212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37" name=""/>
            <p:cNvCxnSpPr>
              <a:stCxn id="129" idx="2"/>
              <a:endCxn id="135" idx="1"/>
            </p:cNvCxnSpPr>
            <p:nvPr/>
          </p:nvCxnSpPr>
          <p:spPr>
            <a:xfrm>
              <a:off x="4559040" y="4303800"/>
              <a:ext cx="13320" cy="4212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138" name=""/>
            <p:cNvSpPr/>
            <p:nvPr/>
          </p:nvSpPr>
          <p:spPr>
            <a:xfrm>
              <a:off x="3851280" y="450864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060720" y="4724280"/>
            <a:ext cx="1582560" cy="1455480"/>
            <a:chOff x="3060720" y="4724280"/>
            <a:chExt cx="1582560" cy="1455480"/>
          </a:xfrm>
        </p:grpSpPr>
        <p:sp>
          <p:nvSpPr>
            <p:cNvPr id="140" name=""/>
            <p:cNvSpPr/>
            <p:nvPr/>
          </p:nvSpPr>
          <p:spPr>
            <a:xfrm>
              <a:off x="3736800" y="4724280"/>
              <a:ext cx="216000" cy="216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27640" y="5373720"/>
              <a:ext cx="215640" cy="216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060720" y="5445000"/>
              <a:ext cx="216000" cy="216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3" name=""/>
            <p:cNvCxnSpPr>
              <a:stCxn id="140" idx="2"/>
              <a:endCxn id="142" idx="0"/>
            </p:cNvCxnSpPr>
            <p:nvPr/>
          </p:nvCxnSpPr>
          <p:spPr>
            <a:xfrm flipV="1" rot="10800000">
              <a:off x="3168000" y="4831920"/>
              <a:ext cx="568800" cy="6134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44" name=""/>
            <p:cNvCxnSpPr>
              <a:stCxn id="142" idx="4"/>
              <a:endCxn id="141" idx="4"/>
            </p:cNvCxnSpPr>
            <p:nvPr/>
          </p:nvCxnSpPr>
          <p:spPr>
            <a:xfrm flipH="1" flipV="1" rot="5400000">
              <a:off x="3815280" y="4941360"/>
              <a:ext cx="72000" cy="1367640"/>
            </a:xfrm>
            <a:prstGeom prst="curvedConnector5">
              <a:avLst>
                <a:gd name="adj1" fmla="val -724120"/>
                <a:gd name="adj2" fmla="val 50000"/>
                <a:gd name="adj3" fmla="val -72412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45" name=""/>
            <p:cNvCxnSpPr>
              <a:stCxn id="140" idx="6"/>
              <a:endCxn id="141" idx="0"/>
            </p:cNvCxnSpPr>
            <p:nvPr/>
          </p:nvCxnSpPr>
          <p:spPr>
            <a:xfrm>
              <a:off x="3952440" y="4832280"/>
              <a:ext cx="583560" cy="5421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3305160" y="529416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roc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690560" y="5805360"/>
            <a:ext cx="289080" cy="863640"/>
            <a:chOff x="1690560" y="5805360"/>
            <a:chExt cx="289080" cy="863640"/>
          </a:xfrm>
        </p:grpSpPr>
        <p:sp>
          <p:nvSpPr>
            <p:cNvPr id="148" name=""/>
            <p:cNvSpPr/>
            <p:nvPr/>
          </p:nvSpPr>
          <p:spPr>
            <a:xfrm>
              <a:off x="1763640" y="5805360"/>
              <a:ext cx="142920" cy="14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90560" y="5948280"/>
              <a:ext cx="289080" cy="433080"/>
            </a:xfrm>
            <a:custGeom>
              <a:avLst/>
              <a:gdLst>
                <a:gd name="textAreaLeft" fmla="*/ 14040 w 289080"/>
                <a:gd name="textAreaRight" fmla="*/ 275040 w 289080"/>
                <a:gd name="textAreaTop" fmla="*/ 14040 h 433080"/>
                <a:gd name="textAreaBottom" fmla="*/ 419040 h 433080"/>
              </a:gdLst>
              <a:ahLst/>
              <a:rect l="textAreaLeft" t="textAreaTop" r="textAreaRight" b="textAreaBottom"/>
              <a:pathLst>
                <a:path w="21600" h="32346">
                  <a:moveTo>
                    <a:pt x="3600" y="0"/>
                  </a:moveTo>
                  <a:arcTo wR="3600" hR="3600" stAng="16200000" swAng="-5400000"/>
                  <a:lnTo>
                    <a:pt x="0" y="28746"/>
                  </a:lnTo>
                  <a:arcTo wR="3600" hR="3600" stAng="10800000" swAng="-5400000"/>
                  <a:lnTo>
                    <a:pt x="18000" y="323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49600" y="6381360"/>
              <a:ext cx="71280" cy="28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35280" y="6381360"/>
              <a:ext cx="71280" cy="28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050920" y="5805360"/>
            <a:ext cx="289080" cy="863640"/>
            <a:chOff x="2050920" y="5805360"/>
            <a:chExt cx="289080" cy="863640"/>
          </a:xfrm>
        </p:grpSpPr>
        <p:sp>
          <p:nvSpPr>
            <p:cNvPr id="153" name=""/>
            <p:cNvSpPr/>
            <p:nvPr/>
          </p:nvSpPr>
          <p:spPr>
            <a:xfrm>
              <a:off x="2124000" y="5805360"/>
              <a:ext cx="142920" cy="14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50920" y="5948280"/>
              <a:ext cx="289080" cy="433080"/>
            </a:xfrm>
            <a:custGeom>
              <a:avLst/>
              <a:gdLst>
                <a:gd name="textAreaLeft" fmla="*/ 14040 w 289080"/>
                <a:gd name="textAreaRight" fmla="*/ 275040 w 289080"/>
                <a:gd name="textAreaTop" fmla="*/ 14040 h 433080"/>
                <a:gd name="textAreaBottom" fmla="*/ 419040 h 433080"/>
              </a:gdLst>
              <a:ahLst/>
              <a:rect l="textAreaLeft" t="textAreaTop" r="textAreaRight" b="textAreaBottom"/>
              <a:pathLst>
                <a:path w="21600" h="32346">
                  <a:moveTo>
                    <a:pt x="3600" y="0"/>
                  </a:moveTo>
                  <a:arcTo wR="3600" hR="3600" stAng="16200000" swAng="-5400000"/>
                  <a:lnTo>
                    <a:pt x="0" y="28746"/>
                  </a:lnTo>
                  <a:arcTo wR="3600" hR="3600" stAng="10800000" swAng="-5400000"/>
                  <a:lnTo>
                    <a:pt x="18000" y="323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09960" y="6381360"/>
              <a:ext cx="71280" cy="28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95640" y="6381360"/>
              <a:ext cx="71280" cy="28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411280" y="5805360"/>
            <a:ext cx="289080" cy="863640"/>
            <a:chOff x="2411280" y="5805360"/>
            <a:chExt cx="289080" cy="863640"/>
          </a:xfrm>
        </p:grpSpPr>
        <p:sp>
          <p:nvSpPr>
            <p:cNvPr id="158" name=""/>
            <p:cNvSpPr/>
            <p:nvPr/>
          </p:nvSpPr>
          <p:spPr>
            <a:xfrm>
              <a:off x="2484360" y="5805360"/>
              <a:ext cx="142920" cy="14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411280" y="5948280"/>
              <a:ext cx="289080" cy="433080"/>
            </a:xfrm>
            <a:custGeom>
              <a:avLst/>
              <a:gdLst>
                <a:gd name="textAreaLeft" fmla="*/ 14040 w 289080"/>
                <a:gd name="textAreaRight" fmla="*/ 275040 w 289080"/>
                <a:gd name="textAreaTop" fmla="*/ 14040 h 433080"/>
                <a:gd name="textAreaBottom" fmla="*/ 419040 h 433080"/>
              </a:gdLst>
              <a:ahLst/>
              <a:rect l="textAreaLeft" t="textAreaTop" r="textAreaRight" b="textAreaBottom"/>
              <a:pathLst>
                <a:path w="21600" h="32346">
                  <a:moveTo>
                    <a:pt x="3600" y="0"/>
                  </a:moveTo>
                  <a:arcTo wR="3600" hR="3600" stAng="16200000" swAng="-5400000"/>
                  <a:lnTo>
                    <a:pt x="0" y="28746"/>
                  </a:lnTo>
                  <a:arcTo wR="3600" hR="3600" stAng="10800000" swAng="-5400000"/>
                  <a:lnTo>
                    <a:pt x="18000" y="323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470320" y="6381360"/>
              <a:ext cx="71280" cy="28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56000" y="6381360"/>
              <a:ext cx="71280" cy="28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031000" y="5590440"/>
            <a:ext cx="1179000" cy="1008360"/>
            <a:chOff x="5031000" y="5590440"/>
            <a:chExt cx="1179000" cy="1008360"/>
          </a:xfrm>
        </p:grpSpPr>
        <p:sp>
          <p:nvSpPr>
            <p:cNvPr id="163" name=""/>
            <p:cNvSpPr/>
            <p:nvPr/>
          </p:nvSpPr>
          <p:spPr>
            <a:xfrm>
              <a:off x="5031000" y="5590440"/>
              <a:ext cx="459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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50280" y="5590440"/>
              <a:ext cx="459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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988A9-1A5D-4B41-841F-8EE7F4EE59F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463D29-1976-4344-974B-38023CDD23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MMI - Introduçã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ém da integração dos modelos e redução dos custos com melhorias de processo, os seguintes objetivos também fazem parte do projeto CMM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mento do foco das atividade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gração dos processos existente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iminar inconsitência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duzir duplicações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rnecer terminologia comum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segurar consistência com a norma ISO 15504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* Flexibilidade e Extensão para outras disciplin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BCFCF-624F-4859-AACB-7BBC2293942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CDED79-739D-4719-9B03-6AE07DF904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CMMI - Introduçã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2205000"/>
            <a:ext cx="4282920" cy="3322800"/>
          </a:xfrm>
          <a:prstGeom prst="rightArrowCallout">
            <a:avLst>
              <a:gd name="adj1" fmla="val 20289"/>
              <a:gd name="adj2" fmla="val 24319"/>
              <a:gd name="adj3" fmla="val 14930"/>
              <a:gd name="adj4" fmla="val 80625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5360" indent="-22536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7d"/>
                </a:solidFill>
                <a:latin typeface="Verdana"/>
              </a:rPr>
              <a:t>Sour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5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apability Maturity Model for Software V2, draft C (SW-CMM V2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5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lectronic Industries Alliance 731, System Engineering Capability Model (SEC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5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tegrated Product Development Capability Maturity Model, draft V0.98 (IPD-CM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303520" y="1378080"/>
            <a:ext cx="3877200" cy="2361960"/>
            <a:chOff x="5303520" y="1378080"/>
            <a:chExt cx="3877200" cy="2361960"/>
          </a:xfrm>
        </p:grpSpPr>
        <p:grpSp>
          <p:nvGrpSpPr>
            <p:cNvPr id="170" name=""/>
            <p:cNvGrpSpPr/>
            <p:nvPr/>
          </p:nvGrpSpPr>
          <p:grpSpPr>
            <a:xfrm>
              <a:off x="5303520" y="1378080"/>
              <a:ext cx="3557880" cy="2361960"/>
              <a:chOff x="5303520" y="1378080"/>
              <a:chExt cx="3557880" cy="2361960"/>
            </a:xfrm>
          </p:grpSpPr>
          <p:sp>
            <p:nvSpPr>
              <p:cNvPr id="171" name=""/>
              <p:cNvSpPr/>
              <p:nvPr/>
            </p:nvSpPr>
            <p:spPr>
              <a:xfrm>
                <a:off x="5376960" y="1390680"/>
                <a:ext cx="1517400" cy="2154240"/>
              </a:xfrm>
              <a:custGeom>
                <a:avLst/>
                <a:gdLst/>
                <a:ahLst/>
                <a:rect l="l" t="t" r="r" b="b"/>
                <a:pathLst>
                  <a:path w="956" h="1357">
                    <a:moveTo>
                      <a:pt x="0" y="143"/>
                    </a:moveTo>
                    <a:lnTo>
                      <a:pt x="866" y="0"/>
                    </a:lnTo>
                    <a:lnTo>
                      <a:pt x="892" y="0"/>
                    </a:lnTo>
                    <a:lnTo>
                      <a:pt x="911" y="0"/>
                    </a:lnTo>
                    <a:lnTo>
                      <a:pt x="931" y="0"/>
                    </a:lnTo>
                    <a:lnTo>
                      <a:pt x="943" y="7"/>
                    </a:lnTo>
                    <a:lnTo>
                      <a:pt x="950" y="13"/>
                    </a:lnTo>
                    <a:lnTo>
                      <a:pt x="950" y="26"/>
                    </a:lnTo>
                    <a:lnTo>
                      <a:pt x="956" y="39"/>
                    </a:lnTo>
                    <a:lnTo>
                      <a:pt x="956" y="52"/>
                    </a:lnTo>
                    <a:lnTo>
                      <a:pt x="956" y="104"/>
                    </a:lnTo>
                    <a:lnTo>
                      <a:pt x="956" y="1182"/>
                    </a:lnTo>
                    <a:lnTo>
                      <a:pt x="0" y="1357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rgbClr val="00007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629320" y="1413000"/>
                <a:ext cx="1384200" cy="2225520"/>
              </a:xfrm>
              <a:custGeom>
                <a:avLst/>
                <a:gdLst/>
                <a:ahLst/>
                <a:rect l="l" t="t" r="r" b="b"/>
                <a:pathLst>
                  <a:path w="872" h="1402">
                    <a:moveTo>
                      <a:pt x="0" y="181"/>
                    </a:moveTo>
                    <a:lnTo>
                      <a:pt x="0" y="1402"/>
                    </a:lnTo>
                    <a:lnTo>
                      <a:pt x="814" y="1176"/>
                    </a:lnTo>
                    <a:lnTo>
                      <a:pt x="827" y="1176"/>
                    </a:lnTo>
                    <a:lnTo>
                      <a:pt x="846" y="1169"/>
                    </a:lnTo>
                    <a:lnTo>
                      <a:pt x="859" y="1156"/>
                    </a:lnTo>
                    <a:lnTo>
                      <a:pt x="866" y="1150"/>
                    </a:lnTo>
                    <a:lnTo>
                      <a:pt x="866" y="1137"/>
                    </a:lnTo>
                    <a:lnTo>
                      <a:pt x="866" y="1124"/>
                    </a:lnTo>
                    <a:lnTo>
                      <a:pt x="866" y="1111"/>
                    </a:lnTo>
                    <a:lnTo>
                      <a:pt x="866" y="1092"/>
                    </a:lnTo>
                    <a:lnTo>
                      <a:pt x="866" y="52"/>
                    </a:lnTo>
                    <a:lnTo>
                      <a:pt x="872" y="32"/>
                    </a:lnTo>
                    <a:lnTo>
                      <a:pt x="866" y="19"/>
                    </a:lnTo>
                    <a:lnTo>
                      <a:pt x="859" y="6"/>
                    </a:lnTo>
                    <a:lnTo>
                      <a:pt x="846" y="0"/>
                    </a:lnTo>
                    <a:lnTo>
                      <a:pt x="840" y="0"/>
                    </a:lnTo>
                    <a:lnTo>
                      <a:pt x="827" y="0"/>
                    </a:lnTo>
                    <a:lnTo>
                      <a:pt x="807" y="0"/>
                    </a:lnTo>
                    <a:lnTo>
                      <a:pt x="795" y="0"/>
                    </a:lnTo>
                    <a:lnTo>
                      <a:pt x="782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ddd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500800" y="1617840"/>
                <a:ext cx="236520" cy="193320"/>
              </a:xfrm>
              <a:custGeom>
                <a:avLst/>
                <a:gdLst/>
                <a:ahLst/>
                <a:rect l="l" t="t" r="r" b="b"/>
                <a:pathLst>
                  <a:path w="149" h="122">
                    <a:moveTo>
                      <a:pt x="0" y="64"/>
                    </a:moveTo>
                    <a:lnTo>
                      <a:pt x="6" y="51"/>
                    </a:lnTo>
                    <a:lnTo>
                      <a:pt x="19" y="45"/>
                    </a:lnTo>
                    <a:lnTo>
                      <a:pt x="32" y="32"/>
                    </a:lnTo>
                    <a:lnTo>
                      <a:pt x="45" y="25"/>
                    </a:lnTo>
                    <a:lnTo>
                      <a:pt x="58" y="19"/>
                    </a:lnTo>
                    <a:lnTo>
                      <a:pt x="71" y="6"/>
                    </a:lnTo>
                    <a:lnTo>
                      <a:pt x="84" y="6"/>
                    </a:lnTo>
                    <a:lnTo>
                      <a:pt x="97" y="0"/>
                    </a:lnTo>
                    <a:lnTo>
                      <a:pt x="103" y="0"/>
                    </a:lnTo>
                    <a:lnTo>
                      <a:pt x="116" y="0"/>
                    </a:lnTo>
                    <a:lnTo>
                      <a:pt x="123" y="0"/>
                    </a:lnTo>
                    <a:lnTo>
                      <a:pt x="129" y="6"/>
                    </a:lnTo>
                    <a:lnTo>
                      <a:pt x="136" y="12"/>
                    </a:lnTo>
                    <a:lnTo>
                      <a:pt x="142" y="12"/>
                    </a:lnTo>
                    <a:lnTo>
                      <a:pt x="149" y="25"/>
                    </a:lnTo>
                    <a:lnTo>
                      <a:pt x="149" y="32"/>
                    </a:lnTo>
                    <a:lnTo>
                      <a:pt x="149" y="38"/>
                    </a:lnTo>
                    <a:lnTo>
                      <a:pt x="149" y="51"/>
                    </a:lnTo>
                    <a:lnTo>
                      <a:pt x="149" y="58"/>
                    </a:lnTo>
                    <a:lnTo>
                      <a:pt x="142" y="71"/>
                    </a:lnTo>
                    <a:lnTo>
                      <a:pt x="136" y="77"/>
                    </a:lnTo>
                    <a:lnTo>
                      <a:pt x="129" y="90"/>
                    </a:lnTo>
                    <a:lnTo>
                      <a:pt x="116" y="103"/>
                    </a:lnTo>
                    <a:lnTo>
                      <a:pt x="110" y="116"/>
                    </a:lnTo>
                    <a:lnTo>
                      <a:pt x="97" y="122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491080" y="1596960"/>
                <a:ext cx="246240" cy="204840"/>
              </a:xfrm>
              <a:custGeom>
                <a:avLst/>
                <a:gdLst/>
                <a:ahLst/>
                <a:rect l="l" t="t" r="r" b="b"/>
                <a:pathLst>
                  <a:path w="155" h="129">
                    <a:moveTo>
                      <a:pt x="0" y="64"/>
                    </a:moveTo>
                    <a:lnTo>
                      <a:pt x="12" y="58"/>
                    </a:lnTo>
                    <a:lnTo>
                      <a:pt x="19" y="45"/>
                    </a:lnTo>
                    <a:lnTo>
                      <a:pt x="32" y="38"/>
                    </a:lnTo>
                    <a:lnTo>
                      <a:pt x="51" y="25"/>
                    </a:lnTo>
                    <a:lnTo>
                      <a:pt x="64" y="19"/>
                    </a:lnTo>
                    <a:lnTo>
                      <a:pt x="77" y="13"/>
                    </a:lnTo>
                    <a:lnTo>
                      <a:pt x="83" y="6"/>
                    </a:lnTo>
                    <a:lnTo>
                      <a:pt x="96" y="6"/>
                    </a:lnTo>
                    <a:lnTo>
                      <a:pt x="109" y="0"/>
                    </a:lnTo>
                    <a:lnTo>
                      <a:pt x="116" y="0"/>
                    </a:lnTo>
                    <a:lnTo>
                      <a:pt x="129" y="6"/>
                    </a:lnTo>
                    <a:lnTo>
                      <a:pt x="135" y="6"/>
                    </a:lnTo>
                    <a:lnTo>
                      <a:pt x="142" y="13"/>
                    </a:lnTo>
                    <a:lnTo>
                      <a:pt x="148" y="19"/>
                    </a:lnTo>
                    <a:lnTo>
                      <a:pt x="148" y="25"/>
                    </a:lnTo>
                    <a:lnTo>
                      <a:pt x="155" y="32"/>
                    </a:lnTo>
                    <a:lnTo>
                      <a:pt x="155" y="45"/>
                    </a:lnTo>
                    <a:lnTo>
                      <a:pt x="155" y="51"/>
                    </a:lnTo>
                    <a:lnTo>
                      <a:pt x="148" y="64"/>
                    </a:lnTo>
                    <a:lnTo>
                      <a:pt x="148" y="71"/>
                    </a:lnTo>
                    <a:lnTo>
                      <a:pt x="142" y="84"/>
                    </a:lnTo>
                    <a:lnTo>
                      <a:pt x="135" y="90"/>
                    </a:lnTo>
                    <a:lnTo>
                      <a:pt x="122" y="103"/>
                    </a:lnTo>
                    <a:lnTo>
                      <a:pt x="109" y="122"/>
                    </a:lnTo>
                    <a:lnTo>
                      <a:pt x="103" y="129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479920" y="1924200"/>
                <a:ext cx="61920" cy="7272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479920" y="1924200"/>
                <a:ext cx="61920" cy="727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7"/>
                    </a:moveTo>
                    <a:lnTo>
                      <a:pt x="19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32" y="13"/>
                    </a:lnTo>
                    <a:lnTo>
                      <a:pt x="32" y="13"/>
                    </a:lnTo>
                    <a:lnTo>
                      <a:pt x="32" y="13"/>
                    </a:lnTo>
                    <a:lnTo>
                      <a:pt x="32" y="13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26"/>
                    </a:lnTo>
                    <a:lnTo>
                      <a:pt x="7" y="26"/>
                    </a:lnTo>
                    <a:lnTo>
                      <a:pt x="7" y="26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20"/>
                    </a:lnTo>
                    <a:lnTo>
                      <a:pt x="39" y="20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2" y="39"/>
                    </a:lnTo>
                    <a:lnTo>
                      <a:pt x="32" y="39"/>
                    </a:lnTo>
                    <a:lnTo>
                      <a:pt x="32" y="39"/>
                    </a:lnTo>
                    <a:lnTo>
                      <a:pt x="32" y="39"/>
                    </a:lnTo>
                    <a:lnTo>
                      <a:pt x="26" y="46"/>
                    </a:lnTo>
                    <a:lnTo>
                      <a:pt x="26" y="46"/>
                    </a:lnTo>
                    <a:lnTo>
                      <a:pt x="26" y="46"/>
                    </a:lnTo>
                    <a:lnTo>
                      <a:pt x="26" y="46"/>
                    </a:lnTo>
                    <a:lnTo>
                      <a:pt x="19" y="46"/>
                    </a:lnTo>
                    <a:lnTo>
                      <a:pt x="19" y="46"/>
                    </a:lnTo>
                    <a:lnTo>
                      <a:pt x="19" y="46"/>
                    </a:lnTo>
                    <a:lnTo>
                      <a:pt x="13" y="46"/>
                    </a:lnTo>
                    <a:lnTo>
                      <a:pt x="13" y="46"/>
                    </a:lnTo>
                    <a:lnTo>
                      <a:pt x="13" y="46"/>
                    </a:lnTo>
                    <a:lnTo>
                      <a:pt x="13" y="46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1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479920" y="3227400"/>
                <a:ext cx="61920" cy="7128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479920" y="3227400"/>
                <a:ext cx="61920" cy="712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6"/>
                    </a:moveTo>
                    <a:lnTo>
                      <a:pt x="19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32" y="13"/>
                    </a:lnTo>
                    <a:lnTo>
                      <a:pt x="32" y="13"/>
                    </a:lnTo>
                    <a:lnTo>
                      <a:pt x="32" y="13"/>
                    </a:lnTo>
                    <a:lnTo>
                      <a:pt x="32" y="13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19" y="38"/>
                    </a:lnTo>
                    <a:lnTo>
                      <a:pt x="19" y="38"/>
                    </a:lnTo>
                    <a:lnTo>
                      <a:pt x="19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2"/>
                    </a:lnTo>
                    <a:lnTo>
                      <a:pt x="13" y="32"/>
                    </a:lnTo>
                    <a:lnTo>
                      <a:pt x="13" y="32"/>
                    </a:lnTo>
                    <a:lnTo>
                      <a:pt x="13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19"/>
                    </a:lnTo>
                    <a:lnTo>
                      <a:pt x="39" y="19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32"/>
                    </a:lnTo>
                    <a:lnTo>
                      <a:pt x="39" y="32"/>
                    </a:lnTo>
                    <a:lnTo>
                      <a:pt x="39" y="32"/>
                    </a:lnTo>
                    <a:lnTo>
                      <a:pt x="39" y="32"/>
                    </a:lnTo>
                    <a:lnTo>
                      <a:pt x="32" y="38"/>
                    </a:lnTo>
                    <a:lnTo>
                      <a:pt x="32" y="38"/>
                    </a:lnTo>
                    <a:lnTo>
                      <a:pt x="32" y="38"/>
                    </a:lnTo>
                    <a:lnTo>
                      <a:pt x="32" y="38"/>
                    </a:lnTo>
                    <a:lnTo>
                      <a:pt x="26" y="45"/>
                    </a:lnTo>
                    <a:lnTo>
                      <a:pt x="26" y="45"/>
                    </a:lnTo>
                    <a:lnTo>
                      <a:pt x="26" y="45"/>
                    </a:lnTo>
                    <a:lnTo>
                      <a:pt x="26" y="45"/>
                    </a:lnTo>
                    <a:lnTo>
                      <a:pt x="19" y="45"/>
                    </a:lnTo>
                    <a:lnTo>
                      <a:pt x="19" y="45"/>
                    </a:lnTo>
                    <a:lnTo>
                      <a:pt x="19" y="45"/>
                    </a:lnTo>
                    <a:lnTo>
                      <a:pt x="13" y="45"/>
                    </a:lnTo>
                    <a:lnTo>
                      <a:pt x="13" y="45"/>
                    </a:lnTo>
                    <a:lnTo>
                      <a:pt x="13" y="45"/>
                    </a:lnTo>
                    <a:lnTo>
                      <a:pt x="13" y="45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1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20997000">
                <a:off x="5354280" y="1846440"/>
                <a:ext cx="1900080" cy="75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</a:rPr>
                  <a:t>CMMI-SE/S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7d"/>
                    </a:solidFill>
                    <a:latin typeface="Verdana"/>
                  </a:rPr>
                  <a:t>Stage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</a:rPr>
                  <a:t>Represent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211880" y="1378080"/>
                <a:ext cx="1517760" cy="2154240"/>
              </a:xfrm>
              <a:custGeom>
                <a:avLst/>
                <a:gdLst/>
                <a:ahLst/>
                <a:rect l="l" t="t" r="r" b="b"/>
                <a:pathLst>
                  <a:path w="956" h="1357">
                    <a:moveTo>
                      <a:pt x="0" y="143"/>
                    </a:moveTo>
                    <a:lnTo>
                      <a:pt x="866" y="0"/>
                    </a:lnTo>
                    <a:lnTo>
                      <a:pt x="892" y="0"/>
                    </a:lnTo>
                    <a:lnTo>
                      <a:pt x="911" y="0"/>
                    </a:lnTo>
                    <a:lnTo>
                      <a:pt x="931" y="0"/>
                    </a:lnTo>
                    <a:lnTo>
                      <a:pt x="943" y="7"/>
                    </a:lnTo>
                    <a:lnTo>
                      <a:pt x="950" y="13"/>
                    </a:lnTo>
                    <a:lnTo>
                      <a:pt x="950" y="26"/>
                    </a:lnTo>
                    <a:lnTo>
                      <a:pt x="956" y="39"/>
                    </a:lnTo>
                    <a:lnTo>
                      <a:pt x="956" y="52"/>
                    </a:lnTo>
                    <a:lnTo>
                      <a:pt x="956" y="104"/>
                    </a:lnTo>
                    <a:lnTo>
                      <a:pt x="956" y="1182"/>
                    </a:lnTo>
                    <a:lnTo>
                      <a:pt x="0" y="1357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rgbClr val="00007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477200" y="1514520"/>
                <a:ext cx="1384200" cy="2225520"/>
              </a:xfrm>
              <a:custGeom>
                <a:avLst/>
                <a:gdLst/>
                <a:ahLst/>
                <a:rect l="l" t="t" r="r" b="b"/>
                <a:pathLst>
                  <a:path w="872" h="1402">
                    <a:moveTo>
                      <a:pt x="0" y="181"/>
                    </a:moveTo>
                    <a:lnTo>
                      <a:pt x="0" y="1402"/>
                    </a:lnTo>
                    <a:lnTo>
                      <a:pt x="814" y="1176"/>
                    </a:lnTo>
                    <a:lnTo>
                      <a:pt x="827" y="1176"/>
                    </a:lnTo>
                    <a:lnTo>
                      <a:pt x="846" y="1169"/>
                    </a:lnTo>
                    <a:lnTo>
                      <a:pt x="859" y="1156"/>
                    </a:lnTo>
                    <a:lnTo>
                      <a:pt x="866" y="1150"/>
                    </a:lnTo>
                    <a:lnTo>
                      <a:pt x="866" y="1137"/>
                    </a:lnTo>
                    <a:lnTo>
                      <a:pt x="866" y="1124"/>
                    </a:lnTo>
                    <a:lnTo>
                      <a:pt x="866" y="1111"/>
                    </a:lnTo>
                    <a:lnTo>
                      <a:pt x="866" y="1092"/>
                    </a:lnTo>
                    <a:lnTo>
                      <a:pt x="866" y="52"/>
                    </a:lnTo>
                    <a:lnTo>
                      <a:pt x="872" y="32"/>
                    </a:lnTo>
                    <a:lnTo>
                      <a:pt x="866" y="19"/>
                    </a:lnTo>
                    <a:lnTo>
                      <a:pt x="859" y="6"/>
                    </a:lnTo>
                    <a:lnTo>
                      <a:pt x="846" y="0"/>
                    </a:lnTo>
                    <a:lnTo>
                      <a:pt x="840" y="0"/>
                    </a:lnTo>
                    <a:lnTo>
                      <a:pt x="827" y="0"/>
                    </a:lnTo>
                    <a:lnTo>
                      <a:pt x="807" y="0"/>
                    </a:lnTo>
                    <a:lnTo>
                      <a:pt x="795" y="0"/>
                    </a:lnTo>
                    <a:lnTo>
                      <a:pt x="782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ddd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335720" y="1604880"/>
                <a:ext cx="236520" cy="193680"/>
              </a:xfrm>
              <a:custGeom>
                <a:avLst/>
                <a:gdLst/>
                <a:ahLst/>
                <a:rect l="l" t="t" r="r" b="b"/>
                <a:pathLst>
                  <a:path w="149" h="122">
                    <a:moveTo>
                      <a:pt x="0" y="64"/>
                    </a:moveTo>
                    <a:lnTo>
                      <a:pt x="6" y="51"/>
                    </a:lnTo>
                    <a:lnTo>
                      <a:pt x="19" y="45"/>
                    </a:lnTo>
                    <a:lnTo>
                      <a:pt x="32" y="32"/>
                    </a:lnTo>
                    <a:lnTo>
                      <a:pt x="45" y="25"/>
                    </a:lnTo>
                    <a:lnTo>
                      <a:pt x="58" y="19"/>
                    </a:lnTo>
                    <a:lnTo>
                      <a:pt x="71" y="6"/>
                    </a:lnTo>
                    <a:lnTo>
                      <a:pt x="84" y="6"/>
                    </a:lnTo>
                    <a:lnTo>
                      <a:pt x="97" y="0"/>
                    </a:lnTo>
                    <a:lnTo>
                      <a:pt x="103" y="0"/>
                    </a:lnTo>
                    <a:lnTo>
                      <a:pt x="116" y="0"/>
                    </a:lnTo>
                    <a:lnTo>
                      <a:pt x="123" y="0"/>
                    </a:lnTo>
                    <a:lnTo>
                      <a:pt x="129" y="6"/>
                    </a:lnTo>
                    <a:lnTo>
                      <a:pt x="136" y="12"/>
                    </a:lnTo>
                    <a:lnTo>
                      <a:pt x="142" y="12"/>
                    </a:lnTo>
                    <a:lnTo>
                      <a:pt x="149" y="25"/>
                    </a:lnTo>
                    <a:lnTo>
                      <a:pt x="149" y="32"/>
                    </a:lnTo>
                    <a:lnTo>
                      <a:pt x="149" y="38"/>
                    </a:lnTo>
                    <a:lnTo>
                      <a:pt x="149" y="51"/>
                    </a:lnTo>
                    <a:lnTo>
                      <a:pt x="149" y="58"/>
                    </a:lnTo>
                    <a:lnTo>
                      <a:pt x="142" y="71"/>
                    </a:lnTo>
                    <a:lnTo>
                      <a:pt x="136" y="77"/>
                    </a:lnTo>
                    <a:lnTo>
                      <a:pt x="129" y="90"/>
                    </a:lnTo>
                    <a:lnTo>
                      <a:pt x="116" y="103"/>
                    </a:lnTo>
                    <a:lnTo>
                      <a:pt x="110" y="116"/>
                    </a:lnTo>
                    <a:lnTo>
                      <a:pt x="97" y="122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315200" y="1911240"/>
                <a:ext cx="61920" cy="7308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315200" y="1911240"/>
                <a:ext cx="61920" cy="730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7"/>
                    </a:moveTo>
                    <a:lnTo>
                      <a:pt x="19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32" y="13"/>
                    </a:lnTo>
                    <a:lnTo>
                      <a:pt x="32" y="13"/>
                    </a:lnTo>
                    <a:lnTo>
                      <a:pt x="32" y="13"/>
                    </a:lnTo>
                    <a:lnTo>
                      <a:pt x="32" y="13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26"/>
                    </a:lnTo>
                    <a:lnTo>
                      <a:pt x="7" y="26"/>
                    </a:lnTo>
                    <a:lnTo>
                      <a:pt x="7" y="26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20"/>
                    </a:lnTo>
                    <a:lnTo>
                      <a:pt x="39" y="20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2" y="39"/>
                    </a:lnTo>
                    <a:lnTo>
                      <a:pt x="32" y="39"/>
                    </a:lnTo>
                    <a:lnTo>
                      <a:pt x="32" y="39"/>
                    </a:lnTo>
                    <a:lnTo>
                      <a:pt x="32" y="39"/>
                    </a:lnTo>
                    <a:lnTo>
                      <a:pt x="26" y="46"/>
                    </a:lnTo>
                    <a:lnTo>
                      <a:pt x="26" y="46"/>
                    </a:lnTo>
                    <a:lnTo>
                      <a:pt x="26" y="46"/>
                    </a:lnTo>
                    <a:lnTo>
                      <a:pt x="26" y="46"/>
                    </a:lnTo>
                    <a:lnTo>
                      <a:pt x="19" y="46"/>
                    </a:lnTo>
                    <a:lnTo>
                      <a:pt x="19" y="46"/>
                    </a:lnTo>
                    <a:lnTo>
                      <a:pt x="19" y="46"/>
                    </a:lnTo>
                    <a:lnTo>
                      <a:pt x="13" y="46"/>
                    </a:lnTo>
                    <a:lnTo>
                      <a:pt x="13" y="46"/>
                    </a:lnTo>
                    <a:lnTo>
                      <a:pt x="13" y="46"/>
                    </a:lnTo>
                    <a:lnTo>
                      <a:pt x="13" y="46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1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315200" y="3214800"/>
                <a:ext cx="61920" cy="7128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15200" y="3214800"/>
                <a:ext cx="61920" cy="712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6"/>
                    </a:moveTo>
                    <a:lnTo>
                      <a:pt x="19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32" y="13"/>
                    </a:lnTo>
                    <a:lnTo>
                      <a:pt x="32" y="13"/>
                    </a:lnTo>
                    <a:lnTo>
                      <a:pt x="32" y="13"/>
                    </a:lnTo>
                    <a:lnTo>
                      <a:pt x="32" y="13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19" y="38"/>
                    </a:lnTo>
                    <a:lnTo>
                      <a:pt x="19" y="38"/>
                    </a:lnTo>
                    <a:lnTo>
                      <a:pt x="19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2"/>
                    </a:lnTo>
                    <a:lnTo>
                      <a:pt x="13" y="32"/>
                    </a:lnTo>
                    <a:lnTo>
                      <a:pt x="13" y="32"/>
                    </a:lnTo>
                    <a:lnTo>
                      <a:pt x="13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19"/>
                    </a:lnTo>
                    <a:lnTo>
                      <a:pt x="39" y="19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32"/>
                    </a:lnTo>
                    <a:lnTo>
                      <a:pt x="39" y="32"/>
                    </a:lnTo>
                    <a:lnTo>
                      <a:pt x="39" y="32"/>
                    </a:lnTo>
                    <a:lnTo>
                      <a:pt x="39" y="32"/>
                    </a:lnTo>
                    <a:lnTo>
                      <a:pt x="32" y="38"/>
                    </a:lnTo>
                    <a:lnTo>
                      <a:pt x="32" y="38"/>
                    </a:lnTo>
                    <a:lnTo>
                      <a:pt x="32" y="38"/>
                    </a:lnTo>
                    <a:lnTo>
                      <a:pt x="32" y="38"/>
                    </a:lnTo>
                    <a:lnTo>
                      <a:pt x="26" y="45"/>
                    </a:lnTo>
                    <a:lnTo>
                      <a:pt x="26" y="45"/>
                    </a:lnTo>
                    <a:lnTo>
                      <a:pt x="26" y="45"/>
                    </a:lnTo>
                    <a:lnTo>
                      <a:pt x="26" y="45"/>
                    </a:lnTo>
                    <a:lnTo>
                      <a:pt x="19" y="45"/>
                    </a:lnTo>
                    <a:lnTo>
                      <a:pt x="19" y="45"/>
                    </a:lnTo>
                    <a:lnTo>
                      <a:pt x="19" y="45"/>
                    </a:lnTo>
                    <a:lnTo>
                      <a:pt x="13" y="45"/>
                    </a:lnTo>
                    <a:lnTo>
                      <a:pt x="13" y="45"/>
                    </a:lnTo>
                    <a:lnTo>
                      <a:pt x="13" y="45"/>
                    </a:lnTo>
                    <a:lnTo>
                      <a:pt x="13" y="45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1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 rot="21130800">
              <a:off x="7236720" y="1920960"/>
              <a:ext cx="1900080" cy="76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CMMI-SE/SW</a:t>
              </a:r>
              <a:br>
                <a:rPr sz="1200"/>
              </a:b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7d"/>
                  </a:solidFill>
                  <a:latin typeface="Verdana"/>
                </a:rPr>
                <a:t>Continuo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Represent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5032440" y="3716280"/>
            <a:ext cx="4111560" cy="18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2680" indent="-1126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odelo integrado de Engenharia de Sistemas/Engenharia de Softw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ode se aplica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280" indent="-16812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PP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280" indent="-16812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ngenharia de sistema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280" indent="-16812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ngenharia de softwa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280" indent="-16812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E0D04-0C02-49C1-AFA3-42CCE31805E7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70EE31-CF7D-4515-8C1A-28A0997342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2T22:42:33Z</dcterms:created>
  <dc:creator/>
  <dc:description/>
  <dc:language>en-US</dc:language>
  <cp:lastModifiedBy>Thayssa Águila da Rocha</cp:lastModifiedBy>
  <cp:lastPrinted>2002-09-16T13:52:32Z</cp:lastPrinted>
  <dcterms:modified xsi:type="dcterms:W3CDTF">2004-06-14T12:19:47Z</dcterms:modified>
  <cp:revision>171</cp:revision>
  <dc:subject/>
  <dc:title>CMMI – Capability Maturity Model Integrated</dc:title>
</cp:coreProperties>
</file>