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0" y="49320"/>
            <a:ext cx="9144000" cy="68086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179280" y="189000"/>
            <a:ext cx="8785440" cy="6480000"/>
          </a:xfrm>
          <a:prstGeom prst="roundRect">
            <a:avLst>
              <a:gd name="adj" fmla="val 7912"/>
            </a:avLst>
          </a:prstGeom>
          <a:noFill/>
          <a:ln w="1270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>
          <a:xfrm>
            <a:off x="498240" y="609300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4630F-008E-466F-A223-0780B1DE8246}" type="datetime">
              <a:rPr b="1" lang="en-US" sz="1400" spc="-1" strike="noStrike">
                <a:solidFill>
                  <a:srgbClr val="80808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>
          <a:xfrm>
            <a:off x="6213240" y="60930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hyperlink" Target="http://www.compera.com.br/" TargetMode="External"/><Relationship Id="rId2" Type="http://schemas.openxmlformats.org/officeDocument/2006/relationships/hyperlink" Target="http://www.cit.com.br/" TargetMode="External"/><Relationship Id="rId3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hyperlink" Target="http://www.ericsson.com/" TargetMode="External"/><Relationship Id="rId2" Type="http://schemas.openxmlformats.org/officeDocument/2006/relationships/hyperlink" Target="http://www.ericsson.com/" TargetMode="External"/><Relationship Id="rId3" Type="http://schemas.openxmlformats.org/officeDocument/2006/relationships/hyperlink" Target="http://www.ericsson.com/" TargetMode="External"/><Relationship Id="rId4" Type="http://schemas.openxmlformats.org/officeDocument/2006/relationships/hyperlink" Target="http://www.ti.com/asia/docs/india" TargetMode="External"/><Relationship Id="rId5" Type="http://schemas.openxmlformats.org/officeDocument/2006/relationships/hyperlink" Target="http://www.ti.com/asia/docs/india" TargetMode="External"/><Relationship Id="rId6" Type="http://schemas.openxmlformats.org/officeDocument/2006/relationships/hyperlink" Target="http://www.atosorigin.com/" TargetMode="External"/><Relationship Id="rId7" Type="http://schemas.openxmlformats.org/officeDocument/2006/relationships/hyperlink" Target="http://www.atosorigin.com/" TargetMode="External"/><Relationship Id="rId8" Type="http://schemas.openxmlformats.org/officeDocument/2006/relationships/hyperlink" Target="http://www.atosorigin.com/" TargetMode="External"/><Relationship Id="rId9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55640" y="1196640"/>
            <a:ext cx="77724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DEAL</a:t>
            </a:r>
            <a:r>
              <a:rPr b="0" lang="en-US" sz="4000" spc="-1" strike="noStrike" baseline="30000">
                <a:solidFill>
                  <a:srgbClr val="000000"/>
                </a:solidFill>
                <a:latin typeface="Arial"/>
              </a:rPr>
              <a:t>SM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– Modelo para Melhoria de Processo de Softwa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03280" y="3068640"/>
            <a:ext cx="6400800" cy="2790720"/>
          </a:xfrm>
          <a:prstGeom prst="roundRect">
            <a:avLst>
              <a:gd name="adj" fmla="val 16667"/>
            </a:avLst>
          </a:prstGeom>
          <a:noFill/>
          <a:ln w="507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411200" y="3213000"/>
            <a:ext cx="6400800" cy="26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versidade Federal de Pernambu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entro de Informát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ós-Graduação em Ciência da Computaç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ópicos Avançados em Engenharia de Software I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andro Ronaldo Bezerra Olivei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rbo@cin.ufpe.b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N/UFP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1E31CE-8B2C-49F1-BA21-7871B8CCBDC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414000"/>
            <a:ext cx="80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ímulo à Mudanç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1268280"/>
            <a:ext cx="8207280" cy="0"/>
          </a:xfrm>
          <a:prstGeom prst="line">
            <a:avLst/>
          </a:prstGeom>
          <a:ln w="7632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Algo que propiciou o uso do modelo IDEA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A natureza do estímulo pode variar extensament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Reação a eventos / circunstâncias antecipada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Decreto de mudança como parte de uma estratégia de mudança contínua pró-ativa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O estímulo pode alcançar influências na condução e no sucesso do esforço da última mudança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N/UFP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96AB91-C2DA-4893-B227-A3DD7C3FA99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Neste estudo de caso, o estímulo para a ação era condição do prédio do SEI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s paredes internas não tinham sido pintadas por diversos anos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omo conseqüência, elas estavam sujas, rachadas e riscadas ao ponto de ser óbvio aos visitantes e de refletir negativamente à imagem do SEI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ém disso, os itens internos – os tapetes, os dispositivos elétricos – estavam em situações degradantes, o que contribuía para esta imagem negativa e reforçava a necessidade por reparos gerai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456840" y="414000"/>
            <a:ext cx="80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900" spc="-1" strike="noStrike">
                <a:solidFill>
                  <a:srgbClr val="000000"/>
                </a:solidFill>
                <a:latin typeface="Arial"/>
              </a:rPr>
              <a:t>Estudo de Caso by SEI [Vause.97]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1268280"/>
            <a:ext cx="8207280" cy="0"/>
          </a:xfrm>
          <a:prstGeom prst="line">
            <a:avLst/>
          </a:prstGeom>
          <a:ln w="7632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N/UFP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5BEFC4-8009-45B7-B42F-A85A125FB20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414000"/>
            <a:ext cx="80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ição do Contex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1268280"/>
            <a:ext cx="8207280" cy="0"/>
          </a:xfrm>
          <a:prstGeom prst="line">
            <a:avLst/>
          </a:prstGeom>
          <a:ln w="7632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5720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Significa estar muito certo sobre onde esta mudança se ajusta dentro da estratégia de negócio da organizaçã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Esta atividade requer que haja considerações a respeit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Da missão central da Organização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Dos objetivos de negócio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De uma visão coerente para o futuro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De uma estratégia para realização da visão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De modelos de referência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O contexto e as implicações tornam-se freqüentemente mais claros à medida que o esforço prossegu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N/UFP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447509-468F-4112-87EB-4653BB48456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ma solução óbvia ao estímulo devia ser limpar os itens e pintar as pare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etanto, o SEI ocupa um prédio grande no qual 300 pessoas trabalha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disposição do edifício assemelha-se a um labirinto, com muitas baias, escritórios, e pequenos espaços administrativ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equipe de funcionários de SEI vive ocupada e alguns destes ficam no prédio todo temp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s escritórios individuais e seus conteúdos, em especial os equipamento de computador, são usados intensamen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proibição prolongada do acesso a estes escritórios afetaria significativamente a produtivida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par e pintar tão rapidamente e economicamente o prédio sem interromper as operações normais do SEI seriam o desafio princip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68360" y="1268280"/>
            <a:ext cx="8207280" cy="0"/>
          </a:xfrm>
          <a:prstGeom prst="line">
            <a:avLst/>
          </a:prstGeom>
          <a:ln w="7632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456840" y="414000"/>
            <a:ext cx="80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900" spc="-1" strike="noStrike">
                <a:solidFill>
                  <a:srgbClr val="000000"/>
                </a:solidFill>
                <a:latin typeface="Arial"/>
              </a:rPr>
              <a:t>Estudo de Caso by SEI [Vause.97]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N/UFP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EEBC3B-B8D6-4A03-AF94-E59DF1F9ACD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414000"/>
            <a:ext cx="80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ição do Patrocinad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68360" y="1268280"/>
            <a:ext cx="8207280" cy="0"/>
          </a:xfrm>
          <a:prstGeom prst="line">
            <a:avLst/>
          </a:prstGeom>
          <a:ln w="7632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5720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3964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Patrocinador é o nível mais alto de suporte a um esforço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Patrocinadores são mais efetivos se el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Dão atenção pessoal ao esforç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Não deixam de lado a mudança em períodos difícei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Provêem recursos escassos ao esforç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Mudam seus próprios comportamentos para ser consistentes com a melhoria que está sendo implementad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É um elemento crítico para contribuir com o sucesso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É o elemento que deve ser convencido que o esforço é necessário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N/UFP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7A5F2D-8EB0-420C-A6E8-85671BBAA86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145692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 patrocinador neste caso era o dono do prédio, que teve que concordar em financiar os serviços do contratante da pintur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s as outras organizações envolvidas tiveram o controle direto ou indireto do Gerente de Serviços do Prédio do SE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 patrocínio do prédio foi o processo de convencer o dono a pintar o prédio, que era uma coisa necessária a se faz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 Gerente poderia ter convencido sobre diversas maneir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lvez a maneira mais ortodoxa seria persuadir o dono (usando as condições óbvias do prédio) que a pintura era necessár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retanto, o Gerente escolheu usar os termos do acordo original do aluguel, que indicava que o prédio deveria ter sido pintado a cada cinco anos – onde ao longo de dez anos o prédio não havia sido pintado, caracterizando violação dos termos do alugue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 convencimento depende da natureza do esforç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68360" y="1268280"/>
            <a:ext cx="8207280" cy="0"/>
          </a:xfrm>
          <a:prstGeom prst="line">
            <a:avLst/>
          </a:prstGeom>
          <a:ln w="7632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title"/>
          </p:nvPr>
        </p:nvSpPr>
        <p:spPr>
          <a:xfrm>
            <a:off x="456840" y="414000"/>
            <a:ext cx="80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900" spc="-1" strike="noStrike">
                <a:solidFill>
                  <a:srgbClr val="000000"/>
                </a:solidFill>
                <a:latin typeface="Arial"/>
              </a:rPr>
              <a:t>Estudo de Caso by SEI [Vause.97]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N/UFP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567EC9-9410-4426-BF9D-D906AED6EAE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414000"/>
            <a:ext cx="80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stabelecimento da Infra-estrutur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68360" y="1268280"/>
            <a:ext cx="8207280" cy="0"/>
          </a:xfrm>
          <a:prstGeom prst="line">
            <a:avLst/>
          </a:prstGeom>
          <a:ln w="7632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3964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Arial"/>
              </a:rPr>
              <a:t>Implementar mudança requer freqüentemente o estabelecimento de estruturas organizacionai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Arial"/>
              </a:rPr>
              <a:t>A infra-estrutura deve incluir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000000"/>
                </a:solidFill>
                <a:latin typeface="Arial"/>
              </a:rPr>
              <a:t>Um grupo com visão gerencial (pessoas com uma visão mais superior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000000"/>
                </a:solidFill>
                <a:latin typeface="Arial"/>
              </a:rPr>
              <a:t>Um grupo que agencie a mudança (equipe de pessoas monitorada pelo grupo anterior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000000"/>
                </a:solidFill>
                <a:latin typeface="Arial"/>
              </a:rPr>
              <a:t>Um ou mais grupos de trabalho técnico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Arial"/>
              </a:rPr>
              <a:t>Estabelecer estes grupos envolve desenvolver um acordo explícito que descreva as responsabilidades de cada um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Arial"/>
              </a:rPr>
              <a:t>Não é possível (desejável) estabelecer os grupos de trabalho técnicos durante a fase </a:t>
            </a:r>
            <a:r>
              <a:rPr b="1" i="1" lang="pt-BR" sz="1900" spc="-1" strike="noStrike">
                <a:solidFill>
                  <a:srgbClr val="000000"/>
                </a:solidFill>
                <a:latin typeface="Arial"/>
              </a:rPr>
              <a:t>Initiating</a:t>
            </a:r>
            <a:r>
              <a:rPr b="1" lang="pt-BR" sz="1900" spc="-1" strike="noStrike">
                <a:solidFill>
                  <a:srgbClr val="000000"/>
                </a:solidFill>
                <a:latin typeface="Arial"/>
              </a:rPr>
              <a:t> (mas antecipá-los deve ser uma prática aceitável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N/UFP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40BDBE-523C-43F8-9ED6-0CC2EA3EC24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250560" y="1413000"/>
            <a:ext cx="8569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O coordenador do esforço era o Gerente de Serviços do prédio do SEI, mas ele e a sua equipe de funcionários tinham de direcionar os esforços de pelo menos outras seis organizaçõ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Embora cada uma destas organizações existissem independentemente do esforço da pintura, elas formaram uma única "meta-organização" provisória com a finalidade do projeto de limpeza e pintur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Esta organização formou a infra-estrutura para o esforço da pintura, com as finalidades de cada componente especificado antecipadamen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Os contratantes da pintura deviam assegurar todas as suas tarefa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O grupo da limpeza deveria executar todo o escovamento dos tapetes e a limpeza dos dispositivos elétric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Os funcionários responsáveis pelos telefones deviam assegurar todos as mudanças do mesm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 equipe de suporte computacional deveria assegurar que todos os equipamentos de computador estivessem desligados como requerido e afastados, como meio de segurança, da equipe de pintura e limpez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 equipe de serviços do prédio deveria assegurar que todos materiais e caixas embaladas fossem movidas para fora das salas e dos espaços a serem pintad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Os ocupantes dos escritórios deveriam assegurar que todos os seus pertences pessoais e do trabalho estivessem embalados em caixa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68360" y="1268280"/>
            <a:ext cx="8207280" cy="0"/>
          </a:xfrm>
          <a:prstGeom prst="line">
            <a:avLst/>
          </a:prstGeom>
          <a:ln w="7632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456840" y="414000"/>
            <a:ext cx="80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900" spc="-1" strike="noStrike">
                <a:solidFill>
                  <a:srgbClr val="000000"/>
                </a:solidFill>
                <a:latin typeface="Arial"/>
              </a:rPr>
              <a:t>Estudo de Caso by SEI [Vause.97]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N/UFP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4C3906-7EEB-4A40-8CE2-947C62A833F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156636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O objetivo é desenvolver um entendimento mais completo do trabalho de melhoria, a partir da definição do estado atual e do estado futuro desejado para a Organizaçã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ções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Identificar o Estado Atual da Organização no que tange ao padrão relacionado ou modelo de referência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Identificar o Estado Desejado para a Organização de encontro ao mesmo padrão ou modelo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Recomendar ações que moverão a Organização de onde ela está para onde se quer que ela esteja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Identificar obstáculos potenciais para este esforço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title"/>
          </p:nvPr>
        </p:nvSpPr>
        <p:spPr>
          <a:xfrm>
            <a:off x="456840" y="414000"/>
            <a:ext cx="80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Fase </a:t>
            </a:r>
            <a:r>
              <a:rPr b="0" i="1" lang="pt-BR" sz="4400" spc="-1" strike="noStrike">
                <a:solidFill>
                  <a:srgbClr val="000000"/>
                </a:solidFill>
                <a:latin typeface="Arial"/>
              </a:rPr>
              <a:t>Diagnosing</a:t>
            </a: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 -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68360" y="1268280"/>
            <a:ext cx="8207280" cy="0"/>
          </a:xfrm>
          <a:prstGeom prst="line">
            <a:avLst/>
          </a:prstGeom>
          <a:ln w="7632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N/UFP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00DB55-4F7C-438A-B859-5A0BB03D0C5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8360" y="414000"/>
            <a:ext cx="813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Fase </a:t>
            </a:r>
            <a:r>
              <a:rPr b="0" i="1" lang="pt-BR" sz="4400" spc="-1" strike="noStrike">
                <a:solidFill>
                  <a:srgbClr val="000000"/>
                </a:solidFill>
                <a:latin typeface="Arial"/>
              </a:rPr>
              <a:t>Diagnosing</a:t>
            </a: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 - Ativida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68360" y="1268280"/>
            <a:ext cx="8207280" cy="0"/>
          </a:xfrm>
          <a:prstGeom prst="line">
            <a:avLst/>
          </a:prstGeom>
          <a:ln w="7632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9640" y="14241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aracterizar o Estado Atual e o Estado Futuro desejado para a Organização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esenvolver Recomendações de como proceder nas fases seguint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132000" y="3357720"/>
            <a:ext cx="2224080" cy="28080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1692360" y="4365720"/>
            <a:ext cx="1584360" cy="536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N/UFP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C11B86-AAEC-4C8B-8A44-EBADA46635D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414000"/>
            <a:ext cx="80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Contex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Modelo IDE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Overview das f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Atividades das f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studo de Ca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Implementação do Modelo IDE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Referênci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68360" y="1268280"/>
            <a:ext cx="8207280" cy="0"/>
          </a:xfrm>
          <a:prstGeom prst="line">
            <a:avLst/>
          </a:prstGeom>
          <a:ln w="7632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N/UFP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CE370A-6B1F-4D5F-B3AB-9828FBF480F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68360" y="414000"/>
            <a:ext cx="813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aracterizar os Estados Atual e Desejado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68360" y="1268280"/>
            <a:ext cx="8207280" cy="0"/>
          </a:xfrm>
          <a:prstGeom prst="line">
            <a:avLst/>
          </a:prstGeom>
          <a:ln w="7632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3964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O Estado Desejado é aquele que a Organização estará depois que a mudança estiver sido implementada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O Estado Atual é aquele que a Organização está agora com respeito ao Estado Desejado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Definir estes estados é muito mais fácil se exist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Um modelo de referência (ex: CMM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Instrumentos padronizados e metodologias associadas ao model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Objetivos de negócio alinhados com o esforço da mudanç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N/UFP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234948-3984-4E6E-88DC-04E59EA6142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 prédio em seu estado atual não tinha sido pintado e nem limpado inteiramente durante dez an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 paredes e os tetos estavam sujos; as paredes tinham rachaduras e furos; a pintura foi desvanecida e lascada; e os dispositivos elétricos estavam suj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 estado desejado era um prédio em que todos os espaços tivessem de ser esfregados, todos os furos e rachaduras tivessem de ser reparados, todas as luminárias estivessem limpas, e todas as paredes e tetos fossem repintad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stas indicações podem parecer muito similares ao “Estímulo à Mudança”, mas eles são mais detalhados ao longo em que os problemas são detectad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indicação do estímulo alertou simplesmente que o prédio estava com pintura su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stado atua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do prédio, como determinado pela inspeção, mostrava por exemplo que umas das salas estava com uma rachadura profunda no canto esquerdo, ou que o assoalho de outra sala estava com um buraco enor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stado desejad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não era o prédio simplesmente pintado, mas um prédio em que todas as falhas discretas do estado atual fossem corrigida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8360" y="1268280"/>
            <a:ext cx="8207280" cy="0"/>
          </a:xfrm>
          <a:prstGeom prst="line">
            <a:avLst/>
          </a:prstGeom>
          <a:ln w="7632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title"/>
          </p:nvPr>
        </p:nvSpPr>
        <p:spPr>
          <a:xfrm>
            <a:off x="456840" y="414000"/>
            <a:ext cx="80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900" spc="-1" strike="noStrike">
                <a:solidFill>
                  <a:srgbClr val="000000"/>
                </a:solidFill>
                <a:latin typeface="Arial"/>
              </a:rPr>
              <a:t>Estudo de Caso by SEI [Vause.97]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N/UFP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89080F-8202-4F0E-9C32-E974A8C2E06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360" y="414000"/>
            <a:ext cx="813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envolver Recomendaçõ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68360" y="1268280"/>
            <a:ext cx="8207280" cy="0"/>
          </a:xfrm>
          <a:prstGeom prst="line">
            <a:avLst/>
          </a:prstGeom>
          <a:ln w="7632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39640" y="1700280"/>
            <a:ext cx="822960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Arial"/>
              </a:rPr>
              <a:t>Analisa o “gap” entre o Estado Atual e o Estado Desejado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Arial"/>
              </a:rPr>
              <a:t>Determina aspectos do Estado Atual para serem retido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Arial"/>
              </a:rPr>
              <a:t>Determina o trabalho para alcançar o Estado Desejado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Arial"/>
              </a:rPr>
              <a:t>Alinha as recomendações com os objetivos do negócio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Arial"/>
              </a:rPr>
              <a:t>Identifica projetos potenciais que poderiam servir como piloto ou test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N/UFP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60F98C-ED3A-4B34-8D00-453AFE15A15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 recomendações foram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 prédio do SEI deveria ser limpado e pintado simultaneamente com uma colaboração de diversos grup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e esforço deveria ser feito durante operações normais do negócio e sem nenhum tempo de reserv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e esforço deveria ser feito em cooperação com os ocupantes do prédio e não de encontro a eles ou em sua ausênci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recomendação não era “limpar e pintar o prédio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 recomendações referem-se às maneiras e aos meios empregados para se partir do estado atual ao estado deseja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equipe inteira de funcionários do SEI, por exemplo, poderia ter sido retirada do prédio. O edifício poderia ter sido primeiro pintado e depois limpado. Um único contratante poderia ter sido melhor usado para compor a infra-estrutura montad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68360" y="1268280"/>
            <a:ext cx="8207280" cy="0"/>
          </a:xfrm>
          <a:prstGeom prst="line">
            <a:avLst/>
          </a:prstGeom>
          <a:ln w="7632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456840" y="414000"/>
            <a:ext cx="80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900" spc="-1" strike="noStrike">
                <a:solidFill>
                  <a:srgbClr val="000000"/>
                </a:solidFill>
                <a:latin typeface="Arial"/>
              </a:rPr>
              <a:t>Estudo de Caso by SEI [Vause.97]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N/UFP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90BE7D-52D0-4D76-A63F-53FFAC11336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414000"/>
            <a:ext cx="80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Fase </a:t>
            </a:r>
            <a:r>
              <a:rPr b="0" i="1" lang="pt-BR" sz="4400" spc="-1" strike="noStrike">
                <a:solidFill>
                  <a:srgbClr val="000000"/>
                </a:solidFill>
                <a:latin typeface="Arial"/>
              </a:rPr>
              <a:t>Establishing</a:t>
            </a: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 -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68360" y="1268280"/>
            <a:ext cx="8207280" cy="0"/>
          </a:xfrm>
          <a:prstGeom prst="line">
            <a:avLst/>
          </a:prstGeom>
          <a:ln w="7632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5720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O foco desta fase é desenvolver um plano de trabalho detalhado. As prioridades são ajustadas para refletir as recomendações feitas durante a fase </a:t>
            </a:r>
            <a:r>
              <a:rPr b="0" i="1" lang="pt-BR" sz="2100" spc="-1" strike="noStrike">
                <a:solidFill>
                  <a:srgbClr val="000000"/>
                </a:solidFill>
                <a:latin typeface="Arial"/>
              </a:rPr>
              <a:t>Diagnosing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Ações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Desenvolver prioridades dentro das ações recomendadas com base nos seguinte parâmetros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700" spc="-1" strike="noStrike">
                <a:solidFill>
                  <a:srgbClr val="000000"/>
                </a:solidFill>
                <a:latin typeface="Arial"/>
              </a:rPr>
              <a:t>Disponibilidade de recurso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700" spc="-1" strike="noStrike">
                <a:solidFill>
                  <a:srgbClr val="000000"/>
                </a:solidFill>
                <a:latin typeface="Arial"/>
              </a:rPr>
              <a:t>Dependências entre as ações recomendada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700" spc="-1" strike="noStrike">
                <a:solidFill>
                  <a:srgbClr val="000000"/>
                </a:solidFill>
                <a:latin typeface="Arial"/>
              </a:rPr>
              <a:t>Financiament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Desenvolver uma abordagem que reflita as prioridades e as realidades atuai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Desenvolver planos para implementar a abordagem escolhida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N/UFP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5702F8-6A5C-4819-82BE-353378E0692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68360" y="414000"/>
            <a:ext cx="813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Fase </a:t>
            </a:r>
            <a:r>
              <a:rPr b="0" i="1" lang="pt-BR" sz="4400" spc="-1" strike="noStrike">
                <a:solidFill>
                  <a:srgbClr val="000000"/>
                </a:solidFill>
                <a:latin typeface="Arial"/>
              </a:rPr>
              <a:t>Establishing</a:t>
            </a: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 - Ativida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68360" y="1268280"/>
            <a:ext cx="8207280" cy="0"/>
          </a:xfrm>
          <a:prstGeom prst="line">
            <a:avLst/>
          </a:prstGeom>
          <a:ln w="7632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39640" y="14241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or as prioridades para as alteraçõ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esenvolver uma estratégia para desenvolver o trabalho e identificar recursos disponívei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esenvolver um plano de implementação do trabalho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627280" y="3357720"/>
            <a:ext cx="3816360" cy="2773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N/UFP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AB0FFD-96A5-4B98-8FB5-93EE84FB34F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68360" y="414000"/>
            <a:ext cx="813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cluir Priorida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68360" y="1268280"/>
            <a:ext cx="8207280" cy="0"/>
          </a:xfrm>
          <a:prstGeom prst="line">
            <a:avLst/>
          </a:prstGeom>
          <a:ln w="7632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3964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As prioridades definidas nesta fase dizem respeito ao esforço da mudança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As realidades organizacionais impossibilitam fazer tudo, uma vez qu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Os recursos necessários para melhoria são limitado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Existem dependências entre atividades recomendada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Fatores externos podem intervi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Prioridades organizacionais estratégicas devem ser honrada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Mudança quase sempre requer que escolhas sejam feita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Novas recomendações devem surgir baseadas nestas escolha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N/UFP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33ACB8-60B9-4620-878B-6A618BB3C37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 dinheiro e o tempo não eram as primeiras prioridades deste esforço. As prioridades, em ordem, eram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úde e conveniência dos empregados: diversos empregados do SEI eram alérgicos a pinturas e também a pintura molhada tendia a danificar a roup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rações normais do SEI: as operações deviam ser interrompidas o mínimo possível, os pintores teriam de trabalhar em torno das programações dos empregados, o equipamento de computador não devia ser perturbad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alidade do trabalho: a qualidade da limpeza e da pintura não podia ser comprometida por nenhuma raz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clusão oportuna: o esforço teve que ser terminado em quatro mes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 prioridades nem sempre são derivadas das recomendações, podem ser provenientes do empreendimen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68360" y="1268280"/>
            <a:ext cx="8207280" cy="0"/>
          </a:xfrm>
          <a:prstGeom prst="line">
            <a:avLst/>
          </a:prstGeom>
          <a:ln w="7632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title"/>
          </p:nvPr>
        </p:nvSpPr>
        <p:spPr>
          <a:xfrm>
            <a:off x="456840" y="414000"/>
            <a:ext cx="80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900" spc="-1" strike="noStrike">
                <a:solidFill>
                  <a:srgbClr val="000000"/>
                </a:solidFill>
                <a:latin typeface="Arial"/>
              </a:rPr>
              <a:t>Estudo de Caso by SEI [Vause.97]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N/UFP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C428ED-B895-46B5-9635-4F47617A8D1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68360" y="414000"/>
            <a:ext cx="813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envolver Estratégi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68360" y="1268280"/>
            <a:ext cx="8207280" cy="0"/>
          </a:xfrm>
          <a:prstGeom prst="line">
            <a:avLst/>
          </a:prstGeom>
          <a:ln w="7632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3964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A estratégia leva a muitas competições e freqüentemente a fatores conflitant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Técnicas específicas de instalação de uma nova tecnologi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Novas habilidades e conhecimentos requeridos das pessoas que estarão usando a tecnologi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Cultura organizaciona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Projetos piloto potenciai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Níveis de patrocínio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Força de Mercad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N/UFP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074DF5-2EBD-4E4E-B2F1-AC7C8B0DBD7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51912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A estratégia tomada, baseada nos objetivos do esforço, das recomendações, e das prioridades, envolvera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Toda a pintura devia ser feita durante as horas de descanso dos empregados do SEI e toda a pintura baseada em óleo (que requer um tempo de secagem de dois dias) devia ser feita nos fins de semana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s salas deviam ser limpadas e pintadas sobre um período de três dias cada uma e as salas deviam ser programadas de modo que seis salas por dia pudessem ser pintadas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 limpeza e a pintura nas salas deviam ser programadas, à medida do possível, levando em consideração a preferência do empregado. Os empregados deviam assinalar seus tempos e deviam embalar seus próprios pertences antes de sair do escritório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s equipes definidas na atividade “Definição da infra-estrutura”, limpadores e pintores, deviam entrar e sair de cada sala em tempos definidos num período de três dias para executar seus deveres. Isto permitiria que cada equipe trabalhasse continuament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Os itens do prédio e os artigos encaixotados seriam movidos para fora da sala, mas o equipamento de computador seria movido para o centro da mesma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Uma comunicação entre o Gerente do Serviço do prédio, os vários grupos que ele dirigiu, e a equipe de funcionários do SEI devia ser maximizada para aumentar a sinergia e reduzir a resistênci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8360" y="1268280"/>
            <a:ext cx="8207280" cy="0"/>
          </a:xfrm>
          <a:prstGeom prst="line">
            <a:avLst/>
          </a:prstGeom>
          <a:ln w="7632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456840" y="414000"/>
            <a:ext cx="80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900" spc="-1" strike="noStrike">
                <a:solidFill>
                  <a:srgbClr val="000000"/>
                </a:solidFill>
                <a:latin typeface="Arial"/>
              </a:rPr>
              <a:t>Estudo de Caso by SEI [Vause.97]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N/UFP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ECB56B-A70B-4013-B0F2-BF545460318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14842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 organizações estão reconhecendo cada vez mais a necessidade para a orientação específica da execução quando adotam novas ferramentas, processos e métodos da engenharia de softw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456840" y="414000"/>
            <a:ext cx="80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xto - Proble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1268280"/>
            <a:ext cx="8207280" cy="0"/>
          </a:xfrm>
          <a:prstGeom prst="line">
            <a:avLst/>
          </a:prstGeom>
          <a:ln w="7632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68360" y="2852640"/>
            <a:ext cx="288144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33399"/>
                </a:solidFill>
                <a:latin typeface="Arial"/>
              </a:rPr>
              <a:t>Responsáveis pela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33399"/>
                </a:solidFill>
                <a:latin typeface="Arial"/>
              </a:rPr>
              <a:t>Adoção de Tecnologia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4724280"/>
            <a:ext cx="28810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333399"/>
                </a:solidFill>
                <a:latin typeface="Arial"/>
              </a:rPr>
              <a:t>Desenvolvedores da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333399"/>
                </a:solidFill>
                <a:latin typeface="Arial"/>
              </a:rPr>
              <a:t>Tecnologia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635280" y="2637000"/>
            <a:ext cx="511344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25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3399"/>
                </a:solidFill>
                <a:latin typeface="Arial"/>
              </a:rPr>
              <a:t>Dificuldade de selecionar as possibilidades de Melhori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3399"/>
                </a:solidFill>
                <a:latin typeface="Arial"/>
              </a:rPr>
              <a:t>Não usa melhores práticas de transição para introduzir a Melhoria selecionad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635280" y="4076640"/>
            <a:ext cx="511344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425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3399"/>
                </a:solidFill>
                <a:latin typeface="Arial"/>
              </a:rPr>
              <a:t>Não entendem as dificuldades de adoção que serão encontradas pelos responsávei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25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3399"/>
                </a:solidFill>
                <a:latin typeface="Arial"/>
              </a:rPr>
              <a:t>Não provêem nenhuma informação ou serviços necessários para suportar o processo de adoçã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25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3399"/>
                </a:solidFill>
                <a:latin typeface="Arial"/>
              </a:rPr>
              <a:t>Não possuem tecnologias das práticas difundidas tão rapidamente quanto deveriam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92360" y="2637000"/>
            <a:ext cx="142920" cy="1152360"/>
          </a:xfrm>
          <a:custGeom>
            <a:avLst/>
            <a:gdLst>
              <a:gd name="textAreaLeft" fmla="*/ 91440 w 142920"/>
              <a:gd name="textAreaRight" fmla="*/ 143280 w 14292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92360" y="4005360"/>
            <a:ext cx="142920" cy="2232000"/>
          </a:xfrm>
          <a:custGeom>
            <a:avLst/>
            <a:gdLst>
              <a:gd name="textAreaLeft" fmla="*/ 91440 w 142920"/>
              <a:gd name="textAreaRight" fmla="*/ 143280 w 142920"/>
              <a:gd name="textAreaTop" fmla="*/ 57960 h 2232000"/>
              <a:gd name="textAreaBottom" fmla="*/ 2174040 h 223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N/UFP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1BCC51-DE30-429A-AAEC-D64BD327E57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68360" y="414000"/>
            <a:ext cx="813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nejar Açõ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68360" y="1268280"/>
            <a:ext cx="8207280" cy="0"/>
          </a:xfrm>
          <a:prstGeom prst="line">
            <a:avLst/>
          </a:prstGeom>
          <a:ln w="7632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3964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Arial"/>
              </a:rPr>
              <a:t>Os Planos devem ser definidos de acordo com a estratégia adotada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000000"/>
                </a:solidFill>
                <a:latin typeface="Arial"/>
              </a:rPr>
              <a:t>Atividades, recursos e </a:t>
            </a:r>
            <a:r>
              <a:rPr b="1" i="1" lang="pt-BR" sz="1700" spc="-1" strike="noStrike">
                <a:solidFill>
                  <a:srgbClr val="000000"/>
                </a:solidFill>
                <a:latin typeface="Arial"/>
              </a:rPr>
              <a:t>deliverabl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000000"/>
                </a:solidFill>
                <a:latin typeface="Arial"/>
              </a:rPr>
              <a:t>Marcos de decisã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000000"/>
                </a:solidFill>
                <a:latin typeface="Arial"/>
              </a:rPr>
              <a:t>Riscos e estratégia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700" spc="-1" strike="noStrike">
                <a:solidFill>
                  <a:srgbClr val="000000"/>
                </a:solidFill>
                <a:latin typeface="Arial"/>
              </a:rPr>
              <a:t>Milestones</a:t>
            </a:r>
            <a:r>
              <a:rPr b="1" lang="pt-BR" sz="1700" spc="-1" strike="noStrike">
                <a:solidFill>
                  <a:srgbClr val="000000"/>
                </a:solidFill>
                <a:latin typeface="Arial"/>
              </a:rPr>
              <a:t> e cronograma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000000"/>
                </a:solidFill>
                <a:latin typeface="Arial"/>
              </a:rPr>
              <a:t>Medições, sequenciamento e visões gerenciai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N/UFP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909D98-B074-4F3F-9E08-4B305E45C7E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 plano para a limpeza e a pintura do prédio do SEI é tão detalhado para incluir aqui, mas escreveu-se um resumo para esclarecer os objetivos ajustad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 acordo com o plano, por exemplo, seis escritórios deveriam ser limpados e pintados durante o período de três dias, 15 a 17 de janeir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 cada caso a mudança e a limpeza deveriam ocorrer no dia 15 de janeiro, a pintura no dia 16 de janeiro, e novamente mudança no dia 17 de janei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dos os seis escritórios foram programados por seus ocupantes por sua própria conveniênc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 um caso específico de uma sala, o ocupante estava em uma viagem de negócio de três dias durante este período. Assim, um outro empregado deveria fazer o seu serviç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 sexta-feira, 17 de janeiro, a mudança e a limpeza aconteceu na biblioteca. Já que a biblioteca é uma área comum, a pintura ocorreu no fim de seman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mente, durante a última semana as cozinhas e as portas de entrada foram pintad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268280"/>
            <a:ext cx="8207280" cy="0"/>
          </a:xfrm>
          <a:prstGeom prst="line">
            <a:avLst/>
          </a:prstGeom>
          <a:ln w="7632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title"/>
          </p:nvPr>
        </p:nvSpPr>
        <p:spPr>
          <a:xfrm>
            <a:off x="456840" y="414000"/>
            <a:ext cx="80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900" spc="-1" strike="noStrike">
                <a:solidFill>
                  <a:srgbClr val="000000"/>
                </a:solidFill>
                <a:latin typeface="Arial"/>
              </a:rPr>
              <a:t>Estudo de Caso by SEI [Vause.97]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N/UFP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02E04B-4676-4C30-B3F3-F1FCDD60424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414000"/>
            <a:ext cx="80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Fase </a:t>
            </a:r>
            <a:r>
              <a:rPr b="0" i="1" lang="pt-BR" sz="4400" spc="-1" strike="noStrike">
                <a:solidFill>
                  <a:srgbClr val="000000"/>
                </a:solidFill>
                <a:latin typeface="Arial"/>
              </a:rPr>
              <a:t>Acting</a:t>
            </a: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 -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1268280"/>
            <a:ext cx="8207280" cy="0"/>
          </a:xfrm>
          <a:prstGeom prst="line">
            <a:avLst/>
          </a:prstGeom>
          <a:ln w="7632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As atividades desta fase servem para ajudar uma organização a implementar o trabalho realizado nas três fases anteriores (</a:t>
            </a:r>
            <a:r>
              <a:rPr b="0" i="1" lang="pt-BR" sz="2100" spc="-1" strike="noStrike">
                <a:solidFill>
                  <a:srgbClr val="000000"/>
                </a:solidFill>
                <a:latin typeface="Arial"/>
              </a:rPr>
              <a:t>Initiating</a:t>
            </a: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pt-BR" sz="2100" spc="-1" strike="noStrike">
                <a:solidFill>
                  <a:srgbClr val="000000"/>
                </a:solidFill>
                <a:latin typeface="Arial"/>
              </a:rPr>
              <a:t>Diagnosing</a:t>
            </a: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0" i="1" lang="pt-BR" sz="2100" spc="-1" strike="noStrike">
                <a:solidFill>
                  <a:srgbClr val="000000"/>
                </a:solidFill>
                <a:latin typeface="Arial"/>
              </a:rPr>
              <a:t>Establishing</a:t>
            </a: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Ações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Fazer o levantamento de tudo que estiver disponível para criar a melhor solução para as necessidades da organização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700" spc="-1" strike="noStrike">
                <a:solidFill>
                  <a:srgbClr val="000000"/>
                </a:solidFill>
                <a:latin typeface="Arial"/>
              </a:rPr>
              <a:t>Ferramentas existentes, processos, conhecimentos, habilidades, ..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700" spc="-1" strike="noStrike">
                <a:solidFill>
                  <a:srgbClr val="000000"/>
                </a:solidFill>
                <a:latin typeface="Arial"/>
              </a:rPr>
              <a:t>Novos conhecimentos, informações, ...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700" spc="-1" strike="noStrike">
                <a:solidFill>
                  <a:srgbClr val="000000"/>
                </a:solidFill>
                <a:latin typeface="Arial"/>
              </a:rPr>
              <a:t>Ajuda extern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Ponha a solução no lugar de uma base experimental para aprender o que funciona e o que não funciona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Revisar e modificar a solução para incorporar novos conhecimentos e entendimento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Interagir como necessário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Quando a solução estiver funcional e suficiente, implemente-a ao longo de toda a organização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N/UFP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9C035B-0C38-4EB0-BA6C-CE66DC1C20D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68360" y="414000"/>
            <a:ext cx="813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Fase </a:t>
            </a:r>
            <a:r>
              <a:rPr b="0" i="1" lang="pt-BR" sz="4400" spc="-1" strike="noStrike">
                <a:solidFill>
                  <a:srgbClr val="000000"/>
                </a:solidFill>
                <a:latin typeface="Arial"/>
              </a:rPr>
              <a:t>Acting</a:t>
            </a: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 - Ativida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1268280"/>
            <a:ext cx="8207280" cy="0"/>
          </a:xfrm>
          <a:prstGeom prst="line">
            <a:avLst/>
          </a:prstGeom>
          <a:ln w="7632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39640" y="14241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5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riar solução que atenda as necessidades organizacionais identificada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estar a solução criada através de um projeto pilot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Modificar a solução para refletir o conhecimento, experiências e lições obtidas do test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mplementar a solução em toda a organizaçã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3678120" y="3573360"/>
            <a:ext cx="1590840" cy="3024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N/UFP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B8F740-05C0-427D-AC53-8786869A5AA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68360" y="414000"/>
            <a:ext cx="813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iar a Soluçã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68360" y="1268280"/>
            <a:ext cx="8207280" cy="0"/>
          </a:xfrm>
          <a:prstGeom prst="line">
            <a:avLst/>
          </a:prstGeom>
          <a:ln w="7632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964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Arial"/>
              </a:rPr>
              <a:t>A Solução não precisa ser perfeita, mas deveria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000000"/>
                </a:solidFill>
                <a:latin typeface="Arial"/>
              </a:rPr>
              <a:t>Identificar a performance dos objetivo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000000"/>
                </a:solidFill>
                <a:latin typeface="Arial"/>
              </a:rPr>
              <a:t>Finalizar o grupo que testará usando um projeto pilot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000000"/>
                </a:solidFill>
                <a:latin typeface="Arial"/>
              </a:rPr>
              <a:t>Construir um material da solução e treinar o grupo de teste do projeto pilot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000000"/>
                </a:solidFill>
                <a:latin typeface="Arial"/>
              </a:rPr>
              <a:t>Desenvolver um draft de um plano de teste do projeto piloto e implementaçã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Arial"/>
              </a:rPr>
              <a:t>Reter as partes do Estado Atual que são útei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Arial"/>
              </a:rPr>
              <a:t>Os grupos de trabalho técnico devem desenvolver a solução junto com o grupo de teste do projeto piloto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N/UFP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F56B72-3E85-49F1-BC34-A56EB27B6CB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olução encontrada foi o procedimento usado para pintar uma única sala, uma vez que pintar o restante do prédio seria uma técnica iterativa e increment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68360" y="1268280"/>
            <a:ext cx="8207280" cy="0"/>
          </a:xfrm>
          <a:prstGeom prst="line">
            <a:avLst/>
          </a:prstGeom>
          <a:ln w="7632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title"/>
          </p:nvPr>
        </p:nvSpPr>
        <p:spPr>
          <a:xfrm>
            <a:off x="456840" y="414000"/>
            <a:ext cx="80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900" spc="-1" strike="noStrike">
                <a:solidFill>
                  <a:srgbClr val="000000"/>
                </a:solidFill>
                <a:latin typeface="Arial"/>
              </a:rPr>
              <a:t>Estudo de Caso by SEI [Vause.97]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N/UFP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247F7F-9E1E-4C0B-8EF7-DD7691FD3FB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414000"/>
            <a:ext cx="813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estar a Solução com um Projeto Piloto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68360" y="1268280"/>
            <a:ext cx="8207280" cy="0"/>
          </a:xfrm>
          <a:prstGeom prst="line">
            <a:avLst/>
          </a:prstGeom>
          <a:ln w="7632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3964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Treinar o grupo de teste do projeto piloto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Checar a performance do teste do projeto piloto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Colher </a:t>
            </a:r>
            <a:r>
              <a:rPr b="1" i="1" lang="en-US" sz="1900" spc="-1" strike="noStrike">
                <a:solidFill>
                  <a:srgbClr val="000000"/>
                </a:solidFill>
                <a:latin typeface="Arial"/>
              </a:rPr>
              <a:t>feedback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A Solução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Quase nunca funciona exatamente como o planejad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Deve ser posta em uma base limitada de parâmetro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Destaca o que funciona e o que não funcion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Deveria ser conduzida em um ambiente propício a falha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N/UFP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D57065-6BC6-44FD-832E-745ACCA0D45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457200" y="1413000"/>
            <a:ext cx="8229600" cy="5038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rimeira semana da pintura pôde ser caracterizada como a “solução com um projeto piloto”. As mudanças foram feitas no plano depois que a pintura na semana foi concluíd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ês falhas principais no procedimento da pintura tornaram-se claras durante a primeira seman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coordenação entre a equipe de suporte computacional do SEI, que teve de mudar o equipamento de computador em cada sala, e a equipe de serviços do prédio, que não poderia limpar as salas até que a atividade anterior fosse concluída, não funcionou adequadamente havendo recriminações das partes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disponibilidade das caixas transformou-se em um problema depois que se descobriu que as pessoas solicitavam em semanas e meses as caixas antecipadamente às datas da pintura e posteriormente poucos desembalavam suas caixas para passá-las a outras pessoas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 movimento constante dos itens do prédio nas salas e nos corredores incomodavam alguns empregad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sta atividade deve ser muito mais de “Verificação do que de Validação”, isto é, os problemas com a solução proposta são identificados (“Nós estamos pintando adequadamente?”) mas a questão de checar se a solução é apropriada (“Pintar foi uma boa idéia?”) não é o foc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atividade de “Analisar e Validar" fornece uma oportunidade formal de comparar a solução executada com os objetivos inicia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68360" y="1268280"/>
            <a:ext cx="8207280" cy="0"/>
          </a:xfrm>
          <a:prstGeom prst="line">
            <a:avLst/>
          </a:prstGeom>
          <a:ln w="7632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title"/>
          </p:nvPr>
        </p:nvSpPr>
        <p:spPr>
          <a:xfrm>
            <a:off x="456840" y="414000"/>
            <a:ext cx="80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900" spc="-1" strike="noStrike">
                <a:solidFill>
                  <a:srgbClr val="000000"/>
                </a:solidFill>
                <a:latin typeface="Arial"/>
              </a:rPr>
              <a:t>Estudo de Caso by SEI [Vause.97]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N/UFP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247F74-736B-4A26-8BF4-9C844AB6D8E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68360" y="414000"/>
            <a:ext cx="813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inar a Soluçã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68360" y="1268280"/>
            <a:ext cx="8207280" cy="0"/>
          </a:xfrm>
          <a:prstGeom prst="line">
            <a:avLst/>
          </a:prstGeom>
          <a:ln w="7632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3964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Baseado no teste do projeto piloto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Iterações do teste do projeto piloto e de refinamentos devem ser necessários antes de chegar a uma solução que seja julgada satisfatória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Deve-se conseguir uma solução funcional antes de partir para diant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N/UFP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3361D5-A401-4AFB-B46B-C876CA035EA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 o projeto de pintura e de limpeza do SEI, o efeito da atividade “Testar a Solução com um Projeto Piloto” foi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 problema da coordenação foi resolvido onde a mudança feita pela equipe de suporte computacional foi às 9:00 AM ao invés de 12:00 PM, eliminando todo o contato direto entre esta equipe e os de serviços do prédio (se fosse necessário o Gerente de Serviços e sua equipe fariam o link entre e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 Gerente de Serviços comprou um grande número caixas extras de modo que qualquer um que desejasse poderia embalar seus pertences do escritório mais cedo. A questão dos empregados que mantém suas caixas embaladas depois que a pintura foi finalizada, não foi solucionad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questão dos incômodos aos empregados do SEI foi resolvida provendo equipamentos de som e atividades extras que possibilitassem evitar estresse dos mesm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68360" y="1268280"/>
            <a:ext cx="8207280" cy="0"/>
          </a:xfrm>
          <a:prstGeom prst="line">
            <a:avLst/>
          </a:prstGeom>
          <a:ln w="7632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456840" y="414000"/>
            <a:ext cx="80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900" spc="-1" strike="noStrike">
                <a:solidFill>
                  <a:srgbClr val="000000"/>
                </a:solidFill>
                <a:latin typeface="Arial"/>
              </a:rPr>
              <a:t>Estudo de Caso by SEI [Vause.97]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N/UFP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2A84F3-299D-44B0-8E3A-1E7BDFA38BE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156636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Esforços de melhoria do processo do software, gerência de risco contínua, introdução de um novo ambiente de desenvolvimento, são tão complexos, e seus efeitos a longo praz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requerem uma abordagem especializada e sistemática para controlar o ciclo de vida de adoção da tecnologia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O SEI – Software Engineering Institute, desenvolveu e refinou o modelo </a:t>
            </a:r>
            <a:r>
              <a:rPr b="1" lang="pt-BR" sz="2100" spc="-1" strike="noStrike">
                <a:solidFill>
                  <a:srgbClr val="000000"/>
                </a:solidFill>
                <a:latin typeface="Arial"/>
              </a:rPr>
              <a:t>IDEAL - Initiating, Diagnosing, Establishing, Acting &amp; Learning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O modelo IDEAL era um modelo de ciclo de vida para a melhoria do processo de software baseada no CMM – Capability Maturity Mod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por esta razão o modelo usou termos da melhoria do processo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456840" y="414000"/>
            <a:ext cx="80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xto - Soluçã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8360" y="1268280"/>
            <a:ext cx="8207280" cy="0"/>
          </a:xfrm>
          <a:prstGeom prst="line">
            <a:avLst/>
          </a:prstGeom>
          <a:ln w="7632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N/UFP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D69190-5A26-4EB8-AF83-2E29085ACEC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68360" y="414000"/>
            <a:ext cx="813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r a Soluçã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68360" y="1268280"/>
            <a:ext cx="8207280" cy="0"/>
          </a:xfrm>
          <a:prstGeom prst="line">
            <a:avLst/>
          </a:prstGeom>
          <a:ln w="7632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3964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Ajustar o plano como necessário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Executar o plano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Conduzir análises de pós-implementação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Várias abordagens de implementação podem ser levadas em consideração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Nenhuma abordagem é universalmente melhor que a outra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Esta atividade pode requerer tempo e recursos substanciai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N/UFP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D795B4-2643-4350-9EAE-8ADE18412F9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 atividade “Implementar a Solução” neste caso foi a pintura do prédio inteiro de SEI de acordo com o procedimento revisado pelas atividades anterior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sta fase pode ser repetida mais de uma vez; múltiplas revisões da solução podem ocorrer. Mas há uma diferença entre os erros na solução (que foram identificados e corrigidos nas últimas duas atividades) e erros na execução. Muitos erros menores foram detectados durante o procedimento da limpeza e da pintura. Estes foram encontrados em inspeções regulares, mostrados aos trabalhadores responsáveis, e corrigidos imediatamen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 Gerente de Serviços assegurou que todas as atualizações no plano e relatórios de status fossem notificadas aos trabalhadores alocados para a pintura das sal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Todos os envolvidos sabiam do progresso da execução do serviço a partir dos feedbacks dados ao Gerente de Serviç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68360" y="1268280"/>
            <a:ext cx="8207280" cy="0"/>
          </a:xfrm>
          <a:prstGeom prst="line">
            <a:avLst/>
          </a:prstGeom>
          <a:ln w="7632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title"/>
          </p:nvPr>
        </p:nvSpPr>
        <p:spPr>
          <a:xfrm>
            <a:off x="456840" y="414000"/>
            <a:ext cx="80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900" spc="-1" strike="noStrike">
                <a:solidFill>
                  <a:srgbClr val="000000"/>
                </a:solidFill>
                <a:latin typeface="Arial"/>
              </a:rPr>
              <a:t>Estudo de Caso by SEI [Vause.97]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N/UFP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CC9A7F-9193-4A1E-852F-0991643CB6D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414000"/>
            <a:ext cx="80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Fase </a:t>
            </a:r>
            <a:r>
              <a:rPr b="0" i="1" lang="pt-BR" sz="4400" spc="-1" strike="noStrike">
                <a:solidFill>
                  <a:srgbClr val="000000"/>
                </a:solidFill>
                <a:latin typeface="Arial"/>
              </a:rPr>
              <a:t>Learning</a:t>
            </a: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 -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68360" y="1268280"/>
            <a:ext cx="8207280" cy="0"/>
          </a:xfrm>
          <a:prstGeom prst="line">
            <a:avLst/>
          </a:prstGeom>
          <a:ln w="7632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5720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Nesta fase a experiência obtida com execução do modelo IDEAL é revista par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determinar o que foi realizado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e os esforços conseguiram atingir os objetivos pretendido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como a organização pode executar a mudança mais eficazmente e / ou eficientemente no futuro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ções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Determine o que foi atualmente realizado pelo esforço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Compare o que foi realizado com a proposta pretendida para o empreendimento da mudança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umarize / colete lições aprendidas considerando processos usados para implementar o modelo IDEA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Desenvolver recomendações acerca do gerenciamento de esforços de mudanças futuras usando o IDEA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N/UFP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2DD4D8-0BF2-4E77-A495-5732F702AE9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68360" y="414000"/>
            <a:ext cx="813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Fase </a:t>
            </a:r>
            <a:r>
              <a:rPr b="0" i="1" lang="pt-BR" sz="4400" spc="-1" strike="noStrike">
                <a:solidFill>
                  <a:srgbClr val="000000"/>
                </a:solidFill>
                <a:latin typeface="Arial"/>
              </a:rPr>
              <a:t>Learning</a:t>
            </a: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 - Ativida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3964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68360" y="1268280"/>
            <a:ext cx="8207280" cy="0"/>
          </a:xfrm>
          <a:prstGeom prst="line">
            <a:avLst/>
          </a:prstGeom>
          <a:ln w="7632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39640" y="14241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5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Analisar as lições obtidas e Validar as necessidades da fase </a:t>
            </a:r>
            <a:r>
              <a:rPr b="0" i="1" lang="pt-BR" sz="2100" spc="-1" strike="noStrike">
                <a:solidFill>
                  <a:srgbClr val="000000"/>
                </a:solidFill>
                <a:latin typeface="Arial"/>
              </a:rPr>
              <a:t>Initiating </a:t>
            </a: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se foram atendida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Propostas de alterações para melhoria futura devem ser fornecida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3195720"/>
            <a:ext cx="3384720" cy="2538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N/UFP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AD7E02-5843-40CE-99F5-10FAD90E146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68360" y="414000"/>
            <a:ext cx="813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alisar e Valid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68360" y="1268280"/>
            <a:ext cx="8207280" cy="0"/>
          </a:xfrm>
          <a:prstGeom prst="line">
            <a:avLst/>
          </a:prstGeom>
          <a:ln w="7632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3964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Para aperfeiçoar a habilidade de implementar a mudança, as técnicas do modelo IDEAL devem ser revisada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De que forma ele não realizou suas propostas pretendidas?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O que funcionou bem?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O que poderia ser feito mais efetivamente e eficientemente?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Registros devem ser mantidos durante todo o ciclo do modelo IDEAL com esta atividade em ment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N/UFP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72E227-C78D-450F-AE45-08BA89252A7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82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mpeza e a pintura do prédio do SEI durou do feriado de “Ação de Graças” em 1996 até o final de março 1997. Após as semanas iniciais, durante a atividade “Criar a Solução”, “Testar a Solução com um Projeto Piloto” e “Refinar a Solução” o esforço foi visível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uando as últimas salas foram pintadas, o Gerente de Serviços andou pelo prédio com os pintores para inspecionar. A finalidade desta atividade em todo o esforço é comparar os resultados do esforço da melhoria com seus objetivos, ou seja, determinar se o ponto original da tarefa tinha sido cumprido. A partir das inspeções feitas e do feedback dado pela equipe de funcionários do SEI, o Gerente de Serviços avaliou que o esforço tinha sido um sucesso, mais do que o pretendi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ma finalidade desta atividade é coletar e analisar as lições aprendidas do esforç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urante a limpeza e a pintura do prédio, um esforço paralelo envolvendo a mudança de empregados do SEI no prédio foi requerida. Esta operação não tinha sido planejada e este ato gerou um complement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 questão das caixas para a embalagem poderia ter sido melhor assegurada, como também a questão do equipamento de computado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stas lições, e a análise que resultou delas, foram documentadas pelo SEI para uso em esforços subseqüentes de natureza simila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68360" y="1268280"/>
            <a:ext cx="8207280" cy="0"/>
          </a:xfrm>
          <a:prstGeom prst="line">
            <a:avLst/>
          </a:prstGeom>
          <a:ln w="7632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title"/>
          </p:nvPr>
        </p:nvSpPr>
        <p:spPr>
          <a:xfrm>
            <a:off x="456840" y="414000"/>
            <a:ext cx="80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900" spc="-1" strike="noStrike">
                <a:solidFill>
                  <a:srgbClr val="000000"/>
                </a:solidFill>
                <a:latin typeface="Arial"/>
              </a:rPr>
              <a:t>Estudo de Caso by SEI [Vause.97]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N/UFP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9E4F62-1FFC-4753-A770-5108E99FBEF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68360" y="414000"/>
            <a:ext cx="813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por Ações Futur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68360" y="1268280"/>
            <a:ext cx="8207280" cy="0"/>
          </a:xfrm>
          <a:prstGeom prst="line">
            <a:avLst/>
          </a:prstGeom>
          <a:ln w="7632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964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Arial"/>
              </a:rPr>
              <a:t>Recomendações para aperfeiçoar uma habilidade organizacional a usar o modelo IDEAL precisam ser feitas baseadas em análises de validaçõ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Arial"/>
              </a:rPr>
              <a:t>Recomendações que dizem respeito a um aspecto diferente do negócio da organização que foram feitas na fase </a:t>
            </a:r>
            <a:r>
              <a:rPr b="1" i="1" lang="pt-BR" sz="1900" spc="-1" strike="noStrike">
                <a:solidFill>
                  <a:srgbClr val="000000"/>
                </a:solidFill>
                <a:latin typeface="Arial"/>
              </a:rPr>
              <a:t>Diagnosing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Arial"/>
              </a:rPr>
              <a:t>Ações futuras propostas devem ser documentada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N/UFP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32B867-01D3-4D48-BAF3-1B33631745B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457200" y="156636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próxima melhoria no prédio do SEI foi a instalação do tapete novo. Esta seria uma operação muito similar à limpeza e à pintura descritas. Por essa razão, o mesmo procedimento, modificado para fazer exame das lições aprendidas no cliente, pôde ser usado com pequenas alteraçõ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 tarefa de por carpete teve alguns problem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 equipamento de computador, teria de ser deslocado para fora, mas as prateleiras (que não tocam no assoalho) não teriam de ser esvaziadas; por esta razão o incômodo aos empregados não seria tão séri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 trabalho de noite continuaria sendo necessário. A remoção do tapete foi uma ameaça mais séria à alergia do que a pintura (devido à poeira, às fibras, aos ácaros, etc.), além de poder causar desliz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 tapete velho teria de ser removido do edifício e ser eliminado, o que representou uma adição significativa ao process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68360" y="1268280"/>
            <a:ext cx="8207280" cy="0"/>
          </a:xfrm>
          <a:prstGeom prst="line">
            <a:avLst/>
          </a:prstGeom>
          <a:ln w="7632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title"/>
          </p:nvPr>
        </p:nvSpPr>
        <p:spPr>
          <a:xfrm>
            <a:off x="456840" y="414000"/>
            <a:ext cx="80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900" spc="-1" strike="noStrike">
                <a:solidFill>
                  <a:srgbClr val="000000"/>
                </a:solidFill>
                <a:latin typeface="Arial"/>
              </a:rPr>
              <a:t>Estudo de Caso by SEI [Vause.97]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N/UFP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E880BB-E2C9-43DB-BFDD-31ECE7312EF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COMPERA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pt-BR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compera.com.br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ercado: internet mó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Local: São Paulo e Campin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mplantação: Melhoria no Processo de Desenvolvimento de Software e Aquisição de Subcontrata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Ci&amp;T Software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pt-BR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cit.com.br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ercado: soluções de software para e-bus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Local: Campin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mplantação: Melhoria no Processo de Gerência de Projetos e Desenvolvimento de Soft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68360" y="1268280"/>
            <a:ext cx="8207280" cy="0"/>
          </a:xfrm>
          <a:prstGeom prst="line">
            <a:avLst/>
          </a:prstGeom>
          <a:ln w="7632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title"/>
          </p:nvPr>
        </p:nvSpPr>
        <p:spPr>
          <a:xfrm>
            <a:off x="456840" y="414000"/>
            <a:ext cx="80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mplementaçõ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N/UFP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31DFE6-9ACD-427A-806B-CB865F42538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ricsson Mobile Data Design AB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(a division within Ericsson – mobile data system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Gothenburg, Swe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</a:t>
            </a:r>
            <a:r>
              <a:rPr b="0" lang="pt-BR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ericsson</a:t>
            </a:r>
            <a:r>
              <a:rPr b="0" lang="pt-BR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Texas Instrument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(Processors, microtrollers, semiconductor produc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Ind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www.ti.</a:t>
            </a:r>
            <a:r>
              <a:rPr b="0" lang="pt-BR" sz="2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com/asia/docs/ind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Atos Origin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(design, build and operate e-busin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Ind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http://www.</a:t>
            </a:r>
            <a:r>
              <a:rPr b="0" lang="pt-BR" sz="20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atosorigin</a:t>
            </a:r>
            <a:r>
              <a:rPr b="0" lang="pt-BR" sz="20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68360" y="1268280"/>
            <a:ext cx="8207280" cy="0"/>
          </a:xfrm>
          <a:prstGeom prst="line">
            <a:avLst/>
          </a:prstGeom>
          <a:ln w="7632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title"/>
          </p:nvPr>
        </p:nvSpPr>
        <p:spPr>
          <a:xfrm>
            <a:off x="456840" y="414000"/>
            <a:ext cx="80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mplementaçõ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N/UFP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339392-6477-4B2D-A6C2-F9700C0EAAE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O propósito inicial do modelo IDEAL era descrever em termos gerais o que uma organização envolvida com melhoria do processo de software deveria passar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700" spc="-1" strike="noStrike">
                <a:solidFill>
                  <a:srgbClr val="000000"/>
                </a:solidFill>
                <a:latin typeface="Arial"/>
              </a:rPr>
              <a:t>O novo modelo foi desenvolvido para ser aplicado a qualquer esforço de melhori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O Modelo IDEAL fornece um guia para a melhoria contínua das características de um processo organizaciona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700" spc="-1" strike="noStrike">
                <a:solidFill>
                  <a:srgbClr val="000000"/>
                </a:solidFill>
                <a:latin typeface="Arial"/>
              </a:rPr>
              <a:t>fornece um guia disciplinado de engenharia para a melhoria contínua, focando no gerenciamento do programa de melhoria e estabelece a base para um estratégia de melhoria a longo praz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Ele é composto de fases, atividades e princípios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A abordagem tem forte relacionamento com o TQM – Total Quality Management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700" spc="-1" strike="noStrike">
                <a:solidFill>
                  <a:srgbClr val="000000"/>
                </a:solidFill>
                <a:latin typeface="Arial"/>
              </a:rPr>
              <a:t>Apoio, suporte e Treinament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700" spc="-1" strike="noStrike">
                <a:solidFill>
                  <a:srgbClr val="000000"/>
                </a:solidFill>
                <a:latin typeface="Arial"/>
              </a:rPr>
              <a:t>Uso de dados para a tomada de decisõe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700" spc="-1" strike="noStrike">
                <a:solidFill>
                  <a:srgbClr val="000000"/>
                </a:solidFill>
                <a:latin typeface="Arial"/>
              </a:rPr>
              <a:t>Envolvimento dos participantes e do client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700" spc="-1" strike="noStrike">
                <a:solidFill>
                  <a:srgbClr val="000000"/>
                </a:solidFill>
                <a:latin typeface="Arial"/>
              </a:rPr>
              <a:t>Amarrado com os objetivos e necessidades do negócio, e Continuidad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title"/>
          </p:nvPr>
        </p:nvSpPr>
        <p:spPr>
          <a:xfrm>
            <a:off x="456840" y="414000"/>
            <a:ext cx="80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xto - Soluçã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1268280"/>
            <a:ext cx="8207280" cy="0"/>
          </a:xfrm>
          <a:prstGeom prst="line">
            <a:avLst/>
          </a:prstGeom>
          <a:ln w="7632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N/UFP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CD6C8B-C696-47EC-B922-E42CFFE8CD8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68360" y="414000"/>
            <a:ext cx="813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ênci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68360" y="1268280"/>
            <a:ext cx="8207280" cy="0"/>
          </a:xfrm>
          <a:prstGeom prst="line">
            <a:avLst/>
          </a:prstGeom>
          <a:ln w="7632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95280" y="1701720"/>
            <a:ext cx="8496360" cy="431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000000"/>
                </a:solidFill>
                <a:latin typeface="Arial"/>
              </a:rPr>
              <a:t>1 – Bibliografias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700" spc="-1" strike="noStrike">
                <a:solidFill>
                  <a:srgbClr val="000000"/>
                </a:solidFill>
                <a:latin typeface="Arial"/>
              </a:rPr>
              <a:t>KIMBROUGH, Tom &amp; LEVINE, Linda: </a:t>
            </a:r>
            <a:r>
              <a:rPr b="1" lang="pt-BR" sz="1700" spc="-1" strike="noStrike">
                <a:solidFill>
                  <a:srgbClr val="000000"/>
                </a:solidFill>
                <a:latin typeface="Arial"/>
              </a:rPr>
              <a:t>The IDEAL</a:t>
            </a:r>
            <a:r>
              <a:rPr b="1" lang="pt-BR" sz="1700" spc="-1" strike="noStrike" baseline="30000">
                <a:solidFill>
                  <a:srgbClr val="000000"/>
                </a:solidFill>
                <a:latin typeface="Arial"/>
              </a:rPr>
              <a:t>SM</a:t>
            </a:r>
            <a:r>
              <a:rPr b="1" lang="pt-BR" sz="1700" spc="-1" strike="noStrike">
                <a:solidFill>
                  <a:srgbClr val="000000"/>
                </a:solidFill>
                <a:latin typeface="Arial"/>
              </a:rPr>
              <a:t> Transition Framework – Speeding Managed Change</a:t>
            </a:r>
            <a:r>
              <a:rPr b="0" lang="pt-BR" sz="1700" spc="-1" strike="noStrike">
                <a:solidFill>
                  <a:srgbClr val="000000"/>
                </a:solidFill>
                <a:latin typeface="Arial"/>
              </a:rPr>
              <a:t>. Software Engineering Institute – Carnegie Mellon University, Pittsburg, PA, 1997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700" spc="-1" strike="noStrike">
                <a:solidFill>
                  <a:srgbClr val="000000"/>
                </a:solidFill>
                <a:latin typeface="Arial"/>
              </a:rPr>
              <a:t>MCFEELEY, Bob, </a:t>
            </a:r>
            <a:r>
              <a:rPr b="1" lang="pt-PT" sz="1700" spc="-1" strike="noStrike">
                <a:solidFill>
                  <a:srgbClr val="000000"/>
                </a:solidFill>
                <a:latin typeface="Arial"/>
              </a:rPr>
              <a:t>IDEAL</a:t>
            </a:r>
            <a:r>
              <a:rPr b="1" lang="pt-BR" sz="1700" spc="-1" strike="noStrike" baseline="30000">
                <a:solidFill>
                  <a:srgbClr val="000000"/>
                </a:solidFill>
                <a:latin typeface="Arial"/>
              </a:rPr>
              <a:t>SM</a:t>
            </a:r>
            <a:r>
              <a:rPr b="1" lang="pt-PT" sz="1700" spc="-1" strike="noStrike">
                <a:solidFill>
                  <a:srgbClr val="000000"/>
                </a:solidFill>
                <a:latin typeface="Arial"/>
              </a:rPr>
              <a:t>: A User’s Guide for Software Process Improvement</a:t>
            </a:r>
            <a:r>
              <a:rPr b="0" lang="pt-PT" sz="1700" spc="-1" strike="noStrike">
                <a:solidFill>
                  <a:srgbClr val="000000"/>
                </a:solidFill>
                <a:latin typeface="Arial"/>
              </a:rPr>
              <a:t>. Software Engineering Institute Handbook. Carnegie Mellon University. CMU/SEI-96-HB-001, 1996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700" spc="-1" strike="noStrike">
                <a:solidFill>
                  <a:srgbClr val="000000"/>
                </a:solidFill>
                <a:latin typeface="Arial"/>
              </a:rPr>
              <a:t>GREMBA, Jennifer &amp; MYERS, Chuck: </a:t>
            </a:r>
            <a:r>
              <a:rPr b="1" lang="pt-BR" sz="1700" spc="-1" strike="noStrike">
                <a:solidFill>
                  <a:srgbClr val="000000"/>
                </a:solidFill>
                <a:latin typeface="Arial"/>
              </a:rPr>
              <a:t>The IDEAL</a:t>
            </a:r>
            <a:r>
              <a:rPr b="1" lang="pt-BR" sz="1700" spc="-1" strike="noStrike" baseline="30000">
                <a:solidFill>
                  <a:srgbClr val="000000"/>
                </a:solidFill>
                <a:latin typeface="Arial"/>
              </a:rPr>
              <a:t>SM</a:t>
            </a:r>
            <a:r>
              <a:rPr b="1" lang="pt-BR" sz="1700" spc="-1" strike="noStrike">
                <a:solidFill>
                  <a:srgbClr val="000000"/>
                </a:solidFill>
                <a:latin typeface="Arial"/>
              </a:rPr>
              <a:t> Model – a practical guide for improvement</a:t>
            </a:r>
            <a:r>
              <a:rPr b="0" lang="pt-BR" sz="1700" spc="-1" strike="noStrike">
                <a:solidFill>
                  <a:srgbClr val="000000"/>
                </a:solidFill>
                <a:latin typeface="Arial"/>
              </a:rPr>
              <a:t>. Article appeared in the Software Engineering Institute publication, Bridge, 1997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N/UFP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A14593-7012-41E3-A159-D742065BE45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324000" y="1600200"/>
            <a:ext cx="8496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000000"/>
                </a:solidFill>
                <a:latin typeface="Arial"/>
              </a:rPr>
              <a:t>2 - Estudos de Caso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700" spc="-1" strike="noStrike">
                <a:solidFill>
                  <a:srgbClr val="000000"/>
                </a:solidFill>
                <a:latin typeface="Arial"/>
              </a:rPr>
              <a:t>VAUSE, Jordan: </a:t>
            </a:r>
            <a:r>
              <a:rPr b="1" lang="pt-BR" sz="1700" spc="-1" strike="noStrike">
                <a:solidFill>
                  <a:srgbClr val="000000"/>
                </a:solidFill>
                <a:latin typeface="Arial"/>
              </a:rPr>
              <a:t>Painting a building – a conceptual reconstruction based upon the IDEAL</a:t>
            </a:r>
            <a:r>
              <a:rPr b="1" lang="pt-BR" sz="1700" spc="-1" strike="noStrike" baseline="30000">
                <a:solidFill>
                  <a:srgbClr val="000000"/>
                </a:solidFill>
                <a:latin typeface="Arial"/>
              </a:rPr>
              <a:t>SM</a:t>
            </a:r>
            <a:r>
              <a:rPr b="1" lang="pt-BR" sz="1700" spc="-1" strike="noStrike">
                <a:solidFill>
                  <a:srgbClr val="000000"/>
                </a:solidFill>
                <a:latin typeface="Arial"/>
              </a:rPr>
              <a:t> Model</a:t>
            </a:r>
            <a:r>
              <a:rPr b="0" lang="pt-BR" sz="1700" spc="-1" strike="noStrike">
                <a:solidFill>
                  <a:srgbClr val="000000"/>
                </a:solidFill>
                <a:latin typeface="Arial"/>
              </a:rPr>
              <a:t>. Article appeared in the Software Engineering Institute publication, Bridge, 1997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000000"/>
                </a:solidFill>
                <a:latin typeface="Arial"/>
              </a:rPr>
              <a:t>http://csdl.computer.org/comp/proceedings/hicss/2003/1874/09/187490328b.pdf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000000"/>
                </a:solidFill>
                <a:latin typeface="Arial"/>
              </a:rPr>
              <a:t>http://portal.acm.org/citation.cfm?id=337492&amp;dl=ACM&amp;coll=porta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title"/>
          </p:nvPr>
        </p:nvSpPr>
        <p:spPr>
          <a:xfrm>
            <a:off x="468360" y="414000"/>
            <a:ext cx="813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ênci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68360" y="1268280"/>
            <a:ext cx="8207280" cy="0"/>
          </a:xfrm>
          <a:prstGeom prst="line">
            <a:avLst/>
          </a:prstGeom>
          <a:ln w="7632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N/UFP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607E88-C6F4-44A5-BAFC-6516A29DF76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317520" y="765000"/>
            <a:ext cx="5842080" cy="42436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andro Ronaldo Bezerra Olivei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utorando em Ciência da Computação pelo CIN/UF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nha de Pesquisa: Engenharia de Softw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esse de Pesquisa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cesso de Softw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alidade de Proces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mbientes de Desenvolvimento de S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-mail: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rbo@cin.ufpe.b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rientador: Prof. Alexandre Vasconcel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5564160" y="101520"/>
            <a:ext cx="3579840" cy="6783480"/>
            <a:chOff x="5564160" y="101520"/>
            <a:chExt cx="3579840" cy="6783480"/>
          </a:xfrm>
        </p:grpSpPr>
        <p:sp>
          <p:nvSpPr>
            <p:cNvPr id="220" name=""/>
            <p:cNvSpPr/>
            <p:nvPr/>
          </p:nvSpPr>
          <p:spPr>
            <a:xfrm>
              <a:off x="5564160" y="114120"/>
              <a:ext cx="3579840" cy="6770880"/>
            </a:xfrm>
            <a:custGeom>
              <a:avLst/>
              <a:gdLst/>
              <a:ahLst/>
              <a:rect l="l" t="t" r="r" b="b"/>
              <a:pathLst>
                <a:path w="2255" h="4265">
                  <a:moveTo>
                    <a:pt x="63" y="168"/>
                  </a:moveTo>
                  <a:lnTo>
                    <a:pt x="76" y="108"/>
                  </a:lnTo>
                  <a:lnTo>
                    <a:pt x="109" y="68"/>
                  </a:lnTo>
                  <a:lnTo>
                    <a:pt x="171" y="38"/>
                  </a:lnTo>
                  <a:lnTo>
                    <a:pt x="226" y="23"/>
                  </a:lnTo>
                  <a:lnTo>
                    <a:pt x="289" y="15"/>
                  </a:lnTo>
                  <a:lnTo>
                    <a:pt x="375" y="6"/>
                  </a:lnTo>
                  <a:lnTo>
                    <a:pt x="470" y="0"/>
                  </a:lnTo>
                  <a:lnTo>
                    <a:pt x="565" y="1"/>
                  </a:lnTo>
                  <a:lnTo>
                    <a:pt x="641" y="4"/>
                  </a:lnTo>
                  <a:lnTo>
                    <a:pt x="700" y="9"/>
                  </a:lnTo>
                  <a:lnTo>
                    <a:pt x="765" y="34"/>
                  </a:lnTo>
                  <a:lnTo>
                    <a:pt x="835" y="68"/>
                  </a:lnTo>
                  <a:lnTo>
                    <a:pt x="904" y="108"/>
                  </a:lnTo>
                  <a:lnTo>
                    <a:pt x="972" y="160"/>
                  </a:lnTo>
                  <a:lnTo>
                    <a:pt x="1033" y="242"/>
                  </a:lnTo>
                  <a:lnTo>
                    <a:pt x="1073" y="319"/>
                  </a:lnTo>
                  <a:lnTo>
                    <a:pt x="1139" y="236"/>
                  </a:lnTo>
                  <a:lnTo>
                    <a:pt x="1209" y="163"/>
                  </a:lnTo>
                  <a:lnTo>
                    <a:pt x="1257" y="126"/>
                  </a:lnTo>
                  <a:lnTo>
                    <a:pt x="1324" y="82"/>
                  </a:lnTo>
                  <a:lnTo>
                    <a:pt x="1376" y="58"/>
                  </a:lnTo>
                  <a:lnTo>
                    <a:pt x="1422" y="48"/>
                  </a:lnTo>
                  <a:lnTo>
                    <a:pt x="1454" y="60"/>
                  </a:lnTo>
                  <a:lnTo>
                    <a:pt x="1485" y="89"/>
                  </a:lnTo>
                  <a:lnTo>
                    <a:pt x="1511" y="122"/>
                  </a:lnTo>
                  <a:lnTo>
                    <a:pt x="1537" y="154"/>
                  </a:lnTo>
                  <a:lnTo>
                    <a:pt x="1571" y="200"/>
                  </a:lnTo>
                  <a:lnTo>
                    <a:pt x="1599" y="257"/>
                  </a:lnTo>
                  <a:lnTo>
                    <a:pt x="1626" y="310"/>
                  </a:lnTo>
                  <a:lnTo>
                    <a:pt x="1652" y="373"/>
                  </a:lnTo>
                  <a:lnTo>
                    <a:pt x="1672" y="430"/>
                  </a:lnTo>
                  <a:lnTo>
                    <a:pt x="1696" y="484"/>
                  </a:lnTo>
                  <a:lnTo>
                    <a:pt x="1714" y="501"/>
                  </a:lnTo>
                  <a:lnTo>
                    <a:pt x="1747" y="521"/>
                  </a:lnTo>
                  <a:lnTo>
                    <a:pt x="1793" y="540"/>
                  </a:lnTo>
                  <a:lnTo>
                    <a:pt x="1825" y="574"/>
                  </a:lnTo>
                  <a:lnTo>
                    <a:pt x="1830" y="583"/>
                  </a:lnTo>
                  <a:lnTo>
                    <a:pt x="1835" y="600"/>
                  </a:lnTo>
                  <a:lnTo>
                    <a:pt x="1850" y="648"/>
                  </a:lnTo>
                  <a:lnTo>
                    <a:pt x="1884" y="725"/>
                  </a:lnTo>
                  <a:lnTo>
                    <a:pt x="1921" y="813"/>
                  </a:lnTo>
                  <a:lnTo>
                    <a:pt x="1969" y="932"/>
                  </a:lnTo>
                  <a:lnTo>
                    <a:pt x="1997" y="1014"/>
                  </a:lnTo>
                  <a:lnTo>
                    <a:pt x="2026" y="1102"/>
                  </a:lnTo>
                  <a:lnTo>
                    <a:pt x="2047" y="1165"/>
                  </a:lnTo>
                  <a:lnTo>
                    <a:pt x="2048" y="1191"/>
                  </a:lnTo>
                  <a:lnTo>
                    <a:pt x="2052" y="1265"/>
                  </a:lnTo>
                  <a:lnTo>
                    <a:pt x="2056" y="1386"/>
                  </a:lnTo>
                  <a:lnTo>
                    <a:pt x="2088" y="1450"/>
                  </a:lnTo>
                  <a:lnTo>
                    <a:pt x="2130" y="1529"/>
                  </a:lnTo>
                  <a:lnTo>
                    <a:pt x="2169" y="1620"/>
                  </a:lnTo>
                  <a:lnTo>
                    <a:pt x="2205" y="1710"/>
                  </a:lnTo>
                  <a:lnTo>
                    <a:pt x="2225" y="1768"/>
                  </a:lnTo>
                  <a:lnTo>
                    <a:pt x="2242" y="1830"/>
                  </a:lnTo>
                  <a:lnTo>
                    <a:pt x="2253" y="1955"/>
                  </a:lnTo>
                  <a:lnTo>
                    <a:pt x="2254" y="2082"/>
                  </a:lnTo>
                  <a:lnTo>
                    <a:pt x="2244" y="2219"/>
                  </a:lnTo>
                  <a:lnTo>
                    <a:pt x="2226" y="2376"/>
                  </a:lnTo>
                  <a:lnTo>
                    <a:pt x="2213" y="2540"/>
                  </a:lnTo>
                  <a:lnTo>
                    <a:pt x="2195" y="2730"/>
                  </a:lnTo>
                  <a:lnTo>
                    <a:pt x="2167" y="2910"/>
                  </a:lnTo>
                  <a:lnTo>
                    <a:pt x="2141" y="3076"/>
                  </a:lnTo>
                  <a:lnTo>
                    <a:pt x="2105" y="3264"/>
                  </a:lnTo>
                  <a:lnTo>
                    <a:pt x="2079" y="3488"/>
                  </a:lnTo>
                  <a:lnTo>
                    <a:pt x="2079" y="3770"/>
                  </a:lnTo>
                  <a:lnTo>
                    <a:pt x="2079" y="4144"/>
                  </a:lnTo>
                  <a:lnTo>
                    <a:pt x="2081" y="4264"/>
                  </a:lnTo>
                  <a:lnTo>
                    <a:pt x="945" y="4264"/>
                  </a:lnTo>
                  <a:lnTo>
                    <a:pt x="943" y="4064"/>
                  </a:lnTo>
                  <a:lnTo>
                    <a:pt x="933" y="3742"/>
                  </a:lnTo>
                  <a:lnTo>
                    <a:pt x="923" y="3545"/>
                  </a:lnTo>
                  <a:lnTo>
                    <a:pt x="899" y="3388"/>
                  </a:lnTo>
                  <a:lnTo>
                    <a:pt x="868" y="3329"/>
                  </a:lnTo>
                  <a:lnTo>
                    <a:pt x="844" y="3280"/>
                  </a:lnTo>
                  <a:lnTo>
                    <a:pt x="818" y="3216"/>
                  </a:lnTo>
                  <a:lnTo>
                    <a:pt x="803" y="3187"/>
                  </a:lnTo>
                  <a:lnTo>
                    <a:pt x="767" y="3142"/>
                  </a:lnTo>
                  <a:lnTo>
                    <a:pt x="716" y="3079"/>
                  </a:lnTo>
                  <a:lnTo>
                    <a:pt x="664" y="3008"/>
                  </a:lnTo>
                  <a:lnTo>
                    <a:pt x="655" y="2986"/>
                  </a:lnTo>
                  <a:lnTo>
                    <a:pt x="635" y="2924"/>
                  </a:lnTo>
                  <a:lnTo>
                    <a:pt x="620" y="2883"/>
                  </a:lnTo>
                  <a:lnTo>
                    <a:pt x="600" y="2830"/>
                  </a:lnTo>
                  <a:lnTo>
                    <a:pt x="587" y="2796"/>
                  </a:lnTo>
                  <a:lnTo>
                    <a:pt x="557" y="2752"/>
                  </a:lnTo>
                  <a:lnTo>
                    <a:pt x="531" y="2722"/>
                  </a:lnTo>
                  <a:lnTo>
                    <a:pt x="514" y="2684"/>
                  </a:lnTo>
                  <a:lnTo>
                    <a:pt x="481" y="2602"/>
                  </a:lnTo>
                  <a:lnTo>
                    <a:pt x="450" y="2522"/>
                  </a:lnTo>
                  <a:lnTo>
                    <a:pt x="408" y="2422"/>
                  </a:lnTo>
                  <a:lnTo>
                    <a:pt x="362" y="2344"/>
                  </a:lnTo>
                  <a:lnTo>
                    <a:pt x="312" y="2268"/>
                  </a:lnTo>
                  <a:lnTo>
                    <a:pt x="272" y="2212"/>
                  </a:lnTo>
                  <a:lnTo>
                    <a:pt x="214" y="2142"/>
                  </a:lnTo>
                  <a:lnTo>
                    <a:pt x="150" y="2080"/>
                  </a:lnTo>
                  <a:lnTo>
                    <a:pt x="91" y="2008"/>
                  </a:lnTo>
                  <a:lnTo>
                    <a:pt x="54" y="1946"/>
                  </a:lnTo>
                  <a:lnTo>
                    <a:pt x="31" y="1901"/>
                  </a:lnTo>
                  <a:lnTo>
                    <a:pt x="10" y="1856"/>
                  </a:lnTo>
                  <a:lnTo>
                    <a:pt x="1" y="1816"/>
                  </a:lnTo>
                  <a:lnTo>
                    <a:pt x="0" y="1778"/>
                  </a:lnTo>
                  <a:lnTo>
                    <a:pt x="9" y="1725"/>
                  </a:lnTo>
                  <a:lnTo>
                    <a:pt x="31" y="1685"/>
                  </a:lnTo>
                  <a:lnTo>
                    <a:pt x="56" y="1665"/>
                  </a:lnTo>
                  <a:lnTo>
                    <a:pt x="82" y="1634"/>
                  </a:lnTo>
                  <a:lnTo>
                    <a:pt x="119" y="1606"/>
                  </a:lnTo>
                  <a:lnTo>
                    <a:pt x="155" y="1596"/>
                  </a:lnTo>
                  <a:lnTo>
                    <a:pt x="200" y="1586"/>
                  </a:lnTo>
                  <a:lnTo>
                    <a:pt x="238" y="1583"/>
                  </a:lnTo>
                  <a:lnTo>
                    <a:pt x="289" y="1588"/>
                  </a:lnTo>
                  <a:lnTo>
                    <a:pt x="335" y="1592"/>
                  </a:lnTo>
                  <a:lnTo>
                    <a:pt x="382" y="1610"/>
                  </a:lnTo>
                  <a:lnTo>
                    <a:pt x="424" y="1636"/>
                  </a:lnTo>
                  <a:lnTo>
                    <a:pt x="462" y="1664"/>
                  </a:lnTo>
                  <a:lnTo>
                    <a:pt x="510" y="1705"/>
                  </a:lnTo>
                  <a:lnTo>
                    <a:pt x="549" y="1750"/>
                  </a:lnTo>
                  <a:lnTo>
                    <a:pt x="593" y="1804"/>
                  </a:lnTo>
                  <a:lnTo>
                    <a:pt x="645" y="1874"/>
                  </a:lnTo>
                  <a:lnTo>
                    <a:pt x="726" y="1984"/>
                  </a:lnTo>
                  <a:lnTo>
                    <a:pt x="791" y="2072"/>
                  </a:lnTo>
                  <a:lnTo>
                    <a:pt x="854" y="2151"/>
                  </a:lnTo>
                  <a:lnTo>
                    <a:pt x="884" y="2126"/>
                  </a:lnTo>
                  <a:lnTo>
                    <a:pt x="914" y="2090"/>
                  </a:lnTo>
                  <a:lnTo>
                    <a:pt x="945" y="2038"/>
                  </a:lnTo>
                  <a:lnTo>
                    <a:pt x="967" y="1984"/>
                  </a:lnTo>
                  <a:lnTo>
                    <a:pt x="978" y="1921"/>
                  </a:lnTo>
                  <a:lnTo>
                    <a:pt x="969" y="1816"/>
                  </a:lnTo>
                  <a:lnTo>
                    <a:pt x="963" y="1702"/>
                  </a:lnTo>
                  <a:lnTo>
                    <a:pt x="954" y="1620"/>
                  </a:lnTo>
                  <a:lnTo>
                    <a:pt x="948" y="1620"/>
                  </a:lnTo>
                  <a:lnTo>
                    <a:pt x="936" y="1620"/>
                  </a:lnTo>
                  <a:lnTo>
                    <a:pt x="918" y="1616"/>
                  </a:lnTo>
                  <a:lnTo>
                    <a:pt x="896" y="1606"/>
                  </a:lnTo>
                  <a:lnTo>
                    <a:pt x="875" y="1594"/>
                  </a:lnTo>
                  <a:lnTo>
                    <a:pt x="858" y="1577"/>
                  </a:lnTo>
                  <a:lnTo>
                    <a:pt x="844" y="1562"/>
                  </a:lnTo>
                  <a:lnTo>
                    <a:pt x="828" y="1538"/>
                  </a:lnTo>
                  <a:lnTo>
                    <a:pt x="819" y="1514"/>
                  </a:lnTo>
                  <a:lnTo>
                    <a:pt x="807" y="1482"/>
                  </a:lnTo>
                  <a:lnTo>
                    <a:pt x="803" y="1444"/>
                  </a:lnTo>
                  <a:lnTo>
                    <a:pt x="804" y="1407"/>
                  </a:lnTo>
                  <a:lnTo>
                    <a:pt x="805" y="1358"/>
                  </a:lnTo>
                  <a:lnTo>
                    <a:pt x="818" y="1302"/>
                  </a:lnTo>
                  <a:lnTo>
                    <a:pt x="828" y="1262"/>
                  </a:lnTo>
                  <a:lnTo>
                    <a:pt x="838" y="1228"/>
                  </a:lnTo>
                  <a:lnTo>
                    <a:pt x="850" y="1204"/>
                  </a:lnTo>
                  <a:lnTo>
                    <a:pt x="836" y="1123"/>
                  </a:lnTo>
                  <a:lnTo>
                    <a:pt x="820" y="1048"/>
                  </a:lnTo>
                  <a:lnTo>
                    <a:pt x="805" y="1000"/>
                  </a:lnTo>
                  <a:lnTo>
                    <a:pt x="799" y="960"/>
                  </a:lnTo>
                  <a:lnTo>
                    <a:pt x="803" y="878"/>
                  </a:lnTo>
                  <a:lnTo>
                    <a:pt x="785" y="833"/>
                  </a:lnTo>
                  <a:lnTo>
                    <a:pt x="749" y="788"/>
                  </a:lnTo>
                  <a:lnTo>
                    <a:pt x="725" y="738"/>
                  </a:lnTo>
                  <a:lnTo>
                    <a:pt x="695" y="657"/>
                  </a:lnTo>
                  <a:lnTo>
                    <a:pt x="662" y="582"/>
                  </a:lnTo>
                  <a:lnTo>
                    <a:pt x="635" y="528"/>
                  </a:lnTo>
                  <a:lnTo>
                    <a:pt x="573" y="535"/>
                  </a:lnTo>
                  <a:lnTo>
                    <a:pt x="494" y="529"/>
                  </a:lnTo>
                  <a:lnTo>
                    <a:pt x="419" y="521"/>
                  </a:lnTo>
                  <a:lnTo>
                    <a:pt x="322" y="512"/>
                  </a:lnTo>
                  <a:lnTo>
                    <a:pt x="255" y="500"/>
                  </a:lnTo>
                  <a:lnTo>
                    <a:pt x="183" y="475"/>
                  </a:lnTo>
                  <a:lnTo>
                    <a:pt x="136" y="444"/>
                  </a:lnTo>
                  <a:lnTo>
                    <a:pt x="104" y="407"/>
                  </a:lnTo>
                  <a:lnTo>
                    <a:pt x="78" y="359"/>
                  </a:lnTo>
                  <a:lnTo>
                    <a:pt x="65" y="299"/>
                  </a:lnTo>
                  <a:lnTo>
                    <a:pt x="58" y="228"/>
                  </a:lnTo>
                  <a:lnTo>
                    <a:pt x="63" y="168"/>
                  </a:lnTo>
                </a:path>
              </a:pathLst>
            </a:custGeom>
            <a:solidFill>
              <a:srgbClr val="ffbf7f"/>
            </a:solidFill>
            <a:ln cap="rnd" w="25560">
              <a:solidFill>
                <a:srgbClr val="ff9f1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1" name=""/>
            <p:cNvGrpSpPr/>
            <p:nvPr/>
          </p:nvGrpSpPr>
          <p:grpSpPr>
            <a:xfrm>
              <a:off x="5649840" y="101520"/>
              <a:ext cx="3193920" cy="5126040"/>
              <a:chOff x="5649840" y="101520"/>
              <a:chExt cx="3193920" cy="5126040"/>
            </a:xfrm>
          </p:grpSpPr>
          <p:grpSp>
            <p:nvGrpSpPr>
              <p:cNvPr id="222" name=""/>
              <p:cNvGrpSpPr/>
              <p:nvPr/>
            </p:nvGrpSpPr>
            <p:grpSpPr>
              <a:xfrm>
                <a:off x="5649840" y="101520"/>
                <a:ext cx="3193920" cy="5126040"/>
                <a:chOff x="5649840" y="101520"/>
                <a:chExt cx="3193920" cy="5126040"/>
              </a:xfrm>
            </p:grpSpPr>
            <p:grpSp>
              <p:nvGrpSpPr>
                <p:cNvPr id="223" name=""/>
                <p:cNvGrpSpPr/>
                <p:nvPr/>
              </p:nvGrpSpPr>
              <p:grpSpPr>
                <a:xfrm>
                  <a:off x="5649840" y="101520"/>
                  <a:ext cx="596880" cy="365040"/>
                  <a:chOff x="5649840" y="101520"/>
                  <a:chExt cx="596880" cy="365040"/>
                </a:xfrm>
              </p:grpSpPr>
              <p:sp>
                <p:nvSpPr>
                  <p:cNvPr id="224" name=""/>
                  <p:cNvSpPr/>
                  <p:nvPr/>
                </p:nvSpPr>
                <p:spPr>
                  <a:xfrm>
                    <a:off x="5930640" y="129960"/>
                    <a:ext cx="316080" cy="336600"/>
                  </a:xfrm>
                  <a:custGeom>
                    <a:avLst/>
                    <a:gdLst/>
                    <a:ahLst/>
                    <a:rect l="l" t="t" r="r" b="b"/>
                    <a:pathLst>
                      <a:path w="199" h="212">
                        <a:moveTo>
                          <a:pt x="0" y="208"/>
                        </a:moveTo>
                        <a:lnTo>
                          <a:pt x="125" y="4"/>
                        </a:lnTo>
                        <a:lnTo>
                          <a:pt x="198" y="0"/>
                        </a:lnTo>
                        <a:lnTo>
                          <a:pt x="156" y="23"/>
                        </a:lnTo>
                        <a:lnTo>
                          <a:pt x="164" y="67"/>
                        </a:lnTo>
                        <a:lnTo>
                          <a:pt x="161" y="114"/>
                        </a:lnTo>
                        <a:lnTo>
                          <a:pt x="152" y="151"/>
                        </a:lnTo>
                        <a:lnTo>
                          <a:pt x="138" y="179"/>
                        </a:lnTo>
                        <a:lnTo>
                          <a:pt x="115" y="198"/>
                        </a:lnTo>
                        <a:lnTo>
                          <a:pt x="90" y="205"/>
                        </a:lnTo>
                        <a:lnTo>
                          <a:pt x="60" y="211"/>
                        </a:lnTo>
                        <a:lnTo>
                          <a:pt x="0" y="208"/>
                        </a:lnTo>
                      </a:path>
                    </a:pathLst>
                  </a:custGeom>
                  <a:solidFill>
                    <a:srgbClr val="ff9f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" name=""/>
                  <p:cNvSpPr/>
                  <p:nvPr/>
                </p:nvSpPr>
                <p:spPr>
                  <a:xfrm>
                    <a:off x="5649840" y="104760"/>
                    <a:ext cx="496800" cy="334800"/>
                  </a:xfrm>
                  <a:custGeom>
                    <a:avLst/>
                    <a:gdLst/>
                    <a:ahLst/>
                    <a:rect l="l" t="t" r="r" b="b"/>
                    <a:pathLst>
                      <a:path w="313" h="211">
                        <a:moveTo>
                          <a:pt x="297" y="17"/>
                        </a:moveTo>
                        <a:lnTo>
                          <a:pt x="311" y="47"/>
                        </a:lnTo>
                        <a:lnTo>
                          <a:pt x="312" y="93"/>
                        </a:lnTo>
                        <a:lnTo>
                          <a:pt x="301" y="156"/>
                        </a:lnTo>
                        <a:lnTo>
                          <a:pt x="284" y="181"/>
                        </a:lnTo>
                        <a:lnTo>
                          <a:pt x="254" y="197"/>
                        </a:lnTo>
                        <a:lnTo>
                          <a:pt x="200" y="207"/>
                        </a:lnTo>
                        <a:lnTo>
                          <a:pt x="145" y="210"/>
                        </a:lnTo>
                        <a:lnTo>
                          <a:pt x="71" y="202"/>
                        </a:lnTo>
                        <a:lnTo>
                          <a:pt x="31" y="189"/>
                        </a:lnTo>
                        <a:lnTo>
                          <a:pt x="9" y="166"/>
                        </a:lnTo>
                        <a:lnTo>
                          <a:pt x="0" y="126"/>
                        </a:lnTo>
                        <a:lnTo>
                          <a:pt x="8" y="84"/>
                        </a:lnTo>
                        <a:lnTo>
                          <a:pt x="28" y="45"/>
                        </a:lnTo>
                        <a:lnTo>
                          <a:pt x="67" y="19"/>
                        </a:lnTo>
                        <a:lnTo>
                          <a:pt x="108" y="7"/>
                        </a:lnTo>
                        <a:lnTo>
                          <a:pt x="157" y="1"/>
                        </a:lnTo>
                        <a:lnTo>
                          <a:pt x="194" y="0"/>
                        </a:lnTo>
                        <a:lnTo>
                          <a:pt x="231" y="0"/>
                        </a:lnTo>
                        <a:lnTo>
                          <a:pt x="279" y="7"/>
                        </a:lnTo>
                        <a:lnTo>
                          <a:pt x="297" y="17"/>
                        </a:lnTo>
                      </a:path>
                    </a:pathLst>
                  </a:custGeom>
                  <a:solidFill>
                    <a:srgbClr val="ffbf7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6" name=""/>
                  <p:cNvSpPr/>
                  <p:nvPr/>
                </p:nvSpPr>
                <p:spPr>
                  <a:xfrm>
                    <a:off x="5651280" y="101520"/>
                    <a:ext cx="507960" cy="352440"/>
                  </a:xfrm>
                  <a:custGeom>
                    <a:avLst/>
                    <a:gdLst/>
                    <a:ahLst/>
                    <a:rect l="l" t="t" r="r" b="b"/>
                    <a:pathLst>
                      <a:path w="320" h="222">
                        <a:moveTo>
                          <a:pt x="302" y="26"/>
                        </a:moveTo>
                        <a:lnTo>
                          <a:pt x="315" y="49"/>
                        </a:lnTo>
                        <a:lnTo>
                          <a:pt x="319" y="85"/>
                        </a:lnTo>
                        <a:lnTo>
                          <a:pt x="315" y="127"/>
                        </a:lnTo>
                        <a:lnTo>
                          <a:pt x="305" y="164"/>
                        </a:lnTo>
                        <a:lnTo>
                          <a:pt x="288" y="191"/>
                        </a:lnTo>
                        <a:lnTo>
                          <a:pt x="258" y="205"/>
                        </a:lnTo>
                        <a:lnTo>
                          <a:pt x="204" y="219"/>
                        </a:lnTo>
                        <a:lnTo>
                          <a:pt x="158" y="221"/>
                        </a:lnTo>
                        <a:lnTo>
                          <a:pt x="116" y="221"/>
                        </a:lnTo>
                        <a:lnTo>
                          <a:pt x="68" y="210"/>
                        </a:lnTo>
                        <a:lnTo>
                          <a:pt x="36" y="203"/>
                        </a:lnTo>
                        <a:lnTo>
                          <a:pt x="18" y="189"/>
                        </a:lnTo>
                        <a:lnTo>
                          <a:pt x="6" y="167"/>
                        </a:lnTo>
                        <a:lnTo>
                          <a:pt x="0" y="141"/>
                        </a:lnTo>
                        <a:lnTo>
                          <a:pt x="3" y="108"/>
                        </a:lnTo>
                        <a:lnTo>
                          <a:pt x="12" y="76"/>
                        </a:lnTo>
                        <a:lnTo>
                          <a:pt x="25" y="54"/>
                        </a:lnTo>
                        <a:lnTo>
                          <a:pt x="39" y="40"/>
                        </a:lnTo>
                        <a:lnTo>
                          <a:pt x="55" y="26"/>
                        </a:lnTo>
                        <a:lnTo>
                          <a:pt x="71" y="20"/>
                        </a:lnTo>
                        <a:lnTo>
                          <a:pt x="89" y="14"/>
                        </a:lnTo>
                        <a:lnTo>
                          <a:pt x="111" y="9"/>
                        </a:lnTo>
                        <a:lnTo>
                          <a:pt x="158" y="4"/>
                        </a:lnTo>
                        <a:lnTo>
                          <a:pt x="197" y="0"/>
                        </a:lnTo>
                        <a:lnTo>
                          <a:pt x="226" y="0"/>
                        </a:lnTo>
                        <a:lnTo>
                          <a:pt x="256" y="4"/>
                        </a:lnTo>
                        <a:lnTo>
                          <a:pt x="284" y="9"/>
                        </a:lnTo>
                        <a:lnTo>
                          <a:pt x="302" y="26"/>
                        </a:lnTo>
                      </a:path>
                    </a:pathLst>
                  </a:custGeom>
                  <a:noFill/>
                  <a:ln cap="rnd" w="25560">
                    <a:solidFill>
                      <a:srgbClr val="ff9f1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7" name=""/>
                  <p:cNvSpPr/>
                  <p:nvPr/>
                </p:nvSpPr>
                <p:spPr>
                  <a:xfrm>
                    <a:off x="6060960" y="123840"/>
                    <a:ext cx="87120" cy="233280"/>
                  </a:xfrm>
                  <a:custGeom>
                    <a:avLst/>
                    <a:gdLst/>
                    <a:ahLst/>
                    <a:rect l="l" t="t" r="r" b="b"/>
                    <a:pathLst>
                      <a:path w="55" h="147">
                        <a:moveTo>
                          <a:pt x="0" y="0"/>
                        </a:moveTo>
                        <a:lnTo>
                          <a:pt x="6" y="40"/>
                        </a:lnTo>
                        <a:lnTo>
                          <a:pt x="15" y="86"/>
                        </a:lnTo>
                        <a:lnTo>
                          <a:pt x="27" y="123"/>
                        </a:lnTo>
                        <a:lnTo>
                          <a:pt x="36" y="146"/>
                        </a:lnTo>
                        <a:lnTo>
                          <a:pt x="48" y="122"/>
                        </a:lnTo>
                        <a:lnTo>
                          <a:pt x="54" y="75"/>
                        </a:lnTo>
                        <a:lnTo>
                          <a:pt x="47" y="26"/>
                        </a:lnTo>
                        <a:lnTo>
                          <a:pt x="24" y="1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dfb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8" name=""/>
                <p:cNvGrpSpPr/>
                <p:nvPr/>
              </p:nvGrpSpPr>
              <p:grpSpPr>
                <a:xfrm>
                  <a:off x="5667120" y="127080"/>
                  <a:ext cx="3176640" cy="5100480"/>
                  <a:chOff x="5667120" y="127080"/>
                  <a:chExt cx="3176640" cy="5100480"/>
                </a:xfrm>
              </p:grpSpPr>
              <p:sp>
                <p:nvSpPr>
                  <p:cNvPr id="229" name=""/>
                  <p:cNvSpPr/>
                  <p:nvPr/>
                </p:nvSpPr>
                <p:spPr>
                  <a:xfrm>
                    <a:off x="5667120" y="2757240"/>
                    <a:ext cx="395280" cy="755640"/>
                  </a:xfrm>
                  <a:custGeom>
                    <a:avLst/>
                    <a:gdLst/>
                    <a:ahLst/>
                    <a:rect l="l" t="t" r="r" b="b"/>
                    <a:pathLst>
                      <a:path w="249" h="476">
                        <a:moveTo>
                          <a:pt x="163" y="475"/>
                        </a:moveTo>
                        <a:lnTo>
                          <a:pt x="185" y="447"/>
                        </a:lnTo>
                        <a:lnTo>
                          <a:pt x="206" y="410"/>
                        </a:lnTo>
                        <a:lnTo>
                          <a:pt x="226" y="368"/>
                        </a:lnTo>
                        <a:lnTo>
                          <a:pt x="239" y="322"/>
                        </a:lnTo>
                        <a:lnTo>
                          <a:pt x="245" y="256"/>
                        </a:lnTo>
                        <a:lnTo>
                          <a:pt x="248" y="208"/>
                        </a:lnTo>
                        <a:lnTo>
                          <a:pt x="244" y="180"/>
                        </a:lnTo>
                        <a:lnTo>
                          <a:pt x="231" y="166"/>
                        </a:lnTo>
                        <a:lnTo>
                          <a:pt x="197" y="126"/>
                        </a:lnTo>
                        <a:lnTo>
                          <a:pt x="157" y="89"/>
                        </a:lnTo>
                        <a:lnTo>
                          <a:pt x="115" y="60"/>
                        </a:lnTo>
                        <a:lnTo>
                          <a:pt x="72" y="32"/>
                        </a:lnTo>
                        <a:lnTo>
                          <a:pt x="27" y="12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25560">
                    <a:solidFill>
                      <a:srgbClr val="ff9f1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30" name=""/>
                  <p:cNvGrpSpPr/>
                  <p:nvPr/>
                </p:nvGrpSpPr>
                <p:grpSpPr>
                  <a:xfrm>
                    <a:off x="5808600" y="127080"/>
                    <a:ext cx="3035160" cy="5100480"/>
                    <a:chOff x="5808600" y="127080"/>
                    <a:chExt cx="3035160" cy="5100480"/>
                  </a:xfrm>
                </p:grpSpPr>
                <p:grpSp>
                  <p:nvGrpSpPr>
                    <p:cNvPr id="231" name=""/>
                    <p:cNvGrpSpPr/>
                    <p:nvPr/>
                  </p:nvGrpSpPr>
                  <p:grpSpPr>
                    <a:xfrm>
                      <a:off x="6549840" y="565200"/>
                      <a:ext cx="858960" cy="3324240"/>
                      <a:chOff x="6549840" y="565200"/>
                      <a:chExt cx="858960" cy="3324240"/>
                    </a:xfrm>
                  </p:grpSpPr>
                  <p:grpSp>
                    <p:nvGrpSpPr>
                      <p:cNvPr id="232" name=""/>
                      <p:cNvGrpSpPr/>
                      <p:nvPr/>
                    </p:nvGrpSpPr>
                    <p:grpSpPr>
                      <a:xfrm>
                        <a:off x="6886440" y="3247920"/>
                        <a:ext cx="522360" cy="641520"/>
                        <a:chOff x="6886440" y="3247920"/>
                        <a:chExt cx="522360" cy="641520"/>
                      </a:xfrm>
                    </p:grpSpPr>
                    <p:sp>
                      <p:nvSpPr>
                        <p:cNvPr id="233" name=""/>
                        <p:cNvSpPr/>
                        <p:nvPr/>
                      </p:nvSpPr>
                      <p:spPr>
                        <a:xfrm>
                          <a:off x="6945120" y="3247920"/>
                          <a:ext cx="463680" cy="3888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92" h="245">
                              <a:moveTo>
                                <a:pt x="17" y="145"/>
                              </a:moveTo>
                              <a:lnTo>
                                <a:pt x="86" y="151"/>
                              </a:lnTo>
                              <a:lnTo>
                                <a:pt x="145" y="141"/>
                              </a:lnTo>
                              <a:lnTo>
                                <a:pt x="212" y="110"/>
                              </a:lnTo>
                              <a:lnTo>
                                <a:pt x="256" y="71"/>
                              </a:lnTo>
                              <a:lnTo>
                                <a:pt x="291" y="0"/>
                              </a:lnTo>
                              <a:lnTo>
                                <a:pt x="260" y="102"/>
                              </a:lnTo>
                              <a:lnTo>
                                <a:pt x="237" y="152"/>
                              </a:lnTo>
                              <a:lnTo>
                                <a:pt x="198" y="199"/>
                              </a:lnTo>
                              <a:lnTo>
                                <a:pt x="141" y="232"/>
                              </a:lnTo>
                              <a:lnTo>
                                <a:pt x="83" y="244"/>
                              </a:lnTo>
                              <a:lnTo>
                                <a:pt x="0" y="179"/>
                              </a:lnTo>
                              <a:lnTo>
                                <a:pt x="17" y="145"/>
                              </a:lnTo>
                            </a:path>
                          </a:pathLst>
                        </a:custGeom>
                        <a:solidFill>
                          <a:srgbClr val="ff9f1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" name=""/>
                        <p:cNvSpPr/>
                        <p:nvPr/>
                      </p:nvSpPr>
                      <p:spPr>
                        <a:xfrm>
                          <a:off x="6886440" y="3530520"/>
                          <a:ext cx="162000" cy="3589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02" h="226">
                              <a:moveTo>
                                <a:pt x="0" y="0"/>
                              </a:moveTo>
                              <a:lnTo>
                                <a:pt x="36" y="27"/>
                              </a:lnTo>
                              <a:lnTo>
                                <a:pt x="63" y="64"/>
                              </a:lnTo>
                              <a:lnTo>
                                <a:pt x="84" y="122"/>
                              </a:lnTo>
                              <a:lnTo>
                                <a:pt x="87" y="165"/>
                              </a:lnTo>
                              <a:lnTo>
                                <a:pt x="77" y="225"/>
                              </a:lnTo>
                              <a:lnTo>
                                <a:pt x="100" y="177"/>
                              </a:lnTo>
                              <a:lnTo>
                                <a:pt x="101" y="122"/>
                              </a:lnTo>
                              <a:lnTo>
                                <a:pt x="94" y="75"/>
                              </a:lnTo>
                              <a:lnTo>
                                <a:pt x="73" y="24"/>
                              </a:lnTo>
                              <a:lnTo>
                                <a:pt x="45" y="2"/>
                              </a:lnTo>
                              <a:lnTo>
                                <a:pt x="0" y="0"/>
                              </a:lnTo>
                            </a:path>
                          </a:pathLst>
                        </a:custGeom>
                        <a:solidFill>
                          <a:srgbClr val="ff9f1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>
                          <a:off x="7008840" y="3301920"/>
                          <a:ext cx="241200" cy="1713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2" h="108">
                              <a:moveTo>
                                <a:pt x="0" y="99"/>
                              </a:moveTo>
                              <a:lnTo>
                                <a:pt x="40" y="107"/>
                              </a:lnTo>
                              <a:lnTo>
                                <a:pt x="75" y="93"/>
                              </a:lnTo>
                              <a:lnTo>
                                <a:pt x="111" y="68"/>
                              </a:lnTo>
                              <a:lnTo>
                                <a:pt x="138" y="33"/>
                              </a:lnTo>
                              <a:lnTo>
                                <a:pt x="151" y="0"/>
                              </a:lnTo>
                            </a:path>
                          </a:pathLst>
                        </a:custGeom>
                        <a:noFill/>
                        <a:ln cap="rnd" w="25560">
                          <a:solidFill>
                            <a:srgbClr val="ff9f1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236" name=""/>
                      <p:cNvSpPr/>
                      <p:nvPr/>
                    </p:nvSpPr>
                    <p:spPr>
                      <a:xfrm>
                        <a:off x="6549840" y="565200"/>
                        <a:ext cx="109440" cy="377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9" h="238">
                            <a:moveTo>
                              <a:pt x="18" y="234"/>
                            </a:moveTo>
                            <a:lnTo>
                              <a:pt x="19" y="198"/>
                            </a:lnTo>
                            <a:lnTo>
                              <a:pt x="24" y="164"/>
                            </a:lnTo>
                            <a:lnTo>
                              <a:pt x="30" y="129"/>
                            </a:lnTo>
                            <a:lnTo>
                              <a:pt x="42" y="91"/>
                            </a:lnTo>
                            <a:lnTo>
                              <a:pt x="52" y="56"/>
                            </a:lnTo>
                            <a:lnTo>
                              <a:pt x="68" y="0"/>
                            </a:lnTo>
                            <a:lnTo>
                              <a:pt x="50" y="33"/>
                            </a:lnTo>
                            <a:lnTo>
                              <a:pt x="38" y="58"/>
                            </a:lnTo>
                            <a:lnTo>
                              <a:pt x="24" y="99"/>
                            </a:lnTo>
                            <a:lnTo>
                              <a:pt x="13" y="141"/>
                            </a:lnTo>
                            <a:lnTo>
                              <a:pt x="4" y="187"/>
                            </a:lnTo>
                            <a:lnTo>
                              <a:pt x="0" y="237"/>
                            </a:lnTo>
                            <a:lnTo>
                              <a:pt x="18" y="234"/>
                            </a:lnTo>
                          </a:path>
                        </a:pathLst>
                      </a:custGeom>
                      <a:solidFill>
                        <a:srgbClr val="ff9f1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37" name=""/>
                      <p:cNvSpPr/>
                      <p:nvPr/>
                    </p:nvSpPr>
                    <p:spPr>
                      <a:xfrm>
                        <a:off x="6805440" y="1057320"/>
                        <a:ext cx="177840" cy="38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2" h="245">
                            <a:moveTo>
                              <a:pt x="0" y="234"/>
                            </a:moveTo>
                            <a:lnTo>
                              <a:pt x="27" y="220"/>
                            </a:lnTo>
                            <a:lnTo>
                              <a:pt x="56" y="195"/>
                            </a:lnTo>
                            <a:lnTo>
                              <a:pt x="77" y="154"/>
                            </a:lnTo>
                            <a:lnTo>
                              <a:pt x="90" y="112"/>
                            </a:lnTo>
                            <a:lnTo>
                              <a:pt x="101" y="61"/>
                            </a:lnTo>
                            <a:lnTo>
                              <a:pt x="109" y="0"/>
                            </a:lnTo>
                            <a:lnTo>
                              <a:pt x="111" y="54"/>
                            </a:lnTo>
                            <a:lnTo>
                              <a:pt x="105" y="116"/>
                            </a:lnTo>
                            <a:lnTo>
                              <a:pt x="97" y="157"/>
                            </a:lnTo>
                            <a:lnTo>
                              <a:pt x="89" y="192"/>
                            </a:lnTo>
                            <a:lnTo>
                              <a:pt x="76" y="220"/>
                            </a:lnTo>
                            <a:lnTo>
                              <a:pt x="56" y="237"/>
                            </a:lnTo>
                            <a:lnTo>
                              <a:pt x="31" y="244"/>
                            </a:lnTo>
                            <a:lnTo>
                              <a:pt x="0" y="234"/>
                            </a:lnTo>
                          </a:path>
                        </a:pathLst>
                      </a:custGeom>
                      <a:solidFill>
                        <a:srgbClr val="ff9f1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38" name=""/>
                      <p:cNvSpPr/>
                      <p:nvPr/>
                    </p:nvSpPr>
                    <p:spPr>
                      <a:xfrm>
                        <a:off x="7037280" y="2230200"/>
                        <a:ext cx="226800" cy="466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43" h="294">
                            <a:moveTo>
                              <a:pt x="0" y="166"/>
                            </a:moveTo>
                            <a:lnTo>
                              <a:pt x="22" y="174"/>
                            </a:lnTo>
                            <a:lnTo>
                              <a:pt x="46" y="168"/>
                            </a:lnTo>
                            <a:lnTo>
                              <a:pt x="65" y="158"/>
                            </a:lnTo>
                            <a:lnTo>
                              <a:pt x="79" y="143"/>
                            </a:lnTo>
                            <a:lnTo>
                              <a:pt x="97" y="116"/>
                            </a:lnTo>
                            <a:lnTo>
                              <a:pt x="115" y="80"/>
                            </a:lnTo>
                            <a:lnTo>
                              <a:pt x="142" y="0"/>
                            </a:lnTo>
                            <a:lnTo>
                              <a:pt x="127" y="74"/>
                            </a:lnTo>
                            <a:lnTo>
                              <a:pt x="116" y="121"/>
                            </a:lnTo>
                            <a:lnTo>
                              <a:pt x="95" y="166"/>
                            </a:lnTo>
                            <a:lnTo>
                              <a:pt x="73" y="196"/>
                            </a:lnTo>
                            <a:lnTo>
                              <a:pt x="49" y="201"/>
                            </a:lnTo>
                            <a:lnTo>
                              <a:pt x="36" y="237"/>
                            </a:lnTo>
                            <a:lnTo>
                              <a:pt x="25" y="293"/>
                            </a:lnTo>
                            <a:lnTo>
                              <a:pt x="16" y="224"/>
                            </a:lnTo>
                            <a:lnTo>
                              <a:pt x="0" y="166"/>
                            </a:lnTo>
                          </a:path>
                        </a:pathLst>
                      </a:custGeom>
                      <a:solidFill>
                        <a:srgbClr val="ff9f1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39" name=""/>
                      <p:cNvSpPr/>
                      <p:nvPr/>
                    </p:nvSpPr>
                    <p:spPr>
                      <a:xfrm>
                        <a:off x="7119720" y="2994120"/>
                        <a:ext cx="252360" cy="1569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59" h="99">
                            <a:moveTo>
                              <a:pt x="0" y="95"/>
                            </a:moveTo>
                            <a:lnTo>
                              <a:pt x="33" y="98"/>
                            </a:lnTo>
                            <a:lnTo>
                              <a:pt x="68" y="88"/>
                            </a:lnTo>
                            <a:lnTo>
                              <a:pt x="103" y="62"/>
                            </a:lnTo>
                            <a:lnTo>
                              <a:pt x="131" y="36"/>
                            </a:lnTo>
                            <a:lnTo>
                              <a:pt x="158" y="0"/>
                            </a:lnTo>
                          </a:path>
                        </a:pathLst>
                      </a:custGeom>
                      <a:noFill/>
                      <a:ln cap="rnd" w="25560">
                        <a:solidFill>
                          <a:srgbClr val="ff9f1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40" name=""/>
                      <p:cNvSpPr/>
                      <p:nvPr/>
                    </p:nvSpPr>
                    <p:spPr>
                      <a:xfrm>
                        <a:off x="6843600" y="1373040"/>
                        <a:ext cx="76320" cy="268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8" h="169">
                            <a:moveTo>
                              <a:pt x="0" y="168"/>
                            </a:moveTo>
                            <a:lnTo>
                              <a:pt x="5" y="128"/>
                            </a:lnTo>
                            <a:lnTo>
                              <a:pt x="12" y="88"/>
                            </a:lnTo>
                            <a:lnTo>
                              <a:pt x="28" y="40"/>
                            </a:lnTo>
                            <a:lnTo>
                              <a:pt x="47" y="0"/>
                            </a:lnTo>
                          </a:path>
                        </a:pathLst>
                      </a:custGeom>
                      <a:noFill/>
                      <a:ln cap="rnd" w="25560">
                        <a:solidFill>
                          <a:srgbClr val="ff9f1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241" name=""/>
                    <p:cNvGrpSpPr/>
                    <p:nvPr/>
                  </p:nvGrpSpPr>
                  <p:grpSpPr>
                    <a:xfrm>
                      <a:off x="5808600" y="2027160"/>
                      <a:ext cx="1535040" cy="3200400"/>
                      <a:chOff x="5808600" y="2027160"/>
                      <a:chExt cx="1535040" cy="3200400"/>
                    </a:xfrm>
                  </p:grpSpPr>
                  <p:sp>
                    <p:nvSpPr>
                      <p:cNvPr id="242" name=""/>
                      <p:cNvSpPr/>
                      <p:nvPr/>
                    </p:nvSpPr>
                    <p:spPr>
                      <a:xfrm>
                        <a:off x="6821280" y="5132160"/>
                        <a:ext cx="522360" cy="95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29" h="60">
                            <a:moveTo>
                              <a:pt x="0" y="0"/>
                            </a:moveTo>
                            <a:lnTo>
                              <a:pt x="64" y="31"/>
                            </a:lnTo>
                            <a:lnTo>
                              <a:pt x="130" y="51"/>
                            </a:lnTo>
                            <a:lnTo>
                              <a:pt x="186" y="59"/>
                            </a:lnTo>
                            <a:lnTo>
                              <a:pt x="268" y="46"/>
                            </a:lnTo>
                            <a:lnTo>
                              <a:pt x="328" y="34"/>
                            </a:lnTo>
                          </a:path>
                        </a:pathLst>
                      </a:custGeom>
                      <a:noFill/>
                      <a:ln cap="rnd" w="25560">
                        <a:solidFill>
                          <a:srgbClr val="ff9f1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43" name=""/>
                      <p:cNvSpPr/>
                      <p:nvPr/>
                    </p:nvSpPr>
                    <p:spPr>
                      <a:xfrm>
                        <a:off x="6137280" y="3379680"/>
                        <a:ext cx="261720" cy="449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65" h="283">
                            <a:moveTo>
                              <a:pt x="0" y="282"/>
                            </a:moveTo>
                            <a:lnTo>
                              <a:pt x="10" y="240"/>
                            </a:lnTo>
                            <a:lnTo>
                              <a:pt x="34" y="182"/>
                            </a:lnTo>
                            <a:lnTo>
                              <a:pt x="63" y="123"/>
                            </a:lnTo>
                            <a:lnTo>
                              <a:pt x="93" y="74"/>
                            </a:lnTo>
                            <a:lnTo>
                              <a:pt x="135" y="27"/>
                            </a:lnTo>
                            <a:lnTo>
                              <a:pt x="164" y="0"/>
                            </a:lnTo>
                          </a:path>
                        </a:pathLst>
                      </a:custGeom>
                      <a:noFill/>
                      <a:ln cap="rnd" w="25560">
                        <a:solidFill>
                          <a:srgbClr val="ff9f1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44" name=""/>
                      <p:cNvSpPr/>
                      <p:nvPr/>
                    </p:nvSpPr>
                    <p:spPr>
                      <a:xfrm>
                        <a:off x="6229080" y="3419280"/>
                        <a:ext cx="300240" cy="569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89" h="359">
                            <a:moveTo>
                              <a:pt x="0" y="358"/>
                            </a:moveTo>
                            <a:lnTo>
                              <a:pt x="36" y="321"/>
                            </a:lnTo>
                            <a:lnTo>
                              <a:pt x="76" y="279"/>
                            </a:lnTo>
                            <a:lnTo>
                              <a:pt x="118" y="218"/>
                            </a:lnTo>
                            <a:lnTo>
                              <a:pt x="150" y="146"/>
                            </a:lnTo>
                            <a:lnTo>
                              <a:pt x="174" y="72"/>
                            </a:lnTo>
                            <a:lnTo>
                              <a:pt x="188" y="0"/>
                            </a:lnTo>
                            <a:lnTo>
                              <a:pt x="162" y="142"/>
                            </a:lnTo>
                            <a:lnTo>
                              <a:pt x="131" y="230"/>
                            </a:lnTo>
                            <a:lnTo>
                              <a:pt x="98" y="286"/>
                            </a:lnTo>
                            <a:lnTo>
                              <a:pt x="72" y="318"/>
                            </a:lnTo>
                            <a:lnTo>
                              <a:pt x="40" y="344"/>
                            </a:lnTo>
                            <a:lnTo>
                              <a:pt x="0" y="358"/>
                            </a:lnTo>
                          </a:path>
                        </a:pathLst>
                      </a:custGeom>
                      <a:solidFill>
                        <a:srgbClr val="ff9f1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45" name=""/>
                      <p:cNvSpPr/>
                      <p:nvPr/>
                    </p:nvSpPr>
                    <p:spPr>
                      <a:xfrm>
                        <a:off x="6292800" y="3921120"/>
                        <a:ext cx="206280" cy="22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0" h="142">
                            <a:moveTo>
                              <a:pt x="129" y="0"/>
                            </a:moveTo>
                            <a:lnTo>
                              <a:pt x="111" y="37"/>
                            </a:lnTo>
                            <a:lnTo>
                              <a:pt x="89" y="68"/>
                            </a:lnTo>
                            <a:lnTo>
                              <a:pt x="62" y="98"/>
                            </a:lnTo>
                            <a:lnTo>
                              <a:pt x="30" y="125"/>
                            </a:lnTo>
                            <a:lnTo>
                              <a:pt x="0" y="141"/>
                            </a:lnTo>
                          </a:path>
                        </a:pathLst>
                      </a:custGeom>
                      <a:noFill/>
                      <a:ln cap="rnd" w="25560">
                        <a:solidFill>
                          <a:srgbClr val="ff9f1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246" name=""/>
                      <p:cNvGrpSpPr/>
                      <p:nvPr/>
                    </p:nvGrpSpPr>
                    <p:grpSpPr>
                      <a:xfrm>
                        <a:off x="5808600" y="2027160"/>
                        <a:ext cx="1271520" cy="1474920"/>
                        <a:chOff x="5808600" y="2027160"/>
                        <a:chExt cx="1271520" cy="1474920"/>
                      </a:xfrm>
                    </p:grpSpPr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>
                          <a:off x="6914880" y="2027160"/>
                          <a:ext cx="165240" cy="6508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04" h="410">
                              <a:moveTo>
                                <a:pt x="0" y="0"/>
                              </a:moveTo>
                              <a:lnTo>
                                <a:pt x="12" y="90"/>
                              </a:lnTo>
                              <a:lnTo>
                                <a:pt x="33" y="175"/>
                              </a:lnTo>
                              <a:lnTo>
                                <a:pt x="67" y="261"/>
                              </a:lnTo>
                              <a:lnTo>
                                <a:pt x="93" y="344"/>
                              </a:lnTo>
                              <a:lnTo>
                                <a:pt x="103" y="409"/>
                              </a:lnTo>
                            </a:path>
                          </a:pathLst>
                        </a:custGeom>
                        <a:noFill/>
                        <a:ln cap="rnd" w="25560">
                          <a:solidFill>
                            <a:srgbClr val="ff9f1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>
                          <a:off x="5808600" y="3058920"/>
                          <a:ext cx="236520" cy="4431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49" h="279">
                              <a:moveTo>
                                <a:pt x="0" y="210"/>
                              </a:moveTo>
                              <a:lnTo>
                                <a:pt x="10" y="224"/>
                              </a:lnTo>
                              <a:lnTo>
                                <a:pt x="34" y="245"/>
                              </a:lnTo>
                              <a:lnTo>
                                <a:pt x="55" y="264"/>
                              </a:lnTo>
                              <a:lnTo>
                                <a:pt x="65" y="278"/>
                              </a:lnTo>
                              <a:lnTo>
                                <a:pt x="81" y="256"/>
                              </a:lnTo>
                              <a:lnTo>
                                <a:pt x="101" y="226"/>
                              </a:lnTo>
                              <a:lnTo>
                                <a:pt x="123" y="189"/>
                              </a:lnTo>
                              <a:lnTo>
                                <a:pt x="136" y="146"/>
                              </a:lnTo>
                              <a:lnTo>
                                <a:pt x="142" y="100"/>
                              </a:lnTo>
                              <a:lnTo>
                                <a:pt x="147" y="52"/>
                              </a:lnTo>
                              <a:lnTo>
                                <a:pt x="148" y="11"/>
                              </a:lnTo>
                              <a:lnTo>
                                <a:pt x="144" y="0"/>
                              </a:lnTo>
                              <a:lnTo>
                                <a:pt x="122" y="20"/>
                              </a:lnTo>
                              <a:lnTo>
                                <a:pt x="76" y="69"/>
                              </a:lnTo>
                              <a:lnTo>
                                <a:pt x="39" y="113"/>
                              </a:lnTo>
                              <a:lnTo>
                                <a:pt x="15" y="158"/>
                              </a:lnTo>
                              <a:lnTo>
                                <a:pt x="0" y="210"/>
                              </a:lnTo>
                            </a:path>
                          </a:pathLst>
                        </a:custGeom>
                        <a:solidFill>
                          <a:srgbClr val="ffdfb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249" name=""/>
                    <p:cNvGrpSpPr/>
                    <p:nvPr/>
                  </p:nvGrpSpPr>
                  <p:grpSpPr>
                    <a:xfrm>
                      <a:off x="6543360" y="127080"/>
                      <a:ext cx="2300400" cy="2930400"/>
                      <a:chOff x="6543360" y="127080"/>
                      <a:chExt cx="2300400" cy="2930400"/>
                    </a:xfrm>
                  </p:grpSpPr>
                  <p:sp>
                    <p:nvSpPr>
                      <p:cNvPr id="250" name=""/>
                      <p:cNvSpPr/>
                      <p:nvPr/>
                    </p:nvSpPr>
                    <p:spPr>
                      <a:xfrm>
                        <a:off x="6967440" y="338040"/>
                        <a:ext cx="117360" cy="128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4" h="81">
                            <a:moveTo>
                              <a:pt x="73" y="4"/>
                            </a:moveTo>
                            <a:lnTo>
                              <a:pt x="56" y="0"/>
                            </a:lnTo>
                            <a:lnTo>
                              <a:pt x="35" y="12"/>
                            </a:lnTo>
                            <a:lnTo>
                              <a:pt x="18" y="29"/>
                            </a:lnTo>
                            <a:lnTo>
                              <a:pt x="8" y="52"/>
                            </a:lnTo>
                            <a:lnTo>
                              <a:pt x="0" y="80"/>
                            </a:lnTo>
                          </a:path>
                        </a:pathLst>
                      </a:custGeom>
                      <a:noFill/>
                      <a:ln cap="rnd" w="25560">
                        <a:solidFill>
                          <a:srgbClr val="ff9f1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51" name=""/>
                      <p:cNvSpPr/>
                      <p:nvPr/>
                    </p:nvSpPr>
                    <p:spPr>
                      <a:xfrm>
                        <a:off x="7054560" y="371520"/>
                        <a:ext cx="59040" cy="214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7" h="135">
                            <a:moveTo>
                              <a:pt x="32" y="0"/>
                            </a:moveTo>
                            <a:lnTo>
                              <a:pt x="36" y="38"/>
                            </a:lnTo>
                            <a:lnTo>
                              <a:pt x="32" y="78"/>
                            </a:lnTo>
                            <a:lnTo>
                              <a:pt x="19" y="109"/>
                            </a:lnTo>
                            <a:lnTo>
                              <a:pt x="0" y="134"/>
                            </a:lnTo>
                          </a:path>
                        </a:pathLst>
                      </a:custGeom>
                      <a:noFill/>
                      <a:ln cap="rnd" w="25560">
                        <a:solidFill>
                          <a:srgbClr val="ff9f1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252" name=""/>
                      <p:cNvGrpSpPr/>
                      <p:nvPr/>
                    </p:nvGrpSpPr>
                    <p:grpSpPr>
                      <a:xfrm>
                        <a:off x="6543360" y="127080"/>
                        <a:ext cx="2300400" cy="2930400"/>
                        <a:chOff x="6543360" y="127080"/>
                        <a:chExt cx="2300400" cy="2930400"/>
                      </a:xfrm>
                    </p:grpSpPr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>
                          <a:off x="8804160" y="2320920"/>
                          <a:ext cx="39600" cy="73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5" h="464">
                              <a:moveTo>
                                <a:pt x="13" y="0"/>
                              </a:moveTo>
                              <a:lnTo>
                                <a:pt x="5" y="105"/>
                              </a:lnTo>
                              <a:lnTo>
                                <a:pt x="0" y="216"/>
                              </a:lnTo>
                              <a:lnTo>
                                <a:pt x="8" y="347"/>
                              </a:lnTo>
                              <a:lnTo>
                                <a:pt x="24" y="463"/>
                              </a:lnTo>
                            </a:path>
                          </a:pathLst>
                        </a:custGeom>
                        <a:noFill/>
                        <a:ln cap="rnd" w="25560">
                          <a:solidFill>
                            <a:srgbClr val="ff9f1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>
                          <a:off x="8248680" y="865080"/>
                          <a:ext cx="377640" cy="20890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38" h="1316">
                              <a:moveTo>
                                <a:pt x="0" y="0"/>
                              </a:moveTo>
                              <a:lnTo>
                                <a:pt x="30" y="128"/>
                              </a:lnTo>
                              <a:lnTo>
                                <a:pt x="51" y="222"/>
                              </a:lnTo>
                              <a:lnTo>
                                <a:pt x="74" y="296"/>
                              </a:lnTo>
                              <a:lnTo>
                                <a:pt x="104" y="378"/>
                              </a:lnTo>
                              <a:lnTo>
                                <a:pt x="131" y="452"/>
                              </a:lnTo>
                              <a:lnTo>
                                <a:pt x="166" y="542"/>
                              </a:lnTo>
                              <a:lnTo>
                                <a:pt x="209" y="645"/>
                              </a:lnTo>
                              <a:lnTo>
                                <a:pt x="223" y="739"/>
                              </a:lnTo>
                              <a:lnTo>
                                <a:pt x="216" y="818"/>
                              </a:lnTo>
                              <a:lnTo>
                                <a:pt x="211" y="888"/>
                              </a:lnTo>
                              <a:lnTo>
                                <a:pt x="211" y="996"/>
                              </a:lnTo>
                              <a:lnTo>
                                <a:pt x="219" y="1105"/>
                              </a:lnTo>
                              <a:lnTo>
                                <a:pt x="236" y="1206"/>
                              </a:lnTo>
                              <a:lnTo>
                                <a:pt x="237" y="1315"/>
                              </a:lnTo>
                            </a:path>
                          </a:pathLst>
                        </a:custGeom>
                        <a:noFill/>
                        <a:ln cap="rnd" w="25560">
                          <a:solidFill>
                            <a:srgbClr val="ff9f1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>
                          <a:off x="8040600" y="2541600"/>
                          <a:ext cx="69840" cy="4222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4" h="266">
                              <a:moveTo>
                                <a:pt x="0" y="0"/>
                              </a:moveTo>
                              <a:lnTo>
                                <a:pt x="28" y="159"/>
                              </a:lnTo>
                              <a:lnTo>
                                <a:pt x="43" y="265"/>
                              </a:lnTo>
                            </a:path>
                          </a:pathLst>
                        </a:custGeom>
                        <a:noFill/>
                        <a:ln cap="rnd" w="25560">
                          <a:solidFill>
                            <a:srgbClr val="ff9f1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>
                          <a:off x="6999120" y="353880"/>
                          <a:ext cx="95400" cy="2142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60" h="135">
                              <a:moveTo>
                                <a:pt x="59" y="0"/>
                              </a:moveTo>
                              <a:lnTo>
                                <a:pt x="55" y="31"/>
                              </a:lnTo>
                              <a:lnTo>
                                <a:pt x="49" y="56"/>
                              </a:lnTo>
                              <a:lnTo>
                                <a:pt x="38" y="76"/>
                              </a:lnTo>
                              <a:lnTo>
                                <a:pt x="25" y="93"/>
                              </a:lnTo>
                              <a:lnTo>
                                <a:pt x="9" y="110"/>
                              </a:lnTo>
                              <a:lnTo>
                                <a:pt x="0" y="134"/>
                              </a:lnTo>
                            </a:path>
                          </a:pathLst>
                        </a:custGeom>
                        <a:noFill/>
                        <a:ln cap="rnd" w="25560">
                          <a:solidFill>
                            <a:srgbClr val="ff9f1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>
                          <a:off x="7711920" y="191880"/>
                          <a:ext cx="117360" cy="1350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74" h="85">
                              <a:moveTo>
                                <a:pt x="73" y="0"/>
                              </a:moveTo>
                              <a:lnTo>
                                <a:pt x="47" y="16"/>
                              </a:lnTo>
                              <a:lnTo>
                                <a:pt x="30" y="30"/>
                              </a:lnTo>
                              <a:lnTo>
                                <a:pt x="13" y="54"/>
                              </a:lnTo>
                              <a:lnTo>
                                <a:pt x="0" y="84"/>
                              </a:lnTo>
                            </a:path>
                          </a:pathLst>
                        </a:custGeom>
                        <a:noFill/>
                        <a:ln cap="rnd" w="25560">
                          <a:solidFill>
                            <a:srgbClr val="ff9f1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>
                          <a:off x="7843680" y="217440"/>
                          <a:ext cx="52560" cy="2332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3" h="147">
                              <a:moveTo>
                                <a:pt x="29" y="0"/>
                              </a:moveTo>
                              <a:lnTo>
                                <a:pt x="32" y="29"/>
                              </a:lnTo>
                              <a:lnTo>
                                <a:pt x="31" y="58"/>
                              </a:lnTo>
                              <a:lnTo>
                                <a:pt x="24" y="88"/>
                              </a:lnTo>
                              <a:lnTo>
                                <a:pt x="12" y="118"/>
                              </a:lnTo>
                              <a:lnTo>
                                <a:pt x="0" y="146"/>
                              </a:lnTo>
                            </a:path>
                          </a:pathLst>
                        </a:custGeom>
                        <a:noFill/>
                        <a:ln cap="rnd" w="25560">
                          <a:solidFill>
                            <a:srgbClr val="ff9f1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>
                          <a:off x="7267320" y="619200"/>
                          <a:ext cx="755640" cy="18223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76" h="1148">
                              <a:moveTo>
                                <a:pt x="0" y="0"/>
                              </a:moveTo>
                              <a:lnTo>
                                <a:pt x="25" y="38"/>
                              </a:lnTo>
                              <a:lnTo>
                                <a:pt x="50" y="91"/>
                              </a:lnTo>
                              <a:lnTo>
                                <a:pt x="66" y="129"/>
                              </a:lnTo>
                              <a:lnTo>
                                <a:pt x="90" y="169"/>
                              </a:lnTo>
                              <a:lnTo>
                                <a:pt x="114" y="211"/>
                              </a:lnTo>
                              <a:lnTo>
                                <a:pt x="134" y="253"/>
                              </a:lnTo>
                              <a:lnTo>
                                <a:pt x="157" y="310"/>
                              </a:lnTo>
                              <a:lnTo>
                                <a:pt x="188" y="355"/>
                              </a:lnTo>
                              <a:lnTo>
                                <a:pt x="208" y="401"/>
                              </a:lnTo>
                              <a:lnTo>
                                <a:pt x="231" y="455"/>
                              </a:lnTo>
                              <a:lnTo>
                                <a:pt x="252" y="515"/>
                              </a:lnTo>
                              <a:lnTo>
                                <a:pt x="272" y="575"/>
                              </a:lnTo>
                              <a:lnTo>
                                <a:pt x="301" y="637"/>
                              </a:lnTo>
                              <a:lnTo>
                                <a:pt x="333" y="693"/>
                              </a:lnTo>
                              <a:lnTo>
                                <a:pt x="372" y="755"/>
                              </a:lnTo>
                              <a:lnTo>
                                <a:pt x="415" y="805"/>
                              </a:lnTo>
                              <a:lnTo>
                                <a:pt x="450" y="866"/>
                              </a:lnTo>
                              <a:lnTo>
                                <a:pt x="462" y="953"/>
                              </a:lnTo>
                              <a:lnTo>
                                <a:pt x="461" y="1054"/>
                              </a:lnTo>
                              <a:lnTo>
                                <a:pt x="475" y="1147"/>
                              </a:lnTo>
                            </a:path>
                          </a:pathLst>
                        </a:custGeom>
                        <a:noFill/>
                        <a:ln cap="rnd" w="25560">
                          <a:solidFill>
                            <a:srgbClr val="ff9f1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>
                          <a:off x="7534080" y="801720"/>
                          <a:ext cx="34920" cy="3236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2" h="204">
                              <a:moveTo>
                                <a:pt x="5" y="203"/>
                              </a:moveTo>
                              <a:lnTo>
                                <a:pt x="0" y="117"/>
                              </a:lnTo>
                              <a:lnTo>
                                <a:pt x="7" y="51"/>
                              </a:lnTo>
                              <a:lnTo>
                                <a:pt x="21" y="0"/>
                              </a:lnTo>
                            </a:path>
                          </a:pathLst>
                        </a:custGeom>
                        <a:noFill/>
                        <a:ln cap="rnd" w="25560">
                          <a:solidFill>
                            <a:srgbClr val="ff9f1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>
                          <a:off x="6543360" y="127080"/>
                          <a:ext cx="133560" cy="2286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4" h="144">
                              <a:moveTo>
                                <a:pt x="83" y="0"/>
                              </a:moveTo>
                              <a:lnTo>
                                <a:pt x="51" y="27"/>
                              </a:lnTo>
                              <a:lnTo>
                                <a:pt x="30" y="58"/>
                              </a:lnTo>
                              <a:lnTo>
                                <a:pt x="15" y="94"/>
                              </a:lnTo>
                              <a:lnTo>
                                <a:pt x="0" y="143"/>
                              </a:lnTo>
                            </a:path>
                          </a:pathLst>
                        </a:custGeom>
                        <a:noFill/>
                        <a:ln cap="rnd" w="25560">
                          <a:solidFill>
                            <a:srgbClr val="ff9f1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sp>
            <p:nvSpPr>
              <p:cNvPr id="262" name=""/>
              <p:cNvSpPr/>
              <p:nvPr/>
            </p:nvSpPr>
            <p:spPr>
              <a:xfrm>
                <a:off x="7414920" y="922320"/>
                <a:ext cx="339840" cy="736560"/>
              </a:xfrm>
              <a:custGeom>
                <a:avLst/>
                <a:gdLst/>
                <a:ahLst/>
                <a:rect l="l" t="t" r="r" b="b"/>
                <a:pathLst>
                  <a:path w="214" h="464">
                    <a:moveTo>
                      <a:pt x="0" y="0"/>
                    </a:moveTo>
                    <a:lnTo>
                      <a:pt x="37" y="64"/>
                    </a:lnTo>
                    <a:lnTo>
                      <a:pt x="52" y="97"/>
                    </a:lnTo>
                    <a:lnTo>
                      <a:pt x="79" y="139"/>
                    </a:lnTo>
                    <a:lnTo>
                      <a:pt x="95" y="175"/>
                    </a:lnTo>
                    <a:lnTo>
                      <a:pt x="116" y="212"/>
                    </a:lnTo>
                    <a:lnTo>
                      <a:pt x="142" y="279"/>
                    </a:lnTo>
                    <a:lnTo>
                      <a:pt x="161" y="348"/>
                    </a:lnTo>
                    <a:lnTo>
                      <a:pt x="176" y="387"/>
                    </a:lnTo>
                    <a:lnTo>
                      <a:pt x="198" y="428"/>
                    </a:lnTo>
                    <a:lnTo>
                      <a:pt x="213" y="463"/>
                    </a:lnTo>
                    <a:lnTo>
                      <a:pt x="193" y="395"/>
                    </a:lnTo>
                    <a:lnTo>
                      <a:pt x="175" y="348"/>
                    </a:lnTo>
                    <a:lnTo>
                      <a:pt x="157" y="289"/>
                    </a:lnTo>
                    <a:lnTo>
                      <a:pt x="144" y="237"/>
                    </a:lnTo>
                    <a:lnTo>
                      <a:pt x="129" y="200"/>
                    </a:lnTo>
                    <a:lnTo>
                      <a:pt x="104" y="165"/>
                    </a:lnTo>
                    <a:lnTo>
                      <a:pt x="89" y="128"/>
                    </a:lnTo>
                    <a:lnTo>
                      <a:pt x="79" y="91"/>
                    </a:lnTo>
                    <a:lnTo>
                      <a:pt x="68" y="58"/>
                    </a:lnTo>
                    <a:lnTo>
                      <a:pt x="51" y="38"/>
                    </a:lnTo>
                    <a:lnTo>
                      <a:pt x="29" y="2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9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-1067040" y="4648320"/>
            <a:ext cx="7848360" cy="220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Arial"/>
              </a:rPr>
              <a:t>Perguntas ??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N/UFP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33B218-BA1C-4BA5-9A81-DD229C3A49C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414000"/>
            <a:ext cx="80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xto - Orige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1268280"/>
            <a:ext cx="8207280" cy="0"/>
          </a:xfrm>
          <a:prstGeom prst="line">
            <a:avLst/>
          </a:prstGeom>
          <a:ln w="7632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Iniciativa do programa SPI – Software Process Improvement, baseado nas experiências do SEI através de trabalhos com o Governo Norte-Americano e outros clientes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Tutorial foi desenvolvido e apresentado no Simpósio de Engenharia de Software, em 1993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O Guia - </a:t>
            </a:r>
            <a:r>
              <a:rPr b="0" i="1" lang="pt-BR" sz="1900" spc="-1" strike="noStrike">
                <a:solidFill>
                  <a:srgbClr val="000000"/>
                </a:solidFill>
                <a:latin typeface="Arial"/>
              </a:rPr>
              <a:t>A User’s Guide for Software Process Improvement 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is the successor to the </a:t>
            </a:r>
            <a:r>
              <a:rPr b="0" i="1" lang="pt-BR" sz="1900" spc="-1" strike="noStrike">
                <a:solidFill>
                  <a:srgbClr val="000000"/>
                </a:solidFill>
                <a:latin typeface="Arial"/>
              </a:rPr>
              <a:t>Software Process Improvement Roadmap 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- foi publicado em 1996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O Guia é baseado em outros projetos do SEI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700" spc="-1" strike="noStrike">
                <a:solidFill>
                  <a:srgbClr val="000000"/>
                </a:solidFill>
                <a:latin typeface="Arial"/>
              </a:rPr>
              <a:t>CMM – Capability Maturity Mod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700" spc="-1" strike="noStrike">
                <a:solidFill>
                  <a:srgbClr val="000000"/>
                </a:solidFill>
                <a:latin typeface="Arial"/>
              </a:rPr>
              <a:t>Software Process Assessmen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700" spc="-1" strike="noStrike">
                <a:solidFill>
                  <a:srgbClr val="000000"/>
                </a:solidFill>
                <a:latin typeface="Arial"/>
              </a:rPr>
              <a:t>Software Capibility Evaluatio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700" spc="-1" strike="noStrike">
                <a:solidFill>
                  <a:srgbClr val="000000"/>
                </a:solidFill>
                <a:latin typeface="Arial"/>
              </a:rPr>
              <a:t>Organization Capability Developmen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700" spc="-1" strike="noStrike">
                <a:solidFill>
                  <a:srgbClr val="000000"/>
                </a:solidFill>
                <a:latin typeface="Arial"/>
              </a:rPr>
              <a:t>Software Process Measuremen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700" spc="-1" strike="noStrike">
                <a:solidFill>
                  <a:srgbClr val="000000"/>
                </a:solidFill>
                <a:latin typeface="Arial"/>
              </a:rPr>
              <a:t>Software Process Definitio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N/UFP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E16E03-F186-41DF-9813-66F126BAF35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414000"/>
            <a:ext cx="80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elo IDE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68360" y="1268280"/>
            <a:ext cx="8207280" cy="0"/>
          </a:xfrm>
          <a:prstGeom prst="line">
            <a:avLst/>
          </a:prstGeom>
          <a:ln w="7632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042920" y="1413000"/>
            <a:ext cx="7129440" cy="5070240"/>
          </a:xfrm>
          <a:prstGeom prst="rect">
            <a:avLst/>
          </a:prstGeom>
          <a:ln w="0">
            <a:noFill/>
          </a:ln>
        </p:spPr>
      </p:pic>
      <p:grpSp>
        <p:nvGrpSpPr>
          <p:cNvPr id="69" name=""/>
          <p:cNvGrpSpPr/>
          <p:nvPr/>
        </p:nvGrpSpPr>
        <p:grpSpPr>
          <a:xfrm>
            <a:off x="395280" y="4221000"/>
            <a:ext cx="1873080" cy="1800360"/>
            <a:chOff x="395280" y="4221000"/>
            <a:chExt cx="1873080" cy="1800360"/>
          </a:xfrm>
        </p:grpSpPr>
        <p:sp>
          <p:nvSpPr>
            <p:cNvPr id="70" name=""/>
            <p:cNvSpPr/>
            <p:nvPr/>
          </p:nvSpPr>
          <p:spPr>
            <a:xfrm>
              <a:off x="395280" y="4221000"/>
              <a:ext cx="1871640" cy="1800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332000" y="4221000"/>
              <a:ext cx="0" cy="180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95280" y="511956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93560" y="4508280"/>
            <a:ext cx="87444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l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465200" y="5229360"/>
            <a:ext cx="8748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66560" y="5229360"/>
            <a:ext cx="10810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he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73200" y="4508640"/>
            <a:ext cx="8744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N/UFP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61E906-538C-4DAD-9F34-069ED83D899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414000"/>
            <a:ext cx="80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Fase </a:t>
            </a:r>
            <a:r>
              <a:rPr b="0" i="1" lang="pt-BR" sz="4400" spc="-1" strike="noStrike">
                <a:solidFill>
                  <a:srgbClr val="000000"/>
                </a:solidFill>
                <a:latin typeface="Arial"/>
              </a:rPr>
              <a:t>Initiating -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1268280"/>
            <a:ext cx="8207280" cy="0"/>
          </a:xfrm>
          <a:prstGeom prst="line">
            <a:avLst/>
          </a:prstGeom>
          <a:ln w="7632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Nesta fase a infra-estrutura inicial da melhoria é estabelecida, os papéis e as responsabilidades para esta infra-estrutura são inicialmente definidos, e os recursos inicias são atribuído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ções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Conhecer o que impulsionou a mudança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Identificar onde esta mudança se ajusta dentro do contexto organizaciona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Especificar a finalidade do negócio e os objetivos que serão realizados ou suportado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Identificar impacto em outras iniciativas e no trabalho iniciado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Assegurar o suporte requerido para dar à mudança a possibilidade razoável de ser sucedida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Ajustar sistemas organizacionais relevantes para suportar o esforço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Estabelecer uma infra-estrutura para específicos gerenciamentos de implementação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N/UFP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EA6C64-E872-4E58-A6DB-D0E942353AB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Estímulo à Mudança do Processo de Softwar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efinição do Contexto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efinição do Patrocinado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Estabelecimento da infra-estrutura inicial para suporte da mudanç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title"/>
          </p:nvPr>
        </p:nvSpPr>
        <p:spPr>
          <a:xfrm>
            <a:off x="456840" y="414000"/>
            <a:ext cx="80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Fase </a:t>
            </a:r>
            <a:r>
              <a:rPr b="0" i="1" lang="pt-BR" sz="4400" spc="-1" strike="noStrike">
                <a:solidFill>
                  <a:srgbClr val="000000"/>
                </a:solidFill>
                <a:latin typeface="Arial"/>
              </a:rPr>
              <a:t>Initiating</a:t>
            </a: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 - Ativida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1268280"/>
            <a:ext cx="8207280" cy="0"/>
          </a:xfrm>
          <a:prstGeom prst="line">
            <a:avLst/>
          </a:prstGeom>
          <a:ln w="7632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1116000" y="4149720"/>
            <a:ext cx="6048360" cy="15019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3995640" y="5734080"/>
            <a:ext cx="1584360" cy="536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N/UFP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230171-625D-4F3D-A2EB-29D75A817B2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7T11:53:43Z</dcterms:created>
  <dc:creator>sandro</dc:creator>
  <dc:description/>
  <dc:language>en-US</dc:language>
  <cp:lastModifiedBy>sandro</cp:lastModifiedBy>
  <dcterms:modified xsi:type="dcterms:W3CDTF">2004-08-22T19:58:17Z</dcterms:modified>
  <cp:revision>268</cp:revision>
  <dc:subject/>
  <dc:title>Ambiente para Implantação de Processo de Software</dc:title>
</cp:coreProperties>
</file>