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4932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7912"/>
            </a:avLst>
          </a:prstGeom>
          <a:noFill/>
          <a:ln w="127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98240" y="60930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E74E-6186-4112-BFEC-1C8E3D3BD36D}" type="datetime">
              <a:rPr b="1" lang="en-US" sz="1400" spc="-1" strike="noStrike">
                <a:solidFill>
                  <a:srgbClr val="80808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6213240" y="60930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compera.com.br/" TargetMode="External"/><Relationship Id="rId2" Type="http://schemas.openxmlformats.org/officeDocument/2006/relationships/hyperlink" Target="http://www.cit.com.br/" TargetMode="Externa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ericsson.com/" TargetMode="External"/><Relationship Id="rId2" Type="http://schemas.openxmlformats.org/officeDocument/2006/relationships/hyperlink" Target="http://www.ericsson.com/" TargetMode="External"/><Relationship Id="rId3" Type="http://schemas.openxmlformats.org/officeDocument/2006/relationships/hyperlink" Target="http://www.ericsson.com/" TargetMode="External"/><Relationship Id="rId4" Type="http://schemas.openxmlformats.org/officeDocument/2006/relationships/hyperlink" Target="http://www.ti.com/asia/docs/india" TargetMode="External"/><Relationship Id="rId5" Type="http://schemas.openxmlformats.org/officeDocument/2006/relationships/hyperlink" Target="http://www.ti.com/asia/docs/india" TargetMode="External"/><Relationship Id="rId6" Type="http://schemas.openxmlformats.org/officeDocument/2006/relationships/hyperlink" Target="http://www.atosorigin.com/" TargetMode="External"/><Relationship Id="rId7" Type="http://schemas.openxmlformats.org/officeDocument/2006/relationships/hyperlink" Target="http://www.atosorigin.com/" TargetMode="External"/><Relationship Id="rId8" Type="http://schemas.openxmlformats.org/officeDocument/2006/relationships/hyperlink" Target="http://www.atosorigin.com/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AL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Modelo para Melhoria de Processo de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3068640"/>
            <a:ext cx="6400800" cy="27907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11200" y="321300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dade Federal de Pernambu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o de Infor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ós-Graduação em Ciência da Compu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Avançados em Engenharia de Software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dro Ronaldo Bezerra Oliv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bo@cin.ufpe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CEEF3-77DE-4F35-A30E-39392D166A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ímulo à Muda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lgo que propiciou o uso do modelo IDE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natureza do estímulo pode variar extensam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ção a eventos / circunstâncias antecipad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creto de mudança como parte de uma estratégia de mudança contínua pró-ati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 estímulo pode alcançar influências na condução e no sucesso do esforço da última mudanç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7E565-D83C-4ECB-A88B-0CD376B918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ste estudo de caso, o estímulo para a ação era condição do prédio do SE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 paredes internas não tinham sido pintadas por diversos an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o conseqüência, elas estavam sujas, rachadas e riscadas ao ponto de ser óbvio aos visitantes e de refletir negativamente à imagem do SE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ém disso, os itens internos – os tapetes, os dispositivos elétricos – estavam em situações degradantes, o que contribuía para esta imagem negativa e reforçava a necessidade por reparos gerai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6ADBB-C4A6-4C28-920D-E81BD2EC04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ção do Con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gnifica estar muito certo sobre onde esta mudança se ajusta dentro da estratégia de negócio da organiza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sta atividade requer que haja considerações a respei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a missão central da Organiz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os objetivos de negóc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uma visão coerente para o futu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uma estratégia para realização da vis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modelos de referê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 contexto e as implicações tornam-se freqüentemente mais claros à medida que o esforço prosseg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443CE-F385-4BE5-A6EF-815F13784C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solução óbvia ao estímulo devia ser limpar os itens e pintar as pare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tanto, o SEI ocupa um prédio grande no qual 300 pessoas trabalh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posição do edifício assemelha-se a um labirinto, com muitas baias, escritórios, e pequenos espaços administr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equipe de funcionários de SEI vive ocupada e alguns destes ficam no prédio todo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escritórios individuais e seus conteúdos, em especial os equipamento de computador, são usados intens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ibição prolongada do acesso a estes escritórios afetaria significativamente a produtiv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par e pintar tão rapidamente e economicamente o prédio sem interromper as operações normais do SEI seriam o desafio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FB7E9-0D97-4152-9B67-2B921292AD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ção do Patrocin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trocinador é o nível mais alto de suporte a um esforç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trocinadores são mais efetivos se e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ão atenção pessoal ao esforç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ão deixam de lado a mudança em períodos difíce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vêem recursos escassos ao esforç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udam seus próprios comportamentos para ser consistentes com a melhoria que está sendo implement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É um elemento crítico para contribuir com o sucess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É o elemento que deve ser convencido que o esforço é necessár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875D4-628A-4BC3-9A48-1329267867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456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atrocinador neste caso era o dono do prédio, que teve que concordar em financiar os serviços do contratante da pin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as outras organizações envolvidas tiveram o controle direto ou indireto do Gerente de Serviços do Prédio do S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atrocínio do prédio foi o processo de convencer o dono a pintar o prédio, que era uma coisa necessária a se faz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erente poderia ter convencido sobre diversas manei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vez a maneira mais ortodoxa seria persuadir o dono (usando as condições óbvias do prédio) que a pintura era necessá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tanto, o Gerente escolheu usar os termos do acordo original do aluguel, que indicava que o prédio deveria ter sido pintado a cada cinco anos – onde ao longo de dez anos o prédio não havia sido pintado, caracterizando violação dos termos do alug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nvencimento depende da natureza do esforç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C7318-0344-4D2C-A012-FF52551E1B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belecimento da Infra-estru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Implementar mudança requer freqüentemente o estabelecimento de estruturas organizaciona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 infra-estrutura deve inclui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Um grupo com visão gerencial (pessoas com uma visão mais superio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Um grupo que agencie a mudança (equipe de pessoas monitorada pelo grupo anterio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Um ou mais grupos de trabalho técnic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Estabelecer estes grupos envolve desenvolver um acordo explícito que descreva as responsabilidades de cada 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Não é possível (desejável) estabelecer os grupos de trabalho técnicos durante a fase </a:t>
            </a: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Initiating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 (mas antecipá-los deve ser uma prática aceitáve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A0001-4D38-40E5-97FB-7C7D645EB7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1413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coordenador do esforço era o Gerente de Serviços do prédio do SEI, mas ele e a sua equipe de funcionários tinham de direcionar os esforços de pelo menos outras seis organiz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bora cada uma destas organizações existissem independentemente do esforço da pintura, elas formaram uma única "meta-organização" provisória com a finalidade do projeto de limpeza e pin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a organização formou a infra-estrutura para o esforço da pintura, com as finalidades de cada componente especificado antecipad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s contratantes da pintura deviam assegurar todas as suas taref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grupo da limpeza deveria executar todo o escovamento dos tapetes e a limpeza dos dispositivos elét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s funcionários responsáveis pelos telefones deviam assegurar todos as mudanças do me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equipe de suporte computacional deveria assegurar que todos os equipamentos de computador estivessem desligados como requerido e afastados, como meio de segurança, da equipe de pintura e limpe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equipe de serviços do prédio deveria assegurar que todos materiais e caixas embaladas fossem movidas para fora das salas e dos espaços a serem pin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s ocupantes dos escritórios deveriam assegurar que todos os seus pertences pessoais e do trabalho estivessem embalados em caix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8A6D2-88C7-4F22-A533-DDB292CAEE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 objetivo é desenvolver um entendimento mais completo do trabalho de melhoria, a partir da definição do estado atual e do estado futuro desejado para a Organiza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dentificar o Estado Atual da Organização no que tange ao padrão relacionado ou modelo de referê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dentificar o Estado Desejado para a Organização de encontro ao mesmo padrão ou mode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comendar ações que moverão a Organização de onde ela está para onde se quer que ela estej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dentificar obstáculos potenciais para este esforç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Diagnos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EA6A2-2C5C-44D8-AF20-C321AB355F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Diagnos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Ativ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racterizar o Estado Atual e o Estado Futuro desejado para a Organiz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senvolver Recomendações de como proceder nas fases segui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32000" y="3357720"/>
            <a:ext cx="2224080" cy="280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2360" y="4365720"/>
            <a:ext cx="158436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36F02-4BC3-4990-B11D-CEE31057E8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verview das f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ividades das f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udo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mplementação do Model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65932-808B-479F-A563-D185C61911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aracterizar os Estados Atual e Desejad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 Estado Desejado é aquele que a Organização estará depois que a mudança estiver sido implementa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 Estado Atual é aquele que a Organização está agora com respeito ao Estado Desej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finir estes estados é muito mais fácil se exis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m modelo de referência (ex: CM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strumentos padronizados e metodologias associadas ao mode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bjetivos de negócio alinhados com o esforço da mudanç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04DAE-8928-46AF-A566-7997A23EF6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prédio em seu estado atual não tinha sido pintado e nem limpado inteiramente durante dez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aredes e os tetos estavam sujos; as paredes tinham rachaduras e furos; a pintura foi desvanecida e lascada; e os dispositivos elétricos estavam suj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estado desejado era um prédio em que todos os espaços tivessem de ser esfregados, todos os furos e rachaduras tivessem de ser reparados, todas as luminárias estivessem limpas, e todas as paredes e tetos fossem repin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s indicações podem parecer muito similares ao “Estímulo à Mudança”, mas eles são mais detalhados ao longo em que os problemas são detec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indicação do estímulo alertou simplesmente que o prédio estava com pintura su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do at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o prédio, como determinado pela inspeção, mostrava por exemplo que umas das salas estava com uma rachadura profunda no canto esquerdo, ou que o assoalho de outra sala estava com um buraco enor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do deseja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não era o prédio simplesmente pintado, mas um prédio em que todas as falhas discretas do estado atual fossem corrigi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1F430-B52C-4178-BB55-9B3EF6B5E2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nvolver Recomend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700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nalisa o “gap” entre o Estado Atual e o Estado Desej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Determina aspectos do Estado Atual para serem reti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Determina o trabalho para alcançar o Estado Desej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linha as recomendações com os objetivos do negóc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Identifica projetos potenciais que poderiam servir como piloto ou tes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CF6D7-F703-430C-A99E-EC5DB59D3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ecomendações fora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édio do SEI deveria ser limpado e pintado simultaneamente com uma colaboração de diversos gru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esforço deveria ser feito durante operações normais do negócio e sem nenhum tempo de reser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esforço deveria ser feito em cooperação com os ocupantes do prédio e não de encontro a eles ou em sua ausên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comendação não era “limpar e pintar o prédi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ecomendações referem-se às maneiras e aos meios empregados para se partir do estado atual ao estado desej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equipe inteira de funcionários do SEI, por exemplo, poderia ter sido retirada do prédio. O edifício poderia ter sido primeiro pintado e depois limpado. Um único contratante poderia ter sido melhor usado para compor a infra-estrutura mont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79040-29E8-46A4-9D3B-0E587F58D3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Establish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 foco desta fase é desenvolver um plano de trabalho detalhado. As prioridades são ajustadas para refletir as recomendações feitas durante a fase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Diagnos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esenvolver prioridades dentro das ações recomendadas com base nos seguinte parâmetr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Disponibilidade de recurs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Dependências entre as ações recomend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inanciame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esenvolver uma abordagem que reflita as prioridades e as realidades atua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esenvolver planos para implementar a abordagem escolhi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97549-5948-46B9-A5F6-3D9FA886B2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Establish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Ativ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r as prioridades para as alter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senvolver uma estratégia para desenvolver o trabalho e identificar recursos disponíve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senvolver um plano de implementação do trabalh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27280" y="3357720"/>
            <a:ext cx="3816360" cy="27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47AFE-6BE8-4FBC-AA45-5D6EADD07E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uir Prio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s prioridades definidas nesta fase dizem respeito ao esforço da mudanç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s realidades organizacionais impossibilitam fazer tudo, uma vez q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s recursos necessários para melhoria são limit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xistem dependências entre atividades recomend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atores externos podem intervi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ioridades organizacionais estratégicas devem ser honr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udança quase sempre requer que escolhas sejam feit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vas recomendações devem surgir baseadas nestas escolh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A4351-6D16-476E-8AAD-EDD665355E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dinheiro e o tempo não eram as primeiras prioridades deste esforço. As prioridades, em ordem, e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úde e conveniência dos empregados: diversos empregados do SEI eram alérgicos a pinturas e também a pintura molhada tendia a danificar a roup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ções normais do SEI: as operações deviam ser interrompidas o mínimo possível, os pintores teriam de trabalhar em torno das programações dos empregados, o equipamento de computador não devia ser perturb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dade do trabalho: a qualidade da limpeza e da pintura não podia ser comprometida por nenhuma raz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ão oportuna: o esforço teve que ser terminado em quatro m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rioridades nem sempre são derivadas das recomendações, podem ser provenientes do empreend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20FF9-767C-47F9-BC92-24BC580224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nvolver Estraté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estratégia leva a muitas competições e freqüentemente a fatores conflit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écnicas específicas de instalação de uma nova tecnolog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ovas habilidades e conhecimentos requeridos das pessoas que estarão usando a tecnolog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ultura organizaci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jetos piloto potencia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íveis de patrocín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rça de Merc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12C9B-0933-4A8F-A621-318FD7E803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estratégia tomada, baseada nos objetivos do esforço, das recomendações, e das prioridades, envolve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da a pintura devia ser feita durante as horas de descanso dos empregados do SEI e toda a pintura baseada em óleo (que requer um tempo de secagem de dois dias) devia ser feita nos fins de seman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salas deviam ser limpadas e pintadas sobre um período de três dias cada uma e as salas deviam ser programadas de modo que seis salas por dia pudessem ser pintad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limpeza e a pintura nas salas deviam ser programadas, à medida do possível, levando em consideração a preferência do empregado. Os empregados deviam assinalar seus tempos e deviam embalar seus próprios pertences antes de sair do escritóri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equipes definidas na atividade “Definição da infra-estrutura”, limpadores e pintores, deviam entrar e sair de cada sala em tempos definidos num período de três dias para executar seus deveres. Isto permitiria que cada equipe trabalhasse continuam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s itens do prédio e os artigos encaixotados seriam movidos para fora da sala, mas o equipamento de computador seria movido para o centro da mesm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 comunicação entre o Gerente do Serviço do prédio, os vários grupos que ele dirigiu, e a equipe de funcionários do SEI devia ser maximizada para aumentar a sinergia e reduzir a resistê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47311-933A-4092-A404-1EF6669DE1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organizações estão reconhecendo cada vez mais a necessidade para a orientação específica da execução quando adotam novas ferramentas, processos e métodos da engenharia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o -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852640"/>
            <a:ext cx="288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Responsáveis pe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Adoção de Tecnologi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4724280"/>
            <a:ext cx="28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3399"/>
                </a:solidFill>
                <a:latin typeface="Arial"/>
              </a:rPr>
              <a:t>Desenvolvedores 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3399"/>
                </a:solidFill>
                <a:latin typeface="Arial"/>
              </a:rPr>
              <a:t>Tecnolog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2637000"/>
            <a:ext cx="5113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Dificuldade de selecionar as possibilidades de Melho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Não usa melhores práticas de transição para introduzir a Melhoria selecion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4076640"/>
            <a:ext cx="51134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Não entendem as dificuldades de adoção que serão encontradas pelos responsáve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Não provêem nenhuma informação ou serviços necessários para suportar o processo de adoç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Não possuem tecnologias das práticas difundidas tão rapidamente quanto deveri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637000"/>
            <a:ext cx="142920" cy="115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4005360"/>
            <a:ext cx="142920" cy="223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B0FD9-D003-4D61-894A-CD206F573D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jar 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Os Planos devem ser definidos de acordo com a estratégia adota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Atividades, recursos e 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Marcos de decis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Riscos e estratégi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Milestones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e cronogra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Medições, sequenciamento e visões gerencia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096D1-C18D-4B5D-88C0-456A30B797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lano para a limpeza e a pintura do prédio do SEI é tão detalhado para incluir aqui, mas escreveu-se um resumo para esclarecer os objetivos ajusta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cordo com o plano, por exemplo, seis escritórios deveriam ser limpados e pintados durante o período de três dias, 15 a 17 de janei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cada caso a mudança e a limpeza deveriam ocorrer no dia 15 de janeiro, a pintura no dia 16 de janeiro, e novamente mudança no dia 17 de janei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s os seis escritórios foram programados por seus ocupantes por sua própria conveniê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um caso específico de uma sala, o ocupante estava em uma viagem de negócio de três dias durante este período. Assim, um outro empregado deveria fazer o seu serviç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sexta-feira, 17 de janeiro, a mudança e a limpeza aconteceu na biblioteca. Já que a biblioteca é uma área comum, a pintura ocorreu no fim de sema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mente, durante a última semana as cozinhas e as portas de entrada foram pint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FC31D-D06D-42A0-AAA1-A723B0C60F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Act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s atividades desta fase servem para ajudar uma organização a implementar o trabalho realizado nas três fases anteriores (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Initiating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Diagnosing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Establishing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Fazer o levantamento de tudo que estiver disponível para criar a melhor solução para as necessidades da organiz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erramentas existentes, processos, conhecimentos, habilidades, 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Novos conhecimentos, informações, .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juda exter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onha a solução no lugar de uma base experimental para aprender o que funciona e o que não funcio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Revisar e modificar a solução para incorporar novos conhecimentos e entendimen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teragir como necessár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Quando a solução estiver funcional e suficiente, implemente-a ao longo de toda a organiz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FD27F-F291-465B-9C2F-BB653B75C0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Act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Ativ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iar solução que atenda as necessidades organizacionais identificad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star a solução criada através de um projeto pilo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dificar a solução para refletir o conhecimento, experiências e lições obtidas do te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lementar a solução em toda a organiza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678120" y="3573360"/>
            <a:ext cx="1590840" cy="30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E952C-8AB9-401B-B237-83BD024F3F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ar a S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 Solução não precisa ser perfeita, mas dever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Identificar a performance dos objetiv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Finalizar o grupo que testará usando um projeto pilo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Construir um material da solução e treinar o grupo de teste do projeto pilo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Desenvolver um draft de um plano de teste do projeto piloto e implementaç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Reter as partes do Estado Atual que são úte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Os grupos de trabalho técnico devem desenvolver a solução junto com o grupo de teste do projeto pilo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97BD2-6E19-41AB-A760-560B43BAD5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lução encontrada foi o procedimento usado para pintar uma única sala, uma vez que pintar o restante do prédio seria uma técnica iterativa e incre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CC8C1-4417-4B05-A7F2-ED237B239C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estar a Solução com um Projeto Pilo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inar o grupo de teste do projeto pilo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ecar a performance do teste do projeto pilo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lher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Solu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ase nunca funciona exatamente como o planej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e ser posta em uma base limitada de parâmet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staca o que funciona e o que não funci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eria ser conduzida em um ambiente propício a falh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5D06E-EB9C-4583-AB66-03C144BFD8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0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imeira semana da pintura pôde ser caracterizada como a “solução com um projeto piloto”. As mudanças foram feitas no plano depois que a pintura na semana foi concluí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ês falhas principais no procedimento da pintura tornaram-se claras durante a primeira sema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oordenação entre a equipe de suporte computacional do SEI, que teve de mudar o equipamento de computador em cada sala, e a equipe de serviços do prédio, que não poderia limpar as salas até que a atividade anterior fosse concluída, não funcionou adequadamente havendo recriminações das par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isponibilidade das caixas transformou-se em um problema depois que se descobriu que as pessoas solicitavam em semanas e meses as caixas antecipadamente às datas da pintura e posteriormente poucos desembalavam suas caixas para passá-las a outras pesso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movimento constante dos itens do prédio nas salas e nos corredores incomodavam alguns empreg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 atividade deve ser muito mais de “Verificação do que de Validação”, isto é, os problemas com a solução proposta são identificados (“Nós estamos pintando adequadamente?”) mas a questão de checar se a solução é apropriada (“Pintar foi uma boa idéia?”) não é o fo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tividade de “Analisar e Validar" fornece uma oportunidade formal de comparar a solução executada com os objetivos inici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B85EA-0165-4C4C-8FCD-742D7254A8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ar a S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aseado no teste do projeto pilo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erações do teste do projeto piloto e de refinamentos devem ser necessários antes de chegar a uma solução que seja julgada satisfatór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ve-se conseguir uma solução funcional antes de partir para di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7376D-A1F2-47CE-97E5-68AD3A636B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o projeto de pintura e de limpeza do SEI, o efeito da atividade “Testar a Solução com um Projeto Piloto” fo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oblema da coordenação foi resolvido onde a mudança feita pela equipe de suporte computacional foi às 9:00 AM ao invés de 12:00 PM, eliminando todo o contato direto entre esta equipe e os de serviços do prédio (se fosse necessário o Gerente de Serviços e sua equipe fariam o link entre e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Gerente de Serviços comprou um grande número caixas extras de modo que qualquer um que desejasse poderia embalar seus pertences do escritório mais cedo. A questão dos empregados que mantém suas caixas embaladas depois que a pintura foi finalizada, não foi solucio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estão dos incômodos aos empregados do SEI foi resolvida provendo equipamentos de som e atividades extras que possibilitassem evitar estresse dos me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A9E04-C961-4F82-A2BC-F255668F17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sforços de melhoria do processo do software, gerência de risco contínua, introdução de um novo ambiente de desenvolvimento, são tão complexos, e seus efeitos a longo praz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requerem uma abordagem especializada e sistemática para controlar o ciclo de vida de adoção da tecnolog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 SEI – Software Engineering Institute, desenvolveu e refinou o modelo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IDEAL - Initiating, Diagnosing, Establishing, Acting &amp; Lear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 modelo IDEAL era um modelo de ciclo de vida para a melhoria do processo de software baseada no CMM – Capability Maturity Mod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or esta razão o modelo usou termos da melhoria do process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o - S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62826-B9E0-46C9-B006-55687B795A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r a S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justar o plano como necessár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ecutar o pla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duzir análises de pós-implement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árias abordagens de implementação podem ser levadas em consider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nhuma abordagem é universalmente melhor que a outr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sta atividade pode requerer tempo e recursos substancia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B23A2-DEE3-422F-ABEB-1172C95CC8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atividade “Implementar a Solução” neste caso foi a pintura do prédio inteiro de SEI de acordo com o procedimento revisado pelas atividades ant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 fase pode ser repetida mais de uma vez; múltiplas revisões da solução podem ocorrer. Mas há uma diferença entre os erros na solução (que foram identificados e corrigidos nas últimas duas atividades) e erros na execução. Muitos erros menores foram detectados durante o procedimento da limpeza e da pintura. Estes foram encontrados em inspeções regulares, mostrados aos trabalhadores responsáveis, e corrigidos imediat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Gerente de Serviços assegurou que todas as atualizações no plano e relatórios de status fossem notificadas aos trabalhadores alocados para a pintura das s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os envolvidos sabiam do progresso da execução do serviço a partir dos feedbacks dados ao Gerente de Servi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56BE2-DE9C-45DF-B2CF-D1608EC3B8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sta fase a experiência obtida com execução do modelo IDEAL é revista pa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terminar o que foi realiz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 os esforços conseguiram atingir os objetivos pretendi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o a organização pode executar a mudança mais eficazmente e / ou eficientemente no futu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termine o que foi atualmente realizado pelo esforç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are o que foi realizado com a proposta pretendida para o empreendimento da mudanç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marize / colete lições aprendidas considerando processos usados para implementar o modelo IDE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envolver recomendações acerca do gerenciamento de esforços de mudanças futuras usando o IDE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A3EF0-6F11-4CF3-A03D-FD89FB788A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Ativ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nalisar as lições obtidas e Validar as necessidades da fase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Initiating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e foram atendid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opostas de alterações para melhoria futura devem ser fornecid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319572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B7974-FA95-4053-89F5-83D47CBA89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ar e Vali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aperfeiçoar a habilidade de implementar a mudança, as técnicas do modelo IDEAL devem ser revisad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 que forma ele não realizou suas propostas pretendid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 que funcionou bem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 que poderia ser feito mais efetivamente e eficientement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gistros devem ser mantidos durante todo o ciclo do modelo IDEAL com esta atividade em me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CC9C5-EB2C-4EAA-8711-09B3207636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mpeza e a pintura do prédio do SEI durou do feriado de “Ação de Graças” em 1996 até o final de março 1997. Após as semanas iniciais, durante a atividade “Criar a Solução”, “Testar a Solução com um Projeto Piloto” e “Refinar a Solução” o esforço foi visí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do as últimas salas foram pintadas, o Gerente de Serviços andou pelo prédio com os pintores para inspecionar. A finalidade desta atividade em todo o esforço é comparar os resultados do esforço da melhoria com seus objetivos, ou seja, determinar se o ponto original da tarefa tinha sido cumprido. A partir das inspeções feitas e do feedback dado pela equipe de funcionários do SEI, o Gerente de Serviços avaliou que o esforço tinha sido um sucesso, mais do que o pretend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a finalidade desta atividade é coletar e analisar as lições aprendidas do esfor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ante a limpeza e a pintura do prédio, um esforço paralelo envolvendo a mudança de empregados do SEI no prédio foi requerida. Esta operação não tinha sido planejada e este ato gerou um comple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questão das caixas para a embalagem poderia ter sido melhor assegurada, como também a questão do equipamento de computa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s lições, e a análise que resultou delas, foram documentadas pelo SEI para uso em esforços subseqüentes de natureza simi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D2E47-193F-4134-AA8E-387F10032C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 Ações Fu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Recomendações para aperfeiçoar uma habilidade organizacional a usar o modelo IDEAL precisam ser feitas baseadas em análises de validaçõ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Recomendações que dizem respeito a um aspecto diferente do negócio da organização que foram feitas na fase </a:t>
            </a: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Diagnos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ções futuras propostas devem ser documentad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A4826-94ED-499F-909B-4A1B142919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óxima melhoria no prédio do SEI foi a instalação do tapete novo. Esta seria uma operação muito similar à limpeza e à pintura descritas. Por essa razão, o mesmo procedimento, modificado para fazer exame das lições aprendidas no cliente, pôde ser usado com pequenas alter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tarefa de por carpete teve alguns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equipamento de computador, teria de ser deslocado para fora, mas as prateleiras (que não tocam no assoalho) não teriam de ser esvaziadas; por esta razão o incômodo aos empregados não seria tão sé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trabalho de noite continuaria sendo necessário. A remoção do tapete foi uma ameaça mais séria à alergia do que a pintura (devido à poeira, às fibras, aos ácaros, etc.), além de poder causar desliz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tapete velho teria de ser removido do edifício e ser eliminado, o que representou uma adição significativa ao proces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36763-D214-4AED-A32F-93551F8DAD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ER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ra.com.b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rcado: internet mó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cal: São Paulo e Camp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antação: Melhoria no Processo de Desenvolvimento de Software e Aquisição de Subcontr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i&amp;T Softwa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t.com.b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rcado: soluções de software para e-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cal: Camp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antação: Melhoria no Processo de Gerência de Projetos e Desenvolvimento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AAAD1-F867-46B7-843A-0C4CAC0271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ricsson Mobile Data Design A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a division within Ericsson – mobile data syst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othenburg, 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ricsson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Processors, microtrollers, semiconductor produ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ti.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m/asia/docs/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os Origi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esign, build and operate e-busi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tosorigin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9F5F9-CC72-4774-98A9-276D33BCA6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propósito inicial do modelo IDEAL era descrever em termos gerais o que uma organização envolvida com melhoria do processo de software deveria pass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O novo modelo foi desenvolvido para ser aplicado a qualquer esforço de melho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Modelo IDEAL fornece um guia para a melhoria contínua das características de um processo organizac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ornece um guia disciplinado de engenharia para a melhoria contínua, focando no gerenciamento do programa de melhoria e estabelece a base para um estratégia de melhoria a longo praz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le é composto de fases, atividades e princípi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abordagem tem forte relacionamento com o TQM – Total Quality Manag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poio, suporte e Treiname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Uso de dados para a tomada de decisõ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Envolvimento dos participantes e do clien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marrado com os objetivos e necessidades do negócio, e Continuida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o - S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7BD99-861C-412B-9C0D-97D9F42516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1701720"/>
            <a:ext cx="849636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1 – Bibliografia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KIMBROUGH, Tom &amp; LEVINE, Linda: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The IDEAL</a:t>
            </a:r>
            <a:r>
              <a:rPr b="1" lang="pt-BR" sz="17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Transition Framework – Speeding Managed Change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. Software Engineering Institute – Carnegie Mellon University, Pittsburg, PA, 199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MCFEELEY, Bob, </a:t>
            </a:r>
            <a:r>
              <a:rPr b="1" lang="pt-PT" sz="1700" spc="-1" strike="noStrike">
                <a:solidFill>
                  <a:srgbClr val="000000"/>
                </a:solidFill>
                <a:latin typeface="Arial"/>
              </a:rPr>
              <a:t>IDEAL</a:t>
            </a:r>
            <a:r>
              <a:rPr b="1" lang="pt-BR" sz="17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1" lang="pt-PT" sz="1700" spc="-1" strike="noStrike">
                <a:solidFill>
                  <a:srgbClr val="000000"/>
                </a:solidFill>
                <a:latin typeface="Arial"/>
              </a:rPr>
              <a:t>: A User’s Guide for Software Process Improvement</a:t>
            </a: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. Software Engineering Institute Handbook. Carnegie Mellon University. CMU/SEI-96-HB-001, 1996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GREMBA, Jennifer &amp; MYERS, Chuck: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The IDEAL</a:t>
            </a:r>
            <a:r>
              <a:rPr b="1" lang="pt-BR" sz="17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Model – a practical guide for improvement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. Article appeared in the Software Engineering Institute publication, Bridge, 199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88C72-2EBC-4F61-BA94-4C43D7FD18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2 - Estudos de Cas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VAUSE, Jordan: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ainting a building – a conceptual reconstruction based upon the IDEAL</a:t>
            </a:r>
            <a:r>
              <a:rPr b="1" lang="pt-BR" sz="17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Model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. Article appeared in the Software Engineering Institute publication, Bridge, 199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http://csdl.computer.org/comp/proceedings/hicss/2003/1874/09/187490328b.pd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http://portal.acm.org/citation.cfm?id=337492&amp;dl=ACM&amp;coll=port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BA8AC-27F2-42D1-84E7-40CB597E7E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17520" y="765000"/>
            <a:ext cx="5842080" cy="424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dro Ronaldo Bezerra Oliv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torando em Ciência da Computação pelo CIN/UF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ha de Pesquisa: Engenharia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esse de Pesqui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o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dade de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bientes de Desenvolvimento de 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rbo@cin.ufpe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entador: Prof. Alexandre Vasconc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564160" y="101520"/>
            <a:ext cx="3579840" cy="6783480"/>
            <a:chOff x="5564160" y="101520"/>
            <a:chExt cx="3579840" cy="6783480"/>
          </a:xfrm>
        </p:grpSpPr>
        <p:sp>
          <p:nvSpPr>
            <p:cNvPr id="220" name=""/>
            <p:cNvSpPr/>
            <p:nvPr/>
          </p:nvSpPr>
          <p:spPr>
            <a:xfrm>
              <a:off x="5564160" y="114120"/>
              <a:ext cx="3579840" cy="6770880"/>
            </a:xfrm>
            <a:custGeom>
              <a:avLst/>
              <a:gdLst/>
              <a:ahLst/>
              <a:rect l="l" t="t" r="r" b="b"/>
              <a:pathLst>
                <a:path w="2255" h="4265">
                  <a:moveTo>
                    <a:pt x="63" y="168"/>
                  </a:moveTo>
                  <a:lnTo>
                    <a:pt x="76" y="108"/>
                  </a:lnTo>
                  <a:lnTo>
                    <a:pt x="109" y="68"/>
                  </a:lnTo>
                  <a:lnTo>
                    <a:pt x="171" y="38"/>
                  </a:lnTo>
                  <a:lnTo>
                    <a:pt x="226" y="23"/>
                  </a:lnTo>
                  <a:lnTo>
                    <a:pt x="289" y="15"/>
                  </a:lnTo>
                  <a:lnTo>
                    <a:pt x="375" y="6"/>
                  </a:lnTo>
                  <a:lnTo>
                    <a:pt x="470" y="0"/>
                  </a:lnTo>
                  <a:lnTo>
                    <a:pt x="565" y="1"/>
                  </a:lnTo>
                  <a:lnTo>
                    <a:pt x="641" y="4"/>
                  </a:lnTo>
                  <a:lnTo>
                    <a:pt x="700" y="9"/>
                  </a:lnTo>
                  <a:lnTo>
                    <a:pt x="765" y="34"/>
                  </a:lnTo>
                  <a:lnTo>
                    <a:pt x="835" y="68"/>
                  </a:lnTo>
                  <a:lnTo>
                    <a:pt x="904" y="108"/>
                  </a:lnTo>
                  <a:lnTo>
                    <a:pt x="972" y="160"/>
                  </a:lnTo>
                  <a:lnTo>
                    <a:pt x="1033" y="242"/>
                  </a:lnTo>
                  <a:lnTo>
                    <a:pt x="1073" y="319"/>
                  </a:lnTo>
                  <a:lnTo>
                    <a:pt x="1139" y="236"/>
                  </a:lnTo>
                  <a:lnTo>
                    <a:pt x="1209" y="163"/>
                  </a:lnTo>
                  <a:lnTo>
                    <a:pt x="1257" y="126"/>
                  </a:lnTo>
                  <a:lnTo>
                    <a:pt x="1324" y="82"/>
                  </a:lnTo>
                  <a:lnTo>
                    <a:pt x="1376" y="58"/>
                  </a:lnTo>
                  <a:lnTo>
                    <a:pt x="1422" y="48"/>
                  </a:lnTo>
                  <a:lnTo>
                    <a:pt x="1454" y="60"/>
                  </a:lnTo>
                  <a:lnTo>
                    <a:pt x="1485" y="89"/>
                  </a:lnTo>
                  <a:lnTo>
                    <a:pt x="1511" y="122"/>
                  </a:lnTo>
                  <a:lnTo>
                    <a:pt x="1537" y="154"/>
                  </a:lnTo>
                  <a:lnTo>
                    <a:pt x="1571" y="200"/>
                  </a:lnTo>
                  <a:lnTo>
                    <a:pt x="1599" y="257"/>
                  </a:lnTo>
                  <a:lnTo>
                    <a:pt x="1626" y="310"/>
                  </a:lnTo>
                  <a:lnTo>
                    <a:pt x="1652" y="373"/>
                  </a:lnTo>
                  <a:lnTo>
                    <a:pt x="1672" y="430"/>
                  </a:lnTo>
                  <a:lnTo>
                    <a:pt x="1696" y="484"/>
                  </a:lnTo>
                  <a:lnTo>
                    <a:pt x="1714" y="501"/>
                  </a:lnTo>
                  <a:lnTo>
                    <a:pt x="1747" y="521"/>
                  </a:lnTo>
                  <a:lnTo>
                    <a:pt x="1793" y="540"/>
                  </a:lnTo>
                  <a:lnTo>
                    <a:pt x="1825" y="574"/>
                  </a:lnTo>
                  <a:lnTo>
                    <a:pt x="1830" y="583"/>
                  </a:lnTo>
                  <a:lnTo>
                    <a:pt x="1835" y="600"/>
                  </a:lnTo>
                  <a:lnTo>
                    <a:pt x="1850" y="648"/>
                  </a:lnTo>
                  <a:lnTo>
                    <a:pt x="1884" y="725"/>
                  </a:lnTo>
                  <a:lnTo>
                    <a:pt x="1921" y="813"/>
                  </a:lnTo>
                  <a:lnTo>
                    <a:pt x="1969" y="932"/>
                  </a:lnTo>
                  <a:lnTo>
                    <a:pt x="1997" y="1014"/>
                  </a:lnTo>
                  <a:lnTo>
                    <a:pt x="2026" y="1102"/>
                  </a:lnTo>
                  <a:lnTo>
                    <a:pt x="2047" y="1165"/>
                  </a:lnTo>
                  <a:lnTo>
                    <a:pt x="2048" y="1191"/>
                  </a:lnTo>
                  <a:lnTo>
                    <a:pt x="2052" y="1265"/>
                  </a:lnTo>
                  <a:lnTo>
                    <a:pt x="2056" y="1386"/>
                  </a:lnTo>
                  <a:lnTo>
                    <a:pt x="2088" y="1450"/>
                  </a:lnTo>
                  <a:lnTo>
                    <a:pt x="2130" y="1529"/>
                  </a:lnTo>
                  <a:lnTo>
                    <a:pt x="2169" y="1620"/>
                  </a:lnTo>
                  <a:lnTo>
                    <a:pt x="2205" y="1710"/>
                  </a:lnTo>
                  <a:lnTo>
                    <a:pt x="2225" y="1768"/>
                  </a:lnTo>
                  <a:lnTo>
                    <a:pt x="2242" y="1830"/>
                  </a:lnTo>
                  <a:lnTo>
                    <a:pt x="2253" y="1955"/>
                  </a:lnTo>
                  <a:lnTo>
                    <a:pt x="2254" y="2082"/>
                  </a:lnTo>
                  <a:lnTo>
                    <a:pt x="2244" y="2219"/>
                  </a:lnTo>
                  <a:lnTo>
                    <a:pt x="2226" y="2376"/>
                  </a:lnTo>
                  <a:lnTo>
                    <a:pt x="2213" y="2540"/>
                  </a:lnTo>
                  <a:lnTo>
                    <a:pt x="2195" y="2730"/>
                  </a:lnTo>
                  <a:lnTo>
                    <a:pt x="2167" y="2910"/>
                  </a:lnTo>
                  <a:lnTo>
                    <a:pt x="2141" y="3076"/>
                  </a:lnTo>
                  <a:lnTo>
                    <a:pt x="2105" y="3264"/>
                  </a:lnTo>
                  <a:lnTo>
                    <a:pt x="2079" y="3488"/>
                  </a:lnTo>
                  <a:lnTo>
                    <a:pt x="2079" y="3770"/>
                  </a:lnTo>
                  <a:lnTo>
                    <a:pt x="2079" y="4144"/>
                  </a:lnTo>
                  <a:lnTo>
                    <a:pt x="2081" y="4264"/>
                  </a:lnTo>
                  <a:lnTo>
                    <a:pt x="945" y="4264"/>
                  </a:lnTo>
                  <a:lnTo>
                    <a:pt x="943" y="4064"/>
                  </a:lnTo>
                  <a:lnTo>
                    <a:pt x="933" y="3742"/>
                  </a:lnTo>
                  <a:lnTo>
                    <a:pt x="923" y="3545"/>
                  </a:lnTo>
                  <a:lnTo>
                    <a:pt x="899" y="3388"/>
                  </a:lnTo>
                  <a:lnTo>
                    <a:pt x="868" y="3329"/>
                  </a:lnTo>
                  <a:lnTo>
                    <a:pt x="844" y="3280"/>
                  </a:lnTo>
                  <a:lnTo>
                    <a:pt x="818" y="3216"/>
                  </a:lnTo>
                  <a:lnTo>
                    <a:pt x="803" y="3187"/>
                  </a:lnTo>
                  <a:lnTo>
                    <a:pt x="767" y="3142"/>
                  </a:lnTo>
                  <a:lnTo>
                    <a:pt x="716" y="3079"/>
                  </a:lnTo>
                  <a:lnTo>
                    <a:pt x="664" y="3008"/>
                  </a:lnTo>
                  <a:lnTo>
                    <a:pt x="655" y="2986"/>
                  </a:lnTo>
                  <a:lnTo>
                    <a:pt x="635" y="2924"/>
                  </a:lnTo>
                  <a:lnTo>
                    <a:pt x="620" y="2883"/>
                  </a:lnTo>
                  <a:lnTo>
                    <a:pt x="600" y="2830"/>
                  </a:lnTo>
                  <a:lnTo>
                    <a:pt x="587" y="2796"/>
                  </a:lnTo>
                  <a:lnTo>
                    <a:pt x="557" y="2752"/>
                  </a:lnTo>
                  <a:lnTo>
                    <a:pt x="531" y="2722"/>
                  </a:lnTo>
                  <a:lnTo>
                    <a:pt x="514" y="2684"/>
                  </a:lnTo>
                  <a:lnTo>
                    <a:pt x="481" y="2602"/>
                  </a:lnTo>
                  <a:lnTo>
                    <a:pt x="450" y="2522"/>
                  </a:lnTo>
                  <a:lnTo>
                    <a:pt x="408" y="2422"/>
                  </a:lnTo>
                  <a:lnTo>
                    <a:pt x="362" y="2344"/>
                  </a:lnTo>
                  <a:lnTo>
                    <a:pt x="312" y="2268"/>
                  </a:lnTo>
                  <a:lnTo>
                    <a:pt x="272" y="2212"/>
                  </a:lnTo>
                  <a:lnTo>
                    <a:pt x="214" y="2142"/>
                  </a:lnTo>
                  <a:lnTo>
                    <a:pt x="150" y="2080"/>
                  </a:lnTo>
                  <a:lnTo>
                    <a:pt x="91" y="2008"/>
                  </a:lnTo>
                  <a:lnTo>
                    <a:pt x="54" y="1946"/>
                  </a:lnTo>
                  <a:lnTo>
                    <a:pt x="31" y="1901"/>
                  </a:lnTo>
                  <a:lnTo>
                    <a:pt x="10" y="1856"/>
                  </a:lnTo>
                  <a:lnTo>
                    <a:pt x="1" y="1816"/>
                  </a:lnTo>
                  <a:lnTo>
                    <a:pt x="0" y="1778"/>
                  </a:lnTo>
                  <a:lnTo>
                    <a:pt x="9" y="1725"/>
                  </a:lnTo>
                  <a:lnTo>
                    <a:pt x="31" y="1685"/>
                  </a:lnTo>
                  <a:lnTo>
                    <a:pt x="56" y="1665"/>
                  </a:lnTo>
                  <a:lnTo>
                    <a:pt x="82" y="1634"/>
                  </a:lnTo>
                  <a:lnTo>
                    <a:pt x="119" y="1606"/>
                  </a:lnTo>
                  <a:lnTo>
                    <a:pt x="155" y="1596"/>
                  </a:lnTo>
                  <a:lnTo>
                    <a:pt x="200" y="1586"/>
                  </a:lnTo>
                  <a:lnTo>
                    <a:pt x="238" y="1583"/>
                  </a:lnTo>
                  <a:lnTo>
                    <a:pt x="289" y="1588"/>
                  </a:lnTo>
                  <a:lnTo>
                    <a:pt x="335" y="1592"/>
                  </a:lnTo>
                  <a:lnTo>
                    <a:pt x="382" y="1610"/>
                  </a:lnTo>
                  <a:lnTo>
                    <a:pt x="424" y="1636"/>
                  </a:lnTo>
                  <a:lnTo>
                    <a:pt x="462" y="1664"/>
                  </a:lnTo>
                  <a:lnTo>
                    <a:pt x="510" y="1705"/>
                  </a:lnTo>
                  <a:lnTo>
                    <a:pt x="549" y="1750"/>
                  </a:lnTo>
                  <a:lnTo>
                    <a:pt x="593" y="1804"/>
                  </a:lnTo>
                  <a:lnTo>
                    <a:pt x="645" y="1874"/>
                  </a:lnTo>
                  <a:lnTo>
                    <a:pt x="726" y="1984"/>
                  </a:lnTo>
                  <a:lnTo>
                    <a:pt x="791" y="2072"/>
                  </a:lnTo>
                  <a:lnTo>
                    <a:pt x="854" y="2151"/>
                  </a:lnTo>
                  <a:lnTo>
                    <a:pt x="884" y="2126"/>
                  </a:lnTo>
                  <a:lnTo>
                    <a:pt x="914" y="2090"/>
                  </a:lnTo>
                  <a:lnTo>
                    <a:pt x="945" y="2038"/>
                  </a:lnTo>
                  <a:lnTo>
                    <a:pt x="967" y="1984"/>
                  </a:lnTo>
                  <a:lnTo>
                    <a:pt x="978" y="1921"/>
                  </a:lnTo>
                  <a:lnTo>
                    <a:pt x="969" y="1816"/>
                  </a:lnTo>
                  <a:lnTo>
                    <a:pt x="963" y="1702"/>
                  </a:lnTo>
                  <a:lnTo>
                    <a:pt x="954" y="1620"/>
                  </a:lnTo>
                  <a:lnTo>
                    <a:pt x="948" y="1620"/>
                  </a:lnTo>
                  <a:lnTo>
                    <a:pt x="936" y="1620"/>
                  </a:lnTo>
                  <a:lnTo>
                    <a:pt x="918" y="1616"/>
                  </a:lnTo>
                  <a:lnTo>
                    <a:pt x="896" y="1606"/>
                  </a:lnTo>
                  <a:lnTo>
                    <a:pt x="875" y="1594"/>
                  </a:lnTo>
                  <a:lnTo>
                    <a:pt x="858" y="1577"/>
                  </a:lnTo>
                  <a:lnTo>
                    <a:pt x="844" y="1562"/>
                  </a:lnTo>
                  <a:lnTo>
                    <a:pt x="828" y="1538"/>
                  </a:lnTo>
                  <a:lnTo>
                    <a:pt x="819" y="1514"/>
                  </a:lnTo>
                  <a:lnTo>
                    <a:pt x="807" y="1482"/>
                  </a:lnTo>
                  <a:lnTo>
                    <a:pt x="803" y="1444"/>
                  </a:lnTo>
                  <a:lnTo>
                    <a:pt x="804" y="1407"/>
                  </a:lnTo>
                  <a:lnTo>
                    <a:pt x="805" y="1358"/>
                  </a:lnTo>
                  <a:lnTo>
                    <a:pt x="818" y="1302"/>
                  </a:lnTo>
                  <a:lnTo>
                    <a:pt x="828" y="1262"/>
                  </a:lnTo>
                  <a:lnTo>
                    <a:pt x="838" y="1228"/>
                  </a:lnTo>
                  <a:lnTo>
                    <a:pt x="850" y="1204"/>
                  </a:lnTo>
                  <a:lnTo>
                    <a:pt x="836" y="1123"/>
                  </a:lnTo>
                  <a:lnTo>
                    <a:pt x="820" y="1048"/>
                  </a:lnTo>
                  <a:lnTo>
                    <a:pt x="805" y="1000"/>
                  </a:lnTo>
                  <a:lnTo>
                    <a:pt x="799" y="960"/>
                  </a:lnTo>
                  <a:lnTo>
                    <a:pt x="803" y="878"/>
                  </a:lnTo>
                  <a:lnTo>
                    <a:pt x="785" y="833"/>
                  </a:lnTo>
                  <a:lnTo>
                    <a:pt x="749" y="788"/>
                  </a:lnTo>
                  <a:lnTo>
                    <a:pt x="725" y="738"/>
                  </a:lnTo>
                  <a:lnTo>
                    <a:pt x="695" y="657"/>
                  </a:lnTo>
                  <a:lnTo>
                    <a:pt x="662" y="582"/>
                  </a:lnTo>
                  <a:lnTo>
                    <a:pt x="635" y="528"/>
                  </a:lnTo>
                  <a:lnTo>
                    <a:pt x="573" y="535"/>
                  </a:lnTo>
                  <a:lnTo>
                    <a:pt x="494" y="529"/>
                  </a:lnTo>
                  <a:lnTo>
                    <a:pt x="419" y="521"/>
                  </a:lnTo>
                  <a:lnTo>
                    <a:pt x="322" y="512"/>
                  </a:lnTo>
                  <a:lnTo>
                    <a:pt x="255" y="500"/>
                  </a:lnTo>
                  <a:lnTo>
                    <a:pt x="183" y="475"/>
                  </a:lnTo>
                  <a:lnTo>
                    <a:pt x="136" y="444"/>
                  </a:lnTo>
                  <a:lnTo>
                    <a:pt x="104" y="407"/>
                  </a:lnTo>
                  <a:lnTo>
                    <a:pt x="78" y="359"/>
                  </a:lnTo>
                  <a:lnTo>
                    <a:pt x="65" y="299"/>
                  </a:lnTo>
                  <a:lnTo>
                    <a:pt x="58" y="228"/>
                  </a:lnTo>
                  <a:lnTo>
                    <a:pt x="63" y="168"/>
                  </a:lnTo>
                </a:path>
              </a:pathLst>
            </a:custGeom>
            <a:solidFill>
              <a:srgbClr val="ffbf7f"/>
            </a:solidFill>
            <a:ln cap="rnd" w="25560">
              <a:solidFill>
                <a:srgbClr val="ff9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5649840" y="101520"/>
              <a:ext cx="3193920" cy="5126040"/>
              <a:chOff x="5649840" y="101520"/>
              <a:chExt cx="3193920" cy="512604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5649840" y="101520"/>
                <a:ext cx="3193920" cy="5126040"/>
                <a:chOff x="5649840" y="101520"/>
                <a:chExt cx="3193920" cy="512604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5649840" y="101520"/>
                  <a:ext cx="596880" cy="365040"/>
                  <a:chOff x="5649840" y="101520"/>
                  <a:chExt cx="596880" cy="36504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5930640" y="129960"/>
                    <a:ext cx="316080" cy="33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212">
                        <a:moveTo>
                          <a:pt x="0" y="208"/>
                        </a:moveTo>
                        <a:lnTo>
                          <a:pt x="125" y="4"/>
                        </a:lnTo>
                        <a:lnTo>
                          <a:pt x="198" y="0"/>
                        </a:lnTo>
                        <a:lnTo>
                          <a:pt x="156" y="23"/>
                        </a:lnTo>
                        <a:lnTo>
                          <a:pt x="164" y="67"/>
                        </a:lnTo>
                        <a:lnTo>
                          <a:pt x="161" y="114"/>
                        </a:lnTo>
                        <a:lnTo>
                          <a:pt x="152" y="151"/>
                        </a:lnTo>
                        <a:lnTo>
                          <a:pt x="138" y="179"/>
                        </a:lnTo>
                        <a:lnTo>
                          <a:pt x="115" y="198"/>
                        </a:lnTo>
                        <a:lnTo>
                          <a:pt x="90" y="205"/>
                        </a:lnTo>
                        <a:lnTo>
                          <a:pt x="60" y="211"/>
                        </a:lnTo>
                        <a:lnTo>
                          <a:pt x="0" y="208"/>
                        </a:lnTo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649840" y="104760"/>
                    <a:ext cx="496800" cy="33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11">
                        <a:moveTo>
                          <a:pt x="297" y="17"/>
                        </a:moveTo>
                        <a:lnTo>
                          <a:pt x="311" y="47"/>
                        </a:lnTo>
                        <a:lnTo>
                          <a:pt x="312" y="93"/>
                        </a:lnTo>
                        <a:lnTo>
                          <a:pt x="301" y="156"/>
                        </a:lnTo>
                        <a:lnTo>
                          <a:pt x="284" y="181"/>
                        </a:lnTo>
                        <a:lnTo>
                          <a:pt x="254" y="197"/>
                        </a:lnTo>
                        <a:lnTo>
                          <a:pt x="200" y="207"/>
                        </a:lnTo>
                        <a:lnTo>
                          <a:pt x="145" y="210"/>
                        </a:lnTo>
                        <a:lnTo>
                          <a:pt x="71" y="202"/>
                        </a:lnTo>
                        <a:lnTo>
                          <a:pt x="31" y="189"/>
                        </a:lnTo>
                        <a:lnTo>
                          <a:pt x="9" y="166"/>
                        </a:lnTo>
                        <a:lnTo>
                          <a:pt x="0" y="126"/>
                        </a:lnTo>
                        <a:lnTo>
                          <a:pt x="8" y="84"/>
                        </a:lnTo>
                        <a:lnTo>
                          <a:pt x="28" y="45"/>
                        </a:lnTo>
                        <a:lnTo>
                          <a:pt x="67" y="19"/>
                        </a:lnTo>
                        <a:lnTo>
                          <a:pt x="108" y="7"/>
                        </a:lnTo>
                        <a:lnTo>
                          <a:pt x="157" y="1"/>
                        </a:lnTo>
                        <a:lnTo>
                          <a:pt x="194" y="0"/>
                        </a:lnTo>
                        <a:lnTo>
                          <a:pt x="231" y="0"/>
                        </a:lnTo>
                        <a:lnTo>
                          <a:pt x="279" y="7"/>
                        </a:lnTo>
                        <a:lnTo>
                          <a:pt x="297" y="17"/>
                        </a:lnTo>
                      </a:path>
                    </a:pathLst>
                  </a:cu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5651280" y="101520"/>
                    <a:ext cx="5079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222">
                        <a:moveTo>
                          <a:pt x="302" y="26"/>
                        </a:moveTo>
                        <a:lnTo>
                          <a:pt x="315" y="49"/>
                        </a:lnTo>
                        <a:lnTo>
                          <a:pt x="319" y="85"/>
                        </a:lnTo>
                        <a:lnTo>
                          <a:pt x="315" y="127"/>
                        </a:lnTo>
                        <a:lnTo>
                          <a:pt x="305" y="164"/>
                        </a:lnTo>
                        <a:lnTo>
                          <a:pt x="288" y="191"/>
                        </a:lnTo>
                        <a:lnTo>
                          <a:pt x="258" y="205"/>
                        </a:lnTo>
                        <a:lnTo>
                          <a:pt x="204" y="219"/>
                        </a:lnTo>
                        <a:lnTo>
                          <a:pt x="158" y="221"/>
                        </a:lnTo>
                        <a:lnTo>
                          <a:pt x="116" y="221"/>
                        </a:lnTo>
                        <a:lnTo>
                          <a:pt x="68" y="210"/>
                        </a:lnTo>
                        <a:lnTo>
                          <a:pt x="36" y="203"/>
                        </a:lnTo>
                        <a:lnTo>
                          <a:pt x="18" y="189"/>
                        </a:lnTo>
                        <a:lnTo>
                          <a:pt x="6" y="167"/>
                        </a:lnTo>
                        <a:lnTo>
                          <a:pt x="0" y="141"/>
                        </a:lnTo>
                        <a:lnTo>
                          <a:pt x="3" y="108"/>
                        </a:lnTo>
                        <a:lnTo>
                          <a:pt x="12" y="76"/>
                        </a:lnTo>
                        <a:lnTo>
                          <a:pt x="25" y="54"/>
                        </a:lnTo>
                        <a:lnTo>
                          <a:pt x="39" y="40"/>
                        </a:lnTo>
                        <a:lnTo>
                          <a:pt x="55" y="26"/>
                        </a:lnTo>
                        <a:lnTo>
                          <a:pt x="71" y="20"/>
                        </a:lnTo>
                        <a:lnTo>
                          <a:pt x="89" y="14"/>
                        </a:lnTo>
                        <a:lnTo>
                          <a:pt x="111" y="9"/>
                        </a:lnTo>
                        <a:lnTo>
                          <a:pt x="158" y="4"/>
                        </a:lnTo>
                        <a:lnTo>
                          <a:pt x="197" y="0"/>
                        </a:lnTo>
                        <a:lnTo>
                          <a:pt x="226" y="0"/>
                        </a:lnTo>
                        <a:lnTo>
                          <a:pt x="256" y="4"/>
                        </a:lnTo>
                        <a:lnTo>
                          <a:pt x="284" y="9"/>
                        </a:lnTo>
                        <a:lnTo>
                          <a:pt x="302" y="26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9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6060960" y="123840"/>
                    <a:ext cx="87120" cy="233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47">
                        <a:moveTo>
                          <a:pt x="0" y="0"/>
                        </a:moveTo>
                        <a:lnTo>
                          <a:pt x="6" y="40"/>
                        </a:lnTo>
                        <a:lnTo>
                          <a:pt x="15" y="86"/>
                        </a:lnTo>
                        <a:lnTo>
                          <a:pt x="27" y="123"/>
                        </a:lnTo>
                        <a:lnTo>
                          <a:pt x="36" y="146"/>
                        </a:lnTo>
                        <a:lnTo>
                          <a:pt x="48" y="122"/>
                        </a:lnTo>
                        <a:lnTo>
                          <a:pt x="54" y="75"/>
                        </a:lnTo>
                        <a:lnTo>
                          <a:pt x="47" y="26"/>
                        </a:lnTo>
                        <a:lnTo>
                          <a:pt x="24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5667120" y="127080"/>
                  <a:ext cx="3176640" cy="5100480"/>
                  <a:chOff x="5667120" y="127080"/>
                  <a:chExt cx="3176640" cy="51004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5667120" y="2757240"/>
                    <a:ext cx="395280" cy="75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476">
                        <a:moveTo>
                          <a:pt x="163" y="475"/>
                        </a:moveTo>
                        <a:lnTo>
                          <a:pt x="185" y="447"/>
                        </a:lnTo>
                        <a:lnTo>
                          <a:pt x="206" y="410"/>
                        </a:lnTo>
                        <a:lnTo>
                          <a:pt x="226" y="368"/>
                        </a:lnTo>
                        <a:lnTo>
                          <a:pt x="239" y="322"/>
                        </a:lnTo>
                        <a:lnTo>
                          <a:pt x="245" y="256"/>
                        </a:lnTo>
                        <a:lnTo>
                          <a:pt x="248" y="208"/>
                        </a:lnTo>
                        <a:lnTo>
                          <a:pt x="244" y="180"/>
                        </a:lnTo>
                        <a:lnTo>
                          <a:pt x="231" y="166"/>
                        </a:lnTo>
                        <a:lnTo>
                          <a:pt x="197" y="126"/>
                        </a:lnTo>
                        <a:lnTo>
                          <a:pt x="157" y="89"/>
                        </a:lnTo>
                        <a:lnTo>
                          <a:pt x="115" y="60"/>
                        </a:lnTo>
                        <a:lnTo>
                          <a:pt x="72" y="32"/>
                        </a:lnTo>
                        <a:lnTo>
                          <a:pt x="27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9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08600" y="127080"/>
                    <a:ext cx="3035160" cy="5100480"/>
                    <a:chOff x="5808600" y="127080"/>
                    <a:chExt cx="3035160" cy="5100480"/>
                  </a:xfrm>
                </p:grpSpPr>
                <p:grpSp>
                  <p:nvGrpSpPr>
                    <p:cNvPr id="231" name=""/>
                    <p:cNvGrpSpPr/>
                    <p:nvPr/>
                  </p:nvGrpSpPr>
                  <p:grpSpPr>
                    <a:xfrm>
                      <a:off x="6549840" y="565200"/>
                      <a:ext cx="858960" cy="3324240"/>
                      <a:chOff x="6549840" y="565200"/>
                      <a:chExt cx="858960" cy="3324240"/>
                    </a:xfrm>
                  </p:grpSpPr>
                  <p:grpSp>
                    <p:nvGrpSpPr>
                      <p:cNvPr id="232" name=""/>
                      <p:cNvGrpSpPr/>
                      <p:nvPr/>
                    </p:nvGrpSpPr>
                    <p:grpSpPr>
                      <a:xfrm>
                        <a:off x="6886440" y="3247920"/>
                        <a:ext cx="522360" cy="641520"/>
                        <a:chOff x="6886440" y="3247920"/>
                        <a:chExt cx="522360" cy="641520"/>
                      </a:xfrm>
                    </p:grpSpPr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>
                          <a:off x="6945120" y="3247920"/>
                          <a:ext cx="463680" cy="388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2" h="245">
                              <a:moveTo>
                                <a:pt x="17" y="145"/>
                              </a:moveTo>
                              <a:lnTo>
                                <a:pt x="86" y="151"/>
                              </a:lnTo>
                              <a:lnTo>
                                <a:pt x="145" y="141"/>
                              </a:lnTo>
                              <a:lnTo>
                                <a:pt x="212" y="110"/>
                              </a:lnTo>
                              <a:lnTo>
                                <a:pt x="256" y="71"/>
                              </a:lnTo>
                              <a:lnTo>
                                <a:pt x="291" y="0"/>
                              </a:lnTo>
                              <a:lnTo>
                                <a:pt x="260" y="102"/>
                              </a:lnTo>
                              <a:lnTo>
                                <a:pt x="237" y="152"/>
                              </a:lnTo>
                              <a:lnTo>
                                <a:pt x="198" y="199"/>
                              </a:lnTo>
                              <a:lnTo>
                                <a:pt x="141" y="232"/>
                              </a:lnTo>
                              <a:lnTo>
                                <a:pt x="83" y="244"/>
                              </a:lnTo>
                              <a:lnTo>
                                <a:pt x="0" y="179"/>
                              </a:lnTo>
                              <a:lnTo>
                                <a:pt x="17" y="145"/>
                              </a:lnTo>
                            </a:path>
                          </a:pathLst>
                        </a:cu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>
                          <a:off x="6886440" y="3530520"/>
                          <a:ext cx="162000" cy="35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" h="226">
                              <a:moveTo>
                                <a:pt x="0" y="0"/>
                              </a:moveTo>
                              <a:lnTo>
                                <a:pt x="36" y="27"/>
                              </a:lnTo>
                              <a:lnTo>
                                <a:pt x="63" y="64"/>
                              </a:lnTo>
                              <a:lnTo>
                                <a:pt x="84" y="122"/>
                              </a:lnTo>
                              <a:lnTo>
                                <a:pt x="87" y="165"/>
                              </a:lnTo>
                              <a:lnTo>
                                <a:pt x="77" y="225"/>
                              </a:lnTo>
                              <a:lnTo>
                                <a:pt x="100" y="177"/>
                              </a:lnTo>
                              <a:lnTo>
                                <a:pt x="101" y="122"/>
                              </a:lnTo>
                              <a:lnTo>
                                <a:pt x="94" y="75"/>
                              </a:lnTo>
                              <a:lnTo>
                                <a:pt x="73" y="24"/>
                              </a:lnTo>
                              <a:lnTo>
                                <a:pt x="45" y="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>
                          <a:off x="7008840" y="3301920"/>
                          <a:ext cx="241200" cy="171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2" h="108">
                              <a:moveTo>
                                <a:pt x="0" y="99"/>
                              </a:moveTo>
                              <a:lnTo>
                                <a:pt x="40" y="107"/>
                              </a:lnTo>
                              <a:lnTo>
                                <a:pt x="75" y="93"/>
                              </a:lnTo>
                              <a:lnTo>
                                <a:pt x="111" y="68"/>
                              </a:lnTo>
                              <a:lnTo>
                                <a:pt x="138" y="33"/>
                              </a:lnTo>
                              <a:lnTo>
                                <a:pt x="151" y="0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6549840" y="565200"/>
                        <a:ext cx="109440" cy="37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238">
                            <a:moveTo>
                              <a:pt x="18" y="234"/>
                            </a:moveTo>
                            <a:lnTo>
                              <a:pt x="19" y="198"/>
                            </a:lnTo>
                            <a:lnTo>
                              <a:pt x="24" y="164"/>
                            </a:lnTo>
                            <a:lnTo>
                              <a:pt x="30" y="129"/>
                            </a:lnTo>
                            <a:lnTo>
                              <a:pt x="42" y="91"/>
                            </a:lnTo>
                            <a:lnTo>
                              <a:pt x="52" y="56"/>
                            </a:lnTo>
                            <a:lnTo>
                              <a:pt x="68" y="0"/>
                            </a:lnTo>
                            <a:lnTo>
                              <a:pt x="50" y="33"/>
                            </a:lnTo>
                            <a:lnTo>
                              <a:pt x="38" y="58"/>
                            </a:lnTo>
                            <a:lnTo>
                              <a:pt x="24" y="99"/>
                            </a:lnTo>
                            <a:lnTo>
                              <a:pt x="13" y="141"/>
                            </a:lnTo>
                            <a:lnTo>
                              <a:pt x="4" y="187"/>
                            </a:lnTo>
                            <a:lnTo>
                              <a:pt x="0" y="237"/>
                            </a:lnTo>
                            <a:lnTo>
                              <a:pt x="18" y="234"/>
                            </a:lnTo>
                          </a:path>
                        </a:pathLst>
                      </a:custGeom>
                      <a:solidFill>
                        <a:srgbClr val="ff9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6805440" y="1057320"/>
                        <a:ext cx="177840" cy="38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245">
                            <a:moveTo>
                              <a:pt x="0" y="234"/>
                            </a:moveTo>
                            <a:lnTo>
                              <a:pt x="27" y="220"/>
                            </a:lnTo>
                            <a:lnTo>
                              <a:pt x="56" y="195"/>
                            </a:lnTo>
                            <a:lnTo>
                              <a:pt x="77" y="154"/>
                            </a:lnTo>
                            <a:lnTo>
                              <a:pt x="90" y="112"/>
                            </a:lnTo>
                            <a:lnTo>
                              <a:pt x="101" y="61"/>
                            </a:lnTo>
                            <a:lnTo>
                              <a:pt x="109" y="0"/>
                            </a:lnTo>
                            <a:lnTo>
                              <a:pt x="111" y="54"/>
                            </a:lnTo>
                            <a:lnTo>
                              <a:pt x="105" y="116"/>
                            </a:lnTo>
                            <a:lnTo>
                              <a:pt x="97" y="157"/>
                            </a:lnTo>
                            <a:lnTo>
                              <a:pt x="89" y="192"/>
                            </a:lnTo>
                            <a:lnTo>
                              <a:pt x="76" y="220"/>
                            </a:lnTo>
                            <a:lnTo>
                              <a:pt x="56" y="237"/>
                            </a:lnTo>
                            <a:lnTo>
                              <a:pt x="31" y="244"/>
                            </a:lnTo>
                            <a:lnTo>
                              <a:pt x="0" y="234"/>
                            </a:lnTo>
                          </a:path>
                        </a:pathLst>
                      </a:custGeom>
                      <a:solidFill>
                        <a:srgbClr val="ff9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7037280" y="2230200"/>
                        <a:ext cx="226800" cy="46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3" h="294">
                            <a:moveTo>
                              <a:pt x="0" y="166"/>
                            </a:moveTo>
                            <a:lnTo>
                              <a:pt x="22" y="174"/>
                            </a:lnTo>
                            <a:lnTo>
                              <a:pt x="46" y="168"/>
                            </a:lnTo>
                            <a:lnTo>
                              <a:pt x="65" y="158"/>
                            </a:lnTo>
                            <a:lnTo>
                              <a:pt x="79" y="143"/>
                            </a:lnTo>
                            <a:lnTo>
                              <a:pt x="97" y="116"/>
                            </a:lnTo>
                            <a:lnTo>
                              <a:pt x="115" y="80"/>
                            </a:lnTo>
                            <a:lnTo>
                              <a:pt x="142" y="0"/>
                            </a:lnTo>
                            <a:lnTo>
                              <a:pt x="127" y="74"/>
                            </a:lnTo>
                            <a:lnTo>
                              <a:pt x="116" y="121"/>
                            </a:lnTo>
                            <a:lnTo>
                              <a:pt x="95" y="166"/>
                            </a:lnTo>
                            <a:lnTo>
                              <a:pt x="73" y="196"/>
                            </a:lnTo>
                            <a:lnTo>
                              <a:pt x="49" y="201"/>
                            </a:lnTo>
                            <a:lnTo>
                              <a:pt x="36" y="237"/>
                            </a:lnTo>
                            <a:lnTo>
                              <a:pt x="25" y="293"/>
                            </a:lnTo>
                            <a:lnTo>
                              <a:pt x="16" y="224"/>
                            </a:lnTo>
                            <a:lnTo>
                              <a:pt x="0" y="166"/>
                            </a:lnTo>
                          </a:path>
                        </a:pathLst>
                      </a:custGeom>
                      <a:solidFill>
                        <a:srgbClr val="ff9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7119720" y="2994120"/>
                        <a:ext cx="252360" cy="15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9" h="99">
                            <a:moveTo>
                              <a:pt x="0" y="95"/>
                            </a:moveTo>
                            <a:lnTo>
                              <a:pt x="33" y="98"/>
                            </a:lnTo>
                            <a:lnTo>
                              <a:pt x="68" y="88"/>
                            </a:lnTo>
                            <a:lnTo>
                              <a:pt x="103" y="62"/>
                            </a:lnTo>
                            <a:lnTo>
                              <a:pt x="131" y="36"/>
                            </a:lnTo>
                            <a:lnTo>
                              <a:pt x="158" y="0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6843600" y="1373040"/>
                        <a:ext cx="76320" cy="26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169">
                            <a:moveTo>
                              <a:pt x="0" y="168"/>
                            </a:moveTo>
                            <a:lnTo>
                              <a:pt x="5" y="128"/>
                            </a:lnTo>
                            <a:lnTo>
                              <a:pt x="12" y="88"/>
                            </a:lnTo>
                            <a:lnTo>
                              <a:pt x="28" y="40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5808600" y="2027160"/>
                      <a:ext cx="1535040" cy="3200400"/>
                      <a:chOff x="5808600" y="2027160"/>
                      <a:chExt cx="1535040" cy="320040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6821280" y="5132160"/>
                        <a:ext cx="52236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9" h="60">
                            <a:moveTo>
                              <a:pt x="0" y="0"/>
                            </a:moveTo>
                            <a:lnTo>
                              <a:pt x="64" y="31"/>
                            </a:lnTo>
                            <a:lnTo>
                              <a:pt x="130" y="51"/>
                            </a:lnTo>
                            <a:lnTo>
                              <a:pt x="186" y="59"/>
                            </a:lnTo>
                            <a:lnTo>
                              <a:pt x="268" y="46"/>
                            </a:lnTo>
                            <a:lnTo>
                              <a:pt x="328" y="34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6137280" y="3379680"/>
                        <a:ext cx="261720" cy="44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5" h="283">
                            <a:moveTo>
                              <a:pt x="0" y="282"/>
                            </a:moveTo>
                            <a:lnTo>
                              <a:pt x="10" y="240"/>
                            </a:lnTo>
                            <a:lnTo>
                              <a:pt x="34" y="182"/>
                            </a:lnTo>
                            <a:lnTo>
                              <a:pt x="63" y="123"/>
                            </a:lnTo>
                            <a:lnTo>
                              <a:pt x="93" y="74"/>
                            </a:lnTo>
                            <a:lnTo>
                              <a:pt x="135" y="27"/>
                            </a:lnTo>
                            <a:lnTo>
                              <a:pt x="164" y="0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6229080" y="3419280"/>
                        <a:ext cx="300240" cy="56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9" h="359">
                            <a:moveTo>
                              <a:pt x="0" y="358"/>
                            </a:moveTo>
                            <a:lnTo>
                              <a:pt x="36" y="321"/>
                            </a:lnTo>
                            <a:lnTo>
                              <a:pt x="76" y="279"/>
                            </a:lnTo>
                            <a:lnTo>
                              <a:pt x="118" y="218"/>
                            </a:lnTo>
                            <a:lnTo>
                              <a:pt x="150" y="146"/>
                            </a:lnTo>
                            <a:lnTo>
                              <a:pt x="174" y="72"/>
                            </a:lnTo>
                            <a:lnTo>
                              <a:pt x="188" y="0"/>
                            </a:lnTo>
                            <a:lnTo>
                              <a:pt x="162" y="142"/>
                            </a:lnTo>
                            <a:lnTo>
                              <a:pt x="131" y="230"/>
                            </a:lnTo>
                            <a:lnTo>
                              <a:pt x="98" y="286"/>
                            </a:lnTo>
                            <a:lnTo>
                              <a:pt x="72" y="318"/>
                            </a:lnTo>
                            <a:lnTo>
                              <a:pt x="40" y="344"/>
                            </a:lnTo>
                            <a:lnTo>
                              <a:pt x="0" y="358"/>
                            </a:lnTo>
                          </a:path>
                        </a:pathLst>
                      </a:custGeom>
                      <a:solidFill>
                        <a:srgbClr val="ff9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6292800" y="3921120"/>
                        <a:ext cx="206280" cy="22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142">
                            <a:moveTo>
                              <a:pt x="129" y="0"/>
                            </a:moveTo>
                            <a:lnTo>
                              <a:pt x="111" y="37"/>
                            </a:lnTo>
                            <a:lnTo>
                              <a:pt x="89" y="68"/>
                            </a:lnTo>
                            <a:lnTo>
                              <a:pt x="62" y="98"/>
                            </a:lnTo>
                            <a:lnTo>
                              <a:pt x="30" y="125"/>
                            </a:lnTo>
                            <a:lnTo>
                              <a:pt x="0" y="141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6" name=""/>
                      <p:cNvGrpSpPr/>
                      <p:nvPr/>
                    </p:nvGrpSpPr>
                    <p:grpSpPr>
                      <a:xfrm>
                        <a:off x="5808600" y="2027160"/>
                        <a:ext cx="1271520" cy="1474920"/>
                        <a:chOff x="5808600" y="2027160"/>
                        <a:chExt cx="1271520" cy="1474920"/>
                      </a:xfrm>
                    </p:grpSpPr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>
                          <a:off x="6914880" y="2027160"/>
                          <a:ext cx="165240" cy="65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4" h="410">
                              <a:moveTo>
                                <a:pt x="0" y="0"/>
                              </a:moveTo>
                              <a:lnTo>
                                <a:pt x="12" y="90"/>
                              </a:lnTo>
                              <a:lnTo>
                                <a:pt x="33" y="175"/>
                              </a:lnTo>
                              <a:lnTo>
                                <a:pt x="67" y="261"/>
                              </a:lnTo>
                              <a:lnTo>
                                <a:pt x="93" y="344"/>
                              </a:lnTo>
                              <a:lnTo>
                                <a:pt x="103" y="409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5808600" y="3058920"/>
                          <a:ext cx="236520" cy="443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279">
                              <a:moveTo>
                                <a:pt x="0" y="210"/>
                              </a:moveTo>
                              <a:lnTo>
                                <a:pt x="10" y="224"/>
                              </a:lnTo>
                              <a:lnTo>
                                <a:pt x="34" y="245"/>
                              </a:lnTo>
                              <a:lnTo>
                                <a:pt x="55" y="264"/>
                              </a:lnTo>
                              <a:lnTo>
                                <a:pt x="65" y="278"/>
                              </a:lnTo>
                              <a:lnTo>
                                <a:pt x="81" y="256"/>
                              </a:lnTo>
                              <a:lnTo>
                                <a:pt x="101" y="226"/>
                              </a:lnTo>
                              <a:lnTo>
                                <a:pt x="123" y="189"/>
                              </a:lnTo>
                              <a:lnTo>
                                <a:pt x="136" y="146"/>
                              </a:lnTo>
                              <a:lnTo>
                                <a:pt x="142" y="100"/>
                              </a:lnTo>
                              <a:lnTo>
                                <a:pt x="147" y="52"/>
                              </a:lnTo>
                              <a:lnTo>
                                <a:pt x="148" y="11"/>
                              </a:lnTo>
                              <a:lnTo>
                                <a:pt x="144" y="0"/>
                              </a:lnTo>
                              <a:lnTo>
                                <a:pt x="122" y="20"/>
                              </a:lnTo>
                              <a:lnTo>
                                <a:pt x="76" y="69"/>
                              </a:lnTo>
                              <a:lnTo>
                                <a:pt x="39" y="113"/>
                              </a:lnTo>
                              <a:lnTo>
                                <a:pt x="15" y="158"/>
                              </a:lnTo>
                              <a:lnTo>
                                <a:pt x="0" y="210"/>
                              </a:lnTo>
                            </a:path>
                          </a:pathLst>
                        </a:custGeom>
                        <a:solidFill>
                          <a:srgbClr val="ffd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6543360" y="127080"/>
                      <a:ext cx="2300400" cy="2930400"/>
                      <a:chOff x="6543360" y="127080"/>
                      <a:chExt cx="2300400" cy="293040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6967440" y="338040"/>
                        <a:ext cx="117360" cy="12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81">
                            <a:moveTo>
                              <a:pt x="73" y="4"/>
                            </a:moveTo>
                            <a:lnTo>
                              <a:pt x="56" y="0"/>
                            </a:lnTo>
                            <a:lnTo>
                              <a:pt x="35" y="12"/>
                            </a:lnTo>
                            <a:lnTo>
                              <a:pt x="18" y="29"/>
                            </a:lnTo>
                            <a:lnTo>
                              <a:pt x="8" y="52"/>
                            </a:lnTo>
                            <a:lnTo>
                              <a:pt x="0" y="80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054560" y="371520"/>
                        <a:ext cx="59040" cy="21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135">
                            <a:moveTo>
                              <a:pt x="32" y="0"/>
                            </a:moveTo>
                            <a:lnTo>
                              <a:pt x="36" y="38"/>
                            </a:lnTo>
                            <a:lnTo>
                              <a:pt x="32" y="78"/>
                            </a:lnTo>
                            <a:lnTo>
                              <a:pt x="19" y="109"/>
                            </a:lnTo>
                            <a:lnTo>
                              <a:pt x="0" y="134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2" name=""/>
                      <p:cNvGrpSpPr/>
                      <p:nvPr/>
                    </p:nvGrpSpPr>
                    <p:grpSpPr>
                      <a:xfrm>
                        <a:off x="6543360" y="127080"/>
                        <a:ext cx="2300400" cy="2930400"/>
                        <a:chOff x="6543360" y="127080"/>
                        <a:chExt cx="2300400" cy="2930400"/>
                      </a:xfrm>
                    </p:grpSpPr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8804160" y="2320920"/>
                          <a:ext cx="39600" cy="73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" h="464">
                              <a:moveTo>
                                <a:pt x="13" y="0"/>
                              </a:moveTo>
                              <a:lnTo>
                                <a:pt x="5" y="105"/>
                              </a:lnTo>
                              <a:lnTo>
                                <a:pt x="0" y="216"/>
                              </a:lnTo>
                              <a:lnTo>
                                <a:pt x="8" y="347"/>
                              </a:lnTo>
                              <a:lnTo>
                                <a:pt x="24" y="463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8248680" y="865080"/>
                          <a:ext cx="377640" cy="208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8" h="1316">
                              <a:moveTo>
                                <a:pt x="0" y="0"/>
                              </a:moveTo>
                              <a:lnTo>
                                <a:pt x="30" y="128"/>
                              </a:lnTo>
                              <a:lnTo>
                                <a:pt x="51" y="222"/>
                              </a:lnTo>
                              <a:lnTo>
                                <a:pt x="74" y="296"/>
                              </a:lnTo>
                              <a:lnTo>
                                <a:pt x="104" y="378"/>
                              </a:lnTo>
                              <a:lnTo>
                                <a:pt x="131" y="452"/>
                              </a:lnTo>
                              <a:lnTo>
                                <a:pt x="166" y="542"/>
                              </a:lnTo>
                              <a:lnTo>
                                <a:pt x="209" y="645"/>
                              </a:lnTo>
                              <a:lnTo>
                                <a:pt x="223" y="739"/>
                              </a:lnTo>
                              <a:lnTo>
                                <a:pt x="216" y="818"/>
                              </a:lnTo>
                              <a:lnTo>
                                <a:pt x="211" y="888"/>
                              </a:lnTo>
                              <a:lnTo>
                                <a:pt x="211" y="996"/>
                              </a:lnTo>
                              <a:lnTo>
                                <a:pt x="219" y="1105"/>
                              </a:lnTo>
                              <a:lnTo>
                                <a:pt x="236" y="1206"/>
                              </a:lnTo>
                              <a:lnTo>
                                <a:pt x="237" y="1315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8040600" y="2541600"/>
                          <a:ext cx="69840" cy="422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" h="266">
                              <a:moveTo>
                                <a:pt x="0" y="0"/>
                              </a:moveTo>
                              <a:lnTo>
                                <a:pt x="28" y="159"/>
                              </a:lnTo>
                              <a:lnTo>
                                <a:pt x="43" y="265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999120" y="353880"/>
                          <a:ext cx="95400" cy="214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" h="135">
                              <a:moveTo>
                                <a:pt x="59" y="0"/>
                              </a:moveTo>
                              <a:lnTo>
                                <a:pt x="55" y="31"/>
                              </a:lnTo>
                              <a:lnTo>
                                <a:pt x="49" y="56"/>
                              </a:lnTo>
                              <a:lnTo>
                                <a:pt x="38" y="76"/>
                              </a:lnTo>
                              <a:lnTo>
                                <a:pt x="25" y="93"/>
                              </a:lnTo>
                              <a:lnTo>
                                <a:pt x="9" y="110"/>
                              </a:lnTo>
                              <a:lnTo>
                                <a:pt x="0" y="134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7711920" y="191880"/>
                          <a:ext cx="117360" cy="13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85">
                              <a:moveTo>
                                <a:pt x="73" y="0"/>
                              </a:moveTo>
                              <a:lnTo>
                                <a:pt x="47" y="16"/>
                              </a:lnTo>
                              <a:lnTo>
                                <a:pt x="30" y="30"/>
                              </a:lnTo>
                              <a:lnTo>
                                <a:pt x="13" y="54"/>
                              </a:lnTo>
                              <a:lnTo>
                                <a:pt x="0" y="84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7843680" y="217440"/>
                          <a:ext cx="52560" cy="233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47">
                              <a:moveTo>
                                <a:pt x="29" y="0"/>
                              </a:moveTo>
                              <a:lnTo>
                                <a:pt x="32" y="29"/>
                              </a:lnTo>
                              <a:lnTo>
                                <a:pt x="31" y="58"/>
                              </a:lnTo>
                              <a:lnTo>
                                <a:pt x="24" y="88"/>
                              </a:lnTo>
                              <a:lnTo>
                                <a:pt x="12" y="118"/>
                              </a:lnTo>
                              <a:lnTo>
                                <a:pt x="0" y="146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>
                          <a:off x="7267320" y="619200"/>
                          <a:ext cx="755640" cy="18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6" h="1148">
                              <a:moveTo>
                                <a:pt x="0" y="0"/>
                              </a:moveTo>
                              <a:lnTo>
                                <a:pt x="25" y="38"/>
                              </a:lnTo>
                              <a:lnTo>
                                <a:pt x="50" y="91"/>
                              </a:lnTo>
                              <a:lnTo>
                                <a:pt x="66" y="129"/>
                              </a:lnTo>
                              <a:lnTo>
                                <a:pt x="90" y="169"/>
                              </a:lnTo>
                              <a:lnTo>
                                <a:pt x="114" y="211"/>
                              </a:lnTo>
                              <a:lnTo>
                                <a:pt x="134" y="253"/>
                              </a:lnTo>
                              <a:lnTo>
                                <a:pt x="157" y="310"/>
                              </a:lnTo>
                              <a:lnTo>
                                <a:pt x="188" y="355"/>
                              </a:lnTo>
                              <a:lnTo>
                                <a:pt x="208" y="401"/>
                              </a:lnTo>
                              <a:lnTo>
                                <a:pt x="231" y="455"/>
                              </a:lnTo>
                              <a:lnTo>
                                <a:pt x="252" y="515"/>
                              </a:lnTo>
                              <a:lnTo>
                                <a:pt x="272" y="575"/>
                              </a:lnTo>
                              <a:lnTo>
                                <a:pt x="301" y="637"/>
                              </a:lnTo>
                              <a:lnTo>
                                <a:pt x="333" y="693"/>
                              </a:lnTo>
                              <a:lnTo>
                                <a:pt x="372" y="755"/>
                              </a:lnTo>
                              <a:lnTo>
                                <a:pt x="415" y="805"/>
                              </a:lnTo>
                              <a:lnTo>
                                <a:pt x="450" y="866"/>
                              </a:lnTo>
                              <a:lnTo>
                                <a:pt x="462" y="953"/>
                              </a:lnTo>
                              <a:lnTo>
                                <a:pt x="461" y="1054"/>
                              </a:lnTo>
                              <a:lnTo>
                                <a:pt x="475" y="1147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>
                          <a:off x="7534080" y="801720"/>
                          <a:ext cx="34920" cy="32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" h="204">
                              <a:moveTo>
                                <a:pt x="5" y="203"/>
                              </a:moveTo>
                              <a:lnTo>
                                <a:pt x="0" y="117"/>
                              </a:lnTo>
                              <a:lnTo>
                                <a:pt x="7" y="51"/>
                              </a:lnTo>
                              <a:lnTo>
                                <a:pt x="21" y="0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6543360" y="127080"/>
                          <a:ext cx="133560" cy="22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4" h="144">
                              <a:moveTo>
                                <a:pt x="83" y="0"/>
                              </a:moveTo>
                              <a:lnTo>
                                <a:pt x="51" y="27"/>
                              </a:lnTo>
                              <a:lnTo>
                                <a:pt x="30" y="58"/>
                              </a:lnTo>
                              <a:lnTo>
                                <a:pt x="15" y="94"/>
                              </a:lnTo>
                              <a:lnTo>
                                <a:pt x="0" y="143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262" name=""/>
              <p:cNvSpPr/>
              <p:nvPr/>
            </p:nvSpPr>
            <p:spPr>
              <a:xfrm>
                <a:off x="7414920" y="922320"/>
                <a:ext cx="339840" cy="736560"/>
              </a:xfrm>
              <a:custGeom>
                <a:avLst/>
                <a:gdLst/>
                <a:ahLst/>
                <a:rect l="l" t="t" r="r" b="b"/>
                <a:pathLst>
                  <a:path w="214" h="464">
                    <a:moveTo>
                      <a:pt x="0" y="0"/>
                    </a:moveTo>
                    <a:lnTo>
                      <a:pt x="37" y="64"/>
                    </a:lnTo>
                    <a:lnTo>
                      <a:pt x="52" y="97"/>
                    </a:lnTo>
                    <a:lnTo>
                      <a:pt x="79" y="139"/>
                    </a:lnTo>
                    <a:lnTo>
                      <a:pt x="95" y="175"/>
                    </a:lnTo>
                    <a:lnTo>
                      <a:pt x="116" y="212"/>
                    </a:lnTo>
                    <a:lnTo>
                      <a:pt x="142" y="279"/>
                    </a:lnTo>
                    <a:lnTo>
                      <a:pt x="161" y="348"/>
                    </a:lnTo>
                    <a:lnTo>
                      <a:pt x="176" y="387"/>
                    </a:lnTo>
                    <a:lnTo>
                      <a:pt x="198" y="428"/>
                    </a:lnTo>
                    <a:lnTo>
                      <a:pt x="213" y="463"/>
                    </a:lnTo>
                    <a:lnTo>
                      <a:pt x="193" y="395"/>
                    </a:lnTo>
                    <a:lnTo>
                      <a:pt x="175" y="348"/>
                    </a:lnTo>
                    <a:lnTo>
                      <a:pt x="157" y="289"/>
                    </a:lnTo>
                    <a:lnTo>
                      <a:pt x="144" y="237"/>
                    </a:lnTo>
                    <a:lnTo>
                      <a:pt x="129" y="200"/>
                    </a:lnTo>
                    <a:lnTo>
                      <a:pt x="104" y="165"/>
                    </a:lnTo>
                    <a:lnTo>
                      <a:pt x="89" y="128"/>
                    </a:lnTo>
                    <a:lnTo>
                      <a:pt x="79" y="91"/>
                    </a:lnTo>
                    <a:lnTo>
                      <a:pt x="68" y="58"/>
                    </a:lnTo>
                    <a:lnTo>
                      <a:pt x="51" y="38"/>
                    </a:lnTo>
                    <a:lnTo>
                      <a:pt x="29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1067040" y="4648320"/>
            <a:ext cx="784836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Perguntas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639BD-1A83-47FC-AB95-8E537D74CB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o - Or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iciativa do programa SPI – Software Process Improvement, baseado nas experiências do SEI através de trabalhos com o Governo Norte-Americano e outros clien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Tutorial foi desenvolvido e apresentado no Simpósio de Engenharia de Software, em 199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Guia -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 User’s Guide for Software Process Improvement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s the successor to th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Software Process Improvement Roadmap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- foi publicado em 1996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Guia é baseado em outros projetos do SE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CMM – Capability Maturity Mod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Software Process Assess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Software Capibility Evalu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Organization Capability Develop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Software Process Measur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Software Process Defini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17874-BB75-47A0-AFF1-1A457E940F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129440" cy="507024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395280" y="4221000"/>
            <a:ext cx="1873080" cy="1800360"/>
            <a:chOff x="395280" y="4221000"/>
            <a:chExt cx="1873080" cy="1800360"/>
          </a:xfrm>
        </p:grpSpPr>
        <p:sp>
          <p:nvSpPr>
            <p:cNvPr id="70" name=""/>
            <p:cNvSpPr/>
            <p:nvPr/>
          </p:nvSpPr>
          <p:spPr>
            <a:xfrm>
              <a:off x="395280" y="4221000"/>
              <a:ext cx="1871640" cy="180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32000" y="4221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5280" y="511956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93560" y="4508280"/>
            <a:ext cx="874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65200" y="5229360"/>
            <a:ext cx="874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6560" y="5229360"/>
            <a:ext cx="108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3200" y="4508640"/>
            <a:ext cx="87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75A8F-529E-4180-8AD2-23AC5D969A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Initiating -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sta fase a infra-estrutura inicial da melhoria é estabelecida, os papéis e as responsabilidades para esta infra-estrutura são inicialmente definidos, e os recursos inicias são atribuí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hecer o que impulsionou a mudanç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dentificar onde esta mudança se ajusta dentro do contexto organizac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pecificar a finalidade do negócio e os objetivos que serão realizados ou suport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dentificar impacto em outras iniciativas e no trabalho inici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segurar o suporte requerido para dar à mudança a possibilidade razoável de ser sucedi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justar sistemas organizacionais relevantes para suportar o esforç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abelecer uma infra-estrutura para específicos gerenciamentos de implement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2F980-7DFA-467B-B2A0-BE2074F46B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tímulo à Mudança do Processo de Softwa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inição do Contex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inição do Patrocinad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tabelecimento da infra-estrutura inicial para suporte da mudanç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Initiat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Ativ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048360" cy="1501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95640" y="5734080"/>
            <a:ext cx="1584360" cy="53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14C43-672E-4FDA-8F16-30184E6244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1:53:43Z</dcterms:created>
  <dc:creator>sandro</dc:creator>
  <dc:description/>
  <dc:language>en-US</dc:language>
  <cp:lastModifiedBy>sandro</cp:lastModifiedBy>
  <dcterms:modified xsi:type="dcterms:W3CDTF">2004-08-22T19:58:17Z</dcterms:modified>
  <cp:revision>268</cp:revision>
  <dc:subject/>
  <dc:title>Ambiente para Implantação de Processo de Software</dc:title>
</cp:coreProperties>
</file>