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EB6B-5A68-4BC4-A39E-BB7E591FA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nstruções (Builds) são os únicos tipos de estágio que ocorrem dentro da Fase de Início; nas outras fases elas são freqüentemente complementadas por Liberações e Entregas, juntamente com outro tipo de estágio, o Marco que indica um ponto no t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 Liberação é uma estágio que ocorre menos freqüentemente que uma construção. Nesta, o conteúdo de uma construção é lançada pela organização desenvolvedora para outra organização (ex. o cliente ou organização usuária) para avaliação ou u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a Entrega ocorre quando o usuário não só recebe o produto (ou protótipo) mas também, provavelmente experimentalmente, o coloca em serviço para avali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rcos são geralmente reconhecidos com “realizações”, isto é um momento para celebração de que alguma parte do esforço foi bem sucedida. Existem dois tipos de marcos: Marco de Negócio e Marco Técnic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a vez que o framework de processo tenha sido instanciado e colocado em efeito, uma descoberta típica é que alguém precisa executar algum ajuste-fino, costurando os componentes de processo instanciados, quando lições são aprendidas durante o desenvolvi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enhuma biblioteca de classes nunca pode estar totalmente completa. Devido as grandes diferenças entre projetos de desenvolvimento, novas classes de componentes de processo eventualmente serão necessária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 OPEN, uma Tarefa é definida como a menor unidade de trabalho que pode ser gerenciada e isto é essencialmente a mesma definição dada por Jacobson (1998) na qual a Atividade do RUP é “a unidade de trabalho que um trabalhador pode ser chamado a executa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É a primeira abordagem metodológica de 3ª-geração, domínio público, ciclo de vida completo, focada em processo, que foi projetada para o desenvolvimento de aplicações intensivas de software, particularmente OO e CB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PEN foi desenvolvida e é mantida por um consórcio sem fins lucrativos (OPEN Consortium), um grupo internacional de mais de 35 metodologistas, acadêmicos, vendedores de ferramentas CASE e desenvolve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PEN foi inicialmente criado pela consolidação dos métodos: MOSES, SOMA, Firesmith, Synthesis e mais recentemente aprimorado pelas idéias do estado da arte de BON, Ooram, UML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OPEN Process Framework (OPF) fornece uma biblioteca de classes coesa, de componentes predefinidos, que podem ser estendidos, instanciados e costurados (tailored) para uso em um projeto específ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bora existam muitas classes no OPF, elas geralmente reúnem-se em cinco grupos: Unidades de Trabalho, Produtos de Trabalho e Produtores com suporte de Estágios e Linguagens. Estas formam uma biblioteca de componentes para o OPEN a partir da qual instâncias individuais são selecionadas e colocadas juntas para criar uma instância específica do OPEN. Desde que você tenha selecionado estes componentes, você está certo que eles atendem completamente às suas necessidades. Ainda, a maneira que estes elementos são colocados juntos é também uma decisão sua. Se você desejar tirar vantagem de um modelo de ciclo de vida interativo, incremental e paralelo (IIP), então você usa as Assertions (Afrimações, Declarações) fornecidas para ordenar os elementos do processo de forma a expressar suas necessidades IIP. Por outro lado, se você prefere mais uma abordagem em cascata, então esta também é facilmente construída usando restrições mais severas de ordenação das Atividades, um tipo de Unidade de Trabalho. Atividades determinam o que precisa ser feito, os objetivos a serem alcançados, mas não como. Tarefas são igualmente definidas no que não no como, mas são mais específicas (granuladas). Atividades são geralmente descrições em larga escala do que é para ser feito. Elas são objetivos de longo alcance mas são difíceis de gerenciar por causa da sua duração potencial. Para gerenciar “o que”, uma descrição mais pura é necessária. Em gerência de projeto, uma Tarefa é a menor unidade de trabalho que pode ser avaliada como completa ou incompleta. Tarefas são dessa forma “trabalhos a serem feitos” em menor escala, associadas com cada das atividades no ciclo de vida. Mas tarefas não dizem “como” os trabalhos devem ser feitos. Este é o papel da Técnica. A técnica descreve em detalhes como nós podemos usar tecnologia de objetos, conceitos de orientação a objetos e anos de experiência de usuários para completar as Tarefas. Assim, elas podem ser completadas por um único desenvolvedor ou uma pequena equipe de desenvolvimento (Produtores), utilizando uma ou mais Técnicas (o como), em pouco tempo e pode ser julgada pelo gerente de projeto como completada (ou não completada). Quais destas atividades (e sub-atividades) você escolhe depende de um número de coisas com o tamanho do projeto, o nível de maturidade da organização e o aspecto de criticidade de segurança do sistema. Por exemplo, para pequenos projetos conduzidos por um pequeno número (1 ou 2) de pessoas, você provavelmente não terá um atividade de Planejamento de Projeto e mesmo a atividade de Engenharia de Requisitos pode estar ausente, particularmente se você, o desenvolvedor, também for o usuário de forma que os requisitos estão na sua cabeça. Assim, o foco no OPEN é a interação cooperativa entre indivíduos ou equipes (Produtores), as coisas que eles executam (Unidades de Trabalho) e as coisas que eles produzem (Produtos de Trabalho). Para uma organização de desenvolvimento de software, é geralmente para isto que eles são pagos, embora isto não seja possível sem os Produtores e algum conhecimento de como construir software (como é descrito nas várias Unidades de Trabal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a do trio principal, Estados e Linguagens fornecem apoio adicional. Os vários tipos de Estágios são usados para dar organização em larga escala, geralmente de tempo, para o processo de desenvolvimento. Linguagens naturais, linguagens de modelagem e linguagens de codificação são necessárias como “ferramentas” para ajudar a documentar muitos dos Produtos de Trabalho. OPEN suporta a notação UML, a notação OML e qualquer outra boa notação OO de sua escolha para documentar os Produtos de Trabalho que o processo OPEN produz.</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termo “ciclo de vida” é usado para descrever uma seqüência de fases que cobrem a extensão da existência temporal do que está sendo descrito. Assim, um ciclo de vida de desenvolvimento do projeto descreve a duração sobre a qual o projeto é concebido e construído. Por outro lado, o ciclo de vida do projeto inclui não só o ciclo de vida de desenvolvimento do projeto, mas se estende além deste, incluindo a duração do produto de software, uso e término quando o software torna-se redundante e não é mais us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uma escala maior do que ciclos de vida de projeto, existem ciclos relativos a programas que consideram múltiplos projetos. Assim, nós podemos descrever o ciclo de vida de programa como consistindo do somatório de todos os ciclos de vida de projeto mais uma Fase de Estratégia na qual planejamento de negócio de alto nível através de todos os projetos é conduz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PEN é útil não só para software mas também para modelagem de negócio na escala empresarial. Assim, OPEN descreve um tipo mais adiante de ciclo de vida, o ciclo de vida empresarial no qual modelagem de negócio e reengenharia de negócio ocor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DC553-E0ED-4946-B38E-C93DCBE57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8FB62-BAD8-41E1-9683-E657248D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B18E1-79B2-4804-8E4F-E609826C3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6D2F7-6937-4402-A8F2-EF7EC4FCF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342AB-A86D-4A41-9620-9D69EECE2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A5452-030F-4792-8684-947515724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EB52B-5494-4AB4-B764-7795E87ED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6A86A-D1F1-48B8-8891-EADB6EFCA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361FD-0938-43A0-B038-9AF56444C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95F2B-EF44-4C4E-BE1C-815011EF3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1AD56-6A0B-4217-B962-2BD63110D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2D2DF-CADD-4646-80F4-23BE8D499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69C1E-D0FE-4433-BB47-921C2BDB3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8BF9B-1989-4726-9F84-8F9EB5400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54F73-66F8-4896-93E8-261D34B5F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0AEA4-2C6F-424C-A76C-A0363F5FB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3775A-F098-4CB6-B54D-246BD2ED0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04145-8724-4983-AC34-C4DBBE4E1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0FF92-A44E-4E9A-8019-5524B46D3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A68D5-877C-446B-818B-2F5E289B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A29EF-F5DC-4F84-B621-20533B455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03B26-0618-45B2-9DF8-CF390B316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46C7-9B82-4063-8AAA-67CACE9AB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6FF9-C725-4882-B1BA-150FF4A20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7D04-B6F3-4E93-8700-3DE5D19E3A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AF39-6483-4B3E-A13B-B282CFEAB6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ailorabilityOPENxRUP.bmp" TargetMode="External"/><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open.org.au/"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file:///Using%20OPF.gif"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OPF.jpg" TargetMode="Externa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8000" y="304560"/>
            <a:ext cx="8945640" cy="19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3366"/>
                </a:solidFill>
                <a:latin typeface="Times New Roman"/>
              </a:rPr>
              <a:t>Universidade Federal de Pernambuco</a:t>
            </a:r>
            <a:br>
              <a:rPr sz="4000"/>
            </a:br>
            <a:r>
              <a:rPr b="0" lang="pt-BR" sz="4000" spc="-1" strike="noStrike">
                <a:solidFill>
                  <a:srgbClr val="003366"/>
                </a:solidFill>
                <a:latin typeface="Times New Roman"/>
              </a:rPr>
              <a:t>Centro de Informática</a:t>
            </a:r>
            <a:br>
              <a:rPr sz="4000"/>
            </a:br>
            <a:r>
              <a:rPr b="0" lang="pt-BR" sz="4000" spc="-1" strike="noStrike">
                <a:solidFill>
                  <a:srgbClr val="003366"/>
                </a:solidFill>
                <a:latin typeface="Times New Roman"/>
              </a:rPr>
              <a:t>Qualidade e Processo de Software</a:t>
            </a:r>
            <a:endParaRPr b="0" lang="en-US" sz="4000" spc="-1" strike="noStrike">
              <a:solidFill>
                <a:srgbClr val="003366"/>
              </a:solidFill>
              <a:latin typeface="Times New Roman"/>
            </a:endParaRPr>
          </a:p>
        </p:txBody>
      </p:sp>
      <p:sp>
        <p:nvSpPr>
          <p:cNvPr id="136" name="PlaceHolder 2"/>
          <p:cNvSpPr>
            <a:spLocks noGrp="1"/>
          </p:cNvSpPr>
          <p:nvPr>
            <p:ph type="subTitle"/>
          </p:nvPr>
        </p:nvSpPr>
        <p:spPr>
          <a:xfrm>
            <a:off x="380520" y="3886200"/>
            <a:ext cx="8458200" cy="137160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ff"/>
                </a:solidFill>
                <a:latin typeface="Arial"/>
              </a:rPr>
              <a:t>OPEN</a:t>
            </a:r>
            <a:endParaRPr b="0" lang="en-US" sz="4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a:t>
            </a:r>
            <a:r>
              <a:rPr b="0" i="1" lang="pt-BR" sz="3200" spc="-1" strike="noStrike">
                <a:solidFill>
                  <a:srgbClr val="000000"/>
                </a:solidFill>
                <a:latin typeface="Arial"/>
              </a:rPr>
              <a:t> Fábio Albuquerque</a:t>
            </a:r>
            <a:endParaRPr b="0" lang="en-US" sz="3200" spc="-1" strike="noStrike">
              <a:solidFill>
                <a:srgbClr val="000000"/>
              </a:solidFill>
              <a:latin typeface="Arial"/>
            </a:endParaRPr>
          </a:p>
        </p:txBody>
      </p:sp>
      <p:pic>
        <p:nvPicPr>
          <p:cNvPr id="137" name="" descr=""/>
          <p:cNvPicPr/>
          <p:nvPr/>
        </p:nvPicPr>
        <p:blipFill>
          <a:blip r:embed="rId1"/>
          <a:stretch/>
        </p:blipFill>
        <p:spPr>
          <a:xfrm>
            <a:off x="5867280" y="4191120"/>
            <a:ext cx="3143520" cy="25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Construções, Liberações, Entregas e Marcos</a:t>
            </a:r>
            <a:endParaRPr b="0" lang="en-US" sz="4400" spc="-1" strike="noStrike">
              <a:solidFill>
                <a:srgbClr val="003366"/>
              </a:solidFill>
              <a:latin typeface="Times New Roman"/>
            </a:endParaRPr>
          </a:p>
        </p:txBody>
      </p:sp>
      <p:pic>
        <p:nvPicPr>
          <p:cNvPr id="158" name="" descr=""/>
          <p:cNvPicPr/>
          <p:nvPr/>
        </p:nvPicPr>
        <p:blipFill>
          <a:blip r:embed="rId1"/>
          <a:stretch/>
        </p:blipFill>
        <p:spPr>
          <a:xfrm>
            <a:off x="1173240" y="2176560"/>
            <a:ext cx="7772400" cy="372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Fluxos de Trabalho</a:t>
            </a:r>
            <a:endParaRPr b="0" lang="en-US" sz="44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qüência de execução de tarefas contínuas, através da qual Produtores (papéis ou equipes) colaboram (são responsáveis por) para produzir um Produto de Trabalho</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xemplos de flux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pecificação de Requisitos de Siste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pecificação de Requisitos de Sof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ocumento de Arquitetura de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0">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60">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60">
                                            <p:txEl>
                                              <p:pRg st="3" end="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1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Uso do Framework</a:t>
            </a:r>
            <a:endParaRPr b="0" lang="en-US" sz="4400" spc="-1" strike="noStrike">
              <a:solidFill>
                <a:srgbClr val="003366"/>
              </a:solidFill>
              <a:latin typeface="Times New Roman"/>
            </a:endParaRPr>
          </a:p>
        </p:txBody>
      </p:sp>
      <p:sp>
        <p:nvSpPr>
          <p:cNvPr id="162" name="PlaceHolder 2"/>
          <p:cNvSpPr>
            <a:spLocks noGrp="1"/>
          </p:cNvSpPr>
          <p:nvPr>
            <p:ph/>
          </p:nvPr>
        </p:nvSpPr>
        <p:spPr>
          <a:xfrm>
            <a:off x="838080" y="1143000"/>
            <a:ext cx="8229600" cy="54100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stanciar a biblioteca de classes para produzir os componentes de proces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colher os melhores componentes de processo</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dutos de trabalho a desenvolv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dutores para desenvolver estes produtos de trabalh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nidades de trabalho a execut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o alocar tarefas e técnicas associadas aos produtor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o agrupar as tarefas em fluxos de trabalho, atividad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ágios do desenvolvimento que fornecerão uma organização completa para as unidades de trabalho</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sturar (tailoring) o detalhe fino dentro dos componentes de processo escolhid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ender a biblioteca de classes existente de componentes de processo predefini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62">
                                            <p:txEl>
                                              <p:pRg st="1" end="1"/>
                                            </p:txEl>
                                          </p:spTgt>
                                        </p:tgtEl>
                                        <p:attrNameLst>
                                          <p:attrName>style.visibility</p:attrName>
                                        </p:attrNameLst>
                                      </p:cBhvr>
                                      <p:to>
                                        <p:strVal val="visible"/>
                                      </p:to>
                                    </p:se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499"/>
                                          </p:stCondLst>
                                        </p:cTn>
                                        <p:tgtEl>
                                          <p:spTgt spid="162">
                                            <p:txEl>
                                              <p:pRg st="2" end="2"/>
                                            </p:txEl>
                                          </p:spTgt>
                                        </p:tgtEl>
                                        <p:attrNameLst>
                                          <p:attrName>style.visibility</p:attrName>
                                        </p:attrNameLst>
                                      </p:cBhvr>
                                      <p:to>
                                        <p:strVal val="visible"/>
                                      </p:to>
                                    </p:set>
                                  </p:childTnLst>
                                </p:cTn>
                              </p:par>
                            </p:childTnLst>
                          </p:cTn>
                        </p:par>
                        <p:par>
                          <p:cTn id="224" fill="hold">
                            <p:stCondLst>
                              <p:cond delay="1000"/>
                            </p:stCondLst>
                            <p:childTnLst>
                              <p:par>
                                <p:cTn id="225" nodeType="afterEffect" fill="hold" presetClass="entr" presetID="1">
                                  <p:stCondLst>
                                    <p:cond delay="0"/>
                                  </p:stCondLst>
                                  <p:childTnLst>
                                    <p:set>
                                      <p:cBhvr>
                                        <p:cTn id="226" dur="1" fill="hold">
                                          <p:stCondLst>
                                            <p:cond delay="499"/>
                                          </p:stCondLst>
                                        </p:cTn>
                                        <p:tgtEl>
                                          <p:spTgt spid="162">
                                            <p:txEl>
                                              <p:pRg st="3" end="3"/>
                                            </p:txEl>
                                          </p:spTgt>
                                        </p:tgtEl>
                                        <p:attrNameLst>
                                          <p:attrName>style.visibility</p:attrName>
                                        </p:attrNameLst>
                                      </p:cBhvr>
                                      <p:to>
                                        <p:strVal val="visible"/>
                                      </p:to>
                                    </p:set>
                                  </p:childTnLst>
                                </p:cTn>
                              </p:par>
                            </p:childTnLst>
                          </p:cTn>
                        </p:par>
                        <p:par>
                          <p:cTn id="227" fill="hold">
                            <p:stCondLst>
                              <p:cond delay="1500"/>
                            </p:stCondLst>
                            <p:childTnLst>
                              <p:par>
                                <p:cTn id="228" nodeType="afterEffect" fill="hold" presetClass="entr" presetID="1">
                                  <p:stCondLst>
                                    <p:cond delay="0"/>
                                  </p:stCondLst>
                                  <p:childTnLst>
                                    <p:set>
                                      <p:cBhvr>
                                        <p:cTn id="229" dur="1" fill="hold">
                                          <p:stCondLst>
                                            <p:cond delay="499"/>
                                          </p:stCondLst>
                                        </p:cTn>
                                        <p:tgtEl>
                                          <p:spTgt spid="162">
                                            <p:txEl>
                                              <p:pRg st="4" end="4"/>
                                            </p:txEl>
                                          </p:spTgt>
                                        </p:tgtEl>
                                        <p:attrNameLst>
                                          <p:attrName>style.visibility</p:attrName>
                                        </p:attrNameLst>
                                      </p:cBhvr>
                                      <p:to>
                                        <p:strVal val="visible"/>
                                      </p:to>
                                    </p:set>
                                  </p:childTnLst>
                                </p:cTn>
                              </p:par>
                            </p:childTnLst>
                          </p:cTn>
                        </p:par>
                        <p:par>
                          <p:cTn id="230" fill="hold">
                            <p:stCondLst>
                              <p:cond delay="2000"/>
                            </p:stCondLst>
                            <p:childTnLst>
                              <p:par>
                                <p:cTn id="231" nodeType="afterEffect" fill="hold" presetClass="entr" presetID="1">
                                  <p:stCondLst>
                                    <p:cond delay="0"/>
                                  </p:stCondLst>
                                  <p:childTnLst>
                                    <p:set>
                                      <p:cBhvr>
                                        <p:cTn id="232" dur="1" fill="hold">
                                          <p:stCondLst>
                                            <p:cond delay="499"/>
                                          </p:stCondLst>
                                        </p:cTn>
                                        <p:tgtEl>
                                          <p:spTgt spid="162">
                                            <p:txEl>
                                              <p:pRg st="5" end="5"/>
                                            </p:txEl>
                                          </p:spTgt>
                                        </p:tgtEl>
                                        <p:attrNameLst>
                                          <p:attrName>style.visibility</p:attrName>
                                        </p:attrNameLst>
                                      </p:cBhvr>
                                      <p:to>
                                        <p:strVal val="visible"/>
                                      </p:to>
                                    </p:set>
                                  </p:childTnLst>
                                </p:cTn>
                              </p:par>
                            </p:childTnLst>
                          </p:cTn>
                        </p:par>
                        <p:par>
                          <p:cTn id="233" fill="hold">
                            <p:stCondLst>
                              <p:cond delay="2500"/>
                            </p:stCondLst>
                            <p:childTnLst>
                              <p:par>
                                <p:cTn id="234" nodeType="afterEffect" fill="hold" presetClass="entr" presetID="1">
                                  <p:stCondLst>
                                    <p:cond delay="0"/>
                                  </p:stCondLst>
                                  <p:childTnLst>
                                    <p:set>
                                      <p:cBhvr>
                                        <p:cTn id="235" dur="1" fill="hold">
                                          <p:stCondLst>
                                            <p:cond delay="499"/>
                                          </p:stCondLst>
                                        </p:cTn>
                                        <p:tgtEl>
                                          <p:spTgt spid="162">
                                            <p:txEl>
                                              <p:pRg st="6" end="6"/>
                                            </p:txEl>
                                          </p:spTgt>
                                        </p:tgtEl>
                                        <p:attrNameLst>
                                          <p:attrName>style.visibility</p:attrName>
                                        </p:attrNameLst>
                                      </p:cBhvr>
                                      <p:to>
                                        <p:strVal val="visible"/>
                                      </p:to>
                                    </p:set>
                                  </p:childTnLst>
                                </p:cTn>
                              </p:par>
                            </p:childTnLst>
                          </p:cTn>
                        </p:par>
                        <p:par>
                          <p:cTn id="236" fill="hold">
                            <p:stCondLst>
                              <p:cond delay="3000"/>
                            </p:stCondLst>
                            <p:childTnLst>
                              <p:par>
                                <p:cTn id="237" nodeType="afterEffect" fill="hold" presetClass="entr" presetID="1">
                                  <p:stCondLst>
                                    <p:cond delay="0"/>
                                  </p:stCondLst>
                                  <p:childTnLst>
                                    <p:set>
                                      <p:cBhvr>
                                        <p:cTn id="238" dur="1" fill="hold">
                                          <p:stCondLst>
                                            <p:cond delay="499"/>
                                          </p:stCondLst>
                                        </p:cTn>
                                        <p:tgtEl>
                                          <p:spTgt spid="162">
                                            <p:txEl>
                                              <p:pRg st="7" end="7"/>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62">
                                            <p:txEl>
                                              <p:pRg st="8" end="8"/>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6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3366"/>
                </a:solidFill>
                <a:latin typeface="Times New Roman"/>
              </a:rPr>
              <a:t>OPEN e RUP: Uma comparação </a:t>
            </a:r>
            <a:r>
              <a:rPr b="0" lang="pt-BR" sz="4000" spc="-1" strike="noStrike" u="sng">
                <a:solidFill>
                  <a:srgbClr val="99ccff"/>
                </a:solidFill>
                <a:uFillTx/>
                <a:latin typeface="Times New Roman"/>
                <a:hlinkClick r:id="rId1"/>
              </a:rPr>
              <a:t>(...)</a:t>
            </a:r>
            <a:endParaRPr b="0" lang="en-US" sz="4000" spc="-1" strike="noStrike">
              <a:solidFill>
                <a:srgbClr val="003366"/>
              </a:solidFill>
              <a:latin typeface="Times New Roman"/>
            </a:endParaRPr>
          </a:p>
        </p:txBody>
      </p:sp>
      <p:graphicFrame>
        <p:nvGraphicFramePr>
          <p:cNvPr id="164" name=""/>
          <p:cNvGraphicFramePr/>
          <p:nvPr/>
        </p:nvGraphicFramePr>
        <p:xfrm>
          <a:off x="1173240" y="2286000"/>
          <a:ext cx="7772400" cy="3306600"/>
        </p:xfrm>
        <a:graphic>
          <a:graphicData uri="http://schemas.openxmlformats.org/presentationml/2006/ole">
            <p:oleObj r:id="rId2" spid="">
              <p:embed/>
              <p:pic>
                <p:nvPicPr>
                  <p:cNvPr id="165" name="" descr=""/>
                  <p:cNvPicPr/>
                  <p:nvPr/>
                </p:nvPicPr>
                <p:blipFill>
                  <a:blip r:embed="rId3"/>
                  <a:stretch/>
                </p:blipFill>
                <p:spPr>
                  <a:xfrm>
                    <a:off x="1173240" y="2286000"/>
                    <a:ext cx="7772400" cy="330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OPEN e RUP: Terminologia</a:t>
            </a:r>
            <a:endParaRPr b="0" lang="en-US" sz="4400" spc="-1" strike="noStrike">
              <a:solidFill>
                <a:srgbClr val="003366"/>
              </a:solidFill>
              <a:latin typeface="Times New Roman"/>
            </a:endParaRPr>
          </a:p>
        </p:txBody>
      </p:sp>
      <p:graphicFrame>
        <p:nvGraphicFramePr>
          <p:cNvPr id="167" name=""/>
          <p:cNvGraphicFramePr/>
          <p:nvPr/>
        </p:nvGraphicFramePr>
        <p:xfrm>
          <a:off x="1173240" y="2133720"/>
          <a:ext cx="7772400" cy="3306600"/>
        </p:xfrm>
        <a:graphic>
          <a:graphicData uri="http://schemas.openxmlformats.org/presentationml/2006/ole">
            <p:oleObj r:id="rId1" spid="">
              <p:embed/>
              <p:pic>
                <p:nvPicPr>
                  <p:cNvPr id="168" name="" descr=""/>
                  <p:cNvPicPr/>
                  <p:nvPr/>
                </p:nvPicPr>
                <p:blipFill>
                  <a:blip r:embed="rId2"/>
                  <a:stretch/>
                </p:blipFill>
                <p:spPr>
                  <a:xfrm>
                    <a:off x="1173240" y="2133720"/>
                    <a:ext cx="7772400" cy="330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OPEN e RUP: Mapeamento</a:t>
            </a:r>
            <a:endParaRPr b="0" lang="en-US" sz="4400" spc="-1" strike="noStrike">
              <a:solidFill>
                <a:srgbClr val="003366"/>
              </a:solidFill>
              <a:latin typeface="Times New Roman"/>
            </a:endParaRPr>
          </a:p>
        </p:txBody>
      </p:sp>
      <p:graphicFrame>
        <p:nvGraphicFramePr>
          <p:cNvPr id="170" name=""/>
          <p:cNvGraphicFramePr/>
          <p:nvPr/>
        </p:nvGraphicFramePr>
        <p:xfrm>
          <a:off x="1116000" y="1946160"/>
          <a:ext cx="8028000" cy="4111920"/>
        </p:xfrm>
        <a:graphic>
          <a:graphicData uri="http://schemas.openxmlformats.org/presentationml/2006/ole">
            <p:oleObj r:id="rId1" spid="">
              <p:embed/>
              <p:pic>
                <p:nvPicPr>
                  <p:cNvPr id="171" name="" descr=""/>
                  <p:cNvPicPr/>
                  <p:nvPr/>
                </p:nvPicPr>
                <p:blipFill>
                  <a:blip r:embed="rId2"/>
                  <a:stretch/>
                </p:blipFill>
                <p:spPr>
                  <a:xfrm>
                    <a:off x="1116000" y="1946160"/>
                    <a:ext cx="8028000" cy="411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Publicações OPEN</a:t>
            </a:r>
            <a:endParaRPr b="0" lang="en-US" sz="4400" spc="-1" strike="noStrike">
              <a:solidFill>
                <a:srgbClr val="003366"/>
              </a:solidFill>
              <a:latin typeface="Times New Roman"/>
            </a:endParaRPr>
          </a:p>
        </p:txBody>
      </p:sp>
      <p:graphicFrame>
        <p:nvGraphicFramePr>
          <p:cNvPr id="173" name=""/>
          <p:cNvGraphicFramePr/>
          <p:nvPr/>
        </p:nvGraphicFramePr>
        <p:xfrm>
          <a:off x="1868400" y="2004840"/>
          <a:ext cx="6380280" cy="4067280"/>
        </p:xfrm>
        <a:graphic>
          <a:graphicData uri="http://schemas.openxmlformats.org/presentationml/2006/ole">
            <p:oleObj r:id="rId1" spid="">
              <p:embed/>
              <p:pic>
                <p:nvPicPr>
                  <p:cNvPr id="174" name="" descr=""/>
                  <p:cNvPicPr/>
                  <p:nvPr/>
                </p:nvPicPr>
                <p:blipFill>
                  <a:blip r:embed="rId2"/>
                  <a:stretch/>
                </p:blipFill>
                <p:spPr>
                  <a:xfrm>
                    <a:off x="1868400" y="2004840"/>
                    <a:ext cx="63802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Livros OPEN</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699920"/>
            <a:ext cx="7772400" cy="51577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PEN Process Framework. An Introduction" by Donald Firesmith and Brian Henderson-Sellers.</a:t>
            </a: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by Addison-Wesley in December 2001, ISBN 0-201-67510-2</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Modeling with UML" by Brian Henderson-Sellers and Bhuvan Unhelkar.</a:t>
            </a: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by Addison-Wesley in July 2000, ISBN 0-201-67512-9</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PEN Toolbox of Techniques" by Brian Henderson-Sellers, Tony Simons and Houman Younessi.</a:t>
            </a: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by Addison-Wesley in September 1998, ISBN 0-201-33134-9.</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ing a Complete Java Application using OPEN" by Don Firesmith, Scott Krutsch, Marshall Stowe and Greg Hendley.</a:t>
            </a: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by Addison-Wesley in 1998, ISBN 0-201-34277-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PEN Process Specification" by Ian Graham, Brian Henderson-Sellers and Houman Younessi.</a:t>
            </a: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by Addison-Wesley in October 1997, ISBN 0-201-33133-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ML Reference Manual" by Don Firesmith, Brian Henderson-Sellers and Ian Graham.</a:t>
            </a:r>
            <a:endParaRPr b="0" lang="en-US" sz="1400" spc="-1" strike="noStrike">
              <a:solidFill>
                <a:srgbClr val="000000"/>
              </a:solidFill>
              <a:latin typeface="Arial"/>
            </a:endParaRPr>
          </a:p>
          <a:p>
            <a:pPr marL="343080" indent="-343080">
              <a:lnSpc>
                <a:spcPct val="8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by SIGS Books, NY, in March 1997, ISBN 1-884842-75-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Bibliografia</a:t>
            </a:r>
            <a:endParaRPr b="0" lang="en-US" sz="4400" spc="-1" strike="noStrike">
              <a:solidFill>
                <a:srgbClr val="003366"/>
              </a:solidFill>
              <a:latin typeface="Times New Roman"/>
            </a:endParaRPr>
          </a:p>
        </p:txBody>
      </p:sp>
      <p:sp>
        <p:nvSpPr>
          <p:cNvPr id="178" name="PlaceHolder 2"/>
          <p:cNvSpPr>
            <a:spLocks noGrp="1"/>
          </p:cNvSpPr>
          <p:nvPr>
            <p:ph/>
          </p:nvPr>
        </p:nvSpPr>
        <p:spPr>
          <a:xfrm>
            <a:off x="914040" y="1981080"/>
            <a:ext cx="803124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N Process Specification" by Ian Graham, Brian Henderson-Sellers and Houman Youness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d by Addison-Wesley in October 1997, ISBN 0-201-33133-0.</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PEN Website at </a:t>
            </a:r>
            <a:r>
              <a:rPr b="0" lang="pt-BR" sz="2800" spc="-1" strike="noStrike" u="sng">
                <a:solidFill>
                  <a:srgbClr val="99ccff"/>
                </a:solidFill>
                <a:uFillTx/>
                <a:latin typeface="Arial"/>
                <a:hlinkClick r:id="rId1"/>
              </a:rPr>
              <a:t>www.open.org.au</a:t>
            </a:r>
            <a:endParaRPr b="0" lang="en-US" sz="28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 Critique of RUP and OPEN from a PM persp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12400" y="304560"/>
            <a:ext cx="7954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O que é OPEN?</a:t>
            </a:r>
            <a:endParaRPr b="0" lang="en-US" sz="4400" spc="-1" strike="noStrike">
              <a:solidFill>
                <a:srgbClr val="003366"/>
              </a:solidFill>
              <a:latin typeface="Times New Roman"/>
            </a:endParaRPr>
          </a:p>
        </p:txBody>
      </p:sp>
      <p:sp>
        <p:nvSpPr>
          <p:cNvPr id="139" name="PlaceHolder 2"/>
          <p:cNvSpPr>
            <a:spLocks noGrp="1"/>
          </p:cNvSpPr>
          <p:nvPr>
            <p:ph/>
          </p:nvPr>
        </p:nvSpPr>
        <p:spPr>
          <a:xfrm>
            <a:off x="1143000" y="159984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bject-oriented Process, Environment, and Nota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ª abordagem metodológica de 3ª geração</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omínio público</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iclo de vida completo</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cado em processo</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jetada para o desenvolvimento de aplicações intensivas de software, particularmente OO e CBD</a:t>
            </a:r>
            <a:endParaRPr b="0" lang="en-US" sz="2400" spc="-1" strike="noStrike">
              <a:solidFill>
                <a:srgbClr val="000000"/>
              </a:solidFill>
              <a:latin typeface="Arial"/>
            </a:endParaRPr>
          </a:p>
          <a:p>
            <a:pPr marL="339480" indent="-3394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rigem</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N Consortium (final de 1994)</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SES, SOMA, Firesmith, Synthesi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lhorias a partir de: BON, Ooram, U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9">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9">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Framework de Processo</a:t>
            </a:r>
            <a:endParaRPr b="0" lang="en-US" sz="4400" spc="-1" strike="noStrike">
              <a:solidFill>
                <a:srgbClr val="003366"/>
              </a:solidFill>
              <a:latin typeface="Times New Roman"/>
            </a:endParaRPr>
          </a:p>
        </p:txBody>
      </p:sp>
      <p:sp>
        <p:nvSpPr>
          <p:cNvPr id="141" name="PlaceHolder 2"/>
          <p:cNvSpPr>
            <a:spLocks noGrp="1"/>
          </p:cNvSpPr>
          <p:nvPr>
            <p:ph/>
          </p:nvPr>
        </p:nvSpPr>
        <p:spPr>
          <a:xfrm>
            <a:off x="114300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PEN é definido como um framework de processo, conhecido como OPEN Process Framework (OP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um meta-modelo de processo a partir do qual pode ser gerado um processo específico de forma organizada (instânc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ão pode ser usado com é!</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ser instanciado primeir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 então, o processo resultante criado para atender as necessidades de um esforço (endeavour) específico </a:t>
            </a:r>
            <a:r>
              <a:rPr b="0" lang="pt-BR" sz="2400" spc="-1" strike="noStrike" u="sng">
                <a:solidFill>
                  <a:srgbClr val="99ccff"/>
                </a:solidFill>
                <a:uFillTx/>
                <a:latin typeface="Arial"/>
                <a:hlinkClick r:id="rId1"/>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Flexibilidade do OPEN</a:t>
            </a: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de ser visto como uma família de processo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abordagem metodológica componentizada, altamente flexível</a:t>
            </a:r>
            <a:endParaRPr b="0" lang="en-US" sz="2400" spc="-1" strike="noStrike">
              <a:solidFill>
                <a:srgbClr val="000000"/>
              </a:solidFill>
              <a:latin typeface="Arial"/>
            </a:endParaRPr>
          </a:p>
          <a:p>
            <a:pPr marL="339480" indent="-3394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 processo OPEN pode ser costurado (tailored)</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adaptar-se a domínios específicos ou projetos individuai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evando em consideraçã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dades pessoai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ultura organizacional</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ecessidades peculiares a cada domínio da indust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43">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43">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43">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Flexibilidade do OPEN (cont.)</a:t>
            </a:r>
            <a:endParaRPr b="0" lang="en-US" sz="4400" spc="-1" strike="noStrike">
              <a:solidFill>
                <a:srgbClr val="003366"/>
              </a:solidFill>
              <a:latin typeface="Times New Roman"/>
            </a:endParaRPr>
          </a:p>
        </p:txBody>
      </p:sp>
      <p:sp>
        <p:nvSpPr>
          <p:cNvPr id="1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de ser usado em qualquer projet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equen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ran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issão crític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empo de vida curt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ta qualidade</a:t>
            </a:r>
            <a:endParaRPr b="0" lang="en-US" sz="28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as, não com a mesma instância de pro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Suporte do OPEN</a:t>
            </a: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523880"/>
            <a:ext cx="7772400" cy="518184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bordagem guiad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so de uso, responsabilidade, documento, etc.</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iclo de vida completo de uma aplicação de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rência de projeto e reuso embuti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delagem de processo de negóc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uidelines em estratégias de migraçã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k para questões de relacionamento pessoal</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ocupação princip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lidade do software (links CMM e OOSP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so de métr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47">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47">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47">
                                            <p:txEl>
                                              <p:pRg st="6" end="6"/>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47">
                                            <p:txEl>
                                              <p:pRg st="7" end="7"/>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47">
                                            <p:txEl>
                                              <p:pRg st="8" end="8"/>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Componentes do OPF </a:t>
            </a:r>
            <a:r>
              <a:rPr b="0" lang="pt-BR" sz="4400" spc="-1" strike="noStrike" u="sng">
                <a:solidFill>
                  <a:srgbClr val="99ccff"/>
                </a:solidFill>
                <a:uFillTx/>
                <a:latin typeface="Times New Roman"/>
                <a:hlinkClick r:id="rId1"/>
              </a:rPr>
              <a:t>(...)</a:t>
            </a:r>
            <a:endParaRPr b="0" lang="en-US" sz="4400" spc="-1" strike="noStrike">
              <a:solidFill>
                <a:srgbClr val="003366"/>
              </a:solidFill>
              <a:latin typeface="Times New Roman"/>
            </a:endParaRPr>
          </a:p>
        </p:txBody>
      </p:sp>
      <p:graphicFrame>
        <p:nvGraphicFramePr>
          <p:cNvPr id="149" name=""/>
          <p:cNvGraphicFramePr/>
          <p:nvPr/>
        </p:nvGraphicFramePr>
        <p:xfrm>
          <a:off x="1219320" y="1528920"/>
          <a:ext cx="7619760" cy="5057640"/>
        </p:xfrm>
        <a:graphic>
          <a:graphicData uri="http://schemas.openxmlformats.org/presentationml/2006/ole">
            <p:oleObj r:id="rId2" spid="">
              <p:embed/>
              <p:pic>
                <p:nvPicPr>
                  <p:cNvPr id="150" name="" descr=""/>
                  <p:cNvPicPr/>
                  <p:nvPr/>
                </p:nvPicPr>
                <p:blipFill>
                  <a:blip r:embed="rId3"/>
                  <a:stretch/>
                </p:blipFill>
                <p:spPr>
                  <a:xfrm>
                    <a:off x="1219320" y="1528920"/>
                    <a:ext cx="7619760" cy="505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Stages</a:t>
            </a:r>
            <a:endParaRPr b="0" lang="en-US" sz="4400" spc="-1" strike="noStrike">
              <a:solidFill>
                <a:srgbClr val="003366"/>
              </a:solidFill>
              <a:latin typeface="Times New Roman"/>
            </a:endParaRPr>
          </a:p>
        </p:txBody>
      </p:sp>
      <p:sp>
        <p:nvSpPr>
          <p:cNvPr id="152" name="PlaceHolder 2"/>
          <p:cNvSpPr>
            <a:spLocks noGrp="1"/>
          </p:cNvSpPr>
          <p:nvPr>
            <p:ph/>
          </p:nvPr>
        </p:nvSpPr>
        <p:spPr>
          <a:xfrm>
            <a:off x="838080" y="1066680"/>
            <a:ext cx="8305920" cy="563904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Fornecem uma macro organização para as Work Uni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ágio com duração: É uma duração gerenciada e formalmente identificada</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iclo (Cyc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ase (Phas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luxo de Trabalho (Workflow)</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jeto (Projec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trução (Buil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beração (Releas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trega (Deployment)</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ágio instantâneo: É um ponto no tempo</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arco (Milest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52">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52">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52">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52">
                                            <p:txEl>
                                              <p:pRg st="6" end="6"/>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52">
                                            <p:txEl>
                                              <p:pRg st="7" end="7"/>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52">
                                            <p:txEl>
                                              <p:pRg st="8" end="8"/>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52">
                                            <p:txEl>
                                              <p:pRg st="9" end="9"/>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5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Ciclos, Fases e Projetos</a:t>
            </a:r>
            <a:endParaRPr b="0" lang="en-US" sz="4400" spc="-1" strike="noStrike">
              <a:solidFill>
                <a:srgbClr val="003366"/>
              </a:solidFill>
              <a:latin typeface="Times New Roman"/>
            </a:endParaRPr>
          </a:p>
        </p:txBody>
      </p:sp>
      <p:sp>
        <p:nvSpPr>
          <p:cNvPr id="154" name="PlaceHolder 2"/>
          <p:cNvSpPr>
            <a:spLocks noGrp="1"/>
          </p:cNvSpPr>
          <p:nvPr>
            <p:ph/>
          </p:nvPr>
        </p:nvSpPr>
        <p:spPr>
          <a:xfrm>
            <a:off x="1143000" y="1447560"/>
            <a:ext cx="7772400" cy="2057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iclo de Vi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qüência de fases que cobrem a extensão da existência temporal do que está sendo descrito</a:t>
            </a:r>
            <a:endParaRPr b="0" lang="en-US" sz="2800" spc="-1" strike="noStrike">
              <a:solidFill>
                <a:srgbClr val="000000"/>
              </a:solidFill>
              <a:latin typeface="Arial"/>
            </a:endParaRPr>
          </a:p>
        </p:txBody>
      </p:sp>
      <p:graphicFrame>
        <p:nvGraphicFramePr>
          <p:cNvPr id="155" name=""/>
          <p:cNvGraphicFramePr/>
          <p:nvPr/>
        </p:nvGraphicFramePr>
        <p:xfrm>
          <a:off x="1295280" y="3733920"/>
          <a:ext cx="7543800" cy="2665440"/>
        </p:xfrm>
        <a:graphic>
          <a:graphicData uri="http://schemas.openxmlformats.org/presentationml/2006/ole">
            <p:oleObj r:id="rId1" spid="">
              <p:embed/>
              <p:pic>
                <p:nvPicPr>
                  <p:cNvPr id="156" name="" descr=""/>
                  <p:cNvPicPr/>
                  <p:nvPr/>
                </p:nvPicPr>
                <p:blipFill>
                  <a:blip r:embed="rId2"/>
                  <a:stretch/>
                </p:blipFill>
                <p:spPr>
                  <a:xfrm>
                    <a:off x="1295280" y="3733920"/>
                    <a:ext cx="7543800" cy="2665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4">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9T23:32:40Z</dcterms:created>
  <dc:creator>Carlos Alberto de A. Silva</dc:creator>
  <dc:description/>
  <dc:language>en-US</dc:language>
  <cp:lastModifiedBy>fabioa</cp:lastModifiedBy>
  <dcterms:modified xsi:type="dcterms:W3CDTF">2004-07-05T12:14:27Z</dcterms:modified>
  <cp:revision>114</cp:revision>
  <dc:subject/>
  <dc:title>Universidade Federal de Pernambuco Centro de Informática Projeto Conceitual de Banco de Dados</dc:title>
</cp:coreProperties>
</file>