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667560" cy="9774360"/>
          </a:xfrm>
          <a:custGeom>
            <a:avLst/>
            <a:gdLst>
              <a:gd name="textAreaLeft" fmla="*/ 360 w 6667560"/>
              <a:gd name="textAreaRight" fmla="*/ 6667200 w 666756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1664">
                <a:moveTo>
                  <a:pt x="5" y="0"/>
                </a:moveTo>
                <a:arcTo wR="5" hR="5" stAng="16200000" swAng="-5400000"/>
                <a:lnTo>
                  <a:pt x="0" y="31659"/>
                </a:lnTo>
                <a:arcTo wR="5" hR="5" stAng="10800000" swAng="-5400000"/>
                <a:lnTo>
                  <a:pt x="21595" y="316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665760" cy="9772560"/>
          </a:xfrm>
          <a:custGeom>
            <a:avLst/>
            <a:gdLst>
              <a:gd name="textAreaLeft" fmla="*/ 360 w 6665760"/>
              <a:gd name="textAreaRight" fmla="*/ 6665400 w 6665760"/>
              <a:gd name="textAreaTop" fmla="*/ 360 h 9772560"/>
              <a:gd name="textAreaBottom" fmla="*/ 9772200 h 9772560"/>
            </a:gdLst>
            <a:ahLst/>
            <a:rect l="textAreaLeft" t="textAreaTop" r="textAreaRight" b="textAreaBottom"/>
            <a:pathLst>
              <a:path w="21600" h="31667">
                <a:moveTo>
                  <a:pt x="5" y="0"/>
                </a:moveTo>
                <a:arcTo wR="5" hR="5" stAng="16200000" swAng="-5400000"/>
                <a:lnTo>
                  <a:pt x="0" y="31662"/>
                </a:lnTo>
                <a:arcTo wR="5" hR="5" stAng="10800000" swAng="-5400000"/>
                <a:lnTo>
                  <a:pt x="21595" y="3166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-11134800" y="242640"/>
            <a:ext cx="22269600" cy="167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1960" y="3460680"/>
            <a:ext cx="758988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0" y="32400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51960" y="3460320"/>
            <a:ext cx="7589880" cy="10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onentes de cada representação participaram do time de desenvolvimento do produto CM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colher uma única abordagem para representação tornou-se “muito difíci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cou acordado que inicialmente seriam abordadas duas representações do modelo com conteúdos equival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8A96-21DB-4324-9A52-A4DD9FF8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2F3E-26A6-4419-96DF-21E9814E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D7F1-A43B-4880-A12A-58F954DF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DBD5-DDE8-4BF0-A007-C040F352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E20F-6B16-4422-AC41-AECA7F95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423E-727D-4150-A31F-A737443B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CCDF-FAD0-4E66-AFFC-76C67164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F624-AF7C-4D59-BF7E-19EADC31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1CD4-8613-4551-A20C-448A36E2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F722-A52E-4932-96C9-DD0C46BA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618A-AA8D-4CA9-8EDE-48B3B5FE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75E5-E73F-401F-9B4F-8ACBE857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B5A6-F9F8-4534-A65E-60947658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CC3D-946B-4DED-9F68-777F991E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7B13-4848-4C0A-B286-BF3C33F5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0A4C-022D-4705-A687-56F8ADB4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74B9-3CB7-4DD9-85C8-6F637B9D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E9BC-5B89-46A3-9247-7C542551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6165-6D8C-4CC7-B49B-7F55F6EB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5BC33-C10C-4DCE-BD18-CF1D62A8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47A9-4683-405E-BB00-DE9E513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88BD-900E-4A9C-975E-804511A7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DE5C-1654-4A09-9233-FC6AB08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B542-FD93-4E23-B872-B27DA39F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3CAA-7BC5-4936-9015-11B1E73F0D3E}" type="slidenum">
              <a:rPr b="0" lang="en-U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8E1D-271D-481F-8055-36964C462D72}" type="datetime">
              <a:rPr b="0" lang="en-US" sz="11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3951-DCAD-4148-92D6-1A3B99DD4A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C5F0-DFF4-425B-AF8F-E6C7E25A1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449360"/>
            <a:ext cx="776736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Capability Maturity Model Integr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309840"/>
            <a:ext cx="6395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Verdana"/>
              </a:rPr>
              <a:t>Uma introdução ao processo integrado de melh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25080" y="5950080"/>
            <a:ext cx="26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Verdana"/>
              </a:rPr>
              <a:t>Cibele Ataide – Out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AC4C-C5F8-4A97-A484-A1FC71D94B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A184FE-FF3E-4CEF-BF12-AB99BFBA1D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Introduç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ém da integração dos modelos e redução dos custos com melhorias de processo, os seguintes objetivos também fazem parte do projeto CMM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mento do foco das atividad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ração dos processos exist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iminar inconsitênci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zir duplicaçõ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necer terminologia com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gurar consistência com a norma ISO 15504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Flexibilidade e Extensão para outras disciplin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C05D-43A8-4C6A-9EE3-9D1C546029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F42A02-D882-4249-BE5A-6C51F6F2EB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CMMI - Introduç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205000"/>
            <a:ext cx="4282920" cy="3322800"/>
          </a:xfrm>
          <a:prstGeom prst="rightArrowCallout">
            <a:avLst>
              <a:gd name="adj1" fmla="val 20289"/>
              <a:gd name="adj2" fmla="val 24319"/>
              <a:gd name="adj3" fmla="val 14930"/>
              <a:gd name="adj4" fmla="val 80625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Verdana"/>
              </a:rPr>
              <a:t>Sour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pability Maturity Model for Software V2, draft C (SW-CMM V2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ctronic Industries Alliance 731, System Engineering Capability Model (SE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grated Product Development Capability Maturity Model, draft V0.98 (IPD-C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303520" y="1378080"/>
            <a:ext cx="3877200" cy="2361960"/>
            <a:chOff x="5303520" y="1378080"/>
            <a:chExt cx="3877200" cy="2361960"/>
          </a:xfrm>
        </p:grpSpPr>
        <p:grpSp>
          <p:nvGrpSpPr>
            <p:cNvPr id="174" name=""/>
            <p:cNvGrpSpPr/>
            <p:nvPr/>
          </p:nvGrpSpPr>
          <p:grpSpPr>
            <a:xfrm>
              <a:off x="5303520" y="1378080"/>
              <a:ext cx="3557880" cy="2361960"/>
              <a:chOff x="5303520" y="1378080"/>
              <a:chExt cx="3557880" cy="2361960"/>
            </a:xfrm>
          </p:grpSpPr>
          <p:sp>
            <p:nvSpPr>
              <p:cNvPr id="175" name=""/>
              <p:cNvSpPr/>
              <p:nvPr/>
            </p:nvSpPr>
            <p:spPr>
              <a:xfrm>
                <a:off x="5376960" y="1390680"/>
                <a:ext cx="1517400" cy="2154240"/>
              </a:xfrm>
              <a:custGeom>
                <a:avLst/>
                <a:gdLst/>
                <a:ahLst/>
                <a:rect l="l" t="t" r="r" b="b"/>
                <a:pathLst>
                  <a:path w="956" h="1357">
                    <a:moveTo>
                      <a:pt x="0" y="143"/>
                    </a:moveTo>
                    <a:lnTo>
                      <a:pt x="866" y="0"/>
                    </a:lnTo>
                    <a:lnTo>
                      <a:pt x="892" y="0"/>
                    </a:lnTo>
                    <a:lnTo>
                      <a:pt x="911" y="0"/>
                    </a:lnTo>
                    <a:lnTo>
                      <a:pt x="931" y="0"/>
                    </a:lnTo>
                    <a:lnTo>
                      <a:pt x="943" y="7"/>
                    </a:lnTo>
                    <a:lnTo>
                      <a:pt x="950" y="13"/>
                    </a:lnTo>
                    <a:lnTo>
                      <a:pt x="950" y="26"/>
                    </a:lnTo>
                    <a:lnTo>
                      <a:pt x="956" y="39"/>
                    </a:lnTo>
                    <a:lnTo>
                      <a:pt x="956" y="52"/>
                    </a:lnTo>
                    <a:lnTo>
                      <a:pt x="956" y="104"/>
                    </a:lnTo>
                    <a:lnTo>
                      <a:pt x="956" y="1182"/>
                    </a:lnTo>
                    <a:lnTo>
                      <a:pt x="0" y="13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29320" y="1413000"/>
                <a:ext cx="1384200" cy="2225520"/>
              </a:xfrm>
              <a:custGeom>
                <a:avLst/>
                <a:gdLst/>
                <a:ahLst/>
                <a:rect l="l" t="t" r="r" b="b"/>
                <a:pathLst>
                  <a:path w="872" h="1402">
                    <a:moveTo>
                      <a:pt x="0" y="181"/>
                    </a:moveTo>
                    <a:lnTo>
                      <a:pt x="0" y="1402"/>
                    </a:lnTo>
                    <a:lnTo>
                      <a:pt x="814" y="1176"/>
                    </a:lnTo>
                    <a:lnTo>
                      <a:pt x="827" y="1176"/>
                    </a:lnTo>
                    <a:lnTo>
                      <a:pt x="846" y="1169"/>
                    </a:lnTo>
                    <a:lnTo>
                      <a:pt x="859" y="1156"/>
                    </a:lnTo>
                    <a:lnTo>
                      <a:pt x="866" y="1150"/>
                    </a:lnTo>
                    <a:lnTo>
                      <a:pt x="866" y="1137"/>
                    </a:lnTo>
                    <a:lnTo>
                      <a:pt x="866" y="1124"/>
                    </a:lnTo>
                    <a:lnTo>
                      <a:pt x="866" y="1111"/>
                    </a:lnTo>
                    <a:lnTo>
                      <a:pt x="866" y="1092"/>
                    </a:lnTo>
                    <a:lnTo>
                      <a:pt x="866" y="52"/>
                    </a:lnTo>
                    <a:lnTo>
                      <a:pt x="872" y="32"/>
                    </a:lnTo>
                    <a:lnTo>
                      <a:pt x="866" y="19"/>
                    </a:lnTo>
                    <a:lnTo>
                      <a:pt x="859" y="6"/>
                    </a:lnTo>
                    <a:lnTo>
                      <a:pt x="846" y="0"/>
                    </a:lnTo>
                    <a:lnTo>
                      <a:pt x="840" y="0"/>
                    </a:lnTo>
                    <a:lnTo>
                      <a:pt x="827" y="0"/>
                    </a:lnTo>
                    <a:lnTo>
                      <a:pt x="807" y="0"/>
                    </a:lnTo>
                    <a:lnTo>
                      <a:pt x="795" y="0"/>
                    </a:lnTo>
                    <a:lnTo>
                      <a:pt x="782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00800" y="1617840"/>
                <a:ext cx="236520" cy="193320"/>
              </a:xfrm>
              <a:custGeom>
                <a:avLst/>
                <a:gdLst/>
                <a:ahLst/>
                <a:rect l="l" t="t" r="r" b="b"/>
                <a:pathLst>
                  <a:path w="149" h="122">
                    <a:moveTo>
                      <a:pt x="0" y="64"/>
                    </a:moveTo>
                    <a:lnTo>
                      <a:pt x="6" y="51"/>
                    </a:lnTo>
                    <a:lnTo>
                      <a:pt x="19" y="45"/>
                    </a:lnTo>
                    <a:lnTo>
                      <a:pt x="32" y="32"/>
                    </a:lnTo>
                    <a:lnTo>
                      <a:pt x="45" y="25"/>
                    </a:lnTo>
                    <a:lnTo>
                      <a:pt x="58" y="19"/>
                    </a:lnTo>
                    <a:lnTo>
                      <a:pt x="71" y="6"/>
                    </a:lnTo>
                    <a:lnTo>
                      <a:pt x="84" y="6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16" y="0"/>
                    </a:lnTo>
                    <a:lnTo>
                      <a:pt x="123" y="0"/>
                    </a:lnTo>
                    <a:lnTo>
                      <a:pt x="129" y="6"/>
                    </a:lnTo>
                    <a:lnTo>
                      <a:pt x="136" y="12"/>
                    </a:lnTo>
                    <a:lnTo>
                      <a:pt x="142" y="12"/>
                    </a:lnTo>
                    <a:lnTo>
                      <a:pt x="149" y="25"/>
                    </a:lnTo>
                    <a:lnTo>
                      <a:pt x="149" y="32"/>
                    </a:lnTo>
                    <a:lnTo>
                      <a:pt x="149" y="38"/>
                    </a:lnTo>
                    <a:lnTo>
                      <a:pt x="149" y="51"/>
                    </a:lnTo>
                    <a:lnTo>
                      <a:pt x="149" y="58"/>
                    </a:lnTo>
                    <a:lnTo>
                      <a:pt x="142" y="71"/>
                    </a:lnTo>
                    <a:lnTo>
                      <a:pt x="136" y="77"/>
                    </a:lnTo>
                    <a:lnTo>
                      <a:pt x="129" y="90"/>
                    </a:lnTo>
                    <a:lnTo>
                      <a:pt x="116" y="103"/>
                    </a:lnTo>
                    <a:lnTo>
                      <a:pt x="110" y="116"/>
                    </a:lnTo>
                    <a:lnTo>
                      <a:pt x="97" y="12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91080" y="1596960"/>
                <a:ext cx="246240" cy="204840"/>
              </a:xfrm>
              <a:custGeom>
                <a:avLst/>
                <a:gdLst/>
                <a:ahLst/>
                <a:rect l="l" t="t" r="r" b="b"/>
                <a:pathLst>
                  <a:path w="155" h="129">
                    <a:moveTo>
                      <a:pt x="0" y="64"/>
                    </a:moveTo>
                    <a:lnTo>
                      <a:pt x="12" y="58"/>
                    </a:lnTo>
                    <a:lnTo>
                      <a:pt x="19" y="45"/>
                    </a:lnTo>
                    <a:lnTo>
                      <a:pt x="32" y="38"/>
                    </a:lnTo>
                    <a:lnTo>
                      <a:pt x="51" y="25"/>
                    </a:lnTo>
                    <a:lnTo>
                      <a:pt x="64" y="19"/>
                    </a:lnTo>
                    <a:lnTo>
                      <a:pt x="77" y="13"/>
                    </a:lnTo>
                    <a:lnTo>
                      <a:pt x="83" y="6"/>
                    </a:lnTo>
                    <a:lnTo>
                      <a:pt x="96" y="6"/>
                    </a:lnTo>
                    <a:lnTo>
                      <a:pt x="109" y="0"/>
                    </a:lnTo>
                    <a:lnTo>
                      <a:pt x="116" y="0"/>
                    </a:lnTo>
                    <a:lnTo>
                      <a:pt x="129" y="6"/>
                    </a:lnTo>
                    <a:lnTo>
                      <a:pt x="135" y="6"/>
                    </a:lnTo>
                    <a:lnTo>
                      <a:pt x="142" y="13"/>
                    </a:lnTo>
                    <a:lnTo>
                      <a:pt x="148" y="19"/>
                    </a:lnTo>
                    <a:lnTo>
                      <a:pt x="148" y="25"/>
                    </a:lnTo>
                    <a:lnTo>
                      <a:pt x="155" y="32"/>
                    </a:lnTo>
                    <a:lnTo>
                      <a:pt x="155" y="45"/>
                    </a:lnTo>
                    <a:lnTo>
                      <a:pt x="155" y="51"/>
                    </a:lnTo>
                    <a:lnTo>
                      <a:pt x="148" y="64"/>
                    </a:lnTo>
                    <a:lnTo>
                      <a:pt x="148" y="71"/>
                    </a:lnTo>
                    <a:lnTo>
                      <a:pt x="142" y="84"/>
                    </a:lnTo>
                    <a:lnTo>
                      <a:pt x="135" y="90"/>
                    </a:lnTo>
                    <a:lnTo>
                      <a:pt x="122" y="103"/>
                    </a:lnTo>
                    <a:lnTo>
                      <a:pt x="109" y="122"/>
                    </a:lnTo>
                    <a:lnTo>
                      <a:pt x="103" y="12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79920" y="1924200"/>
                <a:ext cx="61920" cy="727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479920" y="1924200"/>
                <a:ext cx="61920" cy="72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7"/>
                    </a:moveTo>
                    <a:lnTo>
                      <a:pt x="19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479920" y="3227400"/>
                <a:ext cx="61920" cy="71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79920" y="322740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6"/>
                    </a:moveTo>
                    <a:lnTo>
                      <a:pt x="19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0997000">
                <a:off x="5354280" y="1846440"/>
                <a:ext cx="190008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CMMI-SE/S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7d"/>
                    </a:solidFill>
                    <a:latin typeface="Verdana"/>
                  </a:rPr>
                  <a:t>Stag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Represen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11880" y="1378080"/>
                <a:ext cx="1517760" cy="2154240"/>
              </a:xfrm>
              <a:custGeom>
                <a:avLst/>
                <a:gdLst/>
                <a:ahLst/>
                <a:rect l="l" t="t" r="r" b="b"/>
                <a:pathLst>
                  <a:path w="956" h="1357">
                    <a:moveTo>
                      <a:pt x="0" y="143"/>
                    </a:moveTo>
                    <a:lnTo>
                      <a:pt x="866" y="0"/>
                    </a:lnTo>
                    <a:lnTo>
                      <a:pt x="892" y="0"/>
                    </a:lnTo>
                    <a:lnTo>
                      <a:pt x="911" y="0"/>
                    </a:lnTo>
                    <a:lnTo>
                      <a:pt x="931" y="0"/>
                    </a:lnTo>
                    <a:lnTo>
                      <a:pt x="943" y="7"/>
                    </a:lnTo>
                    <a:lnTo>
                      <a:pt x="950" y="13"/>
                    </a:lnTo>
                    <a:lnTo>
                      <a:pt x="950" y="26"/>
                    </a:lnTo>
                    <a:lnTo>
                      <a:pt x="956" y="39"/>
                    </a:lnTo>
                    <a:lnTo>
                      <a:pt x="956" y="52"/>
                    </a:lnTo>
                    <a:lnTo>
                      <a:pt x="956" y="104"/>
                    </a:lnTo>
                    <a:lnTo>
                      <a:pt x="956" y="1182"/>
                    </a:lnTo>
                    <a:lnTo>
                      <a:pt x="0" y="13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477200" y="1514520"/>
                <a:ext cx="1384200" cy="2225520"/>
              </a:xfrm>
              <a:custGeom>
                <a:avLst/>
                <a:gdLst/>
                <a:ahLst/>
                <a:rect l="l" t="t" r="r" b="b"/>
                <a:pathLst>
                  <a:path w="872" h="1402">
                    <a:moveTo>
                      <a:pt x="0" y="181"/>
                    </a:moveTo>
                    <a:lnTo>
                      <a:pt x="0" y="1402"/>
                    </a:lnTo>
                    <a:lnTo>
                      <a:pt x="814" y="1176"/>
                    </a:lnTo>
                    <a:lnTo>
                      <a:pt x="827" y="1176"/>
                    </a:lnTo>
                    <a:lnTo>
                      <a:pt x="846" y="1169"/>
                    </a:lnTo>
                    <a:lnTo>
                      <a:pt x="859" y="1156"/>
                    </a:lnTo>
                    <a:lnTo>
                      <a:pt x="866" y="1150"/>
                    </a:lnTo>
                    <a:lnTo>
                      <a:pt x="866" y="1137"/>
                    </a:lnTo>
                    <a:lnTo>
                      <a:pt x="866" y="1124"/>
                    </a:lnTo>
                    <a:lnTo>
                      <a:pt x="866" y="1111"/>
                    </a:lnTo>
                    <a:lnTo>
                      <a:pt x="866" y="1092"/>
                    </a:lnTo>
                    <a:lnTo>
                      <a:pt x="866" y="52"/>
                    </a:lnTo>
                    <a:lnTo>
                      <a:pt x="872" y="32"/>
                    </a:lnTo>
                    <a:lnTo>
                      <a:pt x="866" y="19"/>
                    </a:lnTo>
                    <a:lnTo>
                      <a:pt x="859" y="6"/>
                    </a:lnTo>
                    <a:lnTo>
                      <a:pt x="846" y="0"/>
                    </a:lnTo>
                    <a:lnTo>
                      <a:pt x="840" y="0"/>
                    </a:lnTo>
                    <a:lnTo>
                      <a:pt x="827" y="0"/>
                    </a:lnTo>
                    <a:lnTo>
                      <a:pt x="807" y="0"/>
                    </a:lnTo>
                    <a:lnTo>
                      <a:pt x="795" y="0"/>
                    </a:lnTo>
                    <a:lnTo>
                      <a:pt x="782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35720" y="1604880"/>
                <a:ext cx="236520" cy="193680"/>
              </a:xfrm>
              <a:custGeom>
                <a:avLst/>
                <a:gdLst/>
                <a:ahLst/>
                <a:rect l="l" t="t" r="r" b="b"/>
                <a:pathLst>
                  <a:path w="149" h="122">
                    <a:moveTo>
                      <a:pt x="0" y="64"/>
                    </a:moveTo>
                    <a:lnTo>
                      <a:pt x="6" y="51"/>
                    </a:lnTo>
                    <a:lnTo>
                      <a:pt x="19" y="45"/>
                    </a:lnTo>
                    <a:lnTo>
                      <a:pt x="32" y="32"/>
                    </a:lnTo>
                    <a:lnTo>
                      <a:pt x="45" y="25"/>
                    </a:lnTo>
                    <a:lnTo>
                      <a:pt x="58" y="19"/>
                    </a:lnTo>
                    <a:lnTo>
                      <a:pt x="71" y="6"/>
                    </a:lnTo>
                    <a:lnTo>
                      <a:pt x="84" y="6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16" y="0"/>
                    </a:lnTo>
                    <a:lnTo>
                      <a:pt x="123" y="0"/>
                    </a:lnTo>
                    <a:lnTo>
                      <a:pt x="129" y="6"/>
                    </a:lnTo>
                    <a:lnTo>
                      <a:pt x="136" y="12"/>
                    </a:lnTo>
                    <a:lnTo>
                      <a:pt x="142" y="12"/>
                    </a:lnTo>
                    <a:lnTo>
                      <a:pt x="149" y="25"/>
                    </a:lnTo>
                    <a:lnTo>
                      <a:pt x="149" y="32"/>
                    </a:lnTo>
                    <a:lnTo>
                      <a:pt x="149" y="38"/>
                    </a:lnTo>
                    <a:lnTo>
                      <a:pt x="149" y="51"/>
                    </a:lnTo>
                    <a:lnTo>
                      <a:pt x="149" y="58"/>
                    </a:lnTo>
                    <a:lnTo>
                      <a:pt x="142" y="71"/>
                    </a:lnTo>
                    <a:lnTo>
                      <a:pt x="136" y="77"/>
                    </a:lnTo>
                    <a:lnTo>
                      <a:pt x="129" y="90"/>
                    </a:lnTo>
                    <a:lnTo>
                      <a:pt x="116" y="103"/>
                    </a:lnTo>
                    <a:lnTo>
                      <a:pt x="110" y="116"/>
                    </a:lnTo>
                    <a:lnTo>
                      <a:pt x="97" y="12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15200" y="1911240"/>
                <a:ext cx="61920" cy="730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15200" y="1911240"/>
                <a:ext cx="61920" cy="73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7"/>
                    </a:moveTo>
                    <a:lnTo>
                      <a:pt x="19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15200" y="3214800"/>
                <a:ext cx="61920" cy="71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15200" y="321480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6"/>
                    </a:moveTo>
                    <a:lnTo>
                      <a:pt x="19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rot="21130800">
              <a:off x="7236720" y="1920960"/>
              <a:ext cx="190008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MMI-SE/SW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7d"/>
                  </a:solidFill>
                  <a:latin typeface="Verdana"/>
                </a:rPr>
                <a:t>Continu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e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032440" y="3716280"/>
            <a:ext cx="41115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delo integrado de Engenharia de Sistemas/Engenharia de Soft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de se aplic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P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genharia de sistem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genharia de softw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1F60-C13F-4CFC-86FF-0E255DA2B9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21E523-23B7-4A65-880C-4EC18451F4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3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CMMI tem como um de seus objetivos ser um modelo integrado, algumas caracteristicas tinham que estar presen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73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existência de duas representações é uma delas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rança de Model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CMM – Por estági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M – Contínu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D CMM – Híbr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3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ações disponíveis no CMM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73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ínu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73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r Estág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3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4C92-91B6-4DCA-9DFB-6CB8E87F60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66D6E9-8EB2-4976-A55E-1B42A1F4AA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3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 Estág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íveis de Matur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grupamento de Áreas de Processo por Nível de Matur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aliação da maturidade da organização como um to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3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ín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íveis de Capac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grupamento das Áreas de Processo por Catego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aliação da capacidade das Areas de Proces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3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B37A-2695-4C6A-BBF0-9979740D60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4C886F-E4D3-4213-862D-96370BB1EC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ndo as Represent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573800" y="1557360"/>
            <a:ext cx="7446240" cy="4521600"/>
            <a:chOff x="4573800" y="1557360"/>
            <a:chExt cx="7446240" cy="4521600"/>
          </a:xfrm>
        </p:grpSpPr>
        <p:sp>
          <p:nvSpPr>
            <p:cNvPr id="199" name=""/>
            <p:cNvSpPr/>
            <p:nvPr/>
          </p:nvSpPr>
          <p:spPr>
            <a:xfrm>
              <a:off x="6311160" y="1557360"/>
              <a:ext cx="125748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a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3800" y="4437720"/>
              <a:ext cx="8413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97440" y="385452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21800" y="340308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50840" y="283068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47480" y="229896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33080" y="5152680"/>
              <a:ext cx="70869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. . .para um conjunto de á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e processo pré-estabelecid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ela estrutra do model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5302440" y="2077920"/>
              <a:ext cx="3661920" cy="29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539640" y="2133720"/>
            <a:ext cx="4089240" cy="3299040"/>
            <a:chOff x="539640" y="2133720"/>
            <a:chExt cx="4089240" cy="3299040"/>
          </a:xfrm>
        </p:grpSpPr>
        <p:sp>
          <p:nvSpPr>
            <p:cNvPr id="208" name=""/>
            <p:cNvSpPr/>
            <p:nvPr/>
          </p:nvSpPr>
          <p:spPr>
            <a:xfrm>
              <a:off x="1839600" y="4978440"/>
              <a:ext cx="2789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77200" y="5024520"/>
              <a:ext cx="53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98640" y="5024520"/>
              <a:ext cx="53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78640" y="2635920"/>
              <a:ext cx="334080" cy="232992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4840" y="3960000"/>
              <a:ext cx="334080" cy="100584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20160" y="3507840"/>
              <a:ext cx="335520" cy="1458000"/>
            </a:xfrm>
            <a:prstGeom prst="rect">
              <a:avLst/>
            </a:prstGeom>
            <a:solidFill>
              <a:srgbClr val="99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37800" y="2133720"/>
              <a:ext cx="1440" cy="280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-222120" y="3080520"/>
              <a:ext cx="22374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 Area Cap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1800">
              <a:off x="245520" y="3480120"/>
              <a:ext cx="26154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    1   2    3    4    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6920" y="5038920"/>
              <a:ext cx="53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928880" y="1585800"/>
            <a:ext cx="195228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6480" y="5445000"/>
            <a:ext cx="3427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. .para uma única áre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so ou um conjun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áreas de proc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8481-DA15-4422-8E75-DD8FC46EB1C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537BFD-961C-4CB2-90D4-1A00025597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46800" cy="4960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ções - 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 estági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vê uma seqüência de melhoria pré-definida em um conjunto determinado de áreas de process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da nível funciona como a fundação para o próximo níve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porciona uma migração simplificada do modelo SW-CMM para o CMM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ribui uma nota de classificação do nível de maturidade em que a organização se encontra através dos resultados das avaliaçõ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ermitindo dessa forma a comparação de forma direta entre as organizaçõ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611F-B776-4F8F-A217-83F49E837F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88EF79-6C45-4876-ADDD-698539082F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767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ções – Vantagens (cont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ínu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rmite a seleção da ordem de melhoria dos processos que melhor se adequa aos objetivos de negócio da organiz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rmite a comparação de áreas de processo entre diferentes organizações ou através dos resultados apresentados de acordo com os estágios equival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porciona uma migração simplificada do Eletronic Industries Alliance Ínterim Standard (EIA/IS) /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ECM)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o CMM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rutura compatível com o padrão ISO/IEC 15504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rutura familiar para aqueles que estão migrando da comunidade de engenharia de siste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97CD-C351-4809-91FF-F7F6770794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7388E3-75BD-40E8-AF04-BA5A8D8C58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gumas organizações que iniciaram os esforços de migração para o CMMI relatam razões pela escolha de cada uma del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tínu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habilidade de escolha da área de processo que se deseja melhorar com base nos objetivos e prioridades da organiza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Quando a abordagem é focada na melhoria contínua da capacidade do processo e não no atendimento de um nível de maturidad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liberdade de escolha das áreas de processo impacta positivamente no programa de melhori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ermite também um caminho para a abordagem por estágios, pois as organizações ao longo de seu processo de melhoria podem selecionar as áreas de processo exatamente iguais aos níveis de maturidad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FC04-580F-4521-A109-98E1818CA9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CAB18D-0C7F-4794-A72D-56FB854412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gumas organizações que iniciaram os esforços de migração para o CMMI relatam razões pela escolha de cada uma del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 estági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gerência sênior das organizações e os clientes compreendem com mais facilidad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ma pesquisa entre os clientes potenciais das organizações, e até mesmo com os contratantes governamentais apresentou a abordagem por estágios como a mais indicad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parentemente, baseado em pesquisas informais, não existe um mercado atual para a abordagem contínu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primeira vista, a abordagem por estágios é a que mais se adequou às necessidades das organizaçõ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27FA-A1EA-47C6-A36F-E923A35FC6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3E0DF6-9E1A-47EC-B6A6-6B2F4D0609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ependente da abordagem usada e seja para a melhoria de processos ou para avaliações, o CMMI foi projetado para apresentar os resultados equivalent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existe um caminho mais fácil dependente da representação para um mesmo objetiv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ste um mapeamento oficial que permite que avaliações usando o modelo na representação contínua sejam traduzidas “também” em níveis de maturida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1E33-2766-4F08-ABB0-2246C7E3EF1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CDE312-9006-401F-B9B2-BBABB05CF5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rutura do Mode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ação contín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ação por estág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éas chaves de proces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MMI X C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ações Fin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5D94-9BBC-4349-98D0-E9FB2DD5F6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91FFEC-96BC-4CB5-A607-4CF4D5CA88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1898640"/>
            <a:ext cx="1600200" cy="609480"/>
          </a:xfrm>
          <a:prstGeom prst="rect">
            <a:avLst/>
          </a:prstGeom>
          <a:solidFill>
            <a:srgbClr val="e9bb7d"/>
          </a:solidFill>
          <a:ln w="0">
            <a:noFill/>
          </a:ln>
          <a:effectLst>
            <a:outerShdw dist="17819" dir="2700000" blurRad="0" rotWithShape="0">
              <a:srgbClr val="8b6f4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Níveis de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Matu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2889360"/>
            <a:ext cx="1904760" cy="76176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Capac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do 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2813040"/>
            <a:ext cx="1600200" cy="609480"/>
          </a:xfrm>
          <a:prstGeom prst="rect">
            <a:avLst/>
          </a:prstGeom>
          <a:solidFill>
            <a:srgbClr val="e9bb7d"/>
          </a:solidFill>
          <a:ln w="0">
            <a:noFill/>
          </a:ln>
          <a:effectLst>
            <a:outerShdw dist="17819" dir="2700000" blurRad="0" rotWithShape="0">
              <a:srgbClr val="8b6f4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Áreas chaves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de 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956040"/>
            <a:ext cx="1600200" cy="609480"/>
          </a:xfrm>
          <a:prstGeom prst="rect">
            <a:avLst/>
          </a:prstGeom>
          <a:solidFill>
            <a:srgbClr val="e9bb7d"/>
          </a:solidFill>
          <a:ln w="25560">
            <a:solidFill>
              <a:srgbClr val="ff6699"/>
            </a:solidFill>
            <a:miter/>
          </a:ln>
          <a:effectLst>
            <a:outerShdw dist="17819" dir="2700000" blurRad="0" rotWithShape="0">
              <a:srgbClr val="98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aracterísticas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4870440"/>
            <a:ext cx="1600200" cy="609480"/>
          </a:xfrm>
          <a:prstGeom prst="rect">
            <a:avLst/>
          </a:prstGeom>
          <a:solidFill>
            <a:srgbClr val="e9bb7d"/>
          </a:solidFill>
          <a:ln w="25560">
            <a:solidFill>
              <a:srgbClr val="ff6699"/>
            </a:solidFill>
            <a:miter/>
          </a:ln>
          <a:effectLst>
            <a:outerShdw dist="17819" dir="2700000" blurRad="0" rotWithShape="0">
              <a:srgbClr val="98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ráticas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h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3803760"/>
            <a:ext cx="1676520" cy="60948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4794120"/>
            <a:ext cx="2819520" cy="9144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6699"/>
            </a:solidFill>
            <a:miter/>
          </a:ln>
          <a:effectLst>
            <a:outerShdw dist="17819" dir="2700000" blurRad="0" rotWithShape="0">
              <a:srgbClr val="98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mplementação e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nstitucion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5632560"/>
            <a:ext cx="2819520" cy="76176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6699"/>
            </a:solidFill>
            <a:miter/>
          </a:ln>
          <a:effectLst>
            <a:outerShdw dist="17819" dir="2700000" blurRad="0" rotWithShape="0">
              <a:srgbClr val="98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Atividades ou 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nfra-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203560"/>
            <a:ext cx="685800" cy="609480"/>
          </a:xfrm>
          <a:prstGeom prst="line">
            <a:avLst/>
          </a:prstGeom>
          <a:ln w="255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3193920"/>
            <a:ext cx="914400" cy="762120"/>
          </a:xfrm>
          <a:prstGeom prst="line">
            <a:avLst/>
          </a:prstGeom>
          <a:ln w="255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260960"/>
            <a:ext cx="838440" cy="609480"/>
          </a:xfrm>
          <a:prstGeom prst="line">
            <a:avLst/>
          </a:prstGeom>
          <a:ln w="25560">
            <a:solidFill>
              <a:srgbClr val="ff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361960" y="2584440"/>
            <a:ext cx="533160" cy="380880"/>
          </a:xfrm>
          <a:prstGeom prst="line">
            <a:avLst/>
          </a:prstGeom>
          <a:ln w="255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581280" y="3498840"/>
            <a:ext cx="533520" cy="457200"/>
          </a:xfrm>
          <a:prstGeom prst="line">
            <a:avLst/>
          </a:prstGeom>
          <a:ln w="255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800240" y="4641840"/>
            <a:ext cx="609480" cy="304920"/>
          </a:xfrm>
          <a:prstGeom prst="line">
            <a:avLst/>
          </a:prstGeom>
          <a:ln w="25560">
            <a:solidFill>
              <a:srgbClr val="ff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8000" y="5556240"/>
            <a:ext cx="457200" cy="228600"/>
          </a:xfrm>
          <a:prstGeom prst="line">
            <a:avLst/>
          </a:prstGeom>
          <a:ln w="25560">
            <a:solidFill>
              <a:srgbClr val="ff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2508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IN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38037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REAL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4794120"/>
            <a:ext cx="1143000" cy="337320"/>
          </a:xfrm>
          <a:prstGeom prst="rect">
            <a:avLst/>
          </a:prstGeom>
          <a:noFill/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ORI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2920" y="5632560"/>
            <a:ext cx="1143000" cy="337320"/>
          </a:xfrm>
          <a:prstGeom prst="rect">
            <a:avLst/>
          </a:prstGeom>
          <a:noFill/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DESCR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1974960"/>
            <a:ext cx="2133720" cy="1600200"/>
          </a:xfrm>
          <a:prstGeom prst="rect">
            <a:avLst/>
          </a:prstGeom>
          <a:noFill/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Compromi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H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A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Medição e Anál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Verif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553080" y="3650760"/>
            <a:ext cx="914400" cy="304920"/>
          </a:xfrm>
          <a:prstGeom prst="line">
            <a:avLst/>
          </a:prstGeom>
          <a:ln w="12600">
            <a:solidFill>
              <a:srgbClr val="ff66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86600" y="3727440"/>
            <a:ext cx="1447920" cy="337320"/>
          </a:xfrm>
          <a:prstGeom prst="rect">
            <a:avLst/>
          </a:prstGeom>
          <a:noFill/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Arial Narrow"/>
              </a:rPr>
              <a:t>COMPRE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268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embrando a estrutura do CMM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D31E-7063-4D25-BA3B-0E6016CAD83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59673C-C129-47B4-AB1A-3E4E5833D94B}" type="datetime1">
              <a:rPr lang="en-US"/>
              <a:t>07/31/26</a:t>
            </a:fld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componentes do modelo são os mesmos para a representação contínua e por estági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ão similares aos do CMM, porém com algumas alterações. São ele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áreas de processo, metas específicas, práticas específicas, metas genéricas, práticas genéricas, produtos de trabalho típicos, sub-práticas, amplificações de disciplinas, elaboração de praticas genéricas e  referênci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ação contínu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 níveis de capacidad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ação por estági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níveis de maturidad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3F7A-D386-474D-95C0-776BEDC0C3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770290-B92B-4324-9AE7-0651310129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ível de Capacidade: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cance da melhoria de processo dentro de uma área de processo individual. Um nível de capacidade é definido pelas práticas especificas e genéricas da área de processo em quest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ível de Maturidad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grau de melhoria de processo (maturidade de processo) através de um conjunto pré-definido de áreas de processo, no qual todas metas do conjunto devem ser satisfeita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níveis superiores de maturidade e capacidade englobam os níveis anteri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EDA8-6FE3-42D4-802C-F72FE111D31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9F5257-21BF-4C35-85C3-D6B5BD33CD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as e Práticas Específ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ão aplicadas a uma área de processo e endereçam características que descrevem o que deve ser implementado para satisfazer a área de process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licam-se a uma área de processo particula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as e Práticas Genér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ão únicas para cada nível de capacidade de uma área de processo e descrevem o nível de institucionalização que a organização deve alcançar no nível de capacidad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licam-se a todas as áreas de process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Metas e Práticas, Específicas e Genéricas, são as mesmas para ambas as representaço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A800-0222-47C5-A6C1-6AE5A50748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48EBB4-69E9-4FA6-995F-4E109DE907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dutos de trabalho típ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dutos de trabalho típicos provêm exemplos de artefatos de saídas das atividades descritas pelas práticas genéricas e específica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b-prát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b-práticas são descrições detalhadas que fornecem informações adicionais para a interpretação das práticas genéricas e específic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mplificações de discipli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plificações de disciplina são informações relevantes para uma disciplina em particular e são associadas a práticas específicas. Exemplo: procurando informação adicional de uma determina prática referente à disciplina de engenharia de software, podemos encontrar no modelo as amplificações descritas da seguinte forma: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“For Software Engineering ...”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A8AF-6A4A-462D-B973-9ED5D9AE9FC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9219C5-3C57-4E4B-9153-616BC9CE15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aboração de práticas genér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laboração de práticas genéricas são orientações de como as práticas genéricas devem ser unicamente aplicadas a uma determinada área de pro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ferências são informações adicionais ou mais detalhadas a respeito de áreas de processo relacionadas. Na descrição das áreas de processo existem referências para outras áreas de processo do modelo que se relacionam com as mes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C5E7-36FF-4374-AFEB-28D2DBAB21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D0FEB2-5B9C-48DA-A287-6B921DAD42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900000" y="1773360"/>
            <a:ext cx="7491600" cy="4903560"/>
            <a:chOff x="900000" y="1773360"/>
            <a:chExt cx="7491600" cy="4903560"/>
          </a:xfrm>
        </p:grpSpPr>
        <p:sp>
          <p:nvSpPr>
            <p:cNvPr id="265" name=""/>
            <p:cNvSpPr/>
            <p:nvPr/>
          </p:nvSpPr>
          <p:spPr>
            <a:xfrm>
              <a:off x="1069920" y="2135160"/>
              <a:ext cx="5815080" cy="106560"/>
            </a:xfrm>
            <a:custGeom>
              <a:avLst/>
              <a:gdLst/>
              <a:ahLst/>
              <a:rect l="l" t="t" r="r" b="b"/>
              <a:pathLst>
                <a:path w="3809" h="57">
                  <a:moveTo>
                    <a:pt x="0" y="56"/>
                  </a:moveTo>
                  <a:lnTo>
                    <a:pt x="0" y="0"/>
                  </a:lnTo>
                  <a:lnTo>
                    <a:pt x="380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69920" y="3049560"/>
              <a:ext cx="4943520" cy="123840"/>
            </a:xfrm>
            <a:custGeom>
              <a:avLst/>
              <a:gdLst/>
              <a:ahLst/>
              <a:rect l="l" t="t" r="r" b="b"/>
              <a:pathLst>
                <a:path w="3241" h="65">
                  <a:moveTo>
                    <a:pt x="0" y="64"/>
                  </a:moveTo>
                  <a:lnTo>
                    <a:pt x="0" y="0"/>
                  </a:lnTo>
                  <a:lnTo>
                    <a:pt x="32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58760" y="3941640"/>
              <a:ext cx="3959280" cy="135000"/>
            </a:xfrm>
            <a:custGeom>
              <a:avLst/>
              <a:gdLst/>
              <a:ahLst/>
              <a:rect l="l" t="t" r="r" b="b"/>
              <a:pathLst>
                <a:path w="2641" h="41">
                  <a:moveTo>
                    <a:pt x="0" y="40"/>
                  </a:moveTo>
                  <a:lnTo>
                    <a:pt x="0" y="0"/>
                  </a:lnTo>
                  <a:lnTo>
                    <a:pt x="26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12840" y="5780160"/>
              <a:ext cx="21351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imprevisível, pouco controlad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04920" y="4975200"/>
              <a:ext cx="216864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definido para o nível de projetos e frequentemente reativ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04920" y="4038480"/>
              <a:ext cx="195264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proativo e definido para a organizaçã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04920" y="3137040"/>
              <a:ext cx="20667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medido e controlad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01680" y="2238480"/>
              <a:ext cx="22748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Foco na melhoria do process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76400" y="4913280"/>
              <a:ext cx="3073320" cy="93600"/>
            </a:xfrm>
            <a:custGeom>
              <a:avLst/>
              <a:gdLst/>
              <a:ahLst/>
              <a:rect l="l" t="t" r="r" b="b"/>
              <a:pathLst>
                <a:path w="2033" h="49">
                  <a:moveTo>
                    <a:pt x="0" y="48"/>
                  </a:moveTo>
                  <a:lnTo>
                    <a:pt x="0" y="0"/>
                  </a:lnTo>
                  <a:lnTo>
                    <a:pt x="20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63800" y="5700600"/>
              <a:ext cx="2144520" cy="92160"/>
            </a:xfrm>
            <a:custGeom>
              <a:avLst/>
              <a:gdLst/>
              <a:ahLst/>
              <a:rect l="l" t="t" r="r" b="b"/>
              <a:pathLst>
                <a:path w="1489" h="65">
                  <a:moveTo>
                    <a:pt x="0" y="6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03720" y="1773360"/>
              <a:ext cx="5087880" cy="4903560"/>
            </a:xfrm>
            <a:custGeom>
              <a:avLst/>
              <a:gdLst/>
              <a:ahLst/>
              <a:rect l="l" t="t" r="r" b="b"/>
              <a:pathLst>
                <a:path w="3205" h="3089">
                  <a:moveTo>
                    <a:pt x="0" y="3088"/>
                  </a:moveTo>
                  <a:lnTo>
                    <a:pt x="0" y="2292"/>
                  </a:lnTo>
                  <a:lnTo>
                    <a:pt x="592" y="2292"/>
                  </a:lnTo>
                  <a:lnTo>
                    <a:pt x="592" y="1696"/>
                  </a:lnTo>
                  <a:lnTo>
                    <a:pt x="1156" y="1696"/>
                  </a:lnTo>
                  <a:lnTo>
                    <a:pt x="1156" y="1140"/>
                  </a:lnTo>
                  <a:lnTo>
                    <a:pt x="1748" y="1140"/>
                  </a:lnTo>
                  <a:lnTo>
                    <a:pt x="1748" y="548"/>
                  </a:lnTo>
                  <a:lnTo>
                    <a:pt x="2316" y="548"/>
                  </a:lnTo>
                  <a:lnTo>
                    <a:pt x="2316" y="0"/>
                  </a:lnTo>
                  <a:lnTo>
                    <a:pt x="3204" y="0"/>
                  </a:lnTo>
                  <a:lnTo>
                    <a:pt x="3204" y="3076"/>
                  </a:lnTo>
                  <a:lnTo>
                    <a:pt x="0" y="3088"/>
                  </a:lnTo>
                </a:path>
              </a:pathLst>
            </a:cu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10280" y="2803680"/>
              <a:ext cx="17478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uantitative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55920" y="5445000"/>
              <a:ext cx="1546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for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82920" y="4657680"/>
              <a:ext cx="15973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84720" y="3706920"/>
              <a:ext cx="12924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fin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23760" y="5784840"/>
              <a:ext cx="292320" cy="29196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11160" y="5743440"/>
              <a:ext cx="54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36720" y="4994280"/>
              <a:ext cx="291960" cy="29196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5560" y="4948200"/>
              <a:ext cx="3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1160" y="4054320"/>
              <a:ext cx="292320" cy="29232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0000" y="4008600"/>
              <a:ext cx="41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23760" y="3139920"/>
              <a:ext cx="292320" cy="29232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6480" y="3094200"/>
              <a:ext cx="600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0240" y="2225520"/>
              <a:ext cx="291960" cy="29232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22320" y="2179800"/>
              <a:ext cx="53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por estági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7013520" y="1876320"/>
            <a:ext cx="1393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m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56600" y="155592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Níveis de Matu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D2E3-F6B6-4B50-A0DF-0E9C7DC30E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255381-0E28-484F-B4E3-D380E3DE4D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Estrutura do Model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rutura dos componentes - Representação por estág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95280" y="2133360"/>
            <a:ext cx="8277120" cy="3858840"/>
            <a:chOff x="395280" y="2133360"/>
            <a:chExt cx="8277120" cy="3858840"/>
          </a:xfrm>
        </p:grpSpPr>
        <p:sp>
          <p:nvSpPr>
            <p:cNvPr id="296" name=""/>
            <p:cNvSpPr/>
            <p:nvPr/>
          </p:nvSpPr>
          <p:spPr>
            <a:xfrm>
              <a:off x="3801600" y="2133360"/>
              <a:ext cx="14133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urity 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30320" y="2701800"/>
              <a:ext cx="13539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30760" y="2701800"/>
              <a:ext cx="13539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62880" y="2701800"/>
              <a:ext cx="13539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6" idx="1"/>
              <a:endCxn id="297" idx="0"/>
            </p:cNvCxnSpPr>
            <p:nvPr/>
          </p:nvCxnSpPr>
          <p:spPr>
            <a:xfrm flipV="1" rot="10800000">
              <a:off x="1708200" y="2302200"/>
              <a:ext cx="2092680" cy="3992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6" idx="3"/>
              <a:endCxn id="299" idx="0"/>
            </p:cNvCxnSpPr>
            <p:nvPr/>
          </p:nvCxnSpPr>
          <p:spPr>
            <a:xfrm>
              <a:off x="5216040" y="2302920"/>
              <a:ext cx="2125080" cy="3992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6" idx="2"/>
              <a:endCxn id="298" idx="0"/>
            </p:cNvCxnSpPr>
            <p:nvPr/>
          </p:nvCxnSpPr>
          <p:spPr>
            <a:xfrm>
              <a:off x="4508280" y="2472840"/>
              <a:ext cx="1080" cy="229320"/>
            </a:xfrm>
            <a:prstGeom prst="straightConnector1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03" name=""/>
            <p:cNvSpPr/>
            <p:nvPr/>
          </p:nvSpPr>
          <p:spPr>
            <a:xfrm>
              <a:off x="2192760" y="3253320"/>
              <a:ext cx="196596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ic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50320" y="3253320"/>
              <a:ext cx="199440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fic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" name=""/>
            <p:cNvCxnSpPr>
              <a:stCxn id="298" idx="1"/>
              <a:endCxn id="303" idx="0"/>
            </p:cNvCxnSpPr>
            <p:nvPr/>
          </p:nvCxnSpPr>
          <p:spPr>
            <a:xfrm flipV="1" rot="10800000">
              <a:off x="3175920" y="2871360"/>
              <a:ext cx="653040" cy="3974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06" name=""/>
            <p:cNvCxnSpPr>
              <a:stCxn id="298" idx="3"/>
              <a:endCxn id="304" idx="0"/>
            </p:cNvCxnSpPr>
            <p:nvPr/>
          </p:nvCxnSpPr>
          <p:spPr>
            <a:xfrm>
              <a:off x="5186520" y="2871720"/>
              <a:ext cx="1162440" cy="3974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07" name=""/>
            <p:cNvSpPr/>
            <p:nvPr/>
          </p:nvSpPr>
          <p:spPr>
            <a:xfrm>
              <a:off x="395280" y="4273560"/>
              <a:ext cx="1478160" cy="534960"/>
            </a:xfrm>
            <a:prstGeom prst="roundRect">
              <a:avLst>
                <a:gd name="adj" fmla="val 16667"/>
              </a:avLst>
            </a:prstGeom>
            <a:solidFill>
              <a:srgbClr val="9191ff">
                <a:alpha val="97000"/>
              </a:srgbClr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Commitment to Per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60560" y="4273560"/>
              <a:ext cx="1147680" cy="534960"/>
            </a:xfrm>
            <a:prstGeom prst="roundRect">
              <a:avLst>
                <a:gd name="adj" fmla="val 16667"/>
              </a:avLst>
            </a:prstGeom>
            <a:solidFill>
              <a:srgbClr val="9191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Ability to Per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08320" y="4273560"/>
              <a:ext cx="1712880" cy="534960"/>
            </a:xfrm>
            <a:prstGeom prst="roundRect">
              <a:avLst>
                <a:gd name="adj" fmla="val 16667"/>
              </a:avLst>
            </a:prstGeom>
            <a:solidFill>
              <a:srgbClr val="9191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Directing 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56200" y="4273560"/>
              <a:ext cx="1311120" cy="534960"/>
            </a:xfrm>
            <a:prstGeom prst="roundRect">
              <a:avLst>
                <a:gd name="adj" fmla="val 16667"/>
              </a:avLst>
            </a:prstGeom>
            <a:solidFill>
              <a:srgbClr val="9191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Ver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75000" y="3741840"/>
              <a:ext cx="1182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7d"/>
                  </a:solidFill>
                  <a:latin typeface="Arial"/>
                </a:rPr>
                <a:t>Common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>
              <a:stCxn id="303" idx="4"/>
              <a:endCxn id="307" idx="0"/>
            </p:cNvCxnSpPr>
            <p:nvPr/>
          </p:nvCxnSpPr>
          <p:spPr>
            <a:xfrm rot="5400000">
              <a:off x="1854360" y="2951640"/>
              <a:ext cx="602280" cy="204228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3" idx="4"/>
              <a:endCxn id="308" idx="0"/>
            </p:cNvCxnSpPr>
            <p:nvPr/>
          </p:nvCxnSpPr>
          <p:spPr>
            <a:xfrm rot="5400000">
              <a:off x="2554560" y="3651840"/>
              <a:ext cx="602280" cy="64224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3" idx="4"/>
              <a:endCxn id="309" idx="0"/>
            </p:cNvCxnSpPr>
            <p:nvPr/>
          </p:nvCxnSpPr>
          <p:spPr>
            <a:xfrm flipH="1" rot="16200000">
              <a:off x="3319200" y="3528000"/>
              <a:ext cx="602280" cy="88956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03" idx="4"/>
              <a:endCxn id="310" idx="0"/>
            </p:cNvCxnSpPr>
            <p:nvPr/>
          </p:nvCxnSpPr>
          <p:spPr>
            <a:xfrm flipH="1" rot="16200000">
              <a:off x="4143240" y="2704680"/>
              <a:ext cx="602280" cy="253584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16" name=""/>
            <p:cNvSpPr/>
            <p:nvPr/>
          </p:nvSpPr>
          <p:spPr>
            <a:xfrm>
              <a:off x="2019240" y="5256720"/>
              <a:ext cx="2314800" cy="73548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ic Pract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07" idx="2"/>
              <a:endCxn id="316" idx="0"/>
            </p:cNvCxnSpPr>
            <p:nvPr/>
          </p:nvCxnSpPr>
          <p:spPr>
            <a:xfrm flipH="1" rot="16200000">
              <a:off x="1847880" y="4094640"/>
              <a:ext cx="614880" cy="204228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8" idx="2"/>
              <a:endCxn id="316" idx="0"/>
            </p:cNvCxnSpPr>
            <p:nvPr/>
          </p:nvCxnSpPr>
          <p:spPr>
            <a:xfrm flipH="1" rot="16200000">
              <a:off x="2548800" y="4794480"/>
              <a:ext cx="614880" cy="64224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309" idx="2"/>
              <a:endCxn id="316" idx="0"/>
            </p:cNvCxnSpPr>
            <p:nvPr/>
          </p:nvCxnSpPr>
          <p:spPr>
            <a:xfrm rot="5400000">
              <a:off x="3313080" y="4671000"/>
              <a:ext cx="614880" cy="88956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310" idx="2"/>
              <a:endCxn id="316" idx="0"/>
            </p:cNvCxnSpPr>
            <p:nvPr/>
          </p:nvCxnSpPr>
          <p:spPr>
            <a:xfrm rot="5400000">
              <a:off x="4136400" y="3848040"/>
              <a:ext cx="614880" cy="253584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6203880" y="5407560"/>
              <a:ext cx="246852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fic Pract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2" name=""/>
            <p:cNvCxnSpPr>
              <a:stCxn id="304" idx="6"/>
              <a:endCxn id="321" idx="0"/>
            </p:cNvCxnSpPr>
            <p:nvPr/>
          </p:nvCxnSpPr>
          <p:spPr>
            <a:xfrm>
              <a:off x="7308720" y="3470040"/>
              <a:ext cx="131040" cy="1953000"/>
            </a:xfrm>
            <a:prstGeom prst="bent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74FD-055D-444F-89F1-30DC4A8510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FA4475-9EA5-4187-911A-92CBC75B47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presentação por estág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a Específica (da AP Planejamento do Proje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G1 Realizar as Estimativas do Proje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áticas Específicas (da AP Planejamento do Proje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imar o escopo do proje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izar as estimativas para os produtos de trabalh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inir o ciclo de vida do proje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izar as estimativas de esforço e cus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D472-027F-4CD4-A091-B45A3E6B19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4AAB6E-1256-4FD9-AC84-EE282BEAFE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Estrutura do Modelo -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presentação por estág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empl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ta Genérica (do Nível de Maturidade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itucionalizar um processo gerenci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áticas Genéricas (do Nível de Maturidade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abelecer uma política organizacional (Commitment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anejar o processo (Hability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er recursos (Hability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ribuir responsabilidades (Hability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inar as pessoas (Hability to perfor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renciar a configuração (Direct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entificar e envolver 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akeholder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levantes (Direct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nitorar e controlar o processo (Direct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valiar objetivamente a aderência ao processo (Verifying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12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sar o status com a alta gerência (Verifying Implement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FE36-D40B-4A51-86BE-80386410B54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22CA9A-AE67-4669-A6E3-1BD9656DDE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3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utilização de modelos para a melhoria de processos vêm sendo uma prática constante em organizações de diversas áreas da indústria e do governo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cesso do Modelo SW-CMM foi uma grande motivação para a criação de modelos de abrangência em outras areas não abordadas pelo SW-CM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liferação de Modelos e Padrões como: SW-CMM, IPD-CMM, People CMM,  System Engineering Capability Model, etc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odos esses modelos são utilizados na atualidade em todo o mundo, sejam em conjunto ou de forma individual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08D7-8EDE-4C00-ABEA-C6A0AF0984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677F0D-8037-4C2E-A7A1-14A99474F2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ficando a melh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10920" y="2521080"/>
            <a:ext cx="6104160" cy="4147920"/>
            <a:chOff x="610920" y="2521080"/>
            <a:chExt cx="6104160" cy="4147920"/>
          </a:xfrm>
        </p:grpSpPr>
        <p:grpSp>
          <p:nvGrpSpPr>
            <p:cNvPr id="330" name=""/>
            <p:cNvGrpSpPr/>
            <p:nvPr/>
          </p:nvGrpSpPr>
          <p:grpSpPr>
            <a:xfrm>
              <a:off x="617760" y="2968560"/>
              <a:ext cx="6097320" cy="3421800"/>
              <a:chOff x="617760" y="2968560"/>
              <a:chExt cx="6097320" cy="3421800"/>
            </a:xfrm>
          </p:grpSpPr>
          <p:sp>
            <p:nvSpPr>
              <p:cNvPr id="331" name=""/>
              <p:cNvSpPr/>
              <p:nvPr/>
            </p:nvSpPr>
            <p:spPr>
              <a:xfrm>
                <a:off x="5592600" y="5704920"/>
                <a:ext cx="690120" cy="685440"/>
              </a:xfrm>
              <a:prstGeom prst="rect">
                <a:avLst/>
              </a:prstGeom>
              <a:gradFill rotWithShape="0">
                <a:gsLst>
                  <a:gs pos="0">
                    <a:srgbClr val="d4a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92600" y="2969640"/>
                <a:ext cx="684000" cy="6854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92600" y="3654000"/>
                <a:ext cx="684000" cy="6948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89360" y="4338000"/>
                <a:ext cx="690480" cy="6807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91160" y="5020920"/>
                <a:ext cx="690120" cy="691560"/>
              </a:xfrm>
              <a:prstGeom prst="rect">
                <a:avLst/>
              </a:prstGeom>
              <a:gradFill rotWithShape="0">
                <a:gsLst>
                  <a:gs pos="0">
                    <a:srgbClr val="9933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7760" y="6386040"/>
                <a:ext cx="6097320" cy="0"/>
              </a:xfrm>
              <a:prstGeom prst="line">
                <a:avLst/>
              </a:prstGeom>
              <a:ln w="20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7760" y="5701680"/>
                <a:ext cx="6097320" cy="0"/>
              </a:xfrm>
              <a:prstGeom prst="line">
                <a:avLst/>
              </a:prstGeom>
              <a:ln w="20160">
                <a:solidFill>
                  <a:srgbClr val="cc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760" y="5019120"/>
                <a:ext cx="6097320" cy="0"/>
              </a:xfrm>
              <a:prstGeom prst="line">
                <a:avLst/>
              </a:prstGeom>
              <a:ln w="2016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7760" y="4335120"/>
                <a:ext cx="6097320" cy="0"/>
              </a:xfrm>
              <a:prstGeom prst="line">
                <a:avLst/>
              </a:prstGeom>
              <a:ln w="201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7760" y="3652200"/>
                <a:ext cx="6097320" cy="0"/>
              </a:xfrm>
              <a:prstGeom prst="line">
                <a:avLst/>
              </a:prstGeom>
              <a:ln w="20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7760" y="2968560"/>
                <a:ext cx="6097320" cy="0"/>
              </a:xfrm>
              <a:prstGeom prst="line">
                <a:avLst/>
              </a:prstGeom>
              <a:ln w="20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PlaceHolder 3"/>
            <p:cNvSpPr>
              <a:spLocks noGrp="1"/>
            </p:cNvSpPr>
            <p:nvPr>
              <p:ph/>
            </p:nvPr>
          </p:nvSpPr>
          <p:spPr>
            <a:xfrm>
              <a:off x="610920" y="2521080"/>
              <a:ext cx="5467320" cy="41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720" rIns="90720" tIns="44640" bIns="44640" anchor="t">
              <a:normAutofit/>
            </a:bodyPr>
            <a:p>
              <a:pPr marL="171360" indent="0">
                <a:lnSpc>
                  <a:spcPct val="40000"/>
                </a:lnSpc>
                <a:spcAft>
                  <a:spcPts val="88"/>
                </a:spcAft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Aft>
                  <a:spcPts val="88"/>
                </a:spcAft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5  Optimiz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spcBef>
                  <a:spcPts val="349"/>
                </a:spcBef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6666ff"/>
                  </a:solidFill>
                  <a:latin typeface="Verdana"/>
                </a:rPr>
                <a:t>4  Quantitatively Manage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6699ff"/>
                  </a:solidFill>
                  <a:latin typeface="Verdana"/>
                </a:rPr>
                <a:t>3  Define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9966ff"/>
                  </a:solidFill>
                  <a:latin typeface="Verdana"/>
                </a:rPr>
                <a:t>2  Manage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1312"/>
                </a:spcBef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cc99ff"/>
                  </a:solidFill>
                  <a:latin typeface="Verdana"/>
                </a:rPr>
                <a:t>1  Performe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0">
                <a:lnSpc>
                  <a:spcPct val="85000"/>
                </a:lnSpc>
                <a:spcBef>
                  <a:spcPts val="349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ff3399"/>
                  </a:solidFill>
                  <a:latin typeface="Verdana"/>
                </a:rPr>
                <a:t>0  Incomplet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720000" y="184464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ac"/>
                </a:solidFill>
                <a:latin typeface="Verdana"/>
              </a:rPr>
              <a:t>Níveis de Capa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68360" y="5877000"/>
            <a:ext cx="49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68360" y="58053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que não está sendo executado ainda, ou está sendo parcialmente executado. Uma ou mais metas específicas da área de processo não são satisfei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40000" y="515772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executado é um processo que satisfaz todas as metas específicas de uma área de processo</a:t>
            </a:r>
            <a:r>
              <a:rPr b="0" lang="en-US" sz="1200" spc="-1" strike="noStrike">
                <a:solidFill>
                  <a:srgbClr val="00007d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40000" y="443700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gerenciado é planejado e sua execução é acompanhada através do planejamento ini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40000" y="37893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adaptado a partir do conjunto de processos padrões da organização de acordo com as diretrizes definidas pela organiz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32000" y="314172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definido e controlado através de técnicas estatísticas ou outras técnicas quantitativas.</a:t>
            </a:r>
            <a:r>
              <a:rPr b="0" lang="en-US" sz="1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11280" y="2421000"/>
            <a:ext cx="61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7d"/>
                </a:solidFill>
                <a:latin typeface="Verdana"/>
              </a:rPr>
              <a:t>Um processo gerenciado quantitativamente que é modificado e adaptado a fim de atingir objetivos organizacionais tanto atuais, como futuros.</a:t>
            </a:r>
            <a:r>
              <a:rPr b="0" lang="en-US" sz="1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1AEC-F286-4861-8F5F-6CAE23AB40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72B823-81C6-48E5-A4ED-106325CF2E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 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919160"/>
            <a:ext cx="7427880" cy="41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files de Capac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Área de processo e níveis de capacidade selecionados para a melhoria de process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00000" y="2565360"/>
          <a:ext cx="7427880" cy="1919160"/>
        </p:xfrm>
        <a:graphic>
          <a:graphicData uri="http://schemas.openxmlformats.org/drawingml/2006/table">
            <a:tbl>
              <a:tblPr/>
              <a:tblGrid>
                <a:gridCol w="1238400"/>
                <a:gridCol w="1238040"/>
                <a:gridCol w="1238400"/>
                <a:gridCol w="1236600"/>
                <a:gridCol w="1238400"/>
                <a:gridCol w="1238040"/>
              </a:tblGrid>
              <a:tr h="406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íveis de Capacidade selecionados para o pro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947880" y="5157720"/>
          <a:ext cx="671400" cy="36504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3725-22A9-46B8-8BBD-774C8EACF53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CFBDEF-870D-4F33-9888-7AF22A63FF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MMI - Estrutura do Model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resentação contínu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71640" y="2719440"/>
            <a:ext cx="7200720" cy="3476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rutura dos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31A3-FD79-4096-BF9A-356BEE543EE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226729-E64E-4904-B6E7-7FBA9062C2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MI - Áreas de Process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4360" y="1413000"/>
            <a:ext cx="776772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ação Por Estág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537080" cy="452628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395280" y="2421000"/>
            <a:ext cx="1584360" cy="3816360"/>
            <a:chOff x="395280" y="2421000"/>
            <a:chExt cx="1584360" cy="3816360"/>
          </a:xfrm>
        </p:grpSpPr>
        <p:sp>
          <p:nvSpPr>
            <p:cNvPr id="362" name=""/>
            <p:cNvSpPr/>
            <p:nvPr/>
          </p:nvSpPr>
          <p:spPr>
            <a:xfrm>
              <a:off x="395280" y="2421000"/>
              <a:ext cx="431640" cy="328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26920" y="2781360"/>
              <a:ext cx="11527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6920" y="40053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6920" y="4005360"/>
              <a:ext cx="115272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6920" y="4005360"/>
              <a:ext cx="115272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9AD7-0CEC-4125-8288-0D485543BAF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26F5EA-F222-4852-B9FA-69B7F8C0DE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I - Áreas de Proces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767720" cy="35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ação Contínu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751640" cy="4561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95280" y="2075040"/>
            <a:ext cx="1800360" cy="4123440"/>
            <a:chOff x="395280" y="2075040"/>
            <a:chExt cx="1800360" cy="4123440"/>
          </a:xfrm>
        </p:grpSpPr>
        <p:sp>
          <p:nvSpPr>
            <p:cNvPr id="371" name=""/>
            <p:cNvSpPr/>
            <p:nvPr/>
          </p:nvSpPr>
          <p:spPr>
            <a:xfrm>
              <a:off x="395280" y="2075040"/>
              <a:ext cx="431640" cy="412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826920" y="2565360"/>
              <a:ext cx="136872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6920" y="400536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6920" y="4005360"/>
              <a:ext cx="13687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6920" y="4005360"/>
              <a:ext cx="136872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CCB8-DE07-4B37-B0ED-C1D1C2F33EF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BB99C8-A296-492B-8ADF-E55B0E54A4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Áreas de Proces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3986280" cy="5112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292720" y="59500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mento Equiva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0D74-50F2-446F-AAEE-AB3C9E1593BD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EA256D-3536-4B65-AA5B-63F2A9908A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W-CMM v1.1 vs. CMM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vas áreas de processo foram acrescent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lhores práticas de melhoria de processo foram adicionadas aos requisitos do CMM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ção dos conceitos de metas e práticas genéricas para suportar as representações </a:t>
            </a:r>
            <a:r>
              <a:rPr b="1" lang="en-US" sz="1800" spc="-1" strike="noStrike">
                <a:solidFill>
                  <a:srgbClr val="ff6699"/>
                </a:solidFill>
                <a:latin typeface="Verdana"/>
              </a:rPr>
              <a:t>contínu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por estág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D9C9-F48A-4F49-A097-DFBAC8C31AD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D372E7-206A-485A-A338-436803E6FD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W-CMM v1.1 vs. CMM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ível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das as práticas referentes a medição e análise foram removidas do CMMI e incorporadas em uma nova área de processo Medição e Análi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ível 3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área de processo SPE -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 Product Enginee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i substituída por três novas áreas no CMM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envolvimento dos requisit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envolvimento da solução técnic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ção do produt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isão por pares -&gt; nova área de processo de Verifica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ação de uma nova área para o Gerenciamento de ris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áreas de processo Gerenciamento de Projeto de Software e Coordenação entre grupos foram combinadas na área de Gerenciamento de Projeto Integrad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ação da nova área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cision Analysis and Resol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148428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íveis de maturidades mais impac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8FB9-90A8-4ED7-A250-27C2A0877C0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9D5F14-44DD-480D-AD5F-4F7C2473A1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3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250920" y="1362240"/>
            <a:ext cx="8575560" cy="5473440"/>
            <a:chOff x="250920" y="1362240"/>
            <a:chExt cx="8575560" cy="5473440"/>
          </a:xfrm>
        </p:grpSpPr>
        <p:sp>
          <p:nvSpPr>
            <p:cNvPr id="385" name=""/>
            <p:cNvSpPr/>
            <p:nvPr/>
          </p:nvSpPr>
          <p:spPr>
            <a:xfrm>
              <a:off x="1428840" y="1362240"/>
              <a:ext cx="7397640" cy="54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fect Preven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Causal Analysis and Re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chnology Change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al Innovation &amp; 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 Change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antitative Process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al Process 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Quality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Quantitative Projec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 Process Focu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 Process Focu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 Process Definition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 Process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ining Progra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Organizational 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grated Software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Integrated Projec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Risk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Product Engr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Requirements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Technical 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Product Inte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group Coordination </a:t>
              </a: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er Reviews</a:t>
              </a: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9999c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Valid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7d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Decision Analysis and Re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irements Manag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Requirements Management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Project Plann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Project 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Project Tracking &amp; Overs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Project Monitoring and Contro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Subcontract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Supplier Agreemen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Quality Assu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Product &amp; Process Quality Assu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ftware Configuration Mgm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9999ff"/>
                  </a:solidFill>
                  <a:latin typeface="Arial"/>
                </a:rPr>
                <a:t>Configuration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83000"/>
                  <a:tab algn="l" pos="4290840"/>
                  <a:tab algn="l" pos="5079960"/>
                  <a:tab algn="l" pos="58881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7d"/>
                  </a:solidFill>
                  <a:latin typeface="Arial"/>
                </a:rPr>
                <a:t>Measurement and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0000" y="2144520"/>
              <a:ext cx="1155600" cy="559080"/>
            </a:xfrm>
            <a:prstGeom prst="roundRect">
              <a:avLst>
                <a:gd name="adj" fmla="val 12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LEVEL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9999ff"/>
                  </a:solidFill>
                  <a:latin typeface="Arial"/>
                </a:rPr>
                <a:t>MANAG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8160" y="4660920"/>
              <a:ext cx="1155600" cy="558720"/>
            </a:xfrm>
            <a:prstGeom prst="roundRect">
              <a:avLst>
                <a:gd name="adj" fmla="val 12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9999ff"/>
                  </a:solidFill>
                  <a:latin typeface="Arial"/>
                </a:rPr>
                <a:t>DEFI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0920" y="6259320"/>
              <a:ext cx="1155600" cy="559080"/>
            </a:xfrm>
            <a:prstGeom prst="roundRect">
              <a:avLst>
                <a:gd name="adj" fmla="val 12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9999ff"/>
                  </a:solidFill>
                  <a:latin typeface="Arial"/>
                </a:rPr>
                <a:t>REPEA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960" y="2044800"/>
              <a:ext cx="8272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6960" y="2693880"/>
              <a:ext cx="82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960" y="5219640"/>
              <a:ext cx="82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6960" y="6835680"/>
              <a:ext cx="82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0920" y="331920"/>
            <a:ext cx="7767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-CMM v1.1 vs. CMM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70000" y="1484280"/>
            <a:ext cx="4697280" cy="3301920"/>
            <a:chOff x="270000" y="1484280"/>
            <a:chExt cx="4697280" cy="3301920"/>
          </a:xfrm>
        </p:grpSpPr>
        <p:sp>
          <p:nvSpPr>
            <p:cNvPr id="395" name=""/>
            <p:cNvSpPr/>
            <p:nvPr/>
          </p:nvSpPr>
          <p:spPr>
            <a:xfrm>
              <a:off x="270000" y="1484280"/>
              <a:ext cx="1155600" cy="558720"/>
            </a:xfrm>
            <a:prstGeom prst="roundRect">
              <a:avLst>
                <a:gd name="adj" fmla="val 12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LEVEL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9999ff"/>
                  </a:solidFill>
                  <a:latin typeface="Arial"/>
                </a:rPr>
                <a:t>OPTIMIZ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843280" y="4552920"/>
              <a:ext cx="2058840" cy="23184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670200" y="3552480"/>
              <a:ext cx="1192320" cy="101916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19440" y="3921120"/>
              <a:ext cx="1347840" cy="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19440" y="3921120"/>
              <a:ext cx="1328760" cy="48096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19440" y="3940200"/>
              <a:ext cx="1347840" cy="65412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19440" y="3978360"/>
              <a:ext cx="1347840" cy="80784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19440" y="3940200"/>
              <a:ext cx="1290600" cy="21096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1520" y="3533760"/>
              <a:ext cx="1058760" cy="24444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00600" y="3533760"/>
              <a:ext cx="1000080" cy="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76560" y="1677960"/>
              <a:ext cx="981360" cy="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341960" y="1774800"/>
              <a:ext cx="537840" cy="7776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1484280"/>
              <a:ext cx="1712880" cy="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780000" y="2420640"/>
              <a:ext cx="1079280" cy="14436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95640" y="2276640"/>
              <a:ext cx="863640" cy="14436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2598-C86A-4A66-BA97-1F56DCA27B66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28CDD3-70A1-414C-BB11-FFDF6307CC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4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6772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CMMI é considerado o futuro da melhoria de process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versas pesquisas têm corroborado essa premiss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mais abrangente, engloba diversas disciplinas em um único modelo, com uma única estrutura, metodologia comum, nomenclatura padrã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de ser utilizado no desenvolvimento de produtos, serviços e manuten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truído sobre a estrutra do CMM, o modelo de melhoria de processo mais difundido e utilizado na comunidade de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une melhores práticas de outros model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4FB5-45D3-4DCC-B701-4816A1B7ABA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D654CF-F794-4483-8B7E-841905E668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problemas surgem com a utilização de diversos model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dundâncias existentes nos processos definidos com base em diferentes model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ores custos com treinament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ferentes metodologias de avali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cessidades de pessoas com conhecimentos específicos nos modelos adot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6E8E-E51C-4E7A-8697-884EA47E94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763EFC-4ED1-4D2D-9123-2FA543B9B6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4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6772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to que ainda está em uso há muito pouco tempo, ainda são poucas as experiências relatadas que desmonstram o  retorno no investimento realizado e benefícios quantificáveis do uso do CMM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retorno de investimentos leva um certo tempo para ser caracterizad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entan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diversos benefícios relatados através da implantação do SW-CMM podem ser considerados para o CMMI, umas vez que praticamente todos os conceitos foram mantidos no projeto CMMI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3F65-5DB0-4CDC-B896-BDBB5AD5ED2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17E221-6486-4343-8296-517362EE71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1449360"/>
            <a:ext cx="776736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Capability Maturity Model Integr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5766120" y="6021360"/>
            <a:ext cx="293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ibele Ataide – Out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80"/>
                </a:solidFill>
                <a:latin typeface="Verdana"/>
              </a:rPr>
              <a:t>Cibele.ataide@cesar.org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666880" y="3174840"/>
            <a:ext cx="3199320" cy="2990160"/>
            <a:chOff x="2666880" y="3174840"/>
            <a:chExt cx="3199320" cy="29901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2880360" y="3174840"/>
              <a:ext cx="2985840" cy="248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666880" y="5708520"/>
              <a:ext cx="1821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24B7-239E-45B1-9FD7-76297314BBDA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0CFB88-E5A7-4E80-8BD8-80CFA084D2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rold Keefer, Hanna Lubecka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he CMMI in 45 Minutes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c.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MMI Product Development Team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MMI for Systems Engineering and Software Engineering – Continuous Representation, Version 1.1. 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CMU/SEI-2002-TR-001, Dec. 200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MMI Product Development Team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MMI for Systems Engineering and Software Engineering – Staged Representation, Version 1.1. 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CMU/SEI-2002-TR-001, Dec. 200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nnis A. Ahern, Aaron Clouse, Richard Turner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MMI Distilled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nson-Wesley, 200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pgrading from SW-CMM to CMM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Engineering Institute, The Road to CMM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y Beth Chrissis, Mike Konrad, Sandy Shrum, CMMI Guidelines for Process Integration and Product Improvement, Addinson-Wesley, 200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89D5-A667-45E2-AC35-806CC49C596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171CEA-5197-4214-ABED-8965F9F8AD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cessidade de um único modelo que atenda aos requisitos principais dos diversos modelos exist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que resolva os problemas relacionados a adoção de múltiplos modelo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DB3F-871A-4624-82BD-301A10A05F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9C22C5-9DA2-4E2F-BEF0-3B9D951413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Introduçã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nas de organizações do mundo inteiro estão migrando seus esforços de melhoria de processos para o modelo integrado CMMI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é o final de 2002 cerca de 7000 pessoas realizaram o curso de Introdução ao CMMI ministrado pelo SEI e pelos seus parceiros autoriz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Brasil foi autorizado a ministrar esse treinamento desde junho de 2003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 único instrutor Brasileiro é capaz de ministrar esse treinamento (cerca de 140 existem no mundo inteir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E8A3-F819-497F-B813-5205A9996A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9775D0-DD2C-4C8D-AF18-EB6929D11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Introduçã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étodo de avaliação utilizado: SCAM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étodo que reune as melhores práticas do CBA-PI e S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étodos amplamente utilizados pelo SW-CMM e outros modelos de melhoria de process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stem cerca de 160 avaliadores SCAMPI no mun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orizados pelo SEI a realizar avaliações do CMM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ada a adoção inicial do CMM, a adoção ao CMMI têm sido significantemente mais rápid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CMMI foi construido sobre a base de conhecimento do SW-CM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 também sobre outros modelos de melhoria de process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BBB0-2867-42C2-B498-8F778C0B19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62E5F0-C62B-4E75-9351-89063EC9C6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Introduçã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sta de um modelo integrado que pode ser utilizado em várias disciplina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ui foco nas disciplinas 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envolvimento integrado do produto e pro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envolvimento de sistem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envolvimento de Softwar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ontrata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53F0-C998-4219-8CAC-C0D07000EC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E4E680-9A0B-4DB2-87E2-4131BDD368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- Introduçã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É um modelo que descreve orientações para a definição e implantação de process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 que” X “Como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modelo não descreve processo algum, são orientações definidas através das práticas especific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75760" y="3700440"/>
            <a:ext cx="2386800" cy="1024200"/>
            <a:chOff x="2975760" y="3700440"/>
            <a:chExt cx="2386800" cy="1024200"/>
          </a:xfrm>
        </p:grpSpPr>
        <p:sp>
          <p:nvSpPr>
            <p:cNvPr id="130" name=""/>
            <p:cNvSpPr/>
            <p:nvPr/>
          </p:nvSpPr>
          <p:spPr>
            <a:xfrm>
              <a:off x="2975760" y="399888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13040" y="370044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5560" y="42210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03880" y="39988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0" idx="3"/>
              <a:endCxn id="131" idx="1"/>
            </p:cNvCxnSpPr>
            <p:nvPr/>
          </p:nvCxnSpPr>
          <p:spPr>
            <a:xfrm flipV="1">
              <a:off x="3276360" y="3852000"/>
              <a:ext cx="432360" cy="29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0" idx="3"/>
              <a:endCxn id="132" idx="1"/>
            </p:cNvCxnSpPr>
            <p:nvPr/>
          </p:nvCxnSpPr>
          <p:spPr>
            <a:xfrm>
              <a:off x="3276360" y="4151160"/>
              <a:ext cx="4323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31" idx="3"/>
              <a:endCxn id="133" idx="1"/>
            </p:cNvCxnSpPr>
            <p:nvPr/>
          </p:nvCxnSpPr>
          <p:spPr>
            <a:xfrm>
              <a:off x="4014360" y="3852360"/>
              <a:ext cx="384840" cy="29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2" idx="3"/>
              <a:endCxn id="133" idx="1"/>
            </p:cNvCxnSpPr>
            <p:nvPr/>
          </p:nvCxnSpPr>
          <p:spPr>
            <a:xfrm flipV="1">
              <a:off x="4016520" y="4150800"/>
              <a:ext cx="38304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" name=""/>
            <p:cNvSpPr/>
            <p:nvPr/>
          </p:nvSpPr>
          <p:spPr>
            <a:xfrm>
              <a:off x="4788000" y="414972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17960" y="4724280"/>
              <a:ext cx="1454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0" idx="2"/>
              <a:endCxn id="139" idx="0"/>
            </p:cNvCxnSpPr>
            <p:nvPr/>
          </p:nvCxnSpPr>
          <p:spPr>
            <a:xfrm flipH="1">
              <a:off x="3117240" y="4303800"/>
              <a:ext cx="6840" cy="4212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41" name=""/>
            <p:cNvCxnSpPr>
              <a:stCxn id="133" idx="2"/>
              <a:endCxn id="139" idx="1"/>
            </p:cNvCxnSpPr>
            <p:nvPr/>
          </p:nvCxnSpPr>
          <p:spPr>
            <a:xfrm>
              <a:off x="4559040" y="4303800"/>
              <a:ext cx="13320" cy="4212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42" name=""/>
            <p:cNvSpPr/>
            <p:nvPr/>
          </p:nvSpPr>
          <p:spPr>
            <a:xfrm>
              <a:off x="3851280" y="4508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060720" y="4724280"/>
            <a:ext cx="1582560" cy="1455480"/>
            <a:chOff x="3060720" y="4724280"/>
            <a:chExt cx="1582560" cy="1455480"/>
          </a:xfrm>
        </p:grpSpPr>
        <p:sp>
          <p:nvSpPr>
            <p:cNvPr id="144" name=""/>
            <p:cNvSpPr/>
            <p:nvPr/>
          </p:nvSpPr>
          <p:spPr>
            <a:xfrm>
              <a:off x="3736800" y="4724280"/>
              <a:ext cx="21600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7640" y="5373720"/>
              <a:ext cx="21564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60720" y="5445000"/>
              <a:ext cx="21600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4" idx="2"/>
              <a:endCxn id="146" idx="0"/>
            </p:cNvCxnSpPr>
            <p:nvPr/>
          </p:nvCxnSpPr>
          <p:spPr>
            <a:xfrm flipV="1" rot="10800000">
              <a:off x="3168000" y="4831920"/>
              <a:ext cx="568800" cy="613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8" name=""/>
            <p:cNvCxnSpPr>
              <a:stCxn id="146" idx="4"/>
              <a:endCxn id="145" idx="4"/>
            </p:cNvCxnSpPr>
            <p:nvPr/>
          </p:nvCxnSpPr>
          <p:spPr>
            <a:xfrm flipH="1" flipV="1" rot="5400000">
              <a:off x="3815280" y="4941360"/>
              <a:ext cx="72000" cy="1367640"/>
            </a:xfrm>
            <a:prstGeom prst="curvedConnector5">
              <a:avLst>
                <a:gd name="adj1" fmla="val -724120"/>
                <a:gd name="adj2" fmla="val 50000"/>
                <a:gd name="adj3" fmla="val -72412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9" name=""/>
            <p:cNvCxnSpPr>
              <a:stCxn id="144" idx="6"/>
              <a:endCxn id="145" idx="0"/>
            </p:cNvCxnSpPr>
            <p:nvPr/>
          </p:nvCxnSpPr>
          <p:spPr>
            <a:xfrm>
              <a:off x="3952440" y="4832280"/>
              <a:ext cx="583560" cy="542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" name=""/>
            <p:cNvSpPr/>
            <p:nvPr/>
          </p:nvSpPr>
          <p:spPr>
            <a:xfrm>
              <a:off x="3305160" y="52941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690560" y="5805360"/>
            <a:ext cx="289080" cy="863640"/>
            <a:chOff x="1690560" y="5805360"/>
            <a:chExt cx="289080" cy="863640"/>
          </a:xfrm>
        </p:grpSpPr>
        <p:sp>
          <p:nvSpPr>
            <p:cNvPr id="152" name=""/>
            <p:cNvSpPr/>
            <p:nvPr/>
          </p:nvSpPr>
          <p:spPr>
            <a:xfrm>
              <a:off x="1763640" y="580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90560" y="5948280"/>
              <a:ext cx="289080" cy="433080"/>
            </a:xfrm>
            <a:custGeom>
              <a:avLst/>
              <a:gdLst>
                <a:gd name="textAreaLeft" fmla="*/ 14040 w 289080"/>
                <a:gd name="textAreaRight" fmla="*/ 275040 w 289080"/>
                <a:gd name="textAreaTop" fmla="*/ 14040 h 433080"/>
                <a:gd name="textAreaBottom" fmla="*/ 419040 h 433080"/>
              </a:gdLst>
              <a:ahLst/>
              <a:rect l="textAreaLeft" t="textAreaTop" r="textAreaRight" b="textAreaBottom"/>
              <a:pathLst>
                <a:path w="21600" h="32346">
                  <a:moveTo>
                    <a:pt x="3600" y="0"/>
                  </a:moveTo>
                  <a:arcTo wR="3600" hR="3600" stAng="16200000" swAng="-5400000"/>
                  <a:lnTo>
                    <a:pt x="0" y="28746"/>
                  </a:lnTo>
                  <a:arcTo wR="3600" hR="3600" stAng="10800000" swAng="-5400000"/>
                  <a:lnTo>
                    <a:pt x="18000" y="32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4960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050920" y="5805360"/>
            <a:ext cx="289080" cy="863640"/>
            <a:chOff x="2050920" y="5805360"/>
            <a:chExt cx="289080" cy="863640"/>
          </a:xfrm>
        </p:grpSpPr>
        <p:sp>
          <p:nvSpPr>
            <p:cNvPr id="157" name=""/>
            <p:cNvSpPr/>
            <p:nvPr/>
          </p:nvSpPr>
          <p:spPr>
            <a:xfrm>
              <a:off x="2124000" y="580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0920" y="5948280"/>
              <a:ext cx="289080" cy="433080"/>
            </a:xfrm>
            <a:custGeom>
              <a:avLst/>
              <a:gdLst>
                <a:gd name="textAreaLeft" fmla="*/ 14040 w 289080"/>
                <a:gd name="textAreaRight" fmla="*/ 275040 w 289080"/>
                <a:gd name="textAreaTop" fmla="*/ 14040 h 433080"/>
                <a:gd name="textAreaBottom" fmla="*/ 419040 h 433080"/>
              </a:gdLst>
              <a:ahLst/>
              <a:rect l="textAreaLeft" t="textAreaTop" r="textAreaRight" b="textAreaBottom"/>
              <a:pathLst>
                <a:path w="21600" h="32346">
                  <a:moveTo>
                    <a:pt x="3600" y="0"/>
                  </a:moveTo>
                  <a:arcTo wR="3600" hR="3600" stAng="16200000" swAng="-5400000"/>
                  <a:lnTo>
                    <a:pt x="0" y="28746"/>
                  </a:lnTo>
                  <a:arcTo wR="3600" hR="3600" stAng="10800000" swAng="-5400000"/>
                  <a:lnTo>
                    <a:pt x="18000" y="32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0996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9564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411280" y="5805360"/>
            <a:ext cx="289080" cy="863640"/>
            <a:chOff x="2411280" y="5805360"/>
            <a:chExt cx="289080" cy="863640"/>
          </a:xfrm>
        </p:grpSpPr>
        <p:sp>
          <p:nvSpPr>
            <p:cNvPr id="162" name=""/>
            <p:cNvSpPr/>
            <p:nvPr/>
          </p:nvSpPr>
          <p:spPr>
            <a:xfrm>
              <a:off x="2484360" y="580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11280" y="5948280"/>
              <a:ext cx="289080" cy="433080"/>
            </a:xfrm>
            <a:custGeom>
              <a:avLst/>
              <a:gdLst>
                <a:gd name="textAreaLeft" fmla="*/ 14040 w 289080"/>
                <a:gd name="textAreaRight" fmla="*/ 275040 w 289080"/>
                <a:gd name="textAreaTop" fmla="*/ 14040 h 433080"/>
                <a:gd name="textAreaBottom" fmla="*/ 419040 h 433080"/>
              </a:gdLst>
              <a:ahLst/>
              <a:rect l="textAreaLeft" t="textAreaTop" r="textAreaRight" b="textAreaBottom"/>
              <a:pathLst>
                <a:path w="21600" h="32346">
                  <a:moveTo>
                    <a:pt x="3600" y="0"/>
                  </a:moveTo>
                  <a:arcTo wR="3600" hR="3600" stAng="16200000" swAng="-5400000"/>
                  <a:lnTo>
                    <a:pt x="0" y="28746"/>
                  </a:lnTo>
                  <a:arcTo wR="3600" hR="3600" stAng="10800000" swAng="-5400000"/>
                  <a:lnTo>
                    <a:pt x="18000" y="32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032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56000" y="6381360"/>
              <a:ext cx="712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1000" y="5590440"/>
            <a:ext cx="1179000" cy="1008360"/>
            <a:chOff x="5031000" y="5590440"/>
            <a:chExt cx="1179000" cy="1008360"/>
          </a:xfrm>
        </p:grpSpPr>
        <p:sp>
          <p:nvSpPr>
            <p:cNvPr id="167" name=""/>
            <p:cNvSpPr/>
            <p:nvPr/>
          </p:nvSpPr>
          <p:spPr>
            <a:xfrm>
              <a:off x="5031000" y="559044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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50280" y="559044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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51F0-0992-4B66-B4F1-E3BE7FC83A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58F302-6D4E-4E01-896D-6076CBB9E5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42:33Z</dcterms:created>
  <dc:creator/>
  <dc:description/>
  <dc:language>en-US</dc:language>
  <cp:lastModifiedBy>cesar</cp:lastModifiedBy>
  <cp:lastPrinted>2002-09-16T13:52:32Z</cp:lastPrinted>
  <dcterms:modified xsi:type="dcterms:W3CDTF">2003-10-29T02:58:10Z</dcterms:modified>
  <cp:revision>155</cp:revision>
  <dc:subject/>
  <dc:title>CMMI – Capability Maturity Model Integrated</dc:title>
</cp:coreProperties>
</file>