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554-9418-4E1E-BC78-A64FCE20E17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ou seja, o gerente de processos tem o poder de guardar um banco de disciplinas e atividades e deixa-los visíveis ou não aos gerentes de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ou seja, o gerente de processos tem o poder de guardar um banco de disciplinas e atividades e deixa-los visíveis ou não aos gerentes de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ou seja, o gerente de processos tem o poder de guardar um banco de disciplinas e atividades e deixa-los visíveis ou não aos gerentes de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ou seja, o gerente de processos tem o poder de guardar um banco de disciplinas e atividades e deixa-los visíveis ou não aos gerentes de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ou seja, o gerente de processos tem o poder de guardar um banco de disciplinas e atividades e deixa-los visíveis ou não aos gerentes de proj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experiência da indústria de software mostra que o insucesso dos projetos tem como principal razão a falta de um processo de software disciplinado, ou seja, a falta de um mecanismo que habilite o gerenciamento e controle da qualidade dos produtos. Seguindo a mesma tendência, já é amplamente aceito que a qualidade de um produto de software seja fortemente determinada pela qualidade do processo utilizado durante o seu desenvolvimento e manutenção (PFLEEGER, 1998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É um ambiente que provê ferramentas para gerenciar tarefas individuais e automação do processo. Para o usuário do ambiente é provida uma janela chamada Agenda, através da qual as tarefas são enviadas para os usuários[Reis.99]. Existem ainda outras ferramentas para o suporte à execução de processos, tais como: Method Editor, Activity Editor, Cooperative Procedure Editor e Work Contex Editor. O Method Editor permite a definição das hierarquias de atividades, enquanto o Activity Editor permite a especificação das entradas, saídas e cargos para as atividades. Através do Cooperative Procedure Editor podem ser modelados os processos detalhados de cada atividade utilizando Redes de Petri. E o Work Contex Editor permite que sejam definidas as janelas onde os agentes executam suas atividad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processo de desenvolvimento de software envolve atividades complexas desempenhadas por pessoas com as mais diversas capacidades.  A descrição formal de um processo de software permite que um modelo de software seja criado e, dessa forma, o processo pode ser analisado, compreendido, automatizado e conseqüentemente amadureci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reconhecimento da importância dos processos e o crescimento da cultura de processo têm levado as organizações à criação de ambientes de engenharia de software cada vez mais eficie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se trabalho se insere no contexto de ambientes do tipo PSEE, que são ambientes de engenharia de software centrados no processo, e fazem a promessa de auxiliar a definição, implantação e acompanhamento de um processo de desenvolvimento de software. Uma vez que o processo é definido, os PSEEs ajudam os usuários a monitorar os processos, automatizar parte deles e prover um guia de execução dos mesmos. 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definição e adoção de uma metodologia para desenvolvimento de sistemas (MDS) são um dos aspectos mais relevantes em organizações desenvolvedoras de software que se preocupam com o processo de melhoria da qualidade dos seus softwares.  O que vem a ser exatamente uma MDS, o seu escopo e a maneira adequada de sua aplicação algumas vezes traz certo nível de confusão, especialmente quando a diferença entre metodologia (ligada ao ciclo de vida de um software) e técnica ou método (estruturado, orientado a objetos, etc.) não está clara. [Dalto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 principal objetivo de uma MDS é a descrição de um processo de desenvolvimento de software, suas fases e atividades, os produtos intermediários (de acordo com as técnicas ou métodos adotados) e os responsáveis pela atividade. Para que uma MDS possa ser efetiva em seus objetivos, é necessário que exista uma Metodologia de Gerência de projetos (MGP) que estabeleça como controlar e dar suporte à sua aplicação. São metodologias que tem focos até certo ponto distintos, mas que são complementares e fundamentais para que o processo de desenvolvimento de software seja controlado, e conseqüentemente, possa ser melhor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tarefas de definir, implantar e acompanhar uma MDS são muito trabalhosas e se tornam muito difíceis de serem concluídas se não houver o apoio de ferramentas especificas para esses tipos de atividades, dificultando o trabalho dos profissionais da área, os quais nesse trabalho serão conhecidos como gerentes de process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 melhor solução para esse problema seria o uso de uma ferramenta que permitisse que, a partir de uma metodologia, um guia de atividades fosse criado para os desenvolvedores. Esse guia deveria deixar claras que atividades devem ser realizadas e em que ordem isso deve ser feito. Desta forma a produtividade dos desenvolvedores irá aumentar, pois terão uma visão geral do que deve ser feito, em que ordem e de que maneira, evitando que fiquem ociosos por esperar uma tarefa a ser realizada ou que atrapalhem o trabalho de outras pessoas pedindo informações de caráter não intel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FCC-F713-48CE-9DF9-254311B4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E36-8C4C-4AA3-986B-D5AA24C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A0A-C09A-44B0-9E64-D5D23ED9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BDA-8C46-48F8-BD54-5602D362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4D85-25B4-48E0-B088-B6B2825D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A0CE-73BB-4E10-8E0A-6CB4E12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032-C339-4CDB-82E3-B2F558C2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2E3-A02E-4842-B5B4-ECAE413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3A48-6A67-45FF-B48C-14C05F82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FBCA-4FA7-4F8E-983F-FE1E1A13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2A3B-27A0-49FB-952E-BA4E52A3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09F-0AD8-4C3F-B737-4796C22B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120-A1C9-4F18-AEFA-6D6C897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AB5-6DA2-4E6A-BD63-F021C243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2D40-534D-48D2-9057-7B027FE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1E3-0008-4389-946F-BF01666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53FA-3C36-40D9-868D-D82ED584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BB6-5C11-4E3D-9F0A-8B72BC6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480-E9A0-46D8-95CA-73362B5D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CB6-A987-44E8-8FAE-38577C3B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B6D5-5D5A-4886-B9A1-76E3D33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0C5-272C-46B6-AF4C-3332C42C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B4F-1DF8-4C0B-AC86-5CE8BD4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A5A-95A8-4293-AECB-421FCDF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B0CE-D4DD-4A2C-8921-CA45132A19CA}" type="slidenum">
              <a:rPr b="0" lang="pt-B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cin" descr=""/>
          <p:cNvPicPr/>
          <p:nvPr/>
        </p:nvPicPr>
        <p:blipFill>
          <a:blip r:embed="rId2"/>
          <a:stretch/>
        </p:blipFill>
        <p:spPr>
          <a:xfrm>
            <a:off x="7829640" y="6126120"/>
            <a:ext cx="1209600" cy="6094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420516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57240" y="5803920"/>
            <a:ext cx="82548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6AB-1A83-4507-8CB9-2CBE3A71311D}" type="slidenum">
              <a:rPr b="0" lang="pt-B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rl@cin.ufpe.br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5640" y="155736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99"/>
                </a:solidFill>
                <a:latin typeface="Times New Roman"/>
              </a:rPr>
              <a:t>ProcessDirection</a:t>
            </a:r>
            <a:br>
              <a:rPr sz="4400"/>
            </a:br>
            <a:r>
              <a:rPr b="0" lang="pt-BR" sz="4000" spc="-1" strike="noStrike">
                <a:solidFill>
                  <a:srgbClr val="333399"/>
                </a:solidFill>
                <a:latin typeface="Times New Roman"/>
              </a:rPr>
              <a:t>Uma ferramenta para direcionar processos de desenvolviment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4724280"/>
            <a:ext cx="6400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ilena Rocha Leite</a:t>
            </a:r>
            <a:br>
              <a:rPr sz="2400"/>
            </a:br>
            <a:r>
              <a:rPr b="0" lang="pt-PT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mrl@cin.ufpe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gosto,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ísticas Ge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metodologia deve ter uma estrutura hierárquica composta por nós e cada nó corresponde a um componente específic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Uma metodologia possui N disciplinas (ou fluxo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Uma disciplina (ou fluxo) possui N ativid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Uma atividade possui N passos e recursos associad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ísticas Ge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disciplinas e atividades podem ser visíveis ou não a todos os pro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atividades que fazem parte de uma disciplina são gerais à organização, desta forma, são conhecidas como atividades organizaciona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usuários da ferramenta serã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genheiros de proce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genheiros de proje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envolv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92360" y="2205000"/>
          <a:ext cx="51433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05000"/>
                    <a:ext cx="51433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cessos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alterar ou detalhar uma metod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alterar, listar ou remover discipli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alterar, listar ou remover atividades organiz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alterar, listar ou remover pas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alterar, listar ou remover recur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ublicar ou não uma atividade organiza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cessos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ublicar ou não uma discipli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r os projetos exis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listar ou remover outros gerentes de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erar seu próprio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, listar ou remover gerentes de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16000" y="2205000"/>
          <a:ext cx="718344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718344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jetos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r um projeto e associa-lo às disciplinas e atividades organiz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erir, alterar, listar ou remover atividades próprias ao proje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ociar tanto as atividades organizacionais, quanto às atividades próprias ao projeto aos desenvolvedo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ociar um desenvolvedor a um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jetos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erar seus próprio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erir, listar ou remover um desenvolv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erir, listar ou remover um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r as disciplinas disponív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erir, alterar, listar ou remover passos a atividades próprias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ublicar ou não atividades próprias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jetos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erir, alterar, listar ou remover recursos a atividades próprias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ublicar ou não atividades próprias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ociar ou desassociar um desenvolvedor a atividades próprias do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erente de projetos pode gerar relatórios p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nvolvedor,datas e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relatórios devem inform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a lista de atividades que foram concluídas ou parcialmente concluídas por um desenvolv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tempo de duração de uma a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ssíveis comentários de uma a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tivaçã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ucesso dos projetos de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 de desenvolvimento de software indisciplin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ta de gerenciamento e controle d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idade do prod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idade do processo durante os período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nvolvimento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7280" y="2421000"/>
          <a:ext cx="717084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21000"/>
                    <a:ext cx="717084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desenvolvedor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r acesso ao guia com o detalhamento das disciplinas e atividadades as quais ele deve execu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alhar uma a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iori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pecial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desenvolvedor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strar a data de início da a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car se uma atividade foi concluída, parcialmente concluída ou não  foi não concluí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erar seu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isualizar a metodologia geral da organ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r as disciplinas relacionadas ao seu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desenvolvedor po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istrar a data de início da a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car se uma atividade foi concluída, parcialmente concluída ou não  foi não concluí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erar seus 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isualizar a metodologia geral da organizaçã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r as disciplinas relacionadas ao seu proj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58920" y="2060640"/>
          <a:ext cx="71708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060640"/>
                    <a:ext cx="71708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erramentas relacionad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hotodogy 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ca na definição de uma metod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 o objetivo de facilitar o trabalho dos engenheiros de processos e projetistas de metodologias através da criação de metodologias baseadas em compon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exportação de uma metodologia gera um arquivo no formato XML capaz de representar toda a hierarquia de componentes presentes na metodologia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erramentas relacionad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637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Direction X Methodology 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Methodology Explorer foca a definição de uma metodologia e o ProcessDirection na implantação e acompanhamento da mes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método para definição de metodologias do ProcessDirection não é tão eficiente quanto o do Methodology Explor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ProcessDirection permi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sejam gerados guias capazes de orientar passo a passo os desenvolvedores em suas ativ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e os gerentes de projeto possam tanto manipular os elementos de uma metodologia de acordo com as necessidades de um projeto específico quanto monitorar o cumprimento das atividades próprias a um desenvolvedo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erramentas relacionad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637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balho em conju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vando em consideração a descrição das funcionalidades das duas ferramentas, podemos perceber que elas se complet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oderíamos usar o Methodology Explorer para definir uma metodologia e o ProcessDirection para auxiliar a implantação e monitoramento da mes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ra isso, seria necessário que o ProcessDirection ao invés de permitir que as metodologias fossem definidas na própria ferramenta, fosse capaz de importar metodologias geradas pelo Methodology Explorer, já que o mesmo é capaz de gerar um arquivo no formato XML que representa toda a hierarquia de componentes presentes na metodolog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Ferramentas relacionada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6374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ras Ferramen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ct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tação Ta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Wea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clusõ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melhoria da qualidade dos softwares pode ser alcançada através da modelagem e execução de processos d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istem grandes dificuldades na definição, implantação e acompanhamento de um projeto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reconhecimento da importância dos processos e o crescimento da cultura de processo levaram a criação de ambientes que pudessem automatizar essas tarefas, um exemplo disso são os PS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tivaçã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lhoria da qualidade dos softw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delagem e execução de processos de softwar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reconhecimento da importância dos processos e o crescimento da cultura de process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riação de ambientes mais efici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S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mbientes de engenharia de software centrados no proce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uxiliam a definição, implantação e acompanhamento de um processo de desenvolvimento de software.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clusõ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643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ocessDirection é uma ferramenta que auxilia a implantação de uma processo de desenvolvimento porque é capaz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ne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m guia para o desenvolv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ir a definição de uma metodolog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ir a instânciação de uma metodologia para um projeto específ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ir um acompanhamento da realização de  ativ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nclusões: trabalhos futur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dade de importar uma metodologia no formato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r o upload de arqu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horar a interface com o 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ir às atividades mais dados de controle  para que o monitoramento seja feito com mais precis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155736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333399"/>
                </a:solidFill>
                <a:latin typeface="Times New Roman"/>
              </a:rPr>
              <a:t>ProcessDirection</a:t>
            </a:r>
            <a:br>
              <a:rPr sz="4400"/>
            </a:br>
            <a:r>
              <a:rPr b="0" lang="pt-BR" sz="4000" spc="-1" strike="noStrike">
                <a:solidFill>
                  <a:srgbClr val="333399"/>
                </a:solidFill>
                <a:latin typeface="Times New Roman"/>
              </a:rPr>
              <a:t>Uma ferramenta para direcionar processos de desenvolvimento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4724280"/>
            <a:ext cx="71215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http://processdirection.ipad.com.br/jsp/index.j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tivaçã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elhoria da qualidade dos softwa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para Desenvolvimento de Sistemas (M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creve um processo de desenvolvimento d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ases, fluxos, atividades, recursos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nde dificuldade na sua definição, implantação e acompanh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tivaçã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essoas relacionadas ao processo de melhoria da qualida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genheiro de Pro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r e Implantar a metodolog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genheiro de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nitorar a execução de ativ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envolve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ender e executar ativ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otivaçã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82087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antação de uma M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ina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dumentos descri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ramenta que gere um guia de ativ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ão Geral das atividades a serem re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er o que fazer e quando deve ser fe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a produtiv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erramenta para direcionar um processo de desenvolvimento que perm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eração de um guia para o desenvolv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ção de uma M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ância de uma mDS para um projeto específ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mento da realização de  ativ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acterísticas dos PS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ção do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do proces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sentação do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recionamento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</a:rPr>
              <a:t>do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esentação do process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çã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ament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 pro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5516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Ferramenta se encaixa em um ambiente do tipo P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4076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O ProcessDir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menizar as dificuldades encontradas tanto pelo gerente de processo, durante a implantação de uma MDS em uma organização, quanto pelo desenvolvedor, durante a execução das tarefas necessárias para que uma metodologia seja seguida corretament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20:41:21Z</dcterms:created>
  <dc:creator>+++</dc:creator>
  <dc:description/>
  <dc:language>en-US</dc:language>
  <cp:lastModifiedBy>milena</cp:lastModifiedBy>
  <dcterms:modified xsi:type="dcterms:W3CDTF">2003-08-19T09:55:58Z</dcterms:modified>
  <cp:revision>268</cp:revision>
  <dc:subject/>
  <dc:title>Apresentação do PowerPoint</dc:title>
</cp:coreProperties>
</file>