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4.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6.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move the slide</a:t>
            </a:r>
            <a:endParaRPr b="1" lang="en-US" sz="5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D6C5-7321-4B0A-A52B-758C1964A5D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s estes esforços são baseados na estimativa de que existe um Corpo de Conhecimento que deveria ser adquirido pelos engenheiros 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 corpo de conhecimento existe na literatura a cerca de 3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núcleo ou conhecimento geralmente aceito aplica-se a a maioria de projetos na maioria das ve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 o consenso difundido valida seus valor e eficácia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a visão mundial consistente sobre es passou por um processo consitente onde estiveram envolvidos 500 revi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42 pa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Uma definição complementar indica que o conhecimento geralmente aceitado deve ser incluído no material do estudo para uma examinação licenciando da tecnologia de programação que se gradue faça exame após ter ganhado quatro anos da experiência de trabalho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Uma definição complementar indica que o conhecimento geralmente aceitado deve ser incluído no material do estudo para uma examinação licenciando da tecnologia de programação que se gradue faça exame após ter ganhado quatro anos da experiência de trabalh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 processo de desenvolvimento é desenhado para construir, sobre o tempo, consenso na indústria, entre sociedades profissionais, corporações de criação de padrões e no ambiente acadêmico</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itores notaram q aspectos muito importantes da tecnologia da informaçao que podem constit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conhecimento da es não foram adotados nesse gui, isso eh uma consequencia de uma aproxiamcao da disciplina de engenh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engenherio tem q ser equipado com o conhecimento essencial que suporta a selecao da tecnologia apropr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s horas e circunstancia apropri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 exemplo,um sistema pode ser desenvolvido em fortran ou em C++, mas os principios e objetivos de gerencia de configuraca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ão os mes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guia contem os conhecimentos necessarios e não suficientes para um engenheiro de softwa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WECC – formado em 1993 por IEEE Computer Society and the Association for Computer Machinery, tem sido ativamente promoting da eS como uma disciplina da engenharia e uma profis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credita que a definicao núcleo do corpo do conhecimento eh o ponto crucial para a engenharaia de software ter o status de profissã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corpo do conhecimento eh dividido em 10mareas de conheciment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guia usa uma organizacao hierarquica para decompor cada KA dentro de um conjunto de top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 campos reconhec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topicos não presumem um dominio de uma aplicao em  particular, usos de negocio, filosofia de g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etodos de desenvolv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prover o acesso topico ao conhecimento, o gui identifica materiais de referencia para cada KA, inclui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ptulos do livro, pa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da descricao das KA incluem um matriz q relata materias de referencia listados em top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esar da presenca de milhoes de profissionais de software e da inclusão do próprio software na nossa sociedade es n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h uma disciplina legitima de engenharia, nem uma profissao reconhe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WECC – formado em 1993 por IEEE Computer Society and the Association for Computer Machinery, tem sido ativamente promoting da eS como uma disciplina da engenharia e uma profis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credita que a definicao núcleo do corpo do conhecimento eh o ponto crucial para a engenharaia de software ter o status de profissã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que a es seja conhecida como uma disciplina legitima da engenharia e como uma profissao reconhecida eh imperativo </a:t>
            </a:r>
            <a:r>
              <a:rPr b="0" lang="pt-BR" sz="1000" spc="-1" strike="noStrike">
                <a:solidFill>
                  <a:srgbClr val="000000"/>
                </a:solidFill>
                <a:latin typeface="Arial"/>
              </a:rPr>
              <a:t>se chegar a um consenso sobre qual é núcleo do conhecimento</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meira sub-área de conhecimento é o processo de planejament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sitos, a qual apresenta o processo de planejamento de requi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ndo os 5 tópicos restantes e mostrando como o planejament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sitos se encaixa com o processo completo de planejament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escreve modelos do processo, atores do processo, suporte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enciamento do processo e aprimoramento da qualidade do process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segunda sub-área é elicitação de requisitos, a qual se preocupa 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origem dos requisitos (de onde eles vêm) e como podem ser contro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lo engenheiro de requisitos. Inclui fontes dos requisitos e técn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elicitação.</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rceira sub-área, análise de requisitos, se preocupa com o proce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fazer análise dos requisitos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detectar e resolver conflitos entre requi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descobrir os limites do sistema e como ele deve interagir com o s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aprimorar requisitos do sistema para requisitos 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álise de requisitos inclui classificação de requisitos, mod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itual, design arquitetural e alocação de requisitos e requi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negociaçã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rta sub-área é especificação de requisitos de software. Descreve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rutura, qualidade e comprovação do documento de requisitos. Isso p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r a forma de 2 documentos, ou 2 partes do mesmo documento com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juntos de leitores e finalidades. O primeiro documento é o document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ção de requisitos do sistema, e o segundo é a especificação 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sitos do sistema. Esta sub-área também descreve a estrutur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o e padrões e qualidade do documen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inta sub-área é validação de requisitos cujo objetivo é leva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squer problemas antes que os recursos sejam comprometidos a acess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recursos. Validação de requisitos se preocupa com o process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r o documento de requisitos para garantir que ele defin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tema correto (isto é, o sistema que o usuário espera). É subdivi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 descrições do comportamento das revisões dos requisitos, criaçã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ótipo, validação do modelo e testes de aceitaçã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última sub-área é gerenciamento de requisitos, a qual é uma atividade 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 por todo o ciclo de vida do software. É essencialmente sobre mud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renciamento e a manutenção dos requisitos em um estado que ref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tamente o software a ser, ou que está sendo, construído. Inclui mud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erenciamento, características dos requisitos e reconstituição 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sito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e o IEEE, design de software é uma atividade que dura por todo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clo de vida do software. Trata essencialmente sobre mudança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enciamento e da manutenção dos requisitos em um estado que ref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tamente o software a ser, ou que está sendo, construído. Esta área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hecimento é dividida em 6 sub-área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rimeira apresenta os conceitos básicos e noções que formam um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undamental para o entendimento da função e do escopo do design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ftware. São conceitos gerais, o contexto do design de softwar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cesso de design e as técnicas que permitem o design 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segunda sub-área reagrupa os assuntos chave do design 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cluem concorrência, controle e tratamento de eventos, distribui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de erros e de exceções, sistemas interativos e persistência.</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rimeira apresenta os conceitos básicos e noções que formam um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undamental para o entendimento da função e do escopo do design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ftware. São conceitos gerais, o contexto do design de softwar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cesso de design e as técnicas que permitem o design 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segunda sub-área reagrupa os assuntos chave do design 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cluem concorrência, controle e tratamento de eventos, distribui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de erros e de exceções, sistemas interativos e persistênc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Gary Ford e Norman Gibb um profissional de engenharia se caracteriza pelos seguintes component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 estudaram varias profissoes reconhecidas, incli]uindo medicina e engenahraia</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rceira sub-área é estrutura e arquitetura, em particular estr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quiteturais e pontos-de-vista, estilos arquiteturais, padrões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ign, e finalmente famílias de programas e framework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rta sub-área descreve análise e avaliação da qualidade de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oftware. Enquanto uma área de conhecimento inteira é dedicada 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dade de software, esta sub-área apresenta os tópicos m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ficamente relacionados ao design de software. Estes asp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ão características de qualidade, análise de qualidade e avaliaçã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ramentas e métrica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nta sub-área é notações de design de software, as quais 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das em descrições estruturais e comportament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última sub-área trata de estratégias e métodos de design 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eiro, estratégias gerais são descritas, seguidas por mé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dos a função, em seguida métodos orientados a objetos,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estruturas de dados centralizadas e um grupo de outros mé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o métodos formais e transformacionai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ção de software é um ato fundamental do planejament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 construção de software significante que funci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avés de uma combinação de codificação, validação, 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ção (testes unitário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rimeiro e mais significante método de quebrar o assunto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trução de software em unidades menores é reconhecer o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ncípios que mais fortemente afetam a maneira pela qual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ftware é construído. Estes princípios são a redução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plexidade, a antecipação da diversidade, o estrutur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validação e o uso de padrões exter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 segundo e menos importante método de quebrar o assunto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trução de software em unidades menores é reconhece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ilos/métodos de construção de software, ou seja: Linguís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ormal e Visua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 de software consiste na verificação dinâmica do comport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 um programa com um conjunto finito de casos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venientemente selecionados de um domínio geralmente infinito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cuções, para confirmar comportamento especificado esperado. Incl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sub-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m segundo e menos importante método de quebrar o assunto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trução de software em unidades menores é reconhece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ilos/métodos de construção de software, ou seja: Linguís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ormal e Visual.</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omeça com uma descrição dos conceitos básicos. Primeiro, a terminolog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de testes é apresentada, em seguida as bases teóricas são descritas, 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o relacionamento do teste com outras ativ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A segunda sub-área é o plano de testes. São divididos entre alvos 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bjetivos dos tes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A terceira sub-área são as técnicas de testes em si mesmas. A primei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ategoria é agrupada pelo critério do fundamento pelo qual os tes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são gerados, e um segundo grupo baseado na falta de conheci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sobre a implementação. A discussão de como selecionar e combinar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écnicas apropriadas é apresent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A quarta sub-área trata métricas de testes relacionados. As métr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são agrupadas naquelas relacionadas com a avaliação dos tes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executa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A última sub-área descreve o gerenciamento específico para o proces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de testes. Inclui preocupações de gerenciamento e das atividades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teste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rta sub-área trata métricas de testes relacionados. As métr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ão agrupadas naquelas relacionadas com a avaliação dos tes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última sub-área descreve o gerenciamento específico para o proce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testes. Inclui preocupações de gerenciamento e das atividades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a vez em execução, anomalias são descobertas, ambientes de execu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ão modificados, e novos requisitos do usuário surgem. A fase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tenção do ciclo de vida se inicia na entrega mas as a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manutenção ocorrem muito antes. A área de conhecimento de manuten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software é dividida em 6 sub-área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Gerencia de configuracao de software identifica a configuracao de um sistema com o proposito de controlar mudan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configuracao do sistema e manter a integridade da configuracao durante o ciclo de vida do sistem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 guia contibui para os 3 primeiros pas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rticular o corpo do conhecimento é um passo essencial para desenvolver um profissional pq representa um amplo consen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 respeito a o  que  um profissional de es deveria conh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tal consenso nenhuma exame de licenca pode ser validada, nenhum curricullum pode preparar uma pesso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um exame e nenhum criterio pode ser formulado para se chegar a um curricul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senvolvimento de um consenso eh tb pre-requisito para a adocao de deselvolvimento coerente de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 programas de educacao profissional continua nas organizac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quanto é verdade dizer que  deveria ser possivel gerenciar software engineering da mesma forma que qq outro processo complex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stem aspectos particulares para produtos de software e no processo planejamneto(engineering) que complicam bastante o gerenciamanto</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róprio processo</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clui tanto o ambiente de desenvolvimento de software como as áreas de conhecimento de desenvolvimento de mé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dentificadas na versão straw man do gu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biente de desenvolvimento de software- são ferramentas computacionais com o intuito de auxiliar o processo de desenvolv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clui tanto o ambiente de desenvolvimento de software como as áreas de conhecimento de desenvolvimento de mé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dentificadas na versão straw man do gu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biente de desenvolvimento de software- são ferramentas computacionais com o intuito de auxiliar o processo de desenvolv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capitulo trata de considerwacoes sobre a qualidade de software que transcendem os processos de cic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capitulo trata de considerwacoes sobre a qualidade de software que transcendem os processos de cic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capitulo trata de considerwacoes sobre a qualidade de software que transcendem os processos de cic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capitulo trata de considerwacoes sobre a qualidade de software que transcendem os processos de cic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F5987-8018-49BB-B305-D5F2C4F00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62F77-4797-4424-AD5D-0D04A46BA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1ACE6-DB1F-4A27-BB57-CACA8051C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E3E62-7F3F-4E91-9F74-155E3F840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0C086-E0D3-42DF-BEE4-6237E1DB8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24312-8FD3-43F0-A7D5-1CA44477C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D1847-91D4-4600-BB4B-0ABC5876E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CA47B-C38E-44CC-AA05-74F65A7C9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41125-0152-4E37-8DBD-7E242CBE1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1054D-22C3-463F-AD01-55561C144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8973C-1266-457C-9769-5D7E518B4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F20B2-0928-4721-B7B2-C441DB32F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2974F-71AA-4FD3-AACA-2573198C7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EE0EE-A42A-4573-B2DD-2D7CAE782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1AB56-4F19-4C98-866D-87EAF2D40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30A72-4D3D-48D9-A53D-2284BC1B7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28F2B0-9A7C-4C58-A53D-22BE69FBD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9EF9E-2316-419F-8B71-7FC26F0AE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7DEFC-26B9-4B0F-84F1-814AFC6B0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5AF1-673A-4D83-B77A-1C592D699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99649-9754-499D-8884-FA2E4B705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737A-3DD0-4C67-BC01-556DC7F7F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99578-2F8F-4918-BA7A-55C77EA7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7F71-F820-4C41-84AB-9B5295F76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7/2003</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a:t>
            </a:r>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394920" y="623736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7/2003</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B02A-869B-48E5-8BD6-68A7534667D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zcs.org.nz/documents/SWEBOK2.pdf" TargetMode="External"/><Relationship Id="rId3" Type="http://schemas.openxmlformats.org/officeDocument/2006/relationships/hyperlink" Target="http://www.ipenz.org.nz/ipenz/publications/Convention/SWEBOK.ppt" TargetMode="External"/><Relationship Id="rId4" Type="http://schemas.openxmlformats.org/officeDocument/2006/relationships/hyperlink" Target="http://www.site.uottawa.ca/~tcl/presentations/SWEBOKandUottMar2000CSEET.ppt"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Uma introdução ao SWEBOK </a:t>
            </a:r>
            <a:endParaRPr b="1" lang="en-US" sz="5400" spc="-1" strike="noStrike">
              <a:solidFill>
                <a:srgbClr val="b9efee"/>
              </a:solidFill>
              <a:latin typeface="Garamond"/>
            </a:endParaRPr>
          </a:p>
        </p:txBody>
      </p:sp>
      <p:sp>
        <p:nvSpPr>
          <p:cNvPr id="122" name="PlaceHolder 2"/>
          <p:cNvSpPr>
            <a:spLocks noGrp="1"/>
          </p:cNvSpPr>
          <p:nvPr>
            <p:ph type="subTitle"/>
          </p:nvPr>
        </p:nvSpPr>
        <p:spPr>
          <a:xfrm>
            <a:off x="1447920" y="3809880"/>
            <a:ext cx="6400800" cy="4572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Garamond"/>
              </a:rPr>
              <a:t>Milena Rocha</a:t>
            </a: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a50021"/>
                </a:solidFill>
                <a:latin typeface="Garamond"/>
              </a:rPr>
              <a:t>mrl@cin.ufpe.b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rescimento no interesse na profissão de engenharia de software</a:t>
            </a:r>
            <a:endParaRPr b="1" lang="en-US" sz="4000" spc="-1" strike="noStrike">
              <a:solidFill>
                <a:srgbClr val="b9efee"/>
              </a:solidFill>
              <a:latin typeface="Garamond"/>
            </a:endParaRPr>
          </a:p>
        </p:txBody>
      </p:sp>
      <p:sp>
        <p:nvSpPr>
          <p:cNvPr id="14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MM e a família ISO 9000 de padrões são usados para avaliar a capacidade organizacional para a engenharia de softwar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he Texas Board of Professional Engineers tem começado a licenciar profissionais de engenharia de softwa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rescimento no interesse na profissão de engenharia de software</a:t>
            </a:r>
            <a:endParaRPr b="1" lang="en-US" sz="4000" spc="-1" strike="noStrike">
              <a:solidFill>
                <a:srgbClr val="b9efee"/>
              </a:solidFill>
              <a:latin typeface="Garamond"/>
            </a:endParaRPr>
          </a:p>
        </p:txBody>
      </p:sp>
      <p:sp>
        <p:nvSpPr>
          <p:cNvPr id="14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fontScale="91000"/>
          </a:bodyPr>
          <a:p>
            <a:pPr marL="312120" indent="-3121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he Association for Computing Machinery</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ACM) e o Computer Society of the Institute of</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Electrical and Electronics Engineers (IEEE)</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êm aderido ao desenvolvimento e adotado um</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ódigo de ética para profissionais de engenharia de</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rescimento no interesse na profissão de engenharia de software</a:t>
            </a:r>
            <a:endParaRPr b="1" lang="en-US" sz="4000" spc="-1" strike="noStrike">
              <a:solidFill>
                <a:srgbClr val="b9efee"/>
              </a:solidFill>
              <a:latin typeface="Garamond"/>
            </a:endParaRPr>
          </a:p>
        </p:txBody>
      </p:sp>
      <p:sp>
        <p:nvSpPr>
          <p:cNvPr id="14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he Institute for Certification of Computin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rofessionals (ICCP) oferece certificação tant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ara desenvolvedores de software quanto par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engenheiros de softwa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Guide to the Software Engineering</a:t>
            </a:r>
            <a:br>
              <a:rPr sz="4000"/>
            </a:br>
            <a:r>
              <a:rPr b="1" lang="pt-BR" sz="4000" spc="-1" strike="noStrike">
                <a:solidFill>
                  <a:srgbClr val="b9efee"/>
                </a:solidFill>
                <a:latin typeface="Garamond"/>
              </a:rPr>
              <a:t>Body of Knowledge (SWEBOK)</a:t>
            </a:r>
            <a:endParaRPr b="1" lang="en-US" sz="4000" spc="-1" strike="noStrike">
              <a:solidFill>
                <a:srgbClr val="b9efee"/>
              </a:solidFill>
              <a:latin typeface="Garamond"/>
            </a:endParaRPr>
          </a:p>
        </p:txBody>
      </p:sp>
      <p:sp>
        <p:nvSpPr>
          <p:cNvPr id="14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meçou como uma colaboração entre IEEE CS, ACM e a Université du Québec à Montréal</a:t>
            </a:r>
            <a:endParaRPr b="0" lang="en-US" sz="3200" spc="-1" strike="noStrike">
              <a:solidFill>
                <a:srgbClr val="ffffff"/>
              </a:solidFill>
              <a:latin typeface="Garamond"/>
            </a:endParaRPr>
          </a:p>
          <a:p>
            <a:pPr marL="288000" indent="-2880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WECC - 1998</a:t>
            </a:r>
            <a:endParaRPr b="0" lang="en-US" sz="3200" spc="-1" strike="noStrike">
              <a:solidFill>
                <a:srgbClr val="ffffff"/>
              </a:solidFill>
              <a:latin typeface="Garamond"/>
            </a:endParaRPr>
          </a:p>
          <a:p>
            <a:pPr marL="288000" indent="-2880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articipação internacional da indústria, sociedades de profissionais, academias, autores</a:t>
            </a:r>
            <a:endParaRPr b="0" lang="en-US" sz="3200" spc="-1" strike="noStrike">
              <a:solidFill>
                <a:srgbClr val="ffffff"/>
              </a:solidFill>
              <a:latin typeface="Garamond"/>
            </a:endParaRPr>
          </a:p>
          <a:p>
            <a:pPr marL="288000" indent="-2880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Quando o projeto estiver finalizado, literalmente milhares de pessoas terão trabalhado nele</a:t>
            </a:r>
            <a:endParaRPr b="0" lang="en-US" sz="3200" spc="-1" strike="noStrike">
              <a:solidFill>
                <a:srgbClr val="ffffff"/>
              </a:solidFill>
              <a:latin typeface="Garamond"/>
            </a:endParaRPr>
          </a:p>
          <a:p>
            <a:pPr marL="288000" indent="-2880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Após três ciclos de revisões a versão Trial foi lançada em 2001</a:t>
            </a:r>
            <a:endParaRPr b="0" lang="en-US" sz="3200" spc="-1" strike="noStrike">
              <a:solidFill>
                <a:srgbClr val="ffffff"/>
              </a:solidFill>
              <a:latin typeface="Garamond"/>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Garamond"/>
              </a:rPr>
              <a:t>Objetivos </a:t>
            </a:r>
            <a:r>
              <a:rPr b="1" lang="en-US" sz="4400" spc="-1" strike="noStrike">
                <a:solidFill>
                  <a:srgbClr val="b9efee"/>
                </a:solidFill>
                <a:latin typeface="Garamond"/>
              </a:rPr>
              <a:t>SWEBOK</a:t>
            </a:r>
            <a:endParaRPr b="1" lang="en-US" sz="4400" spc="-1" strike="noStrike">
              <a:solidFill>
                <a:srgbClr val="b9efee"/>
              </a:solidFill>
              <a:latin typeface="Garamond"/>
            </a:endParaRPr>
          </a:p>
        </p:txBody>
      </p:sp>
      <p:sp>
        <p:nvSpPr>
          <p:cNvPr id="14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erecer uma visão consistente de engenharia de software no âmbito mundial</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er um acesso tópico ao corpo do conhecimento da engenharia de softwar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ixar claros os limites de planejamento de software com respeito a outras disciplinas</a:t>
            </a:r>
            <a:endParaRPr b="0" lang="en-US" sz="3200" spc="-1" strike="noStrike">
              <a:solidFill>
                <a:srgbClr val="ffffff"/>
              </a:solidFill>
              <a:latin typeface="Garamond"/>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Ciência da computação, gerência de projetos, matemática, entre outros)</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8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9efee"/>
                </a:solidFill>
                <a:latin typeface="Garamond"/>
              </a:rPr>
              <a:t>Objetivos </a:t>
            </a:r>
            <a:r>
              <a:rPr b="1" lang="en-US" sz="4400" spc="-1" strike="noStrike">
                <a:solidFill>
                  <a:srgbClr val="b9efee"/>
                </a:solidFill>
                <a:latin typeface="Garamond"/>
              </a:rPr>
              <a:t>SWEBOK</a:t>
            </a:r>
            <a:endParaRPr b="1" lang="en-US" sz="4400" spc="-1" strike="noStrike">
              <a:solidFill>
                <a:srgbClr val="b9efee"/>
              </a:solidFill>
              <a:latin typeface="Garamond"/>
            </a:endParaRPr>
          </a:p>
        </p:txBody>
      </p:sp>
      <p:sp>
        <p:nvSpPr>
          <p:cNvPr id="15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racterizar o conteúdo da disciplina de Engenharia de Software</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er uma base para desenvolvimento curricular e material de licença individual</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udiência Pretendida</a:t>
            </a:r>
            <a:endParaRPr b="1" lang="en-US" sz="4400" spc="-1" strike="noStrike">
              <a:solidFill>
                <a:srgbClr val="b9efee"/>
              </a:solidFill>
              <a:latin typeface="Garamond"/>
            </a:endParaRPr>
          </a:p>
        </p:txBody>
      </p:sp>
      <p:sp>
        <p:nvSpPr>
          <p:cNvPr id="15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Organizações públicas e privadas</a:t>
            </a:r>
            <a:endParaRPr b="0" lang="en-US" sz="36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ociedades profissionais</a:t>
            </a:r>
            <a:endParaRPr b="0" lang="en-US" sz="36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orporações de criação de padrões</a:t>
            </a:r>
            <a:endParaRPr b="0" lang="en-US" sz="36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0" lang="en-US" sz="3600" spc="-1" strike="noStrike">
                <a:solidFill>
                  <a:srgbClr val="ffffff"/>
                </a:solidFill>
                <a:latin typeface="Garamond"/>
              </a:rPr>
              <a:t>Estudantes de Engenharia de Software</a:t>
            </a:r>
            <a:endParaRPr b="0" lang="en-US" sz="36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ducadores e Instrutores</a:t>
            </a:r>
            <a:endParaRPr b="0" lang="en-US" sz="36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tegorias de conhecimento</a:t>
            </a:r>
            <a:endParaRPr b="1" lang="en-US" sz="4400" spc="-1" strike="noStrike">
              <a:solidFill>
                <a:srgbClr val="b9efee"/>
              </a:solidFill>
              <a:latin typeface="Garamond"/>
            </a:endParaRPr>
          </a:p>
        </p:txBody>
      </p:sp>
      <p:grpSp>
        <p:nvGrpSpPr>
          <p:cNvPr id="155" name=""/>
          <p:cNvGrpSpPr/>
          <p:nvPr/>
        </p:nvGrpSpPr>
        <p:grpSpPr>
          <a:xfrm>
            <a:off x="250920" y="1557360"/>
            <a:ext cx="5905440" cy="4751280"/>
            <a:chOff x="250920" y="1557360"/>
            <a:chExt cx="5905440" cy="4751280"/>
          </a:xfrm>
        </p:grpSpPr>
        <p:sp>
          <p:nvSpPr>
            <p:cNvPr id="156" name=""/>
            <p:cNvSpPr/>
            <p:nvPr/>
          </p:nvSpPr>
          <p:spPr>
            <a:xfrm>
              <a:off x="250920" y="1557360"/>
              <a:ext cx="5905440" cy="475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7" name=""/>
            <p:cNvGrpSpPr/>
            <p:nvPr/>
          </p:nvGrpSpPr>
          <p:grpSpPr>
            <a:xfrm>
              <a:off x="892080" y="2276280"/>
              <a:ext cx="1963440" cy="1441440"/>
              <a:chOff x="892080" y="2276280"/>
              <a:chExt cx="1963440" cy="1441440"/>
            </a:xfrm>
          </p:grpSpPr>
          <p:sp>
            <p:nvSpPr>
              <p:cNvPr id="158" name=""/>
              <p:cNvSpPr/>
              <p:nvPr/>
            </p:nvSpPr>
            <p:spPr>
              <a:xfrm>
                <a:off x="898200" y="2276280"/>
                <a:ext cx="1872720" cy="144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892080" y="2565360"/>
                <a:ext cx="196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hecimento do domínio da aplicação</a:t>
                </a:r>
                <a:endParaRPr b="0" lang="en-US" sz="1800" spc="-1" strike="noStrike">
                  <a:solidFill>
                    <a:srgbClr val="ffffff"/>
                  </a:solidFill>
                  <a:latin typeface="Arial"/>
                </a:endParaRPr>
              </a:p>
            </p:txBody>
          </p:sp>
        </p:grpSp>
        <p:grpSp>
          <p:nvGrpSpPr>
            <p:cNvPr id="160" name=""/>
            <p:cNvGrpSpPr/>
            <p:nvPr/>
          </p:nvGrpSpPr>
          <p:grpSpPr>
            <a:xfrm>
              <a:off x="2771640" y="1628640"/>
              <a:ext cx="1963440" cy="1295280"/>
              <a:chOff x="2771640" y="1628640"/>
              <a:chExt cx="1963440" cy="1295280"/>
            </a:xfrm>
          </p:grpSpPr>
          <p:sp>
            <p:nvSpPr>
              <p:cNvPr id="161" name=""/>
              <p:cNvSpPr/>
              <p:nvPr/>
            </p:nvSpPr>
            <p:spPr>
              <a:xfrm>
                <a:off x="2842920" y="1628640"/>
                <a:ext cx="1721880" cy="129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771640" y="1917720"/>
                <a:ext cx="196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hecimento avançado em ES</a:t>
                </a:r>
                <a:endParaRPr b="0" lang="en-US" sz="1800" spc="-1" strike="noStrike">
                  <a:solidFill>
                    <a:srgbClr val="ffffff"/>
                  </a:solidFill>
                  <a:latin typeface="Arial"/>
                </a:endParaRPr>
              </a:p>
            </p:txBody>
          </p:sp>
        </p:grpSp>
        <p:grpSp>
          <p:nvGrpSpPr>
            <p:cNvPr id="163" name=""/>
            <p:cNvGrpSpPr/>
            <p:nvPr/>
          </p:nvGrpSpPr>
          <p:grpSpPr>
            <a:xfrm>
              <a:off x="971280" y="4076640"/>
              <a:ext cx="1963440" cy="1441440"/>
              <a:chOff x="971280" y="4076640"/>
              <a:chExt cx="1963440" cy="1441440"/>
            </a:xfrm>
          </p:grpSpPr>
          <p:sp>
            <p:nvSpPr>
              <p:cNvPr id="164" name=""/>
              <p:cNvSpPr/>
              <p:nvPr/>
            </p:nvSpPr>
            <p:spPr>
              <a:xfrm>
                <a:off x="977400" y="4076640"/>
                <a:ext cx="1873080" cy="144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971280" y="4365360"/>
                <a:ext cx="196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hecimento especializado em ES</a:t>
                </a:r>
                <a:endParaRPr b="0" lang="en-US" sz="1800" spc="-1" strike="noStrike">
                  <a:solidFill>
                    <a:srgbClr val="ffffff"/>
                  </a:solidFill>
                  <a:latin typeface="Arial"/>
                </a:endParaRPr>
              </a:p>
            </p:txBody>
          </p:sp>
        </p:grpSp>
        <p:sp>
          <p:nvSpPr>
            <p:cNvPr id="166" name=""/>
            <p:cNvSpPr/>
            <p:nvPr/>
          </p:nvSpPr>
          <p:spPr>
            <a:xfrm>
              <a:off x="977760" y="4076640"/>
              <a:ext cx="1873080" cy="1441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7" name=""/>
            <p:cNvGrpSpPr/>
            <p:nvPr/>
          </p:nvGrpSpPr>
          <p:grpSpPr>
            <a:xfrm>
              <a:off x="2914560" y="3141720"/>
              <a:ext cx="1963440" cy="1295280"/>
              <a:chOff x="2914560" y="3141720"/>
              <a:chExt cx="1963440" cy="1295280"/>
            </a:xfrm>
          </p:grpSpPr>
          <p:sp>
            <p:nvSpPr>
              <p:cNvPr id="168" name=""/>
              <p:cNvSpPr/>
              <p:nvPr/>
            </p:nvSpPr>
            <p:spPr>
              <a:xfrm>
                <a:off x="2985480" y="3141720"/>
                <a:ext cx="1722240" cy="129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2914560" y="3430440"/>
                <a:ext cx="196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iência d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mputação</a:t>
                </a:r>
                <a:endParaRPr b="0" lang="en-US" sz="1800" spc="-1" strike="noStrike">
                  <a:solidFill>
                    <a:srgbClr val="ffffff"/>
                  </a:solidFill>
                  <a:latin typeface="Arial"/>
                </a:endParaRPr>
              </a:p>
            </p:txBody>
          </p:sp>
        </p:grpSp>
        <p:sp>
          <p:nvSpPr>
            <p:cNvPr id="170" name=""/>
            <p:cNvSpPr/>
            <p:nvPr/>
          </p:nvSpPr>
          <p:spPr>
            <a:xfrm>
              <a:off x="3201840" y="4653000"/>
              <a:ext cx="1722240" cy="129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1" name=""/>
          <p:cNvSpPr/>
          <p:nvPr/>
        </p:nvSpPr>
        <p:spPr>
          <a:xfrm>
            <a:off x="3132000" y="5084640"/>
            <a:ext cx="196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temática</a:t>
            </a:r>
            <a:endParaRPr b="0" lang="en-US" sz="1800" spc="-1" strike="noStrike">
              <a:solidFill>
                <a:srgbClr val="ffffff"/>
              </a:solidFill>
              <a:latin typeface="Arial"/>
            </a:endParaRPr>
          </a:p>
        </p:txBody>
      </p:sp>
      <p:sp>
        <p:nvSpPr>
          <p:cNvPr id="172" name=""/>
          <p:cNvSpPr/>
          <p:nvPr/>
        </p:nvSpPr>
        <p:spPr>
          <a:xfrm>
            <a:off x="7432560" y="2813040"/>
            <a:ext cx="1100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6297480" y="1989000"/>
            <a:ext cx="28465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hecimento</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 um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genheiro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wa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
          <p:cNvSpPr/>
          <p:nvPr/>
        </p:nvSpPr>
        <p:spPr>
          <a:xfrm flipH="1">
            <a:off x="6227280" y="3357720"/>
            <a:ext cx="576360" cy="14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incípios Básicos do projeto</a:t>
            </a:r>
            <a:endParaRPr b="1" lang="en-US" sz="4400" spc="-1" strike="noStrike">
              <a:solidFill>
                <a:srgbClr val="b9efee"/>
              </a:solidFill>
              <a:latin typeface="Garamond"/>
            </a:endParaRPr>
          </a:p>
        </p:txBody>
      </p:sp>
      <p:sp>
        <p:nvSpPr>
          <p:cNvPr id="176"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ransparência</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O processo é totalmente documentado e publicado</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nstrução do consenso</a:t>
            </a:r>
            <a:r>
              <a:rPr b="1" lang="pt-BR" sz="2800" spc="-1" strike="noStrike">
                <a:solidFill>
                  <a:srgbClr val="ffffff"/>
                </a:solidFill>
                <a:latin typeface="Garamond"/>
              </a:rPr>
              <a:t> </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indústria</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ciedades profissionais</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corporações de criação de padrões </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ambientes acadêmicos</a:t>
            </a:r>
            <a:endParaRPr b="0" lang="en-US" sz="28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otalmente livre na web</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ora do escopo do SWEBOK</a:t>
            </a:r>
            <a:endParaRPr b="1" lang="en-US" sz="4400" spc="-1" strike="noStrike">
              <a:solidFill>
                <a:srgbClr val="b9efee"/>
              </a:solidFill>
              <a:latin typeface="Garamond"/>
            </a:endParaRPr>
          </a:p>
        </p:txBody>
      </p:sp>
      <p:sp>
        <p:nvSpPr>
          <p:cNvPr id="178"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guia contém os conhecimentos necessários e não suficientes para um engenheiro de software</a:t>
            </a:r>
            <a:endParaRPr b="0" lang="en-US" sz="3200" spc="-1" strike="noStrike">
              <a:solidFill>
                <a:srgbClr val="ffffff"/>
              </a:solidFill>
              <a:latin typeface="Garamond"/>
            </a:endParaRPr>
          </a:p>
          <a:p>
            <a:pPr lvl="1" marL="705600" indent="-271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guagem de programação específica</a:t>
            </a:r>
            <a:endParaRPr b="0" lang="en-US" sz="3200" spc="-1" strike="noStrike">
              <a:solidFill>
                <a:srgbClr val="ffffff"/>
              </a:solidFill>
              <a:latin typeface="Garamond"/>
            </a:endParaRPr>
          </a:p>
          <a:p>
            <a:pPr lvl="1" marL="705600" indent="-271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nco de Dados Relacional</a:t>
            </a:r>
            <a:endParaRPr b="0" lang="en-US" sz="3200" spc="-1" strike="noStrike">
              <a:solidFill>
                <a:srgbClr val="ffffff"/>
              </a:solidFill>
              <a:latin typeface="Garamond"/>
            </a:endParaRPr>
          </a:p>
          <a:p>
            <a:pPr lvl="1" marL="705600" indent="-271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des</a:t>
            </a:r>
            <a:endParaRPr b="0" lang="en-US" sz="3200" spc="-1" strike="noStrike">
              <a:solidFill>
                <a:srgbClr val="ffffff"/>
              </a:solidFill>
              <a:latin typeface="Garamond"/>
            </a:endParaRPr>
          </a:p>
          <a:p>
            <a:pPr lvl="1" marL="705600" indent="-271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rência de projetos</a:t>
            </a:r>
            <a:endParaRPr b="0" lang="en-US" sz="3200" spc="-1" strike="noStrike">
              <a:solidFill>
                <a:srgbClr val="ffffff"/>
              </a:solidFill>
              <a:latin typeface="Garamond"/>
            </a:endParaRPr>
          </a:p>
          <a:p>
            <a:pPr lvl="1" marL="705600" indent="-271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genharia de sistemas</a:t>
            </a:r>
            <a:endParaRPr b="0" lang="en-US" sz="3200" spc="-1" strike="noStrike">
              <a:solidFill>
                <a:srgbClr val="ffffff"/>
              </a:solidFill>
              <a:latin typeface="Garamond"/>
            </a:endParaRPr>
          </a:p>
          <a:p>
            <a:pPr lvl="1" marL="705600" indent="-271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iência da Computação</a:t>
            </a: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genda</a:t>
            </a:r>
            <a:endParaRPr b="1" lang="en-US" sz="44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ngenharia de Software</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conhecimento da profissão</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webok </a:t>
            </a:r>
            <a:endParaRPr b="0" lang="en-US" sz="28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Descrição geral</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Objetivos</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Audiência pretendida</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Princípios básicos</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Time do projeto</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Fases de desenvolvimemento</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Áreas de conhecimento</a:t>
            </a:r>
            <a:endParaRPr b="0" lang="en-US" sz="2400" spc="-1" strike="noStrike">
              <a:solidFill>
                <a:srgbClr val="ffffff"/>
              </a:solidFill>
              <a:latin typeface="Garamond"/>
            </a:endParaRPr>
          </a:p>
          <a:p>
            <a:pPr lvl="1" marL="743040" indent="-285840">
              <a:lnSpc>
                <a:spcPct val="8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Disciplinas relacionadas</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ime do projeto</a:t>
            </a:r>
            <a:endParaRPr b="1" lang="en-US" sz="4400" spc="-1" strike="noStrike">
              <a:solidFill>
                <a:srgbClr val="b9efee"/>
              </a:solidFill>
              <a:latin typeface="Garamond"/>
            </a:endParaRPr>
          </a:p>
        </p:txBody>
      </p:sp>
      <p:sp>
        <p:nvSpPr>
          <p:cNvPr id="180"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rupo de editoração</a:t>
            </a:r>
            <a:br>
              <a:rPr sz="3600"/>
            </a:br>
            <a:r>
              <a:rPr b="0" lang="en-US" sz="3600" spc="-1" strike="noStrike">
                <a:solidFill>
                  <a:srgbClr val="ffffff"/>
                </a:solidFill>
                <a:latin typeface="Garamond"/>
              </a:rPr>
              <a:t> </a:t>
            </a:r>
            <a:endParaRPr b="0" lang="en-US" sz="36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specialistas das áreas de conhecimento</a:t>
            </a:r>
            <a:br>
              <a:rPr sz="3600"/>
            </a:br>
            <a:r>
              <a:rPr b="0" lang="en-US" sz="3600" spc="-1" strike="noStrike">
                <a:solidFill>
                  <a:srgbClr val="ffffff"/>
                </a:solidFill>
                <a:latin typeface="Garamond"/>
              </a:rPr>
              <a:t> </a:t>
            </a:r>
            <a:endParaRPr b="0" lang="en-US" sz="36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visores</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ases de desenvolvimento</a:t>
            </a:r>
            <a:endParaRPr b="1" lang="en-US" sz="4400" spc="-1" strike="noStrike">
              <a:solidFill>
                <a:srgbClr val="b9efee"/>
              </a:solidFill>
              <a:latin typeface="Garamond"/>
            </a:endParaRPr>
          </a:p>
        </p:txBody>
      </p:sp>
      <p:graphicFrame>
        <p:nvGraphicFramePr>
          <p:cNvPr id="182" name=""/>
          <p:cNvGraphicFramePr/>
          <p:nvPr/>
        </p:nvGraphicFramePr>
        <p:xfrm>
          <a:off x="1187280" y="1484280"/>
          <a:ext cx="7056720" cy="4862520"/>
        </p:xfrm>
        <a:graphic>
          <a:graphicData uri="http://schemas.openxmlformats.org/presentationml/2006/ole">
            <p:oleObj r:id="rId2" spid="">
              <p:embed/>
              <p:pic>
                <p:nvPicPr>
                  <p:cNvPr id="183" name="" descr=""/>
                  <p:cNvPicPr/>
                  <p:nvPr/>
                </p:nvPicPr>
                <p:blipFill>
                  <a:blip r:embed="rId3"/>
                  <a:stretch/>
                </p:blipFill>
                <p:spPr>
                  <a:xfrm>
                    <a:off x="1187280" y="1484280"/>
                    <a:ext cx="7056720" cy="48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ases de desenvolvimento</a:t>
            </a:r>
            <a:endParaRPr b="1" lang="en-US" sz="4400" spc="-1" strike="noStrike">
              <a:solidFill>
                <a:srgbClr val="b9efee"/>
              </a:solidFill>
              <a:latin typeface="Garamond"/>
            </a:endParaRPr>
          </a:p>
        </p:txBody>
      </p:sp>
      <p:graphicFrame>
        <p:nvGraphicFramePr>
          <p:cNvPr id="185" name=""/>
          <p:cNvGraphicFramePr/>
          <p:nvPr/>
        </p:nvGraphicFramePr>
        <p:xfrm>
          <a:off x="1187280" y="1600200"/>
          <a:ext cx="6985080" cy="4640400"/>
        </p:xfrm>
        <a:graphic>
          <a:graphicData uri="http://schemas.openxmlformats.org/presentationml/2006/ole">
            <p:oleObj r:id="rId2" spid="">
              <p:embed/>
              <p:pic>
                <p:nvPicPr>
                  <p:cNvPr id="186" name="" descr=""/>
                  <p:cNvPicPr/>
                  <p:nvPr/>
                </p:nvPicPr>
                <p:blipFill>
                  <a:blip r:embed="rId3"/>
                  <a:stretch/>
                </p:blipFill>
                <p:spPr>
                  <a:xfrm>
                    <a:off x="1187280" y="1600200"/>
                    <a:ext cx="6985080" cy="46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Fases de desenvolvimento</a:t>
            </a:r>
            <a:endParaRPr b="1" lang="en-US" sz="4400" spc="-1" strike="noStrike">
              <a:solidFill>
                <a:srgbClr val="b9efee"/>
              </a:solidFill>
              <a:latin typeface="Garamond"/>
            </a:endParaRPr>
          </a:p>
        </p:txBody>
      </p:sp>
      <p:graphicFrame>
        <p:nvGraphicFramePr>
          <p:cNvPr id="188" name=""/>
          <p:cNvGraphicFramePr/>
          <p:nvPr/>
        </p:nvGraphicFramePr>
        <p:xfrm>
          <a:off x="1019160" y="1600200"/>
          <a:ext cx="7104240" cy="4495680"/>
        </p:xfrm>
        <a:graphic>
          <a:graphicData uri="http://schemas.openxmlformats.org/presentationml/2006/ole">
            <p:oleObj r:id="rId2" spid="">
              <p:embed/>
              <p:pic>
                <p:nvPicPr>
                  <p:cNvPr id="189" name="" descr=""/>
                  <p:cNvPicPr/>
                  <p:nvPr/>
                </p:nvPicPr>
                <p:blipFill>
                  <a:blip r:embed="rId3"/>
                  <a:stretch/>
                </p:blipFill>
                <p:spPr>
                  <a:xfrm>
                    <a:off x="1019160" y="1600200"/>
                    <a:ext cx="710424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 (KA)</a:t>
            </a:r>
            <a:endParaRPr b="1" lang="en-US" sz="4400" spc="-1" strike="noStrike">
              <a:solidFill>
                <a:srgbClr val="b9efee"/>
              </a:solidFill>
              <a:latin typeface="Garamond"/>
            </a:endParaRPr>
          </a:p>
        </p:txBody>
      </p:sp>
      <p:sp>
        <p:nvSpPr>
          <p:cNvPr id="191" name="PlaceHolder 2"/>
          <p:cNvSpPr>
            <a:spLocks noGrp="1"/>
          </p:cNvSpPr>
          <p:nvPr>
            <p:ph/>
          </p:nvPr>
        </p:nvSpPr>
        <p:spPr>
          <a:xfrm>
            <a:off x="395280" y="1719360"/>
            <a:ext cx="8229600" cy="449568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Requiremets</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design</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testing</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maintenance</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configuration management</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engineering management</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engineering process</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engineering tools and methods</a:t>
            </a:r>
            <a:endParaRPr b="0" lang="en-US" sz="3200" spc="-1" strike="noStrike">
              <a:solidFill>
                <a:srgbClr val="ffffff"/>
              </a:solidFill>
              <a:latin typeface="Garamond"/>
            </a:endParaRPr>
          </a:p>
          <a:p>
            <a:pPr marL="312120" indent="-3121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quality</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sciplinas Relacionadas</a:t>
            </a:r>
            <a:endParaRPr b="1" lang="en-US" sz="4400" spc="-1" strike="noStrike">
              <a:solidFill>
                <a:srgbClr val="b9efee"/>
              </a:solidFill>
              <a:latin typeface="Garamond"/>
            </a:endParaRPr>
          </a:p>
        </p:txBody>
      </p:sp>
      <p:sp>
        <p:nvSpPr>
          <p:cNvPr id="193" name="PlaceHolder 2"/>
          <p:cNvSpPr>
            <a:spLocks noGrp="1"/>
          </p:cNvSpPr>
          <p:nvPr>
            <p:ph/>
          </p:nvPr>
        </p:nvSpPr>
        <p:spPr>
          <a:xfrm>
            <a:off x="395280" y="171936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gnitive sciences and human factor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mputer engineering</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mputer scienc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Management and management scienc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Mathematic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roject managem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ystems engineer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Organização das áreas de conhecimento</a:t>
            </a:r>
            <a:endParaRPr b="1" lang="en-US" sz="4000" spc="-1" strike="noStrike">
              <a:solidFill>
                <a:srgbClr val="b9efee"/>
              </a:solidFill>
              <a:latin typeface="Garamond"/>
            </a:endParaRPr>
          </a:p>
        </p:txBody>
      </p:sp>
      <p:graphicFrame>
        <p:nvGraphicFramePr>
          <p:cNvPr id="195" name=""/>
          <p:cNvGraphicFramePr/>
          <p:nvPr/>
        </p:nvGraphicFramePr>
        <p:xfrm>
          <a:off x="1042920" y="1989000"/>
          <a:ext cx="7018560" cy="3918240"/>
        </p:xfrm>
        <a:graphic>
          <a:graphicData uri="http://schemas.openxmlformats.org/presentationml/2006/ole">
            <p:oleObj r:id="rId2" spid="">
              <p:embed/>
              <p:pic>
                <p:nvPicPr>
                  <p:cNvPr id="196" name="" descr=""/>
                  <p:cNvPicPr/>
                  <p:nvPr/>
                </p:nvPicPr>
                <p:blipFill>
                  <a:blip r:embed="rId3"/>
                  <a:stretch/>
                </p:blipFill>
                <p:spPr>
                  <a:xfrm>
                    <a:off x="1042920" y="1989000"/>
                    <a:ext cx="7018560" cy="39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198" name=""/>
          <p:cNvGraphicFramePr/>
          <p:nvPr/>
        </p:nvGraphicFramePr>
        <p:xfrm>
          <a:off x="1116000" y="1743120"/>
          <a:ext cx="7488360" cy="4638600"/>
        </p:xfrm>
        <a:graphic>
          <a:graphicData uri="http://schemas.openxmlformats.org/presentationml/2006/ole">
            <p:oleObj r:id="rId2" spid="">
              <p:embed/>
              <p:pic>
                <p:nvPicPr>
                  <p:cNvPr id="199" name="" descr=""/>
                  <p:cNvPicPr/>
                  <p:nvPr/>
                </p:nvPicPr>
                <p:blipFill>
                  <a:blip r:embed="rId3"/>
                  <a:stretch/>
                </p:blipFill>
                <p:spPr>
                  <a:xfrm>
                    <a:off x="1116000" y="1743120"/>
                    <a:ext cx="748836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01" name=""/>
          <p:cNvGraphicFramePr/>
          <p:nvPr/>
        </p:nvGraphicFramePr>
        <p:xfrm>
          <a:off x="1258920" y="1600200"/>
          <a:ext cx="7345440" cy="4495680"/>
        </p:xfrm>
        <a:graphic>
          <a:graphicData uri="http://schemas.openxmlformats.org/presentationml/2006/ole">
            <p:oleObj r:id="rId2" spid="">
              <p:embed/>
              <p:pic>
                <p:nvPicPr>
                  <p:cNvPr id="202" name="" descr=""/>
                  <p:cNvPicPr/>
                  <p:nvPr/>
                </p:nvPicPr>
                <p:blipFill>
                  <a:blip r:embed="rId3"/>
                  <a:stretch/>
                </p:blipFill>
                <p:spPr>
                  <a:xfrm>
                    <a:off x="1258920" y="1600200"/>
                    <a:ext cx="734544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04" name=""/>
          <p:cNvGraphicFramePr/>
          <p:nvPr/>
        </p:nvGraphicFramePr>
        <p:xfrm>
          <a:off x="457200" y="1609560"/>
          <a:ext cx="8229600" cy="4475160"/>
        </p:xfrm>
        <a:graphic>
          <a:graphicData uri="http://schemas.openxmlformats.org/presentationml/2006/ole">
            <p:oleObj r:id="rId2" spid="">
              <p:embed/>
              <p:pic>
                <p:nvPicPr>
                  <p:cNvPr id="205" name="" descr=""/>
                  <p:cNvPicPr/>
                  <p:nvPr/>
                </p:nvPicPr>
                <p:blipFill>
                  <a:blip r:embed="rId3"/>
                  <a:stretch/>
                </p:blipFill>
                <p:spPr>
                  <a:xfrm>
                    <a:off x="457200" y="1609560"/>
                    <a:ext cx="8229600" cy="44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genharia de software</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É uma disciplina que está em imersão e existe uma grande tendência ao aumento no seu nível de maturidade</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Não é uma disciplina legítima de engenharia, nem uma profissão reconhecida</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WECC (Software Engineering Coordinating Committe)</a:t>
            </a:r>
            <a:endParaRPr b="0" lang="en-US" sz="2800" spc="-1" strike="noStrike">
              <a:solidFill>
                <a:srgbClr val="ffffff"/>
              </a:solidFill>
              <a:latin typeface="Garamond"/>
            </a:endParaRPr>
          </a:p>
          <a:p>
            <a:pPr lvl="1" marL="743040" indent="-2858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IEEE Computer Society</a:t>
            </a:r>
            <a:endParaRPr b="0" lang="en-US" sz="2400" spc="-1" strike="noStrike">
              <a:solidFill>
                <a:srgbClr val="ffffff"/>
              </a:solidFill>
              <a:latin typeface="Garamond"/>
            </a:endParaRPr>
          </a:p>
          <a:p>
            <a:pPr lvl="1" marL="743040" indent="-2858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Association for Computer Machinery</a:t>
            </a:r>
            <a:endParaRPr b="0" lang="en-US" sz="2400" spc="-1" strike="noStrike">
              <a:solidFill>
                <a:srgbClr val="ffffff"/>
              </a:solidFill>
              <a:latin typeface="Garamond"/>
            </a:endParaRPr>
          </a:p>
          <a:p>
            <a:pPr lvl="1" marL="743040" indent="-2858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Núcleo do corpo do conhecimento</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07" name=""/>
          <p:cNvGraphicFramePr/>
          <p:nvPr/>
        </p:nvGraphicFramePr>
        <p:xfrm>
          <a:off x="920880" y="1600200"/>
          <a:ext cx="7302240" cy="4495680"/>
        </p:xfrm>
        <a:graphic>
          <a:graphicData uri="http://schemas.openxmlformats.org/presentationml/2006/ole">
            <p:oleObj r:id="rId2" spid="">
              <p:embed/>
              <p:pic>
                <p:nvPicPr>
                  <p:cNvPr id="208" name="" descr=""/>
                  <p:cNvPicPr/>
                  <p:nvPr/>
                </p:nvPicPr>
                <p:blipFill>
                  <a:blip r:embed="rId3"/>
                  <a:stretch/>
                </p:blipFill>
                <p:spPr>
                  <a:xfrm>
                    <a:off x="920880" y="1600200"/>
                    <a:ext cx="730224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10" name=""/>
          <p:cNvGraphicFramePr/>
          <p:nvPr/>
        </p:nvGraphicFramePr>
        <p:xfrm>
          <a:off x="608040" y="1600200"/>
          <a:ext cx="7927920" cy="4495680"/>
        </p:xfrm>
        <a:graphic>
          <a:graphicData uri="http://schemas.openxmlformats.org/presentationml/2006/ole">
            <p:oleObj r:id="rId2" spid="">
              <p:embed/>
              <p:pic>
                <p:nvPicPr>
                  <p:cNvPr id="211" name="" descr=""/>
                  <p:cNvPicPr/>
                  <p:nvPr/>
                </p:nvPicPr>
                <p:blipFill>
                  <a:blip r:embed="rId3"/>
                  <a:stretch/>
                </p:blipFill>
                <p:spPr>
                  <a:xfrm>
                    <a:off x="608040" y="1600200"/>
                    <a:ext cx="79279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13" name=""/>
          <p:cNvGraphicFramePr/>
          <p:nvPr/>
        </p:nvGraphicFramePr>
        <p:xfrm>
          <a:off x="1042920" y="1600200"/>
          <a:ext cx="7058160" cy="4495680"/>
        </p:xfrm>
        <a:graphic>
          <a:graphicData uri="http://schemas.openxmlformats.org/presentationml/2006/ole">
            <p:oleObj r:id="rId2" spid="">
              <p:embed/>
              <p:pic>
                <p:nvPicPr>
                  <p:cNvPr id="214" name="" descr=""/>
                  <p:cNvPicPr/>
                  <p:nvPr/>
                </p:nvPicPr>
                <p:blipFill>
                  <a:blip r:embed="rId3"/>
                  <a:stretch/>
                </p:blipFill>
                <p:spPr>
                  <a:xfrm>
                    <a:off x="1042920" y="1600200"/>
                    <a:ext cx="705816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16" name=""/>
          <p:cNvGraphicFramePr/>
          <p:nvPr/>
        </p:nvGraphicFramePr>
        <p:xfrm>
          <a:off x="1187280" y="1600200"/>
          <a:ext cx="7272360" cy="4495680"/>
        </p:xfrm>
        <a:graphic>
          <a:graphicData uri="http://schemas.openxmlformats.org/presentationml/2006/ole">
            <p:oleObj r:id="rId2" spid="">
              <p:embed/>
              <p:pic>
                <p:nvPicPr>
                  <p:cNvPr id="217" name="" descr=""/>
                  <p:cNvPicPr/>
                  <p:nvPr/>
                </p:nvPicPr>
                <p:blipFill>
                  <a:blip r:embed="rId3"/>
                  <a:stretch/>
                </p:blipFill>
                <p:spPr>
                  <a:xfrm>
                    <a:off x="1187280" y="1600200"/>
                    <a:ext cx="727236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19" name=""/>
          <p:cNvGraphicFramePr/>
          <p:nvPr/>
        </p:nvGraphicFramePr>
        <p:xfrm>
          <a:off x="1090440" y="1600200"/>
          <a:ext cx="6963120" cy="4495680"/>
        </p:xfrm>
        <a:graphic>
          <a:graphicData uri="http://schemas.openxmlformats.org/presentationml/2006/ole">
            <p:oleObj r:id="rId2" spid="">
              <p:embed/>
              <p:pic>
                <p:nvPicPr>
                  <p:cNvPr id="220" name="" descr=""/>
                  <p:cNvPicPr/>
                  <p:nvPr/>
                </p:nvPicPr>
                <p:blipFill>
                  <a:blip r:embed="rId3"/>
                  <a:stretch/>
                </p:blipFill>
                <p:spPr>
                  <a:xfrm>
                    <a:off x="1090440" y="1600200"/>
                    <a:ext cx="6963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22" name=""/>
          <p:cNvGraphicFramePr/>
          <p:nvPr/>
        </p:nvGraphicFramePr>
        <p:xfrm>
          <a:off x="831960" y="1600200"/>
          <a:ext cx="7478640" cy="4495680"/>
        </p:xfrm>
        <a:graphic>
          <a:graphicData uri="http://schemas.openxmlformats.org/presentationml/2006/ole">
            <p:oleObj r:id="rId2" spid="">
              <p:embed/>
              <p:pic>
                <p:nvPicPr>
                  <p:cNvPr id="223" name="" descr=""/>
                  <p:cNvPicPr/>
                  <p:nvPr/>
                </p:nvPicPr>
                <p:blipFill>
                  <a:blip r:embed="rId3"/>
                  <a:stretch/>
                </p:blipFill>
                <p:spPr>
                  <a:xfrm>
                    <a:off x="831960" y="1600200"/>
                    <a:ext cx="747864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25" name=""/>
          <p:cNvGraphicFramePr/>
          <p:nvPr/>
        </p:nvGraphicFramePr>
        <p:xfrm>
          <a:off x="2050920" y="1600200"/>
          <a:ext cx="5616720" cy="4495680"/>
        </p:xfrm>
        <a:graphic>
          <a:graphicData uri="http://schemas.openxmlformats.org/presentationml/2006/ole">
            <p:oleObj r:id="rId2" spid="">
              <p:embed/>
              <p:pic>
                <p:nvPicPr>
                  <p:cNvPr id="226" name="" descr=""/>
                  <p:cNvPicPr/>
                  <p:nvPr/>
                </p:nvPicPr>
                <p:blipFill>
                  <a:blip r:embed="rId3"/>
                  <a:stretch/>
                </p:blipFill>
                <p:spPr>
                  <a:xfrm>
                    <a:off x="2050920" y="1600200"/>
                    <a:ext cx="56167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Áreas de conhecimento</a:t>
            </a:r>
            <a:endParaRPr b="1" lang="en-US" sz="4400" spc="-1" strike="noStrike">
              <a:solidFill>
                <a:srgbClr val="b9efee"/>
              </a:solidFill>
              <a:latin typeface="Garamond"/>
            </a:endParaRPr>
          </a:p>
        </p:txBody>
      </p:sp>
      <p:graphicFrame>
        <p:nvGraphicFramePr>
          <p:cNvPr id="228" name=""/>
          <p:cNvGraphicFramePr/>
          <p:nvPr/>
        </p:nvGraphicFramePr>
        <p:xfrm>
          <a:off x="1384200" y="1600200"/>
          <a:ext cx="6373800" cy="4495680"/>
        </p:xfrm>
        <a:graphic>
          <a:graphicData uri="http://schemas.openxmlformats.org/presentationml/2006/ole">
            <p:oleObj r:id="rId2" spid="">
              <p:embed/>
              <p:pic>
                <p:nvPicPr>
                  <p:cNvPr id="229" name="" descr=""/>
                  <p:cNvPicPr/>
                  <p:nvPr/>
                </p:nvPicPr>
                <p:blipFill>
                  <a:blip r:embed="rId3"/>
                  <a:stretch/>
                </p:blipFill>
                <p:spPr>
                  <a:xfrm>
                    <a:off x="1384200" y="1600200"/>
                    <a:ext cx="6373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3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m requisito é definido como uma característica que pode ser demonstrada para resolver alguns problemas do mundo real</a:t>
            </a: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3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b-áreas de conhecimento</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quirement engineering proces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quirement elicit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quirement analysi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quirement specific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quirement valid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quirement management</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onhecimento da profissão</a:t>
            </a:r>
            <a:endParaRPr b="1" lang="en-US" sz="4400" spc="-1" strike="noStrike">
              <a:solidFill>
                <a:srgbClr val="b9efee"/>
              </a:solidFill>
              <a:latin typeface="Garamond"/>
            </a:endParaRPr>
          </a:p>
        </p:txBody>
      </p:sp>
      <p:sp>
        <p:nvSpPr>
          <p:cNvPr id="12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É imperativo se chegar a um consenso sobre qual é núcleo do conhecimento</a:t>
            </a:r>
            <a:endParaRPr b="0" lang="en-US" sz="2800" spc="-1" strike="noStrike">
              <a:solidFill>
                <a:srgbClr val="ffffff"/>
              </a:solidFill>
              <a:latin typeface="Garamond"/>
            </a:endParaRPr>
          </a:p>
          <a:p>
            <a:pPr marL="339480" indent="-33948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tarr*</a:t>
            </a:r>
            <a:endParaRPr b="0" lang="en-US" sz="2800" spc="-1" strike="noStrike">
              <a:solidFill>
                <a:srgbClr val="ffffff"/>
              </a:solidFill>
              <a:latin typeface="Garamond"/>
            </a:endParaRPr>
          </a:p>
          <a:p>
            <a:pPr lvl="1" marL="735480" indent="-282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onhecimento e competência de um profissional devem ser validados por uma comunidade de peso  na área</a:t>
            </a:r>
            <a:endParaRPr b="0" lang="en-US" sz="2800" spc="-1" strike="noStrike">
              <a:solidFill>
                <a:srgbClr val="ffffff"/>
              </a:solidFill>
              <a:latin typeface="Garamond"/>
            </a:endParaRPr>
          </a:p>
          <a:p>
            <a:pPr lvl="1" marL="735480" indent="-282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onhecimento é validado se  baseado em fundamentos científicos e racionais</a:t>
            </a:r>
            <a:endParaRPr b="0" lang="en-US" sz="2800" spc="-1" strike="noStrike">
              <a:solidFill>
                <a:srgbClr val="ffffff"/>
              </a:solidFill>
              <a:latin typeface="Garamond"/>
            </a:endParaRPr>
          </a:p>
          <a:p>
            <a:pPr lvl="1" marL="735480" indent="-28296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O julgamento do profissional são direcionados para um conjunto de valores reais</a:t>
            </a:r>
            <a:endParaRPr b="0" lang="en-US" sz="2800" spc="-1" strike="noStrike">
              <a:solidFill>
                <a:srgbClr val="ffffff"/>
              </a:solidFill>
              <a:latin typeface="Garamond"/>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Garamond"/>
              </a:rPr>
              <a:t>*P. Starr, The Social Transformation of American Medicin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3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equirement engineering proces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presenta o planejamento de requisit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Orienta as outras 5 sub-área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ostra como o planejamento de requisitos se encaixa com o processo completo de planejamento de softwa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screve modelos de processo, atores e suporte ao gerenciament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primora a qualidade do processo</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3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equirement elicit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Origem dos requisit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ontrole do requisitos pelo engenheiro de softwa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Fontes de requisito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Técnicas para elicitação</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3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equirement analysis</a:t>
            </a:r>
            <a:endParaRPr b="0" lang="en-US" sz="3200" spc="-1" strike="noStrike">
              <a:solidFill>
                <a:srgbClr val="ffffff"/>
              </a:solidFill>
              <a:latin typeface="Garamond"/>
            </a:endParaRPr>
          </a:p>
          <a:p>
            <a:pPr lvl="1" marL="727920" indent="-2800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tectar e resolver conflitos entre requisitos</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scobrir os limites do sistema e como ele deve interagir com o seu  ambiente</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primorar requisitos do sistema para requisitos de software</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Inclui</a:t>
            </a:r>
            <a:endParaRPr b="0" lang="en-US" sz="2800" spc="-1" strike="noStrike">
              <a:solidFill>
                <a:srgbClr val="ffffff"/>
              </a:solidFill>
              <a:latin typeface="Garamond"/>
            </a:endParaRPr>
          </a:p>
          <a:p>
            <a:pPr lvl="2" marL="1119960" indent="-22392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Garamond"/>
              </a:rPr>
              <a:t>classificação de requisitos, modelo</a:t>
            </a:r>
            <a:endParaRPr b="0" lang="en-US" sz="2000" spc="-1" strike="noStrike">
              <a:solidFill>
                <a:srgbClr val="ffffff"/>
              </a:solidFill>
              <a:latin typeface="Garamond"/>
            </a:endParaRPr>
          </a:p>
          <a:p>
            <a:pPr lvl="2" marL="1119960" indent="-22392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Garamond"/>
              </a:rPr>
              <a:t>conceitual, design arquitetural e alocação de requisitos e requisitos</a:t>
            </a:r>
            <a:endParaRPr b="0" lang="en-US" sz="2000" spc="-1" strike="noStrike">
              <a:solidFill>
                <a:srgbClr val="ffffff"/>
              </a:solidFill>
              <a:latin typeface="Garamond"/>
            </a:endParaRPr>
          </a:p>
          <a:p>
            <a:pPr lvl="2" marL="1119960" indent="-22392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Garamond"/>
              </a:rPr>
              <a:t>de negociação.</a:t>
            </a:r>
            <a:endParaRPr b="0" lang="en-US" sz="20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4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equirement specificatio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Descreve estrutura, qualidade e comprovação do documento de requisito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Geração dos documentos de definição e especificação dos requisitos do sistema</a:t>
            </a: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4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equirement valid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Levanta os problemas antes que os recursos sejam comprometid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Verifica se o documento de requisitos define o sistema correto</a:t>
            </a:r>
            <a:endParaRPr b="0" lang="en-US" sz="28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Descrições do comportamento das revisões dos requisitos</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Criação do protótipo</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Validação do modelo de testes de aceitação</a:t>
            </a:r>
            <a:endParaRPr b="0" lang="en-US" sz="24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Requirements</a:t>
            </a:r>
            <a:endParaRPr b="1" lang="en-US" sz="4000" spc="-1" strike="noStrike">
              <a:solidFill>
                <a:srgbClr val="b9efee"/>
              </a:solidFill>
              <a:latin typeface="Garamond"/>
            </a:endParaRPr>
          </a:p>
        </p:txBody>
      </p:sp>
      <p:sp>
        <p:nvSpPr>
          <p:cNvPr id="24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equirement manag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stá presente em todo o ciclo de vida de um softwa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ontrola a mudança de gerenciament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aracterísticas dos requisit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constituição dos requisitos</a:t>
            </a: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ign de Software</a:t>
            </a:r>
            <a:endParaRPr b="1" lang="en-US" sz="4400" spc="-1" strike="noStrike">
              <a:solidFill>
                <a:srgbClr val="b9efee"/>
              </a:solidFill>
              <a:latin typeface="Garamond"/>
            </a:endParaRPr>
          </a:p>
        </p:txBody>
      </p:sp>
      <p:sp>
        <p:nvSpPr>
          <p:cNvPr id="24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a por todo o ciclo de vida do softwar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dança no gerenciamento</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utenção dos requisitos em um estado que reflete exatamente o software a ser construí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ign de Software</a:t>
            </a:r>
            <a:endParaRPr b="1" lang="en-US" sz="4400" spc="-1" strike="noStrike">
              <a:solidFill>
                <a:srgbClr val="b9efee"/>
              </a:solidFill>
              <a:latin typeface="Garamond"/>
            </a:endParaRPr>
          </a:p>
        </p:txBody>
      </p:sp>
      <p:sp>
        <p:nvSpPr>
          <p:cNvPr id="24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b-áreas de conhecimento</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Basics concept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Key issues of softwa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truct and architectu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design quality analysis and evalu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sing notation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design strategies and methods</a:t>
            </a: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ign de Software</a:t>
            </a:r>
            <a:endParaRPr b="1" lang="en-US" sz="4400" spc="-1" strike="noStrike">
              <a:solidFill>
                <a:srgbClr val="b9efee"/>
              </a:solidFill>
              <a:latin typeface="Garamond"/>
            </a:endParaRPr>
          </a:p>
        </p:txBody>
      </p:sp>
      <p:sp>
        <p:nvSpPr>
          <p:cNvPr id="25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Basics concept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formam uma base fundamental para o entendimento da função e do escopo do design de software</a:t>
            </a:r>
            <a:endParaRPr b="0" lang="en-US" sz="28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contexto do design de software</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processo de design</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 </a:t>
            </a:r>
            <a:r>
              <a:rPr b="0" lang="pt-BR" sz="2400" spc="-1" strike="noStrike">
                <a:solidFill>
                  <a:srgbClr val="ffffff"/>
                </a:solidFill>
                <a:latin typeface="Garamond"/>
              </a:rPr>
              <a:t>técnicas que permitem o design de software.</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ign de Software</a:t>
            </a:r>
            <a:endParaRPr b="1" lang="en-US" sz="4400" spc="-1" strike="noStrike">
              <a:solidFill>
                <a:srgbClr val="b9efee"/>
              </a:solidFill>
              <a:latin typeface="Garamond"/>
            </a:endParaRPr>
          </a:p>
        </p:txBody>
      </p:sp>
      <p:sp>
        <p:nvSpPr>
          <p:cNvPr id="25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Key issues of softwar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oncorrência</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controle e tratamento de event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distribuiçã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ratamento de erros e de exceçõ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sistemas interativo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persistência.</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 que caracteriza uma profissão?</a:t>
            </a:r>
            <a:endParaRPr b="1" lang="en-US" sz="4400" spc="-1" strike="noStrike">
              <a:solidFill>
                <a:srgbClr val="b9efee"/>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egundo Gary Ford e Norman Gibbs</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Uma educação profissional inicial e um curriculum válido por uma sociedade de crédito</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egistro da aptidão para praticar por meio de certificação voluntária ou licença obrigatória</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Desenvolvimento de talento especializado e uma educação profissional contínua</a:t>
            </a:r>
            <a:endParaRPr b="0" lang="en-US" sz="3200" spc="-1" strike="noStrike">
              <a:solidFill>
                <a:srgbClr val="ffffff"/>
              </a:solidFill>
              <a:latin typeface="Garamond"/>
            </a:endParaRPr>
          </a:p>
          <a:p>
            <a:pPr lvl="1" marL="66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ign de Software</a:t>
            </a:r>
            <a:endParaRPr b="1" lang="en-US" sz="4400" spc="-1" strike="noStrike">
              <a:solidFill>
                <a:srgbClr val="b9efee"/>
              </a:solidFill>
              <a:latin typeface="Garamond"/>
            </a:endParaRPr>
          </a:p>
        </p:txBody>
      </p:sp>
      <p:sp>
        <p:nvSpPr>
          <p:cNvPr id="25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truct and architectur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strutura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stil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adrões de des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Frameworks</a:t>
            </a: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ign de Software</a:t>
            </a:r>
            <a:endParaRPr b="1" lang="en-US" sz="4400" spc="-1" strike="noStrike">
              <a:solidFill>
                <a:srgbClr val="b9efee"/>
              </a:solidFill>
              <a:latin typeface="Garamond"/>
            </a:endParaRPr>
          </a:p>
        </p:txBody>
      </p:sp>
      <p:sp>
        <p:nvSpPr>
          <p:cNvPr id="25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design quality analysis and evalu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rata da qualidade do design do softwa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aracterísticas de qualida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nálise de qualida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valiação de ferramenta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étric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ign de Software</a:t>
            </a:r>
            <a:endParaRPr b="1" lang="en-US" sz="4400" spc="-1" strike="noStrike">
              <a:solidFill>
                <a:srgbClr val="b9efee"/>
              </a:solidFill>
              <a:latin typeface="Garamond"/>
            </a:endParaRPr>
          </a:p>
        </p:txBody>
      </p:sp>
      <p:sp>
        <p:nvSpPr>
          <p:cNvPr id="25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Desing notation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Notações estruturais e comportamentais</a:t>
            </a:r>
            <a:endParaRPr b="0" lang="en-US" sz="2800" spc="-1" strike="noStrike">
              <a:solidFill>
                <a:srgbClr val="ffffff"/>
              </a:solidFill>
              <a:latin typeface="Garamon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design strategies and method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stratégis gerai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étodos orientados a funçõe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étodos orientados a objeto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étodos formai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étodos transformacionais</a:t>
            </a:r>
            <a:endParaRPr b="0" lang="en-US" sz="2800" spc="-1" strike="noStrike">
              <a:solidFill>
                <a:srgbClr val="ffffff"/>
              </a:solidFill>
              <a:latin typeface="Garamond"/>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struction</a:t>
            </a:r>
            <a:endParaRPr b="1" lang="en-US" sz="4000" spc="-1" strike="noStrike">
              <a:solidFill>
                <a:srgbClr val="b9efee"/>
              </a:solidFill>
              <a:latin typeface="Garamond"/>
            </a:endParaRPr>
          </a:p>
        </p:txBody>
      </p:sp>
      <p:sp>
        <p:nvSpPr>
          <p:cNvPr id="26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ução de software é um ato fundamental do planejamento de software: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nciona através de uma combinação d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dificaçã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validaçã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ificação (testes unitário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struction</a:t>
            </a:r>
            <a:endParaRPr b="1" lang="en-US" sz="4000" spc="-1" strike="noStrike">
              <a:solidFill>
                <a:srgbClr val="b9efee"/>
              </a:solidFill>
              <a:latin typeface="Garamond"/>
            </a:endParaRPr>
          </a:p>
        </p:txBody>
      </p:sp>
      <p:sp>
        <p:nvSpPr>
          <p:cNvPr id="26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rincípios básico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dução da complexidad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antecipação da diversidad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struturamento para validação </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r>
              <a:rPr b="0" lang="pt-BR" sz="2800" spc="-1" strike="noStrike">
                <a:solidFill>
                  <a:srgbClr val="ffffff"/>
                </a:solidFill>
                <a:latin typeface="Garamond"/>
              </a:rPr>
              <a:t>Uso de padrões externos.</a:t>
            </a:r>
            <a:endParaRPr b="0" lang="en-US" sz="28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Métodos para construção de softwar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Lingüístico</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Formal</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Visual</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Testing</a:t>
            </a:r>
            <a:endParaRPr b="1" lang="en-US" sz="4000" spc="-1" strike="noStrike">
              <a:solidFill>
                <a:srgbClr val="b9efee"/>
              </a:solidFill>
              <a:latin typeface="Garamond"/>
            </a:endParaRPr>
          </a:p>
        </p:txBody>
      </p:sp>
      <p:sp>
        <p:nvSpPr>
          <p:cNvPr id="26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nsiste na verificação dinâmica do comportamento de um programa com um conjunto finito de casos de teste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b-áreas de conhecimento</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Basic concept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est level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est Techniques </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est measure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est management</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Testing</a:t>
            </a:r>
            <a:endParaRPr b="1" lang="en-US" sz="4000" spc="-1" strike="noStrike">
              <a:solidFill>
                <a:srgbClr val="b9efee"/>
              </a:solidFill>
              <a:latin typeface="Garamond"/>
            </a:endParaRPr>
          </a:p>
        </p:txBody>
      </p:sp>
      <p:sp>
        <p:nvSpPr>
          <p:cNvPr id="26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Basic concepts</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presentação da terminologia de testes</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Bases teóricas</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lacionamento dos testes com outras atividades</a:t>
            </a:r>
            <a:endParaRPr b="0" lang="en-US" sz="28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est levels</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lvos e objetivos</a:t>
            </a:r>
            <a:endParaRPr b="0" lang="en-US" sz="28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est Techniques </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omo selecionar técnicas apropriadas</a:t>
            </a: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Testing</a:t>
            </a:r>
            <a:endParaRPr b="1" lang="en-US" sz="4000" spc="-1" strike="noStrike">
              <a:solidFill>
                <a:srgbClr val="b9efee"/>
              </a:solidFill>
              <a:latin typeface="Garamond"/>
            </a:endParaRPr>
          </a:p>
        </p:txBody>
      </p:sp>
      <p:sp>
        <p:nvSpPr>
          <p:cNvPr id="26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est measure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rata métricas de testes relacionados</a:t>
            </a:r>
            <a:endParaRPr b="0" lang="en-US" sz="28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est manag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renciamento específico para o processo de testes</a:t>
            </a:r>
            <a:endParaRPr b="0" lang="en-US" sz="28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Gerenciamento</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Atividades</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Maintenance</a:t>
            </a:r>
            <a:endParaRPr b="1" lang="en-US" sz="4000" spc="-1" strike="noStrike">
              <a:solidFill>
                <a:srgbClr val="b9efee"/>
              </a:solidFill>
              <a:latin typeface="Garamond"/>
            </a:endParaRPr>
          </a:p>
        </p:txBody>
      </p:sp>
      <p:sp>
        <p:nvSpPr>
          <p:cNvPr id="27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Uma vez em execução, anomalias são descobertas, ambientes de execução são modificados, e novos requisitos do usuário surgem.</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b-áreas de conhecimento</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Basic Concept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aintenance proces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Key inssues</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hechniques for maintenance</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figuration Management</a:t>
            </a:r>
            <a:endParaRPr b="1" lang="en-US" sz="4000" spc="-1" strike="noStrike">
              <a:solidFill>
                <a:srgbClr val="b9efee"/>
              </a:solidFill>
              <a:latin typeface="Garamond"/>
            </a:endParaRPr>
          </a:p>
        </p:txBody>
      </p:sp>
      <p:sp>
        <p:nvSpPr>
          <p:cNvPr id="27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ica a configuração de um sistema</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role de mudanças na configuração</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utenção da integridade da configuração durante o ciclo de vida do sistema</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 que caracteriza uma profissão?</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egundo GaryFord e Norman Gibbs</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porte público através de uma sociedade profissional</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Um comprometimento com normas de conduta muitas vezes prescritas em um código de ética</a:t>
            </a:r>
            <a:br>
              <a:rPr sz="3200"/>
            </a:br>
            <a:r>
              <a:rPr b="0" lang="pt-BR" sz="3200" spc="-1" strike="noStrike">
                <a:solidFill>
                  <a:srgbClr val="ffffff"/>
                </a:solidFill>
                <a:latin typeface="Garamond"/>
              </a:rPr>
              <a:t> </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figuration Management</a:t>
            </a:r>
            <a:endParaRPr b="1" lang="en-US" sz="4000" spc="-1" strike="noStrike">
              <a:solidFill>
                <a:srgbClr val="b9efee"/>
              </a:solidFill>
              <a:latin typeface="Garamond"/>
            </a:endParaRPr>
          </a:p>
        </p:txBody>
      </p:sp>
      <p:sp>
        <p:nvSpPr>
          <p:cNvPr id="27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b-áreas de conhecimento</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anagement of the SCM proces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release management and delivery</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configuration identific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configuration control</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configuration status account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configuration auditing</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figuration Management</a:t>
            </a:r>
            <a:endParaRPr b="1" lang="en-US" sz="4000" spc="-1" strike="noStrike">
              <a:solidFill>
                <a:srgbClr val="b9efee"/>
              </a:solidFill>
              <a:latin typeface="Garamond"/>
            </a:endParaRPr>
          </a:p>
        </p:txBody>
      </p:sp>
      <p:sp>
        <p:nvSpPr>
          <p:cNvPr id="27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Management of the SCM process</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rata dos tópicos do contexto organizacional</a:t>
            </a:r>
            <a:endParaRPr b="0" lang="en-US" sz="28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Limitações e direcionamento</a:t>
            </a:r>
            <a:endParaRPr b="0" lang="en-US" sz="28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lanejamento</a:t>
            </a:r>
            <a:endParaRPr b="0" lang="en-US" sz="28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Inspeção</a:t>
            </a:r>
            <a:endParaRPr b="0" lang="en-US" sz="28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release management and delivery</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rência de construção e de liberação de software</a:t>
            </a:r>
            <a:endParaRPr b="0" lang="en-US" sz="2800" spc="-1" strike="noStrike">
              <a:solidFill>
                <a:srgbClr val="ffffff"/>
              </a:solidFill>
              <a:latin typeface="Garamond"/>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figuration Management</a:t>
            </a:r>
            <a:endParaRPr b="1" lang="en-US" sz="4000" spc="-1" strike="noStrike">
              <a:solidFill>
                <a:srgbClr val="b9efee"/>
              </a:solidFill>
              <a:latin typeface="Garamond"/>
            </a:endParaRPr>
          </a:p>
        </p:txBody>
      </p:sp>
      <p:sp>
        <p:nvSpPr>
          <p:cNvPr id="27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configuration identific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Identifica itens a serem controlad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stabelece esquemas de identificação para os itens e suas versõ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Estabelece as ferramentas e técnicas a serem usadas para adquirir e gerenciar itens controlávei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figuration Management</a:t>
            </a:r>
            <a:endParaRPr b="1" lang="en-US" sz="4000" spc="-1" strike="noStrike">
              <a:solidFill>
                <a:srgbClr val="b9efee"/>
              </a:solidFill>
              <a:latin typeface="Garamond"/>
            </a:endParaRPr>
          </a:p>
        </p:txBody>
      </p:sp>
      <p:sp>
        <p:nvSpPr>
          <p:cNvPr id="28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configuration control</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rencia as mudanças durante o ciclo de vida do software</a:t>
            </a:r>
            <a:endParaRPr b="0" lang="en-US" sz="28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Busca</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Avalia</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Aprova </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Implementa</a:t>
            </a:r>
            <a:endParaRPr b="0" lang="en-US" sz="24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Configuration Management</a:t>
            </a:r>
            <a:endParaRPr b="1" lang="en-US" sz="4000" spc="-1" strike="noStrike">
              <a:solidFill>
                <a:srgbClr val="b9efee"/>
              </a:solidFill>
              <a:latin typeface="Garamond"/>
            </a:endParaRPr>
          </a:p>
        </p:txBody>
      </p:sp>
      <p:sp>
        <p:nvSpPr>
          <p:cNvPr id="28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configuration status accounting</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Informações sobre o status da configuração de software</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latórios do status</a:t>
            </a:r>
            <a:endParaRPr b="0" lang="en-US" sz="28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Configuration auditing</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uditoria de configuração funcional do software</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uditoria de configuração física do software</a:t>
            </a: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3" marL="1504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Management</a:t>
            </a:r>
            <a:endParaRPr b="1" lang="en-US" sz="4000" spc="-1" strike="noStrike">
              <a:solidFill>
                <a:srgbClr val="b9efee"/>
              </a:solidFill>
              <a:latin typeface="Garamond"/>
            </a:endParaRPr>
          </a:p>
        </p:txBody>
      </p:sp>
      <p:sp>
        <p:nvSpPr>
          <p:cNvPr id="28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Difícil gerenciamento devido a aspectos particulares dos produtos de software e do processo de planejamento</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É composta pelas seguintes sub-área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Organizacional managemen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rocess/Project  managemen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engineering measurement</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Management</a:t>
            </a:r>
            <a:endParaRPr b="1" lang="en-US" sz="4000" spc="-1" strike="noStrike">
              <a:solidFill>
                <a:srgbClr val="b9efee"/>
              </a:solidFill>
              <a:latin typeface="Garamond"/>
            </a:endParaRPr>
          </a:p>
        </p:txBody>
      </p:sp>
      <p:sp>
        <p:nvSpPr>
          <p:cNvPr id="28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Organizacional manag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olítica de gerenciament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rência de pessoal</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rência de comunicaçã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rência de diretóri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Gerência de aquisição</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Management</a:t>
            </a:r>
            <a:endParaRPr b="1" lang="en-US" sz="4000" spc="-1" strike="noStrike">
              <a:solidFill>
                <a:srgbClr val="b9efee"/>
              </a:solidFill>
              <a:latin typeface="Garamond"/>
            </a:endParaRPr>
          </a:p>
        </p:txBody>
      </p:sp>
      <p:sp>
        <p:nvSpPr>
          <p:cNvPr id="28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rocess/Project  management</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finição de escopo</a:t>
            </a:r>
            <a:endParaRPr b="0" lang="en-US" sz="28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finição de Planejamento</a:t>
            </a:r>
            <a:endParaRPr b="0" lang="en-US" sz="28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finição de revisão e avaliação</a:t>
            </a:r>
            <a:endParaRPr b="0" lang="en-US" sz="2800" spc="-1" strike="noStrike">
              <a:solidFill>
                <a:srgbClr val="ffffff"/>
              </a:solidFill>
              <a:latin typeface="Garamond"/>
            </a:endParaRPr>
          </a:p>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engineering measurement</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eleção de medidas</a:t>
            </a:r>
            <a:endParaRPr b="0" lang="en-US" sz="28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edição do software e do seu desenvolvimento</a:t>
            </a:r>
            <a:endParaRPr b="0" lang="en-US" sz="28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odelos de métricas</a:t>
            </a: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51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Process</a:t>
            </a:r>
            <a:endParaRPr b="1" lang="en-US" sz="4000" spc="-1" strike="noStrike">
              <a:solidFill>
                <a:srgbClr val="b9efee"/>
              </a:solidFill>
              <a:latin typeface="Garamond"/>
            </a:endParaRPr>
          </a:p>
        </p:txBody>
      </p:sp>
      <p:sp>
        <p:nvSpPr>
          <p:cNvPr id="29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ocupa-se co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finiçã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çã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da</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renciamento</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dança</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lhoramento</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Process</a:t>
            </a:r>
            <a:endParaRPr b="1" lang="en-US" sz="4000" spc="-1" strike="noStrike">
              <a:solidFill>
                <a:srgbClr val="b9efee"/>
              </a:solidFill>
              <a:latin typeface="Garamond"/>
            </a:endParaRPr>
          </a:p>
        </p:txBody>
      </p:sp>
      <p:sp>
        <p:nvSpPr>
          <p:cNvPr id="29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b-áreas de conhecimento</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Basic concept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rocess infrastructu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easurements specific to software engineering proces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rocess Defini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Qualitative process analysi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rocess implementation and change</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senvolvimento da Profissão</a:t>
            </a:r>
            <a:endParaRPr b="1" lang="en-US" sz="4400" spc="-1" strike="noStrike">
              <a:solidFill>
                <a:srgbClr val="b9efee"/>
              </a:solidFill>
              <a:latin typeface="Garamond"/>
            </a:endParaRPr>
          </a:p>
        </p:txBody>
      </p:sp>
      <p:graphicFrame>
        <p:nvGraphicFramePr>
          <p:cNvPr id="134" name=""/>
          <p:cNvGraphicFramePr/>
          <p:nvPr/>
        </p:nvGraphicFramePr>
        <p:xfrm>
          <a:off x="468360" y="1484280"/>
          <a:ext cx="8207280" cy="4824360"/>
        </p:xfrm>
        <a:graphic>
          <a:graphicData uri="http://schemas.openxmlformats.org/presentationml/2006/ole">
            <p:oleObj r:id="rId2" spid="">
              <p:embed/>
              <p:pic>
                <p:nvPicPr>
                  <p:cNvPr id="135" name="" descr=""/>
                  <p:cNvPicPr/>
                  <p:nvPr/>
                </p:nvPicPr>
                <p:blipFill>
                  <a:blip r:embed="rId3"/>
                  <a:stretch/>
                </p:blipFill>
                <p:spPr>
                  <a:xfrm>
                    <a:off x="468360" y="1484280"/>
                    <a:ext cx="820728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Process</a:t>
            </a:r>
            <a:endParaRPr b="1" lang="en-US" sz="4000" spc="-1" strike="noStrike">
              <a:solidFill>
                <a:srgbClr val="b9efee"/>
              </a:solidFill>
              <a:latin typeface="Garamond"/>
            </a:endParaRPr>
          </a:p>
        </p:txBody>
      </p:sp>
      <p:sp>
        <p:nvSpPr>
          <p:cNvPr id="29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Basic concepts</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emas </a:t>
            </a:r>
            <a:endParaRPr b="0" lang="en-US" sz="28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erminologias</a:t>
            </a:r>
            <a:endParaRPr b="0" lang="en-US" sz="28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rocess infrastructure</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screve o conceito de grupo</a:t>
            </a:r>
            <a:endParaRPr b="0" lang="en-US" sz="28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Measurements specific to software engineering process</a:t>
            </a:r>
            <a:endParaRPr b="0" lang="en-US" sz="3200" spc="-1" strike="noStrike">
              <a:solidFill>
                <a:srgbClr val="ffffff"/>
              </a:solidFill>
              <a:latin typeface="Garamond"/>
            </a:endParaRPr>
          </a:p>
          <a:p>
            <a:pPr lvl="1" marL="698400" indent="-2685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presenta a metodologia e paradigmas de medida</a:t>
            </a: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504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Process</a:t>
            </a:r>
            <a:endParaRPr b="1" lang="en-US" sz="4000" spc="-1" strike="noStrike">
              <a:solidFill>
                <a:srgbClr val="b9efee"/>
              </a:solidFill>
              <a:latin typeface="Garamond"/>
            </a:endParaRPr>
          </a:p>
        </p:txBody>
      </p:sp>
      <p:sp>
        <p:nvSpPr>
          <p:cNvPr id="29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rocess Defini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Vários tipos de definições de processo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iclo de vida de modelos de framework</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iclo de vida de modelos de softwar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otações usadas para representar essas definiçõ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étodos de definições de processo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utomação relativa às várias definiçõe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Process</a:t>
            </a:r>
            <a:endParaRPr b="1" lang="en-US" sz="4000" spc="-1" strike="noStrike">
              <a:solidFill>
                <a:srgbClr val="b9efee"/>
              </a:solidFill>
              <a:latin typeface="Garamond"/>
            </a:endParaRPr>
          </a:p>
        </p:txBody>
      </p:sp>
      <p:sp>
        <p:nvSpPr>
          <p:cNvPr id="29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Qualitative process analysis</a:t>
            </a:r>
            <a:endParaRPr b="0" lang="en-US" sz="32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Revisão do processo de definição</a:t>
            </a:r>
            <a:endParaRPr b="0" lang="en-US" sz="28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nálise da causa de origem</a:t>
            </a:r>
            <a:endParaRPr b="0" lang="en-US" sz="28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rocess Implementation and change</a:t>
            </a:r>
            <a:endParaRPr b="0" lang="en-US" sz="32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screve os paradigmas</a:t>
            </a:r>
            <a:endParaRPr b="0" lang="en-US" sz="28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screve as linhas de direção para implementação e mudança do processo</a:t>
            </a:r>
            <a:endParaRPr b="0" lang="en-US" sz="28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valiação do resultado de implementação e mudança</a:t>
            </a: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551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Tools and Methods</a:t>
            </a:r>
            <a:endParaRPr b="1" lang="en-US" sz="4000" spc="-1" strike="noStrike">
              <a:solidFill>
                <a:srgbClr val="b9efee"/>
              </a:solidFill>
              <a:latin typeface="Garamond"/>
            </a:endParaRPr>
          </a:p>
        </p:txBody>
      </p:sp>
      <p:sp>
        <p:nvSpPr>
          <p:cNvPr id="30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i tanto o ambiente de desenvolvimento de software como as áreas de conhecimento de métodos  de desenvolvimento</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biente de desenvolvimento de software</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ão ferramentas computacionais com o intuito de auxiliar o processo de desenvolvimento de software</a:t>
            </a:r>
            <a:endParaRPr b="0" lang="en-US" sz="28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Engineering Tools and Methods</a:t>
            </a:r>
            <a:endParaRPr b="1" lang="en-US" sz="4000" spc="-1" strike="noStrike">
              <a:solidFill>
                <a:srgbClr val="b9efee"/>
              </a:solidFill>
              <a:latin typeface="Garamond"/>
            </a:endParaRPr>
          </a:p>
        </p:txBody>
      </p:sp>
      <p:sp>
        <p:nvSpPr>
          <p:cNvPr id="30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étodos  de desenvolvimento</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õe estrutura na atividade de desenvolvimento de software, com o objetivo de tornar a atividade sistemática e propícia ao sucesso</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Quality</a:t>
            </a:r>
            <a:endParaRPr b="1" lang="en-US" sz="4000" spc="-1" strike="noStrike">
              <a:solidFill>
                <a:srgbClr val="b9efee"/>
              </a:solidFill>
              <a:latin typeface="Garamond"/>
            </a:endParaRPr>
          </a:p>
        </p:txBody>
      </p:sp>
      <p:sp>
        <p:nvSpPr>
          <p:cNvPr id="30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ualidade de Software nos processos do ciclo de vida de um softwa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e em grande parte do planejamento de softwar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Quality</a:t>
            </a:r>
            <a:endParaRPr b="1" lang="en-US" sz="4000" spc="-1" strike="noStrike">
              <a:solidFill>
                <a:srgbClr val="b9efee"/>
              </a:solidFill>
              <a:latin typeface="Garamond"/>
            </a:endParaRPr>
          </a:p>
        </p:txBody>
      </p:sp>
      <p:sp>
        <p:nvSpPr>
          <p:cNvPr id="30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ub-áreas de conhecimento</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Software quality concept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Purpose and planning of software quality assurance and verification and valid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ctivities and techniques for software quality assurance and verification and valid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easurement applied to software quality assurance and verification and validation</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Quality</a:t>
            </a:r>
            <a:endParaRPr b="1" lang="en-US" sz="4000" spc="-1" strike="noStrike">
              <a:solidFill>
                <a:srgbClr val="b9efee"/>
              </a:solidFill>
              <a:latin typeface="Garamond"/>
            </a:endParaRPr>
          </a:p>
        </p:txBody>
      </p:sp>
      <p:sp>
        <p:nvSpPr>
          <p:cNvPr id="309"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Software quality concepts</a:t>
            </a:r>
            <a:endParaRPr b="0" lang="en-US" sz="32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rata da medida do valor da qualidade</a:t>
            </a:r>
            <a:endParaRPr b="0" lang="en-US" sz="28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rata da descrição ISO9126 de qualidade</a:t>
            </a:r>
            <a:endParaRPr b="0" lang="en-US" sz="28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Dependência e outros tipos especiais de sistema</a:t>
            </a:r>
            <a:endParaRPr b="0" lang="en-US" sz="28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Purpose and planning of software quality assurance and verification and validation</a:t>
            </a:r>
            <a:endParaRPr b="0" lang="en-US" sz="3200" spc="-1" strike="noStrike">
              <a:solidFill>
                <a:srgbClr val="ffffff"/>
              </a:solidFill>
              <a:latin typeface="Garamond"/>
            </a:endParaRPr>
          </a:p>
          <a:p>
            <a:pPr lvl="1" marL="720720" indent="-2772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Atividades de planejamento comum</a:t>
            </a: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551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b9efee"/>
                </a:solidFill>
                <a:latin typeface="Garamond"/>
              </a:rPr>
              <a:t>Software Quality</a:t>
            </a:r>
            <a:endParaRPr b="1" lang="en-US" sz="4000" spc="-1" strike="noStrike">
              <a:solidFill>
                <a:srgbClr val="b9efee"/>
              </a:solidFill>
              <a:latin typeface="Garamond"/>
            </a:endParaRPr>
          </a:p>
        </p:txBody>
      </p:sp>
      <p:sp>
        <p:nvSpPr>
          <p:cNvPr id="311"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Activities and techniques for software quality assurance and verification and validation</a:t>
            </a:r>
            <a:endParaRPr b="0" lang="en-US" sz="3200" spc="-1" strike="noStrike">
              <a:solidFill>
                <a:srgbClr val="ffffff"/>
              </a:solidFill>
              <a:latin typeface="Garamond"/>
            </a:endParaRPr>
          </a:p>
          <a:p>
            <a:pPr lvl="1" marL="690840" indent="-265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Inclui técnicas estáticas e dinâmicas</a:t>
            </a:r>
            <a:endParaRPr b="0" lang="en-US" sz="2800" spc="-1" strike="noStrike">
              <a:solidFill>
                <a:srgbClr val="ffffff"/>
              </a:solidFill>
              <a:latin typeface="Garamond"/>
            </a:endParaRPr>
          </a:p>
          <a:p>
            <a:pPr marL="318960" indent="-31896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Measurement applied to software quality assurance and verification and validation</a:t>
            </a:r>
            <a:endParaRPr b="0" lang="en-US" sz="3200" spc="-1" strike="noStrike">
              <a:solidFill>
                <a:srgbClr val="ffffff"/>
              </a:solidFill>
              <a:latin typeface="Garamond"/>
            </a:endParaRPr>
          </a:p>
          <a:p>
            <a:pPr lvl="1" marL="690840" indent="-265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Inclui os fundamentos de medidas </a:t>
            </a:r>
            <a:endParaRPr b="0" lang="en-US" sz="2800" spc="-1" strike="noStrike">
              <a:solidFill>
                <a:srgbClr val="ffffff"/>
              </a:solidFill>
              <a:latin typeface="Garamond"/>
            </a:endParaRPr>
          </a:p>
          <a:p>
            <a:pPr lvl="1" marL="690840" indent="-265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Medidas</a:t>
            </a:r>
            <a:endParaRPr b="0" lang="en-US" sz="2800" spc="-1" strike="noStrike">
              <a:solidFill>
                <a:srgbClr val="ffffff"/>
              </a:solidFill>
              <a:latin typeface="Garamond"/>
            </a:endParaRPr>
          </a:p>
          <a:p>
            <a:pPr lvl="1" marL="690840" indent="-265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Técnicas de análise de medidas</a:t>
            </a:r>
            <a:endParaRPr b="0" lang="en-US" sz="2800" spc="-1" strike="noStrike">
              <a:solidFill>
                <a:srgbClr val="ffffff"/>
              </a:solidFill>
              <a:latin typeface="Garamond"/>
            </a:endParaRPr>
          </a:p>
          <a:p>
            <a:pPr lvl="1" marL="690840" indent="-265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Garamond"/>
              </a:rPr>
              <a:t>Caracterização de falha</a:t>
            </a: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3" marL="1487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0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onsiderações</a:t>
            </a:r>
            <a:endParaRPr b="1" lang="en-US" sz="4000" spc="-1" strike="noStrike">
              <a:solidFill>
                <a:srgbClr val="b9efee"/>
              </a:solidFill>
              <a:latin typeface="Garamond"/>
            </a:endParaRPr>
          </a:p>
        </p:txBody>
      </p:sp>
      <p:sp>
        <p:nvSpPr>
          <p:cNvPr id="313"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É provável que o projeto SWEBOK torne-se tão importante dentro da área de Tecnologia da Informação quanto o PMBOK é dentro da área de Gerência de Projeto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seus padrões se tornem guias para um profissional de Tecnologia da informaçã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genharia de software</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versos centros de estudos e universidades, por todo o mundo, oferecem graduação em engenharia de software ou possuem algum grupo voltado a estudos do corpo do conhecimento dessa áre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eferências</a:t>
            </a:r>
            <a:endParaRPr b="1" lang="en-US" sz="4000" spc="-1" strike="noStrike">
              <a:solidFill>
                <a:srgbClr val="b9efee"/>
              </a:solidFill>
              <a:latin typeface="Garamond"/>
            </a:endParaRPr>
          </a:p>
        </p:txBody>
      </p:sp>
      <p:sp>
        <p:nvSpPr>
          <p:cNvPr id="315"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Guide to the Software Engineering Body of Knowledge. A Project of the Software Engineering Coordinating Committee - </a:t>
            </a:r>
            <a:r>
              <a:rPr b="0" i="1" lang="pt-BR" sz="2400" spc="-1" strike="noStrike">
                <a:solidFill>
                  <a:srgbClr val="ffffff"/>
                </a:solidFill>
                <a:latin typeface="Garamond"/>
              </a:rPr>
              <a:t>Leonard L. Trip</a:t>
            </a:r>
            <a:r>
              <a:rPr b="0" lang="pt-BR" sz="2400" spc="-1" strike="noStrike">
                <a:solidFill>
                  <a:srgbClr val="ffffff"/>
                </a:solidFill>
                <a:latin typeface="Garamond"/>
              </a:rPr>
              <a:t>p, Chair, Professional Practices Committee, IEEE Computer Society</a:t>
            </a:r>
            <a:br>
              <a:rPr sz="2400"/>
            </a:br>
            <a:r>
              <a:rPr b="0" lang="pt-BR" sz="2400" spc="-1" strike="noStrike">
                <a:solidFill>
                  <a:srgbClr val="ffffff"/>
                </a:solidFill>
                <a:latin typeface="Garamond"/>
              </a:rPr>
              <a:t> </a:t>
            </a:r>
            <a:endParaRPr b="0" lang="en-US" sz="2400" spc="-1" strike="noStrike">
              <a:solidFill>
                <a:srgbClr val="ffffff"/>
              </a:solidFill>
              <a:latin typeface="Garamond"/>
            </a:endParaRPr>
          </a:p>
          <a:p>
            <a:pPr marL="335880" indent="-3358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Garamond"/>
              </a:rPr>
              <a:t>The Emerging Consensus on Software Engineering Body of Knowledge –Pierre Bourque, École de technologie supérieure Robert Dupuis, february,2002 </a:t>
            </a:r>
            <a:br>
              <a:rPr sz="2400"/>
            </a:br>
            <a:r>
              <a:rPr b="0" lang="pt-BR" sz="2400" spc="-1" strike="noStrike">
                <a:solidFill>
                  <a:srgbClr val="ffffff"/>
                </a:solidFill>
                <a:latin typeface="Garamond"/>
              </a:rPr>
              <a:t> </a:t>
            </a:r>
            <a:endParaRPr b="0" lang="en-US" sz="2400" spc="-1" strike="noStrike">
              <a:solidFill>
                <a:srgbClr val="ffffff"/>
              </a:solidFill>
              <a:latin typeface="Garamond"/>
            </a:endParaRPr>
          </a:p>
          <a:p>
            <a:pPr marL="335880" indent="-3358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Garamond"/>
              </a:rPr>
              <a:t>Description of the SWEBOK Knowledge Area Software Engineering Process- </a:t>
            </a:r>
            <a:r>
              <a:rPr b="0" lang="pt-BR" sz="2800" spc="-1" strike="noStrike">
                <a:solidFill>
                  <a:srgbClr val="ffffff"/>
                </a:solidFill>
                <a:latin typeface="Garamond"/>
              </a:rPr>
              <a:t>El-Emam, K. March 2001</a:t>
            </a:r>
            <a:endParaRPr b="0" lang="en-US" sz="2800" spc="-1" strike="noStrike">
              <a:solidFill>
                <a:srgbClr val="ffffff"/>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eferências</a:t>
            </a:r>
            <a:endParaRPr b="1" lang="en-US" sz="4000" spc="-1" strike="noStrike">
              <a:solidFill>
                <a:srgbClr val="b9efee"/>
              </a:solidFill>
              <a:latin typeface="Garamond"/>
            </a:endParaRPr>
          </a:p>
        </p:txBody>
      </p:sp>
      <p:sp>
        <p:nvSpPr>
          <p:cNvPr id="317" name="PlaceHolder 2"/>
          <p:cNvSpPr>
            <a:spLocks noGrp="1"/>
          </p:cNvSpPr>
          <p:nvPr>
            <p:ph/>
          </p:nvPr>
        </p:nvSpPr>
        <p:spPr>
          <a:xfrm>
            <a:off x="395280" y="1988640"/>
            <a:ext cx="8229600" cy="449604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nzcs.org.nz/documents/SWEBOK2.pdf</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3"/>
              </a:rPr>
              <a:t>http://www.ipenz.org.nz/ipenz/publications/Convention/SWEBOK.pp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4"/>
              </a:rPr>
              <a:t>http://www.site.uottawa.ca/~tcl/presentations/SWEBOKandUottMar2000CSEET.pp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rescimento no interesse na profissão de engenharia de software</a:t>
            </a:r>
            <a:endParaRPr b="1" lang="en-US" sz="4000" spc="-1" strike="noStrike">
              <a:solidFill>
                <a:srgbClr val="b9efee"/>
              </a:solidFill>
              <a:latin typeface="Garamond"/>
            </a:endParaRPr>
          </a:p>
        </p:txBody>
      </p:sp>
      <p:sp>
        <p:nvSpPr>
          <p:cNvPr id="139"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University of New South Wales (Australia)</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McMaster University (Canadá)</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Rochester Institute of Technology (US)</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Garamond"/>
              </a:rPr>
              <a:t>The Canadian Information Processing Society tem publicado critérios que acreditam em programas de engenharia de software para estudantes ainda não graduados</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23:14:54Z</dcterms:created>
  <dc:creator>milena</dc:creator>
  <dc:description/>
  <dc:language>en-US</dc:language>
  <cp:lastModifiedBy>milena</cp:lastModifiedBy>
  <dcterms:modified xsi:type="dcterms:W3CDTF">2003-07-10T12:30:32Z</dcterms:modified>
  <cp:revision>441</cp:revision>
  <dc:subject/>
  <dc:title>Slide 1</dc:title>
</cp:coreProperties>
</file>