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77545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E3601-8913-4A25-A13B-9239722364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8001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040" y="4230720"/>
            <a:ext cx="8001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C94FC-44EE-4C3B-9A92-33B1C157BC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3904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13720" y="1922040"/>
            <a:ext cx="3904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040" y="4230720"/>
            <a:ext cx="3904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13720" y="4230720"/>
            <a:ext cx="3904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FAEBA-4000-4E92-8DD2-EEF137B180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257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19440" y="1922040"/>
            <a:ext cx="257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24840" y="1922040"/>
            <a:ext cx="257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040" y="4230720"/>
            <a:ext cx="257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19440" y="4230720"/>
            <a:ext cx="257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24840" y="4230720"/>
            <a:ext cx="257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45F32-5CDA-40AF-8AF8-3798043387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040" y="1922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3904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13720" y="1922040"/>
            <a:ext cx="3904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040" y="53352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3904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1922040"/>
            <a:ext cx="3904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040" y="4230720"/>
            <a:ext cx="3904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040" y="1922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4DA69-1E5D-430F-9453-E398E7C942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3904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1922040"/>
            <a:ext cx="3904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13720" y="4230720"/>
            <a:ext cx="3904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3904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1922040"/>
            <a:ext cx="3904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040" y="4230720"/>
            <a:ext cx="8001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8001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040" y="4230720"/>
            <a:ext cx="8001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3904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13720" y="1922040"/>
            <a:ext cx="3904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040" y="4230720"/>
            <a:ext cx="3904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13720" y="4230720"/>
            <a:ext cx="3904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257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9440" y="1922040"/>
            <a:ext cx="257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24840" y="1922040"/>
            <a:ext cx="257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040" y="4230720"/>
            <a:ext cx="257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9440" y="4230720"/>
            <a:ext cx="257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24840" y="4230720"/>
            <a:ext cx="257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62B63-894C-4874-B9D5-37C640A9D3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3904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13720" y="1922040"/>
            <a:ext cx="3904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D09CA-C144-4FDC-8A32-57F055E5E5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5C7C9-FCDA-4C0B-B387-BCACF497BB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040" y="53352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EB63C-7390-443D-9A5B-56C56EBC4C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3904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1922040"/>
            <a:ext cx="3904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040" y="4230720"/>
            <a:ext cx="3904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8D963-8996-42D7-878D-39FFF6B236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3904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13720" y="1922040"/>
            <a:ext cx="3904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13720" y="4230720"/>
            <a:ext cx="3904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92312-1EE8-421C-A9D6-1A06F5D738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3904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13720" y="1922040"/>
            <a:ext cx="3904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040" y="4230720"/>
            <a:ext cx="8001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6EBF7-30B3-49C0-A920-5A0D89BBD9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1922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133840" y="6249960"/>
            <a:ext cx="1219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800" spc="-1" strike="noStrike">
                <a:solidFill>
                  <a:srgbClr val="ff6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2D5CE-37FC-4088-BDBB-810197C67CB1}" type="slidenum">
              <a:rPr b="0" lang="pt-BR" sz="1800" spc="-1" strike="noStrike">
                <a:solidFill>
                  <a:srgbClr val="ff6600"/>
                </a:solidFill>
                <a:latin typeface="Times New Roman"/>
              </a:rPr>
              <a:t>&lt;number&gt;</a:t>
            </a:fld>
            <a:r>
              <a:rPr b="0" lang="pt-BR" sz="1800" spc="-1" strike="noStrike">
                <a:solidFill>
                  <a:srgbClr val="ff6600"/>
                </a:solidFill>
                <a:latin typeface="Times New Roman"/>
              </a:rPr>
              <a:t>/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28240" y="1600200"/>
            <a:ext cx="8686800" cy="152280"/>
            <a:chOff x="228240" y="1600200"/>
            <a:chExt cx="8686800" cy="152280"/>
          </a:xfrm>
        </p:grpSpPr>
        <p:sp>
          <p:nvSpPr>
            <p:cNvPr id="5" name=""/>
            <p:cNvSpPr/>
            <p:nvPr/>
          </p:nvSpPr>
          <p:spPr>
            <a:xfrm>
              <a:off x="676080" y="1600200"/>
              <a:ext cx="8238960" cy="151560"/>
            </a:xfrm>
            <a:prstGeom prst="roundRect">
              <a:avLst>
                <a:gd name="adj" fmla="val 0"/>
              </a:avLst>
            </a:pr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>
              <a:off x="227880" y="1600200"/>
              <a:ext cx="462600" cy="152280"/>
            </a:xfrm>
            <a:prstGeom prst="flowChartDelay">
              <a:avLst/>
            </a:pr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4044960" y="4606920"/>
            <a:ext cx="4876920" cy="166680"/>
            <a:chOff x="4044960" y="4606920"/>
            <a:chExt cx="4876920" cy="166680"/>
          </a:xfrm>
        </p:grpSpPr>
        <p:sp>
          <p:nvSpPr>
            <p:cNvPr id="45" name=""/>
            <p:cNvSpPr/>
            <p:nvPr/>
          </p:nvSpPr>
          <p:spPr>
            <a:xfrm flipH="1">
              <a:off x="4044960" y="4606920"/>
              <a:ext cx="4626000" cy="165960"/>
            </a:xfrm>
            <a:prstGeom prst="roundRect">
              <a:avLst>
                <a:gd name="adj" fmla="val 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661600" y="4606920"/>
              <a:ext cx="260280" cy="166680"/>
            </a:xfrm>
            <a:prstGeom prst="flowChartDelay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82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228240" y="2673360"/>
            <a:ext cx="8686800" cy="152280"/>
            <a:chOff x="228240" y="2673360"/>
            <a:chExt cx="8686800" cy="152280"/>
          </a:xfrm>
        </p:grpSpPr>
        <p:sp>
          <p:nvSpPr>
            <p:cNvPr id="49" name=""/>
            <p:cNvSpPr/>
            <p:nvPr/>
          </p:nvSpPr>
          <p:spPr>
            <a:xfrm>
              <a:off x="676080" y="2673360"/>
              <a:ext cx="8238960" cy="151560"/>
            </a:xfrm>
            <a:prstGeom prst="roundRect">
              <a:avLst>
                <a:gd name="adj" fmla="val 0"/>
              </a:avLst>
            </a:pr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227880" y="2673360"/>
              <a:ext cx="462600" cy="152280"/>
            </a:xfrm>
            <a:prstGeom prst="flowChartDelay">
              <a:avLst/>
            </a:pr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838080" y="518148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89000" y="1577520"/>
            <a:ext cx="782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3366"/>
                </a:solidFill>
                <a:latin typeface="Arial"/>
              </a:rPr>
              <a:t>Metodologias Ágei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114800" y="332712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6666"/>
                </a:solidFill>
                <a:latin typeface="Arial"/>
              </a:rPr>
              <a:t>Metodologias Crystal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5715000"/>
            <a:ext cx="7826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Arial"/>
              </a:rPr>
              <a:t>Engenharia de Software Avançado 3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Arial"/>
              </a:rPr>
              <a:t>João Murilo Azevedo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Arial"/>
              </a:rPr>
              <a:t>jmda@cin.ufpe.b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Características da metodologia </a:t>
            </a:r>
            <a:r>
              <a:rPr b="0" lang="pt-BR" sz="2800" spc="-1" strike="noStrike">
                <a:solidFill>
                  <a:srgbClr val="006666"/>
                </a:solidFill>
                <a:latin typeface="Arial"/>
              </a:rPr>
              <a:t>(2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Organização física úni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Projetos pequen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Equipes e 3 a 8 desenvolvedores (Clear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Especialidades pessoais distintas e complementa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73E7D-44D5-4120-8AA5-A86EDC8C764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Características da metodologia </a:t>
            </a:r>
            <a:r>
              <a:rPr b="0" lang="pt-BR" sz="2800" spc="-1" strike="noStrike">
                <a:solidFill>
                  <a:srgbClr val="006666"/>
                </a:solidFill>
                <a:latin typeface="Arial"/>
              </a:rPr>
              <a:t>(3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2400" y="2057400"/>
            <a:ext cx="3486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Fraco em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Consistênci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Disciplin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Fluxo de instruçõ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49000" y="2122560"/>
            <a:ext cx="365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Forte em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Comunicaçã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Inter-relacionamen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Copiar / Modific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91920" y="4648320"/>
            <a:ext cx="384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Motivação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Orgulho em trabalh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Orgulho em contribui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Orgulho em realiz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691D5-7434-4A3C-987C-689FF72195F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Características das equi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Cada pessoa tem um perfil diferente e útil ao proje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Usuário diretamente envolvid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Papeis importante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Executive Sponso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Responsável pelas decisões e dinheiro – Visão do negóci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Project Manag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Pessoa que interage com a equipe desenvolvimento e é responsável pelas decisões técnicas, custo, recursos, suporte externo (Suporte específico, Suporte do Usuário/Negócio, Treinamento, ...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Senior designer-programm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Designer-programm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Usuári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621FC-9CDB-4367-BC09-806CD7C014D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241960" y="2614680"/>
            <a:ext cx="175248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5480" y="2901960"/>
            <a:ext cx="121932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Process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91960" y="1932120"/>
            <a:ext cx="19684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Documento d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Requisit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18720" y="1938240"/>
            <a:ext cx="22075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Planejamento 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Próxima relea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13760" y="3024000"/>
            <a:ext cx="19699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Programaçã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Das atividad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0" y="3062160"/>
            <a:ext cx="13863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Versã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Utilizá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491800" y="320040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Interaçõ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70160" y="2309760"/>
            <a:ext cx="4572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70160" y="2538360"/>
            <a:ext cx="533520" cy="9144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937040" y="2309760"/>
            <a:ext cx="609840" cy="5335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84760" y="3452760"/>
            <a:ext cx="4572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2270160" y="3757320"/>
            <a:ext cx="3124080" cy="10666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352680" y="4062240"/>
            <a:ext cx="2270160" cy="14241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57800" y="4214520"/>
            <a:ext cx="898560" cy="14238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613560" y="4061880"/>
            <a:ext cx="1371600" cy="12193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010280" y="3429000"/>
            <a:ext cx="609840" cy="0"/>
          </a:xfrm>
          <a:prstGeom prst="line">
            <a:avLst/>
          </a:prstGeom>
          <a:ln w="572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25400" y="5295960"/>
            <a:ext cx="16239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Paralelism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E Flux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679440" y="4933800"/>
            <a:ext cx="19440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Construçã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Demonstraçã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Revisã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983280" y="3059280"/>
            <a:ext cx="5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Times New Roman"/>
              </a:rPr>
              <a:t>1 a 4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83080" y="2743200"/>
            <a:ext cx="1000080" cy="1093680"/>
          </a:xfrm>
          <a:custGeom>
            <a:avLst/>
            <a:gdLst/>
            <a:ahLst/>
            <a:rect l="l" t="t" r="r" b="b"/>
            <a:pathLst>
              <a:path w="630" h="689">
                <a:moveTo>
                  <a:pt x="88" y="689"/>
                </a:moveTo>
                <a:lnTo>
                  <a:pt x="31" y="553"/>
                </a:lnTo>
                <a:lnTo>
                  <a:pt x="0" y="477"/>
                </a:lnTo>
                <a:lnTo>
                  <a:pt x="0" y="340"/>
                </a:lnTo>
                <a:lnTo>
                  <a:pt x="31" y="260"/>
                </a:lnTo>
                <a:lnTo>
                  <a:pt x="88" y="181"/>
                </a:lnTo>
                <a:lnTo>
                  <a:pt x="165" y="103"/>
                </a:lnTo>
                <a:lnTo>
                  <a:pt x="291" y="45"/>
                </a:lnTo>
                <a:lnTo>
                  <a:pt x="381" y="11"/>
                </a:lnTo>
                <a:lnTo>
                  <a:pt x="460" y="0"/>
                </a:lnTo>
                <a:lnTo>
                  <a:pt x="542" y="26"/>
                </a:lnTo>
                <a:lnTo>
                  <a:pt x="630" y="68"/>
                </a:lnTo>
              </a:path>
            </a:pathLst>
          </a:custGeom>
          <a:noFill/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00" y="3483000"/>
            <a:ext cx="204012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Polític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Padrõ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Pape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Matérias loca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Ferrament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Produt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Atividad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378320" y="5303880"/>
            <a:ext cx="20811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Monitoramen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Do Progress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987600" y="343224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Times New Roman"/>
              </a:rPr>
              <a:t>mes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839080" y="3886200"/>
            <a:ext cx="0" cy="259092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294920" y="6477120"/>
            <a:ext cx="7543800" cy="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295280" y="6171840"/>
            <a:ext cx="0" cy="30492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C74A9-7F71-4CF2-9E36-934F5CE6172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Polític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Liberação de versões regula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Acompanhamento do projeto através de gráfic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Envolvimento direto do usuár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Automatização de testes de funcionalidade (regressão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Duas verificações do usuário por release (no meio e no fim de cada interação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Reuniões para ajustes do produto e da metodologia no início e meio de cada interação (reflection workshop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66757-B22C-4E37-9CA3-34F4C2AB68D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Padrõ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Padrão de notação de nom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Convenção de desig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Padrão de formatação do códig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Padrões mínimos de qualida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6253A-98CE-4174-BBE6-12A08EC9BFA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Materiais locais </a:t>
            </a:r>
            <a:r>
              <a:rPr b="0" lang="pt-BR" sz="2800" spc="-1" strike="noStrike">
                <a:solidFill>
                  <a:srgbClr val="006666"/>
                </a:solidFill>
                <a:latin typeface="Arial"/>
              </a:rPr>
              <a:t>(*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Infraestrutura de software necessárias para automatização do processo de desenvolvimen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Templat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Testes de regressã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Padrões de interfa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Técnicas de levantamen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Técnicas de administraçã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66"/>
                </a:solidFill>
                <a:latin typeface="Arial"/>
              </a:rPr>
              <a:t>(*) Tudo que não foi previsto na metodologi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E45B4-0CF6-49F5-BB33-827E534FD15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Ferrament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Ambiente de desenvolvimento / compilaçã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Controle de versõ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Controle de proje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Ferramentas de desenho de interfa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Ferramentas de tes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Ferramentas de teste de GU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Medidores de perform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85D1B-C1D1-4976-9933-CC7BBEA116B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Produt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Cada release deve conter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Número e data de liberaçã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Modelo do objet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Manual do usuár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Casos de test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Rotinas de migração da release anteri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Use case / alterações (Clear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Documento de requisitos (Orang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2F878-F5C9-45CD-BA1C-61D07A98B39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Atividad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Planejamen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Planejamento das próximas fases / interaçõ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Planejar interações e 1 a 4 meses no máxim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Revisão e demonstraçã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Monitoramen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Iníci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Revisão 1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Revisão 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Tes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Liberaçã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Paralelismo e flux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Divisão do projeto em vários tim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Acompanhamento das atividades dependent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091FE-955A-4583-9F09-DB2AD9A5C03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Premiss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Filosofia e Prioridad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A família Cryst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Características da metodolog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Características das equip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O process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Referênci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Conclusã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83895-EFE4-48C6-AB03-D54566FD46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Utilização de metodologias ágei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93560" y="8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3" name="epmu0119fig01" descr="Figure 1"/>
          <p:cNvPicPr/>
          <p:nvPr/>
        </p:nvPicPr>
        <p:blipFill>
          <a:blip r:embed="rId1"/>
          <a:stretch/>
        </p:blipFill>
        <p:spPr>
          <a:xfrm>
            <a:off x="687240" y="1828800"/>
            <a:ext cx="7543800" cy="50292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791760" y="6073920"/>
            <a:ext cx="225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51% utilizam RUP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01680" y="6505560"/>
            <a:ext cx="4995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by Robert Charette, Senior Consultant, Cutter Consortiu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E5A8A-4577-4591-82B1-E737778B3C7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Referênci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www.crystalmethodologies.org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members.aol.com/acockbur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www.agilealliance.org/artic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Software development as a cooperative Ga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Addison-Wesley 200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Agile software development methods (review and analysi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Pekka abrahamsson, Outi Salo &amp; Jussi Ronkain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www.cutter.com/consultants/charetter.htm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82C6B-BCE7-420A-9F57-851E7C7A894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Conclusã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9220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Desenvolvimento de software é um jogo de cooperação, usando desenvolvedores que pensam e fazem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Alistair Cockbur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F5132-55BA-485B-B957-7E2D3D9C9C9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8782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Perguntas ...</a:t>
            </a:r>
            <a:br>
              <a:rPr sz="3600"/>
            </a:br>
            <a:br>
              <a:rPr sz="3600"/>
            </a:br>
            <a:r>
              <a:rPr b="0" lang="pt-BR" sz="1800" spc="-1" strike="noStrike">
                <a:solidFill>
                  <a:srgbClr val="006666"/>
                </a:solidFill>
                <a:latin typeface="Arial"/>
              </a:rPr>
              <a:t>Ser flexível é ser ágil?</a:t>
            </a:r>
            <a:br>
              <a:rPr sz="1800"/>
            </a:br>
            <a:r>
              <a:rPr b="0" lang="pt-BR" sz="1800" spc="-1" strike="noStrike">
                <a:solidFill>
                  <a:srgbClr val="006666"/>
                </a:solidFill>
                <a:latin typeface="Arial"/>
              </a:rPr>
              <a:t>Ser produtivo é não “perder” tempo com normas?</a:t>
            </a:r>
            <a:br>
              <a:rPr sz="1800"/>
            </a:br>
            <a:r>
              <a:rPr b="0" lang="pt-BR" sz="1800" spc="-1" strike="noStrike">
                <a:solidFill>
                  <a:srgbClr val="006666"/>
                </a:solidFill>
                <a:latin typeface="Arial"/>
              </a:rPr>
              <a:t>Ser tolerante é permitir tudo?</a:t>
            </a:r>
            <a:br>
              <a:rPr sz="1800"/>
            </a:b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4044960" y="4606920"/>
            <a:ext cx="4876920" cy="166680"/>
            <a:chOff x="4044960" y="4606920"/>
            <a:chExt cx="4876920" cy="166680"/>
          </a:xfrm>
        </p:grpSpPr>
        <p:sp>
          <p:nvSpPr>
            <p:cNvPr id="172" name=""/>
            <p:cNvSpPr/>
            <p:nvPr/>
          </p:nvSpPr>
          <p:spPr>
            <a:xfrm flipH="1">
              <a:off x="4044960" y="4606920"/>
              <a:ext cx="4626000" cy="165960"/>
            </a:xfrm>
            <a:prstGeom prst="roundRect">
              <a:avLst>
                <a:gd name="adj" fmla="val 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661600" y="4606920"/>
              <a:ext cx="260280" cy="166680"/>
            </a:xfrm>
            <a:prstGeom prst="flowChartDelay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762120" y="5705640"/>
            <a:ext cx="7826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Arial"/>
              </a:rPr>
              <a:t>Engenharia de Software Avançado 3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Arial"/>
              </a:rPr>
              <a:t>João Murilo Azevedo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Arial"/>
              </a:rPr>
              <a:t>jmda@cin.ufpe.b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AFA10-E73D-4A8E-87F8-FEEC34F7A18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Premiss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Crystal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 faz parte de um família de metodologias criadas por </a:t>
            </a: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Alistair Cockburn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 (1998) cujas premissas são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Todo projeto tem necessidades, convenções e uma metodologia diferen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O funcionamento do projeto é influenciado por fatores humanos, e há melhora neste quando os indivíduos produzem melh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Comunicação melhor e lançamentos freqüentes reduzem a necessidade de construir produtos intermediários do process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90FCB-39E4-4EC6-B149-5434496ACA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Filosof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Crystal is a family of human-powered and  adaptative, ultralight, ‘shirink-to-fit’ software development methodologies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Centrada nas pesso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Flexível e adaptativ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Lev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Poucos requisitos produzem menores e melhores softwa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8E727-AE9E-4EF0-BC86-5B36F23E792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Prioridad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Alta produtivida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Alta tolerânc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32D55-4062-4EEB-AAE1-C4909CA56E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Jogo cooperativ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Diferentes táticas para diferentes projet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Pessoas, motivação e alinhamento dos objetiv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Talento e habilidad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Comunicaçã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Gerência de energia (minimizar requisitos/desig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Produzir trabalhando / Não trabalh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Qualidade do trabalho (Design bom e simple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Boas ferramentas (Gerenciar, desenvolver e testar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Conhecimento tácido e comunicação verb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Liberação de versões freqüent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016760" y="6216480"/>
            <a:ext cx="191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Cockburn (1998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FB91E-FCA4-43DF-A71B-4933DB0DEC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Família Crystal </a:t>
            </a:r>
            <a:r>
              <a:rPr b="0" lang="pt-BR" sz="2800" spc="-1" strike="noStrike">
                <a:solidFill>
                  <a:srgbClr val="006666"/>
                </a:solidFill>
                <a:latin typeface="Arial"/>
              </a:rPr>
              <a:t>(1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Classificação  dos projetos quanto a problemas causados por perdas ou falha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Confortável 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(C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Algum custo 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(D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Alto custo 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(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Custo de vidas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(L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Quanto a quantidade de pessoas envolvid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Até 6 pessoas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(Clear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De 7 à 20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(Yellow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De 21 à 40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(Orang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De 41 à 80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(Red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8286C-8B03-46F3-8782-BBC87E318FC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Família Crystal </a:t>
            </a:r>
            <a:r>
              <a:rPr b="0" lang="pt-BR" sz="2800" spc="-1" strike="noStrike">
                <a:solidFill>
                  <a:srgbClr val="006666"/>
                </a:solidFill>
                <a:latin typeface="Arial"/>
              </a:rPr>
              <a:t>(2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447920" y="1905120"/>
          <a:ext cx="601956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905120"/>
                    <a:ext cx="601956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2774880" y="4148280"/>
            <a:ext cx="506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D1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06560" y="3409920"/>
            <a:ext cx="3985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E8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98280" y="2666880"/>
            <a:ext cx="378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84600" y="4911840"/>
            <a:ext cx="407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6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FDFD2-A3D8-47DD-A86A-05E4A058CA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Características da metodologia </a:t>
            </a:r>
            <a:r>
              <a:rPr b="0" lang="pt-BR" sz="2800" spc="-1" strike="noStrike">
                <a:solidFill>
                  <a:srgbClr val="006666"/>
                </a:solidFill>
                <a:latin typeface="Arial"/>
              </a:rPr>
              <a:t>(1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Desenvolvimento cíclico e increment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Forte comunicação entre as pesso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Forte interação entre as pesso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Especificação e projeto inform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Análise de requisitos mínim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Utilização de use cases (user stories do XP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Detalhamento dos requisit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Tarefas a serem realizad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Processo para sua execuçã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Versões com incremento regulares de um mês (no máximo 4 mese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84088-E912-44E6-8BDC-87DB9B15335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8T13:19:28Z</dcterms:created>
  <dc:creator>Rita</dc:creator>
  <dc:description/>
  <dc:language>en-US</dc:language>
  <cp:lastModifiedBy>Rita</cp:lastModifiedBy>
  <dcterms:modified xsi:type="dcterms:W3CDTF">2003-06-10T09:33:06Z</dcterms:modified>
  <cp:revision>55</cp:revision>
  <dc:subject/>
  <dc:title>Apresentação do PowerPoint</dc:title>
</cp:coreProperties>
</file>