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C28-E6AC-4592-A266-23B4098D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0B0-E0CB-4056-9639-4C395801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0F38-62E4-4621-8EF3-4FA03225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78E-30CE-40CC-A15E-F7AA84A6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E3F7-0BA6-4832-8521-37B64FB1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EB35-EB7A-48EE-B19B-626B29A9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5076-62FC-4CCF-99F8-CCBA6803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AF89-0E83-485B-B790-BF7FB259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0E15-D684-40B2-B47B-A31683F6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249B-E3DF-4F1C-9084-F6655C78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93C4-0060-411B-A2D5-06E5EB31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3F0C-776B-4C3E-A4E5-5EFC1CA1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F9D9-53CC-4F60-A060-C010F5FB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DBB4-5229-47E9-856B-4A2C03F4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9876-E928-4AC6-ADAE-8EF36958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363C-7CCC-4941-99F7-B0E98ACA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EBBD-4A1D-4904-992E-501D63FA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0AC6-F7D8-4015-AE60-D118E1C8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0705-BB31-48A3-85E6-A1BD02FA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262-4787-4A07-8B90-3C72E43F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50F-2060-4232-906C-C014D363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CB2-21A6-4951-89FF-58037B7D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1902-F0F0-421A-8868-1B4707FD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5BC-367D-40C8-B7FD-9EC506B4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F1ED-F984-44A9-9C49-5E540F42B06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4CCB-6F80-4429-9777-3F2C9CC9527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icse-conferences.org/2002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icse-conferences.org/2002/" TargetMode="External"/><Relationship Id="rId2" Type="http://schemas.openxmlformats.org/officeDocument/2006/relationships/hyperlink" Target="http://www.awprofessional.com/catalog/product.asp?product_id=%7B13E02773-851C-41B6-B2E4-50D309813520%7D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66720" y="125712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800" spc="-1" strike="noStrike">
                <a:solidFill>
                  <a:srgbClr val="660066"/>
                </a:solidFill>
                <a:latin typeface="Arial Black"/>
              </a:rPr>
              <a:t>Catalysis</a:t>
            </a:r>
            <a:br>
              <a:rPr sz="4000"/>
            </a:br>
            <a:r>
              <a:rPr b="0" lang="pt-BR" sz="3200" spc="-1" strike="noStrike">
                <a:solidFill>
                  <a:srgbClr val="660066"/>
                </a:solidFill>
                <a:latin typeface="Arial Black"/>
              </a:rPr>
              <a:t>Uma Visão Geral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458c"/>
                </a:solidFill>
                <a:latin typeface="Arial"/>
              </a:rPr>
              <a:t>Eduardo Santana de Almeida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baseline="30000">
                <a:solidFill>
                  <a:srgbClr val="40458c"/>
                </a:solidFill>
                <a:latin typeface="Arial"/>
                <a:ea typeface="Times New Roman"/>
              </a:rPr>
              <a:t>esa2@cin.ufpe.b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Arial"/>
              </a:rPr>
              <a:t>Universidade Federal de Pernambuco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Arial"/>
              </a:rPr>
              <a:t>Centro de Informátic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Arial"/>
              </a:rPr>
              <a:t>Centro de Estudos e Sistemas Avançados do Recif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Métodos para Desenvolvimento de Component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É necessária uma abordagem que considere a reutilização em todas as etapas do desenvolvi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ve ser considerado em todos os níveis, não somente código executá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Desenvolvimento de Compon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Desenvolvimento com Component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étodos para Desenvolvimento de Component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É uma abordagem relativamente nov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s métodos são extensões de métodos já existentes, em particular, métodos de desenvolvimento Orientado a Obje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Méto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ataly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{RUP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elect Perspectiv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UML Compone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bordagem de DBCD [Almeida, 2003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Catalys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2634840" y="4191120"/>
            <a:ext cx="564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800" spc="-1" strike="noStrike">
                <a:solidFill>
                  <a:srgbClr val="003300"/>
                </a:solidFill>
                <a:latin typeface="Franklin Gothic Demi"/>
                <a:ea typeface="굴림"/>
              </a:rPr>
              <a:t>“</a:t>
            </a:r>
            <a:r>
              <a:rPr b="0" i="1" lang="ko-KR" sz="1800" spc="-1" strike="noStrike">
                <a:solidFill>
                  <a:srgbClr val="003300"/>
                </a:solidFill>
                <a:latin typeface="Franklin Gothic Demi"/>
                <a:ea typeface="굴림"/>
              </a:rPr>
              <a:t>. . .</a:t>
            </a:r>
            <a:r>
              <a:rPr b="0" i="1" lang="en-US" sz="1800" spc="-1" strike="noStrike">
                <a:solidFill>
                  <a:srgbClr val="003300"/>
                </a:solidFill>
                <a:latin typeface="Franklin Gothic Demi"/>
                <a:ea typeface="굴림"/>
              </a:rPr>
              <a:t>Software development continues to be, as alway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Franklin Gothic Demi"/>
                <a:ea typeface="굴림"/>
              </a:rPr>
              <a:t>, a difficult and fascinating mixture of art, science,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Franklin Gothic Demi"/>
                <a:ea typeface="굴림"/>
              </a:rPr>
              <a:t>black magic, engineering, and hype…Catalysis defin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Franklin Gothic Demi"/>
                <a:ea typeface="굴림"/>
              </a:rPr>
              <a:t>an approach that covers all of them..”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A-W-D'Souza" descr=""/>
          <p:cNvPicPr/>
          <p:nvPr/>
        </p:nvPicPr>
        <p:blipFill>
          <a:blip r:embed="rId1"/>
          <a:stretch/>
        </p:blipFill>
        <p:spPr>
          <a:xfrm>
            <a:off x="5943600" y="1143000"/>
            <a:ext cx="2030400" cy="259092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ataly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senvolvido na Universidade de Brighton, Inglaterra, por D’Souza e Wil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gundo os autores, é um método de DBC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leto, cobrindo todas as fases, desde a especificação dos componentes até sua implementação para reutilização [D’Souza, 1999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usca solucionar problemas [D’Souza, 1999]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astreamento de requisi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mântica para verificar consistê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íveis de granularidade e refinam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tinção entre modelos do domínio, modelos do sistema e arquitetu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915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aracterístic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828800"/>
            <a:ext cx="838188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raceability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from business models to c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usiness-driven, improved change management, quality assura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Precision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with clear unambiguous models and documen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cover issues early, explicit shared vocabulary and understanding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Componen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Based Developmen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erface-centric flexible assembly from parts based on common architectur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Reuse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of designs, specs, problem domain models, architectures, ..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sistent and rapid architecture via patterns and framework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Scalability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from small to large teams and pro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sistency, completeness, adoption spectrum, incremental development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{think big, start small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Process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that is flexible yet repeatable, with multiple “routes”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{problem?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 terms of flexible process patterns with full process implement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915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rincípi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1828800"/>
            <a:ext cx="838188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Abstrac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Precis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458c"/>
                </a:solidFill>
                <a:latin typeface="Tahoma"/>
              </a:rPr>
              <a:t>Refinemen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458c"/>
                </a:solidFill>
                <a:latin typeface="Tahoma"/>
              </a:rPr>
              <a:t>Pluggable Par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458c"/>
                </a:solidFill>
                <a:latin typeface="Tahoma"/>
              </a:rPr>
              <a:t>Reuse Law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200400" y="1676520"/>
          <a:ext cx="556272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676520"/>
                    <a:ext cx="556272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ês níveis de modelage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838080" y="1733400"/>
          <a:ext cx="7620120" cy="47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33400"/>
                    <a:ext cx="7620120" cy="47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ês construções bás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838080" y="1828800"/>
          <a:ext cx="77724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7724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Catalysis – {Flexibilidade}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굴림"/>
              </a:rPr>
              <a:t>Existem diversas caminhos possíve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굴림"/>
              </a:rPr>
              <a:t>Cada um com uma sequência diferente de atividades e artef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굴림"/>
              </a:rPr>
              <a:t>Um caminho pode omitir atividades artefatos que outro inclu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굴림"/>
              </a:rPr>
              <a:t>Diferentes caminhos podem ser utilizados para qualquer projeto ou subproj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굴림"/>
              </a:rPr>
              <a:t>Um rota mais “leve” pode ser um bom caminh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603576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[D’ SOUZA, 1999]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multiple_route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4029120" cy="6543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257800" y="914400"/>
            <a:ext cx="0" cy="45720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22860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cfdbf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32a5"/>
                </a:solidFill>
                <a:latin typeface="Arial"/>
                <a:ea typeface="굴림"/>
              </a:rPr>
              <a:t>Refinement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4572000"/>
            <a:ext cx="304560" cy="380880"/>
          </a:xfrm>
          <a:prstGeom prst="upArrow">
            <a:avLst>
              <a:gd name="adj1" fmla="val 50000"/>
              <a:gd name="adj2" fmla="val 31265"/>
            </a:avLst>
          </a:prstGeom>
          <a:solidFill>
            <a:srgbClr val="cfdbf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32a5"/>
                </a:solidFill>
                <a:latin typeface="Arial"/>
                <a:ea typeface="굴림"/>
              </a:rPr>
              <a:t>Refinement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914400"/>
            <a:ext cx="0" cy="45720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72200" y="5486400"/>
            <a:ext cx="990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162920" y="1599840"/>
            <a:ext cx="0" cy="38862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474440" y="990720"/>
            <a:ext cx="859680" cy="307080"/>
            <a:chOff x="4474440" y="990720"/>
            <a:chExt cx="859680" cy="307080"/>
          </a:xfrm>
        </p:grpSpPr>
        <p:sp>
          <p:nvSpPr>
            <p:cNvPr id="264" name=""/>
            <p:cNvSpPr/>
            <p:nvPr/>
          </p:nvSpPr>
          <p:spPr>
            <a:xfrm>
              <a:off x="5181480" y="10666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74440" y="990720"/>
              <a:ext cx="7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굴림"/>
                  <a:ea typeface="굴림"/>
                </a:rPr>
                <a:t>Build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797360" y="228600"/>
            <a:ext cx="7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굴림"/>
                <a:ea typeface="굴림"/>
              </a:rPr>
              <a:t>Buil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굴림"/>
                <a:ea typeface="굴림"/>
              </a:rPr>
              <a:t>Rou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86200" y="22860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굴림"/>
                <a:ea typeface="굴림"/>
              </a:rPr>
              <a:t>Assembl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굴림"/>
                <a:ea typeface="굴림"/>
              </a:rPr>
              <a:t>Rou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27800" y="5486400"/>
            <a:ext cx="117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굴림"/>
                <a:ea typeface="굴림"/>
              </a:rPr>
              <a:t>Implement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굴림"/>
                <a:ea typeface="굴림"/>
              </a:rPr>
              <a:t>Test…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69880" y="617220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굴림"/>
                <a:ea typeface="굴림"/>
              </a:rPr>
              <a:t>Internal Desig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474440" y="1676520"/>
            <a:ext cx="859680" cy="307080"/>
            <a:chOff x="4474440" y="1676520"/>
            <a:chExt cx="859680" cy="307080"/>
          </a:xfrm>
        </p:grpSpPr>
        <p:sp>
          <p:nvSpPr>
            <p:cNvPr id="271" name=""/>
            <p:cNvSpPr/>
            <p:nvPr/>
          </p:nvSpPr>
          <p:spPr>
            <a:xfrm>
              <a:off x="5181480" y="17524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74440" y="1676520"/>
              <a:ext cx="7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굴림"/>
                  <a:ea typeface="굴림"/>
                </a:rPr>
                <a:t>Build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74440" y="2514600"/>
            <a:ext cx="859680" cy="307080"/>
            <a:chOff x="4474440" y="2514600"/>
            <a:chExt cx="859680" cy="307080"/>
          </a:xfrm>
        </p:grpSpPr>
        <p:sp>
          <p:nvSpPr>
            <p:cNvPr id="274" name=""/>
            <p:cNvSpPr/>
            <p:nvPr/>
          </p:nvSpPr>
          <p:spPr>
            <a:xfrm>
              <a:off x="5181480" y="25905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74440" y="2514600"/>
              <a:ext cx="7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굴림"/>
                  <a:ea typeface="굴림"/>
                </a:rPr>
                <a:t>Build3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474440" y="3352680"/>
            <a:ext cx="859680" cy="307080"/>
            <a:chOff x="4474440" y="3352680"/>
            <a:chExt cx="859680" cy="307080"/>
          </a:xfrm>
        </p:grpSpPr>
        <p:sp>
          <p:nvSpPr>
            <p:cNvPr id="277" name=""/>
            <p:cNvSpPr/>
            <p:nvPr/>
          </p:nvSpPr>
          <p:spPr>
            <a:xfrm>
              <a:off x="5181480" y="3428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74440" y="3352680"/>
              <a:ext cx="7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굴림"/>
                  <a:ea typeface="굴림"/>
                </a:rPr>
                <a:t>Build4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474440" y="4038480"/>
            <a:ext cx="859680" cy="307080"/>
            <a:chOff x="4474440" y="4038480"/>
            <a:chExt cx="859680" cy="307080"/>
          </a:xfrm>
        </p:grpSpPr>
        <p:sp>
          <p:nvSpPr>
            <p:cNvPr id="280" name=""/>
            <p:cNvSpPr/>
            <p:nvPr/>
          </p:nvSpPr>
          <p:spPr>
            <a:xfrm>
              <a:off x="5181480" y="41144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74440" y="4038480"/>
              <a:ext cx="7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굴림"/>
                  <a:ea typeface="굴림"/>
                </a:rPr>
                <a:t>Build5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095880" y="990720"/>
            <a:ext cx="846000" cy="307080"/>
            <a:chOff x="6095880" y="990720"/>
            <a:chExt cx="846000" cy="307080"/>
          </a:xfrm>
        </p:grpSpPr>
        <p:sp>
          <p:nvSpPr>
            <p:cNvPr id="283" name=""/>
            <p:cNvSpPr/>
            <p:nvPr/>
          </p:nvSpPr>
          <p:spPr>
            <a:xfrm>
              <a:off x="6095880" y="10666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56800" y="99072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굴림"/>
                  <a:ea typeface="굴림"/>
                </a:rPr>
                <a:t>Assy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095880" y="5029200"/>
            <a:ext cx="846000" cy="307080"/>
            <a:chOff x="6095880" y="5029200"/>
            <a:chExt cx="846000" cy="307080"/>
          </a:xfrm>
        </p:grpSpPr>
        <p:sp>
          <p:nvSpPr>
            <p:cNvPr id="286" name=""/>
            <p:cNvSpPr/>
            <p:nvPr/>
          </p:nvSpPr>
          <p:spPr>
            <a:xfrm>
              <a:off x="6095880" y="51051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56800" y="502920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굴림"/>
                  <a:ea typeface="굴림"/>
                </a:rPr>
                <a:t>Assy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7086600" y="1371600"/>
            <a:ext cx="846000" cy="307080"/>
            <a:chOff x="7086600" y="1371600"/>
            <a:chExt cx="846000" cy="307080"/>
          </a:xfrm>
        </p:grpSpPr>
        <p:sp>
          <p:nvSpPr>
            <p:cNvPr id="289" name=""/>
            <p:cNvSpPr/>
            <p:nvPr/>
          </p:nvSpPr>
          <p:spPr>
            <a:xfrm>
              <a:off x="7086600" y="14475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47520" y="137160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굴림"/>
                  <a:ea typeface="굴림"/>
                </a:rPr>
                <a:t>Assy5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086600" y="2895480"/>
            <a:ext cx="846000" cy="307080"/>
            <a:chOff x="7086600" y="2895480"/>
            <a:chExt cx="846000" cy="307080"/>
          </a:xfrm>
        </p:grpSpPr>
        <p:sp>
          <p:nvSpPr>
            <p:cNvPr id="292" name=""/>
            <p:cNvSpPr/>
            <p:nvPr/>
          </p:nvSpPr>
          <p:spPr>
            <a:xfrm>
              <a:off x="7086600" y="29714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47520" y="289548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굴림"/>
                  <a:ea typeface="굴림"/>
                </a:rPr>
                <a:t>Assy4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086600" y="4191120"/>
            <a:ext cx="846000" cy="307080"/>
            <a:chOff x="7086600" y="4191120"/>
            <a:chExt cx="846000" cy="307080"/>
          </a:xfrm>
        </p:grpSpPr>
        <p:sp>
          <p:nvSpPr>
            <p:cNvPr id="295" name=""/>
            <p:cNvSpPr/>
            <p:nvPr/>
          </p:nvSpPr>
          <p:spPr>
            <a:xfrm>
              <a:off x="708660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47520" y="419112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굴림"/>
                  <a:ea typeface="굴림"/>
                </a:rPr>
                <a:t>Assy3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248520" y="603576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[D’ SOUZA, 1999]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Conteú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714320"/>
            <a:ext cx="7964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utilização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senvolvimento Baseado em Componentes (DBC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taly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scuss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9" name="multiple_route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4029120" cy="6543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257800" y="914400"/>
            <a:ext cx="0" cy="45720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43000" y="228600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ff"/>
                </a:solidFill>
                <a:latin typeface="Arial"/>
                <a:ea typeface="굴림"/>
              </a:rPr>
              <a:t>Refinement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4572000"/>
            <a:ext cx="304560" cy="380880"/>
          </a:xfrm>
          <a:prstGeom prst="upArrow">
            <a:avLst>
              <a:gd name="adj1" fmla="val 50000"/>
              <a:gd name="adj2" fmla="val 31265"/>
            </a:avLst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ff"/>
                </a:solidFill>
                <a:latin typeface="Arial"/>
                <a:ea typeface="굴림"/>
              </a:rPr>
              <a:t>Refinement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474440" y="990720"/>
            <a:ext cx="859680" cy="307080"/>
            <a:chOff x="4474440" y="990720"/>
            <a:chExt cx="859680" cy="307080"/>
          </a:xfrm>
        </p:grpSpPr>
        <p:sp>
          <p:nvSpPr>
            <p:cNvPr id="304" name=""/>
            <p:cNvSpPr/>
            <p:nvPr/>
          </p:nvSpPr>
          <p:spPr>
            <a:xfrm>
              <a:off x="5181480" y="10666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74440" y="990720"/>
              <a:ext cx="7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굴림"/>
                  <a:ea typeface="굴림"/>
                </a:rPr>
                <a:t>Build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4797360" y="228600"/>
            <a:ext cx="7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굴림"/>
                <a:ea typeface="굴림"/>
              </a:rPr>
              <a:t>Buil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굴림"/>
                <a:ea typeface="굴림"/>
              </a:rPr>
              <a:t>Rou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27800" y="5486400"/>
            <a:ext cx="117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굴림"/>
                <a:ea typeface="굴림"/>
              </a:rPr>
              <a:t>Implement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굴림"/>
                <a:ea typeface="굴림"/>
              </a:rPr>
              <a:t>Test…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9880" y="617220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굴림"/>
                <a:ea typeface="굴림"/>
              </a:rPr>
              <a:t>Internal Desig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474440" y="1676520"/>
            <a:ext cx="859680" cy="307080"/>
            <a:chOff x="4474440" y="1676520"/>
            <a:chExt cx="859680" cy="307080"/>
          </a:xfrm>
        </p:grpSpPr>
        <p:sp>
          <p:nvSpPr>
            <p:cNvPr id="310" name=""/>
            <p:cNvSpPr/>
            <p:nvPr/>
          </p:nvSpPr>
          <p:spPr>
            <a:xfrm>
              <a:off x="5181480" y="17524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74440" y="1676520"/>
              <a:ext cx="7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굴림"/>
                  <a:ea typeface="굴림"/>
                </a:rPr>
                <a:t>Build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474440" y="2514600"/>
            <a:ext cx="859680" cy="307080"/>
            <a:chOff x="4474440" y="2514600"/>
            <a:chExt cx="859680" cy="307080"/>
          </a:xfrm>
        </p:grpSpPr>
        <p:sp>
          <p:nvSpPr>
            <p:cNvPr id="313" name=""/>
            <p:cNvSpPr/>
            <p:nvPr/>
          </p:nvSpPr>
          <p:spPr>
            <a:xfrm>
              <a:off x="5181480" y="25905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74440" y="2514600"/>
              <a:ext cx="7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굴림"/>
                  <a:ea typeface="굴림"/>
                </a:rPr>
                <a:t>Build3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474440" y="3352680"/>
            <a:ext cx="859680" cy="307080"/>
            <a:chOff x="4474440" y="3352680"/>
            <a:chExt cx="859680" cy="307080"/>
          </a:xfrm>
        </p:grpSpPr>
        <p:sp>
          <p:nvSpPr>
            <p:cNvPr id="316" name=""/>
            <p:cNvSpPr/>
            <p:nvPr/>
          </p:nvSpPr>
          <p:spPr>
            <a:xfrm>
              <a:off x="5181480" y="3428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74440" y="3352680"/>
              <a:ext cx="7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굴림"/>
                  <a:ea typeface="굴림"/>
                </a:rPr>
                <a:t>Build4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474440" y="4038480"/>
            <a:ext cx="859680" cy="307080"/>
            <a:chOff x="4474440" y="4038480"/>
            <a:chExt cx="859680" cy="307080"/>
          </a:xfrm>
        </p:grpSpPr>
        <p:sp>
          <p:nvSpPr>
            <p:cNvPr id="319" name=""/>
            <p:cNvSpPr/>
            <p:nvPr/>
          </p:nvSpPr>
          <p:spPr>
            <a:xfrm>
              <a:off x="5181480" y="41144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74440" y="4038480"/>
              <a:ext cx="7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굴림"/>
                  <a:ea typeface="굴림"/>
                </a:rPr>
                <a:t>Build5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5415120" y="990720"/>
            <a:ext cx="357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Build 1:  Build a domain model to capture terms, domain rules, business tas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10080" y="1905120"/>
            <a:ext cx="357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Build 2~3:  Refine it to specify the system by building its local type model of the domain; the retrieval mapping is defined top-dow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365640"/>
            <a:ext cx="3576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Build 4~5:  Partition and refine it to build the internal design model; again, the retrieval mapping is defined by forward-engineering the system type model and distributing it across the design component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248520" y="603576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[D’ SOUZA, 1999]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6" name="multiple_route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4029120" cy="6543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143000" y="228600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ff"/>
                </a:solidFill>
                <a:latin typeface="Arial"/>
                <a:ea typeface="굴림"/>
              </a:rPr>
              <a:t>Refinement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4572000"/>
            <a:ext cx="304560" cy="380880"/>
          </a:xfrm>
          <a:prstGeom prst="upArrow">
            <a:avLst>
              <a:gd name="adj1" fmla="val 50000"/>
              <a:gd name="adj2" fmla="val 31265"/>
            </a:avLst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ff"/>
                </a:solidFill>
                <a:latin typeface="Arial"/>
                <a:ea typeface="굴림"/>
              </a:rPr>
              <a:t>Refinement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70440" y="914400"/>
            <a:ext cx="0" cy="45720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70440" y="5486400"/>
            <a:ext cx="9903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960800" y="1599840"/>
            <a:ext cx="0" cy="38862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84440" y="22860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굴림"/>
                <a:ea typeface="굴림"/>
              </a:rPr>
              <a:t>Assembl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굴림"/>
                <a:ea typeface="굴림"/>
              </a:rPr>
              <a:t>Rou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9880" y="617220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굴림"/>
                <a:ea typeface="굴림"/>
              </a:rPr>
              <a:t>Internal Desig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894120" y="990720"/>
            <a:ext cx="846000" cy="307080"/>
            <a:chOff x="3894120" y="990720"/>
            <a:chExt cx="846000" cy="307080"/>
          </a:xfrm>
        </p:grpSpPr>
        <p:sp>
          <p:nvSpPr>
            <p:cNvPr id="335" name=""/>
            <p:cNvSpPr/>
            <p:nvPr/>
          </p:nvSpPr>
          <p:spPr>
            <a:xfrm>
              <a:off x="3894120" y="10666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55040" y="99072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굴림"/>
                  <a:ea typeface="굴림"/>
                </a:rPr>
                <a:t>Assy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894120" y="5029200"/>
            <a:ext cx="846000" cy="307080"/>
            <a:chOff x="3894120" y="5029200"/>
            <a:chExt cx="846000" cy="307080"/>
          </a:xfrm>
        </p:grpSpPr>
        <p:sp>
          <p:nvSpPr>
            <p:cNvPr id="338" name=""/>
            <p:cNvSpPr/>
            <p:nvPr/>
          </p:nvSpPr>
          <p:spPr>
            <a:xfrm>
              <a:off x="3894120" y="51051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55040" y="502920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굴림"/>
                  <a:ea typeface="굴림"/>
                </a:rPr>
                <a:t>Assy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4884840" y="1371600"/>
            <a:ext cx="846000" cy="307080"/>
            <a:chOff x="4884840" y="1371600"/>
            <a:chExt cx="846000" cy="307080"/>
          </a:xfrm>
        </p:grpSpPr>
        <p:sp>
          <p:nvSpPr>
            <p:cNvPr id="341" name=""/>
            <p:cNvSpPr/>
            <p:nvPr/>
          </p:nvSpPr>
          <p:spPr>
            <a:xfrm>
              <a:off x="4884840" y="14475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45760" y="137160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굴림"/>
                  <a:ea typeface="굴림"/>
                </a:rPr>
                <a:t>Assy5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84840" y="2895480"/>
            <a:ext cx="846000" cy="307080"/>
            <a:chOff x="4884840" y="2895480"/>
            <a:chExt cx="846000" cy="307080"/>
          </a:xfrm>
        </p:grpSpPr>
        <p:sp>
          <p:nvSpPr>
            <p:cNvPr id="344" name=""/>
            <p:cNvSpPr/>
            <p:nvPr/>
          </p:nvSpPr>
          <p:spPr>
            <a:xfrm>
              <a:off x="4884840" y="29714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45760" y="289548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굴림"/>
                  <a:ea typeface="굴림"/>
                </a:rPr>
                <a:t>Assy4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4884840" y="4191120"/>
            <a:ext cx="846000" cy="307080"/>
            <a:chOff x="4884840" y="4191120"/>
            <a:chExt cx="846000" cy="307080"/>
          </a:xfrm>
        </p:grpSpPr>
        <p:sp>
          <p:nvSpPr>
            <p:cNvPr id="347" name=""/>
            <p:cNvSpPr/>
            <p:nvPr/>
          </p:nvSpPr>
          <p:spPr>
            <a:xfrm>
              <a:off x="488484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45760" y="419112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굴림"/>
                  <a:ea typeface="굴림"/>
                </a:rPr>
                <a:t>Assy3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5791320" y="228600"/>
            <a:ext cx="32004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Assy1:  Start with a domain model – optionally, a rudimentary system spec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Assy2: Build type models of each component, reverse-engineering if necessar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Assy3: Define the retrieval mappings between type models of individual components and the domain model or system type model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Assy4: Define an achievable type model and behavior spec for the syste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Assy5: Refine the domain, defining how external components and users interact with this achievable system to accomplish the original task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603576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[D’ SOUZA, 1999]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Processo de Desenvolvimento UML com Catalysi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77840" y="1905120"/>
            <a:ext cx="6400800" cy="990360"/>
            <a:chOff x="177840" y="1905120"/>
            <a:chExt cx="6400800" cy="990360"/>
          </a:xfrm>
        </p:grpSpPr>
        <p:sp>
          <p:nvSpPr>
            <p:cNvPr id="353" name=""/>
            <p:cNvSpPr/>
            <p:nvPr/>
          </p:nvSpPr>
          <p:spPr>
            <a:xfrm>
              <a:off x="177840" y="1905120"/>
              <a:ext cx="6400800" cy="99036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4160" y="1981080"/>
              <a:ext cx="28195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Arial"/>
                </a:rPr>
                <a:t>Requirement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78240" y="2057400"/>
              <a:ext cx="297180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Domain Model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78240" y="2514600"/>
              <a:ext cx="297180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System Context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0840" y="2311200"/>
              <a:ext cx="319356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Understand </a:t>
              </a:r>
              <a:r>
                <a:rPr b="0" lang="en-US" sz="1400" spc="-1" strike="noStrike" u="sng">
                  <a:solidFill>
                    <a:srgbClr val="40458c"/>
                  </a:solidFill>
                  <a:uFillTx/>
                  <a:latin typeface="Arial"/>
                </a:rPr>
                <a:t>problem</a:t>
              </a: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, system context,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40458c"/>
                  </a:solidFill>
                  <a:uFillTx/>
                  <a:latin typeface="Arial"/>
                </a:rPr>
                <a:t>arch</a:t>
              </a: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 and </a:t>
              </a:r>
              <a:r>
                <a:rPr b="0" lang="en-US" sz="1400" spc="-1" strike="noStrike" u="sng">
                  <a:solidFill>
                    <a:srgbClr val="40458c"/>
                  </a:solidFill>
                  <a:uFillTx/>
                  <a:latin typeface="Arial"/>
                </a:rPr>
                <a:t>non-functional</a:t>
              </a: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 requirements.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77840" y="3048120"/>
            <a:ext cx="6400800" cy="990360"/>
            <a:chOff x="177840" y="3048120"/>
            <a:chExt cx="6400800" cy="990360"/>
          </a:xfrm>
        </p:grpSpPr>
        <p:sp>
          <p:nvSpPr>
            <p:cNvPr id="359" name=""/>
            <p:cNvSpPr/>
            <p:nvPr/>
          </p:nvSpPr>
          <p:spPr>
            <a:xfrm>
              <a:off x="177840" y="3048120"/>
              <a:ext cx="6400800" cy="99036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4160" y="3124080"/>
              <a:ext cx="28195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Arial"/>
                </a:rPr>
                <a:t>System Specificatio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78240" y="3124080"/>
              <a:ext cx="297180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Scenario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78240" y="3657600"/>
              <a:ext cx="297180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Type Model and Op Spec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3720" y="3450960"/>
              <a:ext cx="30913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Describe </a:t>
              </a:r>
              <a:r>
                <a:rPr b="0" lang="en-US" sz="1400" spc="-1" strike="noStrike" u="sng">
                  <a:solidFill>
                    <a:srgbClr val="40458c"/>
                  </a:solidFill>
                  <a:uFillTx/>
                  <a:latin typeface="Arial"/>
                </a:rPr>
                <a:t>external behavior</a:t>
              </a: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 of target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system using problem domain model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77840" y="4191120"/>
            <a:ext cx="6400800" cy="1218960"/>
            <a:chOff x="177840" y="4191120"/>
            <a:chExt cx="6400800" cy="1218960"/>
          </a:xfrm>
        </p:grpSpPr>
        <p:sp>
          <p:nvSpPr>
            <p:cNvPr id="365" name=""/>
            <p:cNvSpPr/>
            <p:nvPr/>
          </p:nvSpPr>
          <p:spPr>
            <a:xfrm>
              <a:off x="177840" y="4191120"/>
              <a:ext cx="6400800" cy="121896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4160" y="4267080"/>
              <a:ext cx="28195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Arial"/>
                </a:rPr>
                <a:t>Architectural Desig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78240" y="4267080"/>
              <a:ext cx="297180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Platform, Physical Architectur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78240" y="4952880"/>
              <a:ext cx="297180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Logical Application Architectur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1200" y="4572000"/>
              <a:ext cx="29372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Partition </a:t>
              </a:r>
              <a:r>
                <a:rPr b="0" lang="en-US" sz="1400" spc="-1" strike="noStrike" u="sng">
                  <a:solidFill>
                    <a:srgbClr val="40458c"/>
                  </a:solidFill>
                  <a:uFillTx/>
                  <a:latin typeface="Arial"/>
                </a:rPr>
                <a:t>technical</a:t>
              </a: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 and </a:t>
              </a:r>
              <a:r>
                <a:rPr b="0" lang="en-US" sz="1400" spc="-1" strike="noStrike" u="sng">
                  <a:solidFill>
                    <a:srgbClr val="40458c"/>
                  </a:solidFill>
                  <a:uFillTx/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architecture components and their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connectors to meet design goal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035840" y="3200400"/>
            <a:ext cx="2050200" cy="3099600"/>
            <a:chOff x="7035840" y="3200400"/>
            <a:chExt cx="2050200" cy="3099600"/>
          </a:xfrm>
        </p:grpSpPr>
        <p:grpSp>
          <p:nvGrpSpPr>
            <p:cNvPr id="371" name=""/>
            <p:cNvGrpSpPr/>
            <p:nvPr/>
          </p:nvGrpSpPr>
          <p:grpSpPr>
            <a:xfrm>
              <a:off x="7340400" y="3200400"/>
              <a:ext cx="1745640" cy="1164960"/>
              <a:chOff x="7340400" y="3200400"/>
              <a:chExt cx="1745640" cy="1164960"/>
            </a:xfrm>
          </p:grpSpPr>
          <p:sp>
            <p:nvSpPr>
              <p:cNvPr id="372" name=""/>
              <p:cNvSpPr/>
              <p:nvPr/>
            </p:nvSpPr>
            <p:spPr>
              <a:xfrm>
                <a:off x="7340400" y="3200400"/>
                <a:ext cx="1676160" cy="1164960"/>
              </a:xfrm>
              <a:prstGeom prst="rect">
                <a:avLst/>
              </a:prstGeom>
              <a:solidFill>
                <a:srgbClr val="6f89f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416360" y="3276360"/>
                <a:ext cx="1524240" cy="53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Arial"/>
                  </a:rPr>
                  <a:t>UI Design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09160" y="3832200"/>
                <a:ext cx="16768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Arial"/>
                  </a:rPr>
                  <a:t>dialog flow,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40458c"/>
                    </a:solidFill>
                    <a:latin typeface="Arial"/>
                  </a:rPr>
                  <a:t>prototype, usability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7340400" y="5105160"/>
              <a:ext cx="1676160" cy="1194840"/>
              <a:chOff x="7340400" y="5105160"/>
              <a:chExt cx="1676160" cy="1194840"/>
            </a:xfrm>
          </p:grpSpPr>
          <p:sp>
            <p:nvSpPr>
              <p:cNvPr id="376" name=""/>
              <p:cNvSpPr/>
              <p:nvPr/>
            </p:nvSpPr>
            <p:spPr>
              <a:xfrm>
                <a:off x="7340400" y="5105160"/>
                <a:ext cx="1676160" cy="1164960"/>
              </a:xfrm>
              <a:prstGeom prst="rect">
                <a:avLst/>
              </a:prstGeom>
              <a:solidFill>
                <a:srgbClr val="6f89f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416360" y="5181120"/>
                <a:ext cx="1524240" cy="53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Arial"/>
                  </a:rPr>
                  <a:t>DB Design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408800" y="5736960"/>
                <a:ext cx="1539720" cy="56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Arial"/>
                  </a:rPr>
                  <a:t>class mapping,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Arial"/>
                  </a:rPr>
                  <a:t>transactions, etc.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7035840" y="3429000"/>
              <a:ext cx="304560" cy="228600"/>
            </a:xfrm>
            <a:prstGeom prst="leftRightArrow">
              <a:avLst>
                <a:gd name="adj1" fmla="val 50000"/>
                <a:gd name="adj2" fmla="val 26522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89604" dir="2700000" blurRad="0" rotWithShape="0">
                <a:srgbClr val="b7c1e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35840" y="5410080"/>
              <a:ext cx="304560" cy="228600"/>
            </a:xfrm>
            <a:prstGeom prst="leftRightArrow">
              <a:avLst>
                <a:gd name="adj1" fmla="val 50000"/>
                <a:gd name="adj2" fmla="val 26522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89604" dir="2700000" blurRad="0" rotWithShape="0">
                <a:srgbClr val="b7c1e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77840" y="5562720"/>
            <a:ext cx="6400800" cy="1040760"/>
            <a:chOff x="177840" y="5562720"/>
            <a:chExt cx="6400800" cy="1040760"/>
          </a:xfrm>
        </p:grpSpPr>
        <p:sp>
          <p:nvSpPr>
            <p:cNvPr id="382" name=""/>
            <p:cNvSpPr/>
            <p:nvPr/>
          </p:nvSpPr>
          <p:spPr>
            <a:xfrm>
              <a:off x="177840" y="5562720"/>
              <a:ext cx="6400800" cy="9954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4160" y="5653080"/>
              <a:ext cx="2819520" cy="3621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Arial"/>
                </a:rPr>
                <a:t>Component Internal Desig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1560" y="6040440"/>
              <a:ext cx="28702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Design interfaces and classes for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each component; build and test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378240" y="5715000"/>
              <a:ext cx="29718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Interface and Class Spec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378240" y="6153120"/>
              <a:ext cx="29718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Implementation and Test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426360" y="1905120"/>
            <a:ext cx="609480" cy="4495680"/>
            <a:chOff x="6426360" y="1905120"/>
            <a:chExt cx="609480" cy="4495680"/>
          </a:xfrm>
        </p:grpSpPr>
        <p:grpSp>
          <p:nvGrpSpPr>
            <p:cNvPr id="388" name=""/>
            <p:cNvGrpSpPr/>
            <p:nvPr/>
          </p:nvGrpSpPr>
          <p:grpSpPr>
            <a:xfrm>
              <a:off x="6426360" y="1905120"/>
              <a:ext cx="609480" cy="4495680"/>
              <a:chOff x="6426360" y="1905120"/>
              <a:chExt cx="609480" cy="4495680"/>
            </a:xfrm>
          </p:grpSpPr>
          <p:sp>
            <p:nvSpPr>
              <p:cNvPr id="389" name=""/>
              <p:cNvSpPr/>
              <p:nvPr/>
            </p:nvSpPr>
            <p:spPr>
              <a:xfrm rot="5400000">
                <a:off x="4635360" y="4000680"/>
                <a:ext cx="44956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58c"/>
                    </a:solidFill>
                    <a:latin typeface="Arial"/>
                  </a:rPr>
                  <a:t>Dictionary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426360" y="2361960"/>
                <a:ext cx="304920" cy="228240"/>
              </a:xfrm>
              <a:prstGeom prst="leftRightArrow">
                <a:avLst>
                  <a:gd name="adj1" fmla="val 50000"/>
                  <a:gd name="adj2" fmla="val 26596"/>
                </a:avLst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89604" dir="2700000" blurRad="0" rotWithShape="0">
                  <a:srgbClr val="b7c1e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426360" y="3429000"/>
                <a:ext cx="304920" cy="228240"/>
              </a:xfrm>
              <a:prstGeom prst="leftRightArrow">
                <a:avLst>
                  <a:gd name="adj1" fmla="val 50000"/>
                  <a:gd name="adj2" fmla="val 26596"/>
                </a:avLst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89604" dir="2700000" blurRad="0" rotWithShape="0">
                  <a:srgbClr val="b7c1e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426360" y="4572000"/>
                <a:ext cx="304920" cy="228240"/>
              </a:xfrm>
              <a:prstGeom prst="leftRightArrow">
                <a:avLst>
                  <a:gd name="adj1" fmla="val 50000"/>
                  <a:gd name="adj2" fmla="val 26596"/>
                </a:avLst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89604" dir="2700000" blurRad="0" rotWithShape="0">
                  <a:srgbClr val="b7c1e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6426360" y="5790960"/>
              <a:ext cx="304920" cy="228240"/>
            </a:xfrm>
            <a:prstGeom prst="leftRightArrow">
              <a:avLst>
                <a:gd name="adj1" fmla="val 50000"/>
                <a:gd name="adj2" fmla="val 26596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89604" dir="2700000" blurRad="0" rotWithShape="0">
                <a:srgbClr val="b7c1e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654960" y="1295280"/>
            <a:ext cx="2221560" cy="916920"/>
            <a:chOff x="6654960" y="1295280"/>
            <a:chExt cx="2221560" cy="916920"/>
          </a:xfrm>
        </p:grpSpPr>
        <p:sp>
          <p:nvSpPr>
            <p:cNvPr id="395" name=""/>
            <p:cNvSpPr/>
            <p:nvPr/>
          </p:nvSpPr>
          <p:spPr>
            <a:xfrm>
              <a:off x="7429320" y="1295280"/>
              <a:ext cx="1447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mic Sans MS"/>
                </a:rPr>
                <a:t>Outsid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mic Sans MS"/>
                </a:rPr>
                <a:t>(+ project 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mic Sans MS"/>
                </a:rPr>
                <a:t>constraints)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654960" y="1904400"/>
              <a:ext cx="837720" cy="30492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654960" y="2514600"/>
            <a:ext cx="2089800" cy="685800"/>
            <a:chOff x="6654960" y="2514600"/>
            <a:chExt cx="2089800" cy="685800"/>
          </a:xfrm>
        </p:grpSpPr>
        <p:sp>
          <p:nvSpPr>
            <p:cNvPr id="398" name=""/>
            <p:cNvSpPr/>
            <p:nvPr/>
          </p:nvSpPr>
          <p:spPr>
            <a:xfrm>
              <a:off x="7521480" y="251460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mic Sans MS"/>
                </a:rPr>
                <a:t>boundary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6654960" y="2743200"/>
              <a:ext cx="914400" cy="45720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45680" y="2819520"/>
              <a:ext cx="0" cy="30492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6552720" y="4281480"/>
            <a:ext cx="1954800" cy="442800"/>
            <a:chOff x="6552720" y="4281480"/>
            <a:chExt cx="1954800" cy="442800"/>
          </a:xfrm>
        </p:grpSpPr>
        <p:sp>
          <p:nvSpPr>
            <p:cNvPr id="402" name=""/>
            <p:cNvSpPr/>
            <p:nvPr/>
          </p:nvSpPr>
          <p:spPr>
            <a:xfrm>
              <a:off x="7686720" y="4281480"/>
              <a:ext cx="82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mic Sans MS"/>
                </a:rPr>
                <a:t>insid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6552720" y="4495680"/>
              <a:ext cx="1143000" cy="1526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696080" y="4572000"/>
              <a:ext cx="76320" cy="1522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ais artefa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914400" y="160020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ais artefat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838080" y="1600200"/>
          <a:ext cx="7780320" cy="47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780320" cy="47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Principais artefat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762120" y="2171880"/>
            <a:ext cx="3962160" cy="2781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imes New Roman"/>
              </a:rPr>
              <a:t>Sales System &lt;&lt;type&gt;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240" y="4572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2120" y="2552760"/>
            <a:ext cx="39621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2120" y="4915080"/>
            <a:ext cx="39621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762120" y="2552760"/>
            <a:ext cx="3886200" cy="2209680"/>
            <a:chOff x="762120" y="2552760"/>
            <a:chExt cx="3886200" cy="2209680"/>
          </a:xfrm>
        </p:grpSpPr>
        <p:sp>
          <p:nvSpPr>
            <p:cNvPr id="417" name=""/>
            <p:cNvSpPr/>
            <p:nvPr/>
          </p:nvSpPr>
          <p:spPr>
            <a:xfrm>
              <a:off x="3124440" y="2857680"/>
              <a:ext cx="7174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ecd8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cd882"/>
                  </a:solidFill>
                  <a:latin typeface="Times New Roman"/>
                </a:rPr>
                <a:t>Sal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71600" y="3619440"/>
              <a:ext cx="91440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Times New Roman"/>
                </a:rPr>
                <a:t>SaleItem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Times New Roman"/>
                </a:rPr>
                <a:t>quantity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53040" y="3619440"/>
              <a:ext cx="91440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Paymen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90920" y="4381560"/>
              <a:ext cx="13716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Authoriza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84720" y="2552760"/>
              <a:ext cx="0" cy="304920"/>
            </a:xfrm>
            <a:prstGeom prst="line">
              <a:avLst/>
            </a:prstGeom>
            <a:ln w="12600">
              <a:solidFill>
                <a:srgbClr val="ecd8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86000" y="3238560"/>
              <a:ext cx="914400" cy="457200"/>
            </a:xfrm>
            <a:custGeom>
              <a:avLst/>
              <a:gdLst/>
              <a:ahLst/>
              <a:rect l="l" t="t" r="r" b="b"/>
              <a:pathLst>
                <a:path w="672" h="288">
                  <a:moveTo>
                    <a:pt x="0" y="288"/>
                  </a:moveTo>
                  <a:lnTo>
                    <a:pt x="672" y="288"/>
                  </a:lnTo>
                  <a:lnTo>
                    <a:pt x="672" y="0"/>
                  </a:lnTo>
                </a:path>
              </a:pathLst>
            </a:custGeom>
            <a:noFill/>
            <a:ln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1752840" y="3238560"/>
              <a:ext cx="1440" cy="38088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810240" y="3238560"/>
              <a:ext cx="1440" cy="3808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4000680"/>
              <a:ext cx="3240" cy="3808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2120" y="3086280"/>
              <a:ext cx="60948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68480" y="285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Times New Roman"/>
                </a:rPr>
                <a:t>*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87440" y="3467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Times New Roman"/>
                </a:rPr>
                <a:t>*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49360" y="3390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Times New Roman"/>
                </a:rPr>
                <a:t>*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15680" y="2567160"/>
              <a:ext cx="94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cd882"/>
                  </a:solidFill>
                  <a:latin typeface="Times New Roman"/>
                </a:rPr>
                <a:t>currSal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71600" y="3924360"/>
              <a:ext cx="9144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520" y="2857680"/>
              <a:ext cx="6858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Cus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35440" y="3086280"/>
              <a:ext cx="12708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71600" y="2705040"/>
              <a:ext cx="91440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Times New Roman"/>
                </a:rPr>
                <a:t>Produc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Times New Roman"/>
                </a:rPr>
                <a:t>inventory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71600" y="3009960"/>
              <a:ext cx="9144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7010280" y="2971800"/>
            <a:ext cx="0" cy="1295280"/>
          </a:xfrm>
          <a:prstGeom prst="line">
            <a:avLst/>
          </a:prstGeom>
          <a:ln w="255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5079960" y="1600200"/>
          <a:ext cx="3809880" cy="13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960" y="1600200"/>
                    <a:ext cx="380988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 flipV="1">
            <a:off x="4800600" y="2971800"/>
            <a:ext cx="1371600" cy="990720"/>
          </a:xfrm>
          <a:prstGeom prst="line">
            <a:avLst/>
          </a:prstGeom>
          <a:ln w="255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410080" y="4419720"/>
          <a:ext cx="261936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419720"/>
                    <a:ext cx="26193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7467480" y="51055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6629400" y="5715000"/>
          <a:ext cx="1504800" cy="44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9400" y="5715000"/>
                    <a:ext cx="15048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ais artefat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723960" y="1676520"/>
          <a:ext cx="81151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676520"/>
                    <a:ext cx="81151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838080" y="24764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Semelhante ao Modelo de </a:t>
            </a:r>
            <a:r>
              <a:rPr b="0" i="1" lang="pt-BR" sz="3200" spc="-1" strike="noStrike">
                <a:solidFill>
                  <a:srgbClr val="40458c"/>
                </a:solidFill>
                <a:latin typeface="Tahoma"/>
              </a:rPr>
              <a:t>Featur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ais artefat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994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ém de uma série de padrõ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219320" y="1676520"/>
          <a:ext cx="6248160" cy="36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676520"/>
                    <a:ext cx="624816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m caminho possível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[Almeida, 2003a]</a:t>
            </a: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m caminho possível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[Almeida, 2003a]</a:t>
            </a: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56" name="Figure4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696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Reutiliz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Software reuse is the use of existing software knowledge or artifacts to build new software artifacts [Frakes, 1995]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Vantage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Qualida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Tempo de desenvolvi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Redução nos custos de desenvolvimento, testes, documentação e manutençã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m caminho possível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[Almeida, 2003a]</a:t>
            </a: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58" name="Figure5" descr=""/>
          <p:cNvPicPr/>
          <p:nvPr/>
        </p:nvPicPr>
        <p:blipFill>
          <a:blip r:embed="rId1"/>
          <a:stretch/>
        </p:blipFill>
        <p:spPr>
          <a:xfrm>
            <a:off x="1270080" y="1612800"/>
            <a:ext cx="7010280" cy="3200400"/>
          </a:xfrm>
          <a:prstGeom prst="rect">
            <a:avLst/>
          </a:prstGeom>
          <a:ln w="0">
            <a:noFill/>
          </a:ln>
        </p:spPr>
      </p:pic>
      <p:pic>
        <p:nvPicPr>
          <p:cNvPr id="459" name="Figure6" descr=""/>
          <p:cNvPicPr/>
          <p:nvPr/>
        </p:nvPicPr>
        <p:blipFill>
          <a:blip r:embed="rId2"/>
          <a:stretch/>
        </p:blipFill>
        <p:spPr>
          <a:xfrm>
            <a:off x="1765440" y="4038480"/>
            <a:ext cx="6172200" cy="26672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4572000" y="3962520"/>
            <a:ext cx="4572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m caminho possível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[Almeida, 2003a]</a:t>
            </a: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62" name="Figure7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967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m caminho possível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[Almeida, 2003a]</a:t>
            </a: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363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Outros requisitos não funciona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Distribuiçã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Tolerância a Falh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ersistê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990720" y="2209680"/>
          <a:ext cx="261936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209680"/>
                    <a:ext cx="26193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3733920" y="2514600"/>
            <a:ext cx="1066680" cy="0"/>
          </a:xfrm>
          <a:prstGeom prst="line">
            <a:avLst/>
          </a:prstGeom>
          <a:ln w="255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2057400"/>
            <a:ext cx="1295280" cy="1143000"/>
          </a:xfrm>
          <a:prstGeom prst="can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positóri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48520" y="2552760"/>
            <a:ext cx="1066680" cy="0"/>
          </a:xfrm>
          <a:prstGeom prst="line">
            <a:avLst/>
          </a:prstGeom>
          <a:ln w="255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24480" y="2666880"/>
            <a:ext cx="3962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Desenvolvim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Com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reus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467480" y="2362320"/>
            <a:ext cx="304920" cy="30456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543800" y="2438280"/>
            <a:ext cx="152280" cy="15264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errament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Especifíc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ol:Spe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MVCASE </a:t>
            </a:r>
            <a:r>
              <a:rPr b="0" lang="pt-BR" sz="2400" spc="-1" strike="noStrike">
                <a:solidFill>
                  <a:srgbClr val="660066"/>
                </a:solidFill>
                <a:latin typeface="Tahoma"/>
              </a:rPr>
              <a:t>{alguns artefatos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Outr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isio:Catalysis-Modele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martDraw   (SmartDraw Co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Gaps e Extensões</a:t>
            </a: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Requisitos não funciona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Modelo de Compone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Desenvolvimento das aplicaçõ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Aspec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Metodologias ágei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Discuss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</a:t>
            </a:r>
            <a:r>
              <a:rPr b="0" i="1" lang="en-US" sz="4400" spc="-1" strike="noStrike">
                <a:solidFill>
                  <a:srgbClr val="660066"/>
                </a:solidFill>
                <a:latin typeface="Tahoma"/>
              </a:rPr>
              <a:t>Catalysis™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565200" y="2181240"/>
            <a:ext cx="6750000" cy="1482840"/>
          </a:xfrm>
          <a:prstGeom prst="rect">
            <a:avLst/>
          </a:prstGeom>
          <a:solidFill>
            <a:srgbClr val="ffcc00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 </a:t>
            </a:r>
            <a:r>
              <a:rPr b="0" i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next-generation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standards-aligned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method</a:t>
            </a: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or </a:t>
            </a:r>
            <a:r>
              <a:rPr b="0" i="1" lang="en-US" sz="2000" spc="-1" strike="noStrike" u="sng">
                <a:solidFill>
                  <a:srgbClr val="40458c"/>
                </a:solidFill>
                <a:uFillTx/>
                <a:latin typeface="Arial"/>
              </a:rPr>
              <a:t>open distributed component system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from </a:t>
            </a:r>
            <a:r>
              <a:rPr b="0" i="1" lang="en-US" sz="1600" spc="-1" strike="noStrike" u="sng">
                <a:solidFill>
                  <a:srgbClr val="40458c"/>
                </a:solidFill>
                <a:uFillTx/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nd</a:t>
            </a:r>
            <a:r>
              <a:rPr b="0" i="1" lang="en-US" sz="1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n-US" sz="1600" spc="-1" strike="noStrike" u="sng">
                <a:solidFill>
                  <a:srgbClr val="40458c"/>
                </a:solidFill>
                <a:uFillTx/>
                <a:latin typeface="Arial"/>
              </a:rPr>
              <a:t>framework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that reflect and support </a:t>
            </a:r>
            <a:r>
              <a:rPr b="0" i="1" lang="en-US" sz="1600" spc="-1" strike="noStrike">
                <a:solidFill>
                  <a:srgbClr val="40458c"/>
                </a:solidFill>
                <a:latin typeface="Arial"/>
              </a:rPr>
              <a:t>an </a:t>
            </a:r>
            <a:r>
              <a:rPr b="0" i="1" lang="en-US" sz="1600" spc="-1" strike="noStrike" u="sng">
                <a:solidFill>
                  <a:srgbClr val="40458c"/>
                </a:solidFill>
                <a:uFillTx/>
                <a:latin typeface="Arial"/>
              </a:rPr>
              <a:t>adaptive enterpri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6960" y="1453680"/>
            <a:ext cx="4147560" cy="727560"/>
            <a:chOff x="66960" y="1453680"/>
            <a:chExt cx="4147560" cy="727560"/>
          </a:xfrm>
        </p:grpSpPr>
        <p:sp>
          <p:nvSpPr>
            <p:cNvPr id="481" name=""/>
            <p:cNvSpPr/>
            <p:nvPr/>
          </p:nvSpPr>
          <p:spPr>
            <a:xfrm>
              <a:off x="66960" y="1453680"/>
              <a:ext cx="4147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66"/>
                  </a:solidFill>
                  <a:latin typeface="Times New Roman"/>
                </a:rPr>
                <a:t>Precise models and systematic proces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09800" y="1827000"/>
              <a:ext cx="609120" cy="354240"/>
            </a:xfrm>
            <a:prstGeom prst="line">
              <a:avLst/>
            </a:prstGeom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3622320" y="1142640"/>
            <a:ext cx="5168520" cy="969840"/>
            <a:chOff x="3622320" y="1142640"/>
            <a:chExt cx="5168520" cy="969840"/>
          </a:xfrm>
        </p:grpSpPr>
        <p:sp>
          <p:nvSpPr>
            <p:cNvPr id="484" name=""/>
            <p:cNvSpPr/>
            <p:nvPr/>
          </p:nvSpPr>
          <p:spPr>
            <a:xfrm>
              <a:off x="3622320" y="1142640"/>
              <a:ext cx="516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66"/>
                  </a:solidFill>
                  <a:latin typeface="Times New Roman"/>
                </a:rPr>
                <a:t>UML partner, OMG standards, TI/MS standard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206680" y="1461600"/>
              <a:ext cx="228600" cy="650880"/>
            </a:xfrm>
            <a:prstGeom prst="line">
              <a:avLst/>
            </a:prstGeom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213520" y="1542600"/>
            <a:ext cx="3908160" cy="1041480"/>
            <a:chOff x="5213520" y="1542600"/>
            <a:chExt cx="3908160" cy="1041480"/>
          </a:xfrm>
        </p:grpSpPr>
        <p:sp>
          <p:nvSpPr>
            <p:cNvPr id="487" name=""/>
            <p:cNvSpPr/>
            <p:nvPr/>
          </p:nvSpPr>
          <p:spPr>
            <a:xfrm flipV="1">
              <a:off x="5213520" y="1890000"/>
              <a:ext cx="1676160" cy="694080"/>
            </a:xfrm>
            <a:prstGeom prst="line">
              <a:avLst/>
            </a:prstGeom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417640" y="1542600"/>
              <a:ext cx="3704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66"/>
                  </a:solidFill>
                  <a:latin typeface="Times New Roman"/>
                </a:rPr>
                <a:t>Dynamic non “stovepipe” system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19600" y="3429000"/>
            <a:ext cx="3591360" cy="1233360"/>
            <a:chOff x="219600" y="3429000"/>
            <a:chExt cx="3591360" cy="1233360"/>
          </a:xfrm>
        </p:grpSpPr>
        <p:sp>
          <p:nvSpPr>
            <p:cNvPr id="490" name=""/>
            <p:cNvSpPr/>
            <p:nvPr/>
          </p:nvSpPr>
          <p:spPr>
            <a:xfrm flipH="1">
              <a:off x="1098000" y="3429000"/>
              <a:ext cx="1676520" cy="704880"/>
            </a:xfrm>
            <a:prstGeom prst="line">
              <a:avLst/>
            </a:prstGeom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19600" y="3960000"/>
              <a:ext cx="35913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66"/>
                  </a:solidFill>
                  <a:latin typeface="Times New Roman"/>
                </a:rPr>
                <a:t>Compose pre-built interfaces,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66"/>
                  </a:solidFill>
                  <a:latin typeface="Times New Roman"/>
                </a:rPr>
                <a:t>models, specs, implementations...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803400" y="3352680"/>
            <a:ext cx="2861280" cy="1453320"/>
            <a:chOff x="3803400" y="3352680"/>
            <a:chExt cx="2861280" cy="1453320"/>
          </a:xfrm>
        </p:grpSpPr>
        <p:sp>
          <p:nvSpPr>
            <p:cNvPr id="493" name=""/>
            <p:cNvSpPr/>
            <p:nvPr/>
          </p:nvSpPr>
          <p:spPr>
            <a:xfrm>
              <a:off x="4417920" y="3352680"/>
              <a:ext cx="76320" cy="1211040"/>
            </a:xfrm>
            <a:prstGeom prst="line">
              <a:avLst/>
            </a:prstGeom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03400" y="4408560"/>
              <a:ext cx="2861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66"/>
                  </a:solidFill>
                  <a:latin typeface="Times New Roman"/>
                </a:rPr>
                <a:t>…</a:t>
              </a:r>
              <a:r>
                <a:rPr b="0" i="1" lang="en-US" sz="2000" spc="-1" strike="noStrike">
                  <a:solidFill>
                    <a:srgbClr val="cc0066"/>
                  </a:solidFill>
                  <a:latin typeface="Times New Roman"/>
                </a:rPr>
                <a:t>all built for extensibility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6248520" y="2650680"/>
            <a:ext cx="2971080" cy="702360"/>
            <a:chOff x="6248520" y="2650680"/>
            <a:chExt cx="2971080" cy="702360"/>
          </a:xfrm>
        </p:grpSpPr>
        <p:sp>
          <p:nvSpPr>
            <p:cNvPr id="496" name=""/>
            <p:cNvSpPr/>
            <p:nvPr/>
          </p:nvSpPr>
          <p:spPr>
            <a:xfrm flipV="1">
              <a:off x="6248520" y="3123720"/>
              <a:ext cx="1518840" cy="204840"/>
            </a:xfrm>
            <a:prstGeom prst="line">
              <a:avLst/>
            </a:prstGeom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75400" y="2650680"/>
              <a:ext cx="17442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66"/>
                  </a:solidFill>
                  <a:latin typeface="Times New Roman"/>
                </a:rPr>
                <a:t>From business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66"/>
                  </a:solidFill>
                  <a:latin typeface="Times New Roman"/>
                </a:rPr>
                <a:t>to cod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0" y="5181480"/>
            <a:ext cx="807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Catalysis has been in development and use since 199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upports components, OO, legacy, heterogenous system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Addison Wesley, </a:t>
            </a:r>
            <a:r>
              <a:rPr b="0" i="1" lang="en-US" sz="1800" spc="-1" strike="noStrike">
                <a:solidFill>
                  <a:srgbClr val="40458c"/>
                </a:solidFill>
                <a:latin typeface="Times New Roman"/>
              </a:rPr>
              <a:t>“Objects, Components, Frameworks…” 1998, D’Souza &amp; Will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cc0066"/>
                </a:solidFill>
                <a:latin typeface="Times New Roman"/>
              </a:rPr>
              <a:t>The foundation of Platinum’s CBD and methods offering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99" name="A-W-D'Souza" descr=""/>
          <p:cNvPicPr/>
          <p:nvPr/>
        </p:nvPicPr>
        <p:blipFill>
          <a:blip r:embed="rId2"/>
          <a:stretch/>
        </p:blipFill>
        <p:spPr>
          <a:xfrm>
            <a:off x="7113600" y="3809880"/>
            <a:ext cx="1878120" cy="196848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A-W-D'Souza" descr=""/>
          <p:cNvPicPr/>
          <p:nvPr/>
        </p:nvPicPr>
        <p:blipFill>
          <a:blip r:embed="rId1"/>
          <a:stretch/>
        </p:blipFill>
        <p:spPr>
          <a:xfrm>
            <a:off x="3581280" y="2819520"/>
            <a:ext cx="2030400" cy="259056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  <p:sp>
        <p:nvSpPr>
          <p:cNvPr id="501" name=""/>
          <p:cNvSpPr/>
          <p:nvPr/>
        </p:nvSpPr>
        <p:spPr>
          <a:xfrm>
            <a:off x="3124080" y="3657600"/>
            <a:ext cx="304812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</a:t>
            </a:r>
            <a:r>
              <a:rPr b="0" i="1" lang="en-US" sz="4400" spc="-1" strike="noStrike">
                <a:solidFill>
                  <a:srgbClr val="660066"/>
                </a:solidFill>
                <a:latin typeface="Tahoma"/>
              </a:rPr>
              <a:t>Catalysis™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124080" y="3657600"/>
            <a:ext cx="304812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</a:t>
            </a:r>
            <a:r>
              <a:rPr b="0" i="1" lang="en-US" sz="4400" spc="-1" strike="noStrike">
                <a:solidFill>
                  <a:srgbClr val="660066"/>
                </a:solidFill>
                <a:latin typeface="Tahoma"/>
              </a:rPr>
              <a:t>Catalysis™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914400" y="1828800"/>
          <a:ext cx="56959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56959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272880" y="2890800"/>
          <a:ext cx="8599680" cy="16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2880" y="2890800"/>
                    <a:ext cx="859968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 flipV="1">
            <a:off x="3657600" y="4114800"/>
            <a:ext cx="0" cy="1371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66880" y="3429000"/>
            <a:ext cx="11430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67080" y="3733920"/>
            <a:ext cx="11430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Referê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57428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Almeida, 2003] Almeida, E.S. </a:t>
            </a:r>
            <a:r>
              <a:rPr b="1" lang="pt-B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Uma Abordagem para o Desenvolvimento de Software Baseado em Componentes Distribuídos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, Dissertação de Mestrado, Universidade Federal de São Carlos, 2003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Almeida, 2003a] Almeida, E.S., et al. </a:t>
            </a:r>
            <a:r>
              <a:rPr b="1" lang="pt-B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IPM: An Incremental Process Model for the Distributed Component-Based Software Development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, The 5th International Conference On Enterprise Information Systems (ICEIS), ACM Press, Angers, France, 2003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Brown, 1998] Brown, A., Wallnau, K.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The Current State of CBSE,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IEEE Software, Oct 1998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CBSE, 2002]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5th ICSE Workshop on Component-Based Software Engineering: Benchmarks for Predictable Assembly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, In conjunction with the 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ea typeface="Times New Roman"/>
                <a:hlinkClick r:id="rId1"/>
              </a:rPr>
              <a:t>24th International Conference on Software Engineering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(ICSE), May 2002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Councill, 2001] Councill, B., Heineman, G., T.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Definition of a Software Component and its Elements,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In Component-Based Software Engineering: Putting the Pieces Together, Addison-Wesley, 2001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D’Souza, 1999] D’Souza, D., F., Wills, C., A.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Objec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Components, and Frameworks with UML – The Catalysis Approach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. Addison-Wesley, 1999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Frakes, 1995] Frakes, W., B., Fox, C., J.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Sixteen Question about Software Reus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. Communications of the ACM. June 1995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Artefatos reutilizáveis </a:t>
            </a:r>
            <a:r>
              <a:rPr b="0" lang="pt-BR" sz="2800" spc="-1" strike="noStrike">
                <a:solidFill>
                  <a:srgbClr val="660066"/>
                </a:solidFill>
                <a:latin typeface="Tahoma"/>
              </a:rPr>
              <a:t>[D’ Souza, 1999]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Código compilado [fonte]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Casos de tes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Modelos e projetos: frameworks e padrõ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Interface de usuá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Planos, estratégias e regras arquitetura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Referê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440" y="166320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ICSR, 2002] 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ea typeface="Times New Roman"/>
                <a:hlinkClick r:id="rId1"/>
              </a:rPr>
              <a:t>7th International Conference on Software Reuse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(ICSR)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, Austin, Texas, USA. April 2002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Sametinger, 1997] Sametinger, J.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Software Engineering with Reusable Componen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. Springer-Verlag, 1997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Szyperski, 1998] Szyperski, C. 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ea typeface="Times New Roman"/>
                <a:hlinkClick r:id="rId2"/>
              </a:rPr>
              <a:t>Component Software – Beyond Object-Oriented Programming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. Addison-Wesley and ACM Press, 1998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WCOP, 2002]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7th International Workshop on Component-Oriented Programming (WCOP)</a:t>
            </a:r>
            <a:r>
              <a:rPr b="1" lang="en-US" sz="1600" spc="-1" strike="noStrike">
                <a:solidFill>
                  <a:srgbClr val="008080"/>
                </a:solidFill>
                <a:latin typeface="Arial Black"/>
                <a:ea typeface="Arial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in conjunction with the 16th European Conference on Object-Oriented Programming (ECOOP), Málaga, Spain, 2002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Wills, 2001] Wills, A., C.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Components and Connectors: Catalysis Techniques for Designing Component Infrastructures,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In Component-Based Software Engineering: Putting the Pieces Together, Addison-Wesley, 2001.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Desenvolvimento Baseado em Componentes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(DBC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867280" y="3276720"/>
            <a:ext cx="1942920" cy="1980720"/>
            <a:chOff x="5867280" y="3276720"/>
            <a:chExt cx="1942920" cy="1980720"/>
          </a:xfrm>
        </p:grpSpPr>
        <p:sp>
          <p:nvSpPr>
            <p:cNvPr id="218" name="Puzzle3"/>
            <p:cNvSpPr/>
            <p:nvPr/>
          </p:nvSpPr>
          <p:spPr>
            <a:xfrm>
              <a:off x="6813720" y="3276720"/>
              <a:ext cx="763560" cy="10526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Puzzle2"/>
            <p:cNvSpPr/>
            <p:nvPr/>
          </p:nvSpPr>
          <p:spPr>
            <a:xfrm>
              <a:off x="6591240" y="4043520"/>
              <a:ext cx="1218960" cy="95868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Puzzle4"/>
            <p:cNvSpPr/>
            <p:nvPr/>
          </p:nvSpPr>
          <p:spPr>
            <a:xfrm>
              <a:off x="6119640" y="4031640"/>
              <a:ext cx="735120" cy="12258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Puzzle1"/>
            <p:cNvSpPr/>
            <p:nvPr/>
          </p:nvSpPr>
          <p:spPr>
            <a:xfrm>
              <a:off x="5867280" y="3594960"/>
              <a:ext cx="1234440" cy="7308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Desenvolvimento Baseado em Componentes (DBC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Visã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teri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locos monolític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rande número de partes inter-relacionad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lacionamentos implíci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cessidade de “quebrar” esses blo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urgimento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do DB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dução da complexidade e custo de desenvolvim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Motivaçã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senvolvimento da Intern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volução: </a:t>
            </a:r>
            <a:r>
              <a:rPr b="0" i="1" lang="pt-BR" sz="2400" spc="-1" strike="noStrike">
                <a:solidFill>
                  <a:srgbClr val="40458c"/>
                </a:solidFill>
                <a:latin typeface="Tahoma"/>
              </a:rPr>
              <a:t>Mainfram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...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Objetos Distribuí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urgimento de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adrões – OMG, DCO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Component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Definições Diverge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Kyoto [Brown, 1998] - Flórida [CBSE, 2002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[ICSR, 2002], [WCOP, 2002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Visões de um componen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Elemento arquitetur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Elemento implementacio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Componente de negócio </a:t>
            </a:r>
            <a:r>
              <a:rPr b="0" i="1" lang="pt-BR" sz="2800" spc="-1" strike="noStrike">
                <a:solidFill>
                  <a:srgbClr val="6f89f7"/>
                </a:solidFill>
                <a:latin typeface="Tahoma"/>
                <a:ea typeface="Times New Roman"/>
              </a:rPr>
              <a:t>(maior ênfas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Componentes de Software</a:t>
            </a: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spectos de um componen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Descrever ou realizar uma função específi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star em conformidade e prover um conjunto de interfaces definid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Ter disponível uma documentação adequ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star inserido no contexto de um modelo que oriente a composição deste componente com outr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ategorias [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Wills, 2001]</a:t>
            </a:r>
            <a:r>
              <a:rPr b="0" lang="pt-PT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omponentes GU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omponentes de Serviç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omponentes do Domínio [Negócio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onent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ametinger [1997]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3352680"/>
            <a:ext cx="824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“</a:t>
            </a:r>
            <a:r>
              <a:rPr b="0" i="1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omponentes reutilizáveis são artefatos </a:t>
            </a:r>
            <a:r>
              <a:rPr b="1" i="1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utocontidos</a:t>
            </a:r>
            <a:r>
              <a:rPr b="0" i="1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, claramente identificáveis, que descrevem ou realizam uma função específica e têm </a:t>
            </a:r>
            <a:r>
              <a:rPr b="1" i="1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interfaces</a:t>
            </a:r>
            <a:r>
              <a:rPr b="0" i="1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claras em conformidade com um dado modelo de arquitetura de software, </a:t>
            </a:r>
            <a:r>
              <a:rPr b="1" i="1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documentação</a:t>
            </a:r>
            <a:r>
              <a:rPr b="0" i="1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apropriada e um grau de reutilização definido.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7T20:57:59Z</dcterms:created>
  <dc:creator>Rafael Lucrédio</dc:creator>
  <dc:description/>
  <dc:language>en-US</dc:language>
  <cp:lastModifiedBy>esa2</cp:lastModifiedBy>
  <dcterms:modified xsi:type="dcterms:W3CDTF">2003-05-28T12:46:38Z</dcterms:modified>
  <cp:revision>57</cp:revision>
  <dc:subject/>
  <dc:title>Engenharia de Software Baseada em Componentes Uma Visão Geral</dc:title>
</cp:coreProperties>
</file>