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4EA6-9555-4218-A1AA-EB5D8939EC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6324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35B5-C4F5-4548-9EAF-0CF7F6A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77532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FC05-68F1-4F86-9BD2-40030C17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5932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2364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5932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82364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CE1F-9F00-4D24-88A3-CF0EDA70F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761760"/>
            <a:ext cx="7086600" cy="15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7CAB-C2C9-408A-9E33-06749C16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7532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46324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77532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5932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23640" y="411480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65932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823640" y="4632480"/>
            <a:ext cx="20606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0F74-BD75-493E-A5DC-707F808F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2C2D-386B-470A-AF5D-9BB99713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210F-8F74-4E1A-BAA3-EA29A230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761760"/>
            <a:ext cx="7086600" cy="15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CB8B-EC67-4D16-8EA4-6A692088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7F5C-A0D2-4DD6-BCC0-33A563C9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5320" y="463248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36B9-E733-471B-9B7E-B90275F3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5320" y="4114800"/>
            <a:ext cx="3123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632480"/>
            <a:ext cx="64008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760C-BD69-4F19-93E2-AAA71C27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29600" y="0"/>
            <a:ext cx="9144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200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A556-8F9B-49AB-ACCD-98948242E3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5821200"/>
          <a:ext cx="2590920" cy="9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21200"/>
                    <a:ext cx="2590920" cy="9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153280" y="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9705-CA64-4445-856B-A59A194C9F4F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g_logo_ufpe" descr=""/>
          <p:cNvPicPr/>
          <p:nvPr/>
        </p:nvPicPr>
        <p:blipFill>
          <a:blip r:embed="rId4"/>
          <a:stretch/>
        </p:blipFill>
        <p:spPr>
          <a:xfrm>
            <a:off x="8077320" y="5880240"/>
            <a:ext cx="8506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91520" y="0"/>
            <a:ext cx="175248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5410080"/>
          <a:ext cx="3733920" cy="13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373392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7315200" y="495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DCC6-4341-44D2-BA69-AB24F6AC8D0C}" type="datetime">
              <a:rPr b="0" lang="en-US" sz="1400" spc="-1" strike="noStrike">
                <a:solidFill>
                  <a:srgbClr val="b2b2b2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g_logo_ufpe" descr=""/>
          <p:cNvPicPr/>
          <p:nvPr/>
        </p:nvPicPr>
        <p:blipFill>
          <a:blip r:embed="rId4"/>
          <a:stretch/>
        </p:blipFill>
        <p:spPr>
          <a:xfrm>
            <a:off x="7086600" y="54864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hyperlink" Target="http://www.standishgroup.com/" TargetMode="External"/><Relationship Id="rId3" Type="http://schemas.openxmlformats.org/officeDocument/2006/relationships/hyperlink" Target="http://www.standishgroup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M – The Capability Maturit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 V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av@cin.ufpe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2BEB18-C4FF-4C51-AF1F-6476DC90B4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– Benefícios potenci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 da previsibilidade d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elhoria do planejamento e 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dução de ris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 da qualidade do prod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ducão de gastos e retrabal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 da probabilidade de sucesso d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EFFD-545B-4E2E-9AD1-656516AEE8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8CB18-DE82-452D-B57A-C38B470BC2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– Níveis de Matur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MM classifica as organizações em  níveis de maturidade, de 1 a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Quanto maior o nível, maior a maturidade da organização com relação ao seu processo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s, o que é uma organização madur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E8AB-C24E-432B-A7EC-E5446A5216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B5F7B-E486-4C48-BEDF-C35269E427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im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 é improvisado durante o curso d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focados em resolver c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jetos rotineiramente excedem cronogramas e custos porque não são baseados em estimativas real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ão há uma base objetiva para julgar a qualidade do produto ou solucionar problemas no produto ou proce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650C-8885-42F2-BB55-EB7A4F209D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2DF1F-F4F6-4D76-92C2-90C0EC7B6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im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uco entendimento de como o processo afeta a qualidade do prod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tividades de melhoria de qualidade (revisões, testes) frequentemente deixadas de lado quando o cronograma at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 cliente tem pouca visibilidade d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366F-2C5C-4D64-B649-19AE7ED385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DFCDC-E2BA-4FC6-8F2D-177F5E2E71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mad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suem habilidade organizacional para gerenciar e manter o processo de 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 processo de software é conhecido e seguido por 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 processos são documentadose atualizados/adptados quando necess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péis e responsabilidades dentro do processo estão claros para 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1BC8A-FADF-4AE5-B928-DA21037362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BACCB-0A47-42FC-A75F-9EF9B06FD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mad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 gerentes monitoram a qualidade dos produtos e proce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á uma base objetiva e quantitativa para julgar a qualidade e analisar problemas com o produto ou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onogramas e orçamentos são baseados em informações históricas e são rea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 resultados esperados são, normalmente, alcanç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64D7-9807-4DC6-85C9-DAF33CC025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5892A-F366-4769-9670-D91EFEDAEA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i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organização madura segue um processo disciplinad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 forma consistente porq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 participantes entendem o valor de fazê-lo 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infra-estrutura necessária para suportar o processo ex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F714-69BF-4349-8280-4208D7A786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8FDA2-DECF-4960-B467-9099A726D1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066680"/>
            <a:ext cx="5334120" cy="41911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976120"/>
            <a:ext cx="23907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oas com skills, treinamento e motiv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68976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imentos e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280680"/>
            <a:ext cx="2390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ramentas e equipa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7840" y="27082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B496-F071-478A-A1E4-A796A4E1C93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230AD-D8AF-48E9-9920-BB77755653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xTQ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914400"/>
            <a:ext cx="5029200" cy="4648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14300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523880"/>
            <a:ext cx="1295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98108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2819520"/>
            <a:ext cx="2667240" cy="24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X  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581280"/>
            <a:ext cx="152388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343400"/>
            <a:ext cx="205740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6120" y="8031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37960" y="2174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4114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1523520"/>
            <a:ext cx="1905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8120" y="2514600"/>
            <a:ext cx="358128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895480" y="4343400"/>
            <a:ext cx="3810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722B-A048-4D18-9BCA-DFB190D55EE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C900B-0759-455A-A6AA-0162B72B3A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5 Níveis de Matur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5651-4946-45F8-9D49-399F4B96A5C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FB66F-CEC6-4EA6-84E3-4D5E5E93F4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048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M – Conc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ções maduras x im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5 níveis de matur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strutura do modelo C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As de nível 2, 3, 4 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A Software Quality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48FA-3A28-4DD4-829F-3EBACE2EFB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CA9E5-4E30-42D8-95B8-986DC8854B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5 Níveis de Matur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75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0" y="4881600"/>
            <a:ext cx="242568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21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01760" y="3967200"/>
            <a:ext cx="242568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9384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9360" y="3962520"/>
            <a:ext cx="20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Re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1960" y="3052800"/>
            <a:ext cx="242568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8480" y="2138400"/>
            <a:ext cx="212076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75104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2680" y="4876920"/>
            <a:ext cx="121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8160" y="3048120"/>
            <a:ext cx="20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Defin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8360" y="2133720"/>
            <a:ext cx="20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G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7240" y="4495680"/>
            <a:ext cx="1219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11480" y="350532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3960" y="259092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7840" y="1676520"/>
            <a:ext cx="1219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4080" y="518148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caó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7080" y="4267080"/>
            <a:ext cx="281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discipl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7280" y="3352680"/>
            <a:ext cx="281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padronizado e cons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3440" y="2438280"/>
            <a:ext cx="235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previs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8680" y="1147680"/>
            <a:ext cx="2120760" cy="978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9960" y="1447920"/>
            <a:ext cx="205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de melhoria contí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8560" y="1143000"/>
            <a:ext cx="205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Em otim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7CA4-8D66-4894-AB0E-A7019A4992F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33DAA-D068-4C6B-AEBC-8D8648CD33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1 -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 de software ad hoc – imprevisível e quase sem 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dependem de posturas individ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isibilidade limitada – somente as entradas e os produtos finais podem ser vistos com cla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 processo é uma caixa pret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9A14-AC03-49E8-9F42-A3FE1F3BDF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DB930-C65E-4A58-A2B7-0049DF176C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2 - Repeti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s básicos de gerenciamento de processos estabelecidos para fazer o “tracking” de custos, cronograma e funciona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isibilidade em determinados pontos –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ência de caixas pretas (taref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BCE2-37C7-4E5B-8210-CFCA636687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24A60-F8F2-4E62-9C05-9C19868BC0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2 - Repeti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líticas para o gerenciamento de projetos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mento e gerência de novos projetos baseados em experiências adquiridas com projetos similares já re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CEA4-4E12-4A2C-B9F4-D843EAC2F66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2B4FD-39E7-4FDD-9D8F-E09AAE819E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3 - Defi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 de software documentado, padronizado e integrado em um processo de software padrão para a organ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 projetos usam uma versão adaptada e aprovada do processo padrão da organ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ções e responsabilidades no processo são entendidas por 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tarefas não são mais caixas pr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3F29-979E-47F6-9FC1-3673E074F0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A87DE-63B3-43E8-A64F-CE388FD399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4 - Gere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s de software instrumentalizados e controlados quantitat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capazes de avaliar quantitativamente o progresso do projeto e a ocorrência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e quantitativa para tomada de deci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 prever tendências em processos e em qualidade de prod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7FF6-4262-42DF-9837-B94AA5611B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C4EDF-8853-42F9-B381-F22E88053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5 – Em otimiz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co na melhoria do 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capazes de estimar e acompanhar quantitativamente o impacto e a efetividade de alterações nos proces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organização tem meios para identificar fraquezas e fortalecer o processo de forma pró-ativa, prevenindo a ocorrência de def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25BD-57CB-4175-B1DD-C55D2C1AD61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51B23-5003-4973-A24B-F3462756D0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mas informaçõ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a da qualidade de software é o maior obstáculo para as organizações que querem atingir o nível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ção dos processos é um dos maiores obstáculos das organizações que querem atingir o nível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 organizações gastam em mé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 meses para sair do nível 1 para o nív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2 meses para passar do nível 2 para 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6,5 meses para passar do nível 3 para 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82592-863B-4794-83EB-67C8613307F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98A6D-FA54-46CA-B9B1-B13D22F814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397160"/>
          <a:ext cx="8229240" cy="4402080"/>
        </p:xfrm>
        <a:graphic>
          <a:graphicData uri="http://schemas.openxmlformats.org/drawingml/2006/table">
            <a:tbl>
              <a:tblPr/>
              <a:tblGrid>
                <a:gridCol w="1646280"/>
                <a:gridCol w="1646640"/>
                <a:gridCol w="1643040"/>
                <a:gridCol w="1647000"/>
                <a:gridCol w="1646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cos processos estáveis existem ou são us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s para estimativas, planejamento e gerencia de requisitos documentados no nível do proj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s de engenharia e gerenciamento são usados por toda a organ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s são estabilizados e entendidos quantitativ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s são continua e sistematicamente melho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do i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as são identificados e corrigidos quando eles ocorr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as são antecipados e evitados ou seus impactos são minimiz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es individuais de problemas são entendidas e elimin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es comuns de problemas são entendidas e elimin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D769-73B3-4F42-8346-1B013D3C2C4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2C3E6-8641-4CEB-A354-44640CC928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397160"/>
          <a:ext cx="8229600" cy="4427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esso depende de heró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esso depende dos indivídu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s de projeto trabalham em conjunto, de forma integ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 senso de equipe existe em cada proj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 senso de equipe existe em toda a organ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modo “bombeiro” de viver a v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rdos são entendidos e gerenci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inamento é planejado e fornecido de acordo com os papé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s estão envolvidos na melhoria do proces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s são trein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466F-4056-40B8-9FCB-A2E0BE9F58D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2F0B7-9FB8-4ACF-863F-F7B845D99B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que ter proces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idade crescente -&gt; Necessidade de Sobrevivência -&gt; Satisfação d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e software é o elo fraco no desenvolvimento de produtos de alta 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e de software tem persistido nos últimos 30 a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DFAF-77A5-4405-8CB3-4E168C0976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D7361-8F73-45FA-82B8-3E9BA7D314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397160"/>
          <a:ext cx="8229600" cy="1830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ção de nova tecnologia é um ri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ologia suporta atividades estáv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 tecnologias são avaliadas em uma base quali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 tecnologias são avaliadas em uma base quanti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 tecnologias são pro-ativamente peseguidas e implement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E6D2-7BDA-4A7A-AD93-7413E4DD786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95F15-9773-4EED-A106-D698A15905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1397160"/>
          <a:ext cx="8229600" cy="3876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ta e análise de dados feita de forma ad h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os de planejamento e gerenciamento usados por projetos indivi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os são coletados e usados em todos os processos defi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ção e coleta dos dados padronizadas para toda a organ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os são usados para avaliar e selecionar as melhorias de proces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os são sistematicamente compartilhados entre os proje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os utilizados para entender o processo quantitativamente 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ilizá-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1ED2-265A-4101-91FC-F3BD9A6ACAA2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3ED80-C404-4A0C-A2F2-1F16C2ACCB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strutura do Modelo C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3C2E-988A-4E72-99AC-A8C61DFF0398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076B7-BAD8-4821-8CCD-3D4864A76B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04920" y="138240"/>
            <a:ext cx="8761320" cy="6484680"/>
            <a:chOff x="304920" y="138240"/>
            <a:chExt cx="8761320" cy="6484680"/>
          </a:xfrm>
        </p:grpSpPr>
        <p:sp>
          <p:nvSpPr>
            <p:cNvPr id="192" name=""/>
            <p:cNvSpPr/>
            <p:nvPr/>
          </p:nvSpPr>
          <p:spPr>
            <a:xfrm>
              <a:off x="8159760" y="387360"/>
              <a:ext cx="6732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73960" y="463680"/>
              <a:ext cx="673200" cy="444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64480" y="539640"/>
              <a:ext cx="67284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11440" y="615960"/>
              <a:ext cx="6732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720" y="2057400"/>
              <a:ext cx="7162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1828800"/>
              <a:ext cx="71629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2680" y="763560"/>
              <a:ext cx="228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urit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2680" y="1677960"/>
              <a:ext cx="2282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s (1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2680" y="2820960"/>
              <a:ext cx="228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als (5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6360" y="4116240"/>
              <a:ext cx="228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on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4876920"/>
              <a:ext cx="228276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act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43200" y="6714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72200" y="519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05720" y="4428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91520" y="366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28080" y="138240"/>
              <a:ext cx="297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MM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26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70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5916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72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116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008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62120" y="1662120"/>
              <a:ext cx="65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76880" y="166212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14600" y="1662120"/>
              <a:ext cx="57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76720" y="166212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29200" y="1662120"/>
              <a:ext cx="65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1120" y="166212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89120" y="2603520"/>
              <a:ext cx="66024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6520" y="2743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76520" y="3048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514600" y="2597040"/>
              <a:ext cx="685800" cy="596880"/>
              <a:chOff x="2514600" y="2597040"/>
              <a:chExt cx="685800" cy="596880"/>
            </a:xfrm>
          </p:grpSpPr>
          <p:sp>
            <p:nvSpPr>
              <p:cNvPr id="225" name=""/>
              <p:cNvSpPr/>
              <p:nvPr/>
            </p:nvSpPr>
            <p:spPr>
              <a:xfrm>
                <a:off x="2521080" y="2597040"/>
                <a:ext cx="67284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14600" y="2743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14600" y="2895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1460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352680" y="2597040"/>
              <a:ext cx="685800" cy="596880"/>
              <a:chOff x="3352680" y="2597040"/>
              <a:chExt cx="685800" cy="596880"/>
            </a:xfrm>
          </p:grpSpPr>
          <p:sp>
            <p:nvSpPr>
              <p:cNvPr id="230" name=""/>
              <p:cNvSpPr/>
              <p:nvPr/>
            </p:nvSpPr>
            <p:spPr>
              <a:xfrm>
                <a:off x="3359160" y="25970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52680" y="2743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52680" y="2895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5268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191120" y="2597040"/>
              <a:ext cx="685800" cy="596880"/>
              <a:chOff x="4191120" y="2597040"/>
              <a:chExt cx="685800" cy="596880"/>
            </a:xfrm>
          </p:grpSpPr>
          <p:sp>
            <p:nvSpPr>
              <p:cNvPr id="235" name=""/>
              <p:cNvSpPr/>
              <p:nvPr/>
            </p:nvSpPr>
            <p:spPr>
              <a:xfrm>
                <a:off x="4197240" y="25970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91120" y="2743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91120" y="2895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9112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035680" y="2597040"/>
              <a:ext cx="6728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29200" y="2743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3048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50080" y="2597040"/>
              <a:ext cx="672840" cy="74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3600" y="2743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3048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514600" y="2901960"/>
              <a:ext cx="685800" cy="596880"/>
              <a:chOff x="2514600" y="2901960"/>
              <a:chExt cx="685800" cy="596880"/>
            </a:xfrm>
          </p:grpSpPr>
          <p:sp>
            <p:nvSpPr>
              <p:cNvPr id="248" name=""/>
              <p:cNvSpPr/>
              <p:nvPr/>
            </p:nvSpPr>
            <p:spPr>
              <a:xfrm>
                <a:off x="2521080" y="2901960"/>
                <a:ext cx="67284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1460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14600" y="32004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14600" y="33526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943600" y="3200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7280" y="4116240"/>
              <a:ext cx="152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itment to Per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7480" y="4116240"/>
              <a:ext cx="152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ility to Per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25680" y="4116240"/>
              <a:ext cx="152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ities Perfor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0480" y="4116240"/>
              <a:ext cx="1825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asurement and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16640" y="4116240"/>
              <a:ext cx="1749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ifying 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981080" y="1143000"/>
              <a:ext cx="1828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895480" y="1143000"/>
              <a:ext cx="914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657240" y="114300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09880" y="114300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9880" y="1143000"/>
              <a:ext cx="1676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09880" y="1143000"/>
              <a:ext cx="2438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10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5760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95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01960" y="4121280"/>
              <a:ext cx="14349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2160" y="4121280"/>
              <a:ext cx="105408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30360" y="4121280"/>
              <a:ext cx="12063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21480" y="4121280"/>
              <a:ext cx="14349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21680" y="4121280"/>
              <a:ext cx="16635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81080" y="30481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52480" y="38098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4872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2920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900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5248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648320" y="5111640"/>
              <a:ext cx="685800" cy="596880"/>
              <a:chOff x="4648320" y="5111640"/>
              <a:chExt cx="685800" cy="59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54440" y="51116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48320" y="52578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8320" y="54100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48320" y="55627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550280" y="5111640"/>
              <a:ext cx="6728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43800" y="5257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43800" y="5410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6880" y="5111640"/>
              <a:ext cx="67284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5257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752480" y="5111640"/>
              <a:ext cx="685800" cy="596880"/>
              <a:chOff x="1752480" y="5111640"/>
              <a:chExt cx="685800" cy="596880"/>
            </a:xfrm>
          </p:grpSpPr>
          <p:sp>
            <p:nvSpPr>
              <p:cNvPr id="293" name=""/>
              <p:cNvSpPr/>
              <p:nvPr/>
            </p:nvSpPr>
            <p:spPr>
              <a:xfrm>
                <a:off x="1758960" y="51116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52480" y="52578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752480" y="54100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52480" y="55627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752480" y="5721480"/>
              <a:ext cx="685800" cy="596880"/>
              <a:chOff x="1752480" y="5721480"/>
              <a:chExt cx="685800" cy="596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758960" y="572148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52480" y="58672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2480" y="60199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52480" y="6172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752480" y="6026040"/>
              <a:ext cx="685800" cy="596880"/>
              <a:chOff x="1752480" y="6026040"/>
              <a:chExt cx="685800" cy="596880"/>
            </a:xfrm>
          </p:grpSpPr>
          <p:sp>
            <p:nvSpPr>
              <p:cNvPr id="303" name=""/>
              <p:cNvSpPr/>
              <p:nvPr/>
            </p:nvSpPr>
            <p:spPr>
              <a:xfrm>
                <a:off x="1758960" y="60260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52480" y="6172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52480" y="6324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52480" y="6477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102360" y="5111640"/>
              <a:ext cx="673200" cy="13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0512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290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008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4872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6324480" y="990720"/>
              <a:ext cx="2432160" cy="1371600"/>
              <a:chOff x="6324480" y="990720"/>
              <a:chExt cx="2432160" cy="1371600"/>
            </a:xfrm>
          </p:grpSpPr>
          <p:sp>
            <p:nvSpPr>
              <p:cNvPr id="314" name=""/>
              <p:cNvSpPr/>
              <p:nvPr/>
            </p:nvSpPr>
            <p:spPr>
              <a:xfrm>
                <a:off x="6324480" y="1222200"/>
                <a:ext cx="224640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1176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45160" y="1123920"/>
                <a:ext cx="1796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32440" y="1123920"/>
                <a:ext cx="1796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72200" y="1123920"/>
                <a:ext cx="1778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35720" y="1123920"/>
                <a:ext cx="1778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621560" y="1123920"/>
                <a:ext cx="17928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85080" y="1123920"/>
                <a:ext cx="1778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51640" y="1405080"/>
                <a:ext cx="190440" cy="99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39040" y="143352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39040" y="147636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39040" y="151776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6802560" y="1398600"/>
                <a:ext cx="215640" cy="155520"/>
                <a:chOff x="6802560" y="1398600"/>
                <a:chExt cx="215640" cy="1555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808680" y="1398600"/>
                  <a:ext cx="2034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802560" y="143352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802560" y="14763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802560" y="15177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066080" y="1398600"/>
                <a:ext cx="214200" cy="155520"/>
                <a:chOff x="7066080" y="1398600"/>
                <a:chExt cx="214200" cy="155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072200" y="1398600"/>
                  <a:ext cx="2016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066080" y="14335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066080" y="14763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066080" y="15177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329600" y="1398600"/>
                <a:ext cx="214200" cy="155520"/>
                <a:chOff x="7329600" y="1398600"/>
                <a:chExt cx="214200" cy="1555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335720" y="1398600"/>
                  <a:ext cx="2016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329600" y="14335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329600" y="14763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29600" y="15177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7597800" y="1398600"/>
                <a:ext cx="203040" cy="112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91320" y="143352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91320" y="147636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591320" y="151776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85080" y="1398600"/>
                <a:ext cx="201600" cy="198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78600" y="14335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78600" y="147636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78600" y="151776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6802560" y="1482840"/>
                <a:ext cx="215640" cy="155520"/>
                <a:chOff x="6802560" y="1482840"/>
                <a:chExt cx="215640" cy="1555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808680" y="1482840"/>
                  <a:ext cx="2034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802560" y="15177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802560" y="156060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802560" y="160344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7878600" y="156060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635880" y="990720"/>
                <a:ext cx="57312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6923160" y="990720"/>
                <a:ext cx="2858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7160760" y="990720"/>
                <a:ext cx="4788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09000" y="990720"/>
                <a:ext cx="2156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09000" y="990720"/>
                <a:ext cx="5270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209000" y="990720"/>
                <a:ext cx="76500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63588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92316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6112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42464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1192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7400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29280" y="1819440"/>
                <a:ext cx="43992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31120" y="1819440"/>
                <a:ext cx="32076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99080" y="1819440"/>
                <a:ext cx="36828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813800" y="1819440"/>
                <a:ext cx="44136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35880" y="151776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62800" y="1728720"/>
                <a:ext cx="191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7584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02152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9132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08984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6280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7472520" y="2095560"/>
                <a:ext cx="214200" cy="155520"/>
                <a:chOff x="7472520" y="2095560"/>
                <a:chExt cx="214200" cy="1555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478640" y="2095560"/>
                  <a:ext cx="2016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472520" y="213048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472520" y="21733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472520" y="22129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8386920" y="2095560"/>
                <a:ext cx="20160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80440" y="2130480"/>
                <a:ext cx="21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80440" y="2173320"/>
                <a:ext cx="21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24680" y="2095560"/>
                <a:ext cx="201600" cy="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18200" y="213048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6562800" y="2095560"/>
                <a:ext cx="216000" cy="155520"/>
                <a:chOff x="6562800" y="2095560"/>
                <a:chExt cx="216000" cy="1555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568920" y="2095560"/>
                  <a:ext cx="2034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562800" y="2130480"/>
                  <a:ext cx="21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62800" y="2173320"/>
                  <a:ext cx="21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562800" y="2212920"/>
                  <a:ext cx="21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7932600" y="2095560"/>
                <a:ext cx="203400" cy="2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61176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08984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9132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2152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47584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315280" y="1819440"/>
                <a:ext cx="44136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245360" y="914400"/>
              <a:ext cx="1816200" cy="1289160"/>
              <a:chOff x="7245360" y="914400"/>
              <a:chExt cx="1816200" cy="1289160"/>
            </a:xfrm>
          </p:grpSpPr>
          <p:sp>
            <p:nvSpPr>
              <p:cNvPr id="401" name=""/>
              <p:cNvSpPr/>
              <p:nvPr/>
            </p:nvSpPr>
            <p:spPr>
              <a:xfrm>
                <a:off x="733428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705800" y="1050840"/>
                <a:ext cx="142920" cy="136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918560" y="1050840"/>
                <a:ext cx="141120" cy="136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7699320" y="1330200"/>
                <a:ext cx="173160" cy="160560"/>
                <a:chOff x="7699320" y="1330200"/>
                <a:chExt cx="173160" cy="1605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7705800" y="1330200"/>
                  <a:ext cx="16020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699320" y="136512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699320" y="14112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699320" y="14526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912080" y="1330200"/>
                <a:ext cx="173160" cy="160560"/>
                <a:chOff x="7912080" y="1330200"/>
                <a:chExt cx="173160" cy="1605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18560" y="1330200"/>
                  <a:ext cx="16020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12080" y="136512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912080" y="14112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912080" y="14526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 flipH="1">
                <a:off x="7778520" y="914400"/>
                <a:ext cx="378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816680" y="914400"/>
                <a:ext cx="17316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78880" y="119376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989840" y="119376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91320" y="1760400"/>
                <a:ext cx="35100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6320" y="1760400"/>
                <a:ext cx="25704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245360" y="1760400"/>
                <a:ext cx="29520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04120" y="1760400"/>
                <a:ext cx="35424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791480" y="1509840"/>
                <a:ext cx="0" cy="17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296120" y="1670040"/>
                <a:ext cx="154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83764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47260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2340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1984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29612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8026560" y="2043000"/>
                <a:ext cx="172800" cy="160560"/>
                <a:chOff x="8026560" y="2043000"/>
                <a:chExt cx="172800" cy="1605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8032680" y="2043000"/>
                  <a:ext cx="16056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026560" y="2077920"/>
                  <a:ext cx="17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026560" y="2120760"/>
                  <a:ext cx="17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026560" y="2165400"/>
                  <a:ext cx="17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8766000" y="2043000"/>
                <a:ext cx="158760" cy="11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759880" y="2077920"/>
                <a:ext cx="17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759880" y="2120760"/>
                <a:ext cx="17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69080" y="2043000"/>
                <a:ext cx="158760" cy="7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62960" y="2077920"/>
                <a:ext cx="17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7296120" y="2043000"/>
                <a:ext cx="173160" cy="160560"/>
                <a:chOff x="7296120" y="2043000"/>
                <a:chExt cx="173160" cy="1605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302600" y="2043000"/>
                  <a:ext cx="16020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296120" y="207792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296120" y="212076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96120" y="21654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8399520" y="2043000"/>
                <a:ext cx="160200" cy="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3428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71984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12340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47260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83764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709120" y="1760400"/>
                <a:ext cx="35244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8007480" y="914400"/>
              <a:ext cx="1054080" cy="907920"/>
              <a:chOff x="8007480" y="914400"/>
              <a:chExt cx="1054080" cy="907920"/>
            </a:xfrm>
          </p:grpSpPr>
          <p:sp>
            <p:nvSpPr>
              <p:cNvPr id="452" name=""/>
              <p:cNvSpPr/>
              <p:nvPr/>
            </p:nvSpPr>
            <p:spPr>
              <a:xfrm>
                <a:off x="805644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275680" y="1011240"/>
                <a:ext cx="79200" cy="93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00960" y="1011240"/>
                <a:ext cx="76320" cy="93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8269200" y="1211400"/>
                <a:ext cx="101520" cy="107640"/>
                <a:chOff x="8269200" y="1211400"/>
                <a:chExt cx="101520" cy="1076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8275680" y="1211400"/>
                  <a:ext cx="88920" cy="10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269200" y="123336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269200" y="126540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269200" y="129384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8394840" y="1211400"/>
                <a:ext cx="99720" cy="107640"/>
                <a:chOff x="8394840" y="1211400"/>
                <a:chExt cx="99720" cy="10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8400960" y="1211400"/>
                  <a:ext cx="87480" cy="10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394840" y="1233360"/>
                  <a:ext cx="9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394840" y="1265400"/>
                  <a:ext cx="9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394840" y="1293840"/>
                  <a:ext cx="9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H="1">
                <a:off x="8317080" y="914400"/>
                <a:ext cx="6480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381880" y="914400"/>
                <a:ext cx="5724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17080" y="11113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439120" y="11113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09080" y="1514520"/>
                <a:ext cx="19980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445600" y="1514520"/>
                <a:ext cx="14436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07480" y="1514520"/>
                <a:ext cx="16668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624880" y="1514520"/>
                <a:ext cx="20160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323200" y="133524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034480" y="144792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93304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72028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51688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28216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03448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8461440" y="1712880"/>
                <a:ext cx="100080" cy="109440"/>
                <a:chOff x="8461440" y="1712880"/>
                <a:chExt cx="100080" cy="1094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8467560" y="1712880"/>
                  <a:ext cx="87480" cy="10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461440" y="173664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461440" y="176688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461440" y="179712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8894880" y="1712880"/>
                <a:ext cx="87120" cy="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888400" y="173664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888400" y="176688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253360" y="1712880"/>
                <a:ext cx="88920" cy="47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247240" y="1736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8034480" y="1712880"/>
                <a:ext cx="101520" cy="109440"/>
                <a:chOff x="8034480" y="1712880"/>
                <a:chExt cx="101520" cy="1094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8040600" y="1712880"/>
                  <a:ext cx="88920" cy="10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034480" y="173664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034480" y="176688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034480" y="179712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8680320" y="1712880"/>
                <a:ext cx="88920" cy="1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05644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28216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51688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72028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93304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861400" y="1514520"/>
                <a:ext cx="20016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591400" y="11113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8547120" y="1211400"/>
                <a:ext cx="100080" cy="107640"/>
                <a:chOff x="8547120" y="1211400"/>
                <a:chExt cx="100080" cy="1076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8553600" y="1211400"/>
                  <a:ext cx="87120" cy="10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7120" y="123336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547120" y="126540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547120" y="129384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8553600" y="1011240"/>
                <a:ext cx="75960" cy="93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381880" y="914400"/>
                <a:ext cx="2095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C309-492C-4179-8197-488F8A89A17A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DF52E-7069-40A4-AB83-C281F65CC5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PA – Key Process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 um grupo de atividades relacionadas que, quando executadas em conjunto, satisfazem um grupo de metas relevantes para a melhoria de capacitação do 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há KPAs para o nível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6A5F-1540-471F-97F1-A2C6591E65E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C8ACE-0111-4BF6-96BE-95206A3894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elecem o escopo e limite de cada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dos para determinar se a organização efetivamente implantou a K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 uma avaliação de conformidade de uma organização com os requisitos de CMM, o mais importante é verificar se os goals da KPA foram ating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8862-D27E-41E8-B147-7B307A89939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16F41-B7EE-4E62-ACA4-C98B46D860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evem as atividades ou infra-estruturas que precisam estar em uso rotineiro para que os goals de uma determinada KPA sejam alcanç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ficicam para cada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íticas fundamen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E88F-F8CE-4A41-B2C2-3458C9C72C2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29DC4-840C-445C-9F82-173FBF2FF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eve o que fazer sem estabelecer como fa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impõem o uso de tecnologias especí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ém, a tecnologia escolhida deve ser capaz de assegurar os requisitos estabelecidos pelo C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2322-6EF1-40B4-B118-DD4BAE12A2C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81279-D9F2-484A-9045-D7B893D628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m as práticas chaves de uma K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ment to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ções que a organização deve tomar para assegurar que o processo estará estabelecido e irá perdu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-condições que devem existir no projeto ou organização para implementar adequadamente o process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s necessários para implementar uma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A0D3-0E94-4BB1-88DF-9C26EF1B674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18BA4-1556-40DB-BCF2-15BEB33DFF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ções a serem realizadas com relação à KPA e aos resultados das ativ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os para assegurar  que as atividades estão sendo executadas de acordo com o processo estabele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674A-C9AB-4775-82C6-0D699CA50AD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A61D4-85EE-43B3-A66C-CE5CE03224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que ter proces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OS Report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andishgroup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nas 28% dos projetos de TI são concluídos no prazo e orçamento previstos e com todas as funcionalidades inicialmente planejada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organizações estão percebendo que o seu problema fundamental é a inabilidade para gerenciar o processo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B9AE-5571-4C12-8C12-B975E5FB51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BB7D1-2A62-4CDE-8C27-05F540A5FA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elecer e manter um acordo com o cliente com relação aos requisitos a serem observados no projet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je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elecer planos exequiveis para desenvolver um determinado software, bem como para gerenciar o projeto de desenvolvimento de software segundo estes pl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82C8-5CE0-41E1-9F41-354CDF303E5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78860-B549-4992-9C38-86212EEB7C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ject Tracking and Overs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ecer uma visão realista do efetivo progresso do projeto, permitindo que a gerência de desenvolvimento possa tomar ações corretivas eficaz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ubcontra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ionar contratadas de software qualificadas e gerenciá-las efet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54D4-FC69-4D77-AE82-7B813F365D2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533B0-CF17-4BBB-8547-0B085319E4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Quality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ecer à gerência a visibilidade da eficácia do processo utilizado pelo projeto para o desenvolvimento de software e da qualidade dos artefatos produz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Configur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elecer e manter a integridade dos produtos do projeto de software ao longo do ciclo de vida d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AFC5-9473-4AE7-9AEF-F902D325DBF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72A9D-9CF5-4C61-B949-3DE3A3FD40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Process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r e manter um entendimento dos processos de software dos projetos e da organização, bem como coordenar as atividades para avaliar, desenvolver, manter e melhorar os proce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Process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er e manter um conjunto de ativos de processo de software que sejam úteis e melhorem o desempenho dos processos utilizados nos diversos pro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B4A0-42BD-4BD0-A15D-BBF06975B52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A3D54-3345-45B2-9F8A-D758779184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er habilidades e os conhecimentos das pessoas da organização para que elas possam desempenhar eficazmente seus papé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Softwar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r as atividades de engenharia e gerência de software em um processo de software coerente e bem definido, adaptado a partir do processo de software padrão da organ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B85A-0877-4AB1-9E6F-60F0F895F38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EB177-CE6F-4B33-98BD-77860C245E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duct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de forma consistente um processo de engenharia bem definido, que integra toda as atividades de Engenharia de Sofware para produzir, de maneira eficaz e eficiente, produtos de software corretos e consist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group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elecer mecanismos para o grupo de ESW participar ativamente junto aos outros grupos de engenharia para que o projeto se habilite a atender às necessidades do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4F73-BF26-4634-AD72-847CBD8E9EC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FC59E-C031-42BF-B5E8-73F00736DA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r de forma eficiente os defeitos dos artefatos de software ainda nos estágios iniciais de sua criação e identificar melhorias para estes artef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9AE6-2F46-4F58-AB1A-069A491D77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618C6-389B-48D2-87A9-5C1E7CB281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Proces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ar quantitativamente o desempenho do processo de software com base nas metas estabelecidas para o processo d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Qual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er um entendimento quantitativo da qualidade dos produtos de software do projeto e alcançar metas específicas de qu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B946-DE09-444F-97E5-6B6790D21F7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B5B5A-D795-4A56-B4C8-F9FEA1A8BE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 a causa de defeitos e prevenir suas recorr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Chan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r novas tecnologias e acompanhá-las dentro da organização de uma maneira re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52E8-9ACC-48D0-989F-D0ADF0F31EC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3D47D-D725-4F56-8E3A-0AF7C72549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Chan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horar continuamente os processos de software usados na organização com a intenção de melhorar a qualidade de software, aumentar a produtividade e diminuir o tempo requerido para o desenvolvimento de produ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2495-48F8-4030-BB70-9AB863BDEDFD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3F941-F3FE-41F2-B4A7-900A65AC08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- 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 e a Mitr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aram o desenvolvimento de um framework de maturidade de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: auxiliar as organizações a melhorar seu process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ação do Governo 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ódo para avaliar a capacidade dos seus fornecedores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FB7B-ED13-48DF-A6EB-63F5416D6A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EC123-98DE-4FF5-857C-E49B44E7D4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760D-909C-4647-A1EA-8A82228FA62E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26610-C810-4383-A54A-97446D811B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as atividades de S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r objetivamente a conformidade das atividades e artefatos com os padrões, procedimentos e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r aos grupos e pessoas envolvidas quanto às ativiades e resultados de S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minhar à gerencia senior todas as questões de não conformidades que não possam ser resolvidas no âmbito d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6B63-8423-44D9-BB18-A4C616953DC3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7F783-D87B-41E6-8C94-DC4DC7AE80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Commitment to perfor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ir uma política organizacional de SQ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ção de SQA inserida em todos 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 de comunicação com a gerência sen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hos e ouvidos” da gerência sen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mpenho não pode ser avaliado pelo gerente de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F765-06B3-407D-936D-8B2538936C6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0C563-3BCD-47F5-B1EE-91403C68BB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Ability to perform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9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 um grupo de SQ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 recursos e fundos disponíveis para SQ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 membros do grupo de SQA treinados em suas a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 membros do projeto orientados sobre o grupo de SQ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4269-B64C-494B-8318-69AD58238BF2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1DECA-2FE7-4280-A312-57500A884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Activities performed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9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r plano de SQ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ar atividades de acordo com o plano de SQ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necer consulta e realizar revi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ar atividades de engenharia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r auditoria em artefatos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C96D-FB3E-4159-9D35-C803BD6FE68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A514E-9071-4EBA-BEB8-D85BC98E66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Activities performed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49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ar resultados ao grupo de engenharia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r e tratar desv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ar atividades do grupo de SQA com o SQA do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F1F8-46A4-49B7-8F0B-F3EC7C6941DF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41812-3A64-436C-A76D-1041F3AA7F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Measurement an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r o custo e estado das atividades de SQ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ricas de S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460C-6E41-4F86-BF90-A28DC40B01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D323B-35DA-45D8-90FF-0C9B9240B4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Verifying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ar as atividades de SQA – gerência sen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ar as atividades de SQA – gerente de pro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ar atividades e artefatos de SQA – especialistas indepen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7E8D-1C57-43E6-BC59-69A1CF42B47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87949-0C33-4D61-A37C-204D47FB0D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M – The Capability Maturit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19DBBE-FBA1-4975-9221-8604B6803A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- 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 lançou uma descrição do framework de maturidade do processo de software [Humphrey87a] e um questionário de maturidade [Humphrey87b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ts Humphrey lançou o livro “Managing the Software Pro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782E-1E35-4A36-ADA9-CAB5EA86A1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16123-9DCC-411A-9081-F875992A9F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- 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M 1.0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Paulk, Weber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M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os C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M-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M fo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ED6D-2618-4662-9AA6-5B6138B8FA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F1F2A-418E-4759-A3BC-520075C3F8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que é o CM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que descreve os elementos chave de um processo de software efetiv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uia as organizações para uma melhoria evolutiva de um processo de software ad hoc para um processo discipli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eado em práticas reais e no feedback da indústria e gov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2890-E799-455C-94F0-2E5F3C3B3A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AA652-B19C-45B8-A8DC-8719EE154E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recomen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 estabelecimento de políticas determinando “o que” e “qu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existência de recursos comprome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r processos/procedimentos documen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ssoal tre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idências objetivas de que os processos estão sendo seguidos por 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scar melhoria contí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BB71-42EA-48AD-86D8-1C1B7D85E2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1ECCB-9741-46B6-B2DC-36D653035D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2:05:28Z</dcterms:created>
  <dc:creator>Virginia Viana</dc:creator>
  <dc:description/>
  <dc:language>en-US</dc:language>
  <cp:lastModifiedBy>Virginia Viana</cp:lastModifiedBy>
  <dcterms:modified xsi:type="dcterms:W3CDTF">2003-05-21T05:17:57Z</dcterms:modified>
  <cp:revision>71</cp:revision>
  <dc:subject/>
  <dc:title>CMM – Capability Maturity Model</dc:title>
</cp:coreProperties>
</file>