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ABC3F-ED55-4638-9AFC-BFD0B97C51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24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5B692-23F4-4062-9CA5-14BA23A1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8904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8904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09421-26E2-4D8C-B71E-33CEBF7A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0772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875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2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0772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875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D6E8C-5B0E-4D10-BE7C-05C01E7052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904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2824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904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24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422FA-55AA-40E2-B537-52722428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904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28904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904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2824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904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28904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772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5875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282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772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5875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6BECB-68AB-4818-BDAE-CB54D27D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8904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12AF1-D89E-4E36-AF82-0B7BEB2F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0C830-2EF8-4594-8AF0-38C2C939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9BF77-0E62-420E-A209-8B84C0EC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904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24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F0586-A0B2-48F8-A56E-D06A0603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904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904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4C14A-95B5-4003-9A2A-0F233320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904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58153-18F0-4664-B84E-BBE7193A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29600" y="0"/>
            <a:ext cx="914400" cy="6858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200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55CD-3614-4751-94E0-79671A5F31F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0" y="5821200"/>
          <a:ext cx="2590920" cy="93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821200"/>
                    <a:ext cx="2590920" cy="9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153280" y="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FD1F-706F-4DD2-BDB6-8801868F4EEC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2282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img_logo_ufpe" descr=""/>
          <p:cNvPicPr/>
          <p:nvPr/>
        </p:nvPicPr>
        <p:blipFill>
          <a:blip r:embed="rId4"/>
          <a:stretch/>
        </p:blipFill>
        <p:spPr>
          <a:xfrm>
            <a:off x="8077320" y="5880240"/>
            <a:ext cx="85068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391520" y="0"/>
            <a:ext cx="1752480" cy="6858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5410080"/>
          <a:ext cx="3733920" cy="134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10080"/>
                    <a:ext cx="373392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7315200" y="4952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79BE-1BC6-4E41-BEC9-160D32D9959D}" type="datetime">
              <a:rPr b="0" lang="en-US" sz="1400" spc="-1" strike="noStrike">
                <a:solidFill>
                  <a:srgbClr val="b2b2b2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mg_logo_ufpe" descr=""/>
          <p:cNvPicPr/>
          <p:nvPr/>
        </p:nvPicPr>
        <p:blipFill>
          <a:blip r:embed="rId4"/>
          <a:stretch/>
        </p:blipFill>
        <p:spPr>
          <a:xfrm>
            <a:off x="7086600" y="5486400"/>
            <a:ext cx="1276200" cy="1371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andishgroup.com/" TargetMode="External"/><Relationship Id="rId2" Type="http://schemas.openxmlformats.org/officeDocument/2006/relationships/hyperlink" Target="http://www.standishgroup.com/" TargetMode="External"/><Relationship Id="rId3" Type="http://schemas.openxmlformats.org/officeDocument/2006/relationships/hyperlink" Target="http://www.standishgroup.com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M – The Capability Maturity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95360" y="4114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ginia V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av@cin.ufpe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8EB866-F689-4CD5-A5BC-7F9531D1F9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ções ima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o é improvisado durante o curs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rentes focados em resolver c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jetos rotineiramente excedem cronogramas e custos porque não são baseados em estimativas rea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ão há uma base objetiva para julgar a qualidade do produto ou solucionar problemas no produto ou proce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D8C10-47DD-4BF8-B225-4ECA4DA9D63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DB3DE-9E63-4982-B4B3-C932F64BDE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ções ima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uco entendimento de como o processo afeta a qualidade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ividades de melhoria de qualidade (revisões, testes) frequentemente deixadas de lado quando o cronograma at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cliente tem pouca visibilidade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0A2CA-C963-427D-8127-AAF4F31ED3D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D4AA7-8C59-4930-8D43-3E51E31B47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ções mad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suem habilidade organizacional para gerenciar e manter o processo de 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processo de software é conhecido e seguido por 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s processos são documentados e atualizados/adptados quando necess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péis e responsabilidades dentro do processo estão claros para 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CCFD3-524C-4D10-8302-A721D336DB1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F6F38-9507-437C-8E81-1113092CC5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ções mad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s gerentes monitoram a qualidade dos produtos e proces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á uma base objetiva e quantitativa para julgar a qualidade e analisar problemas com o produto ou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onogramas e orçamentos são baseados em informações históricas e são rea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s resultados esperados são, normalmente, alcanç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09E73-0212-4BC2-B201-3994CDCE763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13D4F-E8FC-4EDB-B2EC-E0A39AF25A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mind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organização madura segue um processo disciplinado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forma consistente por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dos os participantes entendem o valor de fazê-lo 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infra-estrutura necessária para suportar o processo ex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01E22-1096-4A93-8545-4EADF6BB056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D29C2-EF2B-4E18-B319-5BE7105BF4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1066680"/>
            <a:ext cx="5334120" cy="41911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2839680"/>
            <a:ext cx="239076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ssoas com habilidades, treinamento e motiv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689760"/>
            <a:ext cx="23619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dimentos e méto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280680"/>
            <a:ext cx="23907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rramentas e equipa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17840" y="270828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B1CCF-D38B-4CB5-BA9A-96E03BC13AB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45234-9D4B-44E6-B67C-A85AEEDA1F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M xTQ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914400"/>
            <a:ext cx="4800600" cy="4648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1143000"/>
            <a:ext cx="12952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1523880"/>
            <a:ext cx="12956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1981080"/>
            <a:ext cx="12952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to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2819520"/>
            <a:ext cx="2667240" cy="243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to X  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3581280"/>
            <a:ext cx="152388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4343400"/>
            <a:ext cx="205740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46120" y="8031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37960" y="21747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Q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4114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800600" y="1523520"/>
            <a:ext cx="1905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048120" y="2514600"/>
            <a:ext cx="3581280" cy="96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895480" y="4343400"/>
            <a:ext cx="3810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CEDFC-4ACE-4AA7-987C-7DB92BA98502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E1687-944C-48F4-9818-7BD759A293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5 Níveis de Matur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121752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80" y="4881600"/>
            <a:ext cx="2425680" cy="9018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6212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01760" y="3967200"/>
            <a:ext cx="2425680" cy="9018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29384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9360" y="3962520"/>
            <a:ext cx="2054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Re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01960" y="3052800"/>
            <a:ext cx="2425680" cy="9018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8480" y="2138400"/>
            <a:ext cx="2120760" cy="9018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175104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2680" y="4876920"/>
            <a:ext cx="1216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8160" y="3048120"/>
            <a:ext cx="2054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Defin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8360" y="2133720"/>
            <a:ext cx="2054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Gerenc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7240" y="4495680"/>
            <a:ext cx="12193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04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048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11480" y="3505320"/>
            <a:ext cx="12186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04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048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63960" y="2590920"/>
            <a:ext cx="12186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04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048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7840" y="1676520"/>
            <a:ext cx="12193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04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048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4080" y="5181480"/>
            <a:ext cx="213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 caó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7080" y="4267080"/>
            <a:ext cx="281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 discipli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7280" y="3352680"/>
            <a:ext cx="2816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 padronizado e consis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3440" y="2438280"/>
            <a:ext cx="235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 previsí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8680" y="1147680"/>
            <a:ext cx="2120760" cy="9781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49960" y="1447920"/>
            <a:ext cx="2054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 de melhoria contí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8560" y="1143000"/>
            <a:ext cx="205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Em otim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111B0-57AF-49AE-9505-5960A4560230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65CAC-D681-47C2-A468-6529893227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ível 1 - Ini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o de software ad hoc – imprevisível e quase sem 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s dependem de posturas individu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isibilidade limitada – somente as entradas e os produtos finais podem ser vistos com cla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processo é uma caixa preta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3C5E3-C35E-440D-8E7B-51412103742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8FAB4-1075-49AE-8BA6-EDF0EA6616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ível 2 - Repeti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os básicos de gerenciamento de projetos estabelecidos para fazer o “tracking” de custos, cronograma e funciona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isibilidade em determinados pontos – mile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quência de caixas pretas (taref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líticas para o gerenciamento de projetos d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mento e gerência de novos projetos baseados em experiências adquiridas com projetos similares já rea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5ED6F-34C7-495C-86F4-33BAB35A4E2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6E051-47ED-456F-82E4-8D36DCC7EC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0484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M – Conce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ções maduras x ima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5 níveis de matur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estrutura do modelo C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PAs de nível 2, 3, 4 e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PA Software Quality As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7A7EF-7C08-4016-999C-328A9C3780C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A61A1-0ADA-43FC-8E87-AD635F0BB3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ível 3 - Defin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o de software documentado, padronizado e integrado em um processo de software padrão para 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dos os projetos usam uma versão adaptada e aprovada do processo padrão d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nções e responsabilidades no processo são entendidas por 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tarefas não são mais caixas pr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00CFD-9D3F-4FA6-A790-275CC91BBFB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9389A-AD5B-4AC8-8F9F-BA0104AD04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ível 4 - Gerenc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os de software instrumentalizados e controlados quantitativ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rentes capazes de avaliar quantitativamente o progresso do projeto e a ocorrência de 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ase quantitativa para tomada de decis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mite prever tendências em processos e em qualidade de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ABFD5-A4D6-4A44-8B9F-27C58936698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DAEB1-82C8-4C64-95A9-0BDE27BE38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ível 5 – Em otimiz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co na melhoria d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rentes capazes de estimar e acompanhar quantitativamente o impacto e a efetividade de alterações nos proces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organização tem meios para identificar fraquezas e fortalecer o processo de forma pró-ativa, prevenindo a ocorrência de defe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852F8-FDDE-41C7-997F-F83727318BB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6E1C0-561D-401C-A9A4-44E7F9991B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ibilidade da Gerê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3880" y="1424160"/>
            <a:ext cx="5729400" cy="428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17E76-FA28-48F7-AAD5-EDCC210F8DD4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813D4-F22D-4649-9501-2008BE7184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umas informaçõ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rantia da qualidade de software é o maior obstáculo para as organizações que querem atingir o nível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ção dos processos é um dos maiores obstáculos das organizações que querem atingir o nível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organizações gastam em mé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5 meses para sair do nível 1 para o níve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2 meses para passar do nível 2 para 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6,5 meses para passar do nível 3 para 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B5B52-BA07-49F2-9455-F1306BB7F22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722BE-07E0-4405-B9E0-0125C90728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04920" y="138240"/>
            <a:ext cx="8761320" cy="6484680"/>
            <a:chOff x="304920" y="138240"/>
            <a:chExt cx="8761320" cy="6484680"/>
          </a:xfrm>
        </p:grpSpPr>
        <p:sp>
          <p:nvSpPr>
            <p:cNvPr id="178" name=""/>
            <p:cNvSpPr/>
            <p:nvPr/>
          </p:nvSpPr>
          <p:spPr>
            <a:xfrm>
              <a:off x="8159760" y="387360"/>
              <a:ext cx="673200" cy="4446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73960" y="463680"/>
              <a:ext cx="673200" cy="44424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64480" y="539640"/>
              <a:ext cx="672840" cy="4446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11440" y="615960"/>
              <a:ext cx="673200" cy="4446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90720" y="2057400"/>
              <a:ext cx="7162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" y="1828800"/>
              <a:ext cx="716292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2680" y="763560"/>
              <a:ext cx="2282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urity Lev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2680" y="1677960"/>
              <a:ext cx="228276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s (1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2680" y="2820960"/>
              <a:ext cx="2282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oals (5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6360" y="4116240"/>
              <a:ext cx="2282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on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at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920" y="4876920"/>
              <a:ext cx="228276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act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43200" y="6714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72200" y="5191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05720" y="4428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291520" y="3668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28800" y="138240"/>
              <a:ext cx="4028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Estrutura do Modelo CM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82640" y="1606680"/>
              <a:ext cx="596880" cy="52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97040" y="1606680"/>
              <a:ext cx="596880" cy="52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59160" y="1606680"/>
              <a:ext cx="596880" cy="52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97240" y="1606680"/>
              <a:ext cx="596880" cy="52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11640" y="1606680"/>
              <a:ext cx="596880" cy="52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50080" y="1606680"/>
              <a:ext cx="596880" cy="52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62120" y="1662120"/>
              <a:ext cx="655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76880" y="1662120"/>
              <a:ext cx="586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14600" y="1662120"/>
              <a:ext cx="570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76720" y="1662120"/>
              <a:ext cx="638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29200" y="1662120"/>
              <a:ext cx="655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91120" y="1662120"/>
              <a:ext cx="638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89120" y="2603520"/>
              <a:ext cx="66024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76520" y="27432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76520" y="2895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76520" y="30481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514600" y="2597040"/>
              <a:ext cx="685800" cy="596880"/>
              <a:chOff x="2514600" y="2597040"/>
              <a:chExt cx="685800" cy="596880"/>
            </a:xfrm>
          </p:grpSpPr>
          <p:sp>
            <p:nvSpPr>
              <p:cNvPr id="211" name=""/>
              <p:cNvSpPr/>
              <p:nvPr/>
            </p:nvSpPr>
            <p:spPr>
              <a:xfrm>
                <a:off x="2521080" y="2597040"/>
                <a:ext cx="672840" cy="59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514600" y="274320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514600" y="28954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514600" y="304812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3352680" y="2597040"/>
              <a:ext cx="685800" cy="596880"/>
              <a:chOff x="3352680" y="2597040"/>
              <a:chExt cx="685800" cy="596880"/>
            </a:xfrm>
          </p:grpSpPr>
          <p:sp>
            <p:nvSpPr>
              <p:cNvPr id="216" name=""/>
              <p:cNvSpPr/>
              <p:nvPr/>
            </p:nvSpPr>
            <p:spPr>
              <a:xfrm>
                <a:off x="3359160" y="2597040"/>
                <a:ext cx="673200" cy="59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352680" y="274320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352680" y="28954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352680" y="304812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191120" y="2597040"/>
              <a:ext cx="685800" cy="596880"/>
              <a:chOff x="4191120" y="2597040"/>
              <a:chExt cx="685800" cy="596880"/>
            </a:xfrm>
          </p:grpSpPr>
          <p:sp>
            <p:nvSpPr>
              <p:cNvPr id="221" name=""/>
              <p:cNvSpPr/>
              <p:nvPr/>
            </p:nvSpPr>
            <p:spPr>
              <a:xfrm>
                <a:off x="4197240" y="2597040"/>
                <a:ext cx="673200" cy="59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191120" y="274320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191120" y="28954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191120" y="304812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5035680" y="2597040"/>
              <a:ext cx="6728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29200" y="27432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29200" y="2895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29200" y="30481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50080" y="2597040"/>
              <a:ext cx="672840" cy="749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3600" y="27432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3600" y="2895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3600" y="30481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514600" y="2901960"/>
              <a:ext cx="685800" cy="596880"/>
              <a:chOff x="2514600" y="2901960"/>
              <a:chExt cx="685800" cy="596880"/>
            </a:xfrm>
          </p:grpSpPr>
          <p:sp>
            <p:nvSpPr>
              <p:cNvPr id="234" name=""/>
              <p:cNvSpPr/>
              <p:nvPr/>
            </p:nvSpPr>
            <p:spPr>
              <a:xfrm>
                <a:off x="2521080" y="2901960"/>
                <a:ext cx="672840" cy="59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514600" y="304812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14600" y="320040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14600" y="33526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5943600" y="32004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97280" y="4116240"/>
              <a:ext cx="1520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mitment to Perfo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7480" y="4116240"/>
              <a:ext cx="1520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bility to Perfo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25680" y="4116240"/>
              <a:ext cx="1520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tivities Perform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40480" y="4116240"/>
              <a:ext cx="1825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asurement and Analy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16640" y="4116240"/>
              <a:ext cx="1749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ifying Imple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1981080" y="1143000"/>
              <a:ext cx="18288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895480" y="1143000"/>
              <a:ext cx="9144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657240" y="1143000"/>
              <a:ext cx="152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09880" y="1143000"/>
              <a:ext cx="6858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1143000"/>
              <a:ext cx="16765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09880" y="1143000"/>
              <a:ext cx="2438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810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954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5760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956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100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4852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01960" y="4121280"/>
              <a:ext cx="1434960" cy="59688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02160" y="4121280"/>
              <a:ext cx="1054080" cy="59688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30360" y="4121280"/>
              <a:ext cx="1206360" cy="59688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1480" y="4121280"/>
              <a:ext cx="1434960" cy="59688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21680" y="4121280"/>
              <a:ext cx="1663560" cy="59688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81080" y="30481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52480" y="380988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48720" y="38098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00800" y="38098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29200" y="38098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29000" y="38098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52480" y="38098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4648320" y="5111640"/>
              <a:ext cx="685800" cy="596880"/>
              <a:chOff x="4648320" y="5111640"/>
              <a:chExt cx="685800" cy="596880"/>
            </a:xfrm>
          </p:grpSpPr>
          <p:sp>
            <p:nvSpPr>
              <p:cNvPr id="269" name=""/>
              <p:cNvSpPr/>
              <p:nvPr/>
            </p:nvSpPr>
            <p:spPr>
              <a:xfrm>
                <a:off x="4654440" y="5111640"/>
                <a:ext cx="673200" cy="59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648320" y="525780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648320" y="54100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648320" y="556272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550280" y="5111640"/>
              <a:ext cx="6728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43800" y="5257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43800" y="54100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06880" y="5111640"/>
              <a:ext cx="672840" cy="292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00400" y="5257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1752480" y="5111640"/>
              <a:ext cx="685800" cy="596880"/>
              <a:chOff x="1752480" y="5111640"/>
              <a:chExt cx="685800" cy="596880"/>
            </a:xfrm>
          </p:grpSpPr>
          <p:sp>
            <p:nvSpPr>
              <p:cNvPr id="279" name=""/>
              <p:cNvSpPr/>
              <p:nvPr/>
            </p:nvSpPr>
            <p:spPr>
              <a:xfrm>
                <a:off x="1758960" y="5111640"/>
                <a:ext cx="673200" cy="59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752480" y="525780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752480" y="54100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752480" y="556272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1752480" y="5721480"/>
              <a:ext cx="685800" cy="596880"/>
              <a:chOff x="1752480" y="5721480"/>
              <a:chExt cx="685800" cy="596880"/>
            </a:xfrm>
          </p:grpSpPr>
          <p:sp>
            <p:nvSpPr>
              <p:cNvPr id="284" name=""/>
              <p:cNvSpPr/>
              <p:nvPr/>
            </p:nvSpPr>
            <p:spPr>
              <a:xfrm>
                <a:off x="1758960" y="5721480"/>
                <a:ext cx="673200" cy="59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52480" y="58672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52480" y="601992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52480" y="617220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752480" y="6026040"/>
              <a:ext cx="685800" cy="596880"/>
              <a:chOff x="1752480" y="6026040"/>
              <a:chExt cx="685800" cy="596880"/>
            </a:xfrm>
          </p:grpSpPr>
          <p:sp>
            <p:nvSpPr>
              <p:cNvPr id="289" name=""/>
              <p:cNvSpPr/>
              <p:nvPr/>
            </p:nvSpPr>
            <p:spPr>
              <a:xfrm>
                <a:off x="1758960" y="6026040"/>
                <a:ext cx="673200" cy="596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752480" y="617220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752480" y="63244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752480" y="647712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6102360" y="5111640"/>
              <a:ext cx="673200" cy="13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05120" y="47242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29000" y="47242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29200" y="47242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00800" y="47242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848720" y="47242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6324480" y="990720"/>
              <a:ext cx="2432160" cy="1371600"/>
              <a:chOff x="6324480" y="990720"/>
              <a:chExt cx="2432160" cy="1371600"/>
            </a:xfrm>
          </p:grpSpPr>
          <p:sp>
            <p:nvSpPr>
              <p:cNvPr id="300" name=""/>
              <p:cNvSpPr/>
              <p:nvPr/>
            </p:nvSpPr>
            <p:spPr>
              <a:xfrm>
                <a:off x="6324480" y="1222200"/>
                <a:ext cx="2246400" cy="11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11760" y="1981080"/>
                <a:ext cx="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545160" y="1123920"/>
                <a:ext cx="179640" cy="133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832440" y="1123920"/>
                <a:ext cx="179640" cy="133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072200" y="1123920"/>
                <a:ext cx="177840" cy="133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335720" y="1123920"/>
                <a:ext cx="177840" cy="133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21560" y="1123920"/>
                <a:ext cx="179280" cy="133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885080" y="1123920"/>
                <a:ext cx="177840" cy="133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551640" y="1405080"/>
                <a:ext cx="190440" cy="99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539040" y="1433520"/>
                <a:ext cx="21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539040" y="1476360"/>
                <a:ext cx="21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539040" y="1517760"/>
                <a:ext cx="21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6802560" y="1398600"/>
                <a:ext cx="215640" cy="155520"/>
                <a:chOff x="6802560" y="1398600"/>
                <a:chExt cx="215640" cy="155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6808680" y="1398600"/>
                  <a:ext cx="203400" cy="155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802560" y="1433520"/>
                  <a:ext cx="215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802560" y="1476360"/>
                  <a:ext cx="215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802560" y="1517760"/>
                  <a:ext cx="215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7066080" y="1398600"/>
                <a:ext cx="214200" cy="155520"/>
                <a:chOff x="7066080" y="1398600"/>
                <a:chExt cx="214200" cy="1555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072200" y="1398600"/>
                  <a:ext cx="201600" cy="155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066080" y="1433520"/>
                  <a:ext cx="2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066080" y="1476360"/>
                  <a:ext cx="2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066080" y="1517760"/>
                  <a:ext cx="2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7329600" y="1398600"/>
                <a:ext cx="214200" cy="155520"/>
                <a:chOff x="7329600" y="1398600"/>
                <a:chExt cx="214200" cy="155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7335720" y="1398600"/>
                  <a:ext cx="201600" cy="155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329600" y="1433520"/>
                  <a:ext cx="2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329600" y="1476360"/>
                  <a:ext cx="2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329600" y="1517760"/>
                  <a:ext cx="2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" name=""/>
              <p:cNvSpPr/>
              <p:nvPr/>
            </p:nvSpPr>
            <p:spPr>
              <a:xfrm>
                <a:off x="7597800" y="1398600"/>
                <a:ext cx="203040" cy="112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591320" y="1433520"/>
                <a:ext cx="21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591320" y="1476360"/>
                <a:ext cx="21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591320" y="1517760"/>
                <a:ext cx="21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885080" y="1398600"/>
                <a:ext cx="201600" cy="198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878600" y="143352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878600" y="147636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878600" y="151776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5" name=""/>
              <p:cNvGrpSpPr/>
              <p:nvPr/>
            </p:nvGrpSpPr>
            <p:grpSpPr>
              <a:xfrm>
                <a:off x="6802560" y="1482840"/>
                <a:ext cx="215640" cy="155520"/>
                <a:chOff x="6802560" y="1482840"/>
                <a:chExt cx="215640" cy="15552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6808680" y="1482840"/>
                  <a:ext cx="203400" cy="155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802560" y="1517760"/>
                  <a:ext cx="215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802560" y="1560600"/>
                  <a:ext cx="215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802560" y="1603440"/>
                  <a:ext cx="215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0" name=""/>
              <p:cNvSpPr/>
              <p:nvPr/>
            </p:nvSpPr>
            <p:spPr>
              <a:xfrm>
                <a:off x="7878600" y="156060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6635880" y="990720"/>
                <a:ext cx="573120" cy="12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6923160" y="990720"/>
                <a:ext cx="285840" cy="12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7160760" y="990720"/>
                <a:ext cx="47880" cy="12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209000" y="990720"/>
                <a:ext cx="215640" cy="12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209000" y="990720"/>
                <a:ext cx="527040" cy="12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209000" y="990720"/>
                <a:ext cx="765000" cy="12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35880" y="1263600"/>
                <a:ext cx="0" cy="1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23160" y="1263600"/>
                <a:ext cx="0" cy="1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161120" y="1263600"/>
                <a:ext cx="0" cy="1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424640" y="1263600"/>
                <a:ext cx="0" cy="1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711920" y="1263600"/>
                <a:ext cx="0" cy="1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974000" y="1263600"/>
                <a:ext cx="0" cy="1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929280" y="1819440"/>
                <a:ext cx="439920" cy="15552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431120" y="1819440"/>
                <a:ext cx="320760" cy="15552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99080" y="1819440"/>
                <a:ext cx="368280" cy="15552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813800" y="1819440"/>
                <a:ext cx="441360" cy="15552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35880" y="1517760"/>
                <a:ext cx="0" cy="21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562800" y="1728720"/>
                <a:ext cx="1913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475840" y="172872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021520" y="172872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591320" y="172872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089840" y="172872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562800" y="172872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7472520" y="2095560"/>
                <a:ext cx="214200" cy="155520"/>
                <a:chOff x="7472520" y="2095560"/>
                <a:chExt cx="214200" cy="1555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7478640" y="2095560"/>
                  <a:ext cx="201600" cy="155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472520" y="2130480"/>
                  <a:ext cx="2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472520" y="2173320"/>
                  <a:ext cx="2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472520" y="2212920"/>
                  <a:ext cx="2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9" name=""/>
              <p:cNvSpPr/>
              <p:nvPr/>
            </p:nvSpPr>
            <p:spPr>
              <a:xfrm>
                <a:off x="8386920" y="2095560"/>
                <a:ext cx="201600" cy="111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380440" y="2130480"/>
                <a:ext cx="214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380440" y="2173320"/>
                <a:ext cx="214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024680" y="2095560"/>
                <a:ext cx="201600" cy="71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18200" y="213048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6562800" y="2095560"/>
                <a:ext cx="216000" cy="155520"/>
                <a:chOff x="6562800" y="2095560"/>
                <a:chExt cx="216000" cy="1555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6568920" y="2095560"/>
                  <a:ext cx="203400" cy="155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562800" y="2130480"/>
                  <a:ext cx="216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562800" y="2173320"/>
                  <a:ext cx="216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562800" y="2212920"/>
                  <a:ext cx="216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7932600" y="2095560"/>
                <a:ext cx="203400" cy="28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611760" y="1981080"/>
                <a:ext cx="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089840" y="1981080"/>
                <a:ext cx="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591320" y="1981080"/>
                <a:ext cx="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21520" y="1981080"/>
                <a:ext cx="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475840" y="1981080"/>
                <a:ext cx="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315280" y="1819440"/>
                <a:ext cx="441360" cy="15552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7245360" y="914400"/>
              <a:ext cx="1816200" cy="1289160"/>
              <a:chOff x="7245360" y="914400"/>
              <a:chExt cx="1816200" cy="1289160"/>
            </a:xfrm>
          </p:grpSpPr>
          <p:sp>
            <p:nvSpPr>
              <p:cNvPr id="387" name=""/>
              <p:cNvSpPr/>
              <p:nvPr/>
            </p:nvSpPr>
            <p:spPr>
              <a:xfrm>
                <a:off x="7334280" y="1927080"/>
                <a:ext cx="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705800" y="1050840"/>
                <a:ext cx="142920" cy="136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918560" y="1050840"/>
                <a:ext cx="141120" cy="136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7699320" y="1330200"/>
                <a:ext cx="173160" cy="160560"/>
                <a:chOff x="7699320" y="1330200"/>
                <a:chExt cx="173160" cy="16056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705800" y="1330200"/>
                  <a:ext cx="160200" cy="160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699320" y="136512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699320" y="141120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699320" y="145260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7912080" y="1330200"/>
                <a:ext cx="173160" cy="160560"/>
                <a:chOff x="7912080" y="1330200"/>
                <a:chExt cx="173160" cy="1605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918560" y="1330200"/>
                  <a:ext cx="160200" cy="160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912080" y="136512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912080" y="141120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912080" y="145260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 flipH="1">
                <a:off x="7778520" y="914400"/>
                <a:ext cx="3780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816680" y="914400"/>
                <a:ext cx="17316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778880" y="1193760"/>
                <a:ext cx="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989840" y="1193760"/>
                <a:ext cx="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591320" y="1760400"/>
                <a:ext cx="351000" cy="16056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996320" y="1760400"/>
                <a:ext cx="257040" cy="16056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245360" y="1760400"/>
                <a:ext cx="295200" cy="16056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304120" y="1760400"/>
                <a:ext cx="354240" cy="16056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791480" y="1509840"/>
                <a:ext cx="0" cy="17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296120" y="1670040"/>
                <a:ext cx="154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837640" y="167004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472600" y="167004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123400" y="167004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719840" y="167004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296120" y="167004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8026560" y="2043000"/>
                <a:ext cx="172800" cy="160560"/>
                <a:chOff x="8026560" y="2043000"/>
                <a:chExt cx="172800" cy="16056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8032680" y="2043000"/>
                  <a:ext cx="160560" cy="160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026560" y="2077920"/>
                  <a:ext cx="172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026560" y="2120760"/>
                  <a:ext cx="172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026560" y="2165400"/>
                  <a:ext cx="172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0" name=""/>
              <p:cNvSpPr/>
              <p:nvPr/>
            </p:nvSpPr>
            <p:spPr>
              <a:xfrm>
                <a:off x="8766000" y="2043000"/>
                <a:ext cx="158760" cy="11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759880" y="2077920"/>
                <a:ext cx="17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759880" y="2120760"/>
                <a:ext cx="17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669080" y="2043000"/>
                <a:ext cx="158760" cy="71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62960" y="2077920"/>
                <a:ext cx="17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5" name=""/>
              <p:cNvGrpSpPr/>
              <p:nvPr/>
            </p:nvGrpSpPr>
            <p:grpSpPr>
              <a:xfrm>
                <a:off x="7296120" y="2043000"/>
                <a:ext cx="173160" cy="160560"/>
                <a:chOff x="7296120" y="2043000"/>
                <a:chExt cx="173160" cy="16056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7302600" y="2043000"/>
                  <a:ext cx="160200" cy="160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296120" y="207792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296120" y="212076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296120" y="216540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8399520" y="2043000"/>
                <a:ext cx="160200" cy="28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334280" y="1927080"/>
                <a:ext cx="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719840" y="1927080"/>
                <a:ext cx="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123400" y="1927080"/>
                <a:ext cx="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472600" y="1927080"/>
                <a:ext cx="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837640" y="1927080"/>
                <a:ext cx="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709120" y="1760400"/>
                <a:ext cx="352440" cy="16056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8007480" y="914400"/>
              <a:ext cx="1054080" cy="907920"/>
              <a:chOff x="8007480" y="914400"/>
              <a:chExt cx="1054080" cy="907920"/>
            </a:xfrm>
          </p:grpSpPr>
          <p:sp>
            <p:nvSpPr>
              <p:cNvPr id="438" name=""/>
              <p:cNvSpPr/>
              <p:nvPr/>
            </p:nvSpPr>
            <p:spPr>
              <a:xfrm>
                <a:off x="8056440" y="1628640"/>
                <a:ext cx="0" cy="7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275680" y="1011240"/>
                <a:ext cx="79200" cy="93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400960" y="1011240"/>
                <a:ext cx="76320" cy="93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1" name=""/>
              <p:cNvGrpSpPr/>
              <p:nvPr/>
            </p:nvGrpSpPr>
            <p:grpSpPr>
              <a:xfrm>
                <a:off x="8269200" y="1211400"/>
                <a:ext cx="101520" cy="107640"/>
                <a:chOff x="8269200" y="1211400"/>
                <a:chExt cx="101520" cy="10764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8275680" y="1211400"/>
                  <a:ext cx="88920" cy="107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8269200" y="1233360"/>
                  <a:ext cx="10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8269200" y="1265400"/>
                  <a:ext cx="10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8269200" y="1293840"/>
                  <a:ext cx="10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8394840" y="1211400"/>
                <a:ext cx="99720" cy="107640"/>
                <a:chOff x="8394840" y="1211400"/>
                <a:chExt cx="99720" cy="10764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8400960" y="1211400"/>
                  <a:ext cx="87480" cy="107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8394840" y="1233360"/>
                  <a:ext cx="99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8394840" y="1265400"/>
                  <a:ext cx="99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8394840" y="1293840"/>
                  <a:ext cx="99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1" name=""/>
              <p:cNvSpPr/>
              <p:nvPr/>
            </p:nvSpPr>
            <p:spPr>
              <a:xfrm flipH="1">
                <a:off x="8317080" y="914400"/>
                <a:ext cx="6480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381880" y="914400"/>
                <a:ext cx="5724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317080" y="111132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439120" y="111132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209080" y="1514520"/>
                <a:ext cx="199800" cy="10800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445600" y="1514520"/>
                <a:ext cx="144360" cy="10800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007480" y="1514520"/>
                <a:ext cx="166680" cy="10800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624880" y="1514520"/>
                <a:ext cx="201600" cy="10800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323200" y="1335240"/>
                <a:ext cx="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034480" y="1447920"/>
                <a:ext cx="89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933040" y="1447920"/>
                <a:ext cx="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720280" y="1447920"/>
                <a:ext cx="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16880" y="1447920"/>
                <a:ext cx="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282160" y="1447920"/>
                <a:ext cx="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034480" y="1447920"/>
                <a:ext cx="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8461440" y="1712880"/>
                <a:ext cx="100080" cy="109440"/>
                <a:chOff x="8461440" y="1712880"/>
                <a:chExt cx="100080" cy="1094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8467560" y="1712880"/>
                  <a:ext cx="87480" cy="1094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8461440" y="1736640"/>
                  <a:ext cx="10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8461440" y="1766880"/>
                  <a:ext cx="10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8461440" y="1797120"/>
                  <a:ext cx="10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1" name=""/>
              <p:cNvSpPr/>
              <p:nvPr/>
            </p:nvSpPr>
            <p:spPr>
              <a:xfrm>
                <a:off x="8894880" y="1712880"/>
                <a:ext cx="87120" cy="77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888400" y="1736640"/>
                <a:ext cx="10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888400" y="1766880"/>
                <a:ext cx="10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53360" y="1712880"/>
                <a:ext cx="88920" cy="47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247240" y="17366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8034480" y="1712880"/>
                <a:ext cx="101520" cy="109440"/>
                <a:chOff x="8034480" y="1712880"/>
                <a:chExt cx="101520" cy="10944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040600" y="1712880"/>
                  <a:ext cx="88920" cy="1094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8034480" y="1736640"/>
                  <a:ext cx="10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8034480" y="1766880"/>
                  <a:ext cx="10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034480" y="1797120"/>
                  <a:ext cx="10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1" name=""/>
              <p:cNvSpPr/>
              <p:nvPr/>
            </p:nvSpPr>
            <p:spPr>
              <a:xfrm>
                <a:off x="8680320" y="1712880"/>
                <a:ext cx="88920" cy="17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056440" y="1628640"/>
                <a:ext cx="0" cy="7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282160" y="1628640"/>
                <a:ext cx="0" cy="7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516880" y="1628640"/>
                <a:ext cx="0" cy="7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720280" y="1628640"/>
                <a:ext cx="0" cy="7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933040" y="1628640"/>
                <a:ext cx="0" cy="7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861400" y="1514520"/>
                <a:ext cx="200160" cy="108000"/>
              </a:xfrm>
              <a:prstGeom prst="roundRect">
                <a:avLst>
                  <a:gd name="adj" fmla="val 124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591400" y="111132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8547120" y="1211400"/>
                <a:ext cx="100080" cy="107640"/>
                <a:chOff x="8547120" y="1211400"/>
                <a:chExt cx="100080" cy="10764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8553600" y="1211400"/>
                  <a:ext cx="87120" cy="107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8547120" y="1233360"/>
                  <a:ext cx="10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8547120" y="1265400"/>
                  <a:ext cx="10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547120" y="1293840"/>
                  <a:ext cx="10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>
                <a:off x="8553600" y="1011240"/>
                <a:ext cx="75960" cy="93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381880" y="914400"/>
                <a:ext cx="2095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E8170-A665-4591-9A60-A78EB0C3A9DE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186DE-5D2F-44EF-BEAE-69C4746F80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PA – Key Process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 um grupo de atividades relacionadas que, quando executadas em conjunto, satisfazem um grupo de metas relevantes para a melhoria de capacitação d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há KPAs para o nível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3CCF9-3F0E-4CD7-B7AE-52F9A7D4537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E1BE9-0F17-413F-B0A1-469BD39E0A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elecem o escopo e limite de cada 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dos para determinar se a organização efetivamente implantou a K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uma avaliação de conformidade de uma organização com os requisitos de CMM, o mais importante é verificar se os goals da KPA foram ating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0AAF0-BFB4-45A3-8A66-CB3444151C1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B0C8C-70A9-4DF0-83C6-6C2F7E266B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evem as atividades ou infra-estruturas que precisam estar em uso rotineiro para que os goals de uma determinada KPA sejam alcanç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evem o que fazer sem estabelecer como faz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impõem o uso de tecnologias especí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ém, a tecnologia escolhida deve ser capaz de assegurar os requisitos estabelecidos pelo C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8237A-F6A3-4D57-9F8F-FAC85C209E2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62AC4-7831-4F99-8724-FCC6B101B7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m as práticas chaves de uma 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 to per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ções que a organização deve tomar para assegurar que o processo estará estabelecido e irá perdu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per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é-condições que devem existir no projeto ou organização para implementar adequadamente o processo 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per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imentos necessários para implementar uma K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A4365-1263-4BA1-ABE6-DCD930EDCBC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703D8-4390-4502-88A1-F08D6FCE4F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que ter process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19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etitividade crescente -&gt; Necessidade de Sobrevivência -&gt; Satisfação d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 software é o elo fraco no desenvolvimento de produtos de alta qu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OS Report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tandishgroup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nas 28% dos projetos de TI são concluídos no prazo e orçamento previstos e com todas as funcionalidades inicialmente planejadas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a fundamental é a inabilidade para gerenciar o processo d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69D40-4D55-4C1B-9A63-EEE18113335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3BEA6-AEE2-4426-A620-6BCB09914E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ções a serem realizadas com relação à KPA e aos resultados das ativ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ing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os para assegurar  que as atividades estão sendo executadas de acordo com o processo estabele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D3286-2112-4CCE-906A-742BF4E58D4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2E3C0-E32F-42FC-A558-F394FA1B2B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KPAs de Nível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elecer e manter um acordo com o cliente com relação aos requisitos a serem observados no projeto 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Projec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elecer planos exequiveis para desenvolver um determinado software, bem como para gerenciar o projeto de desenvolvimento de software segundo estes pl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B6BD1-5E1D-4CA5-8B42-A4551EAD77C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57F1B-DAEA-43AB-BDD7-FD9231D165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KPAs de Nível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Project Tracking and Over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necer uma visão realista do efetivo progresso do projeto, permitindo que a gerência de desenvolvimento possa tomar ações corretivas eficaz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Subcontrac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ionar contratadas de software qualificadas e gerenciá-las efetiv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68F2A-525A-4B99-AB95-A7DE0B539FE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CBEB1-18B2-41C9-AF9E-9CAA0BF153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KPAs de Nível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Quality As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necer à gerência a visibilidade da eficácia do processo utilizado pelo projeto para o desenvolvimento de software e da qualidade dos artefatos produz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Configurat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elecer e manter a integridade dos produtos do projeto de software ao longo do ciclo de vida do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DEAD4-50AE-4236-950E-067FEDCAC3E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9493F-9472-4B5C-8EF0-852BA324CA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KPAs de Nível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 Process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 Process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Softwar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Product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roup Coord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 re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0B527-ADA0-4338-A4F5-AE48575808E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F922D-1765-48A7-8300-79DFE4A602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KPAs de Nível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tative Process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Qualit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69EB5-4CD8-430A-8D2F-5613911837F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508FC-4D84-417D-8D5C-59382847CD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KPAs de Nível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ct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Chang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hang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E3623-AA40-4BD3-B8FA-EE6EEE33C82B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F055E-F216-4587-BA34-2738EAC0D7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rantia da Qualidade no CM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95360" y="4114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A9424E-752B-415E-9D35-246137F2FC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A -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 as atividades de S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r objetivamente a conformidade das atividades e artefatos com os padrões, procedimentos e requis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r aos grupos e pessoas envolvidas quanto às ativiades e resultados de S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minhar à gerencia senior todas as questões de não conformidades que não possam ser resolvidas no âmbito do pro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EAB37-07EC-49F8-A54F-6441F7B25779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5AF27-9A9B-4C18-A6F0-1512AA130C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A - Commitment to perfor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ir uma política organizacional de S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ção de SQA inserida em todos os pro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 de comunicação com a gerência sen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hos e ouvidos” da gerência sen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mpenho não pode ser avaliado pelo gerente de pro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7C769-3D8E-488D-992B-48FFB4CCD535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F2C21-C200-42D4-89D5-88BA2FFF38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M - Hist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e a Mitre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ciaram o desenvolvimento de um framework de maturidade de pro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: auxiliar as organizações a melhorar seu processo d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icitação do Govern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ódo para avaliar a capacidade dos seus fornecedores d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lançou uma descrição do framework de maturidade do processo de software [Humphrey87a] e um questionário de maturidade [Humphrey87b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B2438-4786-4453-8F35-5A1DE0E99AC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1FAE4-A4A5-4308-B74A-2602348D82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A - Ability to perform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 um grupo de SQ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 recursos e fundos disponíveis para SQ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 membros do grupo de SQA treinados em suas a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 membros do projeto orientados sobre o grupo de SQ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E4D4B-836A-44C1-A152-81C80B74E063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3A2E3-2331-4A55-9857-49898F0E32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A - Activities performed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049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r plano de SQ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ar atividades de acordo com o plano de SQ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necer consulta e realizar revis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r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i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ar atividades de engenharia d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zar auditoria em artefatos d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C2A3E-1DB1-4991-938B-0010A785DA9D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62495-6DE1-47C4-B95B-40780BF840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A - Activities performed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049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ar resultados ao grupo de engenharia d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r e tratar des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ar atividades do grupo de SQA com o SQA d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050D8-3EE7-436F-9419-41BAE1BF5948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40138-19CF-4760-8B40-B17B062FCC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A - Measurement and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r o custo e estado das atividades de S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étricas de S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B40BB-55B7-41D5-83F6-73BD364E86C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5938F-4B24-4546-9945-9D5FBABE18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A - Verifying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ar as atividades de SQA – gerência sen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ar as atividades de SQA – gerente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ar atividades e artefatos de SQA – especialistas indepen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E0054-FE86-4C7F-9FED-B01DF761FA0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021FE-F6DF-4ABF-BF02-621F034667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MM não garante que os produtos de software serão construídos com sucesso ou que todos os problemas de desenvolvimento de software serão resolvidos adequa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MM fornece uma estrutura conceitual para a melhoria da gestão e do desenvolvimento de produtos de software de uma forma consistente e discipli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9AEE3-336C-4D82-9067-AF816DDCBCD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6FD2F-252C-4C84-977D-43A72CCD3F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M - Hist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043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ts Humphrey lançou o livro “Managing the Software Proces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M 1.0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Paulk, Weber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M 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ros C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M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M for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342BC-012F-4BD1-AB5D-E3DEBF9FA4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B5B33-069E-4CF9-9E86-9EA0AD7D08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que é o CM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851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que descreve os elementos chave de um processo de software efe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uia as organizações para uma melhoria evolutiva de um processo de software ad hoc para um processo disciplin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aseado em práticas reais e no feedback da indústria e gov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A163F-4FF0-4552-AFA9-FE93FB04678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93F7C-9219-4FCE-BC99-7C8BA10B16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M recomend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estabelecimento de políticas determinando “o que” e “qu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existência de recursos comprome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r processos/procedimentos documen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ssoal trei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idências objetivas de que os processos estão sendo seguidos por 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scar melhoria contín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2B11F-434A-46E0-8B7B-A77E970A004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C7B78-4586-4D84-A9DB-AE58932708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M – Benefícios potenci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mento da previsibilidade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lhoria do planejamento e 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dução de ris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mento da qualidade d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ducão de gastos e retrabal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mento da probabilidade de sucess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136B3-B694-4274-9043-608B7571A1B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39834-F5C2-4A5F-B2CF-93AF159C80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M – Níveis de Matur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MM classifica as organizações em  níveis de maturidade, de 1 a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nto maior o nível, maior a maturidade da organização com relação ao seu processo d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s, o que é uma organização madura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3A4DB-CC48-4B88-BBCC-C88502458DD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26A01-B161-4029-88F5-B366164E5D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02:05:28Z</dcterms:created>
  <dc:creator>Virginia Viana</dc:creator>
  <dc:description/>
  <dc:language>en-US</dc:language>
  <cp:lastModifiedBy>Alexandre Vasconcelos</cp:lastModifiedBy>
  <dcterms:modified xsi:type="dcterms:W3CDTF">2004-06-28T15:41:06Z</dcterms:modified>
  <cp:revision>86</cp:revision>
  <dc:subject/>
  <dc:title>CMM – Capability Maturity Model</dc:title>
</cp:coreProperties>
</file>