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AC2-9545-447D-8CA9-2DFE52AF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FD2-0C39-4D58-A85E-5150A578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BAD-BCF1-41BB-97ED-A6DDD61F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85B-033E-4965-A6F7-7870B3BF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A591-49C3-4354-AE42-EA320E36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470-7FBB-49CD-8684-DA7591EC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9984-80B7-41B1-980C-D5D1AAD8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16B6-5D30-49F9-A85C-5BBD2E5E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6D1-7B78-4A80-A3F1-722D5893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1487-2C2E-4388-B7C6-97F03D5C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7EF7-EA52-49E2-BEFA-82AFD7E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A76-C195-4786-A55D-FB66B9DC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EA19-B5FA-4C52-9733-8591FD9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9B71-AC16-4579-82F8-A82C15F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52AB-DAF1-4679-B4C3-6A48DBF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BFB9-0715-471B-9061-A1CE1586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1FAC-AA21-4EA5-BFD3-87DAAD00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762-283A-4DD4-BC34-8A975EA8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4C1-B1F1-4C4C-80DA-3B1F42C6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C9A-39F7-4F8C-8B18-6D8EF67B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A37-4044-492F-BA15-5C9B5B73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FCF-5FFF-4921-95AE-907BCD0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C79-9E72-4588-9077-208A37D5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316-C999-48C2-8FB5-8B5D7F6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1AEE-E491-4708-B9FE-4223B9A5F8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F25B-1018-4228-BA50-12F0078A34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Artigo - Thayssa.ppt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Artigo - Thayssa.ppt" TargetMode="External"/><Relationship Id="rId3" Type="http://schemas.openxmlformats.org/officeDocument/2006/relationships/hyperlink" Target="Artigo - Thayssa.ppt" TargetMode="External"/><Relationship Id="rId4" Type="http://schemas.openxmlformats.org/officeDocument/2006/relationships/hyperlink" Target="Artigo - Thayssa.ppt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Artigo - Thayssa.pp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Artigo - Thayssa.ppt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tigo – TAES III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6724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quação de Processos para Fábricas de Soft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entador: Alexandre Vasconce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751080" y="587700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hayssa Ro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AES III – 200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ific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ábrica de Programas / Tes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ábrica de Proje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ís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mpli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odelo de Outsourc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ábrica de Compon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22520" y="5819760"/>
            <a:ext cx="121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 Artig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cessos de Desenvolv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Um processo de software é formado por um conjunto de passos de processo parcialmente ordenados, relacionados com conjuntos de artefatos, pessoas, recursos, estruturas organizacionais e restrições e tem como objetivo produzir e manter os produtos de software finais requeridos [Lonchamp 1993]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s de Proces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cessos Tradiciona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cessos Áge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 Artig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equando Processos a Fábricas de Softw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921040"/>
          <a:ext cx="8102520" cy="2922480"/>
        </p:xfrm>
        <a:graphic>
          <a:graphicData uri="http://schemas.openxmlformats.org/drawingml/2006/table">
            <a:tbl>
              <a:tblPr/>
              <a:tblGrid>
                <a:gridCol w="1116000"/>
                <a:gridCol w="788760"/>
                <a:gridCol w="817560"/>
                <a:gridCol w="854280"/>
                <a:gridCol w="844560"/>
                <a:gridCol w="874800"/>
                <a:gridCol w="741240"/>
                <a:gridCol w="968400"/>
                <a:gridCol w="1096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ge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icion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áb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ções Cur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quenas Equi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entado a Pess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âm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a alta de Qua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des Equi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efas centradas em ativ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entado a Planej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di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sour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 Artig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ância do Processo escolhido de acordo com o objetivo da Fáb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cesso não é tu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balhos futu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issertaçã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 bastante material sobre o assu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m outras iniciativas semelhantes pelo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 se tornar um Trabalho Individual mais consistente deverá buscar mais referências práticas ou tentar aplicar a teor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Arti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quisito para disciplina TAES I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ciar a pesquisa para a Dissert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r o escopo do Trabalho Individ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zer uma experiência como uma primeira submissão a um ev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 Artig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ú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ábricas de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cessos de Desenvolv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equando Processos a Fábricas de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 Artig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ábricas da índ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om de Fábricas no Bras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fissionalização do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ão holística das Fábricas de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ância do Processo de Desenvolv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 Artig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de 1969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primeira Fáb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alavras chav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Concei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lassific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lavras Chave!!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rot="480600">
            <a:off x="993960" y="24922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684000">
            <a:off x="2513520" y="220464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ção em larga esc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1421800">
            <a:off x="874800" y="34999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dulariz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720400">
            <a:off x="2793600" y="3788640"/>
            <a:ext cx="3021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controle e gerenci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1345000">
            <a:off x="857880" y="5157720"/>
            <a:ext cx="29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ção de ferrame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utomação fabr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475200">
            <a:off x="4120920" y="522936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nha de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1363000">
            <a:off x="6444000" y="35730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uso sistemá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800400">
            <a:off x="5110200" y="4797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nha de produto de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07000">
            <a:off x="6186240" y="206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ito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06064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ernandes (2004) apresenta fábricas de software como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“Um processo estruturado, controlado e melhorado de forma contínua, considerando abordagens de engenharia industrial, orientado para o atendimento a múltiplas demandas de natureza e escopo distintas, visando à geração de produtos de software, conforme os requerimentos documentados dos usuários e/ou clientes, da forma mais produtiva e econômica possível”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3240" y="5819760"/>
            <a:ext cx="799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vol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ific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4720" y="2133720"/>
            <a:ext cx="8244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23:33:17Z</dcterms:created>
  <dc:creator>Thayssa Águila da Rocha</dc:creator>
  <dc:description/>
  <dc:language>en-US</dc:language>
  <cp:lastModifiedBy>Thayssa Águila da Rocha</cp:lastModifiedBy>
  <dcterms:modified xsi:type="dcterms:W3CDTF">2004-09-09T05:47:48Z</dcterms:modified>
  <cp:revision>176</cp:revision>
  <dc:subject/>
  <dc:title>Análise Comparativa dos Métodos Ágeis</dc:title>
</cp:coreProperties>
</file>