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E31-A9A4-4839-9726-2C6C31C3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FD1-FA1D-40BC-AA72-2EF6E482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7BE-CD2A-4D12-9A7F-5D4975AA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154-9C34-452F-B9D0-EAAF9B02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CE55-D7D9-4A02-B830-36FBC9F1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5606-3A87-44F2-9CB9-27A428DE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48D7-479A-47FD-A6AE-15E2C206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47F0-36CA-499A-A56C-DDE204A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D6C6-E650-4D56-B3F0-2534312E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02E0-3C31-451D-9970-4E358D48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F3F3-9036-4377-89FA-20F94180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676-C30A-45C2-B0AF-DD1B826C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82D2-8583-48C0-B520-7865076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340F-2E83-41C2-9D6D-A812B4C6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CBC9-5522-4AC5-809F-0E31BAD7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559C-2C90-48A8-A8C1-C8E7D398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E9C8-89FE-49C7-9A16-E35EC7F5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B6A-2F5F-4A56-A064-70618814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55E-0A73-428D-ABC0-71C78B4E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314-131D-49CB-B07F-4FCF95F1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564-D533-4F99-A8E3-C4A58FF5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892-0B8D-456E-8888-EB0039A3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6A3-6848-4FE1-AE97-01313C83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A34-846C-4318-8520-CB6437D5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53EE-2654-453B-A178-C0EC22040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721E-2DA2-4F71-BEB1-5A3EFFD50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udo Comparativo de Modelos para Gestão do Conhecim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3793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– TAES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os R. S. Jún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/02/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ito atividades seqüencia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il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usão do conhecimento ou fácil acesso aos conteúdos da base de conh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sso e uso do conhecimento nas atividades cotidi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ção de novos conhecimentos (lições aprendidas, experimentos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os produtos e serviços produzidos a partir do capital intele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o de Queiroz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dagem mais abran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s, infra-estrutura, pessoas, organização e escopo do 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lhamento mais aprofund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trizes para empresas de diferentes níveis de organ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mponentes do modelo de Queiroz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525680"/>
            <a:ext cx="74170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mponentes do modelo de Queiroz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83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opo de conteú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zação de áreas estratégicas: comercial 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opo organiz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ção dos responsáveis pelas atividades de Gestã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ação, compartilhamento e a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ções opera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ramentas e recursos de apo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o e reconhecimento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siderações sobre Queiroz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bido inicialmente para empresas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 ser adaptado com pequenas alterações para organizações de outros r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o de Mazzill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 para empresas que trabalham com grande quantidade conhecimento e necessitam de uma gestão mais 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bido para empresas de alta tecn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da elementos considerados importantes para a Gestão do Conhec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mentos do modelo de Mazzill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60480" y="998640"/>
            <a:ext cx="71913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mentos do modelo de Mazzill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atégia corporativa alinhada com objetivos e comprometimentos pesso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hecimento empresa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s que operacionalizam conhecimentos internos e externos relacionados ao negó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égi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ções que agregam 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azenamento, acesso e difusão do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dades de prátic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upos de pessoas responsáveis pela Gestão do Conhecimento (interno e exter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o de Thi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 baseado em processos de negócio: PGC-M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 princip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r conhecimento de especia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ar memória organiz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to por quatro fases seqüenciais e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éis bem definidos em cada f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0" y="1362240"/>
            <a:ext cx="6468840" cy="52894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Fases do modelo de Thi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ão do Conhec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tro Trabalhos sobre Modelos de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dagem Compar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rd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ções F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Fases do modelo de Thi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ação e Conscientiza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TODOS sobre a importância da GC e do comprometimento pess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quisição do Conheci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ravés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eamento dos Process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negó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ção da Base de Conheci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 o apoio da tecnologia da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za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conhecimen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rendizagem Organizac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scando estimular a disseminação do 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Considerações sobre Thi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dagem bastante simples, mas nem por isso pouco abrangente e detal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o em processos de negócio interessante por procurar atacar aspectos de maior valor de retorno para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mpresas de ramos dive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arativo geral :: escop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eckman é o mais geral, mas pouco detalhado. Para qualquer organiz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hiel bastante geral e mais detalhado. Para empresas em g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iroz e Mazzilli mais voltados para empresas específicas (software e alta tecnolog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arativo geral :: abrangênci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eckman é pouco abran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três outros bastante abrang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os consideram a importância de tecnologia da informação e da comun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arativo geral :: divers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eck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uco detalhamento dificulta a ado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ei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cilidade para pequenas e médias empre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zz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ização do conhecimentos internos e externos. Maior dificuldade de ado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h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cilidade de adoção, porém valoriza mas não menciona como implementar mudanças culturais necessá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udo Comparativo de Modelos para Gestão do Conhecim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066320" y="33793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– TAES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os R. S. Jún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/02/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balhador no pass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or do profissional medido pela capacidade física de trabalh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03640" y="1614600"/>
            <a:ext cx="2548080" cy="2736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261792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balhador no presen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or do profissional medido por múltiplas habilidade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 principalmente CONHECIMEN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1360440" cy="223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0" y="1454040"/>
            <a:ext cx="24512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oje, nas organizações ..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compet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tividade e inovação são difer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ocupação cada vez maior com o próprio 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balhador é parte do capital intelectual d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797360"/>
            <a:ext cx="792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üênci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5445000"/>
            <a:ext cx="5513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ão do Conhec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stão do Conhecim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 ou sistemática aplicável nas organizações objetiv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obrir e disseminar os conhecimentos implícitos de cada 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os conhecimentos em benefício próprio da organ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vez mais empresas tomam consciência da importâ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odelos par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estão do Conheciment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ência de modelos padron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tivas diversas de pesquisadores 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tro modelos compar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kman (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iroz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zzilli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l (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o de Beckm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bastante amplo, voltado para organizações em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 composto por oito atividades  seqüenc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ividades pouco detalh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“o que” e pouco “com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ito atividades seqüenciai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ntrar competências essenciais ao sucesso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e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quirir conhecimentos e experiências nas fontes de conhecimento das áreas de inte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agem dos conhecimentos para definir o que deve fazer parte da memória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ze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ão, de forma organizada, do conhecimento selecionado na base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21:18:51Z</dcterms:created>
  <dc:creator>Universal Midias</dc:creator>
  <dc:description/>
  <dc:language>en-US</dc:language>
  <cp:lastModifiedBy>crsj</cp:lastModifiedBy>
  <dcterms:modified xsi:type="dcterms:W3CDTF">2004-02-20T12:31:10Z</dcterms:modified>
  <cp:revision>87</cp:revision>
  <dc:subject/>
  <dc:title>Slide 1</dc:title>
</cp:coreProperties>
</file>