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EFA9-715C-4010-BCFD-BAF3CC13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FBA9-C08C-4551-9D05-C6FABD61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7480-A2E9-4A7E-B2C8-AAF3F5DE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ABA1-C8DA-4A95-8711-0D49FDF8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291C-9EA4-4DBC-A091-EC64747A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ABD4-3C0F-4596-AD84-E5CB26DC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F48C-F730-4EF2-A295-7BF4855C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F046-99EB-4658-8488-63665893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BF68-30BE-4893-BC27-485E5456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3DE6-9729-498A-A2E1-E264068E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D1C5-CBA6-4DC7-900F-1F9DCEEB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C9B8-12FB-45AF-975A-35BE927F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D79A-9867-445A-A811-1B3EA0A4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69D8-AC2A-46E0-BDA0-0F15AF07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3C9E-2EFE-4701-9063-994369E0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3C2A-E953-4FC9-84E5-26EC2F5D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D1CE-DABC-4188-8625-8B843969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A50F-4EC4-44FC-99BD-CE918B44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7822-F952-41CE-AE7E-F176D3E2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D1B1-4747-4746-8AE8-5EB5CC19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39DD-978A-4A57-8253-F86C8ED8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B790-9236-4C8D-B8CE-20492F1C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F8F9-935B-4505-AC37-E06ECD14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D15C-D41F-45DB-8EB5-5D9A8F03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Tahoma"/>
              </a:rPr>
              <a:t>&lt;footer&gt;</a:t>
            </a:r>
            <a:r>
              <a:rPr b="0" i="1" lang="en-US" sz="1400" spc="-1" strike="noStrike">
                <a:solidFill>
                  <a:srgbClr val="333399"/>
                </a:solidFill>
                <a:latin typeface="Tahoma"/>
              </a:rPr>
              <a:t>Cristine Gusm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05FE-7DCC-4FED-97D1-4C8B06C4E8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73AD-2402-4B49-BD08-DA9A461FC0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sei.cmu.edu/programs/sepm/risk/" TargetMode="External"/><Relationship Id="rId2" Type="http://schemas.openxmlformats.org/officeDocument/2006/relationships/hyperlink" Target="http://www.pmi.org/pmi/publictn/pmboktoc.htm" TargetMode="External"/><Relationship Id="rId3" Type="http://schemas.openxmlformats.org/officeDocument/2006/relationships/hyperlink" Target="http://www.pmi.org/pmi/publictn/pmboktoc.htm" TargetMode="External"/><Relationship Id="rId4" Type="http://schemas.openxmlformats.org/officeDocument/2006/relationships/hyperlink" Target="http://www.pmi.org/pmi/publictn/pmboktoc.htm" TargetMode="External"/><Relationship Id="rId5" Type="http://schemas.openxmlformats.org/officeDocument/2006/relationships/hyperlink" Target="http://www.pmi.org/pmi/publictn/pmboktoc.htm" TargetMode="External"/><Relationship Id="rId6" Type="http://schemas.openxmlformats.org/officeDocument/2006/relationships/hyperlink" Target="http://www.pmi.org/pmi/publictn/pmboktoc.htm" TargetMode="External"/><Relationship Id="rId7" Type="http://schemas.openxmlformats.org/officeDocument/2006/relationships/hyperlink" Target="http://www.pmi.org/pmi/publictn/pmboktoc.htm" TargetMode="External"/><Relationship Id="rId8" Type="http://schemas.openxmlformats.org/officeDocument/2006/relationships/hyperlink" Target="http://www.pmi.org/pmi/publictn/pmboktoc.htm" TargetMode="External"/><Relationship Id="rId9" Type="http://schemas.openxmlformats.org/officeDocument/2006/relationships/hyperlink" Target="http://www.pmi.org/pmi/publictn/pmboktoc.htm" TargetMode="External"/><Relationship Id="rId10" Type="http://schemas.openxmlformats.org/officeDocument/2006/relationships/hyperlink" Target="http://www.pmi.org/pmi/publictn/pmboktoc.htm" TargetMode="External"/><Relationship Id="rId11" Type="http://schemas.openxmlformats.org/officeDocument/2006/relationships/hyperlink" Target="http://www.pmi.org/pmi/publictn/pmboktoc.htm" TargetMode="External"/><Relationship Id="rId1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99"/>
                </a:solidFill>
                <a:latin typeface="Tahoma"/>
              </a:rPr>
              <a:t>Atividades de Gerência de Risco em Normas ISO, modelo CMMI e PMBOK: uma análise comparativ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680" y="35809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niversidade Federal de Pernambu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grama de Pós-Gradu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entro de Informát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gosto 200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A430-6A55-4E72-9F81-3CC234D9F7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Abordagens para Gerência de Ris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rma ISO 9000-3 (199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uia de aplicação da norma ISO 9001 para desenvolvimento, fornecimento e manutenção de softwa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estina-se a fornecer orientação quando um contrato entre duas partes exigir a demonstração da capacidade de um fornecedor em desenvolver, fornecer e manter produtos de softwa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 gerência de riscos é um processo implícito na gestão de contr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4685-4F0D-45B1-A841-CBD7BEB74F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Abordagens para Gerência de Ris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rmas ISO 12207 (1995) e ISO 15504 (199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SO 12207 descreve processos, atividades e tarefas que envolvem o fornecimento, desenvolvimento, operação e manutenção de produtos de softwa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SO 15504 - Projeto SPICE - Processo Gerenciar Ris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B4C1-E3E0-4245-8262-67617AC4B1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Abordagens para Gerência de Ris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odelo CMMI vs.1.1 (20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 elemento estruturador do modelo CMMI é a Área de Process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rupo de atividades relacionadas que são executadas para alcançar um conjunto de objetivos (Genéricos e específicos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specifica objetivos que descrevem os resultados de sucesso da aplicação e as atividades requeridas para o alcance das metas defini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erência de Projeto - Avançado -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Gerência de Risc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oco bem definido dos riscos específicos de cada área de process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A10A-18A9-4BE7-83B3-541893863B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Abordagens para Gerência de Ris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uia PMBOK (20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gerência de risco compreende processos relativos a identificação, análise e resposta, para os riscos envolvidos num projeto.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clui maximização dos resultados dos eventos positivos e minimização das conseqüências dos eventos adversos.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A608-776E-45E2-8F86-D9372281E4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Estudo Comparati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tividades do Modelo de Gerência de Risco do S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dentificar Ris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nalisar Ris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lanejar Respostas aos Ris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onitorar Ris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trolar Ris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B82F-9DB5-4CF7-9BC3-B5F4BB3DA8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Estudo Comparati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s definições dos processos diferenciam-se em relação à nomenclatura utilizada para a descrição das atividades, subdivisão das atividades em tarefas e definição do escopo de algumas ativ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s abordagens do CMMI e PMBOK apresentam, diferentemente do SEI, uma preocupação em definir um plano de gerência de risco, ou seja, a definição dos recursos a serem empregados no proces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finição de planejamento do escopo da gerência de risco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terminação das origens e as categorias de risco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finição de parâmet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9ACD-EEA6-4208-B292-7627667D0B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Identificar Ris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I, normas ISO, CMMI e PMB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m o mesmo escopo em todas as abordagens tratadas neste estu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Identificação dos riscos (custos, cronograma, desempenho, todas as fases do ciclo de vida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Documentação dos riscos (condições e possíveis conseqüências)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E01460_" descr=""/>
          <p:cNvPicPr/>
          <p:nvPr/>
        </p:nvPicPr>
        <p:blipFill>
          <a:blip r:embed="rId1"/>
          <a:stretch/>
        </p:blipFill>
        <p:spPr>
          <a:xfrm>
            <a:off x="228600" y="4114800"/>
            <a:ext cx="1947960" cy="242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1246-F6BD-4C07-BB8F-8DF817D0CB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Analisar Ris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I, Normas ISO, CMMI e PMB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iorizar, estimar e classificar ris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Todas as abordagens definem a necessidade de medir os risco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Aparece como atividade única em todas as abordagens com exceção do PMBOK, onde é tratada de forma qualitativa e quantitativ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E01616_" descr=""/>
          <p:cNvPicPr/>
          <p:nvPr/>
        </p:nvPicPr>
        <p:blipFill>
          <a:blip r:embed="rId1"/>
          <a:stretch/>
        </p:blipFill>
        <p:spPr>
          <a:xfrm>
            <a:off x="6477120" y="152280"/>
            <a:ext cx="2438280" cy="228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023D-78E1-4D7D-B636-ABB3B6AC2D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Planejar respostas aos Ris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I, Normas ISO, CMMI e PMB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esta atividade são desenvolvidas as estratégias para mitigação dos riscos e os planos de contingências, que aparecem em todas as abordage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penas o CMMI faz referência a uma forma de tratamento dos riscos que é a reduçã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E01561_" descr=""/>
          <p:cNvPicPr/>
          <p:nvPr/>
        </p:nvPicPr>
        <p:blipFill>
          <a:blip r:embed="rId1"/>
          <a:stretch/>
        </p:blipFill>
        <p:spPr>
          <a:xfrm>
            <a:off x="152280" y="4724280"/>
            <a:ext cx="2895840" cy="192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21DA-54BF-464D-A1DD-1AB89880E2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Monitorar Ris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É a que mais se diferencia entre as abordage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SEI - As informações do projeto devem ser precisas e freqüentes para habilitar a gerência de risco a atuar de forma preventiva e não reativa a evento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PMBOK - deixa implícita a necessidade de ações corretivas, como replanejament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Normas ISO - utilizam uma abordagem de melhoria contínua dentro do processo de gerência de risco (baseadas no ciclo PDCA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MMI - induz a utilização da redução de riscos como forma de monitorament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BS02064_" descr=""/>
          <p:cNvPicPr/>
          <p:nvPr/>
        </p:nvPicPr>
        <p:blipFill>
          <a:blip r:embed="rId1"/>
          <a:stretch/>
        </p:blipFill>
        <p:spPr>
          <a:xfrm>
            <a:off x="7086600" y="304920"/>
            <a:ext cx="1720800" cy="171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58FE-0117-448E-AED1-55DB5382A0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Roteir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otiv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bordagens para Gerência de Ris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tudo compara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rabalhos Futu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E01605_" descr=""/>
          <p:cNvPicPr/>
          <p:nvPr/>
        </p:nvPicPr>
        <p:blipFill>
          <a:blip r:embed="rId1"/>
          <a:stretch/>
        </p:blipFill>
        <p:spPr>
          <a:xfrm>
            <a:off x="4191120" y="609480"/>
            <a:ext cx="4583160" cy="295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8533-5004-446B-9DB6-0900E51859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Controlar Ris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trolar Ris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 exceção do SEI, esta atividade em todas as outras abordagens é tratada conjuntamente com a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monitoração dos riscos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 controle é feito através de ações corretivas, a partir da determinação de eventuais desvios do que foi planej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E01496_" descr=""/>
          <p:cNvPicPr/>
          <p:nvPr/>
        </p:nvPicPr>
        <p:blipFill>
          <a:blip r:embed="rId1"/>
          <a:stretch/>
        </p:blipFill>
        <p:spPr>
          <a:xfrm>
            <a:off x="152280" y="4191120"/>
            <a:ext cx="2024280" cy="240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11F-A8E4-4371-8309-2FE1AAFE75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Conclusõ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e uma forma geral as atividades definidas para a gerência de risco, em todas as abordagens estudadas, são muito próxim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 gerência de riscos é um esforço para alcançar a maturidade organizaciona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Quanto mais organizado for o processo, menor será o risco de falh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s características da gerência de risco podem reforçar a natureza sistemática e proativa da gerência de projetos tornando-a eficiente e efica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erspectiva global, visão orientada ao futuro, comunicação aberta, gerenciamento integrado, processo contínu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EBAF-6042-43F4-B4D5-7F533ED324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Conclusõ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m nenhuma das abordagens estudadas existe a indicação de processos e métodos que possam ser utilizados pelas organizaçõ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ahoma"/>
              </a:rPr>
              <a:t>A gerência de risco adiciona à gerência de projetos uma abordagem estruturada para identificar, analisar, planejar (perspectiva de se obter alternativas e contingências), monitorar e controlar ris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6FAF-0E19-4A06-9C63-35CB49B361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Trabalhos Futur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studo aprofundado (comparativo) entre as atividades de gerência de risco propostas pelo CMMI e PMBO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tividades bastante simila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studo dos riscos inerentes a aplicação de uma abordag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iscos que a organização terá que trat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nálise crítica dos riscos numa visão de proces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studo da gerência de risco em processos (RUP, OPEN, CRYSTAL,..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dentificação de fatores de riscos em fases do ciclo de vida de desenvolvimento de softwa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B594-5436-4033-BE6E-CCF692C28E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Bibliograf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ESSMAN, Roger S.- Engenharia de Software – São Paulo: Ed. Makron Books, 1995.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ARETTE, R. N. Carole Edrich – Implementing Risk Management Best Practices, 20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ALL, Elaine M. Managing Risk – Methods for Software Systems Development – Addison Wesley, 1998.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ARNEGIE MELLON – Software Engineering Institute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http://www.sei.cmu.edu/programs/sepm/risk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MBOK (Project Manager Body of Knowledge)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2"/>
              </a:rPr>
              <a:t>http://www.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3"/>
              </a:rPr>
              <a:t>pmi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4"/>
              </a:rPr>
              <a:t>.org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5"/>
              </a:rPr>
              <a:t>pmi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6"/>
              </a:rPr>
              <a:t>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7"/>
              </a:rPr>
              <a:t>publictn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8"/>
              </a:rPr>
              <a:t>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9"/>
              </a:rPr>
              <a:t>pmboktoc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0"/>
              </a:rPr>
              <a:t>.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1"/>
              </a:rPr>
              <a:t>ht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MMI Product Developmente Team.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apability Maturity Model Integration(CMMI)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Versão 1.1 (CMU/SEI-2002-TR-001), Pittsburgh, PA. Software Engineering Institute, Carnegie Mellon University, Dezembro de 2001. http://www-preview.sei.cmu.edu/pub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F997-E782-4BBF-A75B-A374F1F899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 algn="ctr">
              <a:lnSpc>
                <a:spcPct val="85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pt-BR" sz="2400" spc="-1" strike="noStrike">
                <a:solidFill>
                  <a:srgbClr val="333399"/>
                </a:solidFill>
                <a:latin typeface="Tahoma"/>
              </a:rPr>
              <a:t>Atualmente, é uma habilidade das organizações entender e gerenciar o espectro completo de riscos, que define o limite entre o sucesso e o fracasso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3399"/>
                </a:solidFill>
                <a:latin typeface="Tahoma"/>
              </a:rPr>
              <a:t>Robert Charet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“</a:t>
            </a:r>
            <a:r>
              <a:rPr b="0" i="1" lang="pt-BR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Risco por si só não é ruim; risco é essencial para o progresso, e o fracasso é muitas vezes parte do aprendizado. Mas precisamos aprender a equilibrar as possibilidades negativas da ocorrência de riscos contra os benefícios potenciais que estão associados à oportunidade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3333cc"/>
                </a:solidFill>
                <a:latin typeface="Tahoma"/>
                <a:ea typeface="Times New Roman"/>
              </a:rPr>
              <a:t>                                                                </a:t>
            </a:r>
            <a:r>
              <a:rPr b="0" i="1" lang="pt-BR" sz="2200" spc="-1" strike="noStrike">
                <a:solidFill>
                  <a:srgbClr val="3333cc"/>
                </a:solidFill>
                <a:latin typeface="Tahoma"/>
                <a:ea typeface="Times New Roman"/>
              </a:rPr>
              <a:t>Roger Van Scoy</a:t>
            </a:r>
            <a:r>
              <a:rPr b="0" i="1" lang="pt-BR" sz="2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72F7-5433-40F7-B21E-A28BD16117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Motivaçã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desenvolvimento de software pode ser considerado uma atividade de risc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Vários aut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profundar conhecimento das atividades de gerência de risco, dentro da gerência de projetos, como forma de garantir a qualidade de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A59A-FA21-4334-9215-ADCB626D3C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Objeti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tudo comparativo das atividades de Gerência de Risco do modelo de gerência de risco do SEI (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oftware Engineering Institute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 e normas ISO, modelo CMMI e PMBOK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850C-0370-4B8F-9D28-45097D38BC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Introduçã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tividades realiz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elecionar modelo de gerência de risco (padrão adotad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studar as abordagens para gerência de ris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SO 9000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SO 12207 e ISO 155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odelo CMMI vs 1.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uia PMBOK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nálise comparativa das atividades de cada abordagem em relação ao modelo selecion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rabalhos futu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6C8F-FF78-40E7-8556-4B894BC1D2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Introduçã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is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é probabilidade de insucesso, de malogro de determinada coisa, em função de acontecimento eventual, incerto, cuja ocorrência não depende exclusivamente da vontade dos interessados.[Houaiss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é qualquer variável, que pode ou não estar sob controle direto da equipe de desenvolvimento. Caracteriza-se pela incerteza e pela perda. Composto por três elementos: evento, probabilidade e impacto [ESW]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BD07175_" descr=""/>
          <p:cNvPicPr/>
          <p:nvPr/>
        </p:nvPicPr>
        <p:blipFill>
          <a:blip r:embed="rId1"/>
          <a:stretch/>
        </p:blipFill>
        <p:spPr>
          <a:xfrm>
            <a:off x="6248520" y="304920"/>
            <a:ext cx="2666880" cy="176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6AC5-4A6B-4397-A2E5-01E5D280A5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Introduçã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ipos de Ris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iscos de Proje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meaçam o plano do pro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iscos Técn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meaçam a qualidade do produ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iscos de Negóc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meaçam a viabilidade do software ser desenvolvi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47E2-97AD-447E-9B1E-3F9DB5CAF7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Introduçã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erência de Ris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teração humana com o amb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lanejamento de estratégias financei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trole de Contas Públ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iversas áreas da humanid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ngenharia d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Ajudar a equipe de software a entender e gerenciar incertezas durante o processo de desenvolvimento de software, visando a garantia da qualida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533520"/>
            <a:ext cx="4724280" cy="1922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A gerência de risco é uma prática com processos, métodos, e ferramentas para controlar riscos em um projeto [SEI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E24D-9A43-40DD-A4F7-D6A047C661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Modelo adotado - SEI Gerência de Ris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1523880"/>
            <a:ext cx="8229240" cy="5114880"/>
            <a:chOff x="914400" y="1523880"/>
            <a:chExt cx="8229240" cy="5114880"/>
          </a:xfrm>
        </p:grpSpPr>
        <p:grpSp>
          <p:nvGrpSpPr>
            <p:cNvPr id="120" name=""/>
            <p:cNvGrpSpPr/>
            <p:nvPr/>
          </p:nvGrpSpPr>
          <p:grpSpPr>
            <a:xfrm>
              <a:off x="3962520" y="2971800"/>
              <a:ext cx="2286000" cy="2133720"/>
              <a:chOff x="3962520" y="2971800"/>
              <a:chExt cx="2286000" cy="2133720"/>
            </a:xfrm>
          </p:grpSpPr>
          <p:sp>
            <p:nvSpPr>
              <p:cNvPr id="121" name=""/>
              <p:cNvSpPr/>
              <p:nvPr/>
            </p:nvSpPr>
            <p:spPr>
              <a:xfrm>
                <a:off x="3962520" y="2971800"/>
                <a:ext cx="2286000" cy="2133720"/>
              </a:xfrm>
              <a:prstGeom prst="ellipse">
                <a:avLst/>
              </a:prstGeom>
              <a:solidFill>
                <a:srgbClr val="ffcf0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00400" y="3753720"/>
                <a:ext cx="214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0000"/>
                    </a:solidFill>
                    <a:latin typeface="Times New Roman"/>
                  </a:rPr>
                  <a:t>Comunica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918760" y="2759400"/>
              <a:ext cx="3224880" cy="1898280"/>
              <a:chOff x="5918760" y="2759400"/>
              <a:chExt cx="3224880" cy="1898280"/>
            </a:xfrm>
          </p:grpSpPr>
          <p:sp>
            <p:nvSpPr>
              <p:cNvPr id="124" name=""/>
              <p:cNvSpPr/>
              <p:nvPr/>
            </p:nvSpPr>
            <p:spPr>
              <a:xfrm rot="3672000">
                <a:off x="5676840" y="3314880"/>
                <a:ext cx="1447920" cy="304560"/>
              </a:xfrm>
              <a:custGeom>
                <a:avLst/>
                <a:gdLst>
                  <a:gd name="textAreaLeft" fmla="*/ 253440 w 1447920"/>
                  <a:gd name="textAreaRight" fmla="*/ 1049760 w 144792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629400" y="2819520"/>
                <a:ext cx="2514240" cy="183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 u="sng">
                    <a:solidFill>
                      <a:srgbClr val="333399"/>
                    </a:solidFill>
                    <a:uFillTx/>
                    <a:latin typeface="Times New Roman"/>
                  </a:rPr>
                  <a:t>Identific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Buscar e localizar os riscos antes que eles se tornem problemas reai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382360" y="4479480"/>
              <a:ext cx="3456360" cy="2159280"/>
              <a:chOff x="5382360" y="4479480"/>
              <a:chExt cx="3456360" cy="2159280"/>
            </a:xfrm>
          </p:grpSpPr>
          <p:sp>
            <p:nvSpPr>
              <p:cNvPr id="127" name=""/>
              <p:cNvSpPr/>
              <p:nvPr/>
            </p:nvSpPr>
            <p:spPr>
              <a:xfrm rot="8637600">
                <a:off x="5333400" y="4875840"/>
                <a:ext cx="1447560" cy="304920"/>
              </a:xfrm>
              <a:custGeom>
                <a:avLst/>
                <a:gdLst>
                  <a:gd name="textAreaLeft" fmla="*/ 253080 w 1447560"/>
                  <a:gd name="textAreaRight" fmla="*/ 1049400 w 1447560"/>
                  <a:gd name="textAreaTop" fmla="*/ 40680 h 304920"/>
                  <a:gd name="textAreaBottom" fmla="*/ 26424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324480" y="4800600"/>
                <a:ext cx="2514240" cy="183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Analis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Transformar os dados dos riscos em informações para tomada de decisã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523880" y="4604040"/>
              <a:ext cx="3481560" cy="1882440"/>
              <a:chOff x="1523880" y="4604040"/>
              <a:chExt cx="3481560" cy="1882440"/>
            </a:xfrm>
          </p:grpSpPr>
          <p:sp>
            <p:nvSpPr>
              <p:cNvPr id="130" name=""/>
              <p:cNvSpPr/>
              <p:nvPr/>
            </p:nvSpPr>
            <p:spPr>
              <a:xfrm rot="12644400">
                <a:off x="3581280" y="4952520"/>
                <a:ext cx="1447920" cy="304920"/>
              </a:xfrm>
              <a:custGeom>
                <a:avLst/>
                <a:gdLst>
                  <a:gd name="textAreaLeft" fmla="*/ 253440 w 1447920"/>
                  <a:gd name="textAreaRight" fmla="*/ 1049760 w 1447920"/>
                  <a:gd name="textAreaTop" fmla="*/ 40680 h 304920"/>
                  <a:gd name="textAreaBottom" fmla="*/ 26424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523880" y="4648320"/>
                <a:ext cx="2819520" cy="183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 u="sng">
                    <a:solidFill>
                      <a:srgbClr val="00e4a8"/>
                    </a:solidFill>
                    <a:uFillTx/>
                    <a:latin typeface="Times New Roman"/>
                  </a:rPr>
                  <a:t>Planej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Traduzir e implementar as informações dos riscos em ações de decisão e resolução de risc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914400" y="2819520"/>
              <a:ext cx="2908440" cy="1754640"/>
              <a:chOff x="914400" y="2819520"/>
              <a:chExt cx="2908440" cy="1754640"/>
            </a:xfrm>
          </p:grpSpPr>
          <p:sp>
            <p:nvSpPr>
              <p:cNvPr id="133" name=""/>
              <p:cNvSpPr/>
              <p:nvPr/>
            </p:nvSpPr>
            <p:spPr>
              <a:xfrm rot="16260600">
                <a:off x="2933640" y="3695400"/>
                <a:ext cx="1447560" cy="304560"/>
              </a:xfrm>
              <a:custGeom>
                <a:avLst/>
                <a:gdLst>
                  <a:gd name="textAreaLeft" fmla="*/ 253080 w 1447560"/>
                  <a:gd name="textAreaRight" fmla="*/ 1049400 w 144756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14400" y="2819520"/>
                <a:ext cx="2514600" cy="153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 u="sng">
                    <a:solidFill>
                      <a:srgbClr val="3333cc"/>
                    </a:solidFill>
                    <a:uFillTx/>
                    <a:latin typeface="Times New Roman"/>
                  </a:rPr>
                  <a:t>Monitor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Monitorar indicadores dos riscos e seus planos de resoluçã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098960" y="1523880"/>
              <a:ext cx="4816440" cy="1517400"/>
              <a:chOff x="4098960" y="1523880"/>
              <a:chExt cx="4816440" cy="1517400"/>
            </a:xfrm>
          </p:grpSpPr>
          <p:sp>
            <p:nvSpPr>
              <p:cNvPr id="136" name=""/>
              <p:cNvSpPr/>
              <p:nvPr/>
            </p:nvSpPr>
            <p:spPr>
              <a:xfrm rot="20887200">
                <a:off x="4114800" y="2590560"/>
                <a:ext cx="1447560" cy="304920"/>
              </a:xfrm>
              <a:custGeom>
                <a:avLst/>
                <a:gdLst>
                  <a:gd name="textAreaLeft" fmla="*/ 253080 w 1447560"/>
                  <a:gd name="textAreaRight" fmla="*/ 1049400 w 1447560"/>
                  <a:gd name="textAreaTop" fmla="*/ 40680 h 304920"/>
                  <a:gd name="textAreaBottom" fmla="*/ 26424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1c1c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410080" y="1523880"/>
                <a:ext cx="3505320" cy="122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 u="sng">
                    <a:solidFill>
                      <a:srgbClr val="1c1c1c"/>
                    </a:solidFill>
                    <a:uFillTx/>
                    <a:latin typeface="Times New Roman"/>
                  </a:rPr>
                  <a:t>Control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Corrigir os desvios para os planos de resolução dos risc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0" y="1752480"/>
            <a:ext cx="3657600" cy="976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Abordagem utilizada desde 19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Atividades contínuas, concorrentes e interativa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8B8E-BBC4-46CA-98D2-3A93504876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2T16:30:06Z</dcterms:created>
  <dc:creator>cristine.gusmao</dc:creator>
  <dc:description/>
  <dc:language>en-US</dc:language>
  <cp:lastModifiedBy>Cristine Gusmão</cp:lastModifiedBy>
  <dcterms:modified xsi:type="dcterms:W3CDTF">2003-08-18T02:12:21Z</dcterms:modified>
  <cp:revision>93</cp:revision>
  <dc:subject/>
  <dc:title>Atividades de Gerência de Riscos em Normas ISO, modelo CMMI e PMBOK: um análise crítica</dc:title>
</cp:coreProperties>
</file>