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44E0E-4598-437F-8C77-8479577E2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DCB6-163F-4D5C-802F-4981273E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8667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7280" y="4181400"/>
            <a:ext cx="8667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2929-79EF-47AB-8069-B37F1100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4229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8960" y="1912680"/>
            <a:ext cx="4229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7280" y="4181400"/>
            <a:ext cx="4229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88960" y="4181400"/>
            <a:ext cx="4229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5F17-C04B-4CC3-BF3B-E43E622B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2790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8040" y="1912680"/>
            <a:ext cx="2790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440" y="1912680"/>
            <a:ext cx="2790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7280" y="4181400"/>
            <a:ext cx="2790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8040" y="4181400"/>
            <a:ext cx="2790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8440" y="4181400"/>
            <a:ext cx="2790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E0D0-9AD6-43A1-9A35-C82A493F5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7280" y="1912680"/>
            <a:ext cx="8667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0FD6-5616-481E-A06D-0BE291CF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8667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AAAB-BDD6-4238-9B06-774C333C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4229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88960" y="1912680"/>
            <a:ext cx="4229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61FA-5400-4D9D-8E20-3EDDCBA0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8D28-EE14-4BFA-83D9-7A67E2B1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48096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3280-95AF-458A-913B-E3F0FA55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4229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88960" y="1912680"/>
            <a:ext cx="4229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7280" y="4181400"/>
            <a:ext cx="4229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5CE5-7195-46F5-8BA2-5985155E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4229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8960" y="1912680"/>
            <a:ext cx="4229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88960" y="4181400"/>
            <a:ext cx="4229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CE05-9BDF-4DC4-85C6-71628BB3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4229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8960" y="1912680"/>
            <a:ext cx="4229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7280" y="4181400"/>
            <a:ext cx="8667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876A-2B23-49DB-9CA4-DA0D54C7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7280" y="1912680"/>
            <a:ext cx="8667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3394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52788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1000" y="6527880"/>
            <a:ext cx="31878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55000" y="652788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C3573-60BB-47DF-8C97-9B6764882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9440" y="1134720"/>
            <a:ext cx="906948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scritores Acústicos 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&amp;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nscri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47280" y="1956960"/>
            <a:ext cx="867420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Giordano Cab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485640"/>
            <a:ext cx="90662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tração Automática de Descritores Acús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7640" y="1912680"/>
            <a:ext cx="8670960" cy="42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istema na verdade semi-automá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2840" indent="-5684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Serve também como ambiente de exploraçã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asta biblioteca de características acú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Biblioteca de classific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vita a busca exaustiva pelas características mais apropriadas e posteriores classific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valiação objetiva dos resul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525240"/>
            <a:ext cx="90662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47640" y="1444320"/>
            <a:ext cx="8670960" cy="42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istema de extração automática de descri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senvolvido pelo SONY CSL Pa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EDS" descr=""/>
          <p:cNvPicPr/>
          <p:nvPr/>
        </p:nvPicPr>
        <p:blipFill>
          <a:blip r:embed=""/>
          <a:stretch/>
        </p:blipFill>
        <p:spPr>
          <a:xfrm>
            <a:off x="2052720" y="2700360"/>
            <a:ext cx="5829120" cy="43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525240"/>
            <a:ext cx="90662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7640" y="1912680"/>
            <a:ext cx="8670960" cy="46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5720" indent="-674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riação de bases de d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5720" indent="-674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ploração de característic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7720" indent="-5626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Vendo como se ajustam às bases de dad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75720" indent="-674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Busca gené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7720" indent="-5626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De Acordo com Padrõ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75720" indent="-674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scolha de classific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7720" indent="-5626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KNN, GMM, Weka derivated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75720" indent="-674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valiaçã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525240"/>
            <a:ext cx="90662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adr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9040" y="1547280"/>
            <a:ext cx="8670960" cy="543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5720" indent="-674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x - sinal (áudi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5720" indent="-674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– ampl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5720" indent="-674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 – frequê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5720" indent="-674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 – t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5720" indent="-674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:a, f:a – tempo por amplitude, frequência por ampl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5720" indent="-674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- ve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5720" indent="-674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!_ - qualquer oper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5720" indent="-674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*_ qualquer sequência de oper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525240"/>
            <a:ext cx="90662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47640" y="1912680"/>
            <a:ext cx="8670960" cy="42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emplos de 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2840" indent="-5684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HarmonicSpectralDeviation(Log10(FilterBank(x, 10.0))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emplos de padr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2840" indent="-5684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!_a(x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1482840" indent="-5684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!_Va(!_Vt:a(x)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1482840" indent="-5684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*_Va(Mfcc(x)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201600"/>
            <a:ext cx="906624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nscri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7640" y="1912680"/>
            <a:ext cx="8670960" cy="4257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tela%20analysis" descr=""/>
          <p:cNvPicPr/>
          <p:nvPr/>
        </p:nvPicPr>
        <p:blipFill>
          <a:blip r:embed=""/>
          <a:stretch/>
        </p:blipFill>
        <p:spPr>
          <a:xfrm>
            <a:off x="-34920" y="1260360"/>
            <a:ext cx="10439280" cy="62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485640"/>
            <a:ext cx="90662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mo extrair informação (data mining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47640" y="1913040"/>
            <a:ext cx="8670960" cy="50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atriz(M x 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2840" indent="-5684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Valores contínuos das características no temp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256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ista de eventos, com respectivo t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2840" indent="-5684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&lt;0:0:0:120, C7M&gt;, &lt;0:0:3:940, Dm7&gt;, &lt;0:0:5:710, G7&gt;, &lt;0:0:7:815, C&gt; ..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256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255680" y="3122640"/>
            <a:ext cx="7658280" cy="15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525240"/>
            <a:ext cx="90662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oluções Iniciai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7640" y="1912680"/>
            <a:ext cx="8670960" cy="42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gras definidas à mã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2840" indent="-5684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Se durar mais que X segund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1482840" indent="-5684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Se intensidade for maior que Y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1482840" indent="-5684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Se seguirem algum padrão conhecido (ex.: tríade básica de um acorde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1482840" indent="-5684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etc..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1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1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1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1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1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525240"/>
            <a:ext cx="90662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egmentação + Classific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7640" y="1912680"/>
            <a:ext cx="8670960" cy="42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olução ainda si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2840" indent="-5684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Encarar segmentação e classificação como atividades separada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gm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2840" indent="-5684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Inúmeras soluções possívei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1482840" indent="-5684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Solução simples: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2286000" indent="-45576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peak(derivation(!_a(x))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525240"/>
            <a:ext cx="90662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egment Lab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47640" y="1913040"/>
            <a:ext cx="86709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7160" indent="-676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déia: agregar em uma mesma classe frames que mantenham coerê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7160" indent="-676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core, que leva em consideração o ajuste a templ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9160" indent="-5626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Score = Correct – Missed - Wrong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77160" indent="-676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Bom em agreg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7160" indent="-676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ão leva consideração probabilidades de mudanças de es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8060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Lembrando Matlab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47640" y="1913040"/>
            <a:ext cx="8670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5720" indent="-674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[Buffer, frameRate, numBits] = wavread('FileName'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5720" indent="-674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Buffer(x:y) referencia parte do array, do x-ésimo ao y-ésimo ele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7720" indent="-5626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ex.: matrix(1:3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75720" indent="-674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or i=1:length(Buff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7720" indent="-5626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Do something with Buffer(i);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75720" indent="-674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2920" y="525240"/>
            <a:ext cx="906444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delos Probabilís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47640" y="1697040"/>
            <a:ext cx="866952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682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ais usado: H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4280" indent="-5684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Transcrição é uma das utilidad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4360" indent="-6829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bservação (Ocorrências visíve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4280" indent="-5684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Ex.: características acústica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4360" indent="-6829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amada Oculta (Estados que explicariam as observaçõ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4280" indent="-5684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Acordes, notas, ..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525240"/>
            <a:ext cx="906444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H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47640" y="1407600"/>
            <a:ext cx="8669520" cy="606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682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babilidade à pri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4280" indent="-5684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C é muito mais provável de acontecer do que F#º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4360" indent="-682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babilidade 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4280" indent="-5684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Dada a observação (características extraídas), é bastante provável que seja um Dm, mas pouco provável que seja um G#7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4360" indent="-682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babilidade de transi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4280" indent="-5684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Após um G7, é muito provável haver um C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4360" indent="-6829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blema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4280" indent="-5684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Descobrir melhor caminho (cada um multiplicando todas as probabilidades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4360" indent="-6829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olução efi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4280" indent="-5684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Viterbi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525240"/>
            <a:ext cx="906444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H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490400"/>
            <a:ext cx="8669520" cy="54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682920">
              <a:lnSpc>
                <a:spcPct val="95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ados exemplos transcr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4280" indent="-568440">
              <a:lnSpc>
                <a:spcPct val="95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Áudi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1484280" indent="-568440">
              <a:lnSpc>
                <a:spcPct val="95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Características (PCP, FFT, ...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1484280" indent="-568440">
              <a:lnSpc>
                <a:spcPct val="95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Classes (acordes, notas, ...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4360" indent="-682920">
              <a:lnSpc>
                <a:spcPct val="95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babilidade à pri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4280" indent="-568440">
              <a:lnSpc>
                <a:spcPct val="95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Número de ocorrências de cada acorde / Número de ocorrências tota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4360" indent="-682920">
              <a:lnSpc>
                <a:spcPct val="95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babilidade 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4280" indent="-568440">
              <a:lnSpc>
                <a:spcPct val="95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O quanto um template de cada acorde “bate” com a característica extraída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4360" indent="-682920">
              <a:lnSpc>
                <a:spcPct val="95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babilidade de transi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4280" indent="-568440">
              <a:lnSpc>
                <a:spcPct val="95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Matriz de transiçã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525240"/>
            <a:ext cx="906444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HM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47640" y="1913040"/>
            <a:ext cx="866952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iterb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viterbi" descr=""/>
          <p:cNvPicPr/>
          <p:nvPr/>
        </p:nvPicPr>
        <p:blipFill>
          <a:blip r:embed=""/>
          <a:stretch/>
        </p:blipFill>
        <p:spPr>
          <a:xfrm>
            <a:off x="720720" y="2521080"/>
            <a:ext cx="78580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20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mbrando anál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0000" y="2014200"/>
            <a:ext cx="899964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itura de buf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posição (overlapping) de buf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elas antiali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ção de características acústicas (audio featur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569880"/>
            <a:ext cx="906624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912680"/>
            <a:ext cx="8670960" cy="4257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segmentacao%20256" descr=""/>
          <p:cNvPicPr/>
          <p:nvPr/>
        </p:nvPicPr>
        <p:blipFill>
          <a:blip r:embed=""/>
          <a:stretch/>
        </p:blipFill>
        <p:spPr>
          <a:xfrm>
            <a:off x="179280" y="15840"/>
            <a:ext cx="978228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525240"/>
            <a:ext cx="90662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rcíci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7640" y="1912680"/>
            <a:ext cx="8670960" cy="42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ocorrem eventos em um áudi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525240"/>
            <a:ext cx="90662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rcício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7640" y="1912680"/>
            <a:ext cx="8670960" cy="42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 notas foram tocad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525240"/>
            <a:ext cx="90662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 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912680"/>
            <a:ext cx="8670960" cy="42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Que acorde foi toca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CP1PCP2PCP3PCP4" descr=""/>
          <p:cNvPicPr/>
          <p:nvPr/>
        </p:nvPicPr>
        <p:blipFill>
          <a:blip r:embed=""/>
          <a:stretch/>
        </p:blipFill>
        <p:spPr>
          <a:xfrm>
            <a:off x="4930920" y="1449360"/>
            <a:ext cx="5024160" cy="2475000"/>
          </a:xfrm>
          <a:prstGeom prst="rect">
            <a:avLst/>
          </a:prstGeom>
          <a:ln w="0">
            <a:noFill/>
          </a:ln>
        </p:spPr>
      </p:pic>
      <p:pic>
        <p:nvPicPr>
          <p:cNvPr id="68" name="pcp%20diff%20et%20edit%20distance" descr=""/>
          <p:cNvPicPr/>
          <p:nvPr/>
        </p:nvPicPr>
        <p:blipFill>
          <a:blip r:embed=""/>
          <a:stretch/>
        </p:blipFill>
        <p:spPr>
          <a:xfrm>
            <a:off x="468360" y="3846600"/>
            <a:ext cx="7392960" cy="317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525240"/>
            <a:ext cx="90662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scri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912680"/>
            <a:ext cx="8670960" cy="42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ados exemplos de áudio, com seus respectivos conjuntos de características e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Qual a classe de um novo exemplo de áudio, com seu respectivo conjunto de característic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00360" y="4140360"/>
            <a:ext cx="900000" cy="360360"/>
          </a:xfrm>
          <a:prstGeom prst="roundRect">
            <a:avLst>
              <a:gd name="adj" fmla="val 44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40000" y="3060720"/>
            <a:ext cx="360360" cy="539640"/>
          </a:xfrm>
          <a:custGeom>
            <a:avLst/>
            <a:gdLst>
              <a:gd name="textAreaLeft" fmla="*/ 360 w 360360"/>
              <a:gd name="textAreaRight" fmla="*/ 360000 w 360360"/>
              <a:gd name="textAreaTop" fmla="*/ 360 h 539640"/>
              <a:gd name="textAreaBottom" fmla="*/ 539280 h 539640"/>
            </a:gdLst>
            <a:ahLst/>
            <a:rect l="textAreaLeft" t="textAreaTop" r="textAreaRight" b="textAreaBottom"/>
            <a:pathLst>
              <a:path w="21600" h="32335">
                <a:moveTo>
                  <a:pt x="95" y="0"/>
                </a:moveTo>
                <a:arcTo wR="95" hR="95" stAng="16200000" swAng="-5400000"/>
                <a:lnTo>
                  <a:pt x="0" y="32240"/>
                </a:lnTo>
                <a:arcTo wR="95" hR="95" stAng="10800000" swAng="-5400000"/>
                <a:lnTo>
                  <a:pt x="21505" y="32335"/>
                </a:lnTo>
                <a:arcTo wR="95" hR="95" stAng="5400000" swAng="-5400000"/>
                <a:lnTo>
                  <a:pt x="21600" y="95"/>
                </a:lnTo>
                <a:arcTo wR="95" hR="95" stAng="0" swAng="-5400000"/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79640" y="3419640"/>
            <a:ext cx="539640" cy="360360"/>
          </a:xfrm>
          <a:prstGeom prst="roundRect">
            <a:avLst>
              <a:gd name="adj" fmla="val 440"/>
            </a:avLst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00360" y="3060720"/>
            <a:ext cx="900000" cy="900000"/>
          </a:xfrm>
          <a:prstGeom prst="roundRect">
            <a:avLst>
              <a:gd name="adj" fmla="val 176"/>
            </a:avLst>
          </a:prstGeom>
          <a:solidFill>
            <a:srgbClr val="8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19640" y="4319640"/>
            <a:ext cx="1618920" cy="360360"/>
          </a:xfrm>
          <a:prstGeom prst="diamond">
            <a:avLst/>
          </a:prstGeom>
          <a:solidFill>
            <a:srgbClr val="355e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03720" y="3816360"/>
            <a:ext cx="1619280" cy="36036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3060720"/>
            <a:ext cx="900000" cy="539640"/>
          </a:xfrm>
          <a:prstGeom prst="diamond">
            <a:avLst/>
          </a:prstGeom>
          <a:solidFill>
            <a:srgbClr val="dc2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0000" y="3060720"/>
            <a:ext cx="1079280" cy="720720"/>
          </a:xfrm>
          <a:prstGeom prst="diamond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00720" y="3456000"/>
            <a:ext cx="36036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59480" y="3959280"/>
            <a:ext cx="72072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59480" y="3959280"/>
            <a:ext cx="720720" cy="7207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99280" y="3419640"/>
            <a:ext cx="539640" cy="53964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00720" y="6119640"/>
            <a:ext cx="900000" cy="540000"/>
          </a:xfrm>
          <a:prstGeom prst="diamond">
            <a:avLst/>
          </a:prstGeom>
          <a:solidFill>
            <a:srgbClr val="00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525240"/>
            <a:ext cx="90662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47640" y="1912680"/>
            <a:ext cx="8670960" cy="42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 se não soubermos o que us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2840" indent="-5684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Instrumentos musicai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1482840" indent="-5684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Barulhos (porta batendo, freio de carro, lixa de unha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1482840" indent="-5684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Sons de animai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1482840" indent="-5684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01:53:45Z</dcterms:created>
  <dc:creator/>
  <dc:description>General introduction of a new product taking customer wishes into account</dc:description>
  <dc:language>en-US</dc:language>
  <cp:lastModifiedBy/>
  <dcterms:modified xsi:type="dcterms:W3CDTF">2009-05-07T02:07:06Z</dcterms:modified>
  <cp:revision>2</cp:revision>
  <dc:subject/>
  <dc:title>Introducing a New Product</dc:title>
</cp:coreProperties>
</file>