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CEFD-5285-44EC-9362-ACBC8C356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8940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B268-4249-4C9B-B8D2-4EAF948CB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04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4057-0337-43DB-82A9-D12818202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5160" y="19807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9440" y="198072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894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5160" y="42894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9440" y="4289400"/>
            <a:ext cx="26989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C67C-49F2-40B8-B0C4-9B952E3F45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66C9-1F9B-4FE4-B6FD-EB930AD207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3037-BBA4-44B6-B141-F3465FC62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F894-ACA4-4DAA-979F-3AB7A20F1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823F-81CE-4C6B-8D3F-57AEDBEF6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09800" y="475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59F7-C35E-457A-947E-0D261BC80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D55F-2D1C-4220-9DCB-A37BCFD49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040" y="428940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96C4-BDCF-4336-95CC-C4BDD8100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980720"/>
            <a:ext cx="4090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89400"/>
            <a:ext cx="83822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D3EB-E705-446A-B2E1-8795FCB61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92200" y="476280"/>
            <a:ext cx="7859520" cy="1144440"/>
            <a:chOff x="592200" y="476280"/>
            <a:chExt cx="7859520" cy="1144440"/>
          </a:xfrm>
        </p:grpSpPr>
        <p:sp>
          <p:nvSpPr>
            <p:cNvPr id="1" name=""/>
            <p:cNvSpPr/>
            <p:nvPr/>
          </p:nvSpPr>
          <p:spPr>
            <a:xfrm>
              <a:off x="592200" y="476280"/>
              <a:ext cx="69840" cy="1144440"/>
            </a:xfrm>
            <a:custGeom>
              <a:avLst/>
              <a:gdLst/>
              <a:ahLst/>
              <a:rect l="l" t="t" r="r" b="b"/>
              <a:pathLst>
                <a:path w="44" h="721">
                  <a:moveTo>
                    <a:pt x="0" y="0"/>
                  </a:moveTo>
                  <a:lnTo>
                    <a:pt x="43" y="48"/>
                  </a:lnTo>
                  <a:lnTo>
                    <a:pt x="43" y="672"/>
                  </a:ln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2200" y="476280"/>
              <a:ext cx="7859520" cy="77760"/>
            </a:xfrm>
            <a:custGeom>
              <a:avLst/>
              <a:gdLst/>
              <a:ahLst/>
              <a:rect l="l" t="t" r="r" b="b"/>
              <a:pathLst>
                <a:path w="4951" h="49">
                  <a:moveTo>
                    <a:pt x="0" y="0"/>
                  </a:moveTo>
                  <a:lnTo>
                    <a:pt x="43" y="48"/>
                  </a:lnTo>
                  <a:lnTo>
                    <a:pt x="4907" y="48"/>
                  </a:lnTo>
                  <a:lnTo>
                    <a:pt x="4950" y="0"/>
                  </a:lnTo>
                  <a:lnTo>
                    <a:pt x="0" y="0"/>
                  </a:lnTo>
                </a:path>
              </a:pathLst>
            </a:custGeom>
            <a:solidFill>
              <a:srgbClr val="ffe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1880" y="476280"/>
              <a:ext cx="69840" cy="1144440"/>
            </a:xfrm>
            <a:custGeom>
              <a:avLst/>
              <a:gdLst/>
              <a:ahLst/>
              <a:rect l="l" t="t" r="r" b="b"/>
              <a:pathLst>
                <a:path w="44" h="721">
                  <a:moveTo>
                    <a:pt x="43" y="0"/>
                  </a:moveTo>
                  <a:lnTo>
                    <a:pt x="0" y="48"/>
                  </a:lnTo>
                  <a:lnTo>
                    <a:pt x="0" y="672"/>
                  </a:lnTo>
                  <a:lnTo>
                    <a:pt x="43" y="720"/>
                  </a:lnTo>
                  <a:lnTo>
                    <a:pt x="43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92200" y="1542960"/>
              <a:ext cx="7859520" cy="77760"/>
            </a:xfrm>
            <a:custGeom>
              <a:avLst/>
              <a:gdLst/>
              <a:ahLst/>
              <a:rect l="l" t="t" r="r" b="b"/>
              <a:pathLst>
                <a:path w="4951" h="49">
                  <a:moveTo>
                    <a:pt x="4950" y="48"/>
                  </a:moveTo>
                  <a:lnTo>
                    <a:pt x="4907" y="0"/>
                  </a:lnTo>
                  <a:lnTo>
                    <a:pt x="43" y="0"/>
                  </a:lnTo>
                  <a:lnTo>
                    <a:pt x="0" y="48"/>
                  </a:lnTo>
                  <a:lnTo>
                    <a:pt x="4950" y="48"/>
                  </a:lnTo>
                </a:path>
              </a:pathLst>
            </a:custGeom>
            <a:solidFill>
              <a:srgbClr val="c06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0240" y="552600"/>
              <a:ext cx="7721640" cy="990360"/>
            </a:xfrm>
            <a:prstGeom prst="rect">
              <a:avLst/>
            </a:prstGeom>
            <a:gradFill rotWithShape="0">
              <a:gsLst>
                <a:gs pos="0">
                  <a:srgbClr val="b26600"/>
                </a:gs>
                <a:gs pos="50000">
                  <a:srgbClr val="e08000"/>
                </a:gs>
                <a:gs pos="100000">
                  <a:srgbClr val="b2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42960" indent="-1713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FC0DC1-9290-46AD-94CE-75E304A17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9000" y="74520"/>
            <a:ext cx="90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Geber Ramalho &amp; Osman Gioia                                              Computação Musical 2000/1                                                                                          Síntese 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ook Antiqua"/>
              </a:rPr>
              <a:t>Síntese de Sons II</a:t>
            </a:r>
            <a:endParaRPr b="1" lang="en-US" sz="7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6248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eber Ramalho &amp; Osman Gioi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049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mputação Musical 2000/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5717-E059-4F73-BB33-8A0778BD8B39}" type="slidenum">
              <a:t>1</a:t>
            </a:fld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terfaces Music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ispositivos musicais de entrada de dad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oftwares de performanc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ditor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inguagens de programação music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gramas de composição algorítmic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gramas de análise espectr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9" name="fig3-11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255840" cy="487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9A6B-D879-48F5-95D0-7E0CFABAC9EF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OM-A: Cartas Espectr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11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arta Espectral é uma estrutura de dados composta de listas entre parêntes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1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ada lista representa uma expressão simbólica que define os valores iniciais, instrumentos, notas a serem executadas e finalizaçõ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1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 arquivo possui a extensão .car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F53F-6CEB-4D99-BDD4-D59DC15766E3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onjunto de Instruçõe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perador V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specifica os parâmetros iniciais da partitura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62800" indent="-2628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(VAL T1 T2 Fa  Ad Tp Nm Le 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1:  Lapso de tempo inicial em segundo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2:  Lapso de tempo final em segundo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a: Freqüência de amostragem em ciclos por segund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d:  Andamento - multiplicador que aplicado aos tempos constantes da carta espectral transforma-os em segundo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p:  Transposição - multiplicador transpositor das freqüências de execução de cada not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m: Norma - multiplicador normalizador das amplitudes de execução de cada not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e: Limite de Envoltória - número de segmentos máximo que a envoltória de amplitude pode possui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3FB7-4BD0-490F-B2D6-E77BFCFB3938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perador IN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efine um instrumento.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(INS &lt;Vigência&gt; &lt;Nome&gt; &lt;Lista-de-componentes&gt;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gência: Número de tempos nos quais o instrumento existirá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me: Cadeia de caracteres com literal como caracter inici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sta-de-Componentes: Harmônicos com as suas respectivas ordens, fases, envoltórias de amplitude e posicionamento espacial denominados Unidades-H (unidades harmônicas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sta de Componentes: ((ordemn fasen (envoltórian) orton))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rde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Ordem da enésima component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as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Fase inicial da enésima component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nvoltóri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Listas de pares da envoltória de amplitude Envoltória: ((ordenad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e abciss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) 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rt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Índice de orto-estereofonia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F774-8F0D-4856-8D98-44CB2918D497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Envoltória de Amplitud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"/>
          <p:cNvSpPr/>
          <p:nvPr/>
        </p:nvSpPr>
        <p:spPr>
          <a:xfrm>
            <a:off x="996840" y="4572000"/>
            <a:ext cx="7150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996840" y="2584080"/>
            <a:ext cx="1359000" cy="1994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987560"/>
            <a:ext cx="0" cy="4102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8440" y="2597040"/>
            <a:ext cx="673200" cy="82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4240" y="3041640"/>
            <a:ext cx="1511280" cy="3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8480" y="3054240"/>
            <a:ext cx="901440" cy="74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492880" y="3422520"/>
            <a:ext cx="977760" cy="3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83240" y="3435480"/>
            <a:ext cx="1663920" cy="113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2000" y="2143080"/>
            <a:ext cx="22392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mplitu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71960" y="510048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em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5680" y="4567320"/>
            <a:ext cx="238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400" y="4262400"/>
            <a:ext cx="193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96320" y="4643280"/>
            <a:ext cx="107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lim-en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0880" y="259092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0880" y="342900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0880" y="380988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0880" y="350532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0842-EFA1-4A05-BB66-0E2253634BD5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perador EX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specifica o tempo de início e término do bloco de execução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EXE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Tempo de início  do bloc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 Tempo de término do bloc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 partir do aparecimento do comando EXE e até que o interpretador encontre a instrução STP, todas as listas encontradas serão consideradas como notas a serem interpretadas ordenadas segundo o seu tempo de início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58BD-EEAA-48BA-A9FE-EDF371855987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scrita de Nota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ada nota da partitura consiste de uma lista contendo as informações necessárias a sua execução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4160" indent="-2541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(Nome-do-Instrumento Ti Dur Freq Amp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10200" indent="-203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me-do-instrumento: Rótulo definido pelo operador I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17000" indent="-2034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strumento = átomo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macro-instrument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17000" indent="-2034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me + Lista de índices = sub-instrument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373040" indent="-152280" algn="just">
              <a:lnSpc>
                <a:spcPct val="90000"/>
              </a:lnSpc>
              <a:spcBef>
                <a:spcPts val="524"/>
              </a:spcBef>
              <a:buClr>
                <a:srgbClr val="e08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Sub-instrumento:(Nome-do-Instrumento(Lista-de-índices) Vigência)</a:t>
            </a: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3" marL="1373040" indent="-152280" algn="just">
              <a:lnSpc>
                <a:spcPct val="90000"/>
              </a:lnSpc>
              <a:spcBef>
                <a:spcPts val="524"/>
              </a:spcBef>
              <a:buClr>
                <a:srgbClr val="e08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Lista-de-índices: somente as unidades-H correspondentes aos índices constantes da lista serão utilizadas na construção do sub-instrumento</a:t>
            </a: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3" marL="1373040" indent="-152280" algn="just">
              <a:lnSpc>
                <a:spcPct val="90000"/>
              </a:lnSpc>
              <a:spcBef>
                <a:spcPts val="524"/>
              </a:spcBef>
              <a:buClr>
                <a:srgbClr val="e08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Vigência: parâmetro opcional</a:t>
            </a: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610200" indent="-203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i: Tempo de  início da not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10200" indent="-203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ur: Duração da nota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10200" indent="-203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req: Frequência em ciclos por segund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10200" indent="-203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mp: Intensidade relativa às amplitudes das envoltórias de cada componente do instrument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D026-E188-4E56-9E05-9E28D3DA1DEB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Operadores de Finaliza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perador STP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STP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ncerra a ação do operador EXE anterio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2999"/>
              </a:spcBef>
              <a:spcAft>
                <a:spcPts val="1800"/>
              </a:spcAft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perador FIM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FIM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ncerra a interpretação da carta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D929-CEEE-498C-B07A-848CD1122EFB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Unidade-H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81080" y="1905120"/>
          <a:ext cx="5267520" cy="47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2675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330B-FC50-48ED-A211-D83D1521BE02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xempl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MARCHA" descr=""/>
          <p:cNvPicPr/>
          <p:nvPr/>
        </p:nvPicPr>
        <p:blipFill>
          <a:blip r:embed="rId1"/>
          <a:stretch/>
        </p:blipFill>
        <p:spPr>
          <a:xfrm>
            <a:off x="609480" y="1735200"/>
            <a:ext cx="8001000" cy="51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C290-FE4C-4DAA-A289-3FAD189D0AA6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por Softwar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grama desenvolvido para Computadores de uso ger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gera um fluxo de amostras que pode ser modificado arbitrariamente pelo usuári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x: Music V, Csound e SOM-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dam em PCs necessitando somente de bons ADCs e DAC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59920" indent="-25992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íntese por hardware utiliza circuitos dedicad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ais rápida porém mais limitad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ntetizadores comercia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SPs (Digital signal processors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59920" indent="-25992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 Tip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ditores gráficos de instrumento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susário interconecta ícones (Ugs) formando patch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8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nguagens de sínte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suário especifica som desejado através de arquivo text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375E-70E2-46E4-AF00-3ACC4710DC2A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xercício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Utilizando a sintaxe do programa SOM-A construa os seguintes instrumentos com envoltória de livre escolha: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nda Senoid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nte de serr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Quadrad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riangula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22392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vre escolh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-28008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m os instrumentos acima criados elabore uma partitura a partir de alguma música conhecida utilizando a escala temperad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0080" indent="-28008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ere o arquivo wav correspondent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EC21-6AC6-4B9A-84FA-4366E452840E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scala Tempera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#include &lt;stdio.h&gt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#include &lt;math.h&gt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#include &lt;stdlib.h&gt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#include &lt;conio.h&gt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void main()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FILE *arq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int i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double base = 6.875000000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clrscr(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if ((arq = fopen(”c:\\temp","w")) == NULL)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fprintf(stderr,"\nNao pude abrir o arquivo\n"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for (i=-2;i &lt; 129;i++)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base = base * pow(2,1.0/12.0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fprintf(arq,"\n        midi[%3d] = %15.9lf;",i,base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fprintf(arq,"\n"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fclose(arq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exit(0);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372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} 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F33B-38F5-4C31-AEEF-AF98C93FD345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92000" y="3537000"/>
            <a:ext cx="7724880" cy="14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Book Antiqua"/>
              </a:rPr>
              <a:t>FIM</a:t>
            </a:r>
            <a:endParaRPr b="1" lang="en-US" sz="8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169B-FDA5-4313-B9BD-C11F0246A591}" type="slidenum">
              <a:t>22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Demandas Computacion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íntese por software não é passível de realização em tempo re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65680" indent="-26568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olu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7560" indent="-212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mazenar o resultado em um arquivo com amostras de áudi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7560" indent="-212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quivos de áudio geralmente contém um cabeçalho seguido por um fluxo de números representando as amostras de áudi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me do arquivo, Fa, Resolução em bits, número de canais, etc..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37560" indent="-212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s amostras são organizadas em estruturas de dados denominadas Fram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ada frame contém as amostras em um determinado momento de cada canal (Para N canais um frame conterá N amostras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ortanto Fa = número de frames/segund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37560" indent="-2124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odem ser utilizados diversos formatos de arquivos e geralmente necessitamos de conversores entre os mesmo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47E4-200E-45B8-BAFE-C384BCC20FB3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tapas de Síntese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 Etapa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ínte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51560" indent="-21024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finição de Instrumento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51560" indent="-21024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terpretação de Partitura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xecuçã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51560" indent="-21024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udição das peças sintetizada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62800" indent="-2628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esvantagen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capacidade de execução em tempo re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mpo de processamento aumenta com a complexidade das partitura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62800" indent="-2628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Vantagen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otal controle dos componentes do so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30720" indent="-21024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olifonia ilimitad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A3FE-9CA6-4A3D-B225-8416AF62B2DE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Etapa de Síntese e Excu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6" name="etapa2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57" name="etapa1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5208-DBBF-4020-B5FF-307D5D046D96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Síntese em Tempo Real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odemos realizar síntese em tempo real através de DSPs e/ou MIDI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ra tanto utilizamos Controladores, Sequencers, Editores de partitura e editores de patch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0" name="fig3-9" descr=""/>
          <p:cNvPicPr/>
          <p:nvPr/>
        </p:nvPicPr>
        <p:blipFill>
          <a:blip r:embed="rId1"/>
          <a:stretch/>
        </p:blipFill>
        <p:spPr>
          <a:xfrm>
            <a:off x="2362320" y="3303720"/>
            <a:ext cx="4647960" cy="35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365C-B729-417A-B2C2-DBD7881C1C5B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specificação de Son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úsic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rtitur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rquestração (Instrumentos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as com respectivas durações, alturas e articulaçõ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terpretação human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mputador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rtitura algorítmic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bjetos sonoros (Instrumentos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anipulação dos mesmos (notas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terpretação matemátic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7589-2F0F-471A-978D-10C253558024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Instrumento para Síntese Adi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4" name="fig3-10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47192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4E51-C8F9-4AB8-8CAE-F81F4667197B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Especificação de Son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arâmetr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requência Central de osc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ico de Amplitude de osc = 1.0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nvoltória de Amplitu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ício e Duração da Envoltória de Amplitu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nvoltória de Frequênci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ício e Duração da Envoltória de Frequênci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tensidade do desvio de Freqûenci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cessitamos especificar individualmente cada uma das vozes (osciladores senoidais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542960" indent="-171360" algn="just">
              <a:lnSpc>
                <a:spcPct val="90000"/>
              </a:lnSpc>
              <a:spcBef>
                <a:spcPts val="524"/>
              </a:spcBef>
              <a:buClr>
                <a:srgbClr val="e080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9 parâmetros por oscilador</a:t>
            </a: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4" marL="2000160" indent="-171360" algn="just">
              <a:lnSpc>
                <a:spcPct val="90000"/>
              </a:lnSpc>
              <a:spcBef>
                <a:spcPts val="524"/>
              </a:spcBef>
              <a:buClr>
                <a:srgbClr val="e08000"/>
              </a:buClr>
              <a:buFont typeface="Book Antiqu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Se tivermos 10 osciladores = 90 parâmetros para um instrumento</a:t>
            </a:r>
            <a:endParaRPr b="1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BAB9-BEB0-4082-826E-54A3B602D669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9T00:45:14Z</dcterms:created>
  <dc:creator>Departamento de Musica</dc:creator>
  <dc:description/>
  <dc:language>en-US</dc:language>
  <cp:lastModifiedBy>glr</cp:lastModifiedBy>
  <dcterms:modified xsi:type="dcterms:W3CDTF">2000-03-28T18:50:42Z</dcterms:modified>
  <cp:revision>64</cp:revision>
  <dc:subject>Microfones</dc:subject>
  <dc:title>Síntese de Sons</dc:title>
</cp:coreProperties>
</file>