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25AC-A86F-4CE5-A944-8DDE1E6D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E2F3-9D34-42EA-830F-942B507B3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6EA7-1F8D-42F3-AF10-3C0A172E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D68C-D42A-4963-A157-1E7EAE4F9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D5DB-EB09-4FDE-BB8B-E68543C8C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5327-5780-4179-988D-BC8D66F4E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5447-20A6-4235-8B01-66031CE18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13D5-F706-4191-A27D-F99029CDE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76A5-B796-485C-99EF-1D828C51B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FF5E-F202-49BE-BC98-9CC632D3E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857E-7E65-41C7-9B75-8216FE2F9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3B4F-77F2-42D7-BE2C-B864DD039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5F9375-3C81-4656-B1AD-54E914238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9000" y="74520"/>
            <a:ext cx="90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Geber Ramalho &amp; Osman Gioia                                              Computação Musical 2000/1                                                                                          Síntese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Síntese de Sons I</a:t>
            </a:r>
            <a:endParaRPr b="1" lang="en-US" sz="8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Geber Ramalho &amp; Osman Gio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ção Musical 20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B874-3A5D-459A-A162-C0922E2A7E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as Manifest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Órgãos de Tub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Primeiro instrumento elétri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Telharmoniu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Mais famos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Hammo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413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3620880" cy="35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608A-1388-4D74-89ED-5A3C61933E01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ouri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5440" y="2554200"/>
            <a:ext cx="7724520" cy="31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2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Toda e qualquer forma de onda periódica é constituída por uma soma de ondas senoidais cujas frequências são múltiplos inteiros da fundamen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701-F40C-47E7-A394-B37D6BE50CF0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de Formas de Onda Fix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dição de parciais, com amplitudes e fases iniciais determinadas, a uma fundament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414a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86200" cy="3187800"/>
          </a:xfrm>
          <a:prstGeom prst="rect">
            <a:avLst/>
          </a:prstGeom>
          <a:ln w="0">
            <a:noFill/>
          </a:ln>
        </p:spPr>
      </p:pic>
      <p:pic>
        <p:nvPicPr>
          <p:cNvPr id="127" name="414b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426708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6067-7440-416A-BE54-6BFB65B19F52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undamental + 2. harmônic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fund+2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4267080" cy="3157560"/>
          </a:xfrm>
          <a:prstGeom prst="rect">
            <a:avLst/>
          </a:prstGeom>
          <a:ln w="0">
            <a:noFill/>
          </a:ln>
        </p:spPr>
      </p:pic>
      <p:pic>
        <p:nvPicPr>
          <p:cNvPr id="130" name="2" descr=""/>
          <p:cNvPicPr/>
          <p:nvPr/>
        </p:nvPicPr>
        <p:blipFill>
          <a:blip r:embed="rId2"/>
          <a:stretch/>
        </p:blipFill>
        <p:spPr>
          <a:xfrm>
            <a:off x="0" y="3247920"/>
            <a:ext cx="48769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B68D-2A79-4E99-B19B-95135DCE122F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Fa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Fase de cada componente é essencial na definição da Forma de Onda final e pode ou não influir em nossa percepçã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-2008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Fase do Quinto harmônico = 9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 Antiqu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1280" indent="-25128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Fase Inicial da Forma de Onda não influi em nossa percep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033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416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297180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415" descr=""/>
          <p:cNvPicPr/>
          <p:nvPr/>
        </p:nvPicPr>
        <p:blipFill>
          <a:blip r:embed="rId2"/>
          <a:stretch/>
        </p:blipFill>
        <p:spPr>
          <a:xfrm>
            <a:off x="0" y="1828800"/>
            <a:ext cx="243216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2534-0311-4FF1-B5CF-EC1A8964E980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dição de Parci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60199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ria espectros mais interessantes auditiva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ão é suficiente para a simulação perfeita de um som acú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ão reproduz os transientes de ataque, somente a porção de sustent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ecessitamos da utilização de parciais variantes no t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417" descr=""/>
          <p:cNvPicPr/>
          <p:nvPr/>
        </p:nvPicPr>
        <p:blipFill>
          <a:blip r:embed="rId1"/>
          <a:stretch/>
        </p:blipFill>
        <p:spPr>
          <a:xfrm>
            <a:off x="6108840" y="2362320"/>
            <a:ext cx="3035160" cy="33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92C7-1BFC-4167-807A-25B2E728A171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 variante no Temp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odificando a mistura de ondas senoidais através do tempo podemos criar sons sintéticos mais interessantes e reproduzir sons acústicos mais realistica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Forma de onda de um som de Trompe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418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35268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9E5D-6007-4130-887E-51A9799D249B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0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Toda e qualquer forma de onda  pode ser sintetizada a partir de um modelo matemático, representado por um conjunto de equações que definam a sua constituição espectral, especificando a envoltória de cada uma das ondas senoidais que a constituem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1BA5-27B2-4279-81C0-5A4022ECA89E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equacao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643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E9CE-02D1-4E6A-82EE-E0C5B5E9F766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s Analógica e Digital 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419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49640" cy="4254480"/>
          </a:xfrm>
          <a:prstGeom prst="rect">
            <a:avLst/>
          </a:prstGeom>
          <a:ln w="0">
            <a:noFill/>
          </a:ln>
        </p:spPr>
      </p:pic>
      <p:pic>
        <p:nvPicPr>
          <p:cNvPr id="147" name="419b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64040" cy="42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221E-95FF-47A9-8E02-D119E5BFA1B8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rocesso de compor ou combinar diversas partes ou elementos em um todo maior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Síntese de son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ontrole da afinação, intensidade e espectro de um so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riação de um espectro sônic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étodos mais utilizad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Adi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íntese direta por softwar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intetizadores (Moog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íntese FM (Chowning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Yamaha DX7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mostragem Digi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Sampler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70BD-2224-402D-B688-C84B1E77239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omplexidade da 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a Demanda do Sistem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20 parciais * 20 eventos = 400 osciladores * 44 Khz  = 17.600.000 amostras por segundo * 750 operações por amostra = 13.200.000.000 de operações por segundo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a Demanda de Parametriz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20 parciais * 10.000 eventos = 200.000 envoltóri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arâmetros de Control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Parametrização algorítm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Manualment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Resíntese a partir de análise acúst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FDBD-82B7-41DD-9F02-86FD06A5F129}" type="slidenum">
              <a:t>20</a:t>
            </a:fld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e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420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103560" cy="4419720"/>
          </a:xfrm>
          <a:prstGeom prst="rect">
            <a:avLst/>
          </a:prstGeom>
          <a:ln w="0">
            <a:noFill/>
          </a:ln>
        </p:spPr>
      </p:pic>
      <p:pic>
        <p:nvPicPr>
          <p:cNvPr id="152" name="421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2450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5416-21D1-46D7-A10C-5B1940E34F0A}" type="slidenum">
              <a:t>21</a:t>
            </a:fld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Tabela de Formas de Onda (Wavetable lookup)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alcular individualmente as diversas senóides que compõe um determinado espectro não é um método efici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olução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Armazenar uma tabela numérica com valores pré-definidos para um ciclo da forma de onda senoidal em uma lista denominada Wavetable (vide som_seno.h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Para gerar um sinal o processador lê continuamente as amostras da lista, isto é chamado de Síntese por leitura de tabela (Table-lookup synthesi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7074-0CAD-4968-9461-1274C04D554A}" type="slidenum">
              <a:t>22</a:t>
            </a:fld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Wave Tabl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lookup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43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1916-343A-445E-A16C-E6ECFEF44B08}" type="slidenum">
              <a:t>23</a:t>
            </a:fld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Lookup Tabl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 algn="just">
              <a:lnSpc>
                <a:spcPct val="9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Modificando a Fase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Phase-index &gt;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2960" indent="-282960" algn="just">
              <a:lnSpc>
                <a:spcPct val="9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Modificando a Frequência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Freqûencia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 Tamanho da tabela &amp; F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Pode-se alterar a frequência modificando-se FA, porém isto nem sempre é convenien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8600" indent="-22608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Melhor solução é varrer a tabela modificando o passo de incremento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0999-A934-4C14-B167-C8ADE6710274}" type="slidenum">
              <a:t>24</a:t>
            </a:fld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Algoritmo de um Oscilador Digi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1. Phase_index = mod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Book Antiqua"/>
              </a:rPr>
              <a:t>L 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( fase_anterior + inc)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2. Saída = amplitude * wavetable [phase_index]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Como tamanho da tabela (L) e a Fa são fixos, a frequência do sinal (Freq) dependerá do incremento (inc).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17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Inc =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Book Antiqua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L * Freq / Fa       </a:t>
            </a: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       Freq = Inc * Fa / L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EE6B-34D4-4D8B-81C6-6F159B71FAD8}" type="slidenum">
              <a:t>25</a:t>
            </a:fld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Quando os valores não são múltiplos e divisores inteiros entre si necessitamos de um método corretiv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runcagem e Arredondam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Causam imprecisões geradoras de pequenas distorções denominadas “Ruído da Tabela de Amostras” (Table lookup nois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Solução parcial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Aumentar a quantidade de amostras da tabe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ste é o melhor méto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DF02-6BFC-4555-8B00-B3577C7BEDA4}" type="slidenum">
              <a:t>26</a:t>
            </a:fld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álculo do valor que existiria caso fosse possível referenciá-lo na fase exata especificada pelo increm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25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Osciladores interpoladores utilizam tabelas menores e geram sinais com a mesma qualid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250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x: Tabela[1024] no pior cas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12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Com interpolação linear = 104 dB SN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12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Sem Interpolação = 48 dB SN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977080"/>
            <a:ext cx="449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362320" y="5265720"/>
            <a:ext cx="1440" cy="711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58000" y="5265720"/>
            <a:ext cx="1440" cy="711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0" y="6004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0480" y="6004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440" y="60800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7.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10040" y="6461280"/>
            <a:ext cx="1463400" cy="398880"/>
            <a:chOff x="2210040" y="6461280"/>
            <a:chExt cx="1463400" cy="398880"/>
          </a:xfrm>
        </p:grpSpPr>
        <p:sp>
          <p:nvSpPr>
            <p:cNvPr id="172" name=""/>
            <p:cNvSpPr/>
            <p:nvPr/>
          </p:nvSpPr>
          <p:spPr>
            <a:xfrm>
              <a:off x="2210040" y="646128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Inde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63600" y="6663960"/>
              <a:ext cx="6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373040" y="5435640"/>
            <a:ext cx="703440" cy="978120"/>
            <a:chOff x="1373040" y="5435640"/>
            <a:chExt cx="703440" cy="978120"/>
          </a:xfrm>
        </p:grpSpPr>
        <p:sp>
          <p:nvSpPr>
            <p:cNvPr id="175" name=""/>
            <p:cNvSpPr/>
            <p:nvPr/>
          </p:nvSpPr>
          <p:spPr>
            <a:xfrm>
              <a:off x="1373040" y="60148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Am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92000" y="5435640"/>
              <a:ext cx="0" cy="56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134800" y="47847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91120" y="4910040"/>
            <a:ext cx="563400" cy="1066680"/>
            <a:chOff x="4191120" y="4910040"/>
            <a:chExt cx="563400" cy="1066680"/>
          </a:xfrm>
        </p:grpSpPr>
        <p:sp>
          <p:nvSpPr>
            <p:cNvPr id="179" name=""/>
            <p:cNvSpPr/>
            <p:nvPr/>
          </p:nvSpPr>
          <p:spPr>
            <a:xfrm flipV="1">
              <a:off x="4495680" y="5265360"/>
              <a:ext cx="0" cy="71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49100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.5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554160" y="4861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36A9-9AB2-49A6-88E0-3B60AA35719F}" type="slidenum">
              <a:t>27</a:t>
            </a:fld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scilador por Leitura de Tabel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fig3-5" descr=""/>
          <p:cNvPicPr/>
          <p:nvPr/>
        </p:nvPicPr>
        <p:blipFill>
          <a:blip r:embed="rId1"/>
          <a:stretch/>
        </p:blipFill>
        <p:spPr>
          <a:xfrm>
            <a:off x="1066680" y="1886040"/>
            <a:ext cx="6782040" cy="46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4AD4-D8CD-4234-92A3-DA47274C1966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Variações tempor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imos como gerar um sinal constante e estático em amplitude porém necessitamos de controle sobre os outros parâmetros variantes no temp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ssibilitam a geração de funções tempora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Mudanças de amplitude no tempo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16BD-51D0-4338-BDFE-FC76084763C4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rimórdi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o Sintetizado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Telharmonium (1906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Gerava eletricamente somente ondas senoida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telhaemonium" descr=""/>
          <p:cNvPicPr/>
          <p:nvPr/>
        </p:nvPicPr>
        <p:blipFill>
          <a:blip r:embed="rId1"/>
          <a:stretch/>
        </p:blipFill>
        <p:spPr>
          <a:xfrm>
            <a:off x="0" y="3048120"/>
            <a:ext cx="38037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telarmonium" descr=""/>
          <p:cNvPicPr/>
          <p:nvPr/>
        </p:nvPicPr>
        <p:blipFill>
          <a:blip r:embed="rId2"/>
          <a:stretch/>
        </p:blipFill>
        <p:spPr>
          <a:xfrm>
            <a:off x="3809880" y="305928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301A-9835-42F7-8CD1-5B8C55DA39A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DSR (Attack, Decay, Sustain, Release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Rate &amp;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sciladores de Envoltória (env_osc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fig3-7a" descr=""/>
          <p:cNvPicPr/>
          <p:nvPr/>
        </p:nvPicPr>
        <p:blipFill>
          <a:blip r:embed="rId1"/>
          <a:stretch/>
        </p:blipFill>
        <p:spPr>
          <a:xfrm>
            <a:off x="0" y="3505320"/>
            <a:ext cx="2940120" cy="335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24080" y="3505320"/>
            <a:ext cx="586764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ê uma Tabela (F1) de valores de ampl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tabelece o incremento a partir da duração da no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8440" indent="-1825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: Nota = 2 seg 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env_osc [freq] = 1 ciclo/2 seg ou 0.5 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ra cada amostra, env_osc produz um valor derivado da tabela de amostras em sua saí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ste valor é aplicado na entrada de amplitude do o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-195120"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ós osc ler uma amostra de F2, o valor é escalonado pelo valor recebido em sua entrada de amplitu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C112-CA34-4770-BA75-D72449966D23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odemos subsituir o env_osc por um env_gen (Envelope Generator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nv_osc é típico de síntese por softw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Lapsos de tempo da envoltória variam em razão diretao com a duração da no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 Antiqua"/>
              </a:rPr>
              <a:t>env_gen é típico de sintetizadores por hardwar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97280" indent="-219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Lapsos independem da duração da no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odemos também aplicar um env_gen à entrada de frequência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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variações de altu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u à entrada de um filt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variações espectrai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6D65-5039-45A1-992D-27D32BDD3204}" type="slidenum">
              <a:t>31</a:t>
            </a:fld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odularida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Conceito fundamental na síntese digit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ódulos de processamento de sin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Gerador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Oscilado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 Antiqua"/>
              </a:rPr>
              <a:t>Modificador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Filtro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Amplificado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odem ser conectados para a criação de instrumentos (</a:t>
            </a:r>
            <a:r>
              <a:rPr b="1" i="1" lang="pt-BR" sz="2000" spc="-1" strike="noStrike">
                <a:solidFill>
                  <a:srgbClr val="ffffff"/>
                </a:solidFill>
                <a:latin typeface="Book Antiqua"/>
              </a:rPr>
              <a:t>patche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Primeiro programa: Music III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Music V gerou inúmeros descendentes, entre eles o Csound (C) e o SOM-A (LISP, C e Java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2299-C6B7-47CE-B0DF-C3C746BF2937}" type="slidenum">
              <a:t>32</a:t>
            </a:fld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atch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Um instrumento é produzido através da conexão de UGs em um Patch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6" name="260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4038480" cy="3097080"/>
          </a:xfrm>
          <a:prstGeom prst="rect">
            <a:avLst/>
          </a:prstGeom>
          <a:ln w="0">
            <a:noFill/>
          </a:ln>
        </p:spPr>
      </p:pic>
      <p:pic>
        <p:nvPicPr>
          <p:cNvPr id="197" name="moo3p01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876920" cy="31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7ED0-3066-45F3-8218-166C826915B7}" type="slidenum">
              <a:t>3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Históric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" y="4343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39625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2640" y="427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412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2670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32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928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3200400"/>
            <a:ext cx="1143000" cy="685800"/>
            <a:chOff x="380880" y="3200400"/>
            <a:chExt cx="1143000" cy="685800"/>
          </a:xfrm>
        </p:grpSpPr>
        <p:sp>
          <p:nvSpPr>
            <p:cNvPr id="70" name=""/>
            <p:cNvSpPr/>
            <p:nvPr/>
          </p:nvSpPr>
          <p:spPr>
            <a:xfrm>
              <a:off x="380880" y="34290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3200400"/>
              <a:ext cx="11430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elharmoni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09680" y="2666880"/>
            <a:ext cx="914400" cy="1219320"/>
            <a:chOff x="2209680" y="2666880"/>
            <a:chExt cx="914400" cy="1219320"/>
          </a:xfrm>
        </p:grpSpPr>
        <p:sp>
          <p:nvSpPr>
            <p:cNvPr id="73" name=""/>
            <p:cNvSpPr/>
            <p:nvPr/>
          </p:nvSpPr>
          <p:spPr>
            <a:xfrm>
              <a:off x="2209680" y="320040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9680" y="2971800"/>
              <a:ext cx="914400" cy="1522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teno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9680" y="26668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herem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4280" y="2209680"/>
            <a:ext cx="914400" cy="1828800"/>
            <a:chOff x="4724280" y="2209680"/>
            <a:chExt cx="914400" cy="1828800"/>
          </a:xfrm>
        </p:grpSpPr>
        <p:sp>
          <p:nvSpPr>
            <p:cNvPr id="77" name=""/>
            <p:cNvSpPr/>
            <p:nvPr/>
          </p:nvSpPr>
          <p:spPr>
            <a:xfrm>
              <a:off x="4724280" y="2438280"/>
              <a:ext cx="0" cy="160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2096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avad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52880" y="2971800"/>
            <a:ext cx="990360" cy="914400"/>
            <a:chOff x="4952880" y="2971800"/>
            <a:chExt cx="990360" cy="914400"/>
          </a:xfrm>
        </p:grpSpPr>
        <p:sp>
          <p:nvSpPr>
            <p:cNvPr id="80" name=""/>
            <p:cNvSpPr/>
            <p:nvPr/>
          </p:nvSpPr>
          <p:spPr>
            <a:xfrm>
              <a:off x="4952880" y="32767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2971800"/>
              <a:ext cx="99036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RCA Mark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00800" y="2666880"/>
            <a:ext cx="1143000" cy="1219320"/>
            <a:chOff x="6400800" y="2666880"/>
            <a:chExt cx="1143000" cy="1219320"/>
          </a:xfrm>
        </p:grpSpPr>
        <p:sp>
          <p:nvSpPr>
            <p:cNvPr id="83" name=""/>
            <p:cNvSpPr/>
            <p:nvPr/>
          </p:nvSpPr>
          <p:spPr>
            <a:xfrm>
              <a:off x="6400800" y="29718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2666880"/>
              <a:ext cx="114300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íntese Dire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848720" y="2819520"/>
            <a:ext cx="1066680" cy="1295280"/>
            <a:chOff x="7848720" y="2819520"/>
            <a:chExt cx="1066680" cy="1295280"/>
          </a:xfrm>
        </p:grpSpPr>
        <p:sp>
          <p:nvSpPr>
            <p:cNvPr id="86" name=""/>
            <p:cNvSpPr/>
            <p:nvPr/>
          </p:nvSpPr>
          <p:spPr>
            <a:xfrm>
              <a:off x="7848720" y="2819520"/>
              <a:ext cx="106668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ntetizado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48720" y="30481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295280" y="4572000"/>
            <a:ext cx="914400" cy="1066680"/>
            <a:chOff x="1295280" y="4572000"/>
            <a:chExt cx="914400" cy="1066680"/>
          </a:xfrm>
        </p:grpSpPr>
        <p:sp>
          <p:nvSpPr>
            <p:cNvPr id="89" name=""/>
            <p:cNvSpPr/>
            <p:nvPr/>
          </p:nvSpPr>
          <p:spPr>
            <a:xfrm flipV="1">
              <a:off x="2209680" y="4572000"/>
              <a:ext cx="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5410080"/>
              <a:ext cx="9144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Trautoni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95480" y="4114440"/>
            <a:ext cx="990720" cy="1067040"/>
            <a:chOff x="2895480" y="4114440"/>
            <a:chExt cx="990720" cy="1067040"/>
          </a:xfrm>
        </p:grpSpPr>
        <p:sp>
          <p:nvSpPr>
            <p:cNvPr id="92" name=""/>
            <p:cNvSpPr/>
            <p:nvPr/>
          </p:nvSpPr>
          <p:spPr>
            <a:xfrm flipV="1">
              <a:off x="3886200" y="41144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4876920"/>
              <a:ext cx="990720" cy="304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John Ca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4114440"/>
            <a:ext cx="761760" cy="1067040"/>
            <a:chOff x="3962520" y="4114440"/>
            <a:chExt cx="761760" cy="1067040"/>
          </a:xfrm>
        </p:grpSpPr>
        <p:sp>
          <p:nvSpPr>
            <p:cNvPr id="95" name=""/>
            <p:cNvSpPr/>
            <p:nvPr/>
          </p:nvSpPr>
          <p:spPr>
            <a:xfrm flipV="1">
              <a:off x="4724280" y="4114440"/>
              <a:ext cx="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2520" y="4876920"/>
              <a:ext cx="761760" cy="304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chaef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67080" y="4572000"/>
            <a:ext cx="685800" cy="1219320"/>
            <a:chOff x="4267080" y="4572000"/>
            <a:chExt cx="685800" cy="1219320"/>
          </a:xfrm>
        </p:grpSpPr>
        <p:sp>
          <p:nvSpPr>
            <p:cNvPr id="98" name=""/>
            <p:cNvSpPr/>
            <p:nvPr/>
          </p:nvSpPr>
          <p:spPr>
            <a:xfrm flipV="1">
              <a:off x="4952880" y="45720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7080" y="5486400"/>
              <a:ext cx="68580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Vare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15000" y="4114800"/>
            <a:ext cx="1219320" cy="1447920"/>
            <a:chOff x="5715000" y="4114800"/>
            <a:chExt cx="1219320" cy="1447920"/>
          </a:xfrm>
        </p:grpSpPr>
        <p:sp>
          <p:nvSpPr>
            <p:cNvPr id="101" name=""/>
            <p:cNvSpPr/>
            <p:nvPr/>
          </p:nvSpPr>
          <p:spPr>
            <a:xfrm>
              <a:off x="5715000" y="4114800"/>
              <a:ext cx="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257800"/>
              <a:ext cx="121932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Stockhaus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38880" y="4191120"/>
            <a:ext cx="1067040" cy="1066680"/>
            <a:chOff x="7238880" y="4191120"/>
            <a:chExt cx="1067040" cy="1066680"/>
          </a:xfrm>
        </p:grpSpPr>
        <p:sp>
          <p:nvSpPr>
            <p:cNvPr id="104" name=""/>
            <p:cNvSpPr/>
            <p:nvPr/>
          </p:nvSpPr>
          <p:spPr>
            <a:xfrm flipV="1">
              <a:off x="8305920" y="4191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8880" y="4952880"/>
              <a:ext cx="1067040" cy="30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ter Carl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24280" y="42670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3E71-2C36-44B4-94D5-9EE3BE3462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ierre Schaeff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schaeffer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419720" cy="4278240"/>
          </a:xfrm>
          <a:prstGeom prst="rect">
            <a:avLst/>
          </a:prstGeom>
          <a:ln w="0">
            <a:noFill/>
          </a:ln>
        </p:spPr>
      </p:pic>
      <p:pic>
        <p:nvPicPr>
          <p:cNvPr id="109" name="ortfstudio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79404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A5FC-38BB-4583-8C90-538024A9AD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CA Mark II Synthesize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markII" descr=""/>
          <p:cNvPicPr/>
          <p:nvPr/>
        </p:nvPicPr>
        <p:blipFill>
          <a:blip r:embed="rId1"/>
          <a:stretch/>
        </p:blipFill>
        <p:spPr>
          <a:xfrm>
            <a:off x="990720" y="1725480"/>
            <a:ext cx="6781680" cy="51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E5C7-1F67-4DA9-95D8-BE919FF165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Max Mathew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Realizou as primeiras experiências em 1957 nos laboratórios Bel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eus programas denominam-se Music I, II, etc... e utilizaram inicialmente a linguagem Fortra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DA1E-8076-472E-A23F-3111CC57E2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Partitura Music-V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musicV" descr=""/>
          <p:cNvPicPr/>
          <p:nvPr/>
        </p:nvPicPr>
        <p:blipFill>
          <a:blip r:embed="rId1"/>
          <a:stretch/>
        </p:blipFill>
        <p:spPr>
          <a:xfrm>
            <a:off x="1066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9DC1-3459-4B2E-9914-289A9F2C2A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Revisão de Conceit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Fundament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equência predominante fisicoacusticamente e psicoacusticamente mascarador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armônic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últiplos inteiros da Fundamental (inclusive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narmônic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últiplos não-inteiros da Fundamenta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arciai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njunto de todos os componente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undamental + Harmônicos + Inarmônico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0A88-8597-4EA0-8E71-AFEB112E30A0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5:14Z</dcterms:created>
  <dc:creator>Departamento de Musica</dc:creator>
  <dc:description/>
  <dc:language>en-US</dc:language>
  <cp:lastModifiedBy>glr</cp:lastModifiedBy>
  <dcterms:modified xsi:type="dcterms:W3CDTF">2000-03-20T14:33:16Z</dcterms:modified>
  <cp:revision>63</cp:revision>
  <dc:subject>Microfones</dc:subject>
  <dc:title>Síntese de Sons</dc:title>
</cp:coreProperties>
</file>