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90313-4009-4806-A50C-D22470DC98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A0E8C-7D62-455B-8807-46BC3D9D0A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EFA27-92E6-45A2-9C28-EE3A3E0731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124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345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124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345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F44C0-CEB5-4D17-93F0-B1E2DFF094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3C1CE-36F5-4FCD-B138-B6CF2E20BF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8F711-02F7-44C8-B5A9-7CC0D02149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1C539-8ED4-44F9-8028-6F649CF263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B7C51-6C1B-42FF-812F-8606E9D1DE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09800" y="4759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65F1A-729B-492F-B879-27102ED05A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300B0-E127-4667-A3D0-BB809DB61C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8D94F-8A7B-4122-BAB1-ACE7AFF97A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A411D-15FB-475C-8FBC-E625E69AEA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92200" y="476280"/>
            <a:ext cx="7859520" cy="1144440"/>
            <a:chOff x="592200" y="476280"/>
            <a:chExt cx="7859520" cy="1144440"/>
          </a:xfrm>
        </p:grpSpPr>
        <p:sp>
          <p:nvSpPr>
            <p:cNvPr id="1" name=""/>
            <p:cNvSpPr/>
            <p:nvPr/>
          </p:nvSpPr>
          <p:spPr>
            <a:xfrm>
              <a:off x="592200" y="476280"/>
              <a:ext cx="69840" cy="1144440"/>
            </a:xfrm>
            <a:custGeom>
              <a:avLst/>
              <a:gdLst/>
              <a:ahLst/>
              <a:rect l="l" t="t" r="r" b="b"/>
              <a:pathLst>
                <a:path w="44" h="721">
                  <a:moveTo>
                    <a:pt x="0" y="0"/>
                  </a:moveTo>
                  <a:lnTo>
                    <a:pt x="43" y="48"/>
                  </a:lnTo>
                  <a:lnTo>
                    <a:pt x="43" y="672"/>
                  </a:lnTo>
                  <a:lnTo>
                    <a:pt x="0" y="720"/>
                  </a:lnTo>
                  <a:lnTo>
                    <a:pt x="0" y="0"/>
                  </a:lnTo>
                </a:path>
              </a:pathLst>
            </a:custGeom>
            <a:solidFill>
              <a:srgbClr val="ffa04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92200" y="476280"/>
              <a:ext cx="7859520" cy="77760"/>
            </a:xfrm>
            <a:custGeom>
              <a:avLst/>
              <a:gdLst/>
              <a:ahLst/>
              <a:rect l="l" t="t" r="r" b="b"/>
              <a:pathLst>
                <a:path w="4951" h="49">
                  <a:moveTo>
                    <a:pt x="0" y="0"/>
                  </a:moveTo>
                  <a:lnTo>
                    <a:pt x="43" y="48"/>
                  </a:lnTo>
                  <a:lnTo>
                    <a:pt x="4907" y="48"/>
                  </a:lnTo>
                  <a:lnTo>
                    <a:pt x="4950" y="0"/>
                  </a:lnTo>
                  <a:lnTo>
                    <a:pt x="0" y="0"/>
                  </a:lnTo>
                </a:path>
              </a:pathLst>
            </a:custGeom>
            <a:solidFill>
              <a:srgbClr val="ffe0c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1880" y="476280"/>
              <a:ext cx="69840" cy="1144440"/>
            </a:xfrm>
            <a:custGeom>
              <a:avLst/>
              <a:gdLst/>
              <a:ahLst/>
              <a:rect l="l" t="t" r="r" b="b"/>
              <a:pathLst>
                <a:path w="44" h="721">
                  <a:moveTo>
                    <a:pt x="43" y="0"/>
                  </a:moveTo>
                  <a:lnTo>
                    <a:pt x="0" y="48"/>
                  </a:lnTo>
                  <a:lnTo>
                    <a:pt x="0" y="672"/>
                  </a:lnTo>
                  <a:lnTo>
                    <a:pt x="43" y="720"/>
                  </a:lnTo>
                  <a:lnTo>
                    <a:pt x="43" y="0"/>
                  </a:lnTo>
                </a:path>
              </a:pathLst>
            </a:custGeom>
            <a:solidFill>
              <a:srgbClr val="ffa04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92200" y="1542960"/>
              <a:ext cx="7859520" cy="77760"/>
            </a:xfrm>
            <a:custGeom>
              <a:avLst/>
              <a:gdLst/>
              <a:ahLst/>
              <a:rect l="l" t="t" r="r" b="b"/>
              <a:pathLst>
                <a:path w="4951" h="49">
                  <a:moveTo>
                    <a:pt x="4950" y="48"/>
                  </a:moveTo>
                  <a:lnTo>
                    <a:pt x="4907" y="0"/>
                  </a:lnTo>
                  <a:lnTo>
                    <a:pt x="43" y="0"/>
                  </a:lnTo>
                  <a:lnTo>
                    <a:pt x="0" y="48"/>
                  </a:lnTo>
                  <a:lnTo>
                    <a:pt x="4950" y="48"/>
                  </a:lnTo>
                </a:path>
              </a:pathLst>
            </a:custGeom>
            <a:solidFill>
              <a:srgbClr val="c0600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0240" y="552600"/>
              <a:ext cx="7721640" cy="990360"/>
            </a:xfrm>
            <a:prstGeom prst="rect">
              <a:avLst/>
            </a:prstGeom>
            <a:gradFill rotWithShape="0">
              <a:gsLst>
                <a:gs pos="0">
                  <a:srgbClr val="b26600"/>
                </a:gs>
                <a:gs pos="50000">
                  <a:srgbClr val="e08000"/>
                </a:gs>
                <a:gs pos="100000">
                  <a:srgbClr val="b26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542960" indent="-17136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2000160" indent="-17136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2000160" indent="-171360" algn="just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2000160" indent="-171360" algn="just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Geber Ramalho &amp; Osman Giuseppe Gioia      Computação Musical e Processamento de Sinais 2000/19       Síntese 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EF92-69B2-4D30-AA73-BFE4DAE9BD6E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Síntese III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Subtrativa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Amostragem Digital (Sampling)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FM e outros Métodos de Síntese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lementos da Linguagem Musical 2 - III Categorias - Osman Giuseppe Gio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831AE-052C-4520-AB73-432F758B7706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Síntese por Leitura de Múltiplas Tabela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Principal técnica utilizada nos atuais sintetizadore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4" name="55" descr=""/>
          <p:cNvPicPr/>
          <p:nvPr/>
        </p:nvPicPr>
        <p:blipFill>
          <a:blip r:embed="rId1"/>
          <a:stretch/>
        </p:blipFill>
        <p:spPr>
          <a:xfrm>
            <a:off x="2666880" y="2971800"/>
            <a:ext cx="3810240" cy="37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lementos da Linguagem Musical 2 - III Categorias - Osman Giuseppe Gio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AB40D-9975-4CD2-A55A-3BB79B47C861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Síntese por Modulação em Frequência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Modulação </a:t>
            </a:r>
            <a:r>
              <a:rPr b="1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 Sinal Portador (carrier) varia de acordo com Sinal Modulador (modulator)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Patente de John Chowning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Book Antiqua"/>
              </a:rPr>
              <a:t>Universidade de Stanford no início dos anos 70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1" lang="pt-BR" sz="2000" spc="-1" strike="noStrike">
                <a:solidFill>
                  <a:srgbClr val="ffffff"/>
                </a:solidFill>
                <a:latin typeface="Book Antiqua"/>
              </a:rPr>
              <a:t>Descobri que com somente duas ondas senoidais posso gerar uma enorme gama de sons complexos os quais, por outros meios exigiriam ferramentas muito mais poderosas”</a:t>
            </a:r>
            <a:r>
              <a:rPr b="1" lang="pt-BR" sz="16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Yamaha adquiriu a licença em 75  e lançou o DX7 em 83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lementos da Linguagem Musical 2 - III Categorias - Osman Giuseppe Gio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86411-5A71-48D4-83F5-487994C944B1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Equação Fundamental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8" name="fmequac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18400" cy="433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lementos da Linguagem Musical 2 - III Categorias - Osman Giuseppe Gio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DCB96-88AB-4EEF-B417-175C1CCD7E27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Razão Carrier: Modulator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1" name="610" descr=""/>
          <p:cNvPicPr/>
          <p:nvPr/>
        </p:nvPicPr>
        <p:blipFill>
          <a:blip r:embed="rId1"/>
          <a:stretch/>
        </p:blipFill>
        <p:spPr>
          <a:xfrm>
            <a:off x="2133720" y="3484440"/>
            <a:ext cx="5405400" cy="33735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38080" y="1905120"/>
            <a:ext cx="784872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C:M = Inteiro </a:t>
            </a:r>
            <a:r>
              <a:rPr b="1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 Bandas harmôn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C:M </a:t>
            </a:r>
            <a:r>
              <a:rPr b="1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 Inteiro </a:t>
            </a:r>
            <a:r>
              <a:rPr b="1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 Bandas inarmôn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500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lementos da Linguagem Musical 2 - III Categorias - Osman Giuseppe Gio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0D914-CC80-499A-A148-702D87699D21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ook Antiqua"/>
              </a:rPr>
              <a:t>Largura de Banda = Índice de Modulação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4" name="611" descr=""/>
          <p:cNvPicPr/>
          <p:nvPr/>
        </p:nvPicPr>
        <p:blipFill>
          <a:blip r:embed="rId1"/>
          <a:stretch/>
        </p:blipFill>
        <p:spPr>
          <a:xfrm>
            <a:off x="2263680" y="1752480"/>
            <a:ext cx="467532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lementos da Linguagem Musical 2 - III Categorias - Osman Giuseppe Gio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857E3-1DE3-4735-985B-08697C994372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Instrumento FM Simple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6" name="614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400068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lementos da Linguagem Musical 2 - III Categorias - Osman Giuseppe Gio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4ADFE-CC9B-4C9C-A51E-3DECC440B580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Operador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8" name="operator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477120" cy="446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lementos da Linguagem Musical 2 - III Categorias - Osman Giuseppe Gio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5126B-CB19-4C30-8C1F-EC3F7C7D21D2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Algoritmo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Yamaha DX-7 possui 6 operadores em 32 diferentes configuraçõe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1" name="algorim" descr=""/>
          <p:cNvPicPr/>
          <p:nvPr/>
        </p:nvPicPr>
        <p:blipFill>
          <a:blip r:embed="rId1"/>
          <a:stretch/>
        </p:blipFill>
        <p:spPr>
          <a:xfrm>
            <a:off x="1066680" y="2819520"/>
            <a:ext cx="7467840" cy="387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lementos da Linguagem Musical 2 - III Categorias - Osman Giuseppe Gio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55073-36EF-4653-81CD-C2A7D02E93DD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Amostragem Digital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1049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ook Antiqua"/>
              </a:rPr>
              <a:t>Digitalização  de Fragmentos Sonoros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1049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ook Antiqua"/>
              </a:rPr>
              <a:t>Execução em  Laço e Mudança de Afinação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1049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ook Antiqua"/>
              </a:rPr>
              <a:t>Primeiras Manifestações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Música Concreta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Analógico mais famoso: Mellotron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Primeiro Sampler Digital: Fairlight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8 bits e preço acima de $25.000,00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lementos da Linguagem Musical 2 - III Categorias - Osman Giuseppe Gio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E855B-6904-41C6-A6F2-835CB397150D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Técnicas de Laço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Tiro único (one shot)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Definição de pontos início e terminação de laç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Modo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Frente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Reverso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Bidirecional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6" name="44" descr=""/>
          <p:cNvPicPr/>
          <p:nvPr/>
        </p:nvPicPr>
        <p:blipFill>
          <a:blip r:embed="rId1"/>
          <a:stretch/>
        </p:blipFill>
        <p:spPr>
          <a:xfrm>
            <a:off x="3352680" y="3429000"/>
            <a:ext cx="5410440" cy="274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lementos da Linguagem Musical 2 - III Categorias - Osman Giuseppe Gio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900F0-28C3-46F3-A701-2940F6042C4F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Síntese Subtrativa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1199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ook Antiqua"/>
              </a:rPr>
              <a:t>Formas de onda complexas  moldadas por filtros variantes no tempo</a:t>
            </a: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1199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ook Antiqua"/>
              </a:rPr>
              <a:t>Módulo Principais</a:t>
            </a: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1049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ook Antiqua"/>
              </a:rPr>
              <a:t>Osciladores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1049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ook Antiqua"/>
              </a:rPr>
              <a:t>Filtros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1049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ook Antiqua"/>
              </a:rPr>
              <a:t>Amplificadores 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1049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ook Antiqua"/>
              </a:rPr>
              <a:t>Geradores de Envoltória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lementos da Linguagem Musical 2 - III Categorias - Osman Giuseppe Gio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96219-A90D-4DDF-96E8-33FCA8334BC3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Desvio de Afinação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Munchising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Multi-amostragem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9" name="keyboard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6840360" cy="181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lementos da Linguagem Musical 2 - III Categorias - Osman Giuseppe Gio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C3409-4FF7-4E70-813F-8D2A95490CD9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2 Técnicas de Modificação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1049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ook Antiqua"/>
              </a:rPr>
              <a:t>Variação do clock do DAC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Necessita de um DAC para cada nota simultânea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Altera a duração da amostra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1049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ook Antiqua"/>
              </a:rPr>
              <a:t>Conversão da frequência de amostragem (resampling) por Decimação e Interpolação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Modifica a afinação das amostras sem variar a frequência de reprodução 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lementos da Linguagem Musical 2 - III Categorias - Osman Giuseppe Gio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745A3-1532-4117-B57F-F99FC4D616F7}" type="slidenum">
              <a:t>21</a:t>
            </a:fld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Decimação e Interpolação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3" name="48" descr=""/>
          <p:cNvPicPr/>
          <p:nvPr/>
        </p:nvPicPr>
        <p:blipFill>
          <a:blip r:embed="rId1"/>
          <a:stretch/>
        </p:blipFill>
        <p:spPr>
          <a:xfrm>
            <a:off x="1600200" y="1754280"/>
            <a:ext cx="6172200" cy="510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lementos da Linguagem Musical 2 - III Categorias - Osman Giuseppe Gio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38B2D-DE2D-46BD-BDA9-FE54C6D5FFB2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Modelagem Físico-Acústica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Modelo matemático descritor das propriedades físico-acústicas do modo de produção do som a partir de uma fonte sonora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68560" indent="-26856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Equações descrevem a mecânica e a acústica de um instrumento sendo executad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68560" indent="-26856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Princípio Fundamenta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44400" indent="-21456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Excitação e Ressonância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44400" indent="-21456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2 Classe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74240" indent="-21456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Book Antiqua"/>
              </a:rPr>
              <a:t>Acoplados (Realimentados)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074240" indent="-21456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Book Antiqua"/>
              </a:rPr>
              <a:t>Desacoplados (Não realimentados</a:t>
            </a: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6856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lementos da Linguagem Musical 2 - III Categorias - Osman Giuseppe Gio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6B6CC-E6C2-4CAF-9C05-F87464B41280}" type="slidenum">
              <a:t>23</a:t>
            </a:fld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Modelagem Físico-Acústica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1049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ook Antiqua"/>
              </a:rPr>
              <a:t>Objetivos Científico: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Book Antiqua"/>
              </a:rPr>
              <a:t>Levantamento da capacidade de equações matemáticas e da lógica algorítmica em simular os mecanismos produtores de som dos instrumentos existentes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1049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ook Antiqua"/>
              </a:rPr>
              <a:t>Objetivo Artístico:</a:t>
            </a:r>
            <a:endParaRPr b="1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Book Antiqua"/>
              </a:rPr>
              <a:t>Simulação tanto de instrumentos reais quanto virtuais, através da distorção de parâmetros ou combinação não trivial de módulos 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751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Book Antiqua"/>
              </a:rPr>
              <a:t>Capta não só as a relação nota/timbre como também as irregularidades de execução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lementos da Linguagem Musical 2 - III Categorias - Osman Giuseppe Gio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9EE41-3A94-4ACC-9D0A-C6F9E0C49F69}" type="slidenum">
              <a:t>24</a:t>
            </a:fld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Especificação Clássica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Dimensões físicas e constantes de vibraçã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74320" indent="-27432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Valores limítrofes de cada uma das variávei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74320" indent="-27432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Descrição algorítmica dos modos de vibraçã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74320" indent="-27432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Impedância do sistema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74320" indent="-27432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Filtragem derivada de interatividade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74320" indent="-27432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As equações resultantes são submetidas ao estado inicial e à excitação e resolvidas por um procedimento interativo de aproximação sucessiva que procura os valores simultâneos de diversas variáveis interdependente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74320" indent="0" algn="just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lementos da Linguagem Musical 2 - III Categorias - Osman Giuseppe Gio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885A0-589D-4906-B412-8DDB77CF0836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Modelagem da Voz Humana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1" name="711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508880" cy="468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lementos da Linguagem Musical 2 - III Categorias - Osman Giuseppe Gio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8E017-2A31-4188-8CF8-889E1E871828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9600" spc="-1" strike="noStrike">
                <a:solidFill>
                  <a:srgbClr val="ffffff"/>
                </a:solidFill>
                <a:latin typeface="Monotype Corsiva"/>
              </a:rPr>
              <a:t>FIM</a:t>
            </a:r>
            <a:endParaRPr b="1" lang="en-US" sz="9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lementos da Linguagem Musical 2 - III Categorias - Osman Giuseppe Gio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1A258-1B64-43D3-8712-1F31544B2743}" type="slidenum">
              <a:t>27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Oscilador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 algn="just">
              <a:lnSpc>
                <a:spcPct val="8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Unidade geradora de  sinais de áudio ricos em harmônico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77200" indent="-277200" algn="just">
              <a:lnSpc>
                <a:spcPct val="8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Formas de onda padrão utilizadas originalmente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64920" indent="-221400" algn="just">
              <a:lnSpc>
                <a:spcPct val="8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Triangular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64920" indent="-221400" algn="just">
              <a:lnSpc>
                <a:spcPct val="8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Dente de serra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64920" indent="-221400" algn="just">
              <a:lnSpc>
                <a:spcPct val="8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Quadrada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64920" indent="-221400" algn="just">
              <a:lnSpc>
                <a:spcPct val="8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Senoidal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77200" indent="-277200" algn="just">
              <a:lnSpc>
                <a:spcPct val="8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Controle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64920" indent="-221400" algn="just">
              <a:lnSpc>
                <a:spcPct val="8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Frequência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64920" indent="-221400" algn="just">
              <a:lnSpc>
                <a:spcPct val="8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Intensidade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64920" indent="-221400" algn="just">
              <a:lnSpc>
                <a:spcPct val="8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Sinal de controle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64920" indent="-221400" algn="just">
              <a:lnSpc>
                <a:spcPct val="8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Sincronismo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"/>
          <p:cNvSpPr/>
          <p:nvPr/>
        </p:nvSpPr>
        <p:spPr>
          <a:xfrm>
            <a:off x="646128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031000" y="3352680"/>
            <a:ext cx="3028680" cy="2394720"/>
            <a:chOff x="5031000" y="3352680"/>
            <a:chExt cx="3028680" cy="2394720"/>
          </a:xfrm>
        </p:grpSpPr>
        <p:sp>
          <p:nvSpPr>
            <p:cNvPr id="55" name=""/>
            <p:cNvSpPr/>
            <p:nvPr/>
          </p:nvSpPr>
          <p:spPr>
            <a:xfrm>
              <a:off x="6019920" y="3962160"/>
              <a:ext cx="1066680" cy="1219320"/>
            </a:xfrm>
            <a:prstGeom prst="flowChartDelay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imes New Roman"/>
                </a:rPr>
                <a:t>os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62720" y="41907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562720" y="4800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6324480" y="365760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400800" y="518148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086600" y="457200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22800" y="33526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Ga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98040" y="541008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Sin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031360" y="39621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Fre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031000" y="4572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Am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392960" y="4419360"/>
              <a:ext cx="66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Saíd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lementos da Linguagem Musical 2 - III Categorias - Osman Giuseppe Gio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5A498-A267-42CA-80CB-643B75077C73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Formas de Onda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67" name="saw" descr=""/>
          <p:cNvPicPr/>
          <p:nvPr/>
        </p:nvPicPr>
        <p:blipFill>
          <a:blip r:embed="rId1"/>
          <a:stretch/>
        </p:blipFill>
        <p:spPr>
          <a:xfrm>
            <a:off x="838080" y="1644480"/>
            <a:ext cx="7334280" cy="521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lementos da Linguagem Musical 2 - III Categorias - Osman Giuseppe Gio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DB466-F61C-41D9-8519-4BFFA2CFDCA5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Filtro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 algn="just">
              <a:lnSpc>
                <a:spcPct val="8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Filtra a Forma de onda gerada pelo oscilador de modo a modelar o espectro desejad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74320" indent="-274320" algn="just">
              <a:lnSpc>
                <a:spcPct val="8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Tipo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58080" indent="-219240" algn="just">
              <a:lnSpc>
                <a:spcPct val="8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Passa baixas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58080" indent="-219240" algn="just">
              <a:lnSpc>
                <a:spcPct val="8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Passa bandas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58080" indent="-219240" algn="just">
              <a:lnSpc>
                <a:spcPct val="8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Passa altas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58080" indent="-219240" algn="just">
              <a:lnSpc>
                <a:spcPct val="8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Corte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74320" indent="-274320" algn="just">
              <a:lnSpc>
                <a:spcPct val="8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Controle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58080" indent="-219240" algn="just">
              <a:lnSpc>
                <a:spcPct val="8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Gate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58080" indent="-219240" algn="just">
              <a:lnSpc>
                <a:spcPct val="8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Controle de envoltória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58080" indent="-219240" algn="just">
              <a:lnSpc>
                <a:spcPct val="8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Frequência de Corte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58080" indent="-219240" algn="just">
              <a:lnSpc>
                <a:spcPct val="8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Amplitude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58080" indent="-219240" algn="just">
              <a:lnSpc>
                <a:spcPct val="8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Ressonância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5808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4802400" y="3276720"/>
            <a:ext cx="2519640" cy="2470680"/>
            <a:chOff x="4802400" y="3276720"/>
            <a:chExt cx="2519640" cy="2470680"/>
          </a:xfrm>
        </p:grpSpPr>
        <p:sp>
          <p:nvSpPr>
            <p:cNvPr id="71" name=""/>
            <p:cNvSpPr/>
            <p:nvPr/>
          </p:nvSpPr>
          <p:spPr>
            <a:xfrm rot="10800000">
              <a:off x="5486040" y="4114800"/>
              <a:ext cx="1142640" cy="914400"/>
            </a:xfrm>
            <a:prstGeom prst="flowChartOnlineStorage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Filtr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181480" y="4572000"/>
              <a:ext cx="532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29040" y="4572000"/>
              <a:ext cx="3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90960" y="3581280"/>
              <a:ext cx="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248160" y="3581280"/>
              <a:ext cx="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6324480" y="50292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5867280" y="502920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02400" y="441972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i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59440" y="434340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ou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487840" y="327672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ga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021000" y="3276720"/>
              <a:ext cx="48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en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63800" y="541008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am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97680" y="541008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r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lementos da Linguagem Musical 2 - III Categorias - Osman Giuseppe Gio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52C6E-2696-4D57-A227-1489CA7C3E6A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Amplificador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-25992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Amplifica a forma de onda proveniente do Filtr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59920" indent="-25992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Controle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23880" indent="-20772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Intensidade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745000" y="3733920"/>
            <a:ext cx="2901240" cy="1999440"/>
            <a:chOff x="2745000" y="3733920"/>
            <a:chExt cx="2901240" cy="1999440"/>
          </a:xfrm>
        </p:grpSpPr>
        <p:sp>
          <p:nvSpPr>
            <p:cNvPr id="87" name=""/>
            <p:cNvSpPr/>
            <p:nvPr/>
          </p:nvSpPr>
          <p:spPr>
            <a:xfrm rot="5400000">
              <a:off x="3397320" y="3917160"/>
              <a:ext cx="1586160" cy="1219320"/>
            </a:xfrm>
            <a:prstGeom prst="flowChartExtra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Am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8120" y="4573800"/>
              <a:ext cx="533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800600" y="457380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4114800" y="4946760"/>
              <a:ext cx="0" cy="55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45000" y="429372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i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83640" y="42937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ou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71800" y="5396040"/>
              <a:ext cx="48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en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lementos da Linguagem Musical 2 - III Categorias - Osman Giuseppe Gio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7F90C-4A3F-43DB-AAF6-32D9D1E14CA1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Módulos Adicionai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472464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Oscilador de frequências baixa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Utilizado para modular: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Oscilador = Vibrato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Filtro = Uaua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Amplificador = Tremolo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Controles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Gate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Forma de onda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Frequência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Retardo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Intensidade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Sincronismo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565240" y="2971800"/>
            <a:ext cx="3281400" cy="2166120"/>
            <a:chOff x="5565240" y="2971800"/>
            <a:chExt cx="3281400" cy="2166120"/>
          </a:xfrm>
        </p:grpSpPr>
        <p:sp>
          <p:nvSpPr>
            <p:cNvPr id="97" name=""/>
            <p:cNvSpPr/>
            <p:nvPr/>
          </p:nvSpPr>
          <p:spPr>
            <a:xfrm>
              <a:off x="7162920" y="3581280"/>
              <a:ext cx="914400" cy="914400"/>
            </a:xfrm>
            <a:prstGeom prst="flowChartDelay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LF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77320" y="403848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239240" y="320040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629400" y="388620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629400" y="434340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20120" y="320040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7391520" y="449568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7772400" y="449568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08960" y="29718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Ga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565240" y="3657600"/>
              <a:ext cx="110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Wavefor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22080" y="41148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Fre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97880" y="48006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Dela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59800" y="48006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Am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545960" y="29718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Sin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84040" y="388620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ou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lementos da Linguagem Musical 2 - III Categorias - Osman Giuseppe Gio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85CD2-8A6D-4CD2-9FB1-99DF3479EC5B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Módulos Adicionai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16292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e08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Book Antiqua"/>
              </a:rPr>
              <a:t>Gerador de Ruíd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Fornece sinal composto por todas as frequências audíveis 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Tipos: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Branco: Igual intensidade em todas as frequências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Rosa: Corte gradual nas altas frequências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Controles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75"/>
              </a:spcBef>
              <a:buClr>
                <a:srgbClr val="e08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Book Antiqua"/>
              </a:rPr>
              <a:t>Intensidade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952880" y="4724280"/>
            <a:ext cx="1892520" cy="1600920"/>
            <a:chOff x="4952880" y="4724280"/>
            <a:chExt cx="1892520" cy="1600920"/>
          </a:xfrm>
        </p:grpSpPr>
        <p:sp>
          <p:nvSpPr>
            <p:cNvPr id="115" name=""/>
            <p:cNvSpPr/>
            <p:nvPr/>
          </p:nvSpPr>
          <p:spPr>
            <a:xfrm>
              <a:off x="4952880" y="4724280"/>
              <a:ext cx="914400" cy="990720"/>
            </a:xfrm>
            <a:prstGeom prst="flowChartDelay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Noi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os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67280" y="52578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5257800" y="571500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327720" y="5105160"/>
              <a:ext cx="51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Ou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954680" y="598788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Am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lementos da Linguagem Musical 2 - III Categorias - Osman Giuseppe Gio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04BE8-4269-47E6-8DA0-EBFB409BC8D4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Book Antiqua"/>
              </a:rPr>
              <a:t>Síntese Subtrativa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1" name="subtrat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772400" cy="468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lementos da Linguagem Musical 2 - III Categorias - Osman Giuseppe Gio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60C91-7341-48D6-BD1C-C35AB6288F2B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8T14:41:15Z</dcterms:created>
  <dc:creator>Osman Giuseppe Gioia</dc:creator>
  <dc:description/>
  <dc:language>en-US</dc:language>
  <cp:lastModifiedBy>glr</cp:lastModifiedBy>
  <dcterms:modified xsi:type="dcterms:W3CDTF">2000-03-28T18:54:10Z</dcterms:modified>
  <cp:revision>37</cp:revision>
  <dc:subject/>
  <dc:title>Síntese II</dc:title>
</cp:coreProperties>
</file>