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EE6-33A1-4DED-B09F-270E1F5F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A97-1F27-41B1-94FD-F923D7E8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6A3-3088-45B8-92EF-06F7A842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591-4AB6-49B1-89FD-4BB0981C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C018-8AC2-4ED1-A531-80055062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535B-FF0F-4E7A-B259-72F3D450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3C43-0A5F-466E-80A4-CCA23F75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AC4C-7564-42BA-A72A-F3921D4E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AD76-1183-4A2A-8455-E77DF3A6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3522-AB4D-4882-92F9-11CCBE61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84E0-228B-4BA4-8CB2-B666FD58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850-7A15-4213-A4F5-51A0E6E0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C0CC-F942-4442-84D0-CF3B262C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D437-078E-4239-9F0B-85C9F82E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677A-A1EF-4B52-A70C-AF7D6358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6224-DE9F-4323-A021-7B370EB1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8EBB-9984-4812-B5F3-B83A204D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D18-18A9-48EC-954E-A085D3A8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941-A577-4454-8ED3-843E7B46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A84-99E9-4ECF-AE68-972E0331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F86-B046-48B9-8380-0249BDED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E1A-5DDD-4715-B661-73F154AB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113-CCDB-4B7F-9FCA-6D94311F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A1F-BE17-444C-84A0-5CCF95F9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5821-901B-4AFA-A61A-6090404253CA}" type="slidenum">
              <a:rPr b="0" lang="pt-B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7E7E-3942-4E0B-A912-2580EE6BDA6C}" type="slidenum">
              <a:rPr b="0" lang="pt-B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660066"/>
                </a:solidFill>
                <a:latin typeface="Tahoma"/>
              </a:rPr>
              <a:t>Extração automática de padrões musica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40458c"/>
                </a:solidFill>
                <a:latin typeface="Tahoma"/>
              </a:rPr>
              <a:t>Computação Musical e processamento de Som – 02.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59436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Hugo Santana e Márcio Dahi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quisição de Conhecimento (1/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Junto a especial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arlos Sandron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Realizou um estudo detalhado sobre o samba e sua evolução no Rio de Janeiro. Descreveu padrões rítmicos mais usados nesse estilo, incluindo Bossa-N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Livro de Walter Gar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Descreve a historia do surgimento do estilo Bossa-Nova e, principalmente, a “batida” criada por João Gilberto. Catalogou padrões mais usados pelo mús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quisição de Conhecimento (2/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aracterísticas importantes para executar um ritmo (avaliação inici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itmo Harmônico (16 possibilidad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Quantidade de acordes que aparecem em um compas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ndamento (2 possibilidad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Velocidade de Execução da músic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adrão x Varia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Quando devo sair do “feijão com arroz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ensidade (3 possibilidad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Muitas notas tocadas no acompanha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É uma virad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Volume (5 possibilidad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quisição de Cas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Base com 12 ca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1 para Bossa-Nova lenta (Sandron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5 para Bossa-Nova rápida (Sandron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3 variant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6 viradas (Nossa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Eis o Cyber-João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cyber-joao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3059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Resultad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Melhora sensível p/ o caso anteri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orém, varias questões ainda ficaram sem respos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a1002"/>
                </a:solidFill>
                <a:latin typeface="Tahoma"/>
              </a:rPr>
              <a:t>Será que cada vez que quisermos um novo estilo de música teremos que ter essa trabalheira toda novamente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Por que a sensação, em alguns momentos da música, que o sistema “poderia ser melhor” ou que “tem alguma coisa estranha”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erá que em uma música, todos os padrões podem aparecer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esumin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a1002"/>
                </a:solidFill>
                <a:latin typeface="Tahoma"/>
              </a:rPr>
              <a:t>As análises feitas das músicas foram suficientes para os nossos propósit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458c"/>
                </a:solidFill>
                <a:latin typeface="Tahoma"/>
              </a:rPr>
              <a:t>Nada que um bom extrator de padrões não possa resolver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Como extrair padrões musicais 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Várias soluções possíve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Utilizar os algoritmos feitos para as outras áre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Biologia, principalm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Tentar utilizar o conhecimento musical em nosso fav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Trade-Off: Eficiência x Flexibilidad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bordagem estrutu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Agrupar os elementos em primitivas rítmic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Pouco flexí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bordagem FlexP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Bastante flexível com efeiciência aceitá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bordagem FlExPat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5" name="Music_Icon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143000" cy="789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09480" y="3200400"/>
            <a:ext cx="1905120" cy="9907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Armazenam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Digit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2209680"/>
            <a:ext cx="0" cy="9907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20200" y="256716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458c"/>
                </a:solidFill>
                <a:latin typeface="Tahoma"/>
              </a:rPr>
              <a:t>Aquisiçã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3200400"/>
            <a:ext cx="1905120" cy="9907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Sequência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Descritor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81680" y="3200400"/>
            <a:ext cx="1905120" cy="9907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Grafo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Equipolê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5029200"/>
            <a:ext cx="1600200" cy="609480"/>
          </a:xfrm>
          <a:prstGeom prst="cloudCallout">
            <a:avLst>
              <a:gd name="adj1" fmla="val 10416"/>
              <a:gd name="adj2" fmla="val -167449"/>
            </a:avLst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Wav, Midi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373392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01600" y="38098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458c"/>
                </a:solidFill>
                <a:latin typeface="Tahoma"/>
              </a:rPr>
              <a:t>Comparaçã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2720" y="3733920"/>
            <a:ext cx="12189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80040" y="3809880"/>
            <a:ext cx="12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458c"/>
                </a:solidFill>
                <a:latin typeface="Tahoma"/>
              </a:rPr>
              <a:t>Representaçã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4724280"/>
            <a:ext cx="1828800" cy="990720"/>
          </a:xfrm>
          <a:prstGeom prst="cloudCallout">
            <a:avLst>
              <a:gd name="adj1" fmla="val 33074"/>
              <a:gd name="adj2" fmla="val -104967"/>
            </a:avLst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Frequência, duração, intensidade..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4191120"/>
            <a:ext cx="0" cy="7617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34240" y="441972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458c"/>
                </a:solidFill>
                <a:latin typeface="Tahoma"/>
              </a:rPr>
              <a:t>Categorizaçã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65280" y="4952880"/>
            <a:ext cx="1352520" cy="459720"/>
          </a:xfrm>
          <a:prstGeom prst="rect">
            <a:avLst/>
          </a:prstGeom>
          <a:solidFill>
            <a:srgbClr val="b7c1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adrõ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867280" y="5638680"/>
            <a:ext cx="3276720" cy="524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809880" y="1676520"/>
            <a:ext cx="1524240" cy="1143000"/>
          </a:xfrm>
          <a:prstGeom prst="can">
            <a:avLst>
              <a:gd name="adj" fmla="val 25000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Banco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Dados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Sequênci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81952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quisição de Informação Musical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Mecanismos já exist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MID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Áudio Digit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roblema: A informação neste formato é suficiente para o computador encontrar trechos recorrentes 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olução: Representação adequ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Representação Musical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057400" y="1676520"/>
            <a:ext cx="5638680" cy="1239840"/>
          </a:xfrm>
          <a:prstGeom prst="rect">
            <a:avLst/>
          </a:prstGeom>
          <a:ln w="38160">
            <a:solidFill>
              <a:srgbClr val="40458c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918440" y="297180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O que é recorrente no trecho acima 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5120" y="3809880"/>
            <a:ext cx="800316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ossíveis representaçõe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uração: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40458c"/>
                </a:solidFill>
                <a:latin typeface="Tahoma"/>
              </a:rPr>
              <a:t>1/8       1/8          1/8          1/8            1/2           1/8       1/8       1/8        1/8         1/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requência: P   Sol   Sol   Sol   Mi(b)   P   Fá   Fá   Fá   R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Intervalos: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P    ?      0     0      –4     P    2     0     0   -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4572000"/>
            <a:ext cx="32004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4572000"/>
            <a:ext cx="29718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5943600"/>
            <a:ext cx="21337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5943600"/>
            <a:ext cx="190476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Representação (cont.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1676520" cy="8697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82880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2514600" y="2590920"/>
            <a:ext cx="2666880" cy="882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094400" y="3429000"/>
            <a:ext cx="642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uração é uma boa representação rítmica 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ragmento 1:               ¼     ¼     ¼      ¼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ragmento 2:       1/8   ¼      ¼     ¼      ¼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5181480"/>
            <a:ext cx="8056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ossível Representação : </a:t>
            </a:r>
            <a:r>
              <a:rPr b="0" lang="pt-BR" sz="2400" spc="-1" strike="noStrike">
                <a:solidFill>
                  <a:srgbClr val="cc0000"/>
                </a:solidFill>
                <a:latin typeface="Tahoma"/>
              </a:rPr>
              <a:t>(Duração, Posição no Compass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Fragmento 1:              (¼, 1)      (¼,2)     (¼,3)        (¼,4)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Fragmento 2:  (1/8,1)  (¼,1.5)    (¼,2.5)   (¼,3.5)     (¼,4.5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4114800"/>
            <a:ext cx="304812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43800" y="2743200"/>
            <a:ext cx="12762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027" y="53156"/>
                </a:moveTo>
                <a:lnTo>
                  <a:pt x="-1290" y="4000"/>
                </a:lnTo>
              </a:path>
              <a:path w="21600" h="21600">
                <a:moveTo>
                  <a:pt x="-1290" y="0"/>
                </a:moveTo>
                <a:lnTo>
                  <a:pt x="-1290" y="21600"/>
                </a:lnTo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Trecho idêntico ?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Roteir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O que é um padrã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xtrair padrões é important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xtração de padrões musica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O problema Cyber-Jo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Result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mo extrair padrões musicai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bordagem FlExP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nclus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Comparaçã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nsidere o seguinte fragmento da música “A babaca da adega”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...E A BABACA DA ADEGA DE ABADA AFAGA A CABECA DA FADA BEBADA E CEGA A FACA...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ara encontrar recorrências, é preciso comparar fragmentos da sequê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asamento (</a:t>
            </a:r>
            <a:r>
              <a:rPr b="0" i="1" lang="pt-BR" sz="2800" spc="-1" strike="noStrike">
                <a:solidFill>
                  <a:srgbClr val="40458c"/>
                </a:solidFill>
                <a:latin typeface="Tahoma"/>
              </a:rPr>
              <a:t>Matching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40458c"/>
                </a:solidFill>
                <a:latin typeface="Tahoma"/>
              </a:rPr>
              <a:t>Matching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Ex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40458c"/>
                </a:solidFill>
                <a:latin typeface="Tahoma"/>
              </a:rPr>
              <a:t>Matching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proxim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83808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Comparação (cont.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40458c"/>
                </a:solidFill>
                <a:latin typeface="Tahoma"/>
              </a:rPr>
              <a:t>Matching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exat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Pró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Eficient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O(</a:t>
            </a:r>
            <a:r>
              <a:rPr b="0" i="1" lang="pt-BR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) comparações, onde </a:t>
            </a:r>
            <a:r>
              <a:rPr b="0" i="1" lang="pt-BR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 é o tamanho das sequênci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40458c"/>
                </a:solidFill>
                <a:latin typeface="Tahoma"/>
              </a:rPr>
              <a:t>Suffix-Trees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 podem ser utilizadas (encontra todos padrõe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Contr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Para o exemplo dado, apenas “ADA” é recorren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0000"/>
                </a:solidFill>
                <a:latin typeface="Tahoma"/>
              </a:rPr>
              <a:t>É suficiente para comparar fragmentos musicais 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40458c"/>
                </a:solidFill>
                <a:latin typeface="Tahoma"/>
              </a:rPr>
              <a:t>Matching 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proximad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Custo de Edição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Número de Inserções, Deleções ou Substituições para transformar uma sequência em out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Distância de Ediç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Menor custo de edição (ou custo ótimo) entre duas sequênci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Distância de Ediçã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Qual o menor custo para transformar S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= “BABACA” em S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= “ABADA” 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Infinitas possibilidad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DEL B A B A C A e INS A B A D 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INS A e DEL B A e SUB C por 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olução: Programação Dinâm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C(S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[0...N], S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[0...M]) =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3269160" y="6172200"/>
            <a:ext cx="46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(S1[0...(N-1)], S2[0...(M-1)])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Sub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1[N], 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2[M]</a:t>
            </a:r>
            <a:r>
              <a:rPr b="0" lang="pt-BR" sz="1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55120" y="5791320"/>
            <a:ext cx="32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(S1[0...(N)], S2[0...(M-1)])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Ins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40360" y="5410080"/>
            <a:ext cx="31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pt-BR" sz="1600" spc="-1" strike="noStrike">
                <a:solidFill>
                  <a:srgbClr val="40458c"/>
                </a:solidFill>
                <a:latin typeface="Tahoma"/>
              </a:rPr>
              <a:t>(S1[0...(N-1)], S2[0...(M)])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pt-BR" sz="1600" spc="-1" strike="noStrike">
                <a:solidFill>
                  <a:srgbClr val="40458c"/>
                </a:solidFill>
                <a:latin typeface="Tahoma"/>
              </a:rPr>
              <a:t>+ De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14600" y="57150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40458c"/>
                </a:solidFill>
                <a:uFillTx/>
                <a:latin typeface="Tahoma"/>
              </a:rPr>
              <a:t>Mínim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548640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Distância de Edição (Algoritmo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3880" y="1752480"/>
          <a:ext cx="6096240" cy="40132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/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I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/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/S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/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781680" y="5257800"/>
            <a:ext cx="76212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43600" y="4724280"/>
            <a:ext cx="76212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4267080"/>
            <a:ext cx="76212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91120" y="3733920"/>
            <a:ext cx="76176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52680" y="3276720"/>
            <a:ext cx="76212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38280" y="2743200"/>
            <a:ext cx="76212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38280" y="2209680"/>
            <a:ext cx="762120" cy="457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89080" y="601992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usto Mínimo = 2 (1 Substituição e 1 Deleçã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Comparando Sequências Musica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Mongeau &amp; Sankoff (1990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Introduziram o conceito de Distância de Edição para sequências music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lém de Inserção, Deleção e Substituiçã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Fragmentação e Consolidaç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124080" y="4724280"/>
            <a:ext cx="1857600" cy="949320"/>
          </a:xfrm>
          <a:prstGeom prst="rect">
            <a:avLst/>
          </a:prstGeom>
          <a:ln w="324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Comparando Sequências Musica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 função </a:t>
            </a:r>
            <a:r>
              <a:rPr b="1" lang="pt-BR" sz="2000" spc="-1" strike="noStrike">
                <a:solidFill>
                  <a:srgbClr val="40458c"/>
                </a:solidFill>
                <a:latin typeface="Tahoma"/>
              </a:rPr>
              <a:t>Sub(X,Y)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passa a trabalhar em mais dimensões (número de atributo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Ex: O custo para substituir a nota i1 com duração j1 pela nota i2 com duração j2 pode ser dada pela distancia euclidiana dos pontos (i1,j1) e (i2,j2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Podem ser atribuídos pesos a cada um dos atribut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w</a:t>
            </a:r>
            <a:r>
              <a:rPr b="0" i="1" lang="pt-BR" sz="1800" spc="-1" strike="noStrike" baseline="-30000">
                <a:solidFill>
                  <a:srgbClr val="40458c"/>
                </a:solidFill>
                <a:latin typeface="Tahoma"/>
                <a:ea typeface="Arial"/>
              </a:rPr>
              <a:t>i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 é o peso da característica 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i="1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a</a:t>
            </a:r>
            <a:r>
              <a:rPr b="0" i="1" lang="pt-BR" sz="1800" spc="-1" strike="noStrike" baseline="-30000">
                <a:solidFill>
                  <a:srgbClr val="40458c"/>
                </a:solidFill>
                <a:latin typeface="Tahoma"/>
                <a:ea typeface="Arial"/>
              </a:rPr>
              <a:t>xi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 e </a:t>
            </a:r>
            <a:r>
              <a:rPr b="0" i="1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a</a:t>
            </a:r>
            <a:r>
              <a:rPr b="0" i="1" lang="pt-BR" sz="1800" spc="-1" strike="noStrike" baseline="-30000">
                <a:solidFill>
                  <a:srgbClr val="40458c"/>
                </a:solidFill>
                <a:latin typeface="Tahoma"/>
                <a:ea typeface="Arial"/>
              </a:rPr>
              <a:t>yi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 - valores da característica f nos casos X e Y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i="1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sim</a:t>
            </a:r>
            <a:r>
              <a:rPr b="0" i="1" lang="pt-BR" sz="1800" spc="-1" strike="noStrike" baseline="-30000">
                <a:solidFill>
                  <a:srgbClr val="40458c"/>
                </a:solidFill>
                <a:latin typeface="Tahoma"/>
                <a:ea typeface="Arial"/>
              </a:rPr>
              <a:t>i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 - função primitiva de dissimilaridade para a 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	</a:t>
            </a:r>
            <a:r>
              <a:rPr b="0" lang="pt-BR" sz="1800" spc="-1" strike="noStrike">
                <a:solidFill>
                  <a:srgbClr val="40458c"/>
                </a:solidFill>
                <a:latin typeface="Tahoma"/>
                <a:ea typeface="Arial"/>
              </a:rPr>
              <a:t>característica 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3505320" y="4038480"/>
            <a:ext cx="2771640" cy="628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940760" y="40878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ub(X,Y) 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Grafo de Equipolênc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Idéia: Computar similaridade entre todas as subsequências válidas da sequência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ubsequências válidas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N &gt; Nmí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N &lt; Nmáx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TamOverlap(S1,S2) &lt; TamOverlapMáxim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aso a similaridade entre S1 e S2 for maior que um determinado limiar (ex. 90%), coloca-se uma aresta bidirecional de S1 para S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blema: Computar as similaridades entre TODAS as subsequências é MUITO car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olução: Programação Dinâmica novamente para evitar cálculos redundant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Grafo de Equipolênc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160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BABA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DEG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B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FAG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ABE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BEB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EG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A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ahoma"/>
              </a:rPr>
              <a:t>ABA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ahoma"/>
              </a:rPr>
              <a:t>BA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221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BABA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DEG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B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FAG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ABE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BEB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EG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A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ahoma"/>
              </a:rPr>
              <a:t>ABA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ahoma"/>
              </a:rPr>
              <a:t>BA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05120" y="2362320"/>
            <a:ext cx="3352680" cy="7617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05120" y="3200400"/>
            <a:ext cx="3352680" cy="762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52480" y="3962520"/>
            <a:ext cx="3505320" cy="11430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752480" y="4038120"/>
            <a:ext cx="3429000" cy="11430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752480" y="5257440"/>
            <a:ext cx="3353040" cy="762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981080" y="2362320"/>
            <a:ext cx="3276720" cy="7617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828800" y="3276360"/>
            <a:ext cx="335268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5257800"/>
            <a:ext cx="335268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Encontrando Categori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blema: Encontrar grupos de subsequências similares (conectados no graf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blema muito difícil (NP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bordagem FlExPat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proximação (</a:t>
            </a:r>
            <a:r>
              <a:rPr b="0" i="1" lang="pt-BR" sz="2000" spc="-1" strike="noStrike">
                <a:solidFill>
                  <a:srgbClr val="40458c"/>
                </a:solidFill>
                <a:latin typeface="Tahoma"/>
              </a:rPr>
              <a:t>Subgrafo estrela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i="1" lang="pt-BR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Pega-se a subsequência que possui mais ligações (arestas) e a remove do grafo, junto com as subsequências similares. Este grupo removido forma uma categoria (padrã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Repete-se o procedimento acima enquanto existirem subsequências no graf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Conclusõ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O grande poder do FlExPat é a flexibilida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trings, melodias, ritmos 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O algoritmo é o mesm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pesar de extremamente otimizado, seu custo ainda é muito car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Tempo: O(N</a:t>
            </a:r>
            <a:r>
              <a:rPr b="0" lang="pt-BR" sz="2000" spc="-1" strike="noStrike" baseline="30000">
                <a:solidFill>
                  <a:srgbClr val="40458c"/>
                </a:solidFill>
                <a:latin typeface="Tahoma"/>
              </a:rPr>
              <a:t>2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x T</a:t>
            </a:r>
            <a:r>
              <a:rPr b="0" lang="pt-BR" sz="2000" spc="-1" strike="noStrike" baseline="-25000">
                <a:solidFill>
                  <a:srgbClr val="40458c"/>
                </a:solidFill>
                <a:latin typeface="Tahoma"/>
              </a:rPr>
              <a:t>máx</a:t>
            </a:r>
            <a:r>
              <a:rPr b="0" lang="pt-BR" sz="2000" spc="-1" strike="noStrike" baseline="30000">
                <a:solidFill>
                  <a:srgbClr val="40458c"/>
                </a:solidFill>
                <a:latin typeface="Tahoma"/>
              </a:rPr>
              <a:t>2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Espaço: O(N</a:t>
            </a:r>
            <a:r>
              <a:rPr b="0" lang="pt-BR" sz="2000" spc="-1" strike="noStrike" baseline="30000">
                <a:solidFill>
                  <a:srgbClr val="40458c"/>
                </a:solidFill>
                <a:latin typeface="Tahoma"/>
              </a:rPr>
              <a:t>2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x T</a:t>
            </a:r>
            <a:r>
              <a:rPr b="0" lang="pt-BR" sz="2000" spc="-1" strike="noStrike" baseline="-25000">
                <a:solidFill>
                  <a:srgbClr val="40458c"/>
                </a:solidFill>
                <a:latin typeface="Tahoma"/>
              </a:rPr>
              <a:t>máx</a:t>
            </a:r>
            <a:r>
              <a:rPr b="0" lang="pt-BR" sz="2000" spc="-1" strike="noStrike" baseline="30000">
                <a:solidFill>
                  <a:srgbClr val="40458c"/>
                </a:solidFill>
                <a:latin typeface="Tahoma"/>
              </a:rPr>
              <a:t>2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Ex. Para encontrar padrões de tamanho máximo 10 em uma sequência de tamanho 1000, é necessário por volta d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Realizar 100.000.000 (cem milhões) de operaçõ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100 MB de memória (na verdade, muito mai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Na prática, no entanto, este tempo é menor (Restrições quanto ao Tmín, OverlapMáximo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O que é um padrão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egundo o Aurél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...</a:t>
            </a:r>
            <a:r>
              <a:rPr b="0" lang="pt-PT" sz="2000" spc="-1" strike="noStrike">
                <a:solidFill>
                  <a:srgbClr val="40458c"/>
                </a:solidFill>
                <a:latin typeface="Tahoma"/>
              </a:rPr>
              <a:t>2. Aquilo que serve de base ou norma para a avaliação de qualidade ou quantidade;...”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pt-PT" sz="2000" spc="-1" strike="noStrike">
                <a:solidFill>
                  <a:srgbClr val="40458c"/>
                </a:solidFill>
                <a:latin typeface="Tahoma"/>
              </a:rPr>
              <a:t>... 3. P. ext. Qualquer objeto que serve de modelo à feitura de outro.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O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Um grupo cujos fragmentos são significantemente similare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orta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Nem toda parte de um todo é um padr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 idéia de padrão só existe quando temos repetiç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É um conceito referente ao objeto de estud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Extrair padrões é importante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Biolog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E.g., encontrar seqüências de proteínas que se repetem numa cade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Econom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char regularidades em séries temporais como taxa de interesse ou preço de açõ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ecuperação de Informaçã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Recuperação Baseada em conteúdo (imagem, canção, vídeo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E em Música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Extração de padrões musica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aradigma Wyhiwyg(</a:t>
            </a:r>
            <a:r>
              <a:rPr b="0" i="1" lang="pt-BR" sz="2800" spc="-1" strike="noStrike">
                <a:solidFill>
                  <a:srgbClr val="40458c"/>
                </a:solidFill>
                <a:latin typeface="Tahoma"/>
              </a:rPr>
              <a:t>what you hum is what you get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ecuperar música ou fragmentos de música a partir de solfe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nálise musical assistida por comput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judar um musicólogo na tarefa de “entender” a música como uma manifestação cons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istemas de Acompanhamento Automátic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ugerindo padrões e como descrevê-l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Problema Cyber-João (1/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40458c"/>
                </a:solidFill>
                <a:latin typeface="Tahoma"/>
              </a:rPr>
              <a:t>D´Accord Gui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oftware desenvolvido no CIn para o auxilio do aprendizado do violã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52280" y="3429000"/>
          <a:ext cx="4267440" cy="306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3429000"/>
                    <a:ext cx="426744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4495680" y="3429000"/>
            <a:ext cx="4572000" cy="24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Problema Cyber-João (2/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Geração automática de ritmo extremamente pobre e geração manual muito trabalho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Conseqüência: os usuários do </a:t>
            </a:r>
            <a:r>
              <a:rPr b="0" i="1" lang="pt-BR" sz="2000" spc="-1" strike="noStrike">
                <a:solidFill>
                  <a:srgbClr val="40458c"/>
                </a:solidFill>
                <a:latin typeface="Tahoma"/>
              </a:rPr>
              <a:t>player e do editor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ficam desestimulado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olução: geração “inteligente” de ritm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ifícil solução computacio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Dificuldade de formalização do conhecimento usado por um executor human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Inúmeras soluções possíve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Decisões em tempo re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bordagem (1/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istemas de Acompanhamento Automátic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ada uma grade de acordes, gera melodia, ritmo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Formas de implemen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istema baseado em regr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edes neurais e/ou algoritmos genét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458c"/>
                </a:solidFill>
                <a:latin typeface="Tahoma"/>
              </a:rPr>
              <a:t>Raciocício baseado em ca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reutilizar/adaptar frases musicais colando-as umas as outr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iste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Sistema ImPACT (Prof. Geber): baixo em jazz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Hodgson’s: sax em jazz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Band-in-a-box: baixo, bateria e piano em vários estilo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bordagem (2/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458c"/>
                </a:solidFill>
                <a:latin typeface="Tahoma"/>
              </a:rPr>
              <a:t>Adaptar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 o modelo proposto no ImPA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Instrum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Baixo x Viol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Linha melódica x linha rítmic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Estil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Jazz x Bossa-N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nseqüênc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Novos casos, nova descrição, novas regras para escolha dos casos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9:02:44Z</dcterms:created>
  <dc:creator>mlmd</dc:creator>
  <dc:description/>
  <dc:language>en-US</dc:language>
  <cp:lastModifiedBy>hps</cp:lastModifiedBy>
  <dcterms:modified xsi:type="dcterms:W3CDTF">2002-08-26T16:43:22Z</dcterms:modified>
  <cp:revision>139</cp:revision>
  <dc:subject/>
  <dc:title>Informações Gerais</dc:title>
</cp:coreProperties>
</file>