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Click to edit the outline text format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601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Second Outline Leve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601"/>
              </a:spcBef>
              <a:buClr>
                <a:srgbClr val="1060b0"/>
              </a:buClr>
              <a:buFont typeface="Arial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Third Outline Leve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3" marL="1600200" indent="-228600">
              <a:spcBef>
                <a:spcPts val="601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Fourth Outline Leve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4" marL="2057400" indent="-228600">
              <a:spcBef>
                <a:spcPts val="601"/>
              </a:spcBef>
              <a:buClr>
                <a:srgbClr val="1060b0"/>
              </a:buClr>
              <a:buFont typeface="Arial MT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Fifth Outline Leve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MT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Sixth Outline Leve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MT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Seventh Outline Leve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78040"/>
            <a:ext cx="9144000" cy="0"/>
          </a:xfrm>
          <a:prstGeom prst="line">
            <a:avLst/>
          </a:prstGeom>
          <a:ln w="9360">
            <a:solidFill>
              <a:srgbClr val="00c8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98520" y="5638680"/>
            <a:ext cx="621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0bbd0"/>
                </a:solidFill>
                <a:latin typeface="Arial MT Black"/>
              </a:rPr>
              <a:t>java sound ap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915400" y="3429000"/>
            <a:ext cx="457200" cy="2362320"/>
            <a:chOff x="8915400" y="3429000"/>
            <a:chExt cx="457200" cy="2362320"/>
          </a:xfrm>
        </p:grpSpPr>
        <p:sp>
          <p:nvSpPr>
            <p:cNvPr id="4" name=""/>
            <p:cNvSpPr/>
            <p:nvPr/>
          </p:nvSpPr>
          <p:spPr>
            <a:xfrm>
              <a:off x="8915400" y="5153040"/>
              <a:ext cx="457200" cy="63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915400" y="3429000"/>
              <a:ext cx="457200" cy="63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15400" y="3683880"/>
              <a:ext cx="228600" cy="172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-266760" y="5724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060b0"/>
                </a:solidFill>
                <a:latin typeface="Futura Lt BT"/>
              </a:rPr>
              <a:t>S L I D E</a:t>
            </a:r>
            <a:r>
              <a:rPr b="1" lang="en-US" sz="1800" spc="-1" strike="noStrike">
                <a:solidFill>
                  <a:srgbClr val="1060b0"/>
                </a:solidFill>
                <a:latin typeface="Futura Lt BT"/>
              </a:rPr>
              <a:t> </a:t>
            </a:r>
            <a:fld id="{33CE372C-0DD9-4BF8-AE93-57395A936C87}" type="slidenum">
              <a:rPr b="1" lang="en-US" sz="1000" spc="-1" strike="noStrike">
                <a:solidFill>
                  <a:srgbClr val="1060b0"/>
                </a:solidFill>
                <a:latin typeface="Futura Lt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81760" y="6545160"/>
            <a:ext cx="301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060b0"/>
                </a:solidFill>
                <a:latin typeface="Futura Lt BT"/>
              </a:rPr>
              <a:t>©2000 Fábio Buchmann, Saulo Arau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81840"/>
            <a:ext cx="990720" cy="9360"/>
          </a:xfrm>
          <a:prstGeom prst="rect">
            <a:avLst/>
          </a:prstGeom>
          <a:gradFill rotWithShape="0">
            <a:gsLst>
              <a:gs pos="0">
                <a:srgbClr val="10b0cf"/>
              </a:gs>
              <a:gs pos="100000">
                <a:srgbClr val="00c8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93720" y="6553080"/>
            <a:ext cx="8450280" cy="9720"/>
          </a:xfrm>
          <a:prstGeom prst="rect">
            <a:avLst/>
          </a:prstGeom>
          <a:gradFill rotWithShape="0">
            <a:gsLst>
              <a:gs pos="0">
                <a:srgbClr val="00c8df"/>
              </a:gs>
              <a:gs pos="100000">
                <a:srgbClr val="10b0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in.ufpe.br/~fjub/cm/Teste1.java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Java Sound API 1.0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838080"/>
            <a:ext cx="621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0bbd0"/>
                </a:solidFill>
                <a:latin typeface="Arial MT Black"/>
              </a:rPr>
              <a:t>java sound ap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áudio digital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captura de áudio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captura através de dispositivos de entrada [microfones, ...]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mixagem e reprodução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ixagem e reprodução à partir de vários dispositiv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controle e codec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ajuste de volume, reverberação, etc. a aplicação de conversões entre format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tatus e notificações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recebimento de eventos relacionados à reprodução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conceitos essenciai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Manipulação do áudio digital com ou sem buffers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060b0"/>
                </a:solidFill>
                <a:latin typeface="Arial MT Black"/>
              </a:rPr>
              <a:t>Format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: distinção de </a:t>
            </a:r>
            <a:r>
              <a:rPr b="0" lang="pt-BR" sz="2400" spc="-1" strike="noStrike" u="sng">
                <a:solidFill>
                  <a:srgbClr val="1060b0"/>
                </a:solidFill>
                <a:uFillTx/>
                <a:latin typeface="Arial MT Black"/>
              </a:rPr>
              <a:t>formato de dados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 e </a:t>
            </a:r>
            <a:r>
              <a:rPr b="0" lang="pt-BR" sz="2400" spc="-1" strike="noStrike" u="sng">
                <a:solidFill>
                  <a:srgbClr val="1060b0"/>
                </a:solidFill>
                <a:uFillTx/>
                <a:latin typeface="Arial MT Black"/>
              </a:rPr>
              <a:t>formato de arquivo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formato de dados: objeto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AudioFormat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écnica da codificação [normalmente PCM]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Número de canais [1-mono, 2-estéreo ...]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axa de amostragem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Resolução da amostragem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axa de Frames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amanho do Frame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conceitos essenciai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formato de arquivo: objeto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AudioFileFormat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ipo do arquivo [WAVE, AIFF ...]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amanho do arquivo em bytes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Tamanho, em frames, dos dados contidos no arquivo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Objeto AudioFormat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conceitos essenciai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060b0"/>
                </a:solidFill>
                <a:latin typeface="Arial MT Black"/>
              </a:rPr>
              <a:t>Mixer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um mixer contém uma ou mais linhas de entrada e uma de saída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3581280"/>
          <a:ext cx="7772400" cy="16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772400" cy="1663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conceitos essenciai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060b0"/>
                </a:solidFill>
                <a:latin typeface="Arial MT Black"/>
              </a:rPr>
              <a:t>Line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elemento do pipeline de áudio digital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portas de entrada e saída nos mixers são Lines.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análogo a microfones e caixas de som ligadas fisicamente a uma mesa de som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geração de eventos associados ao início e fim da reprodução, alteração nos controles, etc.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conceitos essenciai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060b0"/>
                </a:solidFill>
                <a:latin typeface="Arial MT Black"/>
              </a:rPr>
              <a:t>Line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propriedade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Audio Format - associado ao stream de dados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Media Position - frames processados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Buffer Size - buffer interno em bytes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Level - amplitude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Active Status - em ação?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étod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Start/Stop, Pause/Resume reprodução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Flush - descarta processamento anterior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event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hierarquia de interface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2324160"/>
            <a:ext cx="853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276720"/>
            <a:ext cx="1006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276720"/>
            <a:ext cx="990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3276720"/>
            <a:ext cx="1143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ta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4360" y="4952880"/>
            <a:ext cx="1692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ourceData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4952880"/>
            <a:ext cx="1692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rgetData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4952880"/>
            <a:ext cx="1692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1" idx="2"/>
            <a:endCxn id="82" idx="0"/>
          </p:cNvCxnSpPr>
          <p:nvPr/>
        </p:nvCxnSpPr>
        <p:spPr>
          <a:xfrm rot="5400000">
            <a:off x="2790000" y="1982520"/>
            <a:ext cx="60732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1" idx="2"/>
            <a:endCxn id="83" idx="0"/>
          </p:cNvCxnSpPr>
          <p:nvPr/>
        </p:nvCxnSpPr>
        <p:spPr>
          <a:xfrm rot="5400000">
            <a:off x="3624480" y="2817000"/>
            <a:ext cx="607320" cy="313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1" idx="2"/>
            <a:endCxn id="84" idx="0"/>
          </p:cNvCxnSpPr>
          <p:nvPr/>
        </p:nvCxnSpPr>
        <p:spPr>
          <a:xfrm flipH="1" rot="16200000">
            <a:off x="4652640" y="2100600"/>
            <a:ext cx="607320" cy="174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4" idx="2"/>
            <a:endCxn id="85" idx="0"/>
          </p:cNvCxnSpPr>
          <p:nvPr/>
        </p:nvCxnSpPr>
        <p:spPr>
          <a:xfrm rot="5400000">
            <a:off x="3464280" y="2588040"/>
            <a:ext cx="1330920" cy="3399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4" idx="2"/>
            <a:endCxn id="86" idx="0"/>
          </p:cNvCxnSpPr>
          <p:nvPr/>
        </p:nvCxnSpPr>
        <p:spPr>
          <a:xfrm rot="5400000">
            <a:off x="4424760" y="3548520"/>
            <a:ext cx="1330920" cy="147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4" idx="2"/>
            <a:endCxn id="87" idx="0"/>
          </p:cNvCxnSpPr>
          <p:nvPr/>
        </p:nvCxnSpPr>
        <p:spPr>
          <a:xfrm flipH="1" rot="16200000">
            <a:off x="5377680" y="4073760"/>
            <a:ext cx="1330920" cy="427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obtendo os recursos do sistema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8458200" cy="4474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x.sound.sampled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class Teste0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ixer.Info[] descricoesDosMixers = AudioSystem.getMixerInf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ixer mix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ine.Info[] descricoesDasLinhasDeEntra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or (int i = 0; i &lt; descricoesDosMixers.length; ++i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Nome: " + descricoesDosMixers[i].getName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Versão: " + descricoesDosMixers[i].getVersion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Descrição: " + descricoesDosMixers[i].getDescription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Vendedor: " + descricoesDosMixers[i].getVendor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ixer = AudioSystem.getMixer(descricoesDosMixers[i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escricoesDasLinhasDeEntrada = mixer.getSourceLineInf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or (int j = 0; j &lt; descricoesDasLinhasDeEntrada.length; ++j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descricoesDasLinhasDeEntrada[j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geração de áudio: onda 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871640"/>
            <a:ext cx="8458200" cy="4291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x.sound.sampled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class Teste1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ile arquiv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udioInputStream entrada = nul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udioFormat formatoDaEntra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ataLine.Info descricaoDaEntra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Clip cli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rquivo = new File("teste.wav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ntrada = AudioSystem.getAudioInputStream(arquiv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ormatoDaEntrada = entrada.getForma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escricaoDaEntrada = new DataLine.Info(Clip.class, formatoDaEntrad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Continua na próxima transparê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geração de áudio: onda I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887480"/>
            <a:ext cx="8458200" cy="4656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AudioSystem.isLineSupported(descricaoDaEntrada) == fals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Não é possível reproduzir arquivos deste tipo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clip = (Clip) AudioSystem.getLine(descricaoDaEntrad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clip.open(entrad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clip.loop(Clip.LOOP_CONTINUOUSL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O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UnsupportedAudioFile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LineUnavailable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entrada != null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ntrada.clos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OException excecao) {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Suporte a Som do JDK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1.0 e 1.1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51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étodo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getAudioClip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 da classe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Applet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51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étodos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play()</a:t>
            </a: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,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loop()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,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stop() 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étodos da classe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AudioClip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som de qualidade telefônica (.au, 8-bit, 8-kHz)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1.2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étodo estático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newAudioClip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 incorporado a classe Applet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incorporação do Java Sound Engine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reprodução de áudio: arquivo 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871640"/>
            <a:ext cx="8458200" cy="4291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x.sound.sampled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class Teste2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TAXA_DE_AMOSTRAGEM = 2205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RESOLUCAO = 8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MONOFONICO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FREQUENCIA = 44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udioFormat formatoDaEntra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ataLine.Info descricaoDaEntra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ourceDataLine entra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byte[] amostr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ormatoDaEntrada = new AudioFormat(TAXA_DE_AMOSTRAGEM, RESOLUCAO, MONOFONICO, false, fals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escricaoDaEntrada = new DataLine.Info(SourceDataLine.class, formatoDaEntrad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reprodução de áudio: arquivo I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857240"/>
            <a:ext cx="8458200" cy="483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AudioSystem.isLineSupported(descricaoDaEntrada) == fals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Não é possível reproduzir arquivos deste tipo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ntrada = (SourceDataLine) AudioSystem.getLine(descricaoDaEntrad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ntrada.open(formatoDaEntrad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mostra = new byte[TAXA_DE_AMOSTRAGEM / FREQUENCIA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or (int i = 0; i &lt; amostra.length; ++i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mostra[i] = (byte) (255 * i / amostra.lengt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ntrada.star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or (; ; 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ntrada.write(amostra, 0, amostra.lengt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LineUnavailable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suporte a MID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mensagens MIDI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troca de mensagens [note on, note off, etc.]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equenciamento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tratar sequência MIDI, iniciar e parar reprodução, ajuste de tempo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íntese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simulação de instrumentos e geração de som à partir de dados MIDI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representação MID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mensagens MIDI[MidiMessage]: representa uma mensagem MIDI ‘raw’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hortMessages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,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ysexMessages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,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MetaMessage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equências e tracks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MidiEvent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: Mensagem MIDI + TimeStamp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Track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: coleção de MidiEvent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quence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: coleção de Track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dispositivos: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MidiDevice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, interface implementada por quem transmite e recebe MIDI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representação MID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transmissores e receptores: interfaces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Transmitter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 e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Receiver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equenciadores: interface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quencer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, captura e reprodução de eventos MIDI. Gera eventos ao processar mensagens MIDI.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intetizadores: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ynthesizer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, único objeto no pacote que produz dados de áudio digital.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reprodução de MIDI: arquivo 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887480"/>
            <a:ext cx="8458200" cy="4656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x.sound.midi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class Teste3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File arquiv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e sequenci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er sequenciad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arquivo = new File("teste.mid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ia = MidiSystem.getSequence(arquiv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iador = MidiSystem.getSequence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sequenciador == null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Não foi possível obter o sequenciado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iador.ope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iador.setSequence(sequencia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equenciador.star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reprodução de MIDI: arquivo I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836720"/>
            <a:ext cx="8458200" cy="17366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O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nvalidMidiData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MidiUnavailable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reprodução de MIDI: mensagem 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887480"/>
            <a:ext cx="8458200" cy="4656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mport javax.sound.midi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class Teste4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CANAL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DO = 6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rivate static final int VELOCIDADE = 9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nthesizer sintetizad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Receiver sai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hortMessage mensag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intetizador = MidiSystem.getSynthesize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sintetizador.isOpen() == tru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out.println("Não foi possível obter o sintetizado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intetizador.ope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aida = sintetizador.getReceive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 MT Black"/>
                <a:hlinkClick r:id="rId1"/>
              </a:rPr>
              <a:t>reprodução de MIDI: mensagem I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887480"/>
            <a:ext cx="8458200" cy="3926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ensagem = new ShortMessag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ensagem.setMessage(ShortMessage.NOTE_ON, CANAL, DO, VELOCIDAD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aida.send(mensagem, -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hread.sleep(2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ensagem.setMessage(ShortMessage.NOTE_OFF, CANAL, DO,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saida.send(mensagem, -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MidiUnavailable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nvalidMidiData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llegalState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 catch (InterruptedException excecao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excecao.printStackTra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utilitário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i/o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leitura e escrita de tipo de arquivos mais comuns [WAV, AIFF, MIDI]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configuração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query ao sistema à respeito de componentes e dispositivos; instalação e remoção de codecs, analisadores de arquivo, e dispositiv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Java Sound Engine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"</a:t>
            </a:r>
            <a:r>
              <a:rPr b="0" i="1" lang="pt-BR" sz="2000" spc="-1" strike="noStrike">
                <a:solidFill>
                  <a:srgbClr val="1060b0"/>
                </a:solidFill>
                <a:latin typeface="Arial MT Black"/>
              </a:rPr>
              <a:t>We wanted a very high quality playback engine handling everything from eight bit µ-law up to CD quality sound. We wanted portability across platforms such as the Solaris</a:t>
            </a:r>
            <a:r>
              <a:rPr b="0" i="1" lang="pt-BR" sz="2000" spc="-1" strike="noStrike" baseline="30000">
                <a:solidFill>
                  <a:srgbClr val="1060b0"/>
                </a:solidFill>
                <a:latin typeface="Arial MT Black"/>
              </a:rPr>
              <a:t>TM</a:t>
            </a:r>
            <a:r>
              <a:rPr b="0" i="1" lang="pt-BR" sz="2000" spc="-1" strike="noStrike">
                <a:solidFill>
                  <a:srgbClr val="1060b0"/>
                </a:solidFill>
                <a:latin typeface="Arial MT Black"/>
              </a:rPr>
              <a:t> platform, Windows, Mac and others. We also wanted a highly developed MIDI capability across the various platforms. Using those criteria, the logical choice was the Beatnik Audio Engine (formerly Headspace.)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”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 algn="r">
              <a:spcBef>
                <a:spcPts val="499"/>
              </a:spcBef>
              <a:spcAft>
                <a:spcPts val="499"/>
              </a:spcAft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1060b0"/>
                </a:solidFill>
                <a:latin typeface="Arial MT Black"/>
              </a:rPr>
              <a:t>Michael Bundschuh</a:t>
            </a: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, Java Media manager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perguntas?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por quê Java Sound usa código nativo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como se relaciona com Java Media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quando ocorrerá(eu) o lançamento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uporte a: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browsers ?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P3 ?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entrada MIDI ?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áudio de qualidade profissional ?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plataformas adicionais?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Java Sound Engine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.aiff, au e .wav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.mid tipos 0 e 1 e rmf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resolução de 8 ou 16 bits, mono ou estéreo, variando de 8 a 48 kHz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codificação linear, a-law ou </a:t>
            </a:r>
            <a:r>
              <a:rPr b="0" i="1" lang="pt-BR" sz="2000" spc="-1" strike="noStrike">
                <a:solidFill>
                  <a:srgbClr val="1060b0"/>
                </a:solidFill>
                <a:latin typeface="Arial MT Black"/>
              </a:rPr>
              <a:t>µ-</a:t>
            </a: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law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íntese midi por wavetable em software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mixer de 64 canais de áudio digital ou midi em software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Porque a Java Sound API?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ajustar o volume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saber que o som está sendo tocado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gerar arquivos de 1 Gb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fazer streaming e tocar conteúdo gerado dinamicamente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gravar som?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java sound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áudio digital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consultar a configuração do sistema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alocar recurs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capturar e reproduzir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processar áudio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manipular e converter arquiv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marL="332640" indent="-33264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midi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consultar a configuração do sistema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alocar recursos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transmitir e receber eventos midi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  <a:p>
            <a:pPr lvl="1" marL="720720" indent="-277200">
              <a:spcBef>
                <a:spcPts val="499"/>
              </a:spcBef>
              <a:buClr>
                <a:srgbClr val="1060b0"/>
              </a:buClr>
              <a:buFont typeface="Arial MT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060b0"/>
                </a:solidFill>
                <a:latin typeface="Arial MT Black"/>
              </a:rPr>
              <a:t>gravar, manipular e reproduzir seqüências midi</a:t>
            </a:r>
            <a:endParaRPr b="0" lang="en-US" sz="20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Público da Java Sound AP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desenvolvedores de aplicações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provedores de serviços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60b0"/>
                </a:solidFill>
                <a:latin typeface="Arial MT Black"/>
              </a:rPr>
              <a:t>implementadores da API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MT Black"/>
              </a:rPr>
              <a:t>java media APIs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Sound (baixo nível) - JDK 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Media Framework (alto nível)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3D (alto nível) 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2D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Speech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Advanced Imaging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Shared Data Toolkit 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Java Telephony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b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MT Black"/>
              </a:rPr>
              <a:t>estrutura da API</a:t>
            </a:r>
            <a:endParaRPr b="0" lang="en-US" sz="3600" spc="-1" strike="noStrike">
              <a:solidFill>
                <a:srgbClr val="ffffff"/>
              </a:solidFill>
              <a:latin typeface="Arial MT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60b0"/>
              </a:buClr>
              <a:buSzPct val="70000"/>
              <a:buFont typeface="Symbol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060b0"/>
                </a:solidFill>
                <a:latin typeface="Arial MT Black"/>
              </a:rPr>
              <a:t>dois pacotes distintos:</a:t>
            </a:r>
            <a:endParaRPr b="0" lang="en-US" sz="24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javax.media.sound.sampled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Captura, mixagem, e reprodução de áudio digital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javax.media.sound.midi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  <a:p>
            <a:pPr lvl="2" marL="1143000" indent="-228600">
              <a:spcBef>
                <a:spcPts val="451"/>
              </a:spcBef>
              <a:buClr>
                <a:srgbClr val="1060b0"/>
              </a:buClr>
              <a:buFont typeface="Arial MT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0b0"/>
                </a:solidFill>
                <a:latin typeface="Arial MT Black"/>
              </a:rPr>
              <a:t>Síntese MIDI, sequenciamento, e transporte de eventos</a:t>
            </a:r>
            <a:endParaRPr b="0" lang="en-US" sz="1800" spc="-1" strike="noStrike">
              <a:solidFill>
                <a:srgbClr val="1060b0"/>
              </a:solidFill>
              <a:latin typeface="Arial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30T23:33:00Z</dcterms:created>
  <dc:creator>CESAR</dc:creator>
  <dc:description/>
  <dc:language>en-US</dc:language>
  <cp:lastModifiedBy>Saulo Medeiros de Araujo</cp:lastModifiedBy>
  <dcterms:modified xsi:type="dcterms:W3CDTF">2000-05-12T12:22:27Z</dcterms:modified>
  <cp:revision>153</cp:revision>
  <dc:subject/>
  <dc:title>JavaSound</dc:title>
</cp:coreProperties>
</file>