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B10-4A64-4855-BBD0-C9200766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D4D-3311-4FAA-BC43-5647F525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053-C3F5-40F6-84FA-BB7953E6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975-3233-4ACC-AE34-7C8D6B83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792-4005-4F4D-A9A9-15B7EFFD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2B1-8C68-4095-93E7-24A86E69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F13-C3FD-48BC-B170-F7F79CE7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FA5-EE20-44F3-AC3F-95CB51B4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A48-A02A-40C3-AB13-69E3B0DA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28A-28C9-4E60-AD16-E00E7B6B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4B8-C081-4A29-A927-5CA217B3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104-DC50-417C-9669-2E3BC0D6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4F4F-9A37-4EDE-BE4E-F9CB40099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va 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O que é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Java Sound Eng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lasses importan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xemplo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Diagrama de Class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ddddd"/>
                </a:solidFill>
                <a:uFillTx/>
                <a:latin typeface="Comic Sans MS"/>
              </a:rPr>
              <a:t>http://falkhausen.com/en/diagram/spec/javax.sound.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ne(1/2)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21840" y="1731960"/>
            <a:ext cx="85503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Representa um caminho por onde o som flu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ip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Cli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ntrada de áudio sem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strea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SourceData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ntrada de áudio com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strea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P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ntrada ou saída de dispositivo (microfone, alto-falante etc.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TargetData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aída de áudio com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strea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Mix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ne(2/2)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uncionalid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ontroles (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controls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volume, panorama,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reverb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et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tatus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berto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echado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berto, aloca recursos exclusivam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echado, libe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vent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nvia os eventos para os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listeners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cadastrad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ubinterfaces introduzem mais event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udio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Agrupa métodos estáticos para alocar os principais recursos do sistem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Mixers, Lines, AudioInputStreams, conversores de formato etc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eralmente, a requisição do recurso é feita através da </a:t>
            </a:r>
            <a:r>
              <a:rPr b="0" i="1" lang="en-US" sz="2300" spc="-1" strike="noStrike">
                <a:solidFill>
                  <a:srgbClr val="ffffff"/>
                </a:solidFill>
                <a:latin typeface="Tahoma"/>
              </a:rPr>
              <a:t>inner class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ourier New"/>
              </a:rPr>
              <a:t>Info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do mesmo recurs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tatic Mixer getMixer(Mixer.Info info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tatic Line getLine(Line.Info info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udioInputSt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35240" y="2154240"/>
            <a:ext cx="8550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InputStrea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crescido de </a:t>
            </a: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Audio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ormato de áudio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amanho do segmento de dados (em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frames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osicão atual (em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frames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amanho do frame (em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ytes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Gravação a partir do Microfo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assaBaixa de n estági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xempl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cum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Java Med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ddddd"/>
                </a:solidFill>
                <a:uFillTx/>
                <a:latin typeface="Tahoma"/>
              </a:rPr>
              <a:t>http://java.sun.com/products/java-media/sound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P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ddddd"/>
                </a:solidFill>
                <a:uFillTx/>
                <a:latin typeface="Tahoma"/>
              </a:rPr>
              <a:t>http://java.sun.com/products/java-media/sound/doc-sampled.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Guia do Programad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ddddd"/>
                </a:solidFill>
                <a:uFillTx/>
                <a:latin typeface="Tahoma"/>
              </a:rPr>
              <a:t>http://java.sun.com/j2se/1.4.1/docs/guide/sound/programmer_guide/contents.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Java Sound Resour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dddddd"/>
                </a:solidFill>
                <a:uFillTx/>
                <a:latin typeface="Tahoma"/>
              </a:rPr>
              <a:t>http://www.jsresources.or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 que é? (1/3)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8200" y="2095200"/>
            <a:ext cx="85518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I Java para manipular sons (áudio e MID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ponível a partir do jdk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pac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javax.sound.sampl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captura, mixagem e reprodução de áudio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javax.sound.mid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íntese, sequenciamento, transporte de 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ervice provider interfa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implementação de serviços adicionais 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lug-i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javax.sound.sampled.sp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p3, conversão de forma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javax.sound.midi.sp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ntetizadores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oundban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 que é? (2/3)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anipulação de áudio em baixo ní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Outras APIs consideradas alto-nível (</a:t>
            </a:r>
            <a:r>
              <a:rPr b="0" i="1" lang="en-US" sz="2300" spc="-1" strike="noStrike">
                <a:solidFill>
                  <a:srgbClr val="ffffff"/>
                </a:solidFill>
                <a:latin typeface="Tahoma"/>
              </a:rPr>
              <a:t>Java Media Framework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xecução, controle e sincronização de múltiplas mídias (</a:t>
            </a:r>
            <a:r>
              <a:rPr b="0" i="1" lang="en-US" sz="2700" spc="-1" strike="noStrike">
                <a:solidFill>
                  <a:srgbClr val="ffffff"/>
                </a:solidFill>
                <a:latin typeface="Verdana"/>
              </a:rPr>
              <a:t>time-based media: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vídeo, sons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oco no transporte de dados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mo mover bytes de dados formatados (áudio) para/de uma aplicaçã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cesso aos dispositivos de áudio do PC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 que é? (3/3)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Tahoma"/>
              </a:rPr>
              <a:t>Audio Engin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formato: aiff, au e wav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anais: mono ou estére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axa de amostragem: 8 a 48 kH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resolução: 8 ou 16 bi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dificação: linear, a-law ou </a:t>
            </a:r>
            <a:r>
              <a:rPr b="0" i="1" lang="en-US" sz="1900" spc="-1" strike="noStrike">
                <a:solidFill>
                  <a:srgbClr val="ffffff"/>
                </a:solidFill>
                <a:latin typeface="Tahoma"/>
              </a:rPr>
              <a:t>µ-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la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mixer de 64 canais de áudio digital ou midi em softwa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mpled audi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(Áudio digital)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aptura de áudi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dispositivos de entrada (microfones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ixagem e reproduçã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ontro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juste de volume, reverberação, etc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onversores de formato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tatus e notificaçõ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recebimento de eventos relacionados à reproduçã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quite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09720" y="2127240"/>
            <a:ext cx="8170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incipais conce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56840" y="2292120"/>
            <a:ext cx="855036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Transporte de dado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Entrada/Aplicação, Aplicação/Saíd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ara executar/capturar um som é necessário, no mínim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Dado format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Um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mixer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Um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line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(meio de transporte)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anipulação do áudio digital com ou sem </a:t>
            </a:r>
            <a:r>
              <a:rPr b="0" i="1" lang="en-US" sz="2700" spc="-1" strike="noStrike">
                <a:solidFill>
                  <a:srgbClr val="ffffff"/>
                </a:solidFill>
                <a:latin typeface="Tahoma"/>
              </a:rPr>
              <a:t>buff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dos Forma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72840" y="1252440"/>
            <a:ext cx="85518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Distinção entre formato de dados e formato de arquiv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urier New"/>
              </a:rPr>
              <a:t>Audio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écnica da codificação (normalmente PC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canais (1-mono, 2-estéreo ...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xa de amostr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olução da amostr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xa d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manho do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udioFile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po do arquivo (WAVE, AIFF ...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manho do arquivo em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manho, em frames, dos dados contidos no arqu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to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udio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0480" y="288720"/>
            <a:ext cx="857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ix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71440" y="2084400"/>
            <a:ext cx="559440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capsula dispositivos que manipulam á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laca de som, sintetizador exte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bstração de uma mesa de mix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s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+ entradas de á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+ saídas de á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es de volume, reverberação e panorama de conjuntos de 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étodos de sincronização das 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50000" y="2844720"/>
            <a:ext cx="40878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arcio</cp:lastModifiedBy>
  <dcterms:modified xsi:type="dcterms:W3CDTF">2009-04-13T19:39:28Z</dcterms:modified>
  <cp:revision>25</cp:revision>
  <dc:subject/>
  <dc:title>PowerPoint Presentation</dc:title>
</cp:coreProperties>
</file>