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F9E-33E2-49DF-92BB-137AA50F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2D6-D85E-435B-90B0-E7969561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B100-C745-4173-B3D7-8C927F1F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E35-1B29-4CBB-ACDC-5FD0B2C6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DA61-213E-45D9-B672-9B226D60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1F57-7CBA-46B6-B541-D1A89BDF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87B8-C1ED-4A9C-96A6-2B89C77D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598B-C5C4-482F-A40E-DD6CA99B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89B8-4FDD-4EC0-9B5C-7CCE07BD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02D3-BCCE-434C-8282-0E00C727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DB42-FABF-4673-9138-638C0762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A27-68DD-4B7D-8937-4BCF3055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2DB5-B156-4E98-B94D-D3776027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6227-59E2-47C0-BED1-D431BB3E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A485-3DC1-40F5-8F7F-39B86DBB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6BF4-4425-4814-8EE6-882D9EB6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A968-0F12-4691-B117-5BCBA2B4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F6239-B97D-4464-91E2-587ADE97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9811F-EF47-47D4-BFFC-02903C4E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3F49-95D4-4C97-ACD6-D1DB7A9F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4DA40-739C-4DE6-A3EF-10F0FAE3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998D2-22B4-44D5-9033-A5495E6A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B65-2F3B-40D0-A008-AD3BE701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1DEA3-CC74-4702-BB30-1BB6C692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0323C-118E-4CB9-89F0-A0266B93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A8654-3098-438E-B870-F2CA1985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574E7-3DBE-4776-8B58-5806A25C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6BC9A-8A4E-4158-9800-7CEDDD25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1A6CA-484E-438C-B400-D89D7763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4F1A3-CC0A-45C8-AB41-CEF5E70C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2171-B58F-4A12-93D1-71470F1E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78208-C0CE-4B5C-A463-1EA9CDCE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DBFD8-8B04-445D-8BA6-D330740C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A38-2BB4-4D2E-BA2F-A19019C0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2F93C-144A-46B3-B49A-0C5FD1F0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8F61F-066D-4926-9FDE-9F607DB1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27685-6DE8-4E2E-BDE7-46FE2B58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FABEB-6A0C-4E53-92AB-CF2D43C8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9B9FF-4346-45C4-A5A1-BE289D0F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DB21F-A587-4383-85AC-6D0EFABE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92D1E-B725-4858-8E0C-9840E093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10093-60CA-4D23-87DA-68A4FCAD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4B54D-11A7-4BDD-A5F5-884E4E3B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9D5D-A6EF-48E2-A068-D97E924C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A27-A742-4BA2-BC66-7BD9F2CC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CE5-35B3-408F-A0F4-6E9706EF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AF6A-BC85-40E9-988A-BCFB89E1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76C-5239-4789-BEAB-2628A875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763B-29CD-416D-88D1-827A1A2B7AA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D4EB-0D94-4AE9-B698-959E307622A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28D9-E170-413A-950D-7035CD9951F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01E0-9169-415B-AC46-7E7766BD629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384120" y="1255680"/>
            <a:ext cx="858852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Pedro Leit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pjsl@cin.ufpe.b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openal_c.png"/>
          <p:cNvPicPr/>
          <p:nvPr/>
        </p:nvPicPr>
        <p:blipFill>
          <a:blip r:embed="rId2"/>
          <a:stretch/>
        </p:blipFill>
        <p:spPr>
          <a:xfrm>
            <a:off x="428760" y="3786120"/>
            <a:ext cx="4857480" cy="2632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Buffers - Criaç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odem ser criados e deletados dinamicam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  <a:ea typeface="Courier New"/>
              </a:rPr>
              <a:t>void alGenBuffers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Courier New"/>
              </a:rPr>
              <a:t>ALsizei n, ALuint* buffers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Courier New"/>
              </a:rPr>
              <a:t>void alDeleteBuffers(ALsizei n,const ALuint* buffers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São referenciados pelo nome gerado na função alGenBuff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Formatos incluem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Mono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e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Stereo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com 8 ou 16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bi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_FORMAT_MONO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_FORMAT_MONO1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_FORMAT_STEREO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_FORMAT_STEREO1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Buffers - Esta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UNUS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Não está incluído em nenhuma fila para nenhum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nome do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buffer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pode ser deletado neste esta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ROCESS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stá na fila de pelo menos algum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áudio já foi consumi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E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stá na fila de pelo menos algum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áudio ainda não foi totalmente consumi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Listen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ntidade </a:t>
            </a:r>
            <a:r>
              <a:rPr b="1" lang="pt-BR" sz="2600" spc="-1" strike="noStrike">
                <a:solidFill>
                  <a:srgbClr val="000000"/>
                </a:solidFill>
                <a:latin typeface="Constantia"/>
              </a:rPr>
              <a:t>estática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que percebe o s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penAL define somente um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listener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por contex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Não possui n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Listener - Proprie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Posiçã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istenerfv(AL_POSITION, listener_position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Velocidad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Não atualiza a posição do </a:t>
            </a: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listener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 com o temp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istenerfv(AL_VELOCITY, listener_velocity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Ganh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Define um multiplicador de amplitude escala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istenerf(AL_GAIN, listener_gain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istenerf(AL_MIN_GAIN, listener_min_gain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istenerf(AL_MAX_GAIN, listener_max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ain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Orientaçã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Dois vetores: direção (“at”) e normal (“up”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istenerfv(AL_ORIENTATION, listener_orientation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Fontes sonor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penAL permite a criação de vários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ossuem um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buffer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de dados associ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Som a ser emitido pelo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efinem um som localizado e um conjunto de atributos a serem aplicados ao som, em sua orig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Primeiro estágio de processamento no caminho ao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listen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ources - Proprie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Posiçã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urcefv(AL_POSITION, source_position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Velocidad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Não atualiza a posição do </a:t>
            </a: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listener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 com o temp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urcefv(AL_VELOCITY, source_velocity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Ganh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Define um multiplicador de amplitude escala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urcef(AL_GAIN, source_gain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urcef(AL_MIN_GAIN, source_min_gain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urcef(AL_MAX_GAIN, source_max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ain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Pitc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Porcentagem da freqüência do áudio a ser utilizad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Sourcef(AL_PITCH, source_pitch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ources - Proprie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osicionam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m relação ao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listener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ou glob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Sourcei(AL_SOURCE_RELATIVE,  source_relative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Ti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Tipo da fonte pode ser </a:t>
            </a:r>
            <a:r>
              <a:rPr b="1" lang="pt-BR" sz="2400" spc="-1" strike="noStrike">
                <a:solidFill>
                  <a:srgbClr val="000000"/>
                </a:solidFill>
                <a:latin typeface="Constantia"/>
              </a:rPr>
              <a:t>estática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i="1" lang="pt-BR" sz="2400" spc="-1" strike="noStrike">
                <a:solidFill>
                  <a:srgbClr val="000000"/>
                </a:solidFill>
                <a:latin typeface="Constantia"/>
              </a:rPr>
              <a:t>streaming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ou indetermina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Loop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Indica se o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urce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deve estar ou não em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lSourcei(AL_LOOPING,  source_loop)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ources - Proprie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o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Define ângulo interno, externo e o ganho do exter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Sourcef(AL_CONE_INNER_ANGLE,  angle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Sourcef(AL_CONE_OUTER_ANGLE,  angle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Sourcef(AL_CONE_OUTER_GAIN,  value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4" descr="cones.gif"/>
          <p:cNvPicPr/>
          <p:nvPr/>
        </p:nvPicPr>
        <p:blipFill>
          <a:blip r:embed="rId1"/>
          <a:stretch/>
        </p:blipFill>
        <p:spPr>
          <a:xfrm>
            <a:off x="2471760" y="4386240"/>
            <a:ext cx="3957480" cy="22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ources - Criaç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odem ser criados sob demanda da aplicaçã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  <a:ea typeface="Courier New"/>
              </a:rPr>
              <a:t>void alGenSources(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Courier New"/>
              </a:rPr>
              <a:t>ALsizei n, ALuint* buffers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Courier New"/>
              </a:rPr>
              <a:t>void alDeleteSources(ALsizei n,const ALuint* buffers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ados podem ser atribuídos a um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source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estaticam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Sourcei(source_id, AL_BUFFER, buffer_nam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Sources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podem ser do tipo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stream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lSourceQueueBuff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lSourceUnqueueBuff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ources - Esta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INITI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Quando o </a:t>
            </a: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source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 é criado ou quando a função alSourceRewind  foi devidamente chamad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Próximos estados: AL_PLAY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PLAY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O </a:t>
            </a: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source 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está tocando o conteúdo do </a:t>
            </a: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buffer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 associado a ele (estaticamente ou por </a:t>
            </a: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streaming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) através da função alSourcePla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Próximos estados: AL_PAUSED, AL_INITIAL, AL_STOPP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PAUS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O </a:t>
            </a: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source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 foi pausado através da função alSourcePau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Próximos estados: AL_INITIAL, AL_STOPPED, AL_PLAY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STOPP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O </a:t>
            </a: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source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 foi parado através da função alSourceSto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Próximos estados: AL_INITI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Introduçã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Buff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Liste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Sour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Modelos de Distâ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em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onclusã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Referênc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Modelos de Distâ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penAL possui diferentes modelos de distâ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Ganho de cada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urce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é atenuado pela distâ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efinido pelo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bit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AL_DISTANCE_MOD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Bits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AL_REFERENCE_DISTANCE e AL_ROLLOFF_FACTOR influem diretamente no modelo escolhi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L_REFERENCE_DISTANCE é a distância máxima do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urce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no qual o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listener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possui ganh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Modelos de Distâ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NO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Nenhum modelo associ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INVERSE_DISTAN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Ganho inversamente proporcional à distânc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INVERSE_DISTANCE_CLAMP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Não permite ganho maior que 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857160" y="3286080"/>
            <a:ext cx="7496280" cy="1042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857160" y="5172120"/>
            <a:ext cx="7715520" cy="154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Modelos de Distâ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376360" y="1935000"/>
            <a:ext cx="438948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Modelos de Distâ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LINEAR_DISTAN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Ganho calculado através de uma função linea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LINEAR_DISTANCE_CLAMP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Não permite ganho maior que 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857160" y="2633760"/>
            <a:ext cx="7844040" cy="1357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785880" y="4910040"/>
            <a:ext cx="7829640" cy="1662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Modelos de Distâ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2376360" y="1935000"/>
            <a:ext cx="438948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Modelos de Distâ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L_EXPONENCIAL_DIST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ganho calculado através de uma função exponenci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L_EXPONENCIAL_DISTANCE_CLAMP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Não permite ganho maior que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671480" y="3019320"/>
            <a:ext cx="5801040" cy="819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1643040" y="4929120"/>
            <a:ext cx="6429240" cy="1428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Modelos de Distâ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2376360" y="1935000"/>
            <a:ext cx="438948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3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Static Source, Looping &amp; Fadeaway, Multiple Sources, Sharing Buffers, Stream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Picture 5" descr="openal_c.png"/>
          <p:cNvPicPr/>
          <p:nvPr/>
        </p:nvPicPr>
        <p:blipFill>
          <a:blip r:embed="rId2"/>
          <a:stretch/>
        </p:blipFill>
        <p:spPr>
          <a:xfrm>
            <a:off x="3643200" y="3786120"/>
            <a:ext cx="4857840" cy="2632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Conclus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ontos fo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Multiplatafor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ódigo fonte aber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Grandes empresas e projetos utilizan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Fácil utilização no desenvolvimen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ontos fra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Versão no Linux ainda está na 0.0.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Somente uma empresa fornece aceleração em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Referênc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penAL 1.1 Specif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http://www.openal.org/documentation.ht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reative Lab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http://developer.creative.com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Wikip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http://en.wikipedia.org/wiki/Open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Introduç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penAL é uma API multiplataforma para áudio 3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bjetivo de situar fontes de áudio (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sources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) num espaço tridimensional, em volta de um ouvinte (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listener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ódigo fonte aber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esenvolvida em 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Utiliza a notação de OpenGL para descrever comandos e argum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glBegin, glEnd, glIsEnable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lBuffer, alSource, alListener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Introduç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reative Labs suporta OpenAL em seu hardw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ngines que utiliz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Doom 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Jedi Knight e Jedi Knight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Jedi Academ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Quake 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Pre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3" descr="Creative_logo.png"/>
          <p:cNvPicPr/>
          <p:nvPr/>
        </p:nvPicPr>
        <p:blipFill>
          <a:blip r:embed="rId1"/>
          <a:stretch/>
        </p:blipFill>
        <p:spPr>
          <a:xfrm>
            <a:off x="1428840" y="2357280"/>
            <a:ext cx="6143400" cy="1389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Introduç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Possui tipos primitivos bem defini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boolean, ALchar, ALbyte, etc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Detecta algumas condições que podem levar a err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GetErro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Implementa efeito Doppl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Sources,</a:t>
            </a: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listener</a:t>
            </a: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 e o próprio som possuem uma velocidade associad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DopplerFacto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Diferentes modelos de distâ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LINEAR_DISTAN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INVERSE_DISTAN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EXPONENCIAL_DISTAN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Introduç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penAL fornece uma máquina de estados si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GetBooleanv, alGetIntegerv, alGetFloatv, alGetDoublev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GetBoolean, alGetInteger, alGetFloat, alGetDoub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Tempo e freqüê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Métrica padrão definida em segundos e Hertz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spaço e distâ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Nenhuma métrica definid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 critério do desenvolvedo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ssim como OpenG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OpenAL 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forne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um mecanismo para extensõ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Cada vendendor pode prover extensões diferentes em suas placas de so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Introduç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460520" y="1935000"/>
            <a:ext cx="622296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Buff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ncapsula os dados do á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Buffers em OpenAL possuem dados de áudio no formato PC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Utiliza o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byte order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nativo do processad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Constantia"/>
              </a:rPr>
              <a:t>Big endia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Constantia"/>
              </a:rPr>
              <a:t>Little endia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odem ser compartilhados em vários contex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odem ser referenciados por vários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sour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Buffers - Proprie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Freqüê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Samples</a:t>
            </a: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 por segundo (Hertz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FREQUENC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Tamanh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Quantidade de </a:t>
            </a: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byt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SIZ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B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Quantidade de </a:t>
            </a: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bits</a:t>
            </a: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 por </a:t>
            </a: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samp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BI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ana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Quantidade de canais para os dados contidos no </a:t>
            </a: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buff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_CHANNE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2:59:58Z</dcterms:created>
  <dc:creator>Pedro Leite</dc:creator>
  <dc:description/>
  <dc:language>en-US</dc:language>
  <cp:lastModifiedBy>Pedro Leite</cp:lastModifiedBy>
  <dcterms:modified xsi:type="dcterms:W3CDTF">2007-08-09T11:51:05Z</dcterms:modified>
  <cp:revision>172</cp:revision>
  <dc:subject/>
  <dc:title>OpenAL – Uma Biblioteca para Som 3D</dc:title>
</cp:coreProperties>
</file>