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EA4-7F07-40E0-BAB2-7ADB50B0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1F0-DDA8-45AD-B6F6-DBAF9AF0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F43-3622-456D-AFE3-F3770633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CC8-CFE9-45C3-98D6-09738E91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EDAA-AC65-4245-8456-18B47CE4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2EF8-7FC2-40E5-B9B6-D7ECABAB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A9A3-8DDA-49E5-92B6-7DA32899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4C98-D9EC-47CC-A89E-BE583D0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0A64-4E5D-411F-A046-AFB8DE77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BD36-E311-4DD5-B898-9065093C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088B-F155-42C5-BA93-CA10A61A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4CE-560A-4F85-BF14-0BEE2E7C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04F3-15A1-4109-BA82-73DE0A4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D874-A6BC-44F0-B964-43CF3DF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A81B-E386-41BE-A0C6-52B34C97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CB11-BBB9-4689-BBE0-A5744D20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64B3-2721-4524-9EBC-9A909448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7D4-6EE3-4BCD-ACFD-0F3CE431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7E4-18D8-4B21-B988-BCD143BA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E5D-BB07-4A8F-B6CA-11F96195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6D7-20D7-4A86-B3F6-30A06CE0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385-D9E7-4D17-8522-EFE37658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08C-3C4F-49C5-9855-4BC6F47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AF0-43B3-4345-95BD-1E7F418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4C46-74CE-47B6-BD39-B2D8C43792EA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4A3D-CBB6-40A9-B63B-65187E60260E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D´Accord Music 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Giordano Ribei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BPFCC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ada uma sequencia de acordes, escolher a melhor sequencia de acordes, de acordo com criterios do usuari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acilida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reqüência de us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ariação do baix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oi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rodutos em Desenvolvimen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´Accord Violã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lay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ntera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Gerador d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Base de Acord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308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2640" y="2971800"/>
            <a:ext cx="4581360" cy="329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6236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braco interativo" descr=""/>
          <p:cNvPicPr/>
          <p:nvPr/>
        </p:nvPicPr>
        <p:blipFill>
          <a:blip r:embed="rId2"/>
          <a:stretch/>
        </p:blipFill>
        <p:spPr>
          <a:xfrm>
            <a:off x="5724360" y="228600"/>
            <a:ext cx="3419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I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Mostra na tela do computador uma música sendo tocada diretamente em um instrumento virtua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Violão – ambiguidad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Notas consonan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Multiplas posicoes para os acord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Princípio do D´Accord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Separação entre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Let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Harmo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Melo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Rit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Sol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Problema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Sol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Notação convencional </a:t>
            </a:r>
            <a:r>
              <a:rPr b="0" lang="pt-B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 Braç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raço </a:t>
            </a:r>
            <a:r>
              <a:rPr b="0" lang="pt-B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 Notação convenc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Harmo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raço </a:t>
            </a:r>
            <a:r>
              <a:rPr b="0" lang="pt-B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 Cif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ifra </a:t>
            </a:r>
            <a:r>
              <a:rPr b="0" lang="pt-B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 Braç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Rit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ati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ariaçõ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Cifra </a:t>
            </a:r>
            <a:r>
              <a:rPr b="0" lang="pt-BR" sz="4800" spc="-1" strike="noStrike">
                <a:solidFill>
                  <a:srgbClr val="ebd189"/>
                </a:solidFill>
                <a:latin typeface="Wingdings"/>
                <a:ea typeface="Wingdings"/>
              </a:rPr>
              <a:t></a:t>
            </a: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 Braço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Geração de Base de Acord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Positio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Finge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Best Positioning and Fingering in Chord Chain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Positioning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Quais as possíveis Posições de um acorde no braço do violã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Restrico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Musica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natom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Cultura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Ex: Fm7(11)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30 posições isolada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43750 combinaçõ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5880 Fm7(11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283 podem ser tocado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7640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69343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Fingering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Quais dedos utilizar em cada posica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Utilização de pestana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620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962520"/>
            <a:ext cx="838224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79246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06:41:23Z</dcterms:created>
  <dc:creator>Centro de Informática</dc:creator>
  <dc:description/>
  <dc:language>en-US</dc:language>
  <cp:lastModifiedBy>grec</cp:lastModifiedBy>
  <dcterms:modified xsi:type="dcterms:W3CDTF">2001-05-16T12:11:29Z</dcterms:modified>
  <cp:revision>3</cp:revision>
  <dc:subject/>
  <dc:title>D´Accord Music Software</dc:title>
</cp:coreProperties>
</file>