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6999-52F8-493F-801B-948D8AF0F06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AE15-E8B5-4D29-ABA4-DB5D62559C8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CB56-59BD-494F-97C8-5196CFE7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B69-97D1-4399-B526-356438B8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DAFAB-3097-4381-80E2-0B2544EC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5CC9F-E4A3-474D-9675-E6BC9747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DDC66-47E7-4F1D-9B86-DD8D6473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CAD2C-38D4-4C11-A98F-29A49F53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F9D3F-4CBE-46F2-B598-5113846E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56643-4D80-4276-8C44-F61B140E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603DA-C4D0-41FE-AFC4-05D81398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6721C-4CFD-4314-A5DC-C37004CC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D7152-2E59-4FA6-BDDE-42910649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E88F5-B3BC-4C1A-962D-C18A7359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5923-957F-43E3-AFFC-4829AA6B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F2202-C0C8-4881-95B7-924AB298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6B37A-B234-49D3-A366-A40A13FD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6FF45-ACF2-414F-A124-6D3F2CEB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FAA11-2237-4171-B6A1-E01C511B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FF1AA-FA6C-42BB-AC98-82DBC195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631B2-F396-4D95-8384-522BC4EB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87CC4-4DB9-4863-A730-F5BD7435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D46F4-BD87-4D52-A0FB-E5897464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F3EBC-95AC-4D1B-AAED-D8DD6B4E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E9AF8-86CC-4507-8378-239CA69C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EA38-43B1-469E-88C6-EC92C3C2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4A9A5-8897-4BCB-B32B-89354D05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7CDE3-2EDA-4DBF-928B-95185102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83431-4E4A-4B50-805C-54E0A7CB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49506-C7E8-416A-8CEF-F38430CD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A369F-5584-4A80-96EA-C497F484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07F72-1CBC-4EDA-8B32-0BD96C93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7109B-1C64-41B9-BB23-BE8519CE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F9308-C88E-405D-A559-944D1516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176B8-BF81-45E9-A07E-1CDD3930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687BD-F926-4ACE-87AD-1A702A2A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DBF5-D7B4-44E5-8DA2-7F2E6CAD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F9E4D-F8F2-4184-9512-D2DF1476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801F0-E47B-4230-BD2A-5F7F8741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259BE-B274-4A51-BD2A-4AF6E630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0FB50-C21C-4734-8C9A-9D2760D8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53A95-7FF6-4257-BD94-AAC45B1C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8CE7A-0956-43CB-8D90-2E0E81BF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32424-1160-4530-9980-CE955A3F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5018F-12CC-4ADA-A5D4-36942545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786B2-6EDE-400B-BE43-C15D5550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7B601-0FC5-4A3F-B9A1-AEE995FC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AABE-0FA7-4F66-AE7C-6F90632B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1F043-56CF-4DC5-A004-DA17C348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206F6-D014-4E37-9B34-899A08CB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5845E-88DB-4D06-BE11-20472780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97BB9-3C81-4169-8429-C5B93509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79735-A333-41C3-B9B1-C09DA1D4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0333-FAF9-429E-A1F5-C9F10123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FB98-D4D8-4F34-8C4F-F2EC60E7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7186-B771-4CCA-A0CE-DA1DEB18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61C2-13C1-4989-88DE-3254EC3A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1B43-EB71-4EBC-9B51-8F6E267F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F78-142E-4B48-9E9D-658D0038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6D6C-E878-4E40-99C0-DADE3A81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8A26-21DC-4F0D-972D-821D59D6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9082-6A8C-44DF-A87A-A202F961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9BE9-128B-4424-9CBB-221FDB71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15E5-95D7-4FAA-AEA4-004EB438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196FC-2074-4511-94D4-0D50B819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162CE-058E-464A-ABE7-BA0DBEB1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ED03-541F-4F4F-A608-11CC3ABC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B508-CCC8-4297-B6AF-1F95F3DB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2FB2A-2645-433B-B064-709B5FD4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877-DAA2-4E74-BDAA-3A3ABA61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0269A-A33D-496E-94CA-1D5B994D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F9272-2AA1-45BB-BF7D-9533B9D7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69358-3EE5-4628-A9A5-39F8D330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1A19-44C1-4440-B539-8368708B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051AD-2C16-4757-9583-B2653FD0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9FAB1-9138-45AB-96A0-1C9B21FF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D9428-072D-40DB-BB31-AD460B2A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DB50B-A929-4D9D-9D63-0F571F55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1D822-05E4-41E5-8BCC-6FF923C6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E1760-CACA-46E7-A903-9EDC5D70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2C1-5C4B-4C97-927F-EA1751CD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6C048-F304-4F0A-9F8E-BE261CA2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679FD-01B0-4FFC-9A57-9BE4F21A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5E1D2-3EA1-46CA-B912-70FF4B79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C76C1-A52E-4143-A4E2-674C2B0A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4132D-B538-48B4-AD4A-E6C00C94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522BC-77E5-4C9D-9D11-669D2A21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403AD-7E64-42D1-90D0-D7C9CC98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3334E-DF24-4A68-AE64-75A1F01E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A9CA-806F-47FB-A3FA-D93BE6C9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DFB0A-0575-4BC4-B74A-059F50F1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776-A38C-4BE1-A27A-92DE3A72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A016F-128C-49F8-801D-7E02E368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B86D7-E38E-4A37-9EF6-A6A55671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3F615-7546-4B0A-A9FD-1CD50B6B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527AA-952F-41A1-BFCB-D6A45BC7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8D349-B45B-4B15-85BF-AA867191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28AC4-62C4-4E98-AF49-1DAB1971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54C03-7F8B-4720-8208-77CD2DF3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70AD1-E105-4241-9441-DCEF542E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3E1A5-3C58-4DE9-9577-64D8E7DD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B89AA-7A3B-414D-838A-2708AFD3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197-F6DE-474B-AE6E-F17DBA83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10941-1BA7-450A-B75F-6DFA5CB2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22127-F6FB-4329-83CA-C4845351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B18E6-92E6-46D4-91C4-FAD71064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E8462-6B9A-43EF-96F8-D963A257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B759C-3156-438D-9009-52B2027A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9792E-F724-4C9F-B6F0-CDF385D2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3CB71-B249-4C7D-AFF9-E4180739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D263E-2EA8-4786-A7DE-10D0A230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FAAC7-366E-4B39-A755-E452D41F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2CE2B-1207-4420-A109-24122DB1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C3C3-851D-4B03-9666-D7D7FAB0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FC691-B5E6-493A-9797-C2DD5A55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90B78-725A-47C2-8E2C-69177BEC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42067-F036-43DC-BB21-BF0C5F9F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D27B1-F2AF-4BDB-8148-F5650C34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43E93-3371-4682-8040-DDB67A28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E33BD-631E-4C02-B7D6-950B4AC5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56067-318D-448F-A672-900164CB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A9DC1-9CED-46F2-A5F0-59ED6BA2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2B847-772D-4C91-9483-1FA0A48F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246EC-B5AE-4258-996E-6E7F500C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942-534F-4358-AD52-F45CDC2A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5FD68-03E0-425A-B9A0-303D994A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0C664-2215-4956-AF51-9D661C28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7D2C9-C77F-4F00-B655-815BC7D5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01CC4-A2E9-4908-B0AC-F3F6572F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2EC3B-C3ED-486A-9651-0D46C0490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ACBE5-5580-4B48-84FD-E722034E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371AD-8D5F-44CC-B5EE-9FE8823E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F5125-F79E-4299-9926-EC86F3D1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D04BF-7087-4D65-B136-85F663DE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6E431-5A70-408C-97EB-A43080F1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FD8-C89B-47EF-9C5D-869A590A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D69AD-0581-495B-A93A-36F0D928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91069-A093-4F8D-93ED-4D402373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E6AEF-ADD4-44C1-8719-E83BE93A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B3219-CDD6-46C9-BC2B-F868C135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C89C0-2B05-420D-A0B0-53CBE3F4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54315-9B56-4206-9F8D-D48EDB43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6AFD9-E45B-48C0-AB29-68EC1A27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87F6E-1DC3-451A-90BC-274ACC05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12D5F-2E81-4D17-B325-BF96245E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81711-B6AF-4288-847C-C14DEDD0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39AB-9258-44E4-8BA6-8C34D6E50A6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ector reto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reto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riângulo isósceles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Conector reto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riângulo isósceles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tângulo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02BB-D076-472F-985A-A922AC47629D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Conector reto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onector reto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riângulo isósceles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6CFD-3BC1-4486-8C31-BCE32996482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Conector reto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riângulo isósceles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Conector reto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4B92-A542-4647-B67F-DC9ED36DFC7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ângulo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tângulo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tângulo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67D1-7419-4E87-B0BF-A4285EA5A2F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Conector reto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ector reto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riângulo isósceles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6C62-8E4B-41C7-8BCE-0A52D1A9156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ângulo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ângulo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6392-6F6C-4BA2-9D6B-52FCB6E4EE1A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onector reto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ector reto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riângulo isósceles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8984-B943-404A-AB34-04CA09756AB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Conector reto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onector reto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riângulo isósceles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2052-D662-437C-8A8C-AC014FFDE21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Conector reto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onector reto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riângulo isósceles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riângulo isósceles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909C-6E2B-4494-B54D-17FCE77645C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Conector reto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riângulo isósceles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BD81-A17C-4BB8-91EA-75A17C9E381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Conector reto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onector reto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riângulo isósceles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17BF-731A-46C2-97F0-2DF0FD1A08C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idomi.com/" TargetMode="External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eriodico.sv" TargetMode="External"/><Relationship Id="rId2" Type="http://schemas.openxmlformats.org/officeDocument/2006/relationships/hyperlink" Target="file:///real.sv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man Old Style"/>
              </a:rPr>
              <a:t>Aplicações de Extração de Características 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Márcio Dahi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bH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rquitetura básica do siste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Retângulo 3"/>
          <p:cNvSpPr/>
          <p:nvPr/>
        </p:nvSpPr>
        <p:spPr>
          <a:xfrm>
            <a:off x="1855800" y="1774800"/>
            <a:ext cx="1146240" cy="58248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Hu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Elipse 4"/>
          <p:cNvSpPr/>
          <p:nvPr/>
        </p:nvSpPr>
        <p:spPr>
          <a:xfrm>
            <a:off x="1538280" y="2643120"/>
            <a:ext cx="1785960" cy="72396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Transcri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tângulo 5"/>
          <p:cNvSpPr/>
          <p:nvPr/>
        </p:nvSpPr>
        <p:spPr>
          <a:xfrm>
            <a:off x="1571760" y="3857760"/>
            <a:ext cx="1711080" cy="61092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Representação Simplific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lipse 6"/>
          <p:cNvSpPr/>
          <p:nvPr/>
        </p:nvSpPr>
        <p:spPr>
          <a:xfrm>
            <a:off x="4268880" y="3780000"/>
            <a:ext cx="1454040" cy="790560"/>
          </a:xfrm>
          <a:prstGeom prst="ellipse">
            <a:avLst/>
          </a:prstGeom>
          <a:solidFill>
            <a:srgbClr val="c00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Ma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Cilindro 7"/>
          <p:cNvSpPr/>
          <p:nvPr/>
        </p:nvSpPr>
        <p:spPr>
          <a:xfrm>
            <a:off x="4357800" y="1857240"/>
            <a:ext cx="1266840" cy="1011240"/>
          </a:xfrm>
          <a:prstGeom prst="can">
            <a:avLst>
              <a:gd name="adj" fmla="val 25000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Mús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Transcri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5" name="Conector de seta reta 9"/>
          <p:cNvCxnSpPr>
            <a:stCxn id="560" idx="2"/>
            <a:endCxn id="561" idx="0"/>
          </p:cNvCxnSpPr>
          <p:nvPr/>
        </p:nvCxnSpPr>
        <p:spPr>
          <a:xfrm>
            <a:off x="2427840" y="2357280"/>
            <a:ext cx="3960" cy="2865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566" name="Conector de seta reta 11"/>
          <p:cNvCxnSpPr>
            <a:stCxn id="561" idx="4"/>
            <a:endCxn id="562" idx="0"/>
          </p:cNvCxnSpPr>
          <p:nvPr/>
        </p:nvCxnSpPr>
        <p:spPr>
          <a:xfrm flipH="1">
            <a:off x="2426760" y="3366720"/>
            <a:ext cx="5760" cy="49140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567" name="Conector de seta reta 20"/>
          <p:cNvCxnSpPr>
            <a:stCxn id="563" idx="0"/>
            <a:endCxn id="564" idx="3"/>
          </p:cNvCxnSpPr>
          <p:nvPr/>
        </p:nvCxnSpPr>
        <p:spPr>
          <a:xfrm flipH="1" flipV="1">
            <a:off x="4990320" y="2868120"/>
            <a:ext cx="5400" cy="912240"/>
          </a:xfrm>
          <a:prstGeom prst="straightConnector1">
            <a:avLst/>
          </a:prstGeom>
          <a:ln w="9360">
            <a:solidFill>
              <a:srgbClr val="727ca3"/>
            </a:solidFill>
            <a:miter/>
            <a:headEnd len="med" type="arrow" w="med"/>
            <a:tailEnd len="med" type="arrow" w="med"/>
          </a:ln>
        </p:spPr>
      </p:cxnSp>
      <p:sp>
        <p:nvSpPr>
          <p:cNvPr id="568" name="Retângulo 36"/>
          <p:cNvSpPr/>
          <p:nvPr/>
        </p:nvSpPr>
        <p:spPr>
          <a:xfrm>
            <a:off x="4214880" y="5429160"/>
            <a:ext cx="1571400" cy="71460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 MT"/>
              </a:rPr>
              <a:t>Ranking Melhores Respo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Conector de seta reta 38"/>
          <p:cNvCxnSpPr>
            <a:stCxn id="563" idx="4"/>
            <a:endCxn id="568" idx="0"/>
          </p:cNvCxnSpPr>
          <p:nvPr/>
        </p:nvCxnSpPr>
        <p:spPr>
          <a:xfrm>
            <a:off x="4995720" y="4570200"/>
            <a:ext cx="5760" cy="85932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570" name="Conector de seta reta 71"/>
          <p:cNvCxnSpPr>
            <a:stCxn id="562" idx="3"/>
            <a:endCxn id="563" idx="2"/>
          </p:cNvCxnSpPr>
          <p:nvPr/>
        </p:nvCxnSpPr>
        <p:spPr>
          <a:xfrm>
            <a:off x="3282480" y="4162320"/>
            <a:ext cx="986760" cy="136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uery by Humm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racterísticas comumente extraíd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ntorno melódic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mazena um caracter para descrever o comportamento da frequencia atual em relação a anteri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just"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.g.:  Codigo de Parson -&gt; Acima (U), Abaixo (D), Constante (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o capturar essa característica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Velha dificuldade de transcriçã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ntorno melódico + informação de duraçã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: &lt;U, delta = 30 frames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464653"/>
                </a:solidFill>
                <a:latin typeface="Gill Sans MT"/>
              </a:rPr>
              <a:t>Dynamic time warping (DTW)</a:t>
            </a:r>
            <a:r>
              <a:rPr b="0" lang="pt-BR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pt-BR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goritmo para medir similaridades entre 2 ondas sonoras que podem variar no tempo e/ou no espaç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istancia de edição + restriçõ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bH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tch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lgoritmos de String Matching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: Distancia de Edição + Programação dinâmica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Modelos estatístic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: HM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oluções com comparação direta (DTW) de caracteristica não precisam dessa etapa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empl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Midomi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gerprin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ble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o identificar uma música a partir do seu conteúdo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plicação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dentificação de metadados errados ou incomplet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u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ficuldad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matos diferent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ferenças no modelo psicoacústico da compressã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xecuções diferent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ravação em estúdio x gravação ao vivo da mesma mús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uido, notas diferentes, andamento diferentes, …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gerprin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28760" y="12859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rquitetura bás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1357200" y="2071800"/>
            <a:ext cx="64882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gerprin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incipais pass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Pre-processamento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Diminui a complexidade do sinal para facilitar a manipulação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9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Sub-amostragem, diminuição da resolução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Framing &amp; Overlapping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Decide sobre informações como tamanho do frame, hop-size, janela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Transformada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Decide que transformação mais se adequa a extração das características desejada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tração das Características desejada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MFCC, Energia, autocorrelação …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Pos-processamento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Como representar o fingerprint e qual a estratégia de matching a ser utilizada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gerprin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1785960" y="1143000"/>
            <a:ext cx="5800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gerprin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emplo: Algoritmo da Phili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Pre-processamento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Downsampling para  5Khz com 1 cana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Framing &amp; Overlapping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Janela de Hanning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8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0.37 segundos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8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Overlap de 31/32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32 bits sub-FP para cada 11.6 m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8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256 sub-FP formam bloco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Transformada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FFT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tração das Características desejada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Energia em bandas de frequência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Pos-processamento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Diferença de energia nas bandas consecutiva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8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No tempo e na frequênci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gerprin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emplo: Algoritmo da Philip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7628040" cy="35002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" descr=""/>
          <p:cNvPicPr/>
          <p:nvPr/>
        </p:nvPicPr>
        <p:blipFill>
          <a:blip r:embed="rId2"/>
          <a:stretch/>
        </p:blipFill>
        <p:spPr>
          <a:xfrm>
            <a:off x="1386000" y="5486400"/>
            <a:ext cx="54007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gerprin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goritmo da Philips - bus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4297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oteiro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at track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ery-by-Humm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udio Fingerprint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eat track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scrição do proble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o acompanhar ritmicamente uma música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Dada uma música como descobrir seu andamento?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so simp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Som periódic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plicações do mundo re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b292ca"/>
                </a:solidFill>
                <a:uFillTx/>
                <a:latin typeface="Gill Sans MT"/>
                <a:hlinkClick r:id="rId2"/>
              </a:rPr>
              <a:t>Música rea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emplo: Beat-roo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eatRoo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rquitetu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1500120" y="1928880"/>
            <a:ext cx="5802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3" descr=""/>
          <p:cNvPicPr/>
          <p:nvPr/>
        </p:nvPicPr>
        <p:blipFill>
          <a:blip r:embed="rId1"/>
          <a:stretch/>
        </p:blipFill>
        <p:spPr>
          <a:xfrm>
            <a:off x="3929040" y="2573280"/>
            <a:ext cx="4351320" cy="100008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eatRoo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cção de Onsets - Candidatos a batid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2 etapa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tral Flux – a soma da variação das energia em frames consecutiv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Onde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N é o tamanho da janela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X(n,k) é o valor da FFT para o k-ésimo bin no n-ésimo frame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ak picking – seleção dos máximos locais do spectral flu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Saliência: valor do spectral flux no pico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547" name="Picture 4" descr=""/>
          <p:cNvPicPr/>
          <p:nvPr/>
        </p:nvPicPr>
        <p:blipFill>
          <a:blip r:embed="rId2"/>
          <a:stretch/>
        </p:blipFill>
        <p:spPr>
          <a:xfrm>
            <a:off x="2214720" y="4149720"/>
            <a:ext cx="1552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empo Induction - Inter Onset Interval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grupamentos de intervalos entre onse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Relação entre as durações dos intervalo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785880" y="2071800"/>
            <a:ext cx="77565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eat Track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Gill Sans MT"/>
              </a:rPr>
              <a:t>Arquitetura multiagente para testar várias hipóteses sobre que conjunto de onsets representa melhor a “pulsação” da músic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Escolhe-se a mais provável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1214280" y="2928960"/>
            <a:ext cx="70977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eatRoo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928800" y="1219320"/>
            <a:ext cx="70707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Query-by-Humming (QbH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blem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Identificar uma música numa base de dados a partir de um solfej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plicação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“</a:t>
            </a: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Como é mesmo o nome dessa música? …”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ficuldad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Fora do to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Notas desafinada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ndamento errado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Além dos problemas convencionai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uido, et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2:14:50Z</dcterms:created>
  <dc:creator>marcio</dc:creator>
  <dc:description/>
  <dc:language>en-US</dc:language>
  <cp:lastModifiedBy>Marcio</cp:lastModifiedBy>
  <dcterms:modified xsi:type="dcterms:W3CDTF">2010-06-01T13:10:20Z</dcterms:modified>
  <cp:revision>145</cp:revision>
  <dc:subject/>
  <dc:title>Aplicações de Extração de Características</dc:title>
</cp:coreProperties>
</file>