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7E6-F882-4681-BB76-CFAB0E55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8DD-9029-46AE-9210-458A9F9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BD5-1DD4-4464-B1FD-F332F8B4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B76-FA4E-4A5B-B3B8-1BF695C9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5ED3-C398-4AE9-9D27-CB910C90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62A-1794-4898-8E7C-E46C38E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9875-7383-4129-B775-9F8BE55A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F78E-1DF7-49B9-8AA0-244A84E0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370-510A-4E46-A7CA-C28C38A6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000-9961-4166-9510-5E9BE25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24E0-7F6E-4F8A-B6C4-1AAB8E2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2AC-6ACA-4A66-B28F-8AFFFB1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2C1-8AA6-40A4-995C-83F2F6D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CBC-D522-4178-98E0-49F0E8E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ABD-28CB-4208-9784-BDBBAD7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1A0-A3E8-46A0-BFB0-BF116FA3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F771-EB35-45D2-AE6C-D892FB5C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A415-4494-46CD-9F46-15951254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2276-278B-46F0-91EC-B87404C5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7088-791A-4FFC-B057-51226A2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3736-A723-4E2E-AE21-15D285E3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915E-5B24-4375-B6F9-91F72E31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842-D4F6-4110-B27F-FB238D78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9279-8173-4EFE-BBAB-AE67F3CF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29DD-D627-4282-9AD2-7220642E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167C-27D9-469E-9E6B-045ADA8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3692-06A3-47A4-9664-4D3512B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A6F1-B767-4AEE-9892-754E89B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B991-B6EA-4735-A8BF-2110EF73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3868-1BA8-439E-AAC2-5FA1BC5E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A013-3474-4F31-8535-2203576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4529-1B57-47CB-A9E1-D60666EF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196E-15DE-4333-8EFA-AFC9239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3AC-4FB1-4B2E-A5F7-84CEAFD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739B-4842-447C-968A-12D91149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F433-AA12-4B30-AA43-707F3C5D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45C1-3F45-4E05-ABA5-9C72AC1D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259E-4B49-4160-8271-EC369C4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DDF1-5257-4E3A-A05D-2BEC1EC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DE03-05F5-4F5D-8D69-B85FFDA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198B-A471-4502-89A0-14D1258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7110-409B-4265-A019-6A1DDBA2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EE5D-A708-499D-8910-131AE096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BDF1-653B-47D2-B8C2-750440E5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796-7BF9-4336-BFA5-D481C83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4FAE-E6AD-4F29-B05D-C57A4A8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8460-02F1-442D-A3C0-84BF82E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87D6-2428-47F5-AD5A-0968535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04BB-E063-42C7-8B57-62266F8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D8CC-A7A4-4EBD-B980-932A69E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288A-ABA9-46EF-86D4-2142CA8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A483-D6EF-4BA5-9663-8A340CC5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3F24-E1B8-4692-B153-6E97B19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05E3-5479-44B9-896B-D328D3B2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C11E7-C5EC-40F8-90B6-C47E8DF0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AD7-6284-48B8-B434-48240A1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F384-9F94-4C1B-9F35-CB9FEEA9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C75-A1E9-4C27-9EE7-D7E3C96A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0E7-5F04-47E1-9043-7B9EC8F9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971-B0E0-443E-9461-59E568A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EE8-5B64-4AF7-BE2B-A845CEB47725}" type="slidenum"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E3F-0FB7-48E6-A009-8EEBB88F8BC3}" type="slidenum"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04F7-7561-4D48-9690-1D5F089E59C6}" type="slidenum"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C9F-A198-4D06-9196-7AF07545863A}" type="slidenum">
              <a:rPr b="0" lang="pt-BR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BDB-DFA4-4CAD-8993-8F525E7E306C}" type="slidenum"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anklin Gothic Medium"/>
              </a:rPr>
              <a:t>AULA PRÁTICA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MATLAB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Medium"/>
              </a:rPr>
              <a:t>EXERCICIO - FEIT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anklin Gothic Book"/>
              </a:rPr>
              <a:t>Noise gate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Book"/>
              </a:rPr>
              <a:t>function outputFileName = noise_gate(inputFileName, threshold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Medium"/>
              </a:rPr>
              <a:t>EXERCICI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anklin Gothic Book"/>
              </a:rPr>
              <a:t>Simule o efeito de Reverberacao e Eco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Book"/>
              </a:rPr>
              <a:t>function outputFileName = reverbEcho(inputFileName, delayVect, attenuationVect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Medium"/>
              </a:rPr>
              <a:t>EXERCICI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anklin Gothic Book"/>
              </a:rPr>
              <a:t>Implemente um Low pass filter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Book"/>
              </a:rPr>
              <a:t>function </a:t>
            </a:r>
            <a:r>
              <a:rPr b="1" lang="pt-BR" sz="1600" spc="-1" strike="noStrike">
                <a:solidFill>
                  <a:srgbClr val="000000"/>
                </a:solidFill>
                <a:latin typeface="Franklin Gothic Book"/>
              </a:rPr>
              <a:t>outputFileName</a:t>
            </a:r>
            <a:r>
              <a:rPr b="0" lang="pt-BR" sz="2800" spc="-1" strike="noStrike">
                <a:solidFill>
                  <a:srgbClr val="000000"/>
                </a:solidFill>
                <a:latin typeface="Franklin Gothic Book"/>
              </a:rPr>
              <a:t> = simpleLowPass(</a:t>
            </a:r>
            <a:r>
              <a:rPr b="1" lang="pt-BR" sz="1600" spc="-1" strike="noStrike">
                <a:solidFill>
                  <a:srgbClr val="000000"/>
                </a:solidFill>
                <a:latin typeface="Franklin Gothic Book"/>
              </a:rPr>
              <a:t>inputF</a:t>
            </a:r>
            <a:r>
              <a:rPr b="0" lang="pt-BR" sz="2800" spc="-1" strike="noStrike">
                <a:solidFill>
                  <a:srgbClr val="000000"/>
                </a:solidFill>
                <a:latin typeface="Franklin Gothic Book"/>
              </a:rPr>
              <a:t>ileName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anklin Gothic Medium"/>
              </a:rPr>
              <a:t>EXERCICI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Franklin Gothic Book"/>
              </a:rPr>
              <a:t>Sintese subtrativa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anklin Gothic Book"/>
              </a:rPr>
              <a:t>Gere um sinal das seguintes forma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2304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anklin Gothic Book"/>
              </a:rPr>
              <a:t>Sinusoid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2304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anklin Gothic Book"/>
              </a:rPr>
              <a:t>Triangular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2304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anklin Gothic Book"/>
              </a:rPr>
              <a:t>Saw Tooth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2304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anklin Gothic Book"/>
              </a:rPr>
              <a:t>Squar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2304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Franklin Gothic Book"/>
              </a:rPr>
              <a:t>Sintese aditiva</a:t>
            </a:r>
            <a:endParaRPr b="1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Franklin Gothic Book"/>
              </a:rPr>
              <a:t>function outputFileName = addSinusoids(sinVector, sinAmps, sampleRate,  numBits)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24:55Z</dcterms:created>
  <dc:creator>Giordano</dc:creator>
  <dc:description/>
  <dc:language>en-US</dc:language>
  <cp:lastModifiedBy>Geber</cp:lastModifiedBy>
  <dcterms:modified xsi:type="dcterms:W3CDTF">2013-08-06T19:59:09Z</dcterms:modified>
  <cp:revision>7</cp:revision>
  <dc:subject/>
  <dc:title>PowerPoint Presentation</dc:title>
</cp:coreProperties>
</file>