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6DC93-ED60-4791-90F0-B7684D3FE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C55E-C607-45DB-A0D1-730FCA223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8060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7640" y="1913040"/>
            <a:ext cx="867096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7640" y="4183560"/>
            <a:ext cx="867096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D902-5D07-4DB8-B81E-BA711883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48060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764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9076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764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9076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DF4F-1E9E-4C8F-AC66-AFC21F20A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48060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7640" y="191304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480" y="191304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1320" y="191304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7640" y="418356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480" y="418356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1320" y="4183560"/>
            <a:ext cx="279180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3CDB-DA31-4B37-9496-9FAC2B1BC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48060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7640" y="1913040"/>
            <a:ext cx="86709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3066-C8E1-4F79-8829-82D99B4D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48060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7640" y="1913040"/>
            <a:ext cx="86709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1D6D-A1A6-45BE-8BAA-B603075D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8060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764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9076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338B-931A-4904-AF1A-401C2D51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48060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BF80-187F-4520-B8D8-64D36ABC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480600"/>
            <a:ext cx="906624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7E05-5D81-4131-BEF3-3265436B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8060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764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9076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764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F57E-1FA6-4EB6-936C-4F946790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8060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640" y="1913040"/>
            <a:ext cx="42310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9076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90760" y="418356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3347-999F-48F5-BBC6-62DDD008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8060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764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90760" y="1913040"/>
            <a:ext cx="423108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7640" y="4183560"/>
            <a:ext cx="867096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3E26-932D-4F3A-B276-6B459212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480600"/>
            <a:ext cx="906624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7640" y="1913040"/>
            <a:ext cx="86709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9000"/>
          </a:bodyPr>
          <a:p>
            <a:pPr marL="3394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527520"/>
            <a:ext cx="23432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11360" y="6527520"/>
            <a:ext cx="31910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55000" y="6527520"/>
            <a:ext cx="23428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CCCDC2-6AC9-4522-B986-6A8696A7E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6966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scritores Acúst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47280" y="1956960"/>
            <a:ext cx="867420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Giordano Cab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46980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ção de Características Acús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47280" y="1619280"/>
            <a:ext cx="86756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575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ono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24040" indent="-573120" algn="just">
              <a:lnSpc>
                <a:spcPct val="95000"/>
              </a:lnSpc>
              <a:spcAft>
                <a:spcPts val="575"/>
              </a:spcAft>
              <a:buClr>
                <a:srgbClr val="008080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adiness vs. Dinamicity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2587680" indent="-428760">
              <a:lnSpc>
                <a:spcPct val="95000"/>
              </a:lnSpc>
              <a:spcAft>
                <a:spcPts val="575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 extraído do sinal em um dado momento ou comportamento do sinal ao longo do tempo?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1724040" indent="-573120">
              <a:lnSpc>
                <a:spcPct val="95000"/>
              </a:lnSpc>
              <a:spcAft>
                <a:spcPts val="575"/>
              </a:spcAft>
              <a:buClr>
                <a:srgbClr val="008080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 Ext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2587680" indent="-428760">
              <a:lnSpc>
                <a:spcPct val="95000"/>
              </a:lnSpc>
              <a:spcAft>
                <a:spcPts val="575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aplica apenas a parte do objeto (ex.: ataque) ou ao sinal como um todo?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2" marL="2587680" indent="-428760">
              <a:lnSpc>
                <a:spcPct val="95000"/>
              </a:lnSpc>
              <a:spcAft>
                <a:spcPts val="575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is x Instantâneos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1" marL="1724040" indent="-573120">
              <a:lnSpc>
                <a:spcPct val="95000"/>
              </a:lnSpc>
              <a:spcAft>
                <a:spcPts val="575"/>
              </a:spcAft>
              <a:buClr>
                <a:srgbClr val="008080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stractnes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1724040" indent="-573120">
              <a:lnSpc>
                <a:spcPct val="95000"/>
              </a:lnSpc>
              <a:spcAft>
                <a:spcPts val="575"/>
              </a:spcAft>
              <a:buClr>
                <a:srgbClr val="008080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raction Proces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2587680" indent="-428760">
              <a:lnSpc>
                <a:spcPct val="95000"/>
              </a:lnSpc>
              <a:spcAft>
                <a:spcPts val="850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ído diretamente do sinal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2" marL="2587680" indent="-428760">
              <a:lnSpc>
                <a:spcPct val="95000"/>
              </a:lnSpc>
              <a:spcAft>
                <a:spcPts val="850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ído de uma transformada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lvl="2" marL="2587680" indent="-428760">
              <a:lnSpc>
                <a:spcPct val="95000"/>
              </a:lnSpc>
              <a:spcAft>
                <a:spcPts val="850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tam simular aparelho auditivo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: Projeto CUID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47280" y="1912680"/>
            <a:ext cx="8712360" cy="5097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9000"/>
          </a:bodyPr>
          <a:p>
            <a:pPr marL="424440" indent="-32076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oral Shape: </a:t>
            </a:r>
            <a:r>
              <a:rPr b="0" lang="en-US" sz="2600" spc="-1" strike="noStrike">
                <a:solidFill>
                  <a:srgbClr val="800000"/>
                </a:solidFill>
                <a:latin typeface="Times New Roman"/>
              </a:rPr>
              <a:t>[</a:t>
            </a:r>
            <a:r>
              <a:rPr b="0" lang="en-US" sz="2600" spc="-1" strike="noStrike">
                <a:solidFill>
                  <a:srgbClr val="008000"/>
                </a:solidFill>
                <a:latin typeface="Times New Roman"/>
              </a:rPr>
              <a:t>Attack time; Temporal increase/decrease; Effective duration</a:t>
            </a:r>
            <a:r>
              <a:rPr b="0" lang="en-US" sz="2600" spc="-1" strike="noStrike">
                <a:solidFill>
                  <a:srgbClr val="800000"/>
                </a:solidFill>
                <a:latin typeface="Times New Roman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24440" indent="-32076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oral Feature: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800000"/>
                </a:solidFill>
                <a:latin typeface="Times New Roman"/>
              </a:rPr>
              <a:t>[</a:t>
            </a:r>
            <a:r>
              <a:rPr b="0" lang="en-US" sz="2600" spc="-1" strike="noStrike">
                <a:solidFill>
                  <a:srgbClr val="008000"/>
                </a:solidFill>
                <a:latin typeface="Times New Roman"/>
              </a:rPr>
              <a:t>Autocorrelation coefficients; ZCR</a:t>
            </a:r>
            <a:r>
              <a:rPr b="0" lang="en-US" sz="2600" spc="-1" strike="noStrike">
                <a:solidFill>
                  <a:srgbClr val="800000"/>
                </a:solidFill>
                <a:latin typeface="Times New Roman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24440" indent="-32076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ergy Features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600" spc="-1" strike="noStrike">
                <a:solidFill>
                  <a:srgbClr val="008000"/>
                </a:solidFill>
                <a:latin typeface="Times New Roman"/>
              </a:rPr>
              <a:t>Global energy; harmonic energ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24440" indent="-32076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tral Shape Features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600" spc="-1" strike="noStrike">
                <a:solidFill>
                  <a:srgbClr val="008000"/>
                </a:solidFill>
                <a:latin typeface="Times New Roman"/>
              </a:rPr>
              <a:t>Spectral centroid, spread, kurtosis, slope, roll-off; MFC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24440" indent="-32076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monic Features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600" spc="-1" strike="noStrike">
                <a:solidFill>
                  <a:srgbClr val="008000"/>
                </a:solidFill>
                <a:latin typeface="Times New Roman"/>
              </a:rPr>
              <a:t>Noise ratio; harmonic devi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24440" indent="-32076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ceptual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4440" indent="-32076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PEG-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20720" y="1944720"/>
            <a:ext cx="8588520" cy="50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é-Process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36400" y="1763640"/>
            <a:ext cx="7275600" cy="12495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68360" y="3527280"/>
            <a:ext cx="9180360" cy="32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é-Processamento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04720" y="1735200"/>
            <a:ext cx="9036000" cy="2921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06600" y="4932360"/>
            <a:ext cx="8608680" cy="210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é-Processamento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9640" y="1452600"/>
            <a:ext cx="8548920" cy="21477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647640" y="3564000"/>
            <a:ext cx="8280360" cy="37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e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09560" y="1901880"/>
            <a:ext cx="8415360" cy="44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e Convers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87520" y="1900080"/>
            <a:ext cx="8942400" cy="44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Temporal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39640" y="1727280"/>
            <a:ext cx="8280360" cy="3132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39640" y="5219640"/>
            <a:ext cx="8624880" cy="151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Global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12800" y="1619280"/>
            <a:ext cx="8467560" cy="2352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720720" y="4060800"/>
            <a:ext cx="8459640" cy="300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ntaneous Temporal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82560" y="1792440"/>
            <a:ext cx="8856720" cy="46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48060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álise de Sinais de Áu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47640" y="1552320"/>
            <a:ext cx="5113440" cy="55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5000"/>
              </a:lnSpc>
              <a:spcBef>
                <a:spcPts val="286"/>
              </a:spcBef>
              <a:spcAft>
                <a:spcPts val="575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t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24040" indent="-573120">
              <a:lnSpc>
                <a:spcPct val="95000"/>
              </a:lnSpc>
              <a:spcBef>
                <a:spcPts val="286"/>
              </a:spcBef>
              <a:spcAft>
                <a:spcPts val="575"/>
              </a:spcAft>
              <a:buClr>
                <a:srgbClr val="008080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ergia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1724040" indent="-573120">
              <a:lnSpc>
                <a:spcPct val="95000"/>
              </a:lnSpc>
              <a:spcBef>
                <a:spcPts val="286"/>
              </a:spcBef>
              <a:spcAft>
                <a:spcPts val="575"/>
              </a:spcAft>
              <a:buClr>
                <a:srgbClr val="008080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br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1724040" indent="-573120">
              <a:lnSpc>
                <a:spcPct val="95000"/>
              </a:lnSpc>
              <a:spcBef>
                <a:spcPts val="286"/>
              </a:spcBef>
              <a:spcAft>
                <a:spcPts val="575"/>
              </a:spcAft>
              <a:buClr>
                <a:srgbClr val="008080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l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spcBef>
                <a:spcPts val="286"/>
              </a:spcBef>
              <a:spcAft>
                <a:spcPts val="575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acterísticas Acús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24040" indent="-573120">
              <a:lnSpc>
                <a:spcPct val="95000"/>
              </a:lnSpc>
              <a:spcBef>
                <a:spcPts val="286"/>
              </a:spcBef>
              <a:spcAft>
                <a:spcPts val="575"/>
              </a:spcAft>
              <a:buClr>
                <a:srgbClr val="008080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plitud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1724040" indent="-573120">
              <a:lnSpc>
                <a:spcPct val="95000"/>
              </a:lnSpc>
              <a:spcBef>
                <a:spcPts val="286"/>
              </a:spcBef>
              <a:spcAft>
                <a:spcPts val="575"/>
              </a:spcAft>
              <a:buClr>
                <a:srgbClr val="008080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pectr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1724040" indent="-573120">
              <a:lnSpc>
                <a:spcPct val="95000"/>
              </a:lnSpc>
              <a:spcBef>
                <a:spcPts val="286"/>
              </a:spcBef>
              <a:spcAft>
                <a:spcPts val="575"/>
              </a:spcAft>
              <a:buClr>
                <a:srgbClr val="008080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nsidade's de Banda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1724040" indent="-573120">
              <a:lnSpc>
                <a:spcPct val="95000"/>
              </a:lnSpc>
              <a:spcBef>
                <a:spcPts val="286"/>
              </a:spcBef>
              <a:spcAft>
                <a:spcPts val="575"/>
              </a:spcAft>
              <a:buClr>
                <a:srgbClr val="008080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correlaçã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1724040" indent="-573120">
              <a:lnSpc>
                <a:spcPct val="95000"/>
              </a:lnSpc>
              <a:spcBef>
                <a:spcPts val="286"/>
              </a:spcBef>
              <a:spcAft>
                <a:spcPts val="575"/>
              </a:spcAft>
              <a:buClr>
                <a:srgbClr val="008080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róid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0360" y="2339640"/>
            <a:ext cx="3384720" cy="51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nálise busca oferecer os descritores mais completos possív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46980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ntaneous Temporal Featur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20720" y="1843200"/>
            <a:ext cx="8640720" cy="3197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508720" y="4896000"/>
            <a:ext cx="3851280" cy="495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1260360" y="3878280"/>
            <a:ext cx="4056120" cy="350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20720" y="2340000"/>
            <a:ext cx="8548560" cy="27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tral Shape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57360" y="2014560"/>
            <a:ext cx="8702640" cy="40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tral Shape Featur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254240" y="1547640"/>
            <a:ext cx="7421400" cy="568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tral Shape Featur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182600" y="1511280"/>
            <a:ext cx="7458120" cy="59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tral Shape Featur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39640" y="2340000"/>
            <a:ext cx="899964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tral Shape Featur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800360" y="2519280"/>
            <a:ext cx="6140160" cy="35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tral Shape Featur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20720" y="1800360"/>
            <a:ext cx="8672400" cy="3762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040360" y="5626080"/>
            <a:ext cx="436068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poral Variation of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58880" y="2160720"/>
            <a:ext cx="8421480" cy="312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Spectral Shape De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41320" y="1619280"/>
            <a:ext cx="8481960" cy="536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idad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47280" y="1912680"/>
            <a:ext cx="867564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odu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24040" indent="-573120">
              <a:lnSpc>
                <a:spcPct val="95000"/>
              </a:lnSpc>
              <a:spcAft>
                <a:spcPts val="1137"/>
              </a:spcAft>
              <a:buClr>
                <a:srgbClr val="008080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álise-Síntes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1724040" indent="-573120">
              <a:lnSpc>
                <a:spcPct val="95000"/>
              </a:lnSpc>
              <a:spcAft>
                <a:spcPts val="1137"/>
              </a:spcAft>
              <a:buClr>
                <a:srgbClr val="008080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ificação (ex.: mp3)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crição (reinterpretaçã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rofundar nosso conhecimento so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24040" indent="-573120">
              <a:lnSpc>
                <a:spcPct val="95000"/>
              </a:lnSpc>
              <a:spcAft>
                <a:spcPts val="1137"/>
              </a:spcAft>
              <a:buClr>
                <a:srgbClr val="008080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ção musica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1724040" indent="-573120">
              <a:lnSpc>
                <a:spcPct val="95000"/>
              </a:lnSpc>
              <a:spcAft>
                <a:spcPts val="1137"/>
              </a:spcAft>
              <a:buClr>
                <a:srgbClr val="008080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cepção musica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1724040" indent="-573120">
              <a:lnSpc>
                <a:spcPct val="95000"/>
              </a:lnSpc>
              <a:spcAft>
                <a:spcPts val="1137"/>
              </a:spcAft>
              <a:buClr>
                <a:srgbClr val="008080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agem musical/sonora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monic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39640" y="2189160"/>
            <a:ext cx="8820360" cy="267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monic Featur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39640" y="1990800"/>
            <a:ext cx="8820360" cy="413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monic Featur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92000" y="2039760"/>
            <a:ext cx="8641080" cy="40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monic Featur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84360" y="2158920"/>
            <a:ext cx="8820000" cy="41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monic Featur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54040" y="1692360"/>
            <a:ext cx="8807400" cy="51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ceptual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12720" y="1692360"/>
            <a:ext cx="8820360" cy="51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ceptual Featur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804960" y="2163600"/>
            <a:ext cx="8529480" cy="420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ros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20720" y="1477800"/>
            <a:ext cx="8631360" cy="393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882720" y="1832040"/>
            <a:ext cx="4157640" cy="53672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5616720" y="1871640"/>
            <a:ext cx="2987640" cy="50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ros Featur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73120" y="1546200"/>
            <a:ext cx="4106880" cy="2233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720720" y="3983040"/>
            <a:ext cx="7207200" cy="2678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5400720" y="1525680"/>
            <a:ext cx="3343320" cy="26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poral Mo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079640" y="1982880"/>
            <a:ext cx="5529240" cy="41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digma: Análise a Curto Ter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7280" y="1912680"/>
            <a:ext cx="8675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úsica é informação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24040" indent="-573120">
              <a:lnSpc>
                <a:spcPct val="95000"/>
              </a:lnSpc>
              <a:spcAft>
                <a:spcPts val="1137"/>
              </a:spcAft>
              <a:buClr>
                <a:srgbClr val="008080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essão de evento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álise é feita local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erior categorização dos eventos em sepa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24040" indent="-573120">
              <a:lnSpc>
                <a:spcPct val="95000"/>
              </a:lnSpc>
              <a:spcAft>
                <a:spcPts val="1137"/>
              </a:spcAft>
              <a:buClr>
                <a:srgbClr val="008080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egaçã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1724040" indent="-573120">
              <a:lnSpc>
                <a:spcPct val="95000"/>
              </a:lnSpc>
              <a:spcAft>
                <a:spcPts val="1137"/>
              </a:spcAft>
              <a:buClr>
                <a:srgbClr val="008080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gmentaçã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o g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797360" y="720720"/>
            <a:ext cx="4743360" cy="59626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0360" y="1619280"/>
            <a:ext cx="45007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itura de buff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erposição (overlapping) de buff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elas antialia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ção de características acús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8060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uns Ter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47640" y="1913040"/>
            <a:ext cx="867240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6829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29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p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29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ro Pad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itura de buff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47280" y="1912680"/>
            <a:ext cx="8675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álise espectral remove o componente te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 que instante ocorre a nota mostrada no espectro abaix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66640" y="3645000"/>
            <a:ext cx="8793360" cy="3193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780000" y="3419640"/>
            <a:ext cx="1368360" cy="1763640"/>
          </a:xfrm>
          <a:prstGeom prst="line">
            <a:avLst/>
          </a:prstGeom>
          <a:ln w="72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4809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erposição de buff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47280" y="1800360"/>
            <a:ext cx="867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romis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24040" indent="-573120">
              <a:lnSpc>
                <a:spcPct val="95000"/>
              </a:lnSpc>
              <a:spcAft>
                <a:spcPts val="1137"/>
              </a:spcAft>
              <a:buClr>
                <a:srgbClr val="008080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cisão no Temp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1724040" indent="-573120">
              <a:lnSpc>
                <a:spcPct val="95000"/>
              </a:lnSpc>
              <a:spcAft>
                <a:spcPts val="1137"/>
              </a:spcAft>
              <a:buClr>
                <a:srgbClr val="008080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cisão na Frequência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1724040" indent="-573120">
              <a:lnSpc>
                <a:spcPct val="95000"/>
              </a:lnSpc>
              <a:spcAft>
                <a:spcPts val="1137"/>
              </a:spcAft>
              <a:buClr>
                <a:srgbClr val="008080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er computaciona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39640" y="4186080"/>
            <a:ext cx="8793360" cy="319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46980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nelas anti-aliasing (de ponderaçã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47280" y="1912680"/>
            <a:ext cx="8675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9000"/>
          </a:bodyPr>
          <a:p>
            <a:pPr marL="424440" indent="-32076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ang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4440" indent="-32076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ang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4440" indent="-32076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4440" indent="-32076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m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4440" indent="-32076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ackman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4440" indent="-32076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i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4440" indent="-320760">
              <a:lnSpc>
                <a:spcPct val="95000"/>
              </a:lnSpc>
              <a:spcAft>
                <a:spcPts val="1426"/>
              </a:spcAft>
              <a:buClr>
                <a:srgbClr val="00808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rtle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438800" y="1855800"/>
            <a:ext cx="4381200" cy="5524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01:53:45Z</dcterms:created>
  <dc:creator/>
  <dc:description>General introduction of a new product taking customer wishes into account</dc:description>
  <dc:language>en-US</dc:language>
  <cp:lastModifiedBy/>
  <dcterms:modified xsi:type="dcterms:W3CDTF">2009-05-07T02:07:06Z</dcterms:modified>
  <cp:revision>2</cp:revision>
  <dc:subject/>
  <dc:title>Introducing a New Product</dc:title>
</cp:coreProperties>
</file>