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treme.wav" ContentType="audio/x-wav"/>
  <Override PartName="/ppt/media/Utopia%20Padr%C3%A3o.wav" ContentType="audio/x-wav"/>
  <Override PartName="/ppt/media/Chico.wav" ContentType="audio/x-wav"/>
  <Override PartName="/ppt/media/image1.wmf" ContentType="image/x-wmf"/>
  <Override PartName="/ppt/media/vai.wav" ContentType="audio/x-wav"/>
  <Override PartName="/ppt/media/image2.wmf" ContentType="image/x-wmf"/>
  <Override PartName="/ppt/media/vanhalen.wav" ContentType="audio/x-wav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AB66-FF98-43F7-9CD1-8F9A7312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9D01-627A-47EA-97F1-C69803286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7A52-12B6-439F-93D1-E717887A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015-2B3E-46A8-B5D4-22C93BA58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6F45-EF74-4C1B-A7FA-C6725664E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E397-B608-4750-A2AC-2383FAC1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2560-F42D-487F-BF8B-135824F38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427-5CAE-403E-80DC-EC19D3087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6B2-5E7B-4F1B-99B7-2A8B315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3D7-1351-4A29-ADF3-5922EC34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AB00-7D11-4495-9CC8-12F2333E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3465-4135-4820-97FC-054084B1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6AEBC-9761-4FE1-A357-759EE95DA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treme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Utopia%20Padr&#227;o.wav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vanhalen.wav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co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audio" Target="../media/Utopia%20Padr&#227;o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vai.wav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Utopia%20Padr&#227;o.wav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Allegro  -  Biblioteca C/C++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MI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extr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743200" y="3338640"/>
          <a:ext cx="3657600" cy="18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3338640"/>
                    <a:ext cx="365760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0" y="0"/>
            <a:ext cx="9144000" cy="65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#include "stdio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#include "allegro.h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ai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 *the_musi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har name[4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har esc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lrsc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Digite o nome do arquivo: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s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llegro_init(); </a:t>
            </a:r>
            <a:r>
              <a:rPr b="0" lang="pt-BR" sz="1600" spc="-1" strike="noStrike">
                <a:solidFill>
                  <a:srgbClr val="ff5050"/>
                </a:solidFill>
                <a:latin typeface="Arial"/>
              </a:rPr>
              <a:t>/*Inicializa a biblioteca allegro, armazena memoria, e configura exit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nstall_timer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install_sound(DIGI_AUTODETECT,MIDI_AUTODETECT,"") !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Erro de instalaca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the_music=load_midi(&amp;name[0]);</a:t>
            </a:r>
            <a:r>
              <a:rPr b="0" lang="pt-BR" sz="1600" spc="-1" strike="noStrike">
                <a:solidFill>
                  <a:srgbClr val="ff5050"/>
                </a:solidFill>
                <a:latin typeface="Arial"/>
              </a:rPr>
              <a:t>/*load_midi retorna um ponteiro pra estrutura midi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!the_musi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erro de leitura no arquivo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ccccff"/>
                </a:solidFill>
                <a:latin typeface="Arial"/>
              </a:rPr>
              <a:t>                                                         </a:t>
            </a:r>
            <a:r>
              <a:rPr b="0" lang="pt-BR" sz="1800" spc="-1" strike="noStrike">
                <a:solidFill>
                  <a:srgbClr val="ccccff"/>
                </a:solidFill>
                <a:latin typeface="Arial"/>
              </a:rPr>
              <a:t>EXEMPLO CONTINUA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3" name="Utopia%20Padr%C3%A3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80880" y="609480"/>
            <a:ext cx="8382240" cy="60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set_volume(230,200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if(play_midi(the_music,TRUE)!=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printf("UM Erro ocorreu em Play MIDI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getch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xit(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while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esc=getch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switch(es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l':play_midi(the_music,TRUE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p':midi_pause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r':midi_resume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s':stop_midi();break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case 'd':destroy_midi(the_music);exit(5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allegro_exi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Graphite Light ATT"/>
              </a:rPr>
              <a:t>Onde Achar alleg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www.delorie.com/dgj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Graphite Light ATT"/>
              </a:rPr>
              <a:t>www.talula.co.uk/alleg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vanhalen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egro em Italiano quer dizer: Rápido, Vivo, Glorioso. Mas aqui pode-se entender como: A Low Level Game Routi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llegro é uma biblioteca de funções desenvolvida especialmente para j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i  escrita numa mistura de C e assemble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duzido em cooperação, é distribuído livremente, podendo ser  modificado da maneira que você qui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O que é Allegr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Suporte som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DI (mais de 64 efeitos simultân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e On, Note off, Volume, pan, PitchBend, Pitch e mensagem program changes. Usando General MIDI Patch Set e Drum Mapp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uporta: Adlib, SB, SB pro , SB16, AWE32,MPU-401, ESS AudioDrive, Ensoniq , Soundscape, e  Software wavetable MID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omo está definida a estrutura MIDI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057400"/>
            <a:ext cx="815328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ypedef struct M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 divisions;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// Numero de tiques por quarto de 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r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nsigned char * data;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/* Fonte da mensagem MIDI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nt len;            </a:t>
            </a: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 /*comprimento da faixa de informacao 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} Track[MIDI_TRACKS]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} MID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IDI_TRACKS 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Chic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ções de Allegro.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752480"/>
            <a:ext cx="80773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t allegro_init( )- Inicializa a Biblioteca Allegro, Dá valor a certas variáveis globais, aloca memória e indica allegro_exit( ) como uma rotina de saída. Retorna zero se bem suce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allegro_exit( )- Faz o sistema retornar ao modo tex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install_timer( )-Instala a Interrupção de tempo necessário ao dispositivo MID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Int install_sound(int digi_card, int midi_card)-Inicializa o módulo de som, retornado zero se bem suced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Parametros de Install_s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85800" y="2058840"/>
          <a:ext cx="7772400" cy="395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8840"/>
                    <a:ext cx="77724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  <p:sndAc>
      <p:stSnd>
        <p:snd r:embed="rId3" name="Utopia%20Padr%C3%A3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Funções allegro.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93640" y="17049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81532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remove_sound( )- Termina a execução de arqu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set_volume (int digi_vol, int midi_vol )- altera os valores das variáveis globais relativas ao volume do dispositivo MIDI e da placa de s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MIDI * load_midi( char * nome_do_arquivo ) - Carrega um arquivo MID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destory_midi (MIDI *midi ) - Finaliza a execução de uma mensagem MIDI se ela estiver 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play_midi ( MIDI *midi,int loop ) - Executa uma seqüência MIDI o parâmetro loop indica se a sequência será executada em loop ou n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vai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unções para manipular MI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43828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14400" y="2209680"/>
            <a:ext cx="746748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stop_midi( )-o mesmo que play_midi( NULL ,int loop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midi_pause( )- pausa uma seqüência MI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resume_midi( )-Resume uma seqüência MIDI, antes em estado de pau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midi_out( unsigned char *data, int len ) -Joga na saída MIDI a seqüência apontada por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void load_patches( )-força o dispositivo MIDI a carregar um conjunto pre-definido de  Pat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a"/>
            </a:gs>
            <a:gs pos="100000">
              <a:srgbClr val="0000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00"/>
                </a:solidFill>
                <a:latin typeface="Arial"/>
              </a:rPr>
              <a:t>Exemplo de uso de midi_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523880"/>
            <a:ext cx="807732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00200"/>
            <a:ext cx="8001000" cy="46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set_patch(int channel, int prog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2] = { 0xC0+channel, prog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set_pan(int channel, int pan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B0+channel, 10, pan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note_on(int channel, int pitch, int vel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90+channel, pitch, vel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void note_off(int channel, int pitch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unsigned char msg[3] = { 0x80+channel, pitch, 0 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midi_out(msg, 3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ff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  <p:sndAc>
      <p:stSnd>
        <p:snd r:embed="rId1" name="Utopia%20Padr%C3%A3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6T07:20:42Z</dcterms:created>
  <dc:creator>SALETE</dc:creator>
  <dc:description/>
  <dc:language>en-US</dc:language>
  <cp:lastModifiedBy>glr</cp:lastModifiedBy>
  <dcterms:modified xsi:type="dcterms:W3CDTF">1999-06-16T16:42:00Z</dcterms:modified>
  <cp:revision>21</cp:revision>
  <dc:subject/>
  <dc:title> Allegro  -  Biblioteca C/C++  </dc:title>
</cp:coreProperties>
</file>