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A26-34F1-45BE-B487-11D6DA9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52D-511F-40DB-8083-89F4862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E59-F968-4757-B165-F900FB8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E89-875A-43DA-BA58-98C78543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D930-26FB-47ED-8795-9CA60C97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3014-CC3B-4A5C-A34A-D7E71FD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A13-E157-462B-8C60-7289EF02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BAF3-C9B3-4B7E-87EF-D23A3A9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BFE-39DE-42D8-B7C2-D25FBE1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262A-4B58-4B6D-A90E-39E6662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B053-1D27-44EA-B16B-02B298E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42B-5803-4D1D-9ECB-F2B10CB0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E0E3-4C38-4873-82F2-573BEFE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B4D0-476B-42B5-8F34-6A02719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B8A6-EC8D-4074-8AD0-CA6DD915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93C2-6EF8-45B8-B5E2-42DFD7A0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720D-74BA-416F-B1C6-A7CC2E67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78F-C79B-4451-A20A-B9706934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117-1BB8-4914-8B44-15DD8D5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4B9-42DA-4349-8A5E-415F189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2B9-957B-4613-8F5F-68BDDA8B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995-8FD2-4EC7-8E08-9FEFCCE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CF4-9FB9-4E03-98BB-D683F92C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79-4813-4EEF-AC2D-A98DC23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495C-D3F9-4355-87F3-7B2F15747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1DF-F429-45A9-B1C6-3B71CB28F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ação Music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bliotecas Java - Java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 especial de Channel que pode ser carregado 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a loops, reposicionamento e contagem de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recurso de sistema compartilh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informações sobre o dispos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um Input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 uma exceção se o recurso já esta sendo usado por outr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uma ou mais Ports que podem ser habili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put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obtenção de um Output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 uma exceção se o recurso já esta sendo usado por outr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uma ou mais Ports que podem ser habili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ix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rta a entrada de múltiplos InputChannels ou Cl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para procurar a quantidade entradas que o dispositivo suporta e métodos para trabalhar com Channels e Cl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AUDIO_OUTPUT" descr=""/>
          <p:cNvPicPr/>
          <p:nvPr/>
        </p:nvPicPr>
        <p:blipFill>
          <a:blip r:embed="rId1"/>
          <a:stretch/>
        </p:blipFill>
        <p:spPr>
          <a:xfrm>
            <a:off x="2286000" y="4191120"/>
            <a:ext cx="4743360" cy="1047600"/>
          </a:xfrm>
          <a:prstGeom prst="rect">
            <a:avLst/>
          </a:prstGeom>
          <a:ln w="0">
            <a:noFill/>
          </a:ln>
        </p:spPr>
      </p:pic>
      <p:pic>
        <p:nvPicPr>
          <p:cNvPr id="126" name="AUDIO_INPUT" descr=""/>
          <p:cNvPicPr/>
          <p:nvPr/>
        </p:nvPicPr>
        <p:blipFill>
          <a:blip r:embed="rId2"/>
          <a:stretch/>
        </p:blipFill>
        <p:spPr>
          <a:xfrm>
            <a:off x="2819520" y="5486400"/>
            <a:ext cx="34480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Outras Cla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ão controles como gain e pan obtidos de um Channel ou 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zem eventos quando os valores são mudados que podem registrados por uma aplicação quando e adicionado um listener para o 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d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difica e decodifica dados , permitindo a conversão de um formato de dados para ou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lasse AudioSystem possui métodos que fazem essas conversões de maneira intel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Outras Cla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s e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ileStream é um InputStream com tipo de arquivo e tamanho asso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dioStream é um InputStream com formato de audio e tamanho associ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os podem ser convertidos entre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dioSystem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todos para conversão de formatos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todos para busca de dispositivos instalados no sistema (InputDevices, OutputDevices e Mix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Informaçõ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java.sun.com/products/java-media/soun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te oficial da sun sobre Java S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developer.java.su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va developer Connection - Disponibilizou o Java Sound API Early Release para quem quiser tes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ava Sound - O que é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é o ano de 98, java não possuia nenhum tipo de biblioteca oficial para manipulação de objetos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 desembro de 98, com o lancamento da plataforma Java 2 (SDK 1.2), a Sun desenvolveu uma API para manipulação de som. A Java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o conjunto de bibliotecas que oferece suporte low-level para operações como mixagem de audio, sequenciamento e síntese de MIDI , captura de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ltiplataf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ssim como a lingu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ta-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24-voice MIDI usa apenas 20% de uma CPU Pentium 9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ência do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única exigência é que o hardware possua um simples D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so de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matos de Arqu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AVE, AIFF AU, MIDI(0,1,2), RM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ac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 sound inclui suporte para audio digital e para música MIDI. Esse dois módulos estão divididos em dois paco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samp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sampled.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specifica interfaces para captura, mixagem e reprodução de audio digital (sample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mi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avax.media.sound.midi.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ove interfaces para síntese MIDI, sequenciamento e transporte de ev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Audio Sample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principal conceito no pacote javax.media.sound.sampled é a interface Channel (ca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presenta algum tipo de dado de som digital (um arquivo de som, um dispositivo hardware, um mixador) através da arquitetura orientada a objeto de 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nnel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anal de s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m vários métodos para obter controle e informações sobre um objeto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opriedades do Chan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udio Format - Formato de dados associ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sition - Posicao em numero de frames sampli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uffer size - Tamanho do buffer em fra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evel - intencidade do sinal ( 0 -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use/Resume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rain - Bloqueia até processar todo 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lush - Limpa 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pen/Close Status - O channel esta aberto ou fech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ctive Status - Esta ativo se ele esta processando dados do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s - Metodos para acessar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vent listener - Recebem eventos de um canal (open, close, pause, res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channel_inheritance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1908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48769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channel não possui nenhum método para manipulação de dados (leitura e escrita). Esses métodos encontram-se nas classes que herdam d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 para especificamente para ler um stream e para determinar quanto esta disponí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ler mais do que existe no buffer, o metodo de leitura trava a aplic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ler mais do que o tamanho do buffer , ele trava a aplicação e retorna quando o buffer tiver che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contece overflow, descarta-se os dados mais ant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lasses Estendid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put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métodos, especificamente, para escrever um stream e quanto dados o channel esta preparado para receber até encher o 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ma aplicação tenta escrever mais do que o espaço restante do buffer o método de escrita bloqueia a apl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underflow um evento the stop e g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3:22:43Z</dcterms:created>
  <dc:creator>flus</dc:creator>
  <dc:description/>
  <dc:language>en-US</dc:language>
  <cp:lastModifiedBy>jhbg</cp:lastModifiedBy>
  <dcterms:modified xsi:type="dcterms:W3CDTF">1999-05-17T16:19:01Z</dcterms:modified>
  <cp:revision>22</cp:revision>
  <dc:subject/>
  <dc:title>Computação Musical</dc:title>
</cp:coreProperties>
</file>