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4E3-554E-4C48-B7B9-46CB0C4B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51B-B97D-4C9B-9F42-C5EF3E17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663-B0AB-4A87-BB68-B79F3410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6AE-E9A1-4D43-B9EE-18691D29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872C-D457-42BC-97B5-B45C7738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4C1D-F08B-4E2C-AAA6-BFE1ADB0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E2BD-CB83-4586-BDF6-04856905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9A53-03B4-4B26-8043-5B700BD5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D393-35F9-4E07-95F0-AF11597B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C9F1-21A0-4CE0-AE91-202529B9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5470-82E4-4834-AE33-C9A4E183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C44-F2AD-4782-A8F3-D5D0249A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4B0E-6A9F-401A-A225-65A9C84B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49F0-3C29-47A1-8ACD-574C452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64F2-7DE7-462E-BDAE-7DD638C0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AAF0-2E49-4D4E-AEFF-FBB6F3A2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0A91-7354-4C20-9DFF-428C69C3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0C4-E527-4921-BDC2-6225F7D2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C6A-574A-4081-9FF9-5B2930D9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565-11EC-40E4-966C-EA099508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DF6-6B2C-4BA1-A762-92A3505F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4A8-8F6D-4673-8958-5F83A76E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C93-98BF-4294-9F92-0A4A4B7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E70-AE84-4B3A-8494-D0D9BCB8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6AAB-ACDF-4411-A2B5-8D1C74F9E1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4404-545C-4B36-9DA4-690DF678A0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lef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USICXM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08720" y="4723920"/>
            <a:ext cx="3349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celo Pereir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nieri Valenç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sana M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lmir Se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ásico de Nota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ss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3305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ásico de Nota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87487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ásico de Nota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as e Paus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5920" y="3573360"/>
            <a:ext cx="90280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?xml version="1.0" encoding="UTF-8" standalone="no"?&gt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!DOCTYPE score-partwise PUBLIC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"-//Recordare//DTD MusicXML 1.1 Partwise//EN"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"http://www.musicxml.org/dtds/partwise.dtd"&gt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score-partwise version="1.1"&gt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part-list&g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/part-list&g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art-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core-part id="P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art-name&gt;clarinet in A&lt;/part-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core-instrument id="P1-I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instrument-name&gt;Clarinet&lt;/instrument-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score-instru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instrument id="P1-I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channel&gt;1&lt;/midi-channel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program&gt;72&lt;/midi-program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midi-instru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score-par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core-part id="P2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art-name&gt;violino I&lt;/part-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core-instrument id="P2-I3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instrument-name&gt;Violin&lt;/instrument-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score-instru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instrument id="P2-I3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channel&gt;3&lt;/midi-channel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program&gt;41&lt;/midi-program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midi-instru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score-par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art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art id="P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easure number="0" implicit="yes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attribute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ivisions&gt;6&lt;/division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key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ifths&gt;0&lt;/fifth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ode&gt;major&lt;/mod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key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beats&gt;3&lt;/beat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beat-type&gt;4&lt;/beat-typ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clef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ign&gt;G&lt;/sign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line&gt;2&lt;/lin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clef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transpos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iatonic&gt;-2&lt;/diatonic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chromatic&gt;-3&lt;/chromatic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transpos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attribute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1943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tep&gt;C&lt;/step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uration&gt;3&lt;/duratio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type&gt;eighth&lt;/typ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tem&gt;down&lt;/s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beam number="1"&gt;begin&lt;/b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notation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lur type="start" number="1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notation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tep&gt;E&lt;/step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uration&gt;3&lt;/duratio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type&gt;eighth&lt;/typ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tem&gt;down&lt;/s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7908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presentação de Acor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tep&gt;C&lt;/ste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uration&gt;3&lt;/duration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chord/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tep&gt;E&lt;/ste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chord/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tep&gt;G&lt;/ste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59280" y="2637000"/>
            <a:ext cx="28954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313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presentação da Le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tep&gt;G&lt;/step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octave&gt;4&lt;/octav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yllabic&gt;single&lt;/syllab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text&gt;Dans&lt;/text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tep&gt;C&lt;/step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yllabic&gt;single&lt;/syllab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text&gt;un&lt;/text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313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presentação da Le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tep&gt;G&lt;/step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octave&gt;4&lt;/octav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yllabic&gt;single&lt;/syllab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text&gt;Dans&lt;/text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tep&gt;C&lt;/step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yllabic&gt;single&lt;/syllab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text&gt;un&lt;/text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49201" t="0" r="0" b="0"/>
          <a:stretch/>
        </p:blipFill>
        <p:spPr>
          <a:xfrm>
            <a:off x="5364000" y="1844640"/>
            <a:ext cx="282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teir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ásico de Not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quema MusicX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lus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313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presentação da Let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step&gt;D&lt;/step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octave&gt;5&lt;/octave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syllabic&gt;begin&lt;/syllabic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text&gt;som&lt;/text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49201" t="0" r="0" b="0"/>
          <a:stretch/>
        </p:blipFill>
        <p:spPr>
          <a:xfrm>
            <a:off x="5435640" y="2781360"/>
            <a:ext cx="28256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sicXML é uma ótima idé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funcionalidades de indexação e recuperação são muito bo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orta praticamente todos os recursos utilizados em partitu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ácil de enten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usicXml Tutorial</a:t>
            </a: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www.recordare.com/xml/musicxml-tutorial.p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ef Wikipedia (Claves) - </a:t>
            </a:r>
            <a:r>
              <a:rPr b="0" lang="pt-BR" sz="18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en.wikipedia.org/wiki/Cle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Definição MusicX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esenvolvido pela Record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formato aberto, utilizável por diversas aplicações para intercâmbio musi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tradutor universal para a notação popular da música Ocident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Baseada em MuseData e Hundrum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idos em univers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Uso aberto para portadores d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royalty-free license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 informação musical é designada para ser utilizada por programas de notação, seqüenciadores, programas de educação musical e banco de dados de musicas e etc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i criado pela Recordare para facilitar o intercâmbio de partitur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sma idéia do MIDI, porém resolve um problema diferen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ver formatos intercambiáveis pa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ál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uper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licações de perform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r que não utilizar soluções anterio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IFF: formato gráfic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MDL: muito complex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DI: representação limita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as Suportad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7527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cur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otação de Partitu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blatu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607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cur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cuss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76946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ásico de Nota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14360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0920" y="3284640"/>
            <a:ext cx="4249800" cy="124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195640" y="4437000"/>
            <a:ext cx="3600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0:10:12Z</dcterms:created>
  <dc:creator>Juca</dc:creator>
  <dc:description/>
  <dc:language>en-US</dc:language>
  <cp:lastModifiedBy>Juca</cp:lastModifiedBy>
  <dcterms:modified xsi:type="dcterms:W3CDTF">2008-06-06T15:01:54Z</dcterms:modified>
  <cp:revision>24</cp:revision>
  <dc:subject/>
  <dc:title>MUSICXML</dc:title>
</cp:coreProperties>
</file>