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FFCDC-CEB9-4538-9242-050ABEE5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FEE1-9170-4D65-B559-BB5F4664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3638-B37F-4E7A-9BFD-5806C069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56BF-B185-4E0A-8EF8-E3E544FA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BD5F-1C7B-4527-A629-C4F44C0F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574A-FD5C-40C7-BAE0-EEB6972E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9830-86ED-4C52-A5D3-39418E04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5362-910C-4B03-980F-8D6317E8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3AA6-33C0-4199-8066-E4BCAFC4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CE53-E2DF-4E09-99EA-E8235D25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4880-1A77-44C7-9095-F9472018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C41C-066D-4EA3-B70B-92387727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DCBC-8637-494F-A364-E7120981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B1D1-638D-4892-8A0A-D7BEC3D0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A90-4B8C-4902-9FDC-C70A9842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BECE-CA52-44E6-9812-1C4CF73C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C28E-4DEC-45EA-88C9-07F0D419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9BE38-DDE6-43CB-B3E8-76D54CB8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56C0-0373-410C-A0D4-48343EF8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BB2E-E146-4C02-9219-BCEAD9F3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71C9-553A-46B1-BB48-4E32B5B1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4A69-36ED-4E84-B0AC-8395271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681D-9D39-420B-AD85-83D05F8C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66A4-6F7B-4C17-A3FF-B7F78B98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6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C45F-9DAF-4041-B01E-40AE1A7B2DA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Rectangle 7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648480" y="4267080"/>
            <a:ext cx="2495520" cy="1495440"/>
          </a:xfrm>
          <a:prstGeom prst="rect">
            <a:avLst/>
          </a:prstGeom>
          <a:ln w="0">
            <a:noFill/>
          </a:ln>
        </p:spPr>
      </p:pic>
      <p:pic>
        <p:nvPicPr>
          <p:cNvPr id="17" name="Rectangle 8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238880" y="2743200"/>
            <a:ext cx="1428840" cy="204804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5"/>
          <a:stretch/>
        </p:blipFill>
        <p:spPr>
          <a:xfrm>
            <a:off x="6294600" y="4797360"/>
            <a:ext cx="1085760" cy="11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6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7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648480" y="4267080"/>
            <a:ext cx="2495520" cy="14954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8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238880" y="2743200"/>
            <a:ext cx="1428840" cy="2048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294600" y="4797360"/>
            <a:ext cx="1085760" cy="11905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0077-B54D-4538-A8D7-1AE1435B1D7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t.wikipedia.org/wiki/Batidas_por_minuto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Expressive Music Performan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8920" y="5444640"/>
            <a:ext cx="881244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{lopb, rfoh} @cin.ufpe.b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583160"/>
            <a:ext cx="8812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Luís Otávio e Raphael Holan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arâmetros mais importantes disponíveis para um músico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iming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variações de temp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ynamic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variações de intens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ações de tempo e intensidade podem ser representadas como curvas que quantificam esses parâmetros através de uma composição musical relativa à algum valor de referência (e.g. a intensidade média ou o tempo da mesma mús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035" t="0" r="17689" b="51902"/>
          <a:stretch/>
        </p:blipFill>
        <p:spPr>
          <a:xfrm>
            <a:off x="838080" y="2057400"/>
            <a:ext cx="5410440" cy="4637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519200" cy="1908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324480" y="1981080"/>
            <a:ext cx="121284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543800" y="2895480"/>
            <a:ext cx="142884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v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ynamic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pequeno trecho do Piano Sonata K.280 de Mozart, 1º movimento, tocado por 5 famosos pia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42920" y="3044880"/>
            <a:ext cx="6624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– pontos de express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po (Cinética music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nsidade (Dinâmica music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tocar as notas individualmente ou em conjunto (acentuação e articulaçã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– Cinética Mus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 Unicode MS"/>
              </a:rPr>
              <a:t>Te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Gravissim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Menos de 40 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Arial Unicode MS"/>
                <a:hlinkClick r:id="rId1"/>
              </a:rPr>
              <a:t>batidas por minu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(bpm). Extremamente l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Grave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40 a 48 bpm. Muito lento; grave; sério; demasiadamente vagaros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Larg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48 a 58 bpm. Lento, muito vagaros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Larghet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59 a 65 bpm. Um pouco mais rápido que o </a:t>
            </a:r>
            <a:r>
              <a:rPr b="0" i="1" lang="pt-BR" sz="1600" spc="-1" strike="noStrike">
                <a:solidFill>
                  <a:srgbClr val="000000"/>
                </a:solidFill>
                <a:latin typeface="Arial Unicode MS"/>
              </a:rPr>
              <a:t>l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dagi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66 a 72 bpm. Devagar; calmo; lenta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ndante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73 a 80 bpm. Em passo tranquilo; and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ndantin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80 a 95 bpm. Um pouco mais rápido que o </a:t>
            </a:r>
            <a:r>
              <a:rPr b="0" i="1" lang="pt-BR" sz="1600" spc="-1" strike="noStrike">
                <a:solidFill>
                  <a:srgbClr val="000000"/>
                </a:solidFill>
                <a:latin typeface="Arial Unicode MS"/>
              </a:rPr>
              <a:t>and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Modera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96 a 104 bpm. Velocidade moderada; moderad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llegret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05 a 120 bpm. Mais rápido que o </a:t>
            </a:r>
            <a:r>
              <a:rPr b="0" i="1" lang="pt-BR" sz="1600" spc="-1" strike="noStrike">
                <a:solidFill>
                  <a:srgbClr val="000000"/>
                </a:solidFill>
                <a:latin typeface="Arial Unicode MS"/>
              </a:rPr>
              <a:t>modera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 e mais lento que </a:t>
            </a:r>
            <a:r>
              <a:rPr b="0" i="1" lang="pt-BR" sz="1600" spc="-1" strike="noStrike">
                <a:solidFill>
                  <a:srgbClr val="000000"/>
                </a:solidFill>
                <a:latin typeface="Arial Unicode MS"/>
              </a:rPr>
              <a:t>alleg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Allegr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21 a 140 bpm. Depressa; ráp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Vivace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41 a a 168 bpm. Vivo; com vivacida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Prest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69 a 180 bpm. Muito depressa; muito ráp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Prestissimo</a:t>
            </a:r>
            <a:r>
              <a:rPr b="0" lang="pt-BR" sz="1600" spc="-1" strike="noStrike">
                <a:solidFill>
                  <a:srgbClr val="000000"/>
                </a:solidFill>
                <a:latin typeface="Arial Unicode MS"/>
              </a:rPr>
              <a:t>: de 181 a 208 bpm. O mais depressa poss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– Dinâmica Mus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Intensida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ppp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molto piani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pp</a:t>
            </a: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piani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p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fp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mezzo-f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f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f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ff</a:t>
            </a: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forti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fff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 Unicode MS"/>
              </a:rPr>
              <a:t>molto forti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– acentuação e articul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214720"/>
            <a:ext cx="64054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tocar as notas individualmente ou em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Acentu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Staccat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ta é destacada das demais por um breve silêncio. Na prática há uma diminuição no tempo da nota. Literalmente significa "destacado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Articul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Unicode MS"/>
              </a:rPr>
              <a:t>Legato: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tas cobertas por este símbolo devem ser tocadas sem nenhuma interrupção como se fossem uma s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120" y="4876920"/>
            <a:ext cx="1346040" cy="134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124488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Modelos computacionais de performance mus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Análise por síntese Versus Aprendizagem de máq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KTH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versus </a:t>
            </a:r>
            <a:r>
              <a:rPr b="1" lang="pt-BR" sz="2800" spc="-1" strike="noStrike">
                <a:solidFill>
                  <a:srgbClr val="000000"/>
                </a:solidFill>
                <a:latin typeface="Arial Unicode MS"/>
              </a:rPr>
              <a:t>Machine Learning Model</a:t>
            </a: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 (Prof. Wid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– Análise por Sínt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Análise manual de performances re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Intuição de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Hipoteses viram re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Regras são testadas em uma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Performance é aceita/rejeitada/ref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Muito dependente do ser hu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 Unicode MS"/>
              </a:rPr>
              <a:t>Ex: KTH – Director Mus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– </a:t>
            </a:r>
            <a:r>
              <a:rPr b="0" i="1" lang="pt-BR" sz="44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Prof. Gerhard Widmer (Vienna): </a:t>
            </a: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Bösendorfer + Interpretes tocando Moz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Extrair informações de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Data mining / rules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– Críticas aos Mode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sensíveis ao rit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sensíveis ao contexto histórico (orna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s do KTH são semelhantes ao do método de Widmer (crítica positiva, dá credibilidade aos mode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– Disklavier (Yama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214720"/>
            <a:ext cx="792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klavie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Pianola ‘turbinada’ de 100k lib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349416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- P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Psychoacoustic Fitness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Verificação automatizada de expressividade em performances em p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Derivado do ESSynth(Evolutionary Sound Synthesis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Unicode MS"/>
              </a:rPr>
              <a:t>Análise comparativa entre intérpretes no que se refere a algum parâmetro de expressividade (ex: legato, stacca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- Orna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o o nome diz: Enfeite, algo que “não faz par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tações abertas a interpretação mas não m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á instruções de execução em função do período de elaboração da ob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nado Barroco / Trinado Clássico  (Liberdade/Bom sen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arroco/Romantismo = Harmonia simples mas complicada de tocar dada a quantidade de orn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umann (1986) claims that the execution of any ornament is highly dependent on the musical context in which it is sit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das primeiras tentativas para tratar expressividade foi proposta por Johnson 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specialista para determinar o tempo e a articulação a ser aplicada quando tocada fugas de Bach de “The Well-Tempered Clavier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regras foram obtidas de dois músicos especialis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aída dá o valor de tempo base e uma lista de instruções de execução em duração de notas e articul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ncipal limitação do sistema é a falta de gener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rabalho do grupo KTH de Stockholm [3, 4, 5, 6] é um dos mais conhecidos esforços em sistemas de performa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“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irector Musi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: incorpora regras para tempo, dinâmica e transformações de articulação compelidas para MI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s regras são divididas em 3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de diferenciação: acentua as diferenças entre os t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de agrupamento: mostra quais tons estão ju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de conjunto: sincroniza as vári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oic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um conjunto mus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dar Director Mus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nazz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[7] desenvolveu um sistema para analizar como as intenções expressivas dos músicos são refletidas na perform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análise revela duas diferentes dimensões expressiv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lacionada à energ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ynamic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a peç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outra relacionada às cinética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uba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a peç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bém foi desenvolvido um programa para gerar performances expressivas de acordo com essas duas dimens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 de Apli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nnenberg e Derenyi [8] trabalharam com transformações de articulação usando regras construídas manual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s desenvolveram um sintetizador de trompa que combina um modelo físico com um modelo de execu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ivo do modelo de execução é gerar informação de controle para o modelo físico por meio de uma coleção de regras extraídas manualmente das análises de uma coleção de grav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os efeitos da era eletrônica é que ela mudará para sempre os valores que agregamos à arte” Glenn Gould (1932 – 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uter-aided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-performanc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Bach, de uma obra que ele havia gravado em 1955 (Bons re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38400" y="4343400"/>
            <a:ext cx="31338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padrões e regularidades (micro e macro) para serem aprendidos, modelados e aplic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íveis futu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rcial: música de videogame, ou de propaganda (tocada por “Mozart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iosidade de ouvir como soaria o sotaque de um interprete já falecido em determinada música ou até mesmo novas composições d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pressive Music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É a arte de modelar uma peça musical, variando </a:t>
            </a:r>
            <a:r>
              <a:rPr b="0" i="1" lang="pt-BR" sz="3200" spc="-1" strike="noStrike">
                <a:solidFill>
                  <a:srgbClr val="ff0000"/>
                </a:solidFill>
                <a:latin typeface="Arial"/>
              </a:rPr>
              <a:t>parâmetros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 importantes continuamente, como: tempo, intensidade, etc. [Widmer et al., 2003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ergunt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22440" y="2184480"/>
            <a:ext cx="41655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mer, G., Dixon, S., Goebl, W., Pampalk, E., and Tobudic, A. (2003). In search of the Horowitz factor. AI Magazine, 24(3):111–13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.L. Johnson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 expert system for the articulation of Bach fugue melod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adings in Computer Generated Musi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d. D.L. Baggi, 41-51. Los Alamitos, Calif.: IEEE Press. 199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 Bresin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ticulation rules for automatic music 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In Proceedings of the 2001 International Computer Music Conference 2001. San Francisco, Calif.: International Computer Music Association. 2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Friberg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quantitative rule system for musical 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PhD dissertation, KTH, Stockholm. 199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Friberg, R. Bresin, L. Fryden, and J. Sunberg. Musical punctuation on the microlevel: automatic identification and performance of small melodic units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ournal of New Music Researc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:3 (1998), 271-29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Friberg, J. Sunberg, and L. Fryden. Music From Motion: Sound Level Envelopes of Tones Expressing Human Locomotion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ournal on New Mu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9:3 (2000 ),199-2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. Canazza, G. De Poli, A. Roda, and A. Vidolin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alysis and synthesis of expressive intention in a clarinet 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In Proceedings of the 1997 International Computer Music Conference, 113-120. San Francisco, Calif.: International Computer Music Association. 199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.B. Dannenberg, and I. Derenyi. Combining instrument and performance models for high quality music synthesis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ournal of New Music Researc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:3 (1998), 211-23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forma como esses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parâmetr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vem ser variados não é especificado precisamente na partitur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o mesmo tempo, isso é o que permite uma peça musical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ganhar vi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o que distingue bons artistas de ou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ilhões de pessoas estão regularmente participando de eventos de música ao vivo ou ouvindo à gravações de performances music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4219560"/>
            <a:ext cx="32400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os leva a fazer isso é muito difícil de atribuir com exatidão e as razões podem ser as mais diver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49440" y="3840120"/>
            <a:ext cx="2051280" cy="297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27640" y="3478320"/>
            <a:ext cx="3101760" cy="2327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732720" y="4941720"/>
            <a:ext cx="2311200" cy="1681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rém, todos ouvem à músicas feitas pelo homem (a maioria das veze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is músicas possuem um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express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humana específica, qualquer que seja essa express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eles ouvem fazem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nti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e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m essa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expressivida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a música não atrairía tantas pesso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a é uma part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tegr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a mús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3280" y="4221000"/>
            <a:ext cx="3810240" cy="25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71560" y="3645000"/>
            <a:ext cx="42768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interprete tem sua própria expressiv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formance Noise (O corpo não é perfeito, a mão não executa no milisegundo correto a instrução, será que isso se confunde com a interpretaçã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exto (Emoção diferente, lugar diferente, platéia dife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esar disso, vários interpretes tocando várias vezes têm caracteristicas em com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go, um modelo (regras) pode ser arquitetado para estes padr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zer a máquina aplicar o padrão certo na hora c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2:38:04Z</dcterms:created>
  <dc:creator>João</dc:creator>
  <dc:description/>
  <dc:language>en-US</dc:language>
  <cp:lastModifiedBy>Raphael Holanda</cp:lastModifiedBy>
  <dcterms:modified xsi:type="dcterms:W3CDTF">2008-06-03T12:55:50Z</dcterms:modified>
  <cp:revision>20</cp:revision>
  <dc:subject/>
  <dc:title>Recuperação de música baseada em conteúdo</dc:title>
</cp:coreProperties>
</file>