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9AC-FD83-48CB-B6F4-4E6C65C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A16-6A66-4CFD-A462-6D674826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737-50F5-406F-A0C1-D8BC178D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6DC-BCF5-4375-A1C8-4473A043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7AD2-3F8E-4075-9625-7F3FBFA7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7691-16E5-457A-B703-0D93DC8D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22FD-239B-4A33-8C71-761FCEE5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FFEC-E356-4B35-87C3-0739290A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347-D1CD-4DA6-959F-22742CFA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1390-BA44-4ADD-8303-0426D5D7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C63-F451-4F0F-B0F5-4B43AC40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6A9-D0A8-4AE1-ACB8-BDC07CA3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A42F-22D1-4978-BE52-C6B7E32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D17D-5EAC-4D1C-AD61-0F47093B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2920-60DF-4D63-ADEF-365E438E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7DF6-5702-45E6-89B9-B1401B55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4A2A-536A-4476-B42D-C5EC5491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972-3DCF-479E-99D0-2936D656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1A1-A8F5-4DA9-B563-1CC254FF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576-2F9F-49DA-90EB-907DAD20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871-2C0D-4683-94C2-EFC30909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E5A-D61E-445F-95B2-EAA2BA8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239-9311-4919-8E4A-6BB6809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76C-B22C-4411-A581-C6BF41E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0B16-DC10-4505-9304-72FA3857FD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E75E-5AB2-48B1-B3B0-D6330FA002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Pulse/11%20-%20Target.mp3" TargetMode="External"/><Relationship Id="rId3" Type="http://schemas.openxmlformats.org/officeDocument/2006/relationships/hyperlink" Target="file:///Pulse/11%20-%20Target.mp3" TargetMode="External"/><Relationship Id="rId4" Type="http://schemas.openxmlformats.org/officeDocument/2006/relationships/hyperlink" Target="file:///Pulse/11%20-%20Target.mp3" TargetMode="External"/><Relationship Id="rId5" Type="http://schemas.openxmlformats.org/officeDocument/2006/relationships/hyperlink" Target="file:///Pulse/3%20-%20Distante.mp3" TargetMode="External"/><Relationship Id="rId6" Type="http://schemas.openxmlformats.org/officeDocument/2006/relationships/hyperlink" Target="file:///Pulse/5%20-%20Proximo.mp3" TargetMode="External"/><Relationship Id="rId7" Type="http://schemas.openxmlformats.org/officeDocument/2006/relationships/hyperlink" Target="file:///Pulse/5%20-%20Proximo.mp3" TargetMode="External"/><Relationship Id="rId8" Type="http://schemas.openxmlformats.org/officeDocument/2006/relationships/hyperlink" Target="file:///Pulse/5%20-%20Proximo.mp3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mat.berkeley.edu/People/Vijay/06.%20Micr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Verdana"/>
              </a:rPr>
              <a:t>Music Performa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uno: Fúlvio Figueirôa Silvest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timing Estu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[Fabien Gouyon, 2007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amba de Ro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20 exper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anela de tolerância de 50m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2 Padrões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uster 1 - 3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tas 1ª, 3ª acentu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uster 2 - 2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tas 1ª, 2ª, 4ª acentu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Estu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valuating Expressive Piano Performance With Psychoacoustic Fitness Fun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Jonatas Manzol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racele Liv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Jose Forna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uls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bilidade de manter o controle do ritm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ega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Habilidade de tocar melodias seqüênciando notas simpl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acca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Habilidade de separar as no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Variação da força de cada not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FF –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sychoacoustic Fitness Function) – é responsável pela seleção de formas de on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oud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it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spect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ensity- 11(target), 5(Distante), 8(proxim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6048360" cy="375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ulse – 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11(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arget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3(Distante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5(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proximo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)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1187280" y="2276640"/>
            <a:ext cx="6337440" cy="374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egatto - 11(target), 10(Distante), 2(proxim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626436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acatto - 11(target), 10(Distante), 2(proxim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6408720" cy="3721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Trabalhos Futu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icrotiming e Microdinam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itm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mposi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Instrumen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 partir desses estudos com Microtiming e Microdinamic poderemos melhorar a forma de ensino de um ritmo, mostrando a característica de tocar seja de um país seja de um compositor  em espe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Qual a diferença entre uma música executada por um software de computador e por um músico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usic Perform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vios mínim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nsidade (dinami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mpo local (nota: antes, depois, mais longo, mais cur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mpo (andamen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odos de execução (stacatto, legatto,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vios maiores (fora partitu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armo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elo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ferências Bibliográf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wards Machine Learning of Expressive Microtiming in Brazilian Drumming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Matthew Wright and Edgar Berdah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crotiming in “Samba de Roda” —Preliminary experiments with polyphonic audio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Fabien Gouy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 discontinuous temporal windows in metrical music point to open-loop motor control? A musicological and cross-cultural analysis of rhythmic timing planning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Andrew McGuines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valuating Expressive Piano Performances With Psychoacoustic Fitness Functio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Jonatas Manzolli, Iracele Livero, Jose Fornari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icrotiming Studies  - </a:t>
            </a:r>
            <a:r>
              <a:rPr b="0" lang="en-US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nmat.berkeley.edu/People/Vijay/06.%20Micro timing%20Studies.html#anchor24176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ariações de tempo, intensidade duração facilitam ouvintes dividir a música em segmen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tacar aspectos estruturais da mús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tir restrições temporais impostas por materialização fís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lizar alguma função estética ou comunic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n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ta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777080" cy="331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icrotiming – é um conceito criado para alertar sutis diferenças na colocação das not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icrodinamic – é uma pequena variação na intensidade com que a nota é tocada em um dado insta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Tipos de Ac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rake &amp; Palmer (1993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Rhythmic Grouping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nota longa tende a finalizar um ritmo e é percebida como acentu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Melodic Contour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difica o volume da nota toc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Metric Accents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– Carcterizado por batidas for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Tipos de Ac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76360" y="2133720"/>
          <a:ext cx="6408720" cy="3408120"/>
        </p:xfrm>
        <a:graphic>
          <a:graphicData uri="http://schemas.openxmlformats.org/drawingml/2006/table">
            <a:tbl>
              <a:tblPr/>
              <a:tblGrid>
                <a:gridCol w="2230560"/>
                <a:gridCol w="2089080"/>
                <a:gridCol w="208908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ção de Intensida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s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thmic group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as crescendo no gru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ltimo evento é atras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lodic Countou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o em volta é mais al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o melódico é atras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ric Accent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tidas for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ltima batida é along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timing Estu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Jaz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[Freeman &amp; Lacey, 2002] – Identificaram janelas de 30 ms ao redor da bati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[Friberg and Sundstrom, 2002] – Caracterizaram um padrão longo/curto de colcheias que proporciona o swing do jazz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úsica Cub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[Bilmes, 1993a, 1993b] – Identificou janelas de 20ms-80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: Primeira e  terceira batidas da caixa atrasa em 30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timing Estu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[Matthew Wright and Edgar Berdahl, 2006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itmos Brasilei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586320" cy="28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6:48:46Z</dcterms:created>
  <dc:creator>ffs</dc:creator>
  <dc:description/>
  <dc:language>en-US</dc:language>
  <cp:lastModifiedBy>Fulvio</cp:lastModifiedBy>
  <dcterms:modified xsi:type="dcterms:W3CDTF">2007-08-09T12:03:41Z</dcterms:modified>
  <cp:revision>116</cp:revision>
  <dc:subject/>
  <dc:title>Microtiming and Microdinamic</dc:title>
</cp:coreProperties>
</file>