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30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32.jpeg" ContentType="image/jpeg"/>
  <Override PartName="/ppt/media/image6.png" ContentType="image/png"/>
  <Override PartName="/ppt/media/image31.png" ContentType="image/png"/>
  <Override PartName="/ppt/media/image7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8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gif" ContentType="image/gif"/>
  <Override PartName="/ppt/media/image24.png" ContentType="image/png"/>
  <Override PartName="/ppt/media/image11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A936-1ED2-4619-81D8-18115A96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4AB70-8807-4133-B713-D255F22E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0D1F7-B6B8-4CF7-BCDD-8EB663F6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83733-AE9A-4E96-ABB0-A8809668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E06A-2375-4717-9BDD-C2DB7150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689D-E7DA-4AA3-8784-2D8900BA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BA1B-58EE-4A28-9313-E237BEAC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6725-8D92-4EF0-86AD-05AA5F0E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4E6D-6FB5-44C7-BE15-2B1CBC0C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238F-C3FC-4A64-ACC9-4B889F4C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DE36-5FD5-4F64-94F1-20DBA8C6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83673-DDC8-44E4-AD7F-B679D447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B1F9-AE6C-4713-8714-5FC0A5CF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46C0-E3B4-499E-B537-47E27A89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D685-8C97-4E51-8AF1-183103D8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516A-8DEC-40A4-A416-7882A48A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C071-DA61-49C7-9ACF-4AE6FF6F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7752-E995-4075-9BCC-029E40EB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5937-B5AA-4282-BCCA-DC28E53F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C8AEC-FA34-4F16-8703-58716DF0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5A603-7701-42F6-81D4-9EA1F070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AF5C4-CB87-4030-8788-A134DA57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364F-304F-4FE0-8855-D2169A12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1D37-7707-46E7-A93A-1A71D368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6FA3-2D02-4F43-A05D-BD5B3E121C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8B3C-7E65-4E0B-A3B5-7FF52D97C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8.jpe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youtube.com/watch?v=dVUgd8ot6BE" TargetMode="External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hyperlink" Target="http://www.youtube.com/watch?v=uWmgBKTmXvQ" TargetMode="External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hyperlink" Target="http://www.youtube.com/watch?v=aSoo-vPtcys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projectbarbq.com/" TargetMode="External"/><Relationship Id="rId2" Type="http://schemas.openxmlformats.org/officeDocument/2006/relationships/hyperlink" Target="http://www.gamasutra.com/resource_guide/20020520/odonnell_01.htm" TargetMode="External"/><Relationship Id="rId3" Type="http://schemas.openxmlformats.org/officeDocument/2006/relationships/hyperlink" Target="http://www.gamasutra.com/resource_guide/20020520/odonnell_01.htm" TargetMode="External"/><Relationship Id="rId4" Type="http://schemas.openxmlformats.org/officeDocument/2006/relationships/hyperlink" Target="http://www.gamespot.com/features/6092391/index.html" TargetMode="External"/><Relationship Id="rId5" Type="http://schemas.openxmlformats.org/officeDocument/2006/relationships/hyperlink" Target="http://en.wikipedia.org/wiki/Video_game_music" TargetMode="External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úsica em Jog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utação Music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4952880"/>
            <a:ext cx="2666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inaldo Pess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uilherme Oliv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Jobson Sil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aulo Pess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4080" y="4532400"/>
            <a:ext cx="125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rupo 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2080" y="628668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{dap2, gkmo, jrjs, sap}@cin.ufpe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[1990-1999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91- Nintendo lança Super NES (SNES) nos EU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sistema usava um chip de som dedicado Sony SPC700 de 8-bit com 8 canais separ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ctRai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ilhas mais elabo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versos instr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cando simultane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mbres dife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867280" y="42840"/>
            <a:ext cx="3124440" cy="1862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410080" y="3962520"/>
            <a:ext cx="2895840" cy="24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[1990-1999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1994 - Final Fantasy VI (III nos EU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Trilha sonora brilhante elaborada por Nobuo Uemats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Temas específicos por personag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Considerada uma das maiores trilhas sonoras de games de todos os temp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0" y="76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19520" y="5638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486400" y="5157720"/>
            <a:ext cx="2540160" cy="1656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600200" y="5321160"/>
            <a:ext cx="1003320" cy="12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6280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4846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[1990-1999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95 – Início da era 32-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ga Satu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processadores de 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ony Plays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hip de 24-ca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m com qualidade de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porte nativo a efeitos digi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reverbe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mazenameto em CD-R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3080" y="1533600"/>
            <a:ext cx="2324160" cy="1743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48480" y="4419720"/>
            <a:ext cx="2114640" cy="20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[1990-1999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96 – Nintendo 64 lançado nos EU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om 16-bit ster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P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odos software-driven na CP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anais: 100 PCM (16-24 usados em méd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da canal consome em torno de 1% da CP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mostragem: 48.0 kHz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rmazenamento: cartuchos de 32-512 MBit (4-64 MBy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19920" y="69840"/>
            <a:ext cx="2743200" cy="18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[1990-1999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98 – The Legend of Zelda: Ocarina of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Um dos primeiros títulos a utilizar música como parte do gamepl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Utilizava um ocarina para teletransportar e abrir passage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4320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00400" y="4419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7493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ção::Defin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ogos Music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Jogabilidade é orientada a capacidade do jogador de conseguir de acompanhar uma batida musical e se manter no ritmo da trilha sonora do j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uem grande apelo visual e acústico para o usu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stam a visão, a audição e a coordenação mo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ção::Ex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4720" y="1746360"/>
            <a:ext cx="2627280" cy="1969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547640" y="37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/>
          </p:cNvPr>
          <p:cNvSpPr/>
          <p:nvPr/>
        </p:nvSpPr>
        <p:spPr>
          <a:xfrm>
            <a:off x="3995640" y="51498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uitar H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940360" y="2054160"/>
            <a:ext cx="2895840" cy="3861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659640" y="58705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rumm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059280" y="2774880"/>
            <a:ext cx="3238200" cy="2428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141560" y="4292640"/>
            <a:ext cx="2590560" cy="20606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6"/>
          </p:cNvPr>
          <p:cNvSpPr/>
          <p:nvPr/>
        </p:nvSpPr>
        <p:spPr>
          <a:xfrm>
            <a:off x="1073520" y="63086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nce Dance 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ção::Padr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s jogos musicais compartilham alguns padr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t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ção::Not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isa quando pressionar, qual marcador pressionar e como pressioná-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cn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adores que caem em uma col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rculos que se expandem e se contra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ção dos d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oavelmente consistente entre os j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eração: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 como o jogador pressiona um “marcad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itivos bastante var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mas imitações de instrumentos music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ta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os mais genér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é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ó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do da Ar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úsica na Inte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eração: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acontece quando um marcador é pressio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icamente possuem uma resposta visu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ormação da precisão instantâ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ormação da precisão contínua (comb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feitos visuais mistu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guns incluem uma resposta son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eração: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u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ar/Falhar em uma mú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mente um medidor aumenta/diminui a medida que o jogador acerta/erra os mar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o marcador estiver acima de x% ao final da música o jogador passa de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são, o que importa é a pontuação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itos jogos dão uma nota baseada no percentual de acertos dos mar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gos com histórico de pont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eração::Demostr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olunt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retsOn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u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ep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iação e execução de áudio que dê a ilusão de que foi feito como pós-produção, mesmo sendo gerado ou montado em tempo de exec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Pós-Produ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ós-produções são comuns em fil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cterizadas por serem produções line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s podem ser produzidos e integrados após a gravação e edição do fil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972880" y="4572000"/>
            <a:ext cx="2704320" cy="2059920"/>
            <a:chOff x="2972880" y="4572000"/>
            <a:chExt cx="2704320" cy="2059920"/>
          </a:xfrm>
        </p:grpSpPr>
        <p:sp>
          <p:nvSpPr>
            <p:cNvPr id="195" name=""/>
            <p:cNvSpPr/>
            <p:nvPr/>
          </p:nvSpPr>
          <p:spPr>
            <a:xfrm flipV="1">
              <a:off x="3733920" y="46479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33920" y="6172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1160" y="61722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72880" y="457200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733920" y="4876920"/>
              <a:ext cx="16002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sons precisam estar ligados a ação sem a vantagem da predição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riedade (   ) e Repetição 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ntidade vs. Qu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e-load vs. Str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Desafios Além do Entretenimento 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996160" y="321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043080" y="321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14400" y="6172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Times New Roman"/>
                <a:hlinkClick r:id="rId3"/>
              </a:rPr>
              <a:t>http://www.youtube.com/watch?v=aSoo-vPtcy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Processo Tradicional Inadequ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2240" y="2057400"/>
            <a:ext cx="31068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a/Modifica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5440" y="3276720"/>
            <a:ext cx="334296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a para o program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7920" y="4572000"/>
            <a:ext cx="10112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3640" y="5715000"/>
            <a:ext cx="2503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uta no con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5943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162920" y="22860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1722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5105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1676520"/>
            <a:ext cx="33526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Problemas do Processo Trad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ito dependente do program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pendente de recompilação para “editar, escutar e modific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ongo turn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uca flexibilidade para a equipe de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gração deveria ser confiada aos experts de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estões tecnológicas precisam ser conhecidas pelo criadores de conteú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Processo Melho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9760" y="2057400"/>
            <a:ext cx="31068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a/Modifica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7120" y="2057400"/>
            <a:ext cx="38293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dor cri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erra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60800" y="4724280"/>
            <a:ext cx="2503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uta no con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4952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8915400" y="2286000"/>
            <a:ext cx="46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929360" y="2286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76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171840" y="3886200"/>
            <a:ext cx="4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73720" y="3352680"/>
            <a:ext cx="528768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 o conteúdo utilizand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erra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2590920"/>
            <a:ext cx="3505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Processo Melho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exemplo: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H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undfile” são os dados de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undtag” são instruções de como tocar os sound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sound engine reconhece apenas soung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und Designer sentou apenas com o Level Designer para integrar os sons de cada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25960" y="1523880"/>
            <a:ext cx="165096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Primór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Elementos sonoros eram esquecidos, similarmente com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levi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l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os meios primariamente vis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Efeitos mais sutis do que visu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Limitações técnológic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Especialização de Fun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ve arr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Desig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dio Implementation Engineer (AI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dio Archit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dução::Compo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reve as mús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vavelmente orquestra as mús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 temas music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a dentro de restrições impostas pel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 Archit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324480" y="76320"/>
            <a:ext cx="1360440" cy="2365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619760" y="2133720"/>
            <a:ext cx="155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Mitsuda Yasuno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dução::Interactive Arr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álogo ao arranjador/orquestrador para músicas em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rmata composições para integrar com o j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a próximo ao resto do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2057400" cy="19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dução::Sound Effects Desig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dentifica efeitos sonoros necessários para o tít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dera seções de “spott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 elementos de 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a com restrições impostas pelo Audio Archit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vê orientações para o A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478560" y="4724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ção::A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ponsável por integrar os elementos de áudio ao j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balha com o programador para implementar a sound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álogo ao “Audio Engineer” em pós-produ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balha próximo ao Interactive Arranger e ao Sound Desig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juda-os a tirarem máximo proveito da tecnologia uti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105520" y="76320"/>
            <a:ext cx="2666880" cy="19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dução::Audio Archi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 escopo e estratégias para implementação de áudio com uma visão geral em 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balha próximo ao resto do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 problemas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mpanha e estima implicações em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icipa do projeto desde o primeiro 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vê a estrutura geral da implementação da sound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nta maximizar o áudio sem impactar no jogo como um 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úsica em jogos é um dos principais fatores que contribuem para a imersão em j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outro lado, música como idéia central de jogos gera resultados interess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úsica não apenas para ouvir, mas para jo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je tornou-se um gênero musical e tem até mercado próprio e premi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MID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. 1999. “Interactive Audio Desig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. Disponível em: </a:t>
            </a:r>
            <a:r>
              <a:rPr b="0" lang="pt-BR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projectbarbq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OY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A. 2003. “When Worlds Collide: Sound and Music in Film and Games”. Disponível em: </a:t>
            </a:r>
            <a:r>
              <a:rPr b="0" lang="pt-BR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gamasutra.com/resource_guide/20020520/odonnell_0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’DONNE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M. 2002. “Producing Audio for Halo”. Disponível em: </a:t>
            </a:r>
            <a:r>
              <a:rPr b="0" lang="pt-BR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gamasutra.com/resource_guide/20020520/odonnell_0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LEN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M. “A History of Video Game Music”. Disponível em: </a:t>
            </a:r>
            <a:r>
              <a:rPr b="0" lang="pt-BR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gamespot.com/features/6092391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uter and Video Game Music”. Disponível em: </a:t>
            </a:r>
            <a:r>
              <a:rPr b="0" lang="pt-BR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en.wikipedia.org/wiki/Video_game_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operly designed, sound and visual cues work together to produce an experience greater than the sum of their parts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[By Glenn McDonal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Primór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era do silên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58 – William Higinbotham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m um jogo de tênis em um osciloscóp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63 – Steve Russell, estudante do MIT com um jogo de duelo de naves espaci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72 – Lançado o primeir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nsole, Magnavox Odyss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16303" r="0" b="0"/>
          <a:stretch/>
        </p:blipFill>
        <p:spPr>
          <a:xfrm>
            <a:off x="6248520" y="4952880"/>
            <a:ext cx="2209680" cy="1663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248520" y="1973160"/>
            <a:ext cx="2286000" cy="10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Primór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72 – Atari lança Pong, o primeiro jogo arc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imeiros efeitos sono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m jo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blip-blop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” tocados qua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bola batia na raque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91320" y="2666880"/>
            <a:ext cx="2168280" cy="36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Primór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77 – Atari lança o Video Computer System (VC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Mais tarde chamado de Atari 26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2 canais de som mo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imeiros efeitos sonoros em conso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62720" y="152280"/>
            <a:ext cx="3352680" cy="1871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080" y="4683240"/>
            <a:ext cx="2667240" cy="179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4710240"/>
            <a:ext cx="2666880" cy="1766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0292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5812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48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992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[1980-1989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81 – Arcade da Nintendo chamado Donkey K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higeru Miyamo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ou as musicas 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um pequeno tecl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letrô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181480" y="2901960"/>
            <a:ext cx="3205440" cy="36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447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[1980-1989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85 – Nintendo Entertainment System (N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5 canais de s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inda em 1985 Super Mario Bros. é lanç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ound Design inovador de Koji Ko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sicas davam d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2666880" cy="18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5812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02920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410080" y="4764240"/>
            <a:ext cx="2362320" cy="1904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219320" y="4748040"/>
            <a:ext cx="2286000" cy="19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07553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413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a::[1980-1989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986- The Legend of Zel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mposições de Koji Ko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música do jogo ganhou muitos f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úmeras bandas covers executam as mus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ode ser encontrada facilmente na W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10080" y="4869000"/>
            <a:ext cx="2514600" cy="1860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3434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143000" y="4869000"/>
            <a:ext cx="2514600" cy="17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38887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18:09:17Z</dcterms:created>
  <dc:creator>dinaldo</dc:creator>
  <dc:description/>
  <dc:language>en-US</dc:language>
  <cp:lastModifiedBy>Jobson Ronan</cp:lastModifiedBy>
  <dcterms:modified xsi:type="dcterms:W3CDTF">2006-09-11T13:27:30Z</dcterms:modified>
  <cp:revision>249</cp:revision>
  <dc:subject/>
  <dc:title>Música em Jogos</dc:title>
</cp:coreProperties>
</file>