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685-DE12-4E9C-A5C5-9F80EFB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941-022A-4534-B149-F367C93C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AA7-A15F-40A3-AC6E-66861AA5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477-7D2B-4C96-9247-483D75AD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8D41-4465-473D-A038-9B2093BA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33CD-E405-429D-8544-49F3D1A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B6E-7717-4B1F-A20C-943D518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D67C-D8D4-4EE5-AB22-7D94A1E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CDE-7CF1-49AD-BD6E-859B54E5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7CA-910C-4DE1-92F6-AEEF1A9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C3C-34F2-4951-8919-4157F6A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AE4-33FB-4F97-8E4B-C3F0AEC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011-C4C1-4E98-A3B1-0737698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558B-323B-490C-B2A2-74C9843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974-E7B1-4066-A37A-25DFF0A8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E9D-2E39-403C-B195-9D9864E0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1D5-A781-4595-9F57-4C9B139B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486-0D47-467F-8DB6-1152FDC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F29-F3C1-4A6B-B769-926F143B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C2D-6608-43E3-9ED6-7401032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4CA-1FBE-416B-B0CD-FA1C4EF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30B-B39A-47A6-8D23-574201C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312-D249-424F-9638-154D3A4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D0D-39C5-4C1F-AB31-B1AE3C15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35A5-4B28-4CDA-A209-4213FAC2E8A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4EDB-F3B6-4202-B526-36D7348236D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ue.tu-berlin.de/forschung/projekte/mpeg7/" TargetMode="External"/><Relationship Id="rId3" Type="http://schemas.openxmlformats.org/officeDocument/2006/relationships/hyperlink" Target="http://www-itec.uni-klu.ac.at/~harald/mmbook/" TargetMode="External"/><Relationship Id="rId4" Type="http://schemas.openxmlformats.org/officeDocument/2006/relationships/hyperlink" Target="http://www-itec.uni-klu.ac.at/~harald/mmbook/" TargetMode="External"/><Relationship Id="rId5" Type="http://schemas.openxmlformats.org/officeDocument/2006/relationships/hyperlink" Target="http://www-itec.uni-klu.ac.at/~harald/mmbook/" TargetMode="External"/><Relationship Id="rId6" Type="http://schemas.openxmlformats.org/officeDocument/2006/relationships/hyperlink" Target="http://www-itec.uni-klu.ac.at/~harald/mmbook/" TargetMode="External"/><Relationship Id="rId7" Type="http://schemas.openxmlformats.org/officeDocument/2006/relationships/hyperlink" Target="http://www-itec.uni-klu.ac.at/~harald/mmbook/" TargetMode="External"/><Relationship Id="rId8" Type="http://schemas.openxmlformats.org/officeDocument/2006/relationships/hyperlink" Target="http://www-itec.uni-klu.ac.at/~harald/mmbook/" TargetMode="External"/><Relationship Id="rId9" Type="http://schemas.openxmlformats.org/officeDocument/2006/relationships/hyperlink" Target="http://www-itec.uni-klu.ac.at/~harald/mmbook/" TargetMode="External"/><Relationship Id="rId10" Type="http://schemas.openxmlformats.org/officeDocument/2006/relationships/hyperlink" Target="http://www-itec.uni-klu.ac.at/~harald/mmbook/" TargetMode="External"/><Relationship Id="rId11" Type="http://schemas.openxmlformats.org/officeDocument/2006/relationships/hyperlink" Target="http://www-itec.uni-klu.ac.at/~harald/mmbook/" TargetMode="External"/><Relationship Id="rId12" Type="http://schemas.openxmlformats.org/officeDocument/2006/relationships/hyperlink" Target="http://www-itec.uni-klu.ac.at/~harald/mmbook/" TargetMode="External"/><Relationship Id="rId13" Type="http://schemas.openxmlformats.org/officeDocument/2006/relationships/hyperlink" Target="http://www.chiariglione.org/mpeg/standards/mpeg-7/mpeg-7.htm" TargetMode="External"/><Relationship Id="rId14" Type="http://schemas.openxmlformats.org/officeDocument/2006/relationships/hyperlink" Target="http://www.chiariglione.org/mpeg/standards/mpeg-7/mpeg-7.htm" TargetMode="External"/><Relationship Id="rId15" Type="http://schemas.openxmlformats.org/officeDocument/2006/relationships/hyperlink" Target="http://www.chiariglione.org/mpeg/standards/mpeg-21/mpeg-21.htm" TargetMode="External"/><Relationship Id="rId16" Type="http://schemas.openxmlformats.org/officeDocument/2006/relationships/hyperlink" Target="http://www.chiariglione.org/mpeg/standards/mpeg-21/mpeg-21.htm" TargetMode="External"/><Relationship Id="rId17" Type="http://schemas.openxmlformats.org/officeDocument/2006/relationships/hyperlink" Target="http://www.chiariglione.org/mpeg/standards/mpeg-21/mpeg-21.htm" TargetMode="External"/><Relationship Id="rId18" Type="http://schemas.openxmlformats.org/officeDocument/2006/relationships/hyperlink" Target="http://www.chiariglione.org/mpeg/standards/mpeg-21/mpeg-21.htm" TargetMode="External"/><Relationship Id="rId19" Type="http://schemas.openxmlformats.org/officeDocument/2006/relationships/hyperlink" Target="http://www.chiariglione.org/mpeg/standards/mpeg-21/mpeg-21.htm" TargetMode="External"/><Relationship Id="rId20" Type="http://schemas.openxmlformats.org/officeDocument/2006/relationships/hyperlink" Target="http://www.chiariglione.org/mpeg/standards/mpeg-21/mpeg-21.htm" TargetMode="External"/><Relationship Id="rId21" Type="http://schemas.openxmlformats.org/officeDocument/2006/relationships/hyperlink" Target="http://www.chiariglione.org/mpeg/standards/mpeg-21/mpeg-21.htm" TargetMode="External"/><Relationship Id="rId22" Type="http://schemas.openxmlformats.org/officeDocument/2006/relationships/hyperlink" Target="http://www.chiariglione.org/mpeg/standards/mpeg-21/mpeg-21.htm" TargetMode="External"/><Relationship Id="rId23" Type="http://schemas.openxmlformats.org/officeDocument/2006/relationships/hyperlink" Target="http://www.chiariglione.org/mpeg/standards/mpeg-21/mpeg-21.htm" TargetMode="External"/><Relationship Id="rId24" Type="http://schemas.openxmlformats.org/officeDocument/2006/relationships/hyperlink" Target="http://www.chiariglione.org/mpeg/standards/mpeg-21/mpeg-21.htm" TargetMode="External"/><Relationship Id="rId25" Type="http://schemas.openxmlformats.org/officeDocument/2006/relationships/hyperlink" Target="http://www.chiariglione.org/mpeg/standards/mpeg-21/mpeg-21.htm" TargetMode="External"/><Relationship Id="rId26" Type="http://schemas.openxmlformats.org/officeDocument/2006/relationships/hyperlink" Target="http://www.chiariglione.org/mpeg/standards/mpeg-21/mpeg-21.htm" TargetMode="External"/><Relationship Id="rId27" Type="http://schemas.openxmlformats.org/officeDocument/2006/relationships/hyperlink" Target="http://www.chiariglione.org/mpeg/standards/mpeg-21/mpeg-21.htm" TargetMode="External"/><Relationship Id="rId28" Type="http://schemas.openxmlformats.org/officeDocument/2006/relationships/hyperlink" Target="http://www.chiariglione.org/mpeg/standards/mpeg-21/mpeg-21.htm" TargetMode="External"/><Relationship Id="rId29" Type="http://schemas.openxmlformats.org/officeDocument/2006/relationships/hyperlink" Target="http://www.chiariglione.org/mpeg/standards/mpeg-21/mpeg-21.htm" TargetMode="External"/><Relationship Id="rId3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7 – MPEG21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536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72428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Carina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Cristiano Ca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Emanoel Xa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Marcos Auré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Arial"/>
              </a:rPr>
              <a:t>Paulo Martin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ornecer informações sobre o conteúdo multimídia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Qual formato do arquiv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opriedade intelectu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exto do dado multimídia. (sobre o que o arquivo é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ornecer informações presentes no conteúdo multimídi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scrições dos elementos internos do d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acterístic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Nível de granularidade variá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Baix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lto 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O metadado MPEG-7 pode esta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ntro do áudio/vídeo, inserido no data stream do mes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eparado do conteúdo multimídia mas no mesmo banco de d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m algum outro lugar, como a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scopo do Padrã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1565280"/>
            <a:ext cx="656748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Ferramentas para descrição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( textual (DLL)/ binária (BiM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Descriptors (D): Define a sintaxe e semântica de cada ele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Description Schemes (DS): Define as relações entre os element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Reference Software - Guia de implementação de software das partes relevantes do padrão MPEG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Conformance Testing - Guidelines e procedimentos para testar a conformidade de implementações MPEG-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07000" cy="440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Principais Elemento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lgoritmos utilizados para codificação não são padroniz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Só o formato de arquivo e a interpretação dele são padroniz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pos de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aixo Ní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ais e flex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formações sob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iação e processo de prod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ribuição e uso (copyrigh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Armazen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‘físicas’ (cores, texturas, freqüências, harmônicos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to Ní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formações conceitu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mbre de Instrum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o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eúdo fal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escriptors</a:t>
            </a:r>
            <a:r>
              <a:rPr b="0" lang="pt-BR" sz="5400" spc="-1" strike="noStrike">
                <a:solidFill>
                  <a:srgbClr val="000000"/>
                </a:solidFill>
                <a:latin typeface="Impact"/>
              </a:rPr>
              <a:t> de</a:t>
            </a:r>
            <a:br>
              <a:rPr sz="5400"/>
            </a:br>
            <a:r>
              <a:rPr b="0" lang="pt-BR" sz="5400" spc="-1" strike="noStrike">
                <a:solidFill>
                  <a:srgbClr val="000000"/>
                </a:solidFill>
                <a:latin typeface="Impact"/>
              </a:rPr>
              <a:t>Baixo níve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324480" cy="514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87280" y="1484280"/>
          <a:ext cx="6656400" cy="43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484280"/>
                    <a:ext cx="665640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PEG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oving Picture Experts Group (198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ISO/I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adrões para representação codificada de áudio e vídeo dig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Convergência de necessidades: TI, Eletrônicos, Telecomunic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urgimento de tecnologias  sofistic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300 pessoas, 200 companhias, 20 paí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rovêm uma visão simplificada do espectro de freqüên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Utilizam freqüências em escala logarítmica, para aproximar a percepção humana do s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Escala centralizada em 1K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8 oitavas entre 62.5Hz e 16K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Basic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4" name="sem2" descr=""/>
          <p:cNvPicPr/>
          <p:nvPr/>
        </p:nvPicPr>
        <p:blipFill>
          <a:blip r:embed="rId2"/>
          <a:stretch/>
        </p:blipFill>
        <p:spPr>
          <a:xfrm>
            <a:off x="990720" y="1482840"/>
            <a:ext cx="7211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1535040"/>
            <a:ext cx="7807320" cy="227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4591080"/>
            <a:ext cx="6835680" cy="1428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Signal Paramet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mbral Tempo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4240" y="1965240"/>
            <a:ext cx="7715520" cy="397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Timbral Spectral Descripto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7360" y="1125360"/>
            <a:ext cx="7829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Silence Descripto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arca regiões do som em que não há nada de “interessan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92929"/>
                </a:solidFill>
                <a:latin typeface="Arial"/>
              </a:rPr>
              <a:t>Confidence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: mede a confiança na mar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Pode ser utilizado como uma dica de uma parte do som que não precisa ser process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scriptors par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ssinatura” de s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Reconhecimento conteúdo fal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scrição de timb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escrição de melod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Assinatura” de S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SimSun"/>
              </a:rPr>
              <a:t>AudioSignature Description Scheme</a:t>
            </a: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 provê um identificador único para o áu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Aplica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Identificação de áud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</a:rPr>
              <a:t>Metadados para áudio “legado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Reconhecimento de Conteúdo Fal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pokenContentLat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</a:rPr>
              <a:t>Fonemas e palav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pokenContent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SimSun"/>
              </a:rPr>
              <a:t>Informações sobre “quem” f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kenContent Description Scheme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ttp://mpeg7spkc.nue.tu-berlin.de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scrição de Timb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ode ser feito com o auxílio dos seguintes descrip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HarmonicInstrumentTimb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LogAttackTime Descripto</a:t>
            </a:r>
            <a:r>
              <a:rPr b="1" lang="pt-BR" sz="2000" spc="-1" strike="noStrike">
                <a:solidFill>
                  <a:srgbClr val="292929"/>
                </a:solidFill>
                <a:latin typeface="Arial"/>
                <a:ea typeface="SimSu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PercussiveIinstrumentTimb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SpectralCentroid Descrip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adrões anterior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1 (1988 – 199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drão para codificação audio-visual digit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1.5 Mbps – V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3 – Terceira camada hierárquica de codificação de áudi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adrão mais compatível (DVD/VCD playe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Usado para transmitir em broadcast (TV a cab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Permite áudio com mais  de dois can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Aplicações de média e alta qualid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Detecção de Melod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  <a:ea typeface="SimSun"/>
              </a:rPr>
              <a:t>Aplicado à busca por similarid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MelodyContour Description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"/>
                <a:ea typeface="SimSun"/>
              </a:rPr>
              <a:t>Especificação do rit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SimSun"/>
              </a:rPr>
              <a:t>MelodySequence Description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"/>
                <a:ea typeface="SimSun"/>
              </a:rPr>
              <a:t>Baseado na codificação dos interva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udioDS xsi:type="MelodyType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e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erator&gt; 6 &lt;/Numerato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nominator&gt; 8 &lt;/Denominato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SCALE: minor scale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ale&gt; 2 3 5 7 8 11 12&lt;/Scal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KEY: re minor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Key mode="minor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KeyNote display="re"&gt;D&lt;/KeyNote&gt; &lt;/Ke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lodySequenc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Starting note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Frequency&gt;293.66&lt;/StartingFrequenc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tartingPitch height="3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itchNote display="re"&gt;D&lt;/PitchNote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tartingPitch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tarting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Arra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&gt; &lt;Interval&gt;2&lt;/Interva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RelDuration&gt;1.2 &lt;/NoteRelDuration&gt;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oteArra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lodySequenc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udioDS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6520" y="6550200"/>
            <a:ext cx="30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iua.upf.es/~egomez/mpeg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Descriptors de Alto Níve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99072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udioDS xsi:type="MelodyType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MELODY CONTOUR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lody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tour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1 1 -1 -1 -1 -1 2 -2 2 1 1 1 -1 -1 -1 -1 2 -2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ContourData&gt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Contour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 Beat position of notes --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ea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eat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1 2 2 2 2 2 3 3 4 5 5 6 6 6 6 6 7 7 7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eatData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ea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lodyContou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udioDS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6520" y="6550200"/>
            <a:ext cx="30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iua.upf.es/~egomez/mpeg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21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 que é MPEG-21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m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ramework multimídi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ara criação, proteção, consumo, entrega, etc de forma transparent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nteúd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ultimí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a grande variedade d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ede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banda larga, discado, broadcast, sem-fi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positiv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mo computadores, PDA, TV Digital, celul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usuário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consumidores, criadores, publicitários, e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em Digita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Unidade básica de transação no framework MPEG-2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É uma combinação de recursos multimídia (áudio, vídeo, imagens, etc), metadados (MPEG-7) e uma estrutura descrevendo a relação entre os recursos multimíd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suári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Qualquer um que interagem com um Item Digit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ria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onsumi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stribuid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O detentor dos direitos autora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specificaçõ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7600" y="1736640"/>
            <a:ext cx="6980400" cy="41403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282840" y="2346480"/>
            <a:ext cx="4648320" cy="3047400"/>
            <a:chOff x="3282840" y="2346480"/>
            <a:chExt cx="4648320" cy="3047400"/>
          </a:xfrm>
        </p:grpSpPr>
        <p:sp>
          <p:nvSpPr>
            <p:cNvPr id="162" name=""/>
            <p:cNvSpPr/>
            <p:nvPr/>
          </p:nvSpPr>
          <p:spPr>
            <a:xfrm>
              <a:off x="3282840" y="3336840"/>
              <a:ext cx="2057400" cy="761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2840" y="2346480"/>
              <a:ext cx="2057400" cy="838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45160" y="3108240"/>
              <a:ext cx="2286000" cy="22856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gital Item Decla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8520" y="837720"/>
            <a:ext cx="8593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specifica como definir um Item Digital através de um conjunto de termos e conceitos abstrato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specifica o XML Schema usado para declarar Itens Digita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ambém inclui elementos de escolha como (choice e selec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gital Item Decla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029200" cy="4708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2495520" cy="323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2209680" y="1676520"/>
            <a:ext cx="99072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1981080"/>
            <a:ext cx="1295280" cy="1447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809880"/>
            <a:ext cx="1143000" cy="1828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adrões anterior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inais de HDTV entre 20 e 40 Mb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Resultado similar com pequenas modificações no MPEG2 – Descontinu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92929"/>
                </a:solidFill>
                <a:latin typeface="Arial"/>
              </a:rPr>
              <a:t>MPEG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treaming media, videophone, tv broadca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Suporte para VR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Uso customizá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QuickTime e Video IP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reitos Autora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ntelectual property management and protection (IPM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erencia a propriedade intelectual do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ights Data Dictionary (RD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pecifica um dicionário de termos chave requeridos para descrever os direitos de um  usuári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ights Expression Language (R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pecifica uma linguagem de máquina que pode declarar direitos e permissões usando termos definidos no R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reitos Autora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78000" y="1050840"/>
            <a:ext cx="4554720" cy="5257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58880" y="1584360"/>
            <a:ext cx="3124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8880" y="295596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7480" y="4022640"/>
            <a:ext cx="3657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87480" y="3336840"/>
            <a:ext cx="373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daptação de Conteúd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231920" y="1127160"/>
            <a:ext cx="6680160" cy="513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daptação de Conteúd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4873680" cy="5638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08640" y="171288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1636560"/>
            <a:ext cx="5117040" cy="2706480"/>
            <a:chOff x="3276720" y="1636560"/>
            <a:chExt cx="5117040" cy="2706480"/>
          </a:xfrm>
        </p:grpSpPr>
        <p:grpSp>
          <p:nvGrpSpPr>
            <p:cNvPr id="187" name=""/>
            <p:cNvGrpSpPr/>
            <p:nvPr/>
          </p:nvGrpSpPr>
          <p:grpSpPr>
            <a:xfrm>
              <a:off x="3276720" y="1828440"/>
              <a:ext cx="2819160" cy="2514600"/>
              <a:chOff x="3276720" y="1828440"/>
              <a:chExt cx="2819160" cy="251460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3276720" y="1828800"/>
                <a:ext cx="2819160" cy="8380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3581280" y="1828440"/>
                <a:ext cx="2514600" cy="2514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160320" y="163656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locidade em kb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plicações do MPEG-21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ibliotecas Digit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tre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Venda de mús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iltragem de conteú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estão em toda par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1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em toda parte e fáceis de achar graças a conteúdo gerenciáv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gem e som digitalizados altamente distribuídos de forma controlá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PEG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EG-7-based Audio Annotation for the Archival of Digital Video</a:t>
            </a:r>
            <a:br>
              <a:rPr sz="2400"/>
            </a:br>
            <a:r>
              <a:rPr b="1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nue.tu-berlin.de/forschung/projekte/mpeg7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Distributed Multimedia Database Technologies Supported by MPEG-7 and MPEG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://www-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itec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.uni-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klu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.ac.at/~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harald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mmbook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EG-7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http</a:t>
            </a:r>
            <a:r>
              <a:rPr b="1" lang="pt-BR" sz="24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://www.chiariglione.org/mpeg/standards/mpeg-7/mpeg-7.h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92929"/>
                </a:solidFill>
                <a:latin typeface="Arial"/>
              </a:rPr>
              <a:t>MPEG-21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http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://www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chiariglione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8"/>
              </a:rPr>
              <a:t>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19"/>
              </a:rPr>
              <a:t>or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0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1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2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3"/>
              </a:rPr>
              <a:t>standards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4"/>
              </a:rPr>
              <a:t>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5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6"/>
              </a:rPr>
              <a:t>-21/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7"/>
              </a:rPr>
              <a:t>mpeg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8"/>
              </a:rPr>
              <a:t>-21.</a:t>
            </a:r>
            <a:r>
              <a:rPr b="1" lang="pt-BR" sz="2000" spc="-1" strike="noStrike" u="sng">
                <a:solidFill>
                  <a:srgbClr val="0066cc"/>
                </a:solidFill>
                <a:uFillTx/>
                <a:latin typeface="Arial"/>
                <a:hlinkClick r:id="rId29"/>
              </a:rPr>
              <a:t>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 que falta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Facilitar o gerenciamento de conteú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ltragem de informações sobre o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onteúdo só possui valor se pode ser encontrado eficientemente e rapida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epresentar os direitos sobre a míd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presentação digital de direitos/restrições/permissões sobre o conteú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Licença poder ser lida por máquin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PEG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r que MPEG-7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jetiv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aracterístic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sco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rincipais Elem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PEG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 que é MPEG-21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efini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ireitos Autor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daptação de Conteú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plicações do MPEG-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MPEG7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r que MPEG7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“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The value of information often depends on how easy it can be found, retrieved, accessed, filtered and managed. 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MPEG-1, -2, -4: padronizar a forma de codificar;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MPEG-7: tornar o conteúdo acessível, recuperável, filtrável =&gt; gerenciável (via dispositivo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r que MPEG7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Atingir o maior número possível de aplicaçõ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Padrão compatível com tecnologias já existent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SimSun"/>
              </a:rPr>
              <a:t>Permitir diferentes níveis de interpretação de informações.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22:14Z</dcterms:created>
  <dc:creator>Carina</dc:creator>
  <dc:description/>
  <dc:language>en-US</dc:language>
  <cp:lastModifiedBy>geber ramalho </cp:lastModifiedBy>
  <dcterms:modified xsi:type="dcterms:W3CDTF">2006-10-10T19:28:24Z</dcterms:modified>
  <cp:revision>7</cp:revision>
  <dc:subject/>
  <dc:title>MPEG7 – MPEG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8881033</vt:lpwstr>
  </property>
</Properties>
</file>